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74ED-BDE3-4DF9-8DDB-1BC7D35BF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3175-D8D2-43E6-9F6E-7BCC15220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3D6B-648E-4676-93C7-C8A665F53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2325-B27A-4F6A-B4DA-BF8ADE012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44518-4D4E-4937-847C-E0E0C7A66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F1A6E-D25D-46E8-AF61-EE75C3C1A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030C0-B918-43D2-82FA-E72E3600B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E7E4D-495F-49C8-99A3-5291976DE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9BED9-FCA4-4FBE-ADEE-9D132D047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B324F-5CEC-4417-BA66-3B8B9C9DE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97C47-8C8E-4452-A46B-5AE7F1D6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63A0-FD12-413D-8F3C-B2A412E5A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8FE99-373E-408E-8D4F-EB383948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7AF01-605C-4ED7-8E71-A24BF34D0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4B550-56DE-48A6-9379-F169A97CC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F23B6-D015-4B29-995E-16CD9246F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BB498-13B6-4E3C-8293-CA8803434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B4FB6-46D0-44C7-9BCB-6157CC93C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850F2-41FB-4718-A898-1304D46B0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4C4C5-8D13-496C-AA69-C9C363627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34365-1F34-4022-8AB7-44F6B1CF5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FC2B1-B024-448F-A43F-F962E6053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7ADF-C616-4C67-B7F0-9997A7EBA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69896-BAAC-4CF4-87EB-54E01091D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3ABD0-A074-45B3-B86A-2A8A9C67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ED79C-2EB3-4527-A199-DA338B5E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BA6C8-9BC2-4CD6-95DC-D68C8FFD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AF4DE-326E-4086-9F40-2AB058F47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E2A11-8D4D-4CF2-BD31-356D917F3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812FC-4772-4E02-8C3B-2C2A302E7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600E-9474-4560-B2C3-7EA7AAB2E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5630-4A4A-4E06-999D-2285D5AEB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2B26-E1B0-47AB-A692-3227C2CAC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2A8C-FC05-4B63-947D-88F2AADA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BB0A-852F-40BF-B2B5-C0E026EE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D169-BD88-4AA4-B3E3-3BB0A815C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F2004-4E87-4CC3-8220-E271AEA0D08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Кольцо 8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44" name="Кольцо 8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Прямоугольник 9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0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Овал 11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49" name="Овал 11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Овал 14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6A62C-9795-46D2-9B17-C4C5577A943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6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7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Овал 8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96" name="Овал 8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Овал 9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10A6A-217D-49B6-A592-197BBAD0C54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02920" y="360000"/>
            <a:ext cx="74358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0" lang="ru-RU" sz="3900" spc="-1" strike="noStrike">
                <a:solidFill>
                  <a:srgbClr val="572314"/>
                </a:solidFill>
                <a:latin typeface="Arial"/>
              </a:rPr>
              <a:t>Консультация для воспитателей. Руководство работой по развитию речи дошкольников на занятиях и в повседневной жизни.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403280" y="4652640"/>
            <a:ext cx="7407360" cy="13683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Arial"/>
              </a:rPr>
              <a:t>Выполнила:  воспитатель Чанина О.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Arial"/>
              </a:rPr>
              <a:t>                              </a:t>
            </a:r>
            <a:r>
              <a:rPr b="0" lang="ru-RU" sz="2600" spc="-1" strike="noStrike">
                <a:solidFill>
                  <a:srgbClr val="320e04"/>
                </a:solidFill>
                <a:latin typeface="Arial"/>
              </a:rPr>
              <a:t>2015 год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55640" y="227160"/>
            <a:ext cx="7920000" cy="19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1" i="1" lang="ru-RU" sz="2500" spc="-1" strike="noStrike">
                <a:solidFill>
                  <a:srgbClr val="ff0000"/>
                </a:solidFill>
                <a:latin typeface="Arial"/>
              </a:rPr>
              <a:t>в)в зависимости от этапа обучения:</a:t>
            </a:r>
            <a:r>
              <a:rPr b="0" lang="ru-RU" sz="2500" spc="-1" strike="noStrike">
                <a:solidFill>
                  <a:srgbClr val="ff0000"/>
                </a:solidFill>
                <a:latin typeface="Arial"/>
              </a:rPr>
              <a:t>  </a:t>
            </a:r>
            <a:br>
              <a:rPr sz="2500"/>
            </a:br>
            <a:r>
              <a:rPr b="1" lang="ru-RU" sz="2500" spc="-1" strike="noStrike">
                <a:solidFill>
                  <a:srgbClr val="572314"/>
                </a:solidFill>
                <a:latin typeface="Arial"/>
              </a:rPr>
              <a:t> -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речевой навык </a:t>
            </a:r>
            <a:r>
              <a:rPr b="0" lang="ru-RU" sz="35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формируется впервые  (совместное рассказывание, образец рассказа) 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 - речевой навык автоматизируется (план рассказа, его обсуждение</a:t>
            </a:r>
            <a:r>
              <a:rPr b="0" lang="ru-RU" sz="2200" spc="-1" strike="noStrike">
                <a:solidFill>
                  <a:srgbClr val="572314"/>
                </a:solidFill>
                <a:latin typeface="Arial"/>
              </a:rPr>
              <a:t>).</a:t>
            </a:r>
            <a:br>
              <a:rPr sz="2200"/>
            </a:br>
            <a:br>
              <a:rPr sz="2200"/>
            </a:br>
            <a:r>
              <a:rPr b="1" i="1" lang="ru-RU" sz="2500" spc="-1" strike="noStrike">
                <a:solidFill>
                  <a:srgbClr val="ff0000"/>
                </a:solidFill>
                <a:latin typeface="Arial"/>
              </a:rPr>
              <a:t>г)в зависимости от количества участников: 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-фронтальные (со всей группой)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-индивидуальные</a:t>
            </a:r>
            <a:r>
              <a:rPr b="0" lang="ru-RU" sz="3500" spc="-1" strike="noStrike">
                <a:solidFill>
                  <a:srgbClr val="572314"/>
                </a:solidFill>
                <a:latin typeface="Arial"/>
              </a:rPr>
              <a:t>.</a:t>
            </a:r>
            <a:endParaRPr b="0" lang="en-US" sz="3500" spc="-1" strike="noStrike">
              <a:solidFill>
                <a:srgbClr val="572314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8107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1" i="1" lang="ru-RU" sz="2500" spc="-1" strike="noStrike">
                <a:solidFill>
                  <a:srgbClr val="ff0000"/>
                </a:solidFill>
                <a:latin typeface="Arial"/>
              </a:rPr>
              <a:t>д)в зависимости от дидактических целей:</a:t>
            </a:r>
            <a:r>
              <a:rPr b="0" lang="ru-RU" sz="3500" spc="-1" strike="noStrike">
                <a:solidFill>
                  <a:srgbClr val="ff0000"/>
                </a:solidFill>
                <a:latin typeface="Corbel"/>
              </a:rPr>
              <a:t> 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-занятия по сообщению нового материала</a:t>
            </a:r>
            <a:br>
              <a:rPr sz="2200"/>
            </a:b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-по закреплению знаний, умений, навыков</a:t>
            </a:r>
            <a:br>
              <a:rPr sz="3900"/>
            </a:b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-по обобщению и систематизации знаний</a:t>
            </a:r>
            <a:br>
              <a:rPr sz="2200"/>
            </a:b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-итоговые или проверочные</a:t>
            </a:r>
            <a:br>
              <a:rPr sz="2200"/>
            </a:b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-комбинированные (смешанные)</a:t>
            </a:r>
            <a:endParaRPr b="0" lang="en-US" sz="2200" spc="-1" strike="noStrike">
              <a:solidFill>
                <a:srgbClr val="572314"/>
              </a:solidFill>
              <a:latin typeface="Arial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Line 9"/>
          <p:cNvSpPr/>
          <p:nvPr/>
        </p:nvSpPr>
        <p:spPr>
          <a:xfrm flipH="1">
            <a:off x="2123640" y="836640"/>
            <a:ext cx="1582920" cy="29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0"/>
          <p:cNvSpPr/>
          <p:nvPr/>
        </p:nvSpPr>
        <p:spPr>
          <a:xfrm flipH="1">
            <a:off x="3995640" y="1268280"/>
            <a:ext cx="14472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1"/>
          <p:cNvSpPr/>
          <p:nvPr/>
        </p:nvSpPr>
        <p:spPr>
          <a:xfrm>
            <a:off x="5435640" y="836640"/>
            <a:ext cx="129708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2"/>
          <p:cNvSpPr/>
          <p:nvPr/>
        </p:nvSpPr>
        <p:spPr>
          <a:xfrm flipH="1">
            <a:off x="1116000" y="836640"/>
            <a:ext cx="93672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3"/>
          <p:cNvSpPr/>
          <p:nvPr/>
        </p:nvSpPr>
        <p:spPr>
          <a:xfrm>
            <a:off x="5003640" y="1268280"/>
            <a:ext cx="36036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4"/>
          <p:cNvSpPr/>
          <p:nvPr/>
        </p:nvSpPr>
        <p:spPr>
          <a:xfrm flipH="1">
            <a:off x="4642920" y="1341360"/>
            <a:ext cx="73080" cy="230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539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ТРЕБОВАНИЯ К ЗАНЯТИЯМ ПО РАЗВИТИЮ РЕЧИ</a:t>
            </a:r>
            <a:endParaRPr b="0" lang="en-US" sz="28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47480" y="1255320"/>
            <a:ext cx="8538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Rectangle 19" descr=""/>
          <p:cNvPicPr/>
          <p:nvPr/>
        </p:nvPicPr>
        <p:blipFill>
          <a:blip r:embed="rId1"/>
          <a:stretch/>
        </p:blipFill>
        <p:spPr>
          <a:xfrm>
            <a:off x="285840" y="1901880"/>
            <a:ext cx="1896840" cy="1663560"/>
          </a:xfrm>
          <a:prstGeom prst="rect">
            <a:avLst/>
          </a:prstGeom>
          <a:ln w="0">
            <a:noFill/>
          </a:ln>
        </p:spPr>
      </p:pic>
      <p:pic>
        <p:nvPicPr>
          <p:cNvPr id="171" name="Rectangle 20" descr=""/>
          <p:cNvPicPr/>
          <p:nvPr/>
        </p:nvPicPr>
        <p:blipFill>
          <a:blip r:embed="rId2"/>
          <a:stretch/>
        </p:blipFill>
        <p:spPr>
          <a:xfrm>
            <a:off x="328680" y="3664080"/>
            <a:ext cx="1744560" cy="3022560"/>
          </a:xfrm>
          <a:prstGeom prst="rect">
            <a:avLst/>
          </a:prstGeom>
          <a:ln w="0">
            <a:noFill/>
          </a:ln>
        </p:spPr>
      </p:pic>
      <p:pic>
        <p:nvPicPr>
          <p:cNvPr id="172" name="Rectangle 21" descr=""/>
          <p:cNvPicPr/>
          <p:nvPr/>
        </p:nvPicPr>
        <p:blipFill>
          <a:blip r:embed="rId3"/>
          <a:stretch/>
        </p:blipFill>
        <p:spPr>
          <a:xfrm>
            <a:off x="2577960" y="1841400"/>
            <a:ext cx="1792440" cy="1932120"/>
          </a:xfrm>
          <a:prstGeom prst="rect">
            <a:avLst/>
          </a:prstGeom>
          <a:ln w="0">
            <a:noFill/>
          </a:ln>
        </p:spPr>
      </p:pic>
      <p:pic>
        <p:nvPicPr>
          <p:cNvPr id="173" name="Rectangle 22" descr=""/>
          <p:cNvPicPr/>
          <p:nvPr/>
        </p:nvPicPr>
        <p:blipFill>
          <a:blip r:embed="rId4"/>
          <a:stretch/>
        </p:blipFill>
        <p:spPr>
          <a:xfrm>
            <a:off x="2687760" y="3560760"/>
            <a:ext cx="1780920" cy="1986120"/>
          </a:xfrm>
          <a:prstGeom prst="rect">
            <a:avLst/>
          </a:prstGeom>
          <a:ln w="0">
            <a:noFill/>
          </a:ln>
        </p:spPr>
      </p:pic>
      <p:pic>
        <p:nvPicPr>
          <p:cNvPr id="174" name="Rectangle 23" descr=""/>
          <p:cNvPicPr/>
          <p:nvPr/>
        </p:nvPicPr>
        <p:blipFill>
          <a:blip r:embed="rId5"/>
          <a:stretch/>
        </p:blipFill>
        <p:spPr>
          <a:xfrm>
            <a:off x="5005440" y="2243160"/>
            <a:ext cx="1487520" cy="1779480"/>
          </a:xfrm>
          <a:prstGeom prst="rect">
            <a:avLst/>
          </a:prstGeom>
          <a:ln w="0">
            <a:noFill/>
          </a:ln>
        </p:spPr>
      </p:pic>
      <p:pic>
        <p:nvPicPr>
          <p:cNvPr id="175" name="Rectangle 24" descr=""/>
          <p:cNvPicPr/>
          <p:nvPr/>
        </p:nvPicPr>
        <p:blipFill>
          <a:blip r:embed="rId6"/>
          <a:stretch/>
        </p:blipFill>
        <p:spPr>
          <a:xfrm>
            <a:off x="6943680" y="1560600"/>
            <a:ext cx="1865520" cy="2298600"/>
          </a:xfrm>
          <a:prstGeom prst="rect">
            <a:avLst/>
          </a:prstGeom>
          <a:ln w="0">
            <a:noFill/>
          </a:ln>
        </p:spPr>
      </p:pic>
      <p:pic>
        <p:nvPicPr>
          <p:cNvPr id="176" name="Rectangle 25" descr=""/>
          <p:cNvPicPr/>
          <p:nvPr/>
        </p:nvPicPr>
        <p:blipFill>
          <a:blip r:embed="rId7"/>
          <a:stretch/>
        </p:blipFill>
        <p:spPr>
          <a:xfrm>
            <a:off x="5048280" y="3992400"/>
            <a:ext cx="1644480" cy="1487520"/>
          </a:xfrm>
          <a:prstGeom prst="rect">
            <a:avLst/>
          </a:prstGeom>
          <a:ln w="0">
            <a:noFill/>
          </a:ln>
        </p:spPr>
      </p:pic>
      <p:pic>
        <p:nvPicPr>
          <p:cNvPr id="177" name="Rectangle 26" descr=""/>
          <p:cNvPicPr/>
          <p:nvPr/>
        </p:nvPicPr>
        <p:blipFill>
          <a:blip r:embed="rId8"/>
          <a:stretch/>
        </p:blipFill>
        <p:spPr>
          <a:xfrm>
            <a:off x="7059600" y="3713040"/>
            <a:ext cx="1657440" cy="176688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27"/>
          <p:cNvSpPr/>
          <p:nvPr/>
        </p:nvSpPr>
        <p:spPr>
          <a:xfrm>
            <a:off x="2771640" y="5589720"/>
            <a:ext cx="5761080" cy="718920"/>
          </a:xfrm>
          <a:prstGeom prst="rect">
            <a:avLst/>
          </a:prstGeom>
          <a:solidFill>
            <a:srgbClr val="feb8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ЯЗЬ ЗАНЯТИЯ С ПОСЛЕДУЮЩ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БОТОЙ ПО РАЗВИТИЮ РЕ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82501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2a6d7d"/>
                </a:solidFill>
                <a:latin typeface="Arial"/>
              </a:rPr>
              <a:t>МЕТОДЫ РАЗВИТИЯ РЕЧИ</a:t>
            </a:r>
            <a:endParaRPr b="0" lang="en-US" sz="39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250920" y="1052640"/>
            <a:ext cx="2952720" cy="5256000"/>
          </a:xfrm>
          <a:prstGeom prst="rect">
            <a:avLst/>
          </a:prstGeom>
          <a:solidFill>
            <a:srgbClr val="e7de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АГЛЯДНЫ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НЕПОСРЕДСТВЕН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(метод наблюд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и е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разновидности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экскурсии, осмотр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омещения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рассматрива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натураль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редмето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 ОПОСРЕДОВАННЫЕ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(с использовани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изобразительн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наглядности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рассматри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игрушек, картин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фотографий, описа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артин и игрушек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рассказыва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о игрушкам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артинам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6372360" y="1125360"/>
            <a:ext cx="2449440" cy="4537080"/>
          </a:xfrm>
          <a:prstGeom prst="rect">
            <a:avLst/>
          </a:prstGeom>
          <a:solidFill>
            <a:srgbClr val="e7de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АКТИЧЕСК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идактическ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гр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гры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раматизаци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нсцениров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ластическ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этюд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идактическ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пражнен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хоровод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г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3492360" y="1125360"/>
            <a:ext cx="2449800" cy="4608720"/>
          </a:xfrm>
          <a:prstGeom prst="rect">
            <a:avLst/>
          </a:prstGeom>
          <a:solidFill>
            <a:srgbClr val="e7de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ЛОВЕСНЫ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чтение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ассказы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художестве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оизведен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ауч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изуст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ересказ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бобщающ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бесед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ассказы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без оп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 нагляд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атери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Облако 4"/>
          <p:cNvSpPr/>
          <p:nvPr/>
        </p:nvSpPr>
        <p:spPr>
          <a:xfrm>
            <a:off x="4859280" y="692280"/>
            <a:ext cx="4176720" cy="604980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a9d7e2"/>
          </a:solidFill>
          <a:ln w="25560">
            <a:solidFill>
              <a:srgbClr val="3891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Облако 3"/>
          <p:cNvSpPr/>
          <p:nvPr/>
        </p:nvSpPr>
        <p:spPr>
          <a:xfrm>
            <a:off x="103320" y="1052640"/>
            <a:ext cx="4427280" cy="568944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a9d7e2"/>
          </a:solidFill>
          <a:ln w="25560">
            <a:solidFill>
              <a:srgbClr val="2669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188640"/>
            <a:ext cx="747684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МЕТОДЫ РАЗВИТИЯ РЕЧИ</a:t>
            </a:r>
            <a:endParaRPr b="0" lang="en-US" sz="26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228600" y="1484280"/>
            <a:ext cx="3983040" cy="48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РЕПРОДУКТИВНЫЕ: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оспроизве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отов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ечевого  матери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метод наблюд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его разновидност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сматривание картин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ение художествен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тературы, пересказ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учивание наизус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гры-драмат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содержанию литератур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изведений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идактические игр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4716360" y="333360"/>
            <a:ext cx="381636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ОДУКТИВ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оздание собстве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вязных высказыв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обобщающая бесед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сказывание, переска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перестройкой текста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идактические иг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развитие связной реч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од моделирован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ворческие задания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81788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3399"/>
                </a:solidFill>
                <a:latin typeface="Arial"/>
              </a:rPr>
              <a:t>ПРИЁМЫ РАЗВИТИЯ РЕЧИ</a:t>
            </a:r>
            <a:endParaRPr b="0" lang="en-US" sz="35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250920" y="1052640"/>
            <a:ext cx="2808360" cy="2881080"/>
          </a:xfrm>
          <a:prstGeom prst="rect">
            <a:avLst/>
          </a:prstGeom>
          <a:solidFill>
            <a:srgbClr val="ffe39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АГЛЯДНЫ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ка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ллюстраци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каз по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рган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ртикуля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 обуч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авильном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изноше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1"/>
          <p:cNvSpPr/>
          <p:nvPr/>
        </p:nvSpPr>
        <p:spPr>
          <a:xfrm>
            <a:off x="3419640" y="1052640"/>
            <a:ext cx="2592360" cy="2952720"/>
          </a:xfrm>
          <a:prstGeom prst="rect">
            <a:avLst/>
          </a:prstGeom>
          <a:solidFill>
            <a:srgbClr val="ffe39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ЛОВЕСНЫ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чевой образец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втор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говаривани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ъяснени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казани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ценка детс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чи, вопр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2"/>
          <p:cNvSpPr/>
          <p:nvPr/>
        </p:nvSpPr>
        <p:spPr>
          <a:xfrm>
            <a:off x="6372360" y="1052640"/>
            <a:ext cx="2520720" cy="2881080"/>
          </a:xfrm>
          <a:prstGeom prst="rect">
            <a:avLst/>
          </a:prstGeom>
          <a:solidFill>
            <a:srgbClr val="ffe39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ГРОВЫ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гров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сонаж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юрприз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мент, раз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иды иг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3"/>
          <p:cNvSpPr/>
          <p:nvPr/>
        </p:nvSpPr>
        <p:spPr>
          <a:xfrm>
            <a:off x="468360" y="4221000"/>
            <a:ext cx="7920000" cy="1079640"/>
          </a:xfrm>
          <a:prstGeom prst="rect">
            <a:avLst/>
          </a:prstGeom>
          <a:solidFill>
            <a:srgbClr val="8dc7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ЯМЫЕ (объяснение, речевой образец, указа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СВЕННЫЕ (напоминание, реплика, подсказ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4"/>
          <p:cNvSpPr/>
          <p:nvPr/>
        </p:nvSpPr>
        <p:spPr>
          <a:xfrm>
            <a:off x="395280" y="5445000"/>
            <a:ext cx="8064360" cy="1224000"/>
          </a:xfrm>
          <a:prstGeom prst="rect">
            <a:avLst/>
          </a:prstGeom>
          <a:solidFill>
            <a:srgbClr val="a9d7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едагогической практике все приемы используются комплекс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зависимости от задач, содержания занятия, уровня подготовл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ей, их возрастных и индивидуальных особен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81075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ЛОВЕСНЫЕ ПРИЕМЫ РАЗВИТИЯ РЕЧИ</a:t>
            </a:r>
            <a:endParaRPr b="0" lang="en-US" sz="24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468360" y="668520"/>
            <a:ext cx="8351640" cy="50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Речевой образец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иль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варительно продуманная речевая деятельность педагога, предназначенная для подражания детьми (должен быть доступным, четким, громким, произноситься неторопливо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Повторное проговаривани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преднамеренное, многократное повторение одного и того же речевого элемента (звука, слова, фразы) с целью его запомин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Объяснени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раскрытие сущности некоторых явлений или способов действия ( н-р, для объяснения правил и действий в дидактических играх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Указания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ъяснение детям способа действия для достижения определенного результата (обучающие, организационные и дисциплинирующие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Оценка детской реч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тивированное суждение о речевом высказывании ребенка, характеризующее качество выполнения речевой деятель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3232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ЛОВЕСНЫЕ ПРИЕМЫ РАЗВИТИЯ РЕЧИ </a:t>
            </a:r>
            <a:br>
              <a:rPr sz="2400"/>
            </a:br>
            <a:br>
              <a:rPr sz="2400"/>
            </a:b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Вопрос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ловесное обращение, требующее ответа</a:t>
            </a:r>
            <a:endParaRPr b="0" lang="en-US" sz="18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468360" y="2880"/>
            <a:ext cx="8351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900000" y="1989000"/>
            <a:ext cx="2880000" cy="3335400"/>
          </a:xfrm>
          <a:prstGeom prst="rect">
            <a:avLst/>
          </a:prstGeom>
          <a:solidFill>
            <a:srgbClr val="b9d77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РЕПРОДУКТИВ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ОНСТАТИРУЮЩИ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ТО? ЧТО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АКОЙ? ГДЕ? КАК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ОИСКОВ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ОЧЕМУ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ЗАЧЕМ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ЧЕМ ПОХОЖИ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5076720" y="1868400"/>
            <a:ext cx="2590920" cy="2208240"/>
          </a:xfrm>
          <a:prstGeom prst="rect">
            <a:avLst/>
          </a:prstGeom>
          <a:solidFill>
            <a:srgbClr val="b9d77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ПОМОГАТЕЛЬ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НАВОДЯЩ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ОДСКАЗЫВАЮЩ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44798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8"/>
          <p:cNvSpPr/>
          <p:nvPr/>
        </p:nvSpPr>
        <p:spPr>
          <a:xfrm>
            <a:off x="44798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0"/>
          <p:cNvSpPr/>
          <p:nvPr/>
        </p:nvSpPr>
        <p:spPr>
          <a:xfrm>
            <a:off x="44798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3"/>
          <p:cNvSpPr/>
          <p:nvPr/>
        </p:nvSpPr>
        <p:spPr>
          <a:xfrm>
            <a:off x="563400" y="5516640"/>
            <a:ext cx="7920360" cy="1079280"/>
          </a:xfrm>
          <a:prstGeom prst="rect">
            <a:avLst/>
          </a:prstGeom>
          <a:solidFill>
            <a:srgbClr val="b9d77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просы должны быть четкими, целенаправленным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ответствовать  возрасту детей, выражать основную мыс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217440"/>
            <a:ext cx="821844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99"/>
                </a:solidFill>
                <a:latin typeface="Arial"/>
              </a:rPr>
              <a:t>РУКОВОДСТВО РАЗВИТИЕМ РЕЧИ ДЕТЕЙ В ПОВСЕДНЕВНОЙ ЖИЗНИ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406520"/>
            <a:ext cx="3809880" cy="69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ЕДАГОГ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2133720"/>
            <a:ext cx="82915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ироко используя детскую инициатив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ует игры и беседы на интересные детям тем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еред ним стоят 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равлять ошибки в речи детей (неправильное ударение в слове или грамматическую ошибку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сказывать слово в тех случаях, когда ребенок не знает, как выразить свою мысл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правлять ребенка, если у него неправильный тон, если он разговаривает слишком громк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4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4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4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5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4" dur="500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68000" y="476280"/>
            <a:ext cx="814212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ff00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говорная речь детей формируется во время разговора взрослого с ними в повседневной жизни. Чрезвычайно важно в течение дня найти время и место для разговора с каждым ребёнком отдельно или в маленькой группе. Надо поговорить с ребёнком так, чтобы у него осталось удовлетворение, даже радость от того, что его выслушали. Если в разговоре педагог проявляет живой искренний интерес к ребёнку, к содержанию его речи, то он чувствует себя смелее, увереннее и доверчиво рассказывает обо всём, что его интересует. Разговор с ребёнком даёт возможность ближе узнать его внутренний мир, интересы, уровень развития речи. В дошкольном учреждении в течение дня есть такие периоды, когда индивидуальный разговор наиболее уместен. Это утренние часы сбора детей, вечернее время, когда дети постепенно начинают расходиться по домам, самостоятельные игры и занятия детей на прогулке. Иногда разговоры возникают по инициативе ребёнка, который подходит с каким-нибудь вопросом или сообщением. Но нельзя ожидать таких случаев. Педагог должен быть сам инициатором интересных разговоро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70c0"/>
                </a:solidFill>
                <a:latin typeface="Arial"/>
              </a:rPr>
              <a:t>СРЕДСТВА РАЗВИТИЯ РЕЧИ</a:t>
            </a:r>
            <a:endParaRPr b="0" lang="en-US" sz="39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02920" y="1412640"/>
            <a:ext cx="7458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бщение взрослых и де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ультурная языковая сре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бучение родной речи на занят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Художественная литера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азличные виды искус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555640" y="404280"/>
            <a:ext cx="64227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Arial"/>
              </a:rPr>
              <a:t>ИСПОЛЬЗУЕМАЯ ЛИТЕРАТУРА</a:t>
            </a:r>
            <a:endParaRPr b="0" lang="en-US" sz="40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27280" y="1989000"/>
            <a:ext cx="6400800" cy="316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474840" indent="-457200">
              <a:lnSpc>
                <a:spcPts val="2299"/>
              </a:lnSpc>
              <a:buClr>
                <a:srgbClr val="4f271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0e04"/>
                </a:solidFill>
                <a:latin typeface="Arial"/>
              </a:rPr>
              <a:t>Усова А. П. “Обучение в детском саду”, М., 19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4840" indent="0">
              <a:lnSpc>
                <a:spcPts val="22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4840" indent="0">
              <a:lnSpc>
                <a:spcPts val="22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4840" indent="-457200">
              <a:lnSpc>
                <a:spcPts val="2299"/>
              </a:lnSpc>
              <a:buClr>
                <a:srgbClr val="4f271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0e04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20e04"/>
                </a:solidFill>
                <a:latin typeface="Arial"/>
              </a:rPr>
              <a:t>Бородич А.М. «Методика развития речи детей». – М.: Просвещение, 1981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4840" indent="0">
              <a:lnSpc>
                <a:spcPts val="22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4840" indent="0">
              <a:lnSpc>
                <a:spcPts val="22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4840" indent="-457200">
              <a:lnSpc>
                <a:spcPts val="2299"/>
              </a:lnSpc>
              <a:buClr>
                <a:srgbClr val="4f271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0e04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20e04"/>
                </a:solidFill>
                <a:latin typeface="Arial"/>
              </a:rPr>
              <a:t>А. М. Бородич, Методика развития речи детей. - М. - 19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4840"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" dur="5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6" dur="500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3232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ПАСИБО ЗА ВНИМАНИЕ!</a:t>
            </a:r>
            <a:endParaRPr b="0" lang="en-US" sz="32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468360" y="2880"/>
            <a:ext cx="8351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44798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44798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8"/>
          <p:cNvSpPr/>
          <p:nvPr/>
        </p:nvSpPr>
        <p:spPr>
          <a:xfrm>
            <a:off x="44798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2" descr=""/>
          <p:cNvPicPr/>
          <p:nvPr/>
        </p:nvPicPr>
        <p:blipFill>
          <a:blip r:embed="rId1"/>
          <a:stretch/>
        </p:blipFill>
        <p:spPr>
          <a:xfrm>
            <a:off x="1511280" y="1413000"/>
            <a:ext cx="6097680" cy="489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6"/>
          <p:cNvSpPr/>
          <p:nvPr/>
        </p:nvSpPr>
        <p:spPr>
          <a:xfrm>
            <a:off x="539640" y="26028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ОБЩЕНИЕ ВЗРОСЛЫХ И ДЕТЕЙ</a:t>
            </a:r>
            <a:endParaRPr b="0" lang="en-US" sz="28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11280" y="1197000"/>
            <a:ext cx="832320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Общение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– это взаимодействие двух и более людей, направленное на согласование и объединение их усилий с целью налаживания отношений и достижения общего результата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(М.И.Лисин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3"/>
          <p:cNvSpPr/>
          <p:nvPr/>
        </p:nvSpPr>
        <p:spPr>
          <a:xfrm>
            <a:off x="1116000" y="18900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72314"/>
                </a:solidFill>
                <a:latin typeface="Arial"/>
              </a:rPr>
              <a:t>ФОРМЫ ОБЩЕНИЯ ДЕТЕЙ СО ВЗРОСЛЫМИ В ДОШКОЛЬНОМ ДЕТСТВЕ</a:t>
            </a:r>
            <a:endParaRPr b="0" lang="en-US" sz="2400" spc="-1" strike="noStrike">
              <a:solidFill>
                <a:srgbClr val="572314"/>
              </a:solidFill>
              <a:latin typeface="Arial"/>
            </a:endParaRPr>
          </a:p>
        </p:txBody>
      </p:sp>
      <p:pic>
        <p:nvPicPr>
          <p:cNvPr id="149" name="Объект 2" descr=""/>
          <p:cNvPicPr/>
          <p:nvPr/>
        </p:nvPicPr>
        <p:blipFill>
          <a:blip r:embed="rId1"/>
          <a:stretch/>
        </p:blipFill>
        <p:spPr>
          <a:xfrm>
            <a:off x="938160" y="1450800"/>
            <a:ext cx="4187880" cy="2322720"/>
          </a:xfrm>
          <a:prstGeom prst="rect">
            <a:avLst/>
          </a:prstGeom>
          <a:ln w="0">
            <a:noFill/>
          </a:ln>
        </p:spPr>
      </p:pic>
      <p:pic>
        <p:nvPicPr>
          <p:cNvPr id="150" name="Объект 3" descr=""/>
          <p:cNvPicPr/>
          <p:nvPr/>
        </p:nvPicPr>
        <p:blipFill>
          <a:blip r:embed="rId2"/>
          <a:stretch/>
        </p:blipFill>
        <p:spPr>
          <a:xfrm>
            <a:off x="5230800" y="1450800"/>
            <a:ext cx="3724200" cy="2322720"/>
          </a:xfrm>
          <a:prstGeom prst="rect">
            <a:avLst/>
          </a:prstGeom>
          <a:ln w="0">
            <a:noFill/>
          </a:ln>
        </p:spPr>
      </p:pic>
      <p:pic>
        <p:nvPicPr>
          <p:cNvPr id="151" name="Объект 4" descr=""/>
          <p:cNvPicPr/>
          <p:nvPr/>
        </p:nvPicPr>
        <p:blipFill>
          <a:blip r:embed="rId3"/>
          <a:stretch/>
        </p:blipFill>
        <p:spPr>
          <a:xfrm>
            <a:off x="365040" y="3925800"/>
            <a:ext cx="4438800" cy="2322720"/>
          </a:xfrm>
          <a:prstGeom prst="rect">
            <a:avLst/>
          </a:prstGeom>
          <a:ln w="0">
            <a:noFill/>
          </a:ln>
        </p:spPr>
      </p:pic>
      <p:pic>
        <p:nvPicPr>
          <p:cNvPr id="152" name="Объект 5" descr=""/>
          <p:cNvPicPr/>
          <p:nvPr/>
        </p:nvPicPr>
        <p:blipFill>
          <a:blip r:embed="rId4"/>
          <a:stretch/>
        </p:blipFill>
        <p:spPr>
          <a:xfrm>
            <a:off x="4614840" y="3925800"/>
            <a:ext cx="4548240" cy="232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КУЛЬТУРНАЯ ЯЗЫКОВАЯ СРЕДА</a:t>
            </a:r>
            <a:endParaRPr b="0" lang="en-US" sz="28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5392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ражая речи окружающих, дети перенимают не только все тонкости произношения, словоупотребления, построения фраз, но и ошибки, которые встречаются в их речи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Требования к речи педагога: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ржательнос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чнос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гичнос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ос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разительнос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моциональная насыщеннос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ние и соблюдение правил речевого этикет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стное использование невербальных средств общения (мимики, жестов, пантомимики).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3"/>
          <p:cNvSpPr/>
          <p:nvPr/>
        </p:nvSpPr>
        <p:spPr>
          <a:xfrm>
            <a:off x="1214280" y="714240"/>
            <a:ext cx="721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1" lang="ru-RU" sz="2500" spc="-1" strike="noStrike">
                <a:solidFill>
                  <a:srgbClr val="333399"/>
                </a:solidFill>
                <a:latin typeface="Arial"/>
              </a:rPr>
              <a:t>ОБУЧЕНИЕ</a:t>
            </a:r>
            <a:r>
              <a:rPr b="1" i="1" lang="ru-RU" sz="2500" spc="-1" strike="noStrike" u="sng">
                <a:solidFill>
                  <a:srgbClr val="333399"/>
                </a:solidFill>
                <a:uFillTx/>
                <a:latin typeface="Arial"/>
              </a:rPr>
              <a:t> </a:t>
            </a:r>
            <a:br>
              <a:rPr sz="2500"/>
            </a:br>
            <a:br>
              <a:rPr sz="2500"/>
            </a:br>
            <a:r>
              <a:rPr b="1" i="1" lang="ru-RU" sz="2500" spc="-1" strike="noStrike">
                <a:solidFill>
                  <a:srgbClr val="ff0000"/>
                </a:solidFill>
                <a:latin typeface="Arial"/>
              </a:rPr>
              <a:t>Обучение </a:t>
            </a:r>
            <a:r>
              <a:rPr b="1" i="1" lang="ru-RU" sz="25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1" lang="ru-RU" sz="2500" spc="-1" strike="noStrike">
                <a:solidFill>
                  <a:srgbClr val="572314"/>
                </a:solidFill>
                <a:latin typeface="Arial"/>
              </a:rPr>
              <a:t>это целенаправленный,  систематический и планомерный процесс, при котором под руководством воспитателя дети овладевают определенным кругом речевых  навыков и умений. </a:t>
            </a:r>
            <a:br>
              <a:rPr sz="2500"/>
            </a:br>
            <a:br>
              <a:rPr sz="2200"/>
            </a:br>
            <a:r>
              <a:rPr b="0" lang="ru-RU" sz="2200" spc="-1" strike="noStrike">
                <a:solidFill>
                  <a:srgbClr val="572314"/>
                </a:solidFill>
                <a:latin typeface="Arial"/>
              </a:rPr>
              <a:t>Важнейшей формой организации обучения речи и языку являются специальные </a:t>
            </a:r>
            <a:r>
              <a:rPr b="1" i="1" lang="ru-RU" sz="2200" spc="-1" strike="noStrike" u="sng">
                <a:solidFill>
                  <a:srgbClr val="572314"/>
                </a:solidFill>
                <a:uFillTx/>
                <a:latin typeface="Arial"/>
              </a:rPr>
              <a:t>занятия</a:t>
            </a:r>
            <a:r>
              <a:rPr b="0" lang="ru-RU" sz="2200" spc="-1" strike="noStrike">
                <a:solidFill>
                  <a:srgbClr val="572314"/>
                </a:solidFill>
                <a:latin typeface="Arial"/>
              </a:rPr>
              <a:t>, на которых целенаправленно решаются задачи речевого развития детей.</a:t>
            </a:r>
            <a:endParaRPr b="0" lang="en-US" sz="2200" spc="-1" strike="noStrike">
              <a:solidFill>
                <a:srgbClr val="572314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6"/>
          <p:cNvSpPr/>
          <p:nvPr/>
        </p:nvSpPr>
        <p:spPr>
          <a:xfrm>
            <a:off x="611280" y="333360"/>
            <a:ext cx="8137440" cy="9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Значение занятий по развитию ре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занятиях решаются задачи из всех разделов про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виваются те навыки и умения, которые трудно сформировать в других видах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занятия помогают реализовать возможности речевого развития в дошкольном детстве -  самом благоприятном периоде для овладения язык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 на занятиях внимание ребенка фиксируется на определенных языковых явлениях, в то время как в повседневной жизни работа над каким-либо речевым дефектом не может дать желаемого результ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. в детском саду, по сравнению с семьей, наблюдается дефицит речевого общения с ребенком. Методически правильно организованные занятия помогают компенсировать этот дефиц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5"/>
          <p:cNvSpPr/>
          <p:nvPr/>
        </p:nvSpPr>
        <p:spPr>
          <a:xfrm>
            <a:off x="539640" y="189000"/>
            <a:ext cx="8247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000"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ВИДЫ ЗАНЯТИЙ ПО РАЗВИТИЮ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а) в зависимости от ведущей 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 занятия по формированию словаря (осмотр помещения, ознакомление со свойствами и качествами предмет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 по формированию грамматического строя речи (образование сущ. мн. числа род. падеж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 занятия по воспитанию звуковой культуры речи (обучение правильному звукопроизношению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 занятия по обучению связной речи (беседы, рассказыва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 занятия по ознакомлению с художественной литератур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orbe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Box 3"/>
          <p:cNvSpPr/>
          <p:nvPr/>
        </p:nvSpPr>
        <p:spPr>
          <a:xfrm>
            <a:off x="611280" y="404640"/>
            <a:ext cx="8137440" cy="105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б) в зависимости от применения нагляд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нятия с применением предметов реальной жизни, наблюдения явлений действительности (рассматривание предметов, экскурсии  и т.д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занятия с применением изобразительной наглядности: с игрушками (рассматривание, рассказывание по игрушкам), картинами (беседы, рассказывание, дидактические игр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занятия словесного характера, без опоры на наглядность (обобщающие беседы, художественное чтение и рассказывание, пересказ, словесные игры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16-02-08T18:53:04Z</dcterms:modified>
  <cp:revision>39</cp:revision>
  <dc:subject/>
  <dc:title>Слайд 1</dc:title>
</cp:coreProperties>
</file>