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292-0C51-4434-B5D7-691599D6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72D-F8CC-4136-8593-56B01346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5F7-2DE7-41A4-88A8-F27C9ADD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B61-F678-48F4-B234-15B889BA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430A-A495-4744-B60F-4F5D2BA6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7762-84CC-4F81-ABC2-A02DAD26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BD80-3354-4514-A1BE-E7EEC4FE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BF87-2923-4BB5-A60A-C58035F5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1CEA-E66A-4D3D-8315-FD1FC190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1894-1133-4265-B4CE-791BF1CB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B6F8-8289-4252-9A72-FE4F23B0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844-82B7-4457-8BE9-DABC2B6C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873E-F55E-4767-ACED-8524547F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8F4B-9ED0-4C65-9373-77C3ADFE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DDF3-9B21-4309-9B20-21504E95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7B96-B13D-4E07-A42C-8E22765B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7339-FA86-41FD-A89A-AD99C6E2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9F13-CB8F-46E2-ABE7-7FB3A698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F601-B73C-467B-8ED7-C6EDA062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A71A8-3AA2-4762-A701-0C0407F7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26990-1FCA-4193-8658-0CDEE17B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0EE32-51B2-45E9-A673-CBF01A43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F2C-DB6A-4E64-81F4-40E8C937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FD74A-195E-491D-AD8F-5449F051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8C345-BD94-4F5A-843A-F0DE3A0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60F9A-E0ED-43E7-8628-499CB91C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9B182-D77E-4594-84BA-72A83336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C6440-12B7-44F6-B160-FB565907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00DE5-C552-45FB-B9C7-069962BB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43FF-3AA8-46B3-B951-0F6EC7D3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EA8-8981-497A-802C-AC036379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1BC-23A6-4892-A88A-2A54F457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F23-BF50-4E0E-B432-92737575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EDD-46D2-457C-8F1D-3B124144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503-26D0-4DF3-B707-57B2A763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DDA-4D2E-4E3A-AF5C-94A795D9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175B-EDBE-4F66-A058-CD37D352208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Кольцо 8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" name="Кольцо 8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Прямоугольник 9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Овал 11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49" name="Овал 11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14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3D68-BE98-4693-B25C-844C5CABAA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Овал 8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96" name="Овал 8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Овал 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ACBC-DA9A-4941-A694-7235BBBB580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2920" y="360000"/>
            <a:ext cx="74358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Arial"/>
              </a:rPr>
              <a:t>Консультация для воспитателей. Руководство работой по развитию речи дошкольников на занятиях и в повседневной жизн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403280" y="4652640"/>
            <a:ext cx="7407360" cy="1368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Arial"/>
              </a:rPr>
              <a:t>Выполнила:  воспитатель Чанина О.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Arial"/>
              </a:rPr>
              <a:t>                              </a:t>
            </a:r>
            <a:r>
              <a:rPr b="0" lang="ru-RU" sz="2600" spc="-1" strike="noStrike">
                <a:solidFill>
                  <a:srgbClr val="320e04"/>
                </a:solidFill>
                <a:latin typeface="Arial"/>
              </a:rPr>
              <a:t>2015 г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227160"/>
            <a:ext cx="7920000" cy="19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в)в зависимости от этапа обучения: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  </a:t>
            </a: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Arial"/>
              </a:rPr>
              <a:t> -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чевой навык </a:t>
            </a:r>
            <a:r>
              <a:rPr b="0" lang="ru-RU" sz="3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формируется впервые  (совместное рассказывание, образец рассказа)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- речевой навык автоматизируется (план рассказа, его обсуждение</a:t>
            </a:r>
            <a:r>
              <a:rPr b="0" lang="ru-RU" sz="2200" spc="-1" strike="noStrike">
                <a:solidFill>
                  <a:srgbClr val="572314"/>
                </a:solidFill>
                <a:latin typeface="Arial"/>
              </a:rPr>
              <a:t>).</a:t>
            </a:r>
            <a:br>
              <a:rPr sz="2200"/>
            </a:br>
            <a:br>
              <a:rPr sz="2200"/>
            </a:b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г)в зависимости от количества участников: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фронтальные (со всей группой)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индивидуальные</a:t>
            </a: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572314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д)в зависимости от дидактических целей:</a:t>
            </a:r>
            <a:r>
              <a:rPr b="0" lang="ru-RU" sz="3500" spc="-1" strike="noStrike">
                <a:solidFill>
                  <a:srgbClr val="ff0000"/>
                </a:solidFill>
                <a:latin typeface="Corbel"/>
              </a:rPr>
              <a:t>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занятия по сообщению нового материала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по закреплению знаний, умений, навыков</a:t>
            </a:r>
            <a:br>
              <a:rPr sz="39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по обобщению и систематизации знаний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итоговые или проверочные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комбинированные (смешанные)</a:t>
            </a:r>
            <a:endParaRPr b="0" lang="en-US" sz="2200" spc="-1" strike="noStrike">
              <a:solidFill>
                <a:srgbClr val="572314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9"/>
          <p:cNvSpPr/>
          <p:nvPr/>
        </p:nvSpPr>
        <p:spPr>
          <a:xfrm flipH="1">
            <a:off x="2123640" y="836640"/>
            <a:ext cx="158292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 flipH="1">
            <a:off x="3995640" y="1268280"/>
            <a:ext cx="144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435640" y="836640"/>
            <a:ext cx="1297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 flipH="1">
            <a:off x="1116000" y="836640"/>
            <a:ext cx="93672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5003640" y="1268280"/>
            <a:ext cx="360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 flipH="1">
            <a:off x="4642920" y="1341360"/>
            <a:ext cx="7308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РЕБОВАНИЯ К ЗАНЯТИЯМ ПО РАЗВИТИЮ РЕЧИ</a:t>
            </a:r>
            <a:endParaRPr b="0" lang="en-US" sz="28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7480" y="1255320"/>
            <a:ext cx="853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tangle 19" descr=""/>
          <p:cNvPicPr/>
          <p:nvPr/>
        </p:nvPicPr>
        <p:blipFill>
          <a:blip r:embed="rId1"/>
          <a:stretch/>
        </p:blipFill>
        <p:spPr>
          <a:xfrm>
            <a:off x="285840" y="1901880"/>
            <a:ext cx="1896840" cy="166356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20" descr=""/>
          <p:cNvPicPr/>
          <p:nvPr/>
        </p:nvPicPr>
        <p:blipFill>
          <a:blip r:embed="rId2"/>
          <a:stretch/>
        </p:blipFill>
        <p:spPr>
          <a:xfrm>
            <a:off x="328680" y="3664080"/>
            <a:ext cx="1744560" cy="302256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21" descr=""/>
          <p:cNvPicPr/>
          <p:nvPr/>
        </p:nvPicPr>
        <p:blipFill>
          <a:blip r:embed="rId3"/>
          <a:stretch/>
        </p:blipFill>
        <p:spPr>
          <a:xfrm>
            <a:off x="2577960" y="1841400"/>
            <a:ext cx="1792440" cy="193212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22" descr=""/>
          <p:cNvPicPr/>
          <p:nvPr/>
        </p:nvPicPr>
        <p:blipFill>
          <a:blip r:embed="rId4"/>
          <a:stretch/>
        </p:blipFill>
        <p:spPr>
          <a:xfrm>
            <a:off x="2687760" y="3560760"/>
            <a:ext cx="1780920" cy="198612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23" descr=""/>
          <p:cNvPicPr/>
          <p:nvPr/>
        </p:nvPicPr>
        <p:blipFill>
          <a:blip r:embed="rId5"/>
          <a:stretch/>
        </p:blipFill>
        <p:spPr>
          <a:xfrm>
            <a:off x="5005440" y="2243160"/>
            <a:ext cx="1487520" cy="177948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24" descr=""/>
          <p:cNvPicPr/>
          <p:nvPr/>
        </p:nvPicPr>
        <p:blipFill>
          <a:blip r:embed="rId6"/>
          <a:stretch/>
        </p:blipFill>
        <p:spPr>
          <a:xfrm>
            <a:off x="6943680" y="1560600"/>
            <a:ext cx="1865520" cy="229860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25" descr=""/>
          <p:cNvPicPr/>
          <p:nvPr/>
        </p:nvPicPr>
        <p:blipFill>
          <a:blip r:embed="rId7"/>
          <a:stretch/>
        </p:blipFill>
        <p:spPr>
          <a:xfrm>
            <a:off x="5048280" y="3992400"/>
            <a:ext cx="1644480" cy="1487520"/>
          </a:xfrm>
          <a:prstGeom prst="rect">
            <a:avLst/>
          </a:prstGeom>
          <a:ln w="0">
            <a:noFill/>
          </a:ln>
        </p:spPr>
      </p:pic>
      <p:pic>
        <p:nvPicPr>
          <p:cNvPr id="177" name="Rectangle 26" descr=""/>
          <p:cNvPicPr/>
          <p:nvPr/>
        </p:nvPicPr>
        <p:blipFill>
          <a:blip r:embed="rId8"/>
          <a:stretch/>
        </p:blipFill>
        <p:spPr>
          <a:xfrm>
            <a:off x="7059600" y="3713040"/>
            <a:ext cx="1657440" cy="17668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7"/>
          <p:cNvSpPr/>
          <p:nvPr/>
        </p:nvSpPr>
        <p:spPr>
          <a:xfrm>
            <a:off x="2771640" y="5589720"/>
            <a:ext cx="5761080" cy="71892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Ь ЗАНЯТИЯ С ПОСЛЕДУ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ОЙ ПО РАЗВИТИЮ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2501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2a6d7d"/>
                </a:solidFill>
                <a:latin typeface="Arial"/>
              </a:rPr>
              <a:t>МЕТОДЫ РАЗВИТИЯ РЕЧИ</a:t>
            </a:r>
            <a:endParaRPr b="0" lang="en-US" sz="39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50920" y="1052640"/>
            <a:ext cx="2952720" cy="525600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ГЛЯД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ПОСРЕД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метод наблю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зновиднос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кскурсии, осмот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мещ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ссматр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тура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едмет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ОПОСРЕДОВАННЫ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с использ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образите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гляднос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ссматр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грушек, карти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отографий, опис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ртин и игруше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ссказы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 игрушкам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ртинам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372360" y="1125360"/>
            <a:ext cx="2449440" cy="453708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КТ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дак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ы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раматиза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сцениров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с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ю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дак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пражн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ро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492360" y="1125360"/>
            <a:ext cx="2449800" cy="460872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ВЕС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ен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казы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удоже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изве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у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зу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еск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общ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есе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казы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ез оп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нагля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Облако 4"/>
          <p:cNvSpPr/>
          <p:nvPr/>
        </p:nvSpPr>
        <p:spPr>
          <a:xfrm>
            <a:off x="4859280" y="692280"/>
            <a:ext cx="4176720" cy="60498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a9d7e2"/>
          </a:solidFill>
          <a:ln w="255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блако 3"/>
          <p:cNvSpPr/>
          <p:nvPr/>
        </p:nvSpPr>
        <p:spPr>
          <a:xfrm>
            <a:off x="103320" y="1052640"/>
            <a:ext cx="4427280" cy="5689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a9d7e2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88640"/>
            <a:ext cx="74768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МЕТОДЫ РАЗВИТИЯ РЕЧИ</a:t>
            </a:r>
            <a:endParaRPr b="0" lang="en-US" sz="26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28600" y="1484280"/>
            <a:ext cx="39830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ПРОДУКТИВНЫЕ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произ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т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чевого 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метод наблю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его разновид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атривание карти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ение художест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ы, переск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учивание наизу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ы-драмат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содержанию литератур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едений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дактические иг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716360" y="333360"/>
            <a:ext cx="381636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ДУК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здание соб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язных высказы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бобщающая бесе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казывание, переск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ерестройкой текста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развитие связной р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 моделиров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ворческие задан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1788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99"/>
                </a:solidFill>
                <a:latin typeface="Arial"/>
              </a:rPr>
              <a:t>ПРИЁМЫ РАЗВИТИЯ РЕЧИ</a:t>
            </a:r>
            <a:endParaRPr b="0" lang="en-US" sz="35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250920" y="1052640"/>
            <a:ext cx="2808360" cy="2881080"/>
          </a:xfrm>
          <a:prstGeom prst="rect">
            <a:avLst/>
          </a:prstGeom>
          <a:solidFill>
            <a:srgbClr val="ffe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ГЛЯД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люстрац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тику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обуч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ь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о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3419640" y="1052640"/>
            <a:ext cx="2592360" cy="2952720"/>
          </a:xfrm>
          <a:prstGeom prst="rect">
            <a:avLst/>
          </a:prstGeom>
          <a:solidFill>
            <a:srgbClr val="ffe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ВЕС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чевой образец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то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оварив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ясн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дет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чи,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6372360" y="1052640"/>
            <a:ext cx="2520720" cy="2881080"/>
          </a:xfrm>
          <a:prstGeom prst="rect">
            <a:avLst/>
          </a:prstGeom>
          <a:solidFill>
            <a:srgbClr val="ffe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ГРОВ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ж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юрприз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мент, раз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468360" y="4221000"/>
            <a:ext cx="7920000" cy="1079640"/>
          </a:xfrm>
          <a:prstGeom prst="rect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ЫЕ (объяснение, речевой образец, указ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ВЕННЫЕ (напоминание, реплика, подск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395280" y="5445000"/>
            <a:ext cx="8064360" cy="1224000"/>
          </a:xfrm>
          <a:prstGeom prst="rect">
            <a:avLst/>
          </a:prstGeom>
          <a:solidFill>
            <a:srgbClr val="a9d7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дагогической практике все приемы используются комплекс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задач, содержания занятия, уровня подготов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ей, их возрастных и индивидуальных особен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075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ВЕСНЫЕ ПРИЕМЫ РАЗВИТИЯ РЕЧИ</a:t>
            </a:r>
            <a:endParaRPr b="0" lang="en-US" sz="24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68360" y="668520"/>
            <a:ext cx="83516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ечевой образе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варительно продуманная речевая деятельность педагога, предназначенная для подражания детьми (должен быть доступным, четким, громким, произноситься нетороплив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вторное проговари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реднамеренное, многократное повторение одного и того же речевого элемента (звука, слова, фразы) с целью его запоми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бъясн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скрытие сущности некоторых явлений или способов действия ( н-р, для объяснения правил и действий в дидактических играх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казан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ъяснение детям способа действия для достижения определенного результата (обучающие, организационные и дисциплинирующ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ценка детской ре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тивированное суждение о речевом высказывании ребенка, характеризующее качество выполнения речев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3232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ВЕСНЫЕ ПРИЕМЫ РАЗВИТИЯ РЕЧИ </a:t>
            </a: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опрос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весное обращение, требующее ответа</a:t>
            </a:r>
            <a:endParaRPr b="0" lang="en-US" sz="18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68360" y="2880"/>
            <a:ext cx="835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900000" y="1989000"/>
            <a:ext cx="2880000" cy="3335400"/>
          </a:xfrm>
          <a:prstGeom prst="rect">
            <a:avLst/>
          </a:prstGeom>
          <a:solidFill>
            <a:srgbClr val="b9d7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ПРОДУКТ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СТАТИРУЮЩ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ТО? Ч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КОЙ? ГДЕ? КА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ИСК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Ч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ЕМ ПОХОЖ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5076720" y="1868400"/>
            <a:ext cx="2590920" cy="2208240"/>
          </a:xfrm>
          <a:prstGeom prst="rect">
            <a:avLst/>
          </a:prstGeom>
          <a:solidFill>
            <a:srgbClr val="b9d7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ОГ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ВОДЯ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ДСКАЗЫВА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563400" y="5516640"/>
            <a:ext cx="7920360" cy="1079280"/>
          </a:xfrm>
          <a:prstGeom prst="rect">
            <a:avLst/>
          </a:prstGeom>
          <a:solidFill>
            <a:srgbClr val="b9d7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 должны быть четкими, целенаправленны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овать  возрасту детей, выражать основную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17440"/>
            <a:ext cx="821844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РУКОВОДСТВО РАЗВИТИЕМ РЕЧИ ДЕТЕЙ В ПОВСЕДНЕВНОЙ ЖИЗН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ДАГО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133720"/>
            <a:ext cx="82915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о используя детскую инициатив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ует игры и беседы на интересные детям 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ед ним стоят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равлять ошибки в речи детей (неправильное ударение в слове или грамматическую ошибку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казывать слово в тех случаях, когда ребенок не знает, как выразить свою мыс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авлять ребенка, если у него неправильный тон, если он разговаривает слишком гром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68000" y="476280"/>
            <a:ext cx="81421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00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говорная речь детей формируется во время разговора взрослого с ними в повседневной жизни. Чрезвычайно важно в течение дня найти время и место для разговора с каждым ребёнком отдельно или в маленькой группе. Надо поговорить с ребёнком так, чтобы у него осталось удовлетворение, даже радость от того, что его выслушали. Если в разговоре педагог проявляет живой искренний интерес к ребёнку, к содержанию его речи, то он чувствует себя смелее, увереннее и доверчиво рассказывает обо всём, что его интересует. Разговор с ребёнком даёт возможность ближе узнать его внутренний мир, интересы, уровень развития речи. В дошкольном учреждении в течение дня есть такие периоды, когда индивидуальный разговор наиболее уместен. Это утренние часы сбора детей, вечернее время, когда дети постепенно начинают расходиться по домам, самостоятельные игры и занятия детей на прогулке. Иногда разговоры возникают по инициативе ребёнка, который подходит с каким-нибудь вопросом или сообщением. Но нельзя ожидать таких случаев. Педагог должен быть сам инициатором интересных разговор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Arial"/>
              </a:rPr>
              <a:t>СРЕДСТВА РАЗВИТИЯ РЕЧИ</a:t>
            </a:r>
            <a:endParaRPr b="0" lang="en-US" sz="39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2920" y="1412640"/>
            <a:ext cx="7458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щение взрослых и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ультурная языковая с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учение родной речи на за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удожественная 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личные виды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55640" y="404280"/>
            <a:ext cx="6422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Arial"/>
              </a:rPr>
              <a:t>ИСПОЛЬЗУЕМАЯ ЛИТЕРАТУРА</a:t>
            </a:r>
            <a:endParaRPr b="0" lang="en-US" sz="40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27280" y="198900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74840" indent="-457200">
              <a:lnSpc>
                <a:spcPts val="2299"/>
              </a:lnSpc>
              <a:buClr>
                <a:srgbClr val="4f271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Arial"/>
              </a:rPr>
              <a:t>Усова А. П. “Обучение в детском саду”, М., 1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840" indent="0">
              <a:lnSpc>
                <a:spcPts val="22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840" indent="0">
              <a:lnSpc>
                <a:spcPts val="22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840" indent="-457200">
              <a:lnSpc>
                <a:spcPts val="2299"/>
              </a:lnSpc>
              <a:buClr>
                <a:srgbClr val="4f271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20e04"/>
                </a:solidFill>
                <a:latin typeface="Arial"/>
              </a:rPr>
              <a:t>Бородич А.М. «Методика развития речи детей». – М.: Просвещение, 198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840" indent="0">
              <a:lnSpc>
                <a:spcPts val="22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840" indent="0">
              <a:lnSpc>
                <a:spcPts val="22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840" indent="-457200">
              <a:lnSpc>
                <a:spcPts val="2299"/>
              </a:lnSpc>
              <a:buClr>
                <a:srgbClr val="4f271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20e04"/>
                </a:solidFill>
                <a:latin typeface="Arial"/>
              </a:rPr>
              <a:t>А. М. Бородич, Методика развития речи детей. - М. - 1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8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3232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68360" y="2880"/>
            <a:ext cx="835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09768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539640" y="260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ОБЩЕНИЕ ВЗРОСЛЫХ И ДЕТЕЙ</a:t>
            </a:r>
            <a:endParaRPr b="0" lang="en-US" sz="28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3232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Общени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это взаимодействие двух и более людей, направленное на согласование и объединение их усилий с целью налаживания отношений и достижения общего результата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(М.И.Лисин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111600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Arial"/>
              </a:rPr>
              <a:t>ФОРМЫ ОБЩЕНИЯ ДЕТЕЙ СО ВЗРОСЛЫМИ В ДОШКОЛЬНОМ ДЕТСТВЕ</a:t>
            </a:r>
            <a:endParaRPr b="0" lang="en-US" sz="24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149" name="Объект 2" descr=""/>
          <p:cNvPicPr/>
          <p:nvPr/>
        </p:nvPicPr>
        <p:blipFill>
          <a:blip r:embed="rId1"/>
          <a:stretch/>
        </p:blipFill>
        <p:spPr>
          <a:xfrm>
            <a:off x="938160" y="1450800"/>
            <a:ext cx="4187880" cy="2322720"/>
          </a:xfrm>
          <a:prstGeom prst="rect">
            <a:avLst/>
          </a:prstGeom>
          <a:ln w="0">
            <a:noFill/>
          </a:ln>
        </p:spPr>
      </p:pic>
      <p:pic>
        <p:nvPicPr>
          <p:cNvPr id="150" name="Объект 3" descr=""/>
          <p:cNvPicPr/>
          <p:nvPr/>
        </p:nvPicPr>
        <p:blipFill>
          <a:blip r:embed="rId2"/>
          <a:stretch/>
        </p:blipFill>
        <p:spPr>
          <a:xfrm>
            <a:off x="5230800" y="1450800"/>
            <a:ext cx="3724200" cy="2322720"/>
          </a:xfrm>
          <a:prstGeom prst="rect">
            <a:avLst/>
          </a:prstGeom>
          <a:ln w="0">
            <a:noFill/>
          </a:ln>
        </p:spPr>
      </p:pic>
      <p:pic>
        <p:nvPicPr>
          <p:cNvPr id="151" name="Объект 4" descr=""/>
          <p:cNvPicPr/>
          <p:nvPr/>
        </p:nvPicPr>
        <p:blipFill>
          <a:blip r:embed="rId3"/>
          <a:stretch/>
        </p:blipFill>
        <p:spPr>
          <a:xfrm>
            <a:off x="365040" y="3925800"/>
            <a:ext cx="4438800" cy="2322720"/>
          </a:xfrm>
          <a:prstGeom prst="rect">
            <a:avLst/>
          </a:prstGeom>
          <a:ln w="0">
            <a:noFill/>
          </a:ln>
        </p:spPr>
      </p:pic>
      <p:pic>
        <p:nvPicPr>
          <p:cNvPr id="152" name="Объект 5" descr=""/>
          <p:cNvPicPr/>
          <p:nvPr/>
        </p:nvPicPr>
        <p:blipFill>
          <a:blip r:embed="rId4"/>
          <a:stretch/>
        </p:blipFill>
        <p:spPr>
          <a:xfrm>
            <a:off x="4614840" y="3925800"/>
            <a:ext cx="4548240" cy="232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КУЛЬТУРНАЯ ЯЗЫКОВАЯ СРЕДА</a:t>
            </a:r>
            <a:endParaRPr b="0" lang="en-US" sz="28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39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ражая речи окружающих, дети перенимают не только все тонкости произношения, словоупотребления, построения фраз, но и ошибки, которые встречаются в их реч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к речи педагога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тель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зитель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оциональная насыщен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и соблюдение правил речевого этике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стное использование невербальных средств общения (мимики, жестов, пантомимики)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1214280" y="714240"/>
            <a:ext cx="721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ОБУЧЕНИЕ</a:t>
            </a:r>
            <a:r>
              <a:rPr b="1" i="1" lang="ru-RU" sz="25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br>
              <a:rPr sz="2500"/>
            </a:br>
            <a:br>
              <a:rPr sz="2500"/>
            </a:b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Обучение </a:t>
            </a:r>
            <a:r>
              <a:rPr b="1" i="1" lang="ru-RU" sz="25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1" lang="ru-RU" sz="2500" spc="-1" strike="noStrike">
                <a:solidFill>
                  <a:srgbClr val="572314"/>
                </a:solidFill>
                <a:latin typeface="Arial"/>
              </a:rPr>
              <a:t>это целенаправленный,  систематический и планомерный процесс, при котором под руководством воспитателя дети овладевают определенным кругом речевых  навыков и умений. </a:t>
            </a:r>
            <a:br>
              <a:rPr sz="2500"/>
            </a:b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Arial"/>
              </a:rPr>
              <a:t>Важнейшей формой организации обучения речи и языку являются специальные </a:t>
            </a:r>
            <a:r>
              <a:rPr b="1" i="1" lang="ru-RU" sz="2200" spc="-1" strike="noStrike" u="sng">
                <a:solidFill>
                  <a:srgbClr val="572314"/>
                </a:solidFill>
                <a:uFillTx/>
                <a:latin typeface="Arial"/>
              </a:rPr>
              <a:t>занятия</a:t>
            </a:r>
            <a:r>
              <a:rPr b="0" lang="ru-RU" sz="2200" spc="-1" strike="noStrike">
                <a:solidFill>
                  <a:srgbClr val="572314"/>
                </a:solidFill>
                <a:latin typeface="Arial"/>
              </a:rPr>
              <a:t>, на которых целенаправленно решаются задачи речевого развития детей.</a:t>
            </a:r>
            <a:endParaRPr b="0" lang="en-US" sz="2200" spc="-1" strike="noStrike">
              <a:solidFill>
                <a:srgbClr val="572314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6"/>
          <p:cNvSpPr/>
          <p:nvPr/>
        </p:nvSpPr>
        <p:spPr>
          <a:xfrm>
            <a:off x="611280" y="333360"/>
            <a:ext cx="8137440" cy="9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Значение занятий по развитию ре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занятиях решаются задачи из всех разделов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ются те навыки и умения, которые трудно сформировать в других видах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занятия помогают реализовать возможности речевого развития в дошкольном детстве -  самом благоприятном периоде для овладения язы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на занятиях внимание ребенка фиксируется на определенных языковых явлениях, в то время как в повседневной жизни работа над каким-либо речевым дефектом не может дать желаемого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в детском саду, по сравнению с семьей, наблюдается дефицит речевого общения с ребенком. Методически правильно организованные занятия помогают компенсировать этот дефиц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539640" y="189000"/>
            <a:ext cx="8247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ВИДЫ ЗАНЯТИЙ ПО РАЗВИТИЮ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) в зависимости от ведущей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занятия по формированию словаря (осмотр помещения, ознакомление со свойствами и качествами предм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о формированию грамматического строя речи (образование сущ. мн. числа род. падеж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занятия по воспитанию звуковой культуры речи (обучение правильному звукопроизноше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занятия по обучению связной речи (беседы, рассказыв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занятия по ознакомлению с художественной литерату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611280" y="404640"/>
            <a:ext cx="8137440" cy="10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б) в зависимости от применения нагляд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нятия с применением предметов реальной жизни, наблюдения явлений действительности (рассматривание предметов, экскурсии 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занятия с применением изобразительной наглядности: с игрушками (рассматривание, рассказывание по игрушкам), картинами (беседы, рассказывание, дидактические иг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занятия словесного характера, без опоры на наглядность (обобщающие беседы, художественное чтение и рассказывание, пересказ, словесные игр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2-08T18:53:04Z</dcterms:modified>
  <cp:revision>39</cp:revision>
  <dc:subject/>
  <dc:title>Слайд 1</dc:title>
</cp:coreProperties>
</file>