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5B8-850E-4324-97C1-46BCB286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0C1-BB57-428C-B498-978A0DEF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0E5-A38F-4FE3-A17D-AD9077CD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179-39E9-4736-B10E-D86FFEC3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D4BE-29CB-4C8B-BF3C-DDC9A295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0ECC-BFB5-4B45-AE70-8676333B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4E4A-0D74-44B9-AFDC-43E881EF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32FE-78E1-49B1-AC56-8D3E2BBD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6C18-0AA9-491D-93B3-E6EB1B5D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D2F8-5C87-45CB-910A-D7518962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0313-FB58-4C4A-A243-D0E58500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0C0-00FA-4FF8-BA04-1722B0FB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1D1A-9E32-4528-A900-BAFE66D9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6A71-041C-4617-AF1F-F5B9440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A7F2-44C3-4C0B-B6E4-FC0A3782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2BDA-091B-4662-8FD4-C109ECC7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B7CA-E122-4642-B0EE-E8823AF6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816E-EB9B-46AB-AF79-8A88080A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3D7E-A49B-4F68-B59B-BF6A7852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8B86-0E99-4F94-ABF9-9095C928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DE35-ADC5-44DE-A93E-708BCC50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0C96-AF51-4092-A38F-7FD0FC91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694-7787-41C1-8ACF-38B010E9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6650-A015-400E-9D00-AB59A6E3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8342-C16A-4E72-BA72-05993120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87B7-E12F-4C8B-8801-2728F114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901D-8896-4C8E-8630-C3E00725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D328-05BD-42AC-94F4-15E0171D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EC12-B5B3-44B1-B4DE-54C72B14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C838-32C2-47AC-A06A-D7966C90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9F80-25CE-4A3C-8A21-A568102C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6ECE-00B2-4520-B261-CD58E072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9FAC-824E-40AA-BD6F-1E9131DA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544-D1E2-4F0E-98BE-3CBC7C11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B9DD-91CA-4633-AA74-01999D8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4452-698F-4CAB-B1CA-7EA992BE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AAE9E-15D3-4E45-B016-C423FFED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CC3A-BD3A-4C11-B101-DD77410C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5EF9C-5002-42C6-9FD6-040D460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185C-5780-44EB-B4E9-7D5AB2C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80733-7033-4411-BE5D-4A4345E2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9374-24D5-4102-8DFB-2394C760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4C06-8B37-4E65-B8CB-17C5AB71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9975D-E343-4CBB-A173-68446040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B0C-5379-4F7C-BC3A-1F2E64BE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0231-002D-4752-83E4-E7766584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F8913-36D0-4883-989F-1795D782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500F3-8334-4789-BA60-A3B6E5FD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5D55-1664-466A-BDBD-5B5F0A9D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5097-DF53-46E8-93C9-8B8138B6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024A-0945-4A29-AE3A-5C553D7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77C7-EAF7-4462-9F21-F04F2E13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C219E-F11B-4953-B127-F415A91D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5B51E-1024-4ADB-889B-6BA3B48B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A90C8-EC83-481A-A151-4D181418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289-2FAF-4194-9616-0D1954D1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D0826-659E-4DC6-8448-C6EF47B0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7AF-3D49-4AE4-BC68-2503E7AE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A51-3C97-4661-83EC-9AB85E06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148-CD45-4683-AAA0-2B5BC87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AEE-69C6-474D-9591-B50CFA1098E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1EA7-86F5-49B2-9079-CB284D6524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717E-0E31-473C-8479-E1E018F38D2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B78E-7A4E-416A-A9B5-E6B58E6AB2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C3BD-9C18-4353-ADB6-8C5A6E3A11A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Презентация «Сад камней»</a:t>
            </a:r>
            <a:br>
              <a:rPr sz="41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дготовительная групп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Составила воспитатель 1 квалификационной категории Яценко И.М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I:\Яценко И.М\яценко И.М\IMG_0016.JPG"/>
          <p:cNvPicPr/>
          <p:nvPr/>
        </p:nvPicPr>
        <p:blipFill>
          <a:blip r:embed="rId1"/>
          <a:stretch/>
        </p:blipFill>
        <p:spPr>
          <a:xfrm>
            <a:off x="357120" y="285840"/>
            <a:ext cx="8286840" cy="592920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I:\Яценко И.М\яценко И.М\IMG_0017.JPG"/>
          <p:cNvPicPr/>
          <p:nvPr/>
        </p:nvPicPr>
        <p:blipFill>
          <a:blip r:embed="rId1"/>
          <a:stretch/>
        </p:blipFill>
        <p:spPr>
          <a:xfrm>
            <a:off x="285840" y="35712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I:\Яценко И.М\яценко И.М\IMG_0018.JPG"/>
          <p:cNvPicPr/>
          <p:nvPr/>
        </p:nvPicPr>
        <p:blipFill>
          <a:blip r:embed="rId1"/>
          <a:stretch/>
        </p:blipFill>
        <p:spPr>
          <a:xfrm>
            <a:off x="214200" y="428760"/>
            <a:ext cx="8496360" cy="57909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I:\Яценко И.М\яценко И.М\IMG_0019.JPG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7150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I:\Яценко И.М\яценко И.М\IMG_0021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I:\Яценко И.М\яценко И.М\IMG_0005.JPG"/>
          <p:cNvPicPr/>
          <p:nvPr/>
        </p:nvPicPr>
        <p:blipFill>
          <a:blip r:embed="rId1"/>
          <a:stretch/>
        </p:blipFill>
        <p:spPr>
          <a:xfrm>
            <a:off x="500040" y="571680"/>
            <a:ext cx="7858080" cy="576720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I:\Яценко И.М\яценко И.М\IMG_0007.JPG"/>
          <p:cNvPicPr/>
          <p:nvPr/>
        </p:nvPicPr>
        <p:blipFill>
          <a:blip r:embed="rId1"/>
          <a:stretch/>
        </p:blipFill>
        <p:spPr>
          <a:xfrm>
            <a:off x="642960" y="500040"/>
            <a:ext cx="7899480" cy="59101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:\Яценко И.М\яценко И.М\IMG_0008.JPG"/>
          <p:cNvPicPr/>
          <p:nvPr/>
        </p:nvPicPr>
        <p:blipFill>
          <a:blip r:embed="rId1"/>
          <a:stretch/>
        </p:blipFill>
        <p:spPr>
          <a:xfrm>
            <a:off x="571680" y="357120"/>
            <a:ext cx="8215200" cy="61437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I:\Яценко И.М\яценко И.М\IMG_0009.JPG"/>
          <p:cNvPicPr/>
          <p:nvPr/>
        </p:nvPicPr>
        <p:blipFill>
          <a:blip r:embed="rId1"/>
          <a:stretch/>
        </p:blipFill>
        <p:spPr>
          <a:xfrm>
            <a:off x="428760" y="357120"/>
            <a:ext cx="8143920" cy="58579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I:\Яценко И.М\яценко И.М\IMG_0010.JPG"/>
          <p:cNvPicPr/>
          <p:nvPr/>
        </p:nvPicPr>
        <p:blipFill>
          <a:blip r:embed="rId1"/>
          <a:stretch/>
        </p:blipFill>
        <p:spPr>
          <a:xfrm>
            <a:off x="714240" y="500040"/>
            <a:ext cx="7929720" cy="578664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I:\Яценко И.М\яценко И.М\IMG_0013.JPG"/>
          <p:cNvPicPr/>
          <p:nvPr/>
        </p:nvPicPr>
        <p:blipFill>
          <a:blip r:embed="rId1"/>
          <a:stretch/>
        </p:blipFill>
        <p:spPr>
          <a:xfrm>
            <a:off x="428760" y="428760"/>
            <a:ext cx="8215200" cy="607212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I:\Яценко И.М\яценко И.М\IMG_0014.JPG"/>
          <p:cNvPicPr/>
          <p:nvPr/>
        </p:nvPicPr>
        <p:blipFill>
          <a:blip r:embed="rId1"/>
          <a:stretch/>
        </p:blipFill>
        <p:spPr>
          <a:xfrm>
            <a:off x="500040" y="500040"/>
            <a:ext cx="8286840" cy="58579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I:\Яценко И.М\яценко И.М\IMG_0015.JPG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23:13:16Z</dcterms:created>
  <dc:creator>User</dc:creator>
  <dc:description/>
  <dc:language>en-US</dc:language>
  <cp:lastModifiedBy>я</cp:lastModifiedBy>
  <dcterms:modified xsi:type="dcterms:W3CDTF">2018-04-05T06:53:07Z</dcterms:modified>
  <cp:revision>28</cp:revision>
  <dc:subject/>
  <dc:title>1</dc:title>
</cp:coreProperties>
</file>