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4B6B-32E7-4DD1-8052-60D7BB71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1712-6A2F-48A4-85D3-2B8E06B4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977-B32C-4337-A102-55C8EFD4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55D2-C8FF-4ED1-93E1-7C209711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5983-28CB-4674-9CB7-B63FB5F1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6A30-C0A5-434E-8228-16C9B7F3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12B5-7A5A-4967-81E6-D3A68C84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9A22-F383-435C-B9E5-512DF4C4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F41B-9926-499A-B15F-8B15D1E8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1EA9-B8F6-4FA1-B7BB-FE418BA9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0BCD-A59A-47EC-A943-79EFE262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73D-4327-476A-A9CA-34A60C1E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6787-0B49-40BA-88DC-5D0E378F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5D2B-B884-4746-BA3B-1A17AADC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2B85-5726-4BE6-9CC4-7A02C581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AFAA-245F-4731-981B-EC9811FB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A32F-EBCF-42C4-9FD9-39A92AA9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391D5-C9D6-408A-B482-FAA6D00E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D3489-C1CC-4C82-A08C-887BF0D9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045FC-EF55-4EA7-BAE3-5A4AA084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3ACC6-3293-4291-8528-944A87E1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A673A-8C37-4D59-A26C-7C04BA83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8B2-CB66-4C3B-B083-FAB07E2F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07C53-0CAD-4C3F-9B72-B7AA8C15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E332E-6E05-4B35-AF70-90F126EF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D6E43-D298-40F6-8DB5-06959470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75D71-8D71-476B-B153-C3E2415C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708B3-E54F-4E41-8DA7-9475888D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3067F-2237-49C8-8001-11FC9F6B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A16B9-9A12-4B8F-8E38-1389BA70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3B888-DE57-49E7-A55D-1F32453F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7D210-15E7-46F1-88E1-76BB71A7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CF02E-8717-494B-BA71-62686B5B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BFF5-2957-46FA-AB13-360E55CE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21D96-2366-4C4D-A889-580A0D2D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AF205-2F9A-4EFF-9380-2D9C072F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EDD55-9A8F-4333-9FF1-2CAC2C63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8B36F-6A7D-4A1A-865F-F0DFBC05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A3073-2DB9-4D44-A75C-3A57036E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35D33-70F7-4B66-9F02-26E47B4B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6542F-448E-4C75-A5D3-CE7DE1C8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24D1E-03C9-4746-823C-A56ECFC6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262E4-BAFE-42B3-B2CF-356B906C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2A162-C06B-4277-91ED-31DE4215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0B1A-43E7-489C-B481-BC88F2CE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48FFD-7392-4283-B6CE-BE1A790B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B647B-80D6-4225-9203-C6EA2B22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F7E62-3949-4DF3-B3EC-DB7D44D8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50BE6-11C1-439D-BA59-E748D90B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6F380-E4D3-4996-8492-2095EC40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059B8-DB91-4415-88C9-C03CA05B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27002-9EF2-4E93-945B-4C8117E8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D9FFE-BB6F-4BEC-A283-2D031C74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423E2-3F8B-4821-B3B7-DCCDCAA4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617AB-23B7-45FE-98DA-8E506AB2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AB6A-6597-41E2-82E7-8B2E82AB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24F34-BE92-4BDB-9D74-915764F4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0395-4E61-4253-945F-40D44915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B189-F033-4217-A68C-9BA8C737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A1C0-B54E-4C1A-A6BB-7D515DEC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9C32-6CD4-40D0-A814-A4C1889D4BB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D1EC-E615-4097-A6ED-211CB7F06CA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BCBA-5845-4B6A-9FB6-07294FCE29A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B366-4E06-4301-9FCA-0D4524CF707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58CE-0289-4F85-B08E-77BEF90D65F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4100" spc="-1" strike="noStrike">
                <a:solidFill>
                  <a:srgbClr val="0070c0"/>
                </a:solidFill>
                <a:latin typeface="Verdana"/>
              </a:rPr>
              <a:t>Презентация «Сад камней»</a:t>
            </a:r>
            <a:br>
              <a:rPr sz="4100"/>
            </a:b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одготовительная групп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Составила воспитатель 1 квалификационной категории Яценко И.М</a:t>
            </a: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1" descr="I:\Яценко И.М\яценко И.М\IMG_0016.JPG"/>
          <p:cNvPicPr/>
          <p:nvPr/>
        </p:nvPicPr>
        <p:blipFill>
          <a:blip r:embed="rId1"/>
          <a:stretch/>
        </p:blipFill>
        <p:spPr>
          <a:xfrm>
            <a:off x="357120" y="285840"/>
            <a:ext cx="8286840" cy="592920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1" descr="I:\Яценко И.М\яценко И.М\IMG_0017.JPG"/>
          <p:cNvPicPr/>
          <p:nvPr/>
        </p:nvPicPr>
        <p:blipFill>
          <a:blip r:embed="rId1"/>
          <a:stretch/>
        </p:blipFill>
        <p:spPr>
          <a:xfrm>
            <a:off x="285840" y="357120"/>
            <a:ext cx="8501040" cy="621504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I:\Яценко И.М\яценко И.М\IMG_0018.JPG"/>
          <p:cNvPicPr/>
          <p:nvPr/>
        </p:nvPicPr>
        <p:blipFill>
          <a:blip r:embed="rId1"/>
          <a:stretch/>
        </p:blipFill>
        <p:spPr>
          <a:xfrm>
            <a:off x="214200" y="428760"/>
            <a:ext cx="8496360" cy="579096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1" descr="I:\Яценко И.М\яценко И.М\IMG_0019.JPG"/>
          <p:cNvPicPr/>
          <p:nvPr/>
        </p:nvPicPr>
        <p:blipFill>
          <a:blip r:embed="rId1"/>
          <a:stretch/>
        </p:blipFill>
        <p:spPr>
          <a:xfrm>
            <a:off x="428760" y="571680"/>
            <a:ext cx="8286480" cy="571500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I:\Яценко И.М\яценко И.М\IMG_0021.JPG"/>
          <p:cNvPicPr/>
          <p:nvPr/>
        </p:nvPicPr>
        <p:blipFill>
          <a:blip r:embed="rId1"/>
          <a:stretch/>
        </p:blipFill>
        <p:spPr>
          <a:xfrm>
            <a:off x="428760" y="357120"/>
            <a:ext cx="8286480" cy="600084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1" descr="I:\Яценко И.М\яценко И.М\IMG_0005.JPG"/>
          <p:cNvPicPr/>
          <p:nvPr/>
        </p:nvPicPr>
        <p:blipFill>
          <a:blip r:embed="rId1"/>
          <a:stretch/>
        </p:blipFill>
        <p:spPr>
          <a:xfrm>
            <a:off x="500040" y="571680"/>
            <a:ext cx="7858080" cy="576720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1" descr="I:\Яценко И.М\яценко И.М\IMG_0007.JPG"/>
          <p:cNvPicPr/>
          <p:nvPr/>
        </p:nvPicPr>
        <p:blipFill>
          <a:blip r:embed="rId1"/>
          <a:stretch/>
        </p:blipFill>
        <p:spPr>
          <a:xfrm>
            <a:off x="642960" y="500040"/>
            <a:ext cx="7899480" cy="591012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I:\Яценко И.М\яценко И.М\IMG_0008.JPG"/>
          <p:cNvPicPr/>
          <p:nvPr/>
        </p:nvPicPr>
        <p:blipFill>
          <a:blip r:embed="rId1"/>
          <a:stretch/>
        </p:blipFill>
        <p:spPr>
          <a:xfrm>
            <a:off x="571680" y="357120"/>
            <a:ext cx="8215200" cy="614376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I:\Яценко И.М\яценко И.М\IMG_0009.JPG"/>
          <p:cNvPicPr/>
          <p:nvPr/>
        </p:nvPicPr>
        <p:blipFill>
          <a:blip r:embed="rId1"/>
          <a:stretch/>
        </p:blipFill>
        <p:spPr>
          <a:xfrm>
            <a:off x="428760" y="357120"/>
            <a:ext cx="8143920" cy="585792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1" descr="I:\Яценко И.М\яценко И.М\IMG_0010.JPG"/>
          <p:cNvPicPr/>
          <p:nvPr/>
        </p:nvPicPr>
        <p:blipFill>
          <a:blip r:embed="rId1"/>
          <a:stretch/>
        </p:blipFill>
        <p:spPr>
          <a:xfrm>
            <a:off x="714240" y="500040"/>
            <a:ext cx="7929720" cy="578664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1" descr="I:\Яценко И.М\яценко И.М\IMG_0013.JPG"/>
          <p:cNvPicPr/>
          <p:nvPr/>
        </p:nvPicPr>
        <p:blipFill>
          <a:blip r:embed="rId1"/>
          <a:stretch/>
        </p:blipFill>
        <p:spPr>
          <a:xfrm>
            <a:off x="428760" y="428760"/>
            <a:ext cx="8215200" cy="607212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I:\Яценко И.М\яценко И.М\IMG_0014.JPG"/>
          <p:cNvPicPr/>
          <p:nvPr/>
        </p:nvPicPr>
        <p:blipFill>
          <a:blip r:embed="rId1"/>
          <a:stretch/>
        </p:blipFill>
        <p:spPr>
          <a:xfrm>
            <a:off x="500040" y="500040"/>
            <a:ext cx="8286840" cy="585792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1" descr="I:\Яценко И.М\яценко И.М\IMG_0015.JPG"/>
          <p:cNvPicPr/>
          <p:nvPr/>
        </p:nvPicPr>
        <p:blipFill>
          <a:blip r:embed="rId1"/>
          <a:stretch/>
        </p:blipFill>
        <p:spPr>
          <a:xfrm>
            <a:off x="428760" y="357120"/>
            <a:ext cx="8358120" cy="614376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4T23:13:16Z</dcterms:created>
  <dc:creator>User</dc:creator>
  <dc:description/>
  <dc:language>en-US</dc:language>
  <cp:lastModifiedBy>я</cp:lastModifiedBy>
  <dcterms:modified xsi:type="dcterms:W3CDTF">2018-04-05T06:53:07Z</dcterms:modified>
  <cp:revision>28</cp:revision>
  <dc:subject/>
  <dc:title>1</dc:title>
</cp:coreProperties>
</file>