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gif" ContentType="image/gif"/>
  <Override PartName="/ppt/media/image1.png" ContentType="image/png"/>
  <Override PartName="/ppt/media/image11.png" ContentType="image/png"/>
  <Override PartName="/ppt/media/image3.gif" ContentType="image/gif"/>
  <Override PartName="/ppt/media/image4.png" ContentType="image/png"/>
  <Override PartName="/ppt/media/image2.gif" ContentType="image/gif"/>
  <Override PartName="/ppt/media/image5.png" ContentType="image/png"/>
  <Override PartName="/ppt/media/image7.gif" ContentType="image/gif"/>
  <Override PartName="/ppt/media/image8.gif" ContentType="image/gif"/>
  <Override PartName="/ppt/media/image6.gif" ContentType="image/gif"/>
  <Override PartName="/ppt/media/image9.png" ContentType="image/png"/>
  <Override PartName="/ppt/media/image13.png" ContentType="image/png"/>
  <Override PartName="/ppt/media/image12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196560"/>
            <a:ext cx="7770960" cy="60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400" y="196560"/>
            <a:ext cx="7770960" cy="60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196560"/>
            <a:ext cx="7770960" cy="60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5120"/>
            </a:xfrm>
            <a:custGeom>
              <a:avLst/>
              <a:gdLst>
                <a:gd name="textAreaLeft" fmla="*/ 360 w 609480"/>
                <a:gd name="textAreaRight" fmla="*/ 609120 w 609480"/>
                <a:gd name="textAreaTop" fmla="*/ 360 h 4875120"/>
                <a:gd name="textAreaBottom" fmla="*/ 4874760 h 4875120"/>
              </a:gdLst>
              <a:ahLst/>
              <a:rect l="textAreaLeft" t="textAreaTop" r="textAreaRight" b="textAreaBottom"/>
              <a:pathLst>
                <a:path w="21600" h="172685">
                  <a:moveTo>
                    <a:pt x="56" y="0"/>
                  </a:moveTo>
                  <a:arcTo wR="56" hR="56" stAng="16200000" swAng="-5400000"/>
                  <a:lnTo>
                    <a:pt x="0" y="172629"/>
                  </a:lnTo>
                  <a:arcTo wR="56" hR="56" stAng="10800000" swAng="-5400000"/>
                  <a:lnTo>
                    <a:pt x="21544" y="172685"/>
                  </a:lnTo>
                  <a:arcTo wR="56" hR="56" stAng="5400000" swAng="-5400000"/>
                  <a:lnTo>
                    <a:pt x="21600" y="56"/>
                  </a:lnTo>
                  <a:arcTo wR="56" hR="56" stAng="0" swAng="-5400000"/>
                  <a:close/>
                </a:path>
              </a:pathLst>
            </a:cu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6960"/>
              <a:ext cx="8304480" cy="180720"/>
              <a:chOff x="380880" y="1416960"/>
              <a:chExt cx="8304480" cy="180720"/>
            </a:xfrm>
          </p:grpSpPr>
          <p:sp>
            <p:nvSpPr>
              <p:cNvPr id="3" name=""/>
              <p:cNvSpPr/>
              <p:nvPr/>
            </p:nvSpPr>
            <p:spPr>
              <a:xfrm>
                <a:off x="6856560" y="1416960"/>
                <a:ext cx="1828440" cy="180720"/>
              </a:xfrm>
              <a:prstGeom prst="roundRect">
                <a:avLst>
                  <a:gd name="adj" fmla="val 875"/>
                </a:avLst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2200"/>
                <a:ext cx="8304480" cy="108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0960" cy="5942160"/>
            <a:chOff x="0" y="0"/>
            <a:chExt cx="8760960" cy="594216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custGeom>
              <a:avLst/>
              <a:gdLst>
                <a:gd name="textAreaLeft" fmla="*/ 360 w 1752480"/>
                <a:gd name="textAreaRight" fmla="*/ 1752120 w 1752480"/>
                <a:gd name="textAreaTop" fmla="*/ 360 h 4876920"/>
                <a:gd name="textAreaBottom" fmla="*/ 4876560 h 4876920"/>
              </a:gdLst>
              <a:ahLst/>
              <a:rect l="textAreaLeft" t="textAreaTop" r="textAreaRight" b="textAreaBottom"/>
              <a:pathLst>
                <a:path w="21600" h="60102">
                  <a:moveTo>
                    <a:pt x="19" y="0"/>
                  </a:moveTo>
                  <a:arcTo wR="19" hR="19" stAng="16200000" swAng="-5400000"/>
                  <a:lnTo>
                    <a:pt x="0" y="60083"/>
                  </a:lnTo>
                  <a:arcTo wR="19" hR="19" stAng="10800000" swAng="-5400000"/>
                  <a:lnTo>
                    <a:pt x="21581" y="60102"/>
                  </a:lnTo>
                  <a:arcTo wR="19" hR="19" stAng="5400000" swAng="-5400000"/>
                  <a:lnTo>
                    <a:pt x="21600" y="19"/>
                  </a:lnTo>
                  <a:arcTo wR="19" hR="19" stAng="0" swAng="-5400000"/>
                  <a:close/>
                </a:path>
              </a:pathLst>
            </a:cu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0960" cy="2436840"/>
              <a:chOff x="0" y="3505320"/>
              <a:chExt cx="8760960" cy="2436840"/>
            </a:xfrm>
          </p:grpSpPr>
          <p:sp>
            <p:nvSpPr>
              <p:cNvPr id="47" name=""/>
              <p:cNvSpPr/>
              <p:nvPr/>
            </p:nvSpPr>
            <p:spPr>
              <a:xfrm>
                <a:off x="990360" y="3505320"/>
                <a:ext cx="7770600" cy="2436840"/>
              </a:xfrm>
              <a:prstGeom prst="roundRect">
                <a:avLst>
                  <a:gd name="adj" fmla="val 65"/>
                </a:avLst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7880" y="3733560"/>
                <a:ext cx="7646760" cy="2136960"/>
              </a:xfrm>
              <a:prstGeom prst="roundRect">
                <a:avLst>
                  <a:gd name="adj" fmla="val 74"/>
                </a:avLst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5840"/>
                <a:ext cx="990360" cy="108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1" name=""/>
              <p:cNvSpPr/>
              <p:nvPr/>
            </p:nvSpPr>
            <p:spPr>
              <a:xfrm>
                <a:off x="6272280" y="533520"/>
                <a:ext cx="2437920" cy="303120"/>
              </a:xfrm>
              <a:prstGeom prst="roundRect">
                <a:avLst>
                  <a:gd name="adj" fmla="val 519"/>
                </a:avLst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080"/>
                <a:ext cx="8075520" cy="108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92" name=""/>
            <p:cNvSpPr/>
            <p:nvPr/>
          </p:nvSpPr>
          <p:spPr>
            <a:xfrm>
              <a:off x="0" y="0"/>
              <a:ext cx="609480" cy="4875120"/>
            </a:xfrm>
            <a:custGeom>
              <a:avLst/>
              <a:gdLst>
                <a:gd name="textAreaLeft" fmla="*/ 360 w 609480"/>
                <a:gd name="textAreaRight" fmla="*/ 609120 w 609480"/>
                <a:gd name="textAreaTop" fmla="*/ 360 h 4875120"/>
                <a:gd name="textAreaBottom" fmla="*/ 4874760 h 4875120"/>
              </a:gdLst>
              <a:ahLst/>
              <a:rect l="textAreaLeft" t="textAreaTop" r="textAreaRight" b="textAreaBottom"/>
              <a:pathLst>
                <a:path w="21600" h="172685">
                  <a:moveTo>
                    <a:pt x="56" y="0"/>
                  </a:moveTo>
                  <a:arcTo wR="56" hR="56" stAng="16200000" swAng="-5400000"/>
                  <a:lnTo>
                    <a:pt x="0" y="172629"/>
                  </a:lnTo>
                  <a:arcTo wR="56" hR="56" stAng="10800000" swAng="-5400000"/>
                  <a:lnTo>
                    <a:pt x="21544" y="172685"/>
                  </a:lnTo>
                  <a:arcTo wR="56" hR="56" stAng="5400000" swAng="-5400000"/>
                  <a:lnTo>
                    <a:pt x="21600" y="56"/>
                  </a:lnTo>
                  <a:arcTo wR="56" hR="56" stAng="0" swAng="-5400000"/>
                  <a:close/>
                </a:path>
              </a:pathLst>
            </a:cu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80880" y="1416960"/>
              <a:ext cx="8304480" cy="180720"/>
              <a:chOff x="380880" y="1416960"/>
              <a:chExt cx="8304480" cy="180720"/>
            </a:xfrm>
          </p:grpSpPr>
          <p:sp>
            <p:nvSpPr>
              <p:cNvPr id="94" name=""/>
              <p:cNvSpPr/>
              <p:nvPr/>
            </p:nvSpPr>
            <p:spPr>
              <a:xfrm>
                <a:off x="6856560" y="1416960"/>
                <a:ext cx="1828440" cy="180720"/>
              </a:xfrm>
              <a:prstGeom prst="roundRect">
                <a:avLst>
                  <a:gd name="adj" fmla="val 875"/>
                </a:avLst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80880" y="1492200"/>
                <a:ext cx="8304480" cy="108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7040" y="836280"/>
            <a:ext cx="66294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Гиперактивный ребёнок             в школе   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85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«АКТИВНЫЙ» -ДЕЯТЕЛЬНЫЙ, ДЕЙСТВ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«ГИПЕР» - ПРЕВЫШЕНИЕ Н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122724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КОГДА СТАНОВИТСЯ СОВСЕМ ТЯЖЕЛО…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6321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ГИПЕРАКТИВНОСТЬ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ПРОХОДИТ К ПОДРОСТКОВОМУ ВОЗРАСТУ, А У НЕКОТОРЫХ ДЕТЕЙ И РАН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АЖНО, чтобы ребенок подошел к этому возрасту без груза отрицательных эмоций и комплексов неполноц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2193840" cy="2171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1054080" cy="792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 0.03329 0.06 0.06259 0.137 0.06393 C 0.198 0.06659 0.248 0.05061 0.249 0.03063 C 0.249 0.01065 0.2 -0.00799 0.138 -0.00932 C 0.107 -0.00932 0.079 -0.00666 0.059 0 C 0.03 0.00932 0.013 0.02397 0.013 0.04129 C 0.013 0.05061 0.018 0.05993 0.027 0.06792 C 0.048 0.08523 0.089 0.09722 0.136 0.09855 C 0.191 0.10122 0.236 0.08657 0.236 0.06925 C 0.237 0.05061 0.192 0.03463 0.137 0.03196 C 0.109 0.03196 0.084 0.03463 0.065 0.03995 C 0.04 0.04928 0.024 0.06393 0.024 0.07858 C 0.024 0.08657 0.029 0.09456 0.037 0.10255 C 0.056 0.1172 0.092 0.12918 0.135 0.13052 C 0.185 0.13185 0.225 0.11853 0.225 0.10255 C 0.226 0.08657 0.186 0.07192 0.136 0.07058 C 0.111 0.06925 0.088 0.07192 0.071 0.07724 C 0.048 0.08523 0.035 0.09722 0.035 0.11187 C 0.035 0.11853 0.039 0.12652 0.046 0.13318 C 0.063 0.1465 0.096 0.15715 0.134 0.15848 C 0.179 0.15848 0.215 0.14783 0.215 0.13318 C 0.215 0.11853 0.18 0.10521 0.135 0.10388 C 0.113 0.10388 0.092 0.10654 0.077 0.11054 C 0.056 0.1172 0.044 0.12918 0.043 0.14117 C 0.043 0.14783 0.048 0.15449 0.054 0.15982 C 0.069 0.17313 0.099 0.18246 0.133 0.18246 C 0.173 0.18379 0.206 0.17446 0.206 0.16115 C 0.207 0.14783 0.174 0.13584 0.134 0.13451 C 0.114 0.13451 0.095 0.13584 0.082 0.14117 C 0.063 0.1465 0.052 0.15715 0.052 0.16781 C 0.052 0.17446 0.055 0.17979 0.061 0.18512 C 0.075 0.19711 0.101 0.2051 0.132 0.20643 C 0.169 0.20643 0.198 0.19844 0.198 0.18645 C 0.199 0.17446 0.17 0.16381 0.133 0.16248 C 0.115 0.16248 0.099 0.16381 0.087 0.16781 C 0.07 0.17313 0.06 0.18246 0.06 0.19311 C 0.06 0.19844 0.063 0.20243 0.068 0.20776 C 0.08 0.21841 0.104 0.22507 0.132 0.2264 C 0.165 0.22774 0.191 0.21975 0.191 0.20776 C 0.191 0.19844 0.166 0.18778 0.133 0.18778 C 0.116 0.18645 0.101 0.18911 0.09 0.19178 C 0.075 0.19711 0.066 0.2051 0.066 0.21442 C 0.066 0.21975 0.069 0.22374 0.074 0.22774 C 0.085 0.23706 0.107 0.24372 0.131 0.24505 C 0.161 0.24638 0.185 0.23839 0.185 0.22907 C 0.185 0.21841 0.161 0.21042 0.132 0.20909 C 0.118 0.20909 0.104 0.21042 0.094 0.21442 C 0.08 0.21841 0.072 0.22507 0.072 0.2344 C 0.072 0.23839 0.075 0.24239 0.079 0.24638 C 0.089 0.25437 0.108 0.26103 0.131 0.26103 C 0.157 0.26236 0.179 0.2557 0.179 0.24638 C 0.179 0.23839 0.158 0.2304 0.131 0.2304 C 0.119 0.22907 0.106 0.2304 0.097 0.23306 C 0.085 0.23839 0.078 0.24505 0.078 0.25171 C 0.078 0.2557 0.08 0.2597 0.084 0.26236 C 0.093 0.27035 0.11 0.27568 0.131 0.27701 C 0.155 0.27701 0.174 0.27035 0.174 0.26369 C 0.174 0.2557 0.155 0.24771 0.131 0.24771 C 0.119 0.24771 0.108 0.24905 0.101 0.25171 C 0.089 0.25437 0.083 0.26103 0.083 0.26769 C 0.083 0.27035 0.085 0.27435 0.088 0.27701 C 0.096 0.285 0.112 0.289 0.13 0.29033 C 0.152 0.29033 0.169 0.285 0.169 0.27834 C 0.169 0.27035 0.152 0.26503 0.131 0.26369 C 0.12 0.26369 0.11 0.26503 0.103 0.26769 C 0.093 0.27035 0.087 0.27568 0.087 0.28234 C 0.087 0.285 0.089 0.28767 0.092 0.29033 E">
                                      <p:cBhvr>
                                        <p:cTn id="48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826920" y="1125360"/>
            <a:ext cx="3168720" cy="1838520"/>
          </a:xfrm>
          <a:prstGeom prst="pie">
            <a:avLst/>
          </a:prstGeom>
          <a:gradFill rotWithShape="0">
            <a:gsLst>
              <a:gs pos="0">
                <a:srgbClr val="ffd8b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подвижны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вулканчик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loud"/>
          <p:cNvSpPr/>
          <p:nvPr/>
        </p:nvSpPr>
        <p:spPr>
          <a:xfrm>
            <a:off x="5724360" y="3933720"/>
            <a:ext cx="2743200" cy="1838520"/>
          </a:xfrm>
          <a:prstGeom prst="pie">
            <a:avLst/>
          </a:prstGeom>
          <a:gradFill rotWithShape="0">
            <a:gsLst>
              <a:gs pos="0">
                <a:srgbClr val="ffd8b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моторчик на ножках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Cloud"/>
          <p:cNvSpPr/>
          <p:nvPr/>
        </p:nvSpPr>
        <p:spPr>
          <a:xfrm>
            <a:off x="5003640" y="1197000"/>
            <a:ext cx="3889440" cy="1838160"/>
          </a:xfrm>
          <a:prstGeom prst="pie">
            <a:avLst/>
          </a:prstGeom>
          <a:gradFill rotWithShape="0">
            <a:gsLst>
              <a:gs pos="0">
                <a:srgbClr val="ffd8b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импульсивны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норовисты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Cloud"/>
          <p:cNvSpPr/>
          <p:nvPr/>
        </p:nvSpPr>
        <p:spPr>
          <a:xfrm>
            <a:off x="826920" y="3860640"/>
            <a:ext cx="3240360" cy="2179800"/>
          </a:xfrm>
          <a:prstGeom prst="pie">
            <a:avLst/>
          </a:prstGeom>
          <a:gradFill rotWithShape="0">
            <a:gsLst>
              <a:gs pos="0">
                <a:srgbClr val="ffd8b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устри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вечный двигатель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2448000" cy="1689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564000" y="3716280"/>
            <a:ext cx="1801800" cy="654120"/>
          </a:xfrm>
          <a:custGeom>
            <a:avLst/>
            <a:gdLst/>
            <a:ahLst/>
            <a:rect l="l" t="t" r="r" b="b"/>
            <a:pathLst>
              <a:path w="5003" h="1817">
                <a:moveTo>
                  <a:pt x="2501" y="0"/>
                </a:moveTo>
                <a:lnTo>
                  <a:pt x="3496" y="521"/>
                </a:lnTo>
                <a:lnTo>
                  <a:pt x="3010" y="521"/>
                </a:lnTo>
                <a:lnTo>
                  <a:pt x="3010" y="1034"/>
                </a:lnTo>
                <a:lnTo>
                  <a:pt x="3998" y="1034"/>
                </a:lnTo>
                <a:lnTo>
                  <a:pt x="3998" y="781"/>
                </a:lnTo>
                <a:lnTo>
                  <a:pt x="5002" y="1299"/>
                </a:lnTo>
                <a:lnTo>
                  <a:pt x="3998" y="1816"/>
                </a:lnTo>
                <a:lnTo>
                  <a:pt x="3998" y="1563"/>
                </a:lnTo>
                <a:lnTo>
                  <a:pt x="1003" y="1563"/>
                </a:lnTo>
                <a:lnTo>
                  <a:pt x="1003" y="1816"/>
                </a:lnTo>
                <a:lnTo>
                  <a:pt x="0" y="1299"/>
                </a:lnTo>
                <a:lnTo>
                  <a:pt x="1003" y="781"/>
                </a:lnTo>
                <a:lnTo>
                  <a:pt x="1003" y="1034"/>
                </a:lnTo>
                <a:lnTo>
                  <a:pt x="1991" y="1034"/>
                </a:lnTo>
                <a:lnTo>
                  <a:pt x="1991" y="521"/>
                </a:lnTo>
                <a:lnTo>
                  <a:pt x="1505" y="521"/>
                </a:lnTo>
                <a:lnTo>
                  <a:pt x="2501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1989000"/>
            <a:ext cx="482436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Чрезмерная двигательная актив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80000" y="3500280"/>
            <a:ext cx="29527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Импульсив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3500280"/>
            <a:ext cx="338436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Отвлекаемость-невниматель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708360" y="476280"/>
            <a:ext cx="1584360" cy="981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867280" y="4508640"/>
            <a:ext cx="2514600" cy="1692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42920" y="4581360"/>
            <a:ext cx="1679760" cy="1973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96920"/>
            <a:ext cx="7905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И ДЕТЕЙ</a:t>
            </a:r>
            <a:r>
              <a:rPr b="0" lang="ru-RU" sz="38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7 – 11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669900"/>
                </a:solidFill>
                <a:latin typeface="Times New Roman"/>
              </a:rPr>
              <a:t>ГИПЕРАКТИВНЫ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ЛЯЮТ</a:t>
            </a:r>
            <a:r>
              <a:rPr b="0" lang="ru-RU" sz="38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669900"/>
                </a:solidFill>
                <a:latin typeface="Times New Roman"/>
              </a:rPr>
              <a:t>16,5%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1520640" cy="2016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300720" y="2060640"/>
            <a:ext cx="2362320" cy="2808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4360" y="5013360"/>
            <a:ext cx="24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501336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04000" y="50846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2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2852640"/>
            <a:ext cx="187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КОРРЕКЦИЯ В СЕМЬ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113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Times New Roman"/>
              </a:rPr>
              <a:t>При воспитании гиперактивного ребенк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8000"/>
                </a:solidFill>
                <a:latin typeface="Times New Roman"/>
              </a:rPr>
              <a:t>близкие должны избегать </a:t>
            </a:r>
            <a:r>
              <a:rPr b="1" lang="en-US" sz="3200" spc="-1" strike="noStrike" u="sng">
                <a:solidFill>
                  <a:srgbClr val="808000"/>
                </a:solidFill>
                <a:uFillTx/>
                <a:latin typeface="Times New Roman"/>
              </a:rPr>
              <a:t>двух край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79280" y="3213000"/>
            <a:ext cx="4176360" cy="3240000"/>
            <a:chOff x="179280" y="3213000"/>
            <a:chExt cx="4176360" cy="3240000"/>
          </a:xfrm>
        </p:grpSpPr>
        <p:sp>
          <p:nvSpPr>
            <p:cNvPr id="160" name=""/>
            <p:cNvSpPr/>
            <p:nvPr/>
          </p:nvSpPr>
          <p:spPr>
            <a:xfrm>
              <a:off x="179280" y="3213000"/>
              <a:ext cx="4176360" cy="3240000"/>
            </a:xfrm>
            <a:custGeom>
              <a:avLst/>
              <a:gdLst/>
              <a:ahLst/>
              <a:rect l="l" t="t" r="r" b="b"/>
              <a:pathLst>
                <a:path w="11405" h="8403">
                  <a:moveTo>
                    <a:pt x="5684" y="8402"/>
                  </a:moveTo>
                  <a:lnTo>
                    <a:pt x="4855" y="6269"/>
                  </a:lnTo>
                  <a:lnTo>
                    <a:pt x="4995" y="6280"/>
                  </a:lnTo>
                  <a:lnTo>
                    <a:pt x="5135" y="6288"/>
                  </a:lnTo>
                  <a:lnTo>
                    <a:pt x="5275" y="6295"/>
                  </a:lnTo>
                  <a:lnTo>
                    <a:pt x="5416" y="6300"/>
                  </a:lnTo>
                  <a:lnTo>
                    <a:pt x="5557" y="6303"/>
                  </a:lnTo>
                  <a:lnTo>
                    <a:pt x="5698" y="6304"/>
                  </a:lnTo>
                  <a:lnTo>
                    <a:pt x="5839" y="6303"/>
                  </a:lnTo>
                  <a:lnTo>
                    <a:pt x="5980" y="6300"/>
                  </a:lnTo>
                  <a:lnTo>
                    <a:pt x="6121" y="6295"/>
                  </a:lnTo>
                  <a:lnTo>
                    <a:pt x="6261" y="6289"/>
                  </a:lnTo>
                  <a:lnTo>
                    <a:pt x="6402" y="6280"/>
                  </a:lnTo>
                  <a:lnTo>
                    <a:pt x="6541" y="6270"/>
                  </a:lnTo>
                  <a:lnTo>
                    <a:pt x="6681" y="6257"/>
                  </a:lnTo>
                  <a:lnTo>
                    <a:pt x="6819" y="6243"/>
                  </a:lnTo>
                  <a:lnTo>
                    <a:pt x="6957" y="6227"/>
                  </a:lnTo>
                  <a:lnTo>
                    <a:pt x="7095" y="6209"/>
                  </a:lnTo>
                  <a:lnTo>
                    <a:pt x="7231" y="6189"/>
                  </a:lnTo>
                  <a:lnTo>
                    <a:pt x="7366" y="6167"/>
                  </a:lnTo>
                  <a:lnTo>
                    <a:pt x="7501" y="6143"/>
                  </a:lnTo>
                  <a:lnTo>
                    <a:pt x="7634" y="6118"/>
                  </a:lnTo>
                  <a:lnTo>
                    <a:pt x="7766" y="6090"/>
                  </a:lnTo>
                  <a:lnTo>
                    <a:pt x="7897" y="6061"/>
                  </a:lnTo>
                  <a:lnTo>
                    <a:pt x="8026" y="6030"/>
                  </a:lnTo>
                  <a:lnTo>
                    <a:pt x="8154" y="5998"/>
                  </a:lnTo>
                  <a:lnTo>
                    <a:pt x="8281" y="5963"/>
                  </a:lnTo>
                  <a:lnTo>
                    <a:pt x="8406" y="5927"/>
                  </a:lnTo>
                  <a:lnTo>
                    <a:pt x="8529" y="5889"/>
                  </a:lnTo>
                  <a:lnTo>
                    <a:pt x="8651" y="5850"/>
                  </a:lnTo>
                  <a:lnTo>
                    <a:pt x="8771" y="5809"/>
                  </a:lnTo>
                  <a:lnTo>
                    <a:pt x="8889" y="5766"/>
                  </a:lnTo>
                  <a:lnTo>
                    <a:pt x="9005" y="5721"/>
                  </a:lnTo>
                  <a:lnTo>
                    <a:pt x="9119" y="5675"/>
                  </a:lnTo>
                  <a:lnTo>
                    <a:pt x="9231" y="5628"/>
                  </a:lnTo>
                  <a:lnTo>
                    <a:pt x="9340" y="5579"/>
                  </a:lnTo>
                  <a:lnTo>
                    <a:pt x="9448" y="5528"/>
                  </a:lnTo>
                  <a:lnTo>
                    <a:pt x="9553" y="5477"/>
                  </a:lnTo>
                  <a:lnTo>
                    <a:pt x="9656" y="5423"/>
                  </a:lnTo>
                  <a:lnTo>
                    <a:pt x="9756" y="5368"/>
                  </a:lnTo>
                  <a:lnTo>
                    <a:pt x="9854" y="5312"/>
                  </a:lnTo>
                  <a:lnTo>
                    <a:pt x="9950" y="5255"/>
                  </a:lnTo>
                  <a:lnTo>
                    <a:pt x="10042" y="5196"/>
                  </a:lnTo>
                  <a:lnTo>
                    <a:pt x="10133" y="5136"/>
                  </a:lnTo>
                  <a:lnTo>
                    <a:pt x="10220" y="5075"/>
                  </a:lnTo>
                  <a:lnTo>
                    <a:pt x="10305" y="5013"/>
                  </a:lnTo>
                  <a:lnTo>
                    <a:pt x="10386" y="4949"/>
                  </a:lnTo>
                  <a:lnTo>
                    <a:pt x="10465" y="4884"/>
                  </a:lnTo>
                  <a:lnTo>
                    <a:pt x="10542" y="4819"/>
                  </a:lnTo>
                  <a:lnTo>
                    <a:pt x="10615" y="4752"/>
                  </a:lnTo>
                  <a:lnTo>
                    <a:pt x="10685" y="4684"/>
                  </a:lnTo>
                  <a:lnTo>
                    <a:pt x="10752" y="4616"/>
                  </a:lnTo>
                  <a:lnTo>
                    <a:pt x="10816" y="4546"/>
                  </a:lnTo>
                  <a:lnTo>
                    <a:pt x="10877" y="4476"/>
                  </a:lnTo>
                  <a:lnTo>
                    <a:pt x="10934" y="4405"/>
                  </a:lnTo>
                  <a:lnTo>
                    <a:pt x="10989" y="4333"/>
                  </a:lnTo>
                  <a:lnTo>
                    <a:pt x="11040" y="4260"/>
                  </a:lnTo>
                  <a:lnTo>
                    <a:pt x="11088" y="4187"/>
                  </a:lnTo>
                  <a:lnTo>
                    <a:pt x="11133" y="4113"/>
                  </a:lnTo>
                  <a:lnTo>
                    <a:pt x="11174" y="4038"/>
                  </a:lnTo>
                  <a:lnTo>
                    <a:pt x="11212" y="3963"/>
                  </a:lnTo>
                  <a:lnTo>
                    <a:pt x="11246" y="3888"/>
                  </a:lnTo>
                  <a:lnTo>
                    <a:pt x="11278" y="3812"/>
                  </a:lnTo>
                  <a:lnTo>
                    <a:pt x="11306" y="3735"/>
                  </a:lnTo>
                  <a:lnTo>
                    <a:pt x="11330" y="3658"/>
                  </a:lnTo>
                  <a:lnTo>
                    <a:pt x="11351" y="3581"/>
                  </a:lnTo>
                  <a:lnTo>
                    <a:pt x="11368" y="3504"/>
                  </a:lnTo>
                  <a:lnTo>
                    <a:pt x="11382" y="3426"/>
                  </a:lnTo>
                  <a:lnTo>
                    <a:pt x="11393" y="3349"/>
                  </a:lnTo>
                  <a:lnTo>
                    <a:pt x="11400" y="3271"/>
                  </a:lnTo>
                  <a:lnTo>
                    <a:pt x="11404" y="3193"/>
                  </a:lnTo>
                  <a:lnTo>
                    <a:pt x="11404" y="3115"/>
                  </a:lnTo>
                  <a:lnTo>
                    <a:pt x="11400" y="3037"/>
                  </a:lnTo>
                  <a:lnTo>
                    <a:pt x="11393" y="2959"/>
                  </a:lnTo>
                  <a:lnTo>
                    <a:pt x="11383" y="2881"/>
                  </a:lnTo>
                  <a:lnTo>
                    <a:pt x="11369" y="2804"/>
                  </a:lnTo>
                  <a:lnTo>
                    <a:pt x="11352" y="2726"/>
                  </a:lnTo>
                  <a:lnTo>
                    <a:pt x="11331" y="2649"/>
                  </a:lnTo>
                  <a:lnTo>
                    <a:pt x="11307" y="2572"/>
                  </a:lnTo>
                  <a:lnTo>
                    <a:pt x="11279" y="2496"/>
                  </a:lnTo>
                  <a:lnTo>
                    <a:pt x="11248" y="2420"/>
                  </a:lnTo>
                  <a:lnTo>
                    <a:pt x="11214" y="2344"/>
                  </a:lnTo>
                  <a:lnTo>
                    <a:pt x="11176" y="2269"/>
                  </a:lnTo>
                  <a:lnTo>
                    <a:pt x="11135" y="2195"/>
                  </a:lnTo>
                  <a:lnTo>
                    <a:pt x="11090" y="2121"/>
                  </a:lnTo>
                  <a:lnTo>
                    <a:pt x="11042" y="2047"/>
                  </a:lnTo>
                  <a:lnTo>
                    <a:pt x="10991" y="1974"/>
                  </a:lnTo>
                  <a:lnTo>
                    <a:pt x="10937" y="1903"/>
                  </a:lnTo>
                  <a:lnTo>
                    <a:pt x="10879" y="1831"/>
                  </a:lnTo>
                  <a:lnTo>
                    <a:pt x="10819" y="1761"/>
                  </a:lnTo>
                  <a:lnTo>
                    <a:pt x="10755" y="1691"/>
                  </a:lnTo>
                  <a:lnTo>
                    <a:pt x="10688" y="1623"/>
                  </a:lnTo>
                  <a:lnTo>
                    <a:pt x="10618" y="1555"/>
                  </a:lnTo>
                  <a:lnTo>
                    <a:pt x="10545" y="1488"/>
                  </a:lnTo>
                  <a:lnTo>
                    <a:pt x="10469" y="1423"/>
                  </a:lnTo>
                  <a:lnTo>
                    <a:pt x="10390" y="1358"/>
                  </a:lnTo>
                  <a:lnTo>
                    <a:pt x="10309" y="1294"/>
                  </a:lnTo>
                  <a:lnTo>
                    <a:pt x="10224" y="1232"/>
                  </a:lnTo>
                  <a:lnTo>
                    <a:pt x="10137" y="1171"/>
                  </a:lnTo>
                  <a:lnTo>
                    <a:pt x="10047" y="1111"/>
                  </a:lnTo>
                  <a:lnTo>
                    <a:pt x="9954" y="1052"/>
                  </a:lnTo>
                  <a:lnTo>
                    <a:pt x="9859" y="994"/>
                  </a:lnTo>
                  <a:lnTo>
                    <a:pt x="9761" y="938"/>
                  </a:lnTo>
                  <a:lnTo>
                    <a:pt x="9661" y="883"/>
                  </a:lnTo>
                  <a:lnTo>
                    <a:pt x="9558" y="830"/>
                  </a:lnTo>
                  <a:lnTo>
                    <a:pt x="9453" y="778"/>
                  </a:lnTo>
                  <a:lnTo>
                    <a:pt x="9345" y="727"/>
                  </a:lnTo>
                  <a:lnTo>
                    <a:pt x="9236" y="678"/>
                  </a:lnTo>
                  <a:lnTo>
                    <a:pt x="9124" y="631"/>
                  </a:lnTo>
                  <a:lnTo>
                    <a:pt x="9010" y="585"/>
                  </a:lnTo>
                  <a:lnTo>
                    <a:pt x="8894" y="540"/>
                  </a:lnTo>
                  <a:lnTo>
                    <a:pt x="8776" y="497"/>
                  </a:lnTo>
                  <a:lnTo>
                    <a:pt x="8657" y="456"/>
                  </a:lnTo>
                  <a:lnTo>
                    <a:pt x="8535" y="417"/>
                  </a:lnTo>
                  <a:lnTo>
                    <a:pt x="8412" y="379"/>
                  </a:lnTo>
                  <a:lnTo>
                    <a:pt x="8287" y="343"/>
                  </a:lnTo>
                  <a:lnTo>
                    <a:pt x="8161" y="308"/>
                  </a:lnTo>
                  <a:lnTo>
                    <a:pt x="8033" y="275"/>
                  </a:lnTo>
                  <a:lnTo>
                    <a:pt x="7903" y="244"/>
                  </a:lnTo>
                  <a:lnTo>
                    <a:pt x="7772" y="215"/>
                  </a:lnTo>
                  <a:lnTo>
                    <a:pt x="7640" y="188"/>
                  </a:lnTo>
                  <a:lnTo>
                    <a:pt x="7507" y="162"/>
                  </a:lnTo>
                  <a:lnTo>
                    <a:pt x="7373" y="138"/>
                  </a:lnTo>
                  <a:lnTo>
                    <a:pt x="7237" y="116"/>
                  </a:lnTo>
                  <a:lnTo>
                    <a:pt x="7101" y="96"/>
                  </a:lnTo>
                  <a:lnTo>
                    <a:pt x="6964" y="78"/>
                  </a:lnTo>
                  <a:lnTo>
                    <a:pt x="6826" y="62"/>
                  </a:lnTo>
                  <a:lnTo>
                    <a:pt x="6687" y="47"/>
                  </a:lnTo>
                  <a:lnTo>
                    <a:pt x="6548" y="35"/>
                  </a:lnTo>
                  <a:lnTo>
                    <a:pt x="6408" y="24"/>
                  </a:lnTo>
                  <a:lnTo>
                    <a:pt x="6268" y="16"/>
                  </a:lnTo>
                  <a:lnTo>
                    <a:pt x="6128" y="9"/>
                  </a:lnTo>
                  <a:lnTo>
                    <a:pt x="5987" y="4"/>
                  </a:lnTo>
                  <a:lnTo>
                    <a:pt x="5846" y="1"/>
                  </a:lnTo>
                  <a:lnTo>
                    <a:pt x="5705" y="0"/>
                  </a:lnTo>
                  <a:lnTo>
                    <a:pt x="5564" y="1"/>
                  </a:lnTo>
                  <a:lnTo>
                    <a:pt x="5423" y="4"/>
                  </a:lnTo>
                  <a:lnTo>
                    <a:pt x="5282" y="9"/>
                  </a:lnTo>
                  <a:lnTo>
                    <a:pt x="5142" y="15"/>
                  </a:lnTo>
                  <a:lnTo>
                    <a:pt x="5001" y="24"/>
                  </a:lnTo>
                  <a:lnTo>
                    <a:pt x="4862" y="34"/>
                  </a:lnTo>
                  <a:lnTo>
                    <a:pt x="4722" y="47"/>
                  </a:lnTo>
                  <a:lnTo>
                    <a:pt x="4584" y="61"/>
                  </a:lnTo>
                  <a:lnTo>
                    <a:pt x="4446" y="77"/>
                  </a:lnTo>
                  <a:lnTo>
                    <a:pt x="4309" y="96"/>
                  </a:lnTo>
                  <a:lnTo>
                    <a:pt x="4172" y="116"/>
                  </a:lnTo>
                  <a:lnTo>
                    <a:pt x="4037" y="137"/>
                  </a:lnTo>
                  <a:lnTo>
                    <a:pt x="3902" y="161"/>
                  </a:lnTo>
                  <a:lnTo>
                    <a:pt x="3769" y="187"/>
                  </a:lnTo>
                  <a:lnTo>
                    <a:pt x="3637" y="214"/>
                  </a:lnTo>
                  <a:lnTo>
                    <a:pt x="3506" y="243"/>
                  </a:lnTo>
                  <a:lnTo>
                    <a:pt x="3377" y="274"/>
                  </a:lnTo>
                  <a:lnTo>
                    <a:pt x="3249" y="307"/>
                  </a:lnTo>
                  <a:lnTo>
                    <a:pt x="3122" y="341"/>
                  </a:lnTo>
                  <a:lnTo>
                    <a:pt x="2997" y="377"/>
                  </a:lnTo>
                  <a:lnTo>
                    <a:pt x="2874" y="415"/>
                  </a:lnTo>
                  <a:lnTo>
                    <a:pt x="2752" y="455"/>
                  </a:lnTo>
                  <a:lnTo>
                    <a:pt x="2632" y="496"/>
                  </a:lnTo>
                  <a:lnTo>
                    <a:pt x="2514" y="539"/>
                  </a:lnTo>
                  <a:lnTo>
                    <a:pt x="2398" y="583"/>
                  </a:lnTo>
                  <a:lnTo>
                    <a:pt x="2284" y="629"/>
                  </a:lnTo>
                  <a:lnTo>
                    <a:pt x="2173" y="676"/>
                  </a:lnTo>
                  <a:lnTo>
                    <a:pt x="2063" y="725"/>
                  </a:lnTo>
                  <a:lnTo>
                    <a:pt x="1955" y="776"/>
                  </a:lnTo>
                  <a:lnTo>
                    <a:pt x="1850" y="828"/>
                  </a:lnTo>
                  <a:lnTo>
                    <a:pt x="1747" y="881"/>
                  </a:lnTo>
                  <a:lnTo>
                    <a:pt x="1647" y="936"/>
                  </a:lnTo>
                  <a:lnTo>
                    <a:pt x="1549" y="992"/>
                  </a:lnTo>
                  <a:lnTo>
                    <a:pt x="1454" y="1050"/>
                  </a:lnTo>
                  <a:lnTo>
                    <a:pt x="1361" y="1108"/>
                  </a:lnTo>
                  <a:lnTo>
                    <a:pt x="1271" y="1168"/>
                  </a:lnTo>
                  <a:lnTo>
                    <a:pt x="1183" y="1229"/>
                  </a:lnTo>
                  <a:lnTo>
                    <a:pt x="1099" y="1292"/>
                  </a:lnTo>
                  <a:lnTo>
                    <a:pt x="1017" y="1355"/>
                  </a:lnTo>
                  <a:lnTo>
                    <a:pt x="938" y="1420"/>
                  </a:lnTo>
                  <a:lnTo>
                    <a:pt x="862" y="1486"/>
                  </a:lnTo>
                  <a:lnTo>
                    <a:pt x="789" y="1552"/>
                  </a:lnTo>
                  <a:lnTo>
                    <a:pt x="719" y="1620"/>
                  </a:lnTo>
                  <a:lnTo>
                    <a:pt x="652" y="1689"/>
                  </a:lnTo>
                  <a:lnTo>
                    <a:pt x="588" y="1758"/>
                  </a:lnTo>
                  <a:lnTo>
                    <a:pt x="527" y="1828"/>
                  </a:lnTo>
                  <a:lnTo>
                    <a:pt x="469" y="1900"/>
                  </a:lnTo>
                  <a:lnTo>
                    <a:pt x="415" y="1972"/>
                  </a:lnTo>
                  <a:lnTo>
                    <a:pt x="364" y="2044"/>
                  </a:lnTo>
                  <a:lnTo>
                    <a:pt x="316" y="2118"/>
                  </a:lnTo>
                  <a:lnTo>
                    <a:pt x="271" y="2192"/>
                  </a:lnTo>
                  <a:lnTo>
                    <a:pt x="230" y="2266"/>
                  </a:lnTo>
                  <a:lnTo>
                    <a:pt x="192" y="2341"/>
                  </a:lnTo>
                  <a:lnTo>
                    <a:pt x="157" y="2417"/>
                  </a:lnTo>
                  <a:lnTo>
                    <a:pt x="126" y="2493"/>
                  </a:lnTo>
                  <a:lnTo>
                    <a:pt x="98" y="2569"/>
                  </a:lnTo>
                  <a:lnTo>
                    <a:pt x="74" y="2646"/>
                  </a:lnTo>
                  <a:lnTo>
                    <a:pt x="53" y="2723"/>
                  </a:lnTo>
                  <a:lnTo>
                    <a:pt x="36" y="2801"/>
                  </a:lnTo>
                  <a:lnTo>
                    <a:pt x="22" y="2878"/>
                  </a:lnTo>
                  <a:lnTo>
                    <a:pt x="11" y="2956"/>
                  </a:lnTo>
                  <a:lnTo>
                    <a:pt x="4" y="3034"/>
                  </a:lnTo>
                  <a:lnTo>
                    <a:pt x="0" y="3112"/>
                  </a:lnTo>
                  <a:lnTo>
                    <a:pt x="0" y="3190"/>
                  </a:lnTo>
                  <a:lnTo>
                    <a:pt x="4" y="3268"/>
                  </a:lnTo>
                  <a:lnTo>
                    <a:pt x="11" y="3346"/>
                  </a:lnTo>
                  <a:lnTo>
                    <a:pt x="21" y="3423"/>
                  </a:lnTo>
                  <a:lnTo>
                    <a:pt x="35" y="3501"/>
                  </a:lnTo>
                  <a:lnTo>
                    <a:pt x="52" y="3578"/>
                  </a:lnTo>
                  <a:lnTo>
                    <a:pt x="73" y="3655"/>
                  </a:lnTo>
                  <a:lnTo>
                    <a:pt x="97" y="3732"/>
                  </a:lnTo>
                  <a:lnTo>
                    <a:pt x="125" y="3809"/>
                  </a:lnTo>
                  <a:lnTo>
                    <a:pt x="156" y="3885"/>
                  </a:lnTo>
                  <a:lnTo>
                    <a:pt x="191" y="3960"/>
                  </a:lnTo>
                  <a:lnTo>
                    <a:pt x="229" y="4035"/>
                  </a:lnTo>
                  <a:lnTo>
                    <a:pt x="270" y="4110"/>
                  </a:lnTo>
                  <a:lnTo>
                    <a:pt x="314" y="4184"/>
                  </a:lnTo>
                  <a:lnTo>
                    <a:pt x="362" y="4257"/>
                  </a:lnTo>
                  <a:lnTo>
                    <a:pt x="413" y="4330"/>
                  </a:lnTo>
                  <a:lnTo>
                    <a:pt x="468" y="4402"/>
                  </a:lnTo>
                  <a:lnTo>
                    <a:pt x="525" y="4473"/>
                  </a:lnTo>
                  <a:lnTo>
                    <a:pt x="586" y="4544"/>
                  </a:lnTo>
                  <a:lnTo>
                    <a:pt x="650" y="4613"/>
                  </a:lnTo>
                  <a:lnTo>
                    <a:pt x="717" y="4682"/>
                  </a:lnTo>
                  <a:lnTo>
                    <a:pt x="786" y="4749"/>
                  </a:lnTo>
                  <a:lnTo>
                    <a:pt x="859" y="4816"/>
                  </a:lnTo>
                  <a:lnTo>
                    <a:pt x="935" y="4882"/>
                  </a:lnTo>
                  <a:lnTo>
                    <a:pt x="1014" y="4946"/>
                  </a:lnTo>
                  <a:lnTo>
                    <a:pt x="1096" y="5010"/>
                  </a:lnTo>
                  <a:lnTo>
                    <a:pt x="1181" y="5072"/>
                  </a:lnTo>
                  <a:lnTo>
                    <a:pt x="1268" y="5134"/>
                  </a:lnTo>
                  <a:lnTo>
                    <a:pt x="1358" y="5194"/>
                  </a:lnTo>
                  <a:lnTo>
                    <a:pt x="1451" y="5252"/>
                  </a:lnTo>
                  <a:lnTo>
                    <a:pt x="1546" y="5310"/>
                  </a:lnTo>
                  <a:lnTo>
                    <a:pt x="5684" y="8402"/>
                  </a:lnTo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1640" y="3568320"/>
              <a:ext cx="2953800" cy="14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роявление чрезмерной жалости и вседозволенно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788000" y="3284640"/>
            <a:ext cx="4355640" cy="3168360"/>
            <a:chOff x="4788000" y="3284640"/>
            <a:chExt cx="4355640" cy="3168360"/>
          </a:xfrm>
        </p:grpSpPr>
        <p:sp>
          <p:nvSpPr>
            <p:cNvPr id="163" name=""/>
            <p:cNvSpPr/>
            <p:nvPr/>
          </p:nvSpPr>
          <p:spPr>
            <a:xfrm>
              <a:off x="4788000" y="3284640"/>
              <a:ext cx="4355640" cy="3168360"/>
            </a:xfrm>
            <a:custGeom>
              <a:avLst/>
              <a:gdLst/>
              <a:ahLst/>
              <a:rect l="l" t="t" r="r" b="b"/>
              <a:pathLst>
                <a:path w="11603" h="8407">
                  <a:moveTo>
                    <a:pt x="5783" y="8406"/>
                  </a:moveTo>
                  <a:lnTo>
                    <a:pt x="4939" y="6273"/>
                  </a:lnTo>
                  <a:lnTo>
                    <a:pt x="5081" y="6284"/>
                  </a:lnTo>
                  <a:lnTo>
                    <a:pt x="5224" y="6292"/>
                  </a:lnTo>
                  <a:lnTo>
                    <a:pt x="5367" y="6299"/>
                  </a:lnTo>
                  <a:lnTo>
                    <a:pt x="5510" y="6304"/>
                  </a:lnTo>
                  <a:lnTo>
                    <a:pt x="5653" y="6307"/>
                  </a:lnTo>
                  <a:lnTo>
                    <a:pt x="5797" y="6308"/>
                  </a:lnTo>
                  <a:lnTo>
                    <a:pt x="5940" y="6307"/>
                  </a:lnTo>
                  <a:lnTo>
                    <a:pt x="6084" y="6304"/>
                  </a:lnTo>
                  <a:lnTo>
                    <a:pt x="6227" y="6299"/>
                  </a:lnTo>
                  <a:lnTo>
                    <a:pt x="6370" y="6293"/>
                  </a:lnTo>
                  <a:lnTo>
                    <a:pt x="6513" y="6284"/>
                  </a:lnTo>
                  <a:lnTo>
                    <a:pt x="6655" y="6274"/>
                  </a:lnTo>
                  <a:lnTo>
                    <a:pt x="6797" y="6261"/>
                  </a:lnTo>
                  <a:lnTo>
                    <a:pt x="6938" y="6247"/>
                  </a:lnTo>
                  <a:lnTo>
                    <a:pt x="7078" y="6231"/>
                  </a:lnTo>
                  <a:lnTo>
                    <a:pt x="7217" y="6213"/>
                  </a:lnTo>
                  <a:lnTo>
                    <a:pt x="7356" y="6193"/>
                  </a:lnTo>
                  <a:lnTo>
                    <a:pt x="7494" y="6171"/>
                  </a:lnTo>
                  <a:lnTo>
                    <a:pt x="7631" y="6147"/>
                  </a:lnTo>
                  <a:lnTo>
                    <a:pt x="7766" y="6121"/>
                  </a:lnTo>
                  <a:lnTo>
                    <a:pt x="7901" y="6094"/>
                  </a:lnTo>
                  <a:lnTo>
                    <a:pt x="8034" y="6065"/>
                  </a:lnTo>
                  <a:lnTo>
                    <a:pt x="8166" y="6034"/>
                  </a:lnTo>
                  <a:lnTo>
                    <a:pt x="8296" y="6001"/>
                  </a:lnTo>
                  <a:lnTo>
                    <a:pt x="8425" y="5967"/>
                  </a:lnTo>
                  <a:lnTo>
                    <a:pt x="8552" y="5931"/>
                  </a:lnTo>
                  <a:lnTo>
                    <a:pt x="8677" y="5893"/>
                  </a:lnTo>
                  <a:lnTo>
                    <a:pt x="8801" y="5853"/>
                  </a:lnTo>
                  <a:lnTo>
                    <a:pt x="8923" y="5812"/>
                  </a:lnTo>
                  <a:lnTo>
                    <a:pt x="9043" y="5770"/>
                  </a:lnTo>
                  <a:lnTo>
                    <a:pt x="9161" y="5725"/>
                  </a:lnTo>
                  <a:lnTo>
                    <a:pt x="9277" y="5679"/>
                  </a:lnTo>
                  <a:lnTo>
                    <a:pt x="9391" y="5632"/>
                  </a:lnTo>
                  <a:lnTo>
                    <a:pt x="9502" y="5583"/>
                  </a:lnTo>
                  <a:lnTo>
                    <a:pt x="9612" y="5532"/>
                  </a:lnTo>
                  <a:lnTo>
                    <a:pt x="9719" y="5480"/>
                  </a:lnTo>
                  <a:lnTo>
                    <a:pt x="9823" y="5427"/>
                  </a:lnTo>
                  <a:lnTo>
                    <a:pt x="9925" y="5372"/>
                  </a:lnTo>
                  <a:lnTo>
                    <a:pt x="10025" y="5316"/>
                  </a:lnTo>
                  <a:lnTo>
                    <a:pt x="10122" y="5258"/>
                  </a:lnTo>
                  <a:lnTo>
                    <a:pt x="10217" y="5200"/>
                  </a:lnTo>
                  <a:lnTo>
                    <a:pt x="10308" y="5140"/>
                  </a:lnTo>
                  <a:lnTo>
                    <a:pt x="10397" y="5078"/>
                  </a:lnTo>
                  <a:lnTo>
                    <a:pt x="10483" y="5016"/>
                  </a:lnTo>
                  <a:lnTo>
                    <a:pt x="10567" y="4952"/>
                  </a:lnTo>
                  <a:lnTo>
                    <a:pt x="10647" y="4888"/>
                  </a:lnTo>
                  <a:lnTo>
                    <a:pt x="10724" y="4822"/>
                  </a:lnTo>
                  <a:lnTo>
                    <a:pt x="10799" y="4755"/>
                  </a:lnTo>
                  <a:lnTo>
                    <a:pt x="10870" y="4688"/>
                  </a:lnTo>
                  <a:lnTo>
                    <a:pt x="10938" y="4619"/>
                  </a:lnTo>
                  <a:lnTo>
                    <a:pt x="11003" y="4549"/>
                  </a:lnTo>
                  <a:lnTo>
                    <a:pt x="11065" y="4479"/>
                  </a:lnTo>
                  <a:lnTo>
                    <a:pt x="11124" y="4408"/>
                  </a:lnTo>
                  <a:lnTo>
                    <a:pt x="11179" y="4336"/>
                  </a:lnTo>
                  <a:lnTo>
                    <a:pt x="11231" y="4263"/>
                  </a:lnTo>
                  <a:lnTo>
                    <a:pt x="11280" y="4190"/>
                  </a:lnTo>
                  <a:lnTo>
                    <a:pt x="11326" y="4116"/>
                  </a:lnTo>
                  <a:lnTo>
                    <a:pt x="11368" y="4041"/>
                  </a:lnTo>
                  <a:lnTo>
                    <a:pt x="11406" y="3966"/>
                  </a:lnTo>
                  <a:lnTo>
                    <a:pt x="11442" y="3890"/>
                  </a:lnTo>
                  <a:lnTo>
                    <a:pt x="11473" y="3814"/>
                  </a:lnTo>
                  <a:lnTo>
                    <a:pt x="11502" y="3738"/>
                  </a:lnTo>
                  <a:lnTo>
                    <a:pt x="11527" y="3661"/>
                  </a:lnTo>
                  <a:lnTo>
                    <a:pt x="11548" y="3584"/>
                  </a:lnTo>
                  <a:lnTo>
                    <a:pt x="11566" y="3506"/>
                  </a:lnTo>
                  <a:lnTo>
                    <a:pt x="11580" y="3429"/>
                  </a:lnTo>
                  <a:lnTo>
                    <a:pt x="11591" y="3351"/>
                  </a:lnTo>
                  <a:lnTo>
                    <a:pt x="11598" y="3273"/>
                  </a:lnTo>
                  <a:lnTo>
                    <a:pt x="11602" y="3195"/>
                  </a:lnTo>
                  <a:lnTo>
                    <a:pt x="11602" y="3117"/>
                  </a:lnTo>
                  <a:lnTo>
                    <a:pt x="11598" y="3039"/>
                  </a:lnTo>
                  <a:lnTo>
                    <a:pt x="11591" y="2961"/>
                  </a:lnTo>
                  <a:lnTo>
                    <a:pt x="11581" y="2883"/>
                  </a:lnTo>
                  <a:lnTo>
                    <a:pt x="11567" y="2806"/>
                  </a:lnTo>
                  <a:lnTo>
                    <a:pt x="11549" y="2728"/>
                  </a:lnTo>
                  <a:lnTo>
                    <a:pt x="11528" y="2651"/>
                  </a:lnTo>
                  <a:lnTo>
                    <a:pt x="11503" y="2574"/>
                  </a:lnTo>
                  <a:lnTo>
                    <a:pt x="11475" y="2498"/>
                  </a:lnTo>
                  <a:lnTo>
                    <a:pt x="11443" y="2422"/>
                  </a:lnTo>
                  <a:lnTo>
                    <a:pt x="11408" y="2346"/>
                  </a:lnTo>
                  <a:lnTo>
                    <a:pt x="11370" y="2271"/>
                  </a:lnTo>
                  <a:lnTo>
                    <a:pt x="11328" y="2196"/>
                  </a:lnTo>
                  <a:lnTo>
                    <a:pt x="11283" y="2122"/>
                  </a:lnTo>
                  <a:lnTo>
                    <a:pt x="11234" y="2049"/>
                  </a:lnTo>
                  <a:lnTo>
                    <a:pt x="11182" y="1976"/>
                  </a:lnTo>
                  <a:lnTo>
                    <a:pt x="11127" y="1904"/>
                  </a:lnTo>
                  <a:lnTo>
                    <a:pt x="11068" y="1833"/>
                  </a:lnTo>
                  <a:lnTo>
                    <a:pt x="11007" y="1762"/>
                  </a:lnTo>
                  <a:lnTo>
                    <a:pt x="10942" y="1693"/>
                  </a:lnTo>
                  <a:lnTo>
                    <a:pt x="10874" y="1624"/>
                  </a:lnTo>
                  <a:lnTo>
                    <a:pt x="10803" y="1556"/>
                  </a:lnTo>
                  <a:lnTo>
                    <a:pt x="10728" y="1490"/>
                  </a:lnTo>
                  <a:lnTo>
                    <a:pt x="10651" y="1424"/>
                  </a:lnTo>
                  <a:lnTo>
                    <a:pt x="10571" y="1359"/>
                  </a:lnTo>
                  <a:lnTo>
                    <a:pt x="10488" y="1296"/>
                  </a:lnTo>
                  <a:lnTo>
                    <a:pt x="10402" y="1233"/>
                  </a:lnTo>
                  <a:lnTo>
                    <a:pt x="10313" y="1172"/>
                  </a:lnTo>
                  <a:lnTo>
                    <a:pt x="10222" y="1112"/>
                  </a:lnTo>
                  <a:lnTo>
                    <a:pt x="10127" y="1053"/>
                  </a:lnTo>
                  <a:lnTo>
                    <a:pt x="10030" y="995"/>
                  </a:lnTo>
                  <a:lnTo>
                    <a:pt x="9931" y="939"/>
                  </a:lnTo>
                  <a:lnTo>
                    <a:pt x="9829" y="884"/>
                  </a:lnTo>
                  <a:lnTo>
                    <a:pt x="9724" y="831"/>
                  </a:lnTo>
                  <a:lnTo>
                    <a:pt x="9617" y="779"/>
                  </a:lnTo>
                  <a:lnTo>
                    <a:pt x="9508" y="728"/>
                  </a:lnTo>
                  <a:lnTo>
                    <a:pt x="9397" y="679"/>
                  </a:lnTo>
                  <a:lnTo>
                    <a:pt x="9283" y="631"/>
                  </a:lnTo>
                  <a:lnTo>
                    <a:pt x="9167" y="585"/>
                  </a:lnTo>
                  <a:lnTo>
                    <a:pt x="9049" y="541"/>
                  </a:lnTo>
                  <a:lnTo>
                    <a:pt x="8929" y="498"/>
                  </a:lnTo>
                  <a:lnTo>
                    <a:pt x="8808" y="457"/>
                  </a:lnTo>
                  <a:lnTo>
                    <a:pt x="8684" y="417"/>
                  </a:lnTo>
                  <a:lnTo>
                    <a:pt x="8559" y="379"/>
                  </a:lnTo>
                  <a:lnTo>
                    <a:pt x="8432" y="343"/>
                  </a:lnTo>
                  <a:lnTo>
                    <a:pt x="8303" y="308"/>
                  </a:lnTo>
                  <a:lnTo>
                    <a:pt x="8173" y="276"/>
                  </a:lnTo>
                  <a:lnTo>
                    <a:pt x="8041" y="245"/>
                  </a:lnTo>
                  <a:lnTo>
                    <a:pt x="7908" y="215"/>
                  </a:lnTo>
                  <a:lnTo>
                    <a:pt x="7774" y="188"/>
                  </a:lnTo>
                  <a:lnTo>
                    <a:pt x="7638" y="162"/>
                  </a:lnTo>
                  <a:lnTo>
                    <a:pt x="7501" y="139"/>
                  </a:lnTo>
                  <a:lnTo>
                    <a:pt x="7364" y="117"/>
                  </a:lnTo>
                  <a:lnTo>
                    <a:pt x="7225" y="97"/>
                  </a:lnTo>
                  <a:lnTo>
                    <a:pt x="7086" y="78"/>
                  </a:lnTo>
                  <a:lnTo>
                    <a:pt x="6945" y="62"/>
                  </a:lnTo>
                  <a:lnTo>
                    <a:pt x="6804" y="48"/>
                  </a:lnTo>
                  <a:lnTo>
                    <a:pt x="6663" y="35"/>
                  </a:lnTo>
                  <a:lnTo>
                    <a:pt x="6520" y="24"/>
                  </a:lnTo>
                  <a:lnTo>
                    <a:pt x="6378" y="16"/>
                  </a:lnTo>
                  <a:lnTo>
                    <a:pt x="6235" y="9"/>
                  </a:lnTo>
                  <a:lnTo>
                    <a:pt x="6092" y="4"/>
                  </a:lnTo>
                  <a:lnTo>
                    <a:pt x="5948" y="1"/>
                  </a:lnTo>
                  <a:lnTo>
                    <a:pt x="5805" y="0"/>
                  </a:lnTo>
                  <a:lnTo>
                    <a:pt x="5661" y="1"/>
                  </a:lnTo>
                  <a:lnTo>
                    <a:pt x="5518" y="4"/>
                  </a:lnTo>
                  <a:lnTo>
                    <a:pt x="5375" y="9"/>
                  </a:lnTo>
                  <a:lnTo>
                    <a:pt x="5232" y="15"/>
                  </a:lnTo>
                  <a:lnTo>
                    <a:pt x="5089" y="24"/>
                  </a:lnTo>
                  <a:lnTo>
                    <a:pt x="4947" y="34"/>
                  </a:lnTo>
                  <a:lnTo>
                    <a:pt x="4805" y="47"/>
                  </a:lnTo>
                  <a:lnTo>
                    <a:pt x="4664" y="61"/>
                  </a:lnTo>
                  <a:lnTo>
                    <a:pt x="4524" y="77"/>
                  </a:lnTo>
                  <a:lnTo>
                    <a:pt x="4384" y="96"/>
                  </a:lnTo>
                  <a:lnTo>
                    <a:pt x="4245" y="116"/>
                  </a:lnTo>
                  <a:lnTo>
                    <a:pt x="4108" y="137"/>
                  </a:lnTo>
                  <a:lnTo>
                    <a:pt x="3971" y="161"/>
                  </a:lnTo>
                  <a:lnTo>
                    <a:pt x="3835" y="187"/>
                  </a:lnTo>
                  <a:lnTo>
                    <a:pt x="3701" y="214"/>
                  </a:lnTo>
                  <a:lnTo>
                    <a:pt x="3568" y="243"/>
                  </a:lnTo>
                  <a:lnTo>
                    <a:pt x="3436" y="274"/>
                  </a:lnTo>
                  <a:lnTo>
                    <a:pt x="3306" y="307"/>
                  </a:lnTo>
                  <a:lnTo>
                    <a:pt x="3177" y="341"/>
                  </a:lnTo>
                  <a:lnTo>
                    <a:pt x="3050" y="377"/>
                  </a:lnTo>
                  <a:lnTo>
                    <a:pt x="2924" y="415"/>
                  </a:lnTo>
                  <a:lnTo>
                    <a:pt x="2801" y="455"/>
                  </a:lnTo>
                  <a:lnTo>
                    <a:pt x="2679" y="496"/>
                  </a:lnTo>
                  <a:lnTo>
                    <a:pt x="2559" y="539"/>
                  </a:lnTo>
                  <a:lnTo>
                    <a:pt x="2441" y="583"/>
                  </a:lnTo>
                  <a:lnTo>
                    <a:pt x="2325" y="629"/>
                  </a:lnTo>
                  <a:lnTo>
                    <a:pt x="2211" y="676"/>
                  </a:lnTo>
                  <a:lnTo>
                    <a:pt x="2099" y="726"/>
                  </a:lnTo>
                  <a:lnTo>
                    <a:pt x="1990" y="776"/>
                  </a:lnTo>
                  <a:lnTo>
                    <a:pt x="1883" y="828"/>
                  </a:lnTo>
                  <a:lnTo>
                    <a:pt x="1779" y="881"/>
                  </a:lnTo>
                  <a:lnTo>
                    <a:pt x="1676" y="936"/>
                  </a:lnTo>
                  <a:lnTo>
                    <a:pt x="1577" y="992"/>
                  </a:lnTo>
                  <a:lnTo>
                    <a:pt x="1480" y="1050"/>
                  </a:lnTo>
                  <a:lnTo>
                    <a:pt x="1385" y="1109"/>
                  </a:lnTo>
                  <a:lnTo>
                    <a:pt x="1294" y="1169"/>
                  </a:lnTo>
                  <a:lnTo>
                    <a:pt x="1205" y="1230"/>
                  </a:lnTo>
                  <a:lnTo>
                    <a:pt x="1118" y="1292"/>
                  </a:lnTo>
                  <a:lnTo>
                    <a:pt x="1035" y="1356"/>
                  </a:lnTo>
                  <a:lnTo>
                    <a:pt x="955" y="1420"/>
                  </a:lnTo>
                  <a:lnTo>
                    <a:pt x="877" y="1486"/>
                  </a:lnTo>
                  <a:lnTo>
                    <a:pt x="803" y="1553"/>
                  </a:lnTo>
                  <a:lnTo>
                    <a:pt x="732" y="1621"/>
                  </a:lnTo>
                  <a:lnTo>
                    <a:pt x="664" y="1689"/>
                  </a:lnTo>
                  <a:lnTo>
                    <a:pt x="599" y="1759"/>
                  </a:lnTo>
                  <a:lnTo>
                    <a:pt x="537" y="1829"/>
                  </a:lnTo>
                  <a:lnTo>
                    <a:pt x="478" y="1900"/>
                  </a:lnTo>
                  <a:lnTo>
                    <a:pt x="423" y="1972"/>
                  </a:lnTo>
                  <a:lnTo>
                    <a:pt x="370" y="2045"/>
                  </a:lnTo>
                  <a:lnTo>
                    <a:pt x="322" y="2118"/>
                  </a:lnTo>
                  <a:lnTo>
                    <a:pt x="276" y="2192"/>
                  </a:lnTo>
                  <a:lnTo>
                    <a:pt x="234" y="2267"/>
                  </a:lnTo>
                  <a:lnTo>
                    <a:pt x="196" y="2342"/>
                  </a:lnTo>
                  <a:lnTo>
                    <a:pt x="160" y="2418"/>
                  </a:lnTo>
                  <a:lnTo>
                    <a:pt x="129" y="2494"/>
                  </a:lnTo>
                  <a:lnTo>
                    <a:pt x="100" y="2570"/>
                  </a:lnTo>
                  <a:lnTo>
                    <a:pt x="75" y="2647"/>
                  </a:lnTo>
                  <a:lnTo>
                    <a:pt x="54" y="2724"/>
                  </a:lnTo>
                  <a:lnTo>
                    <a:pt x="36" y="2802"/>
                  </a:lnTo>
                  <a:lnTo>
                    <a:pt x="22" y="2879"/>
                  </a:lnTo>
                  <a:lnTo>
                    <a:pt x="11" y="2957"/>
                  </a:lnTo>
                  <a:lnTo>
                    <a:pt x="4" y="3035"/>
                  </a:lnTo>
                  <a:lnTo>
                    <a:pt x="0" y="3113"/>
                  </a:lnTo>
                  <a:lnTo>
                    <a:pt x="0" y="3191"/>
                  </a:lnTo>
                  <a:lnTo>
                    <a:pt x="4" y="3269"/>
                  </a:lnTo>
                  <a:lnTo>
                    <a:pt x="11" y="3347"/>
                  </a:lnTo>
                  <a:lnTo>
                    <a:pt x="21" y="3425"/>
                  </a:lnTo>
                  <a:lnTo>
                    <a:pt x="36" y="3502"/>
                  </a:lnTo>
                  <a:lnTo>
                    <a:pt x="53" y="3580"/>
                  </a:lnTo>
                  <a:lnTo>
                    <a:pt x="74" y="3657"/>
                  </a:lnTo>
                  <a:lnTo>
                    <a:pt x="99" y="3734"/>
                  </a:lnTo>
                  <a:lnTo>
                    <a:pt x="127" y="3810"/>
                  </a:lnTo>
                  <a:lnTo>
                    <a:pt x="159" y="3887"/>
                  </a:lnTo>
                  <a:lnTo>
                    <a:pt x="194" y="3962"/>
                  </a:lnTo>
                  <a:lnTo>
                    <a:pt x="232" y="4037"/>
                  </a:lnTo>
                  <a:lnTo>
                    <a:pt x="274" y="4112"/>
                  </a:lnTo>
                  <a:lnTo>
                    <a:pt x="319" y="4186"/>
                  </a:lnTo>
                  <a:lnTo>
                    <a:pt x="368" y="4259"/>
                  </a:lnTo>
                  <a:lnTo>
                    <a:pt x="420" y="4332"/>
                  </a:lnTo>
                  <a:lnTo>
                    <a:pt x="475" y="4404"/>
                  </a:lnTo>
                  <a:lnTo>
                    <a:pt x="534" y="4475"/>
                  </a:lnTo>
                  <a:lnTo>
                    <a:pt x="595" y="4546"/>
                  </a:lnTo>
                  <a:lnTo>
                    <a:pt x="660" y="4615"/>
                  </a:lnTo>
                  <a:lnTo>
                    <a:pt x="728" y="4684"/>
                  </a:lnTo>
                  <a:lnTo>
                    <a:pt x="799" y="4752"/>
                  </a:lnTo>
                  <a:lnTo>
                    <a:pt x="874" y="4819"/>
                  </a:lnTo>
                  <a:lnTo>
                    <a:pt x="951" y="4884"/>
                  </a:lnTo>
                  <a:lnTo>
                    <a:pt x="1031" y="4949"/>
                  </a:lnTo>
                  <a:lnTo>
                    <a:pt x="1114" y="5013"/>
                  </a:lnTo>
                  <a:lnTo>
                    <a:pt x="1200" y="5075"/>
                  </a:lnTo>
                  <a:lnTo>
                    <a:pt x="1289" y="5136"/>
                  </a:lnTo>
                  <a:lnTo>
                    <a:pt x="1381" y="5196"/>
                  </a:lnTo>
                  <a:lnTo>
                    <a:pt x="1475" y="5255"/>
                  </a:lnTo>
                  <a:lnTo>
                    <a:pt x="1572" y="5313"/>
                  </a:lnTo>
                  <a:lnTo>
                    <a:pt x="5783" y="8406"/>
                  </a:lnTo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25200" y="3631680"/>
              <a:ext cx="308088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Постановка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завышенных требований в сочетании с излишней пунктуальностью, жестокость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635280" y="5445000"/>
            <a:ext cx="1728720" cy="720720"/>
          </a:xfrm>
          <a:custGeom>
            <a:avLst/>
            <a:gdLst/>
            <a:ahLst/>
            <a:rect l="l" t="t" r="r" b="b"/>
            <a:pathLst>
              <a:path w="4800" h="2000">
                <a:moveTo>
                  <a:pt x="0" y="999"/>
                </a:moveTo>
                <a:lnTo>
                  <a:pt x="955" y="0"/>
                </a:lnTo>
                <a:lnTo>
                  <a:pt x="955" y="499"/>
                </a:lnTo>
                <a:lnTo>
                  <a:pt x="3843" y="499"/>
                </a:lnTo>
                <a:lnTo>
                  <a:pt x="3843" y="0"/>
                </a:lnTo>
                <a:lnTo>
                  <a:pt x="4799" y="999"/>
                </a:lnTo>
                <a:lnTo>
                  <a:pt x="3843" y="1999"/>
                </a:lnTo>
                <a:lnTo>
                  <a:pt x="3843" y="1499"/>
                </a:lnTo>
                <a:lnTo>
                  <a:pt x="955" y="1499"/>
                </a:lnTo>
                <a:lnTo>
                  <a:pt x="955" y="1999"/>
                </a:lnTo>
                <a:lnTo>
                  <a:pt x="0" y="999"/>
                </a:lnTo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50976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РЕКОМЕНДАЦИИ РОДИТЕЛЯМ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05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ГРУППА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/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нешняя сторона поведения близких ребенку взрослых люде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Сдерживать свои бурные аффекты. Воспитывайте в себе интерес к глубокому познанию 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Избегайте категоричных слов и выра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Следите за своей реч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00000" y="4292640"/>
            <a:ext cx="1258920" cy="347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900000" y="5516640"/>
            <a:ext cx="1260720" cy="323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971640" y="2852640"/>
            <a:ext cx="1224000" cy="336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940360" y="260280"/>
            <a:ext cx="186228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77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7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77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77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77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77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77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РЕКОМЕНДАЦИИ РОДИТЕЛЯМ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II </a:t>
            </a:r>
            <a:r>
              <a:rPr b="1" lang="en-GB" sz="3200" spc="-1" strike="noStrike">
                <a:solidFill>
                  <a:srgbClr val="008000"/>
                </a:solidFill>
                <a:latin typeface="Times New Roman"/>
              </a:rPr>
              <a:t>ГРУППА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рганизация среды и окружающей обстановки в семь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Постарайтесь выделить для ребёнка комнату или ее часть для занятий, игр, уеди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Составьте распорядок дня вместе с ребен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Определите для ребенка круг его обязан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860400" cy="1366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1081080" cy="36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11280" y="2708280"/>
            <a:ext cx="1046160" cy="349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1280" y="5084640"/>
            <a:ext cx="1152360" cy="38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4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4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4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4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56736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РЕКОМЕНДАЦИИ РОДИТЕЛЯМ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52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III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ГРУПП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тивное взаимодействие ребенка с близким взрослым, на развитие способности, как взрослого, так и ребёнка почувствовать друг друга, сблизиться эмоциональн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Использовать эмоциональные воздействия через интонацию голоса, мимику, же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022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84360" y="4292640"/>
            <a:ext cx="1117440" cy="349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77709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ru-RU" sz="4200" spc="-1" strike="noStrike">
                <a:solidFill>
                  <a:srgbClr val="008000"/>
                </a:solidFill>
                <a:latin typeface="Times New Roman"/>
              </a:rPr>
              <a:t>НЕ ОПУСКАЙТЕ РУК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4753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юбите вашего норовистого ребенка, помогите ему быть успешным, преодолеть школьные труд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МНИТЕ, ч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«…Норовистые дети похожи на розы – им нужен особый уход.    И иногда поранишься о шипы, чтобы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увидеть их красоту»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Мэри Ш. Курчи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227640" y="2557440"/>
            <a:ext cx="223380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77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77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6" dur="77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0" dur="77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44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05-01-15T00:34:16Z</dcterms:modified>
  <cp:revision>30</cp:revision>
  <dc:subject/>
  <dc:title>Гиперактивный ребёнок             в школе    </dc:title>
</cp:coreProperties>
</file>