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C164B-AD1D-488B-84C8-FCB3D9034A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0891CF-15E5-4134-8845-4DC762E03F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2C7CE3-D02E-4C0F-9FAB-5138AFCBA5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79656C-8290-4D2C-A9B0-1DF8A96B3F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A5220C-CC1D-48F3-9EA2-BDAE751D4F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E6534-89A1-48AC-ACF6-7763DA50A6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2924-ECE7-4A42-9F65-371C9E8EC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2E39-6157-4500-8896-4CBCA059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A4E1-7F20-4DF5-811E-C3C36158F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4319-1CF8-40D9-A184-BA629CFDF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2B85-FE65-4560-9C26-A18856D7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B4B6-A903-4525-9747-6BE98351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5904-AE3E-42D2-97C2-A599784B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5E48-3EF3-423C-AA7C-15E08129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DD9D-FEB7-4A6C-8BCF-04AE2EC1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0AE6-41B2-443D-9DBA-D3556F1D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FF12-FCA0-4CF9-9B9B-1A7FA5FB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7946-76F6-4780-BE30-1E02D639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CF7AB88-98CD-4EF2-B070-6DD1138F6A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0000" y="700200"/>
            <a:ext cx="9070920" cy="25574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Мода пушкинской эпохи 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на страницах романа «Евгений Онегин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равнительная характерис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60000" y="1474560"/>
            <a:ext cx="906948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метим, что есть много общего в манере одеваться между автором и героем произведения,Онегиным.Оба носили непромокаемые плащи,накрахмаленные рубашки и жилеты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чтении романа у нас создается впечатление, что Пушкин описывал героя, опираясь на собственный опыт. Например, театр и прогулки по бульвару также были любимым увлечением Александра Сергееви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вестно, что Пушкин тщательно следил за своим туалетом и проводил более 3 часов перед туалетным столи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3" descr=""/>
          <p:cNvPicPr/>
          <p:nvPr/>
        </p:nvPicPr>
        <p:blipFill>
          <a:blip r:embed="rId1"/>
          <a:stretch/>
        </p:blipFill>
        <p:spPr>
          <a:xfrm>
            <a:off x="8209080" y="5219640"/>
            <a:ext cx="1638360" cy="2190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ходе нашего исследования мы выяснил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основные предметы одежды относятся к моде девятнадцатого века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или манеру одеваться Александра Сергеевича Пушкина с одеждой его героя –Евгения Онег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ли опрос и проанализировали, какие предметы одежды  Евгения Онегина запомнились учащим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тоить заметить…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о слово «мода» в романе употреблено автором 84 раз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3" descr=""/>
          <p:cNvPicPr/>
          <p:nvPr/>
        </p:nvPicPr>
        <p:blipFill>
          <a:blip r:embed="rId1"/>
          <a:stretch/>
        </p:blipFill>
        <p:spPr>
          <a:xfrm>
            <a:off x="5832360" y="4373640"/>
            <a:ext cx="3780000" cy="28353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енская м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Объект 3" descr=""/>
          <p:cNvPicPr/>
          <p:nvPr/>
        </p:nvPicPr>
        <p:blipFill>
          <a:blip r:embed="rId1"/>
          <a:stretch/>
        </p:blipFill>
        <p:spPr>
          <a:xfrm>
            <a:off x="754200" y="2351160"/>
            <a:ext cx="8491320" cy="39607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Овал 3"/>
          <p:cNvSpPr/>
          <p:nvPr/>
        </p:nvSpPr>
        <p:spPr>
          <a:xfrm>
            <a:off x="2523960" y="361800"/>
            <a:ext cx="4753080" cy="2087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амужскм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Прямая со стрелкой 5"/>
          <p:cNvCxnSpPr/>
          <p:nvPr/>
        </p:nvCxnSpPr>
        <p:spPr>
          <a:xfrm flipH="1">
            <a:off x="1439280" y="1738440"/>
            <a:ext cx="1129320" cy="131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Прямая со стрелкой 7"/>
          <p:cNvCxnSpPr>
            <a:stCxn id="74" idx="4"/>
            <a:endCxn id="77" idx="0"/>
          </p:cNvCxnSpPr>
          <p:nvPr/>
        </p:nvCxnSpPr>
        <p:spPr>
          <a:xfrm flipH="1">
            <a:off x="3763440" y="2449080"/>
            <a:ext cx="1137600" cy="171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Прямая со стрелкой 9"/>
          <p:cNvCxnSpPr/>
          <p:nvPr/>
        </p:nvCxnSpPr>
        <p:spPr>
          <a:xfrm>
            <a:off x="6735240" y="2165040"/>
            <a:ext cx="769320" cy="12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Прямая со стрелкой 11"/>
          <p:cNvCxnSpPr>
            <a:stCxn id="74" idx="6"/>
          </p:cNvCxnSpPr>
          <p:nvPr/>
        </p:nvCxnSpPr>
        <p:spPr>
          <a:xfrm>
            <a:off x="7277040" y="1406520"/>
            <a:ext cx="1796400" cy="127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Прямая со стрелкой 13"/>
          <p:cNvCxnSpPr>
            <a:stCxn id="74" idx="2"/>
            <a:endCxn id="81" idx="0"/>
          </p:cNvCxnSpPr>
          <p:nvPr/>
        </p:nvCxnSpPr>
        <p:spPr>
          <a:xfrm flipH="1" flipV="1">
            <a:off x="1398240" y="835920"/>
            <a:ext cx="1126080" cy="57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Равнобедренный треугольник 15"/>
          <p:cNvSpPr/>
          <p:nvPr/>
        </p:nvSpPr>
        <p:spPr>
          <a:xfrm>
            <a:off x="2627280" y="4165560"/>
            <a:ext cx="2273400" cy="1695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ретки, бо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Равнобедренный треугольник 16"/>
          <p:cNvSpPr/>
          <p:nvPr/>
        </p:nvSpPr>
        <p:spPr>
          <a:xfrm>
            <a:off x="825480" y="5208480"/>
            <a:ext cx="2243160" cy="1751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Равнобедренный треугольник 17"/>
          <p:cNvSpPr/>
          <p:nvPr/>
        </p:nvSpPr>
        <p:spPr>
          <a:xfrm>
            <a:off x="4781520" y="3819600"/>
            <a:ext cx="2376360" cy="3146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тинки на застежке, сандали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шмач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Равнобедренный треугольник 18"/>
          <p:cNvSpPr/>
          <p:nvPr/>
        </p:nvSpPr>
        <p:spPr>
          <a:xfrm>
            <a:off x="8174160" y="2684520"/>
            <a:ext cx="1655640" cy="1368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ер,ридикюл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о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Равнобедренный треугольник 19"/>
          <p:cNvSpPr/>
          <p:nvPr/>
        </p:nvSpPr>
        <p:spPr>
          <a:xfrm>
            <a:off x="-31680" y="836640"/>
            <a:ext cx="2859120" cy="1368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ча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Равнобедренный треугольник 20"/>
          <p:cNvSpPr/>
          <p:nvPr/>
        </p:nvSpPr>
        <p:spPr>
          <a:xfrm>
            <a:off x="304920" y="3060720"/>
            <a:ext cx="2068560" cy="1295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ляп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Равнобедренный треугольник 21"/>
          <p:cNvSpPr/>
          <p:nvPr/>
        </p:nvSpPr>
        <p:spPr>
          <a:xfrm>
            <a:off x="6289560" y="3368520"/>
            <a:ext cx="2548080" cy="1676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кли на вис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Прямая со стрелкой 23"/>
          <p:cNvCxnSpPr>
            <a:endCxn id="83" idx="0"/>
          </p:cNvCxnSpPr>
          <p:nvPr/>
        </p:nvCxnSpPr>
        <p:spPr>
          <a:xfrm>
            <a:off x="5763960" y="2396880"/>
            <a:ext cx="205560" cy="142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Прямая со стрелкой 25"/>
          <p:cNvCxnSpPr>
            <a:endCxn id="82" idx="0"/>
          </p:cNvCxnSpPr>
          <p:nvPr/>
        </p:nvCxnSpPr>
        <p:spPr>
          <a:xfrm flipH="1">
            <a:off x="1947240" y="2157120"/>
            <a:ext cx="1261080" cy="3051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TextBox 27"/>
          <p:cNvSpPr/>
          <p:nvPr/>
        </p:nvSpPr>
        <p:spPr>
          <a:xfrm>
            <a:off x="3142440" y="958680"/>
            <a:ext cx="303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енская мо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 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1476360" y="5959440"/>
            <a:ext cx="141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ьг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тн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ь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216000" y="250560"/>
            <a:ext cx="906912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1000"/>
          </a:bodyPr>
          <a:p>
            <a:pPr marL="312120" indent="-31212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 второй четверти XIX века силуэт женского платья вновь меняется. Возвращается корсет. Линия талии опустилась на свое естественное место, в ход пошла шнуровка. Юбка и рукава сильно расширились, чтобы талия казалась тоньше. Женская фигура по форме стала напоминать перевернутый бок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плечи набрасывали кашмировые шали, пелерины, боа, которые прикрывали деколь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полнения – зонтики с оборками летом, зимой – муфты, сумочки, перчат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ужская м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Объект 3" descr=""/>
          <p:cNvPicPr/>
          <p:nvPr/>
        </p:nvPicPr>
        <p:blipFill>
          <a:blip r:embed="rId1"/>
          <a:stretch/>
        </p:blipFill>
        <p:spPr>
          <a:xfrm>
            <a:off x="2486160" y="1908000"/>
            <a:ext cx="5232240" cy="51120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Овал 3"/>
          <p:cNvSpPr/>
          <p:nvPr/>
        </p:nvSpPr>
        <p:spPr>
          <a:xfrm>
            <a:off x="2448000" y="466560"/>
            <a:ext cx="4753080" cy="2089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амуж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Прямая со стрелкой 5"/>
          <p:cNvCxnSpPr/>
          <p:nvPr/>
        </p:nvCxnSpPr>
        <p:spPr>
          <a:xfrm flipH="1">
            <a:off x="1829520" y="2190600"/>
            <a:ext cx="1127880" cy="131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Прямая со стрелкой 7"/>
          <p:cNvCxnSpPr/>
          <p:nvPr/>
        </p:nvCxnSpPr>
        <p:spPr>
          <a:xfrm flipH="1">
            <a:off x="4793400" y="2568240"/>
            <a:ext cx="505800" cy="18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Прямая со стрелкой 9"/>
          <p:cNvCxnSpPr>
            <a:endCxn id="98" idx="0"/>
          </p:cNvCxnSpPr>
          <p:nvPr/>
        </p:nvCxnSpPr>
        <p:spPr>
          <a:xfrm>
            <a:off x="7141680" y="1658520"/>
            <a:ext cx="1708920" cy="115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Прямая со стрелкой 13"/>
          <p:cNvCxnSpPr>
            <a:stCxn id="94" idx="2"/>
          </p:cNvCxnSpPr>
          <p:nvPr/>
        </p:nvCxnSpPr>
        <p:spPr>
          <a:xfrm flipH="1">
            <a:off x="1139400" y="1510920"/>
            <a:ext cx="1308960" cy="38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Равнобедренный треугольник 15"/>
          <p:cNvSpPr/>
          <p:nvPr/>
        </p:nvSpPr>
        <p:spPr>
          <a:xfrm>
            <a:off x="3544920" y="4370400"/>
            <a:ext cx="2498760" cy="1701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Равнобедренный треугольник 16"/>
          <p:cNvSpPr/>
          <p:nvPr/>
        </p:nvSpPr>
        <p:spPr>
          <a:xfrm>
            <a:off x="2073240" y="5564160"/>
            <a:ext cx="2098800" cy="1579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Равнобедренный треугольник 17"/>
          <p:cNvSpPr/>
          <p:nvPr/>
        </p:nvSpPr>
        <p:spPr>
          <a:xfrm>
            <a:off x="5695920" y="3736800"/>
            <a:ext cx="2165400" cy="1748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Равнобедренный треугольник 19"/>
          <p:cNvSpPr/>
          <p:nvPr/>
        </p:nvSpPr>
        <p:spPr>
          <a:xfrm>
            <a:off x="-23760" y="1897200"/>
            <a:ext cx="2282760" cy="1368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лин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Равнобедренный треугольник 20"/>
          <p:cNvSpPr/>
          <p:nvPr/>
        </p:nvSpPr>
        <p:spPr>
          <a:xfrm>
            <a:off x="128520" y="3454560"/>
            <a:ext cx="3216240" cy="2366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ость, перчат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тни с камн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Равнобедренный треугольник 21"/>
          <p:cNvSpPr/>
          <p:nvPr/>
        </p:nvSpPr>
        <p:spPr>
          <a:xfrm>
            <a:off x="7662960" y="2808360"/>
            <a:ext cx="2373120" cy="1631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Прямая со стрелкой 23"/>
          <p:cNvCxnSpPr/>
          <p:nvPr/>
        </p:nvCxnSpPr>
        <p:spPr>
          <a:xfrm>
            <a:off x="6419880" y="2335320"/>
            <a:ext cx="310320" cy="142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Прямая со стрелкой 25"/>
          <p:cNvCxnSpPr/>
          <p:nvPr/>
        </p:nvCxnSpPr>
        <p:spPr>
          <a:xfrm flipH="1">
            <a:off x="3122280" y="2555640"/>
            <a:ext cx="954720" cy="294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TextBox 4"/>
          <p:cNvSpPr/>
          <p:nvPr/>
        </p:nvSpPr>
        <p:spPr>
          <a:xfrm>
            <a:off x="3319560" y="1098720"/>
            <a:ext cx="3587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жская мо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 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4235400" y="51022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рак, пантало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6242040" y="4589640"/>
            <a:ext cx="125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ы на цепоч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2662200" y="6402240"/>
            <a:ext cx="12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юрт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8761320" y="3454560"/>
            <a:ext cx="11746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8255160" y="3422520"/>
            <a:ext cx="16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ховые шуб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р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02920" y="323640"/>
            <a:ext cx="9069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8000"/>
          </a:bodyPr>
          <a:p>
            <a:pPr marL="301680" indent="-3016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мужчин самым распространенным головным убором пушкинского времени был цилиндр. Он появился в XVIII веке и позже не раз менял цвет и фор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второй четверти XIX столетия в моду вошла широкополая шляпа – боливар, названная в честь героя освободительного движения Южной Америки Симона Боливара. Такая шляпа означала не просто головной убор, она указывала на либеральные общественные настроения ее владель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полняли мужской костюм перчатки, трость и часы. Перчатки, правда, чаще носили в руках, чем на руках, чтобы не затруднять себя, снимая их. Ситуаций, когда это требовалось, было множество. В перчатках особенно ценились хороший покрой и качественный матери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й модной вещью XVIII – начала XIX века была трость. Трости делали из гибкого дерева, что не давало возможности на них опираться. Их носили в руках или под мышкой исключительно для щеголь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2360" y="404640"/>
            <a:ext cx="756000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Аксессуары 19 ве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4" descr=""/>
          <p:cNvPicPr/>
          <p:nvPr/>
        </p:nvPicPr>
        <p:blipFill>
          <a:blip r:embed="rId1"/>
          <a:stretch/>
        </p:blipFill>
        <p:spPr>
          <a:xfrm>
            <a:off x="3600360" y="2324160"/>
            <a:ext cx="2316240" cy="15080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5" descr=""/>
          <p:cNvPicPr/>
          <p:nvPr/>
        </p:nvPicPr>
        <p:blipFill>
          <a:blip r:embed="rId2"/>
          <a:stretch/>
        </p:blipFill>
        <p:spPr>
          <a:xfrm>
            <a:off x="216000" y="1969920"/>
            <a:ext cx="2879640" cy="24274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6" descr=""/>
          <p:cNvPicPr/>
          <p:nvPr/>
        </p:nvPicPr>
        <p:blipFill>
          <a:blip r:embed="rId3"/>
          <a:stretch/>
        </p:blipFill>
        <p:spPr>
          <a:xfrm>
            <a:off x="6264360" y="2286000"/>
            <a:ext cx="3506760" cy="471636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7" descr=""/>
          <p:cNvPicPr/>
          <p:nvPr/>
        </p:nvPicPr>
        <p:blipFill>
          <a:blip r:embed="rId4"/>
          <a:stretch/>
        </p:blipFill>
        <p:spPr>
          <a:xfrm>
            <a:off x="1994040" y="4788000"/>
            <a:ext cx="2730240" cy="2566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164880"/>
            <a:ext cx="907092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роводили исследование :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47280" y="1223640"/>
            <a:ext cx="633564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фимова Ирина Анатол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щиеся 9 класса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трова Али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увшинникова Али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ачатрян Еле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рнисова Эми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ксессуары 19 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Объект 3" descr=""/>
          <p:cNvPicPr/>
          <p:nvPr/>
        </p:nvPicPr>
        <p:blipFill>
          <a:blip r:embed="rId1"/>
          <a:stretch/>
        </p:blipFill>
        <p:spPr>
          <a:xfrm>
            <a:off x="7589880" y="2627280"/>
            <a:ext cx="2305080" cy="360036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4" descr=""/>
          <p:cNvPicPr/>
          <p:nvPr/>
        </p:nvPicPr>
        <p:blipFill>
          <a:blip r:embed="rId2"/>
          <a:stretch/>
        </p:blipFill>
        <p:spPr>
          <a:xfrm>
            <a:off x="216000" y="1982880"/>
            <a:ext cx="2617560" cy="184608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5" descr=""/>
          <p:cNvPicPr/>
          <p:nvPr/>
        </p:nvPicPr>
        <p:blipFill>
          <a:blip r:embed="rId3"/>
          <a:stretch/>
        </p:blipFill>
        <p:spPr>
          <a:xfrm>
            <a:off x="216000" y="5075280"/>
            <a:ext cx="2576520" cy="216864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6" descr=""/>
          <p:cNvPicPr/>
          <p:nvPr/>
        </p:nvPicPr>
        <p:blipFill>
          <a:blip r:embed="rId4"/>
          <a:stretch/>
        </p:blipFill>
        <p:spPr>
          <a:xfrm>
            <a:off x="3311640" y="2843280"/>
            <a:ext cx="3879720" cy="2766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77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7" dur="770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1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77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6" dur="770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0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77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770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7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9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77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770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6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8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таты, где  употребляется  описание предметов одежды в романе А.С.Пушкина «Евгений Онеги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Овальная выноска 3"/>
          <p:cNvSpPr/>
          <p:nvPr/>
        </p:nvSpPr>
        <p:spPr>
          <a:xfrm rot="21212400">
            <a:off x="5789520" y="1636560"/>
            <a:ext cx="4354560" cy="46562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00"/>
          </a:solidFill>
          <a:ln w="9360">
            <a:solidFill>
              <a:srgbClr val="2626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ьная выноска 12"/>
          <p:cNvSpPr/>
          <p:nvPr/>
        </p:nvSpPr>
        <p:spPr>
          <a:xfrm>
            <a:off x="216000" y="1582560"/>
            <a:ext cx="5325840" cy="50770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2"/>
          <p:cNvSpPr/>
          <p:nvPr/>
        </p:nvSpPr>
        <p:spPr>
          <a:xfrm>
            <a:off x="1260360" y="1979640"/>
            <a:ext cx="5038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сил он русскую рубашк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ток шелковый кушак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мяк татарской на распаш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шляпу с кровлею как 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вижный — Сим убором чуд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нравственным и безрассудным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а весьма огорч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сковская дама Ду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с ней Мизинчиков — Евг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ть может толки презира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вероятно их не зна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все ж своих обыкнов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изменил в угоду 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что был ближним нестерп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6299280" y="2373480"/>
            <a:ext cx="5038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...Вот мой Онегин на свобод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трижен по последней мод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dandy лондонский одет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наконец увидел с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по-французски соверш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г изъясняться и писа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гко мазурку танцев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кланялся непринужден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го ж вам больше? Свет реши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он умен и очень мил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таты, где  употребляется  описание предметов одежды в романе А.С.Пушкина «Евгений Онеги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ьная выноска 3"/>
          <p:cNvSpPr/>
          <p:nvPr/>
        </p:nvSpPr>
        <p:spPr>
          <a:xfrm>
            <a:off x="154080" y="1798560"/>
            <a:ext cx="3446280" cy="28018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00"/>
          </a:solidFill>
          <a:ln w="9360">
            <a:solidFill>
              <a:srgbClr val="2626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7"/>
          <p:cNvSpPr/>
          <p:nvPr/>
        </p:nvSpPr>
        <p:spPr>
          <a:xfrm>
            <a:off x="719280" y="248436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...Корсет носила очень уз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русский Н, как N французск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носить умела в нос...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ьная выноска 8"/>
          <p:cNvSpPr/>
          <p:nvPr/>
        </p:nvSpPr>
        <p:spPr>
          <a:xfrm>
            <a:off x="5332320" y="1544760"/>
            <a:ext cx="3740400" cy="3051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00"/>
          </a:solidFill>
          <a:ln w="9360">
            <a:solidFill>
              <a:srgbClr val="2626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9"/>
          <p:cNvSpPr/>
          <p:nvPr/>
        </p:nvSpPr>
        <p:spPr>
          <a:xfrm>
            <a:off x="5653080" y="2413080"/>
            <a:ext cx="341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Скажи мне, князь, не знаешь 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то там в малиновом бер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ослом испанским говорит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ьная выноска 12"/>
          <p:cNvSpPr/>
          <p:nvPr/>
        </p:nvSpPr>
        <p:spPr>
          <a:xfrm>
            <a:off x="2809800" y="4127400"/>
            <a:ext cx="3240000" cy="26384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4"/>
          <p:cNvSpPr/>
          <p:nvPr/>
        </p:nvSpPr>
        <p:spPr>
          <a:xfrm>
            <a:off x="2840040" y="5186520"/>
            <a:ext cx="424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 славой красных каблуков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еличавых пар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овар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илинд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высокая твердая мужская шляпа с небольшими твердыми полями, верхняя часть которой имеет форму цилинд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ра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мужская одежда, отрезная в талии, с узкими длинными фалдами сзади и вырезанными спереди полами, с отложным воротником и лацканами, часто отделанными бархатом. Но панталоны, фрак, жилет, // Всех этих слов на русском нет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502920" y="395280"/>
            <a:ext cx="9069480" cy="636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335880" indent="-3358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юрту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мужская первоначально верхняя одежда до колен, глухая или с открытой грудью, со стоячим или отложным воротником, в талию, с узкими длинными рукав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прямая тонкая пал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нталон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мужские длинные штаны со штрипками без отворотов и заглаженной складки. Но панталоны, фрак, жилет, // всех этих слов на русском нет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чатк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предмет одежды, закрывающий руки от запястья до конца пальцев и каждый палец в отдель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02920" y="179280"/>
            <a:ext cx="9069480" cy="657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о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женский широкий наплечный шарф из меха или из перьев. Он счастлив, если ей накинет // Боа пушистый на плечо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олива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мужская шляпа с очень широкими полями, род цилиндра. Надев широкий боливар, // Онегин едет на бульвар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е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небольшое ручное складное опахало, в развернутом виде имеющее форму полукруга, необходимая дамская бальная принадлежно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02920" y="108000"/>
            <a:ext cx="9069480" cy="6648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рс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широкий упругий пояс, охватывающий торс и под платьем стягивающий талию. Корсет носила очень узкий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рри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мужское зимнее пальто, имевшее несколько (порой до пятнадцати) больших декоративных воротник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02920" y="1768320"/>
            <a:ext cx="9069480" cy="49881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зультаты опроса учащих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Объект 7"/>
          <p:cNvGraphicFramePr/>
          <p:nvPr/>
        </p:nvGraphicFramePr>
        <p:xfrm>
          <a:off x="452520" y="1717560"/>
          <a:ext cx="9171000" cy="508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Объект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717560"/>
                    <a:ext cx="9171000" cy="50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1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54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 какие же наряды носили дамы и кавалеры того времени?</a:t>
            </a:r>
            <a:br>
              <a:rPr sz="36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этом может помочь французский журнал мод «Маленький дамский вестник»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(Le Petit Courrier des Dam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за 1820 -1833 годы. Иллюстрации моделей одежды оттуда как раз и дают представление о том, во что одевались во времена Пушкина окружавшие его люд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Рисунок 4" descr=""/>
          <p:cNvPicPr/>
          <p:nvPr/>
        </p:nvPicPr>
        <p:blipFill>
          <a:blip r:embed="rId1"/>
          <a:stretch/>
        </p:blipFill>
        <p:spPr>
          <a:xfrm>
            <a:off x="6840360" y="4500720"/>
            <a:ext cx="2570400" cy="2979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66600" y="1490760"/>
            <a:ext cx="99950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новная цель работы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ключается в рассмотрении примеров предмета одежды героев романа , использованных А.С.Пушкиным  в «Евгении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негин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», - важная составная часть работы над текстом произведения  способствует углубленному рассмотрению художественного произведения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рос учащихся 9 и 10 классов;)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Опрос.mpg" descr=""/>
          <p:cNvPicPr/>
          <p:nvPr/>
        </p:nvPicPr>
        <p:blipFill>
          <a:blip r:embed="rId1"/>
          <a:stretch/>
        </p:blipFill>
        <p:spPr>
          <a:xfrm>
            <a:off x="1380960" y="15192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3" dur="12927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75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8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Объект 3" descr=""/>
          <p:cNvPicPr/>
          <p:nvPr/>
        </p:nvPicPr>
        <p:blipFill>
          <a:blip r:embed="rId1"/>
          <a:stretch/>
        </p:blipFill>
        <p:spPr>
          <a:xfrm>
            <a:off x="2540160" y="1851120"/>
            <a:ext cx="5081400" cy="4987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-55440" y="406440"/>
            <a:ext cx="10242360" cy="67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1.Анализировать предметы одежды,   использованные Пушкины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2.Определить значение избранных автором предметов, характеризующих моду определенной эпохи. Соотнести образы героев  с основной идеей произвед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3.Провести литературоведческий анализ</a:t>
            </a: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31640" y="1116000"/>
            <a:ext cx="9071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шкин  сам дает несколько значений понятию «мода» 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В какое-нибудь время в какой-нибудь среде склонность, пристрастие к чему-нибудь и предпочтение, оказываемое кому и чему-нибу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 «Латынь из моды вышла ныне»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Принятая манера одеваться и причесываться («Острижен по последней моде»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Предмет туалета модного покроя («Про вести города, про моды…Беседы с нею не вела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60360" y="971280"/>
            <a:ext cx="64800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332640" indent="-332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Евге́ний Оне́гин» — роман в стихах русского поэта Александра Сергеевича Пушкина, написанный в 1823—1831 годах, одно из самых значительных произведений русской словесн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5" descr=""/>
          <p:cNvPicPr/>
          <p:nvPr/>
        </p:nvPicPr>
        <p:blipFill>
          <a:blip r:embed="rId1"/>
          <a:stretch/>
        </p:blipFill>
        <p:spPr>
          <a:xfrm>
            <a:off x="6192720" y="3449520"/>
            <a:ext cx="3457800" cy="3576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502920" y="539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6000"/>
          </a:bodyPr>
          <a:p>
            <a:pPr marL="294840" indent="-2948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романа, как и из энциклопедии, можно узнать практически всё об эпохе: о том, как одевались, и что было в моде, что люди ценили больше всего, о чём они разговаривали, какими интересами они жили.      В «Евгении Онегине» отразилась вся русская жизнь. Кратко, но довольно ясно, автор показал крепостную деревню, барскую Москву, светский Санкт-Петербург. Пушкин правдиво изобразил ту среду, в которой живут главные герои его романа — Татьяна Ларина и Евгений Онегин, воспроизвёл атмосферу городских дворянских салонов, в которых прошла молодость Онег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502920" y="1767960"/>
            <a:ext cx="906948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Евгений Онегин» переведён на многие языки мир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3" descr=""/>
          <p:cNvPicPr/>
          <p:nvPr/>
        </p:nvPicPr>
        <p:blipFill>
          <a:blip r:embed="rId1"/>
          <a:stretch/>
        </p:blipFill>
        <p:spPr>
          <a:xfrm>
            <a:off x="7459560" y="3503520"/>
            <a:ext cx="2271960" cy="356256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4"/>
          <p:cNvSpPr/>
          <p:nvPr/>
        </p:nvSpPr>
        <p:spPr>
          <a:xfrm>
            <a:off x="719280" y="2901960"/>
            <a:ext cx="684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оссийских, узбекских, казахстанских, киргизских, украинских, молдавских (с изучением русского языка) и белорусских школах «Евгений Онегин» входит в обязательную школьную программу по литерату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ллюстрации к роману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вгений Онегин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. П. Самокиш-Судковск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3" descr=""/>
          <p:cNvPicPr/>
          <p:nvPr/>
        </p:nvPicPr>
        <p:blipFill>
          <a:blip r:embed="rId1"/>
          <a:stretch/>
        </p:blipFill>
        <p:spPr>
          <a:xfrm>
            <a:off x="1622520" y="2557440"/>
            <a:ext cx="2822400" cy="30193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4" descr=""/>
          <p:cNvPicPr/>
          <p:nvPr/>
        </p:nvPicPr>
        <p:blipFill>
          <a:blip r:embed="rId2"/>
          <a:stretch/>
        </p:blipFill>
        <p:spPr>
          <a:xfrm>
            <a:off x="4552920" y="5173560"/>
            <a:ext cx="2611440" cy="22766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5" descr=""/>
          <p:cNvPicPr/>
          <p:nvPr/>
        </p:nvPicPr>
        <p:blipFill>
          <a:blip r:embed="rId3"/>
          <a:stretch/>
        </p:blipFill>
        <p:spPr>
          <a:xfrm>
            <a:off x="5992920" y="2762280"/>
            <a:ext cx="3008160" cy="24112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6" descr=""/>
          <p:cNvPicPr/>
          <p:nvPr/>
        </p:nvPicPr>
        <p:blipFill>
          <a:blip r:embed="rId4"/>
          <a:stretch/>
        </p:blipFill>
        <p:spPr>
          <a:xfrm>
            <a:off x="336600" y="5051520"/>
            <a:ext cx="2398680" cy="23986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7T18:30:47Z</dcterms:created>
  <dc:creator>Ирина Ефимова</dc:creator>
  <dc:description/>
  <dc:language>en-US</dc:language>
  <cp:lastModifiedBy>Nikoly Efimov</cp:lastModifiedBy>
  <dcterms:modified xsi:type="dcterms:W3CDTF">2018-04-06T13:24:09Z</dcterms:modified>
  <cp:revision>51</cp:revision>
  <dc:subject/>
  <dc:title>Мода пушкинской эпохи  на страницах романа «Евгений Онегин»</dc:title>
</cp:coreProperties>
</file>