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D47C0-E0A3-45EC-95B1-875AC9F666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A4D9D-4694-4A27-BDE0-918A62A98A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98BA-BE72-4B44-8240-53A0B4E43B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13FE0-85B7-4394-A8CE-B169C818AA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0AF68-A93D-4B83-9EDC-482BF3EA14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EBE7D-7A04-42C5-B641-DD5308B9D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22B-6FFA-4E3A-B772-40445B2F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9C8-B14E-41D7-A8C4-F915F24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96F-197E-4E86-A717-98789731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D26-079A-4CD2-966E-DF90C3BD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CA0-3918-4169-B705-D820D202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DD8-BE7E-407F-BA36-C4ECFD2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41F-863D-4F19-8147-AFB16972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5E9-95E9-44AC-A05A-9ED6DAC1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E00-9FB3-4D6D-82D7-633E1E3C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59A-403A-46A4-9DBE-7ED97A9C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15A-6D09-466C-ADDD-E6E2D84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9A0-B023-41BA-AD4C-97390C8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6A7FA5-76CC-43B9-9981-EC3468AC07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700200"/>
            <a:ext cx="9070920" cy="2557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ода пушкинской эпохи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 страницах романа «Евгений Онеги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ительная характе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0000" y="1474560"/>
            <a:ext cx="90694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им, что есть много общего в манере одеваться между автором и героем произведения,Онегиным.Оба носили непромокаемые плащи,накрахмаленные рубашки и жилет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чтении романа у нас создается впечатление, что Пушкин описывал героя, опираясь на собственный опыт. Например, театр и прогулки по бульвару также были любимым увлечением Александра Серге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Пушкин тщательно следил за своим туалетом и проводил более 3 часов перед туалетным стол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8209080" y="5219640"/>
            <a:ext cx="1638360" cy="219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ходе нашего исследования мы выясни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основные предметы одежды относятся к моде девятнадцатого 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ли манеру одеваться Александра Сергеевича Пушкина с одеждой его героя –Евгения Оне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ли опрос и проанализировали, какие предметы одежды  Евгения Онегина запомнились уча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оить заметить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 слово «мода» в романе употреблено автором 84 раз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5832360" y="4373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нская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754200" y="2351160"/>
            <a:ext cx="8491320" cy="3960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Овал 3"/>
          <p:cNvSpPr/>
          <p:nvPr/>
        </p:nvSpPr>
        <p:spPr>
          <a:xfrm>
            <a:off x="2523960" y="361800"/>
            <a:ext cx="4753080" cy="20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амужскм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5"/>
          <p:cNvCxnSpPr/>
          <p:nvPr/>
        </p:nvCxnSpPr>
        <p:spPr>
          <a:xfrm flipH="1">
            <a:off x="1439280" y="1738440"/>
            <a:ext cx="1129320" cy="13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Прямая со стрелкой 7"/>
          <p:cNvCxnSpPr>
            <a:stCxn id="74" idx="4"/>
            <a:endCxn id="77" idx="0"/>
          </p:cNvCxnSpPr>
          <p:nvPr/>
        </p:nvCxnSpPr>
        <p:spPr>
          <a:xfrm flipH="1">
            <a:off x="3763440" y="2449080"/>
            <a:ext cx="1137600" cy="17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Прямая со стрелкой 9"/>
          <p:cNvCxnSpPr/>
          <p:nvPr/>
        </p:nvCxnSpPr>
        <p:spPr>
          <a:xfrm>
            <a:off x="6735240" y="2165040"/>
            <a:ext cx="769320" cy="12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Прямая со стрелкой 11"/>
          <p:cNvCxnSpPr>
            <a:stCxn id="74" idx="6"/>
          </p:cNvCxnSpPr>
          <p:nvPr/>
        </p:nvCxnSpPr>
        <p:spPr>
          <a:xfrm>
            <a:off x="7277040" y="1406520"/>
            <a:ext cx="1796400" cy="12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Прямая со стрелкой 13"/>
          <p:cNvCxnSpPr>
            <a:stCxn id="74" idx="2"/>
            <a:endCxn id="81" idx="0"/>
          </p:cNvCxnSpPr>
          <p:nvPr/>
        </p:nvCxnSpPr>
        <p:spPr>
          <a:xfrm flipH="1" flipV="1">
            <a:off x="1398240" y="835920"/>
            <a:ext cx="112608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Равнобедренный треугольник 15"/>
          <p:cNvSpPr/>
          <p:nvPr/>
        </p:nvSpPr>
        <p:spPr>
          <a:xfrm>
            <a:off x="2627280" y="4165560"/>
            <a:ext cx="2273400" cy="1695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тки, бо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авнобедренный треугольник 16"/>
          <p:cNvSpPr/>
          <p:nvPr/>
        </p:nvSpPr>
        <p:spPr>
          <a:xfrm>
            <a:off x="825480" y="5208480"/>
            <a:ext cx="2243160" cy="175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17"/>
          <p:cNvSpPr/>
          <p:nvPr/>
        </p:nvSpPr>
        <p:spPr>
          <a:xfrm>
            <a:off x="4781520" y="3819600"/>
            <a:ext cx="2376360" cy="314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тинки на застежке, сандал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шма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18"/>
          <p:cNvSpPr/>
          <p:nvPr/>
        </p:nvSpPr>
        <p:spPr>
          <a:xfrm>
            <a:off x="8174160" y="2684520"/>
            <a:ext cx="165564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ер,ридикюл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авнобедренный треугольник 19"/>
          <p:cNvSpPr/>
          <p:nvPr/>
        </p:nvSpPr>
        <p:spPr>
          <a:xfrm>
            <a:off x="-31680" y="836640"/>
            <a:ext cx="285912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ч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20"/>
          <p:cNvSpPr/>
          <p:nvPr/>
        </p:nvSpPr>
        <p:spPr>
          <a:xfrm>
            <a:off x="304920" y="3060720"/>
            <a:ext cx="2068560" cy="12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я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21"/>
          <p:cNvSpPr/>
          <p:nvPr/>
        </p:nvSpPr>
        <p:spPr>
          <a:xfrm>
            <a:off x="6289560" y="3368520"/>
            <a:ext cx="2548080" cy="167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ли на вис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23"/>
          <p:cNvCxnSpPr>
            <a:endCxn id="83" idx="0"/>
          </p:cNvCxnSpPr>
          <p:nvPr/>
        </p:nvCxnSpPr>
        <p:spPr>
          <a:xfrm>
            <a:off x="5763960" y="2396880"/>
            <a:ext cx="205560" cy="14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Прямая со стрелкой 25"/>
          <p:cNvCxnSpPr>
            <a:endCxn id="82" idx="0"/>
          </p:cNvCxnSpPr>
          <p:nvPr/>
        </p:nvCxnSpPr>
        <p:spPr>
          <a:xfrm flipH="1">
            <a:off x="1947240" y="2157120"/>
            <a:ext cx="1261080" cy="305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Box 27"/>
          <p:cNvSpPr/>
          <p:nvPr/>
        </p:nvSpPr>
        <p:spPr>
          <a:xfrm>
            <a:off x="3142440" y="958680"/>
            <a:ext cx="303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нская м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476360" y="5959440"/>
            <a:ext cx="14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т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6000" y="250560"/>
            <a:ext cx="9069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торой четверти XIX века силуэт женского платья вновь меняется. Возвращается корсет. Линия талии опустилась на свое естественное место, в ход пошла шнуровка. Юбка и рукава сильно расширились, чтобы талия казалась тоньше. Женская фигура по форме стала напоминать перевернутый бо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лечи набрасывали кашмировые шали, пелерины, боа, которые прикрывали деколь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ения – зонтики с оборками летом, зимой – муфты, сумочки, перч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жская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2486160" y="1908000"/>
            <a:ext cx="5232240" cy="5112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Овал 3"/>
          <p:cNvSpPr/>
          <p:nvPr/>
        </p:nvSpPr>
        <p:spPr>
          <a:xfrm>
            <a:off x="2448000" y="466560"/>
            <a:ext cx="4753080" cy="208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амуж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5"/>
          <p:cNvCxnSpPr/>
          <p:nvPr/>
        </p:nvCxnSpPr>
        <p:spPr>
          <a:xfrm flipH="1">
            <a:off x="1829520" y="2190600"/>
            <a:ext cx="1127880" cy="13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Прямая со стрелкой 7"/>
          <p:cNvCxnSpPr/>
          <p:nvPr/>
        </p:nvCxnSpPr>
        <p:spPr>
          <a:xfrm flipH="1">
            <a:off x="4793400" y="2568240"/>
            <a:ext cx="50580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Прямая со стрелкой 9"/>
          <p:cNvCxnSpPr>
            <a:endCxn id="98" idx="0"/>
          </p:cNvCxnSpPr>
          <p:nvPr/>
        </p:nvCxnSpPr>
        <p:spPr>
          <a:xfrm>
            <a:off x="7141680" y="1658520"/>
            <a:ext cx="1708920" cy="11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Прямая со стрелкой 13"/>
          <p:cNvCxnSpPr>
            <a:stCxn id="94" idx="2"/>
          </p:cNvCxnSpPr>
          <p:nvPr/>
        </p:nvCxnSpPr>
        <p:spPr>
          <a:xfrm flipH="1">
            <a:off x="1139400" y="1510920"/>
            <a:ext cx="130896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Равнобедренный треугольник 15"/>
          <p:cNvSpPr/>
          <p:nvPr/>
        </p:nvSpPr>
        <p:spPr>
          <a:xfrm>
            <a:off x="3544920" y="4370400"/>
            <a:ext cx="2498760" cy="170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Равнобедренный треугольник 16"/>
          <p:cNvSpPr/>
          <p:nvPr/>
        </p:nvSpPr>
        <p:spPr>
          <a:xfrm>
            <a:off x="2073240" y="5564160"/>
            <a:ext cx="2098800" cy="157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17"/>
          <p:cNvSpPr/>
          <p:nvPr/>
        </p:nvSpPr>
        <p:spPr>
          <a:xfrm>
            <a:off x="5695920" y="3736800"/>
            <a:ext cx="2165400" cy="1748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авнобедренный треугольник 19"/>
          <p:cNvSpPr/>
          <p:nvPr/>
        </p:nvSpPr>
        <p:spPr>
          <a:xfrm>
            <a:off x="-23760" y="1897200"/>
            <a:ext cx="228276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20"/>
          <p:cNvSpPr/>
          <p:nvPr/>
        </p:nvSpPr>
        <p:spPr>
          <a:xfrm>
            <a:off x="128520" y="3454560"/>
            <a:ext cx="3216240" cy="2366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сть, перча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тни с кам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21"/>
          <p:cNvSpPr/>
          <p:nvPr/>
        </p:nvSpPr>
        <p:spPr>
          <a:xfrm>
            <a:off x="7662960" y="2808360"/>
            <a:ext cx="2373120" cy="1631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23"/>
          <p:cNvCxnSpPr/>
          <p:nvPr/>
        </p:nvCxnSpPr>
        <p:spPr>
          <a:xfrm>
            <a:off x="6419880" y="2335320"/>
            <a:ext cx="310320" cy="14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Прямая со стрелкой 25"/>
          <p:cNvCxnSpPr/>
          <p:nvPr/>
        </p:nvCxnSpPr>
        <p:spPr>
          <a:xfrm flipH="1">
            <a:off x="3122280" y="2555640"/>
            <a:ext cx="954720" cy="294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TextBox 4"/>
          <p:cNvSpPr/>
          <p:nvPr/>
        </p:nvSpPr>
        <p:spPr>
          <a:xfrm>
            <a:off x="3319560" y="1098720"/>
            <a:ext cx="358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жская м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235400" y="5102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к, пантал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6242040" y="4589640"/>
            <a:ext cx="12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ы на цеп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662200" y="640224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р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761320" y="3454560"/>
            <a:ext cx="1174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55160" y="342252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овые ш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2920" y="3236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ужчин самым распространенным головным убором пушкинского времени был цилиндр. Он появился в XVIII веке и позже не раз менял цвет и фор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торой четверти XIX столетия в моду вошла широкополая шляпа – боливар, названная в честь героя освободительного движения Южной Америки Симона Боливара. Такая шляпа означала не просто головной убор, она указывала на либеральные общественные настроения ее вла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яли мужской костюм перчатки, трость и часы. Перчатки, правда, чаще носили в руках, чем на руках, чтобы не затруднять себя, снимая их. Ситуаций, когда это требовалось, было множество. В перчатках особенно ценились хороший покрой и качествен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й модной вещью XVIII – начала XIX века была трость. Трости делали из гибкого дерева, что не давало возможности на них опираться. Их носили в руках или под мышкой исключительно для щего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2360" y="404640"/>
            <a:ext cx="756000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ксессуары 19 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tretch/>
        </p:blipFill>
        <p:spPr>
          <a:xfrm>
            <a:off x="3600360" y="2324160"/>
            <a:ext cx="2316240" cy="1508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2"/>
          <a:stretch/>
        </p:blipFill>
        <p:spPr>
          <a:xfrm>
            <a:off x="216000" y="1969920"/>
            <a:ext cx="2879640" cy="2427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"/>
          <p:cNvPicPr/>
          <p:nvPr/>
        </p:nvPicPr>
        <p:blipFill>
          <a:blip r:embed="rId3"/>
          <a:stretch/>
        </p:blipFill>
        <p:spPr>
          <a:xfrm>
            <a:off x="6264360" y="2286000"/>
            <a:ext cx="3506760" cy="4716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"/>
          <p:cNvPicPr/>
          <p:nvPr/>
        </p:nvPicPr>
        <p:blipFill>
          <a:blip r:embed="rId4"/>
          <a:stretch/>
        </p:blipFill>
        <p:spPr>
          <a:xfrm>
            <a:off x="1994040" y="4788000"/>
            <a:ext cx="2730240" cy="256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164880"/>
            <a:ext cx="907092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водили исследование :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1223640"/>
            <a:ext cx="6335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фимова Ирин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 9 класс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рова Ал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вшинникова Ал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чатрян Е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рнисова Эм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сессуары 19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1"/>
          <a:stretch/>
        </p:blipFill>
        <p:spPr>
          <a:xfrm>
            <a:off x="7589880" y="2627280"/>
            <a:ext cx="230508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2"/>
          <a:stretch/>
        </p:blipFill>
        <p:spPr>
          <a:xfrm>
            <a:off x="216000" y="1982880"/>
            <a:ext cx="2617560" cy="1846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3"/>
          <a:stretch/>
        </p:blipFill>
        <p:spPr>
          <a:xfrm>
            <a:off x="216000" y="5075280"/>
            <a:ext cx="2576520" cy="2168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"/>
          <p:cNvPicPr/>
          <p:nvPr/>
        </p:nvPicPr>
        <p:blipFill>
          <a:blip r:embed="rId4"/>
          <a:stretch/>
        </p:blipFill>
        <p:spPr>
          <a:xfrm>
            <a:off x="3311640" y="2843280"/>
            <a:ext cx="3879720" cy="2766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таты, где  употребляется  описание предметов одежды в романе А.С.Пушкина «Евгений Онеги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ьная выноска 3"/>
          <p:cNvSpPr/>
          <p:nvPr/>
        </p:nvSpPr>
        <p:spPr>
          <a:xfrm rot="21212400">
            <a:off x="5789520" y="1636560"/>
            <a:ext cx="4354560" cy="4656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ьная выноска 12"/>
          <p:cNvSpPr/>
          <p:nvPr/>
        </p:nvSpPr>
        <p:spPr>
          <a:xfrm>
            <a:off x="216000" y="1582560"/>
            <a:ext cx="5325840" cy="5077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260360" y="1979640"/>
            <a:ext cx="503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ил он русскую рубаш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ок шелковый куша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як татарской на распа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шляпу с кровлею как 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й — Сим убором чу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нравственным и безрассудны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а весьма огор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ковская дама Д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 ней Мизинчиков —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может толки презир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ероятно их не зн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все ж своих обыкнов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зменил в угоду 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что был ближним нестерп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6299280" y="2373480"/>
            <a:ext cx="503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...Вот мой Онегин на своб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ижен по последней м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dandy лондонский одет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конец увидел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-французски соверш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 изъясняться и пис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мазурку танце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ланялся непринужден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го ж вам больше? Свет реш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н умен и очень мил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таты, где  употребляется  описание предметов одежды в романе А.С.Пушкина «Евгений Онеги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ьная выноска 3"/>
          <p:cNvSpPr/>
          <p:nvPr/>
        </p:nvSpPr>
        <p:spPr>
          <a:xfrm>
            <a:off x="154080" y="1798560"/>
            <a:ext cx="3446280" cy="280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719280" y="2484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...Корсет носила очень у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усский Н, как N француз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носить умела в нос..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ьная выноска 8"/>
          <p:cNvSpPr/>
          <p:nvPr/>
        </p:nvSpPr>
        <p:spPr>
          <a:xfrm>
            <a:off x="5332320" y="1544760"/>
            <a:ext cx="3740400" cy="3051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"/>
          <p:cNvSpPr/>
          <p:nvPr/>
        </p:nvSpPr>
        <p:spPr>
          <a:xfrm>
            <a:off x="5653080" y="241308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Скажи мне, князь, не знаешь 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там в малиновом бер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слом испанским говорит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ьная выноска 12"/>
          <p:cNvSpPr/>
          <p:nvPr/>
        </p:nvSpPr>
        <p:spPr>
          <a:xfrm>
            <a:off x="2809800" y="4127400"/>
            <a:ext cx="3240000" cy="2638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>
            <a:off x="2840040" y="5186520"/>
            <a:ext cx="42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лавой красных каблуков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еличавых п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лин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ысокая твердая мужская шляпа с небольшими твердыми полями, верхняя часть которой имеет форму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р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ая одежда, отрезная в талии, с узкими длинными фалдами сзади и вырезанными спереди полами, с отложным воротником и лацканами, часто отделанными бархатом. Но панталоны, фрак, жилет, // Всех этих слов на русском нет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02920" y="395280"/>
            <a:ext cx="9069480" cy="63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юрту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ая первоначально верхняя одежда до колен, глухая или с открытой грудью, со стоячим или отложным воротником, в талию, с узкими длинными рука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ямая тонкая пал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нтало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ие длинные штаны со штрипками без отворотов и заглаженной складки. Но панталоны, фрак, жилет, // всех этих слов на русском не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чатк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едмет одежды, закрывающий руки от запястья до конца пальцев и каждый палец в отд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2920" y="179280"/>
            <a:ext cx="9069480" cy="657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женский широкий наплечный шарф из меха или из перьев. Он счастлив, если ей накинет // Боа пушистый на плечо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ив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ая шляпа с очень широкими полями, род цилиндра. Надев широкий боливар, // Онегин едет на бульвар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большое ручное складное опахало, в развернутом виде имеющее форму полукруга, необходимая дамская бальная принадлеж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02920" y="108000"/>
            <a:ext cx="9069480" cy="664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с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широкий упругий пояс, охватывающий торс и под платьем стягивающий талию. Корсет носила очень уз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ое зимнее пальто, имевшее несколько (порой до пятнадцати) больших декоративных ворот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опроса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Объект 7"/>
          <p:cNvGraphicFramePr/>
          <p:nvPr/>
        </p:nvGraphicFramePr>
        <p:xfrm>
          <a:off x="452520" y="1717560"/>
          <a:ext cx="91710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717560"/>
                    <a:ext cx="91710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какие же наряды носили дамы и кавалеры того времени?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может помочь французский журнал мод «Маленький дамский вестник»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Le Petit Courrier des Da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 1820 -1833 годы. Иллюстрации моделей одежды оттуда как раз и дают представление о том, во что одевались во времена Пушкина окружавшие его лю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tretch/>
        </p:blipFill>
        <p:spPr>
          <a:xfrm>
            <a:off x="6840360" y="4500720"/>
            <a:ext cx="2570400" cy="2979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6600" y="1490760"/>
            <a:ext cx="99950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ая цель работы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лючается в рассмотрении примеров предмета одежды героев романа , использованных А.С.Пушкиным  в «Евг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еги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, - важная составная часть работы над текстом произведения  способствует углубленному рассмотрению художественного произведения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ос учащихся 9 и 10 классов;)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Опрос.mpg" descr=""/>
          <p:cNvPicPr/>
          <p:nvPr/>
        </p:nvPicPr>
        <p:blipFill>
          <a:blip r:embed="rId1"/>
          <a:stretch/>
        </p:blipFill>
        <p:spPr>
          <a:xfrm>
            <a:off x="1380960" y="15192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2927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8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2540160" y="1851120"/>
            <a:ext cx="5081400" cy="498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-55440" y="406440"/>
            <a:ext cx="10242360" cy="67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1.Анализировать предметы одежды,   использованные Пушки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2.Определить значение избранных автором предметов, характеризующих моду определенной эпохи. Соотнести образы героев  с основной идеей произ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3.Провести литературоведческий анализ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1640" y="1116000"/>
            <a:ext cx="9071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 сам дает несколько значений понятию «мода»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 какое-нибудь время в какой-нибудь среде склонность, пристрастие к чему-нибудь и предпочтение, оказываемое кому и чему-ниб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«Латынь из моды вышла ныне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нятая манера одеваться и причесываться («Острижен по последней моде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едмет туалета модного покроя («Про вести города, про моды…Беседы с нею не вел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60360" y="971280"/>
            <a:ext cx="64800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Евге́ний Оне́гин» — роман в стихах русского поэта Александра Сергеевича Пушкина, написанный в 1823—1831 годах, одно из самых значительных произведений русской словес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"/>
          <p:cNvPicPr/>
          <p:nvPr/>
        </p:nvPicPr>
        <p:blipFill>
          <a:blip r:embed="rId1"/>
          <a:stretch/>
        </p:blipFill>
        <p:spPr>
          <a:xfrm>
            <a:off x="6192720" y="3449520"/>
            <a:ext cx="3457800" cy="3576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2920" y="539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6000"/>
          </a:bodyPr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романа, как и из энциклопедии, можно узнать практически всё об эпохе: о том, как одевались, и что было в моде, что люди ценили больше всего, о чём они разговаривали, какими интересами они жили.      В «Евгении Онегине» отразилась вся русская жизнь. Кратко, но довольно ясно, автор показал крепостную деревню, барскую Москву, светский Санкт-Петербург. Пушкин правдиво изобразил ту среду, в которой живут главные герои его романа — Татьяна Ларина и Евгений Онегин, воспроизвёл атмосферу городских дворянских салонов, в которых прошла молодость Оне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2920" y="1767960"/>
            <a:ext cx="906948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Евгений Онегин» переведён на многие языки ми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7459560" y="3503520"/>
            <a:ext cx="2271960" cy="3562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719280" y="2901960"/>
            <a:ext cx="68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йских, узбекских, казахстанских, киргизских, украинских, молдавских (с изучением русского языка) и белорусских школах «Евгений Онегин» входит в обязательную школьную программу по литера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ллюстрации к роман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. П. Самокиш-Судков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1622520" y="2557440"/>
            <a:ext cx="2822400" cy="30193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4552920" y="5173560"/>
            <a:ext cx="2611440" cy="2276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"/>
          <p:cNvPicPr/>
          <p:nvPr/>
        </p:nvPicPr>
        <p:blipFill>
          <a:blip r:embed="rId3"/>
          <a:stretch/>
        </p:blipFill>
        <p:spPr>
          <a:xfrm>
            <a:off x="5992920" y="2762280"/>
            <a:ext cx="3008160" cy="2411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"/>
          <p:cNvPicPr/>
          <p:nvPr/>
        </p:nvPicPr>
        <p:blipFill>
          <a:blip r:embed="rId4"/>
          <a:stretch/>
        </p:blipFill>
        <p:spPr>
          <a:xfrm>
            <a:off x="336600" y="5051520"/>
            <a:ext cx="2398680" cy="2398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8:30:47Z</dcterms:created>
  <dc:creator>Ирина Ефимова</dc:creator>
  <dc:description/>
  <dc:language>en-US</dc:language>
  <cp:lastModifiedBy>Nikoly Efimov</cp:lastModifiedBy>
  <dcterms:modified xsi:type="dcterms:W3CDTF">2018-04-06T13:24:09Z</dcterms:modified>
  <cp:revision>51</cp:revision>
  <dc:subject/>
  <dc:title>Мода пушкинской эпохи  на страницах романа «Евгений Онегин»</dc:title>
</cp:coreProperties>
</file>