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460-FA6A-4234-95EC-6395E191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9EC-B7BA-4450-AD55-03FCCB6D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9E0-B7EF-4FF5-8243-02078C6F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116-7435-4619-8184-F1A4447A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F449-5962-4486-9FD0-25A4279D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ADB4-44D3-4EB3-85A4-E585D919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9BF-32D2-4A7D-8911-80EBCBB6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DE0-3C2E-4423-A903-62DAB086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989-EDE2-4C2D-AA37-88CD78EE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243-7CF6-4D49-B05B-8DA84F83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94C-C721-4845-9CD5-306170B3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3DC-1603-48A4-ACA1-1AE571B0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DCCF-3881-45DE-A98C-0FE720BEE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58672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униципальное бюджетное дошкольное образовательное учреждение Центр развития ребенка – детский сад №3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2819520"/>
            <a:ext cx="35812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узьм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дежда Игор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дагог-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рвая квалификационная катег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IMAG0548-1"/>
          <p:cNvPicPr/>
          <p:nvPr/>
        </p:nvPicPr>
        <p:blipFill>
          <a:blip r:embed="rId1"/>
          <a:stretch/>
        </p:blipFill>
        <p:spPr>
          <a:xfrm>
            <a:off x="6019920" y="2666880"/>
            <a:ext cx="2523960" cy="312444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2880" y="1523520"/>
            <a:ext cx="373392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Надя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 словно мысль читает,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Взглянет лишь – и сразу знает,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Как проблемы устранить,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Успокоить, научить.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Без психолога, друзья,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В детском садике нельзя!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Воспитатели и няни –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Все бежим мы к ней не зря.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От проблем нас всех избавит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Наш психолог – идеал!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Жизнь нас всех любить заставит,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Надя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 – профессионал!!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520" y="456840"/>
            <a:ext cx="3124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В детском садике у н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Есть психолог – высший класс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Если что-то вдруг случи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Можем к ней мы  обратитьс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Если психика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Нам внушает дикий стр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Мы бежим к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Надежде </a:t>
            </a: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наш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«Объясни нам, что да ка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столкуй и то, и эт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Персональный сделай тес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Дай родителям ответ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Почему их сын не ест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IMAG0649"/>
          <p:cNvPicPr/>
          <p:nvPr/>
        </p:nvPicPr>
        <p:blipFill>
          <a:blip r:embed="rId1"/>
          <a:stretch/>
        </p:blipFill>
        <p:spPr>
          <a:xfrm>
            <a:off x="2286000" y="1371600"/>
            <a:ext cx="2479680" cy="414504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  <p:pic>
        <p:nvPicPr>
          <p:cNvPr id="46" name="Picture 5" descr="IMAG0629"/>
          <p:cNvPicPr/>
          <p:nvPr/>
        </p:nvPicPr>
        <p:blipFill>
          <a:blip r:embed="rId2"/>
          <a:stretch/>
        </p:blipFill>
        <p:spPr>
          <a:xfrm>
            <a:off x="5970600" y="1981080"/>
            <a:ext cx="2411280" cy="403236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040" y="91404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-Победитель в номинации «Педагогическое призвание» в районном конкурсе «Учебное занятие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XXI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века»2009 г.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-Призер районного этапа городского конкурса профессионального мастерства педагогов-психологов, 2011 г. (3 место);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5120" y="289512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-Призер районного этапа городского конкурса «Фестиваль идей»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2011 г.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IMG_0504"/>
          <p:cNvPicPr/>
          <p:nvPr/>
        </p:nvPicPr>
        <p:blipFill>
          <a:blip r:embed="rId1"/>
          <a:stretch/>
        </p:blipFill>
        <p:spPr>
          <a:xfrm>
            <a:off x="6019920" y="2895480"/>
            <a:ext cx="2570040" cy="342900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-Победитель районного этапа городского конкурса «Лучший кабинет педагога психолога»,2012 г. (1 мест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SC_0039"/>
          <p:cNvPicPr/>
          <p:nvPr/>
        </p:nvPicPr>
        <p:blipFill>
          <a:blip r:embed="rId1"/>
          <a:stretch/>
        </p:blipFill>
        <p:spPr>
          <a:xfrm>
            <a:off x="2819520" y="2259000"/>
            <a:ext cx="5638680" cy="37638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274680"/>
            <a:ext cx="655308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«Современная модель комфортной адаптации детей в условиях ДОУ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AG0698"/>
          <p:cNvPicPr/>
          <p:nvPr/>
        </p:nvPicPr>
        <p:blipFill>
          <a:blip r:embed="rId1"/>
          <a:stretch/>
        </p:blipFill>
        <p:spPr>
          <a:xfrm>
            <a:off x="2879640" y="2057400"/>
            <a:ext cx="2343240" cy="39164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55" name="Picture 5" descr="IMAG0700"/>
          <p:cNvPicPr/>
          <p:nvPr/>
        </p:nvPicPr>
        <p:blipFill>
          <a:blip r:embed="rId2"/>
          <a:stretch/>
        </p:blipFill>
        <p:spPr>
          <a:xfrm>
            <a:off x="5867280" y="2057400"/>
            <a:ext cx="2370240" cy="39625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Развитие творческих способностей с помощью сказкотерпии, как фактор социализации личности ребенка дошкольного возрас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Picture 4" descr="IMAG0873"/>
          <p:cNvPicPr/>
          <p:nvPr/>
        </p:nvPicPr>
        <p:blipFill>
          <a:blip r:embed="rId1"/>
          <a:stretch/>
        </p:blipFill>
        <p:spPr>
          <a:xfrm>
            <a:off x="2514600" y="2590920"/>
            <a:ext cx="5689440" cy="340344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МБДОУ ЦРР №366 -12 груп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AG0798"/>
          <p:cNvPicPr/>
          <p:nvPr/>
        </p:nvPicPr>
        <p:blipFill>
          <a:blip r:embed="rId1"/>
          <a:stretch/>
        </p:blipFill>
        <p:spPr>
          <a:xfrm>
            <a:off x="2743200" y="1981080"/>
            <a:ext cx="5689440" cy="340380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MAG0822"/>
          <p:cNvPicPr/>
          <p:nvPr/>
        </p:nvPicPr>
        <p:blipFill>
          <a:blip r:embed="rId1"/>
          <a:stretch/>
        </p:blipFill>
        <p:spPr>
          <a:xfrm>
            <a:off x="2819520" y="1752480"/>
            <a:ext cx="2023920" cy="338292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  <p:pic>
        <p:nvPicPr>
          <p:cNvPr id="63" name="Picture 5" descr="IMAG0828"/>
          <p:cNvPicPr/>
          <p:nvPr/>
        </p:nvPicPr>
        <p:blipFill>
          <a:blip r:embed="rId2"/>
          <a:stretch/>
        </p:blipFill>
        <p:spPr>
          <a:xfrm>
            <a:off x="6019920" y="2666880"/>
            <a:ext cx="2089080" cy="349272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Фото 3"/>
          <p:cNvPicPr/>
          <p:nvPr/>
        </p:nvPicPr>
        <p:blipFill>
          <a:blip r:embed="rId1"/>
          <a:stretch/>
        </p:blipFill>
        <p:spPr>
          <a:xfrm>
            <a:off x="1676520" y="2438280"/>
            <a:ext cx="2276280" cy="170676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  <p:pic>
        <p:nvPicPr>
          <p:cNvPr id="67" name="Picture 10" descr="Фото 2"/>
          <p:cNvPicPr/>
          <p:nvPr/>
        </p:nvPicPr>
        <p:blipFill>
          <a:blip r:embed="rId2"/>
          <a:stretch/>
        </p:blipFill>
        <p:spPr>
          <a:xfrm>
            <a:off x="6400800" y="2438280"/>
            <a:ext cx="2276640" cy="170676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  <p:pic>
        <p:nvPicPr>
          <p:cNvPr id="68" name="Picture 11" descr="4"/>
          <p:cNvPicPr/>
          <p:nvPr/>
        </p:nvPicPr>
        <p:blipFill>
          <a:blip r:embed="rId3"/>
          <a:stretch/>
        </p:blipFill>
        <p:spPr>
          <a:xfrm>
            <a:off x="4114800" y="1371600"/>
            <a:ext cx="2143080" cy="358128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ДОУ-2</cp:lastModifiedBy>
  <dcterms:modified xsi:type="dcterms:W3CDTF">2018-04-06T05:32:2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