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45F-989B-4FBB-A6E8-DCD92DB7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3B6-6DD1-40E5-B508-CC51E3C5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C8C-152E-427D-89E5-F3BE7C53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613-2853-4BB4-B377-8601E1BB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E64-15B5-4A49-82E9-11EF602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040-FA75-47F4-8350-6B194271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A2-2C3B-438C-93DF-C5D1345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3FF-F7F2-4B19-B7B1-E58F85E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F3A-7911-48C4-9D06-191A9F0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66F-173C-4E02-B781-749D6D7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6D9-F5C5-43C4-8CC9-571FDCD4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EE3-4EFA-4366-9434-9076841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70D436-1F7C-443E-96AE-925507C6C2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ытно – экспериментальная деятельнос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«Наша спутница ВОД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рпичникова Елена Анатольев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 МАДОУ детский сад № 17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1: «Вода и снег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6160" y="1357200"/>
            <a:ext cx="4400280" cy="50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закрепить знания о различных состояниях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едерки с рыхлым снегом, с утрамбованным снегом, льдом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одно ведерко поместить рыхлый снег, во второе – утрамбованный, в третье – ле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ыхлый снег растает первым, затем – утрамбованный, лед растает последни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24840" y="1321560"/>
            <a:ext cx="4571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Свойства снег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знакомить детей со свойствами снег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о снего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ассматривание емкость со снегом. Скажите, какой снег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нег белый, холодный, колючий, мокрый, рассыпчатый, легкий, хрустящий, блестящий, сверкающий и т. 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-1080" y="1149120"/>
            <a:ext cx="4827600" cy="271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Лед – какой он?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29040" y="1600200"/>
            <a:ext cx="47574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знакомить детей со льд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о льдо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Рассматривание емкость со льдом. Скажите, какой лёд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Лёд твердый, гладкий, холод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0160" y="1340640"/>
            <a:ext cx="422424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5: «Лёд в воде плавает или тонет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57800" y="1571760"/>
            <a:ext cx="43714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ыяснит лёд в воде плавает или тоне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Ёмкость с водой, лё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ложить лёд в ёмкость с водой. Что происходит со льдом в воде? Давайте проверим. Он плавает или тонет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Лёд в воде плавае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-32040" y="1407960"/>
            <a:ext cx="4187520" cy="23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звитие у детей интереса к познанию и личностного стремления к практическому исследованию важнейшего составляющего среды обитания – вод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ивать интерес к экспериментальной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ать детям о значении воды в нашей жиз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детей понимать необходимость бережного отношения к воде, как к природному ресурс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ять знания детей о различных состояниях воды в окружающей сре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проведения эксперимент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ка пробл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путей решения пробл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наблюд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е увиденных результат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ка выво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1: «Цвет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29080" y="1214280"/>
            <a:ext cx="42573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 имеет ли цвет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канов с водой, Стакан с молоком, карандаш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оба стаканчика положить карандаши. В каком из стаканчиков они видны, а в каком нет? Почему? (Перед нами молоко и вода, в стаканчике с водой мы видим карандаш, а в стаканчике с молоком – нет)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да бесцветна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200" y="1052640"/>
            <a:ext cx="4431600" cy="30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2: «Вода  растворитель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0720" y="1571760"/>
            <a:ext cx="4228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казать детям растворимость веществ в во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Емкости с водой,   солью, сахаром, ложеч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оспитатель предлагает аккуратно высыпать или положить вещества в воду и размешать ложечкой, а затем показать и рассказать, что у кого получилос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Вода растворитель, но не для всех вещест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1257480"/>
            <a:ext cx="471924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3: «Вкус воды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71960" y="1071720"/>
            <a:ext cx="458604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 имеет ли вкус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, три стакана, соль, сахар, ложе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осить перед опытом, какого вкуса вода. После этого дать детям попробовать простую кипяченую воду. Затем положите в один стакан соль. В другой сахар, размешайте и дайте попробовать детям. Какой вкус теперь приобрела вод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ода не имеет вкуса, а принимает вкус того вещества, которое в нее добавлен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1340640"/>
            <a:ext cx="43156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4: «Запах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57760" y="1214280"/>
            <a:ext cx="4828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ыяснить имеет ли запах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такан воды,коф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осите детей, чем пахнет вода? После ответов попросите их понюхать простую .Затем капните в один из стаканов кофе. А теперь чем пахнет вод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 не имеет запаха, она пахнет тем веществом, которое в нее добавлен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-18360" y="1386720"/>
            <a:ext cx="4059720" cy="22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№ 5: «Форма вод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7800" y="1285920"/>
            <a:ext cx="43286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знакомить детей с формой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олько прозрачных сосудов разной формы, во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цесс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озрачные сосуды разной формы налить воды и показать детям, что вода принимает форму сосу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то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да не имеет формы и принимает форму того сосуда, в который она нали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1417680"/>
            <a:ext cx="447156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е «Знакомство со свойствами снега и льда»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представление детей о снеге и его свойствах, о зимних явлен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льдом и его свойствами (гладкий, прозрачный, холодный, твердый)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устанавливать элементарные причинно-следственные связи: снег в тепле тает и превращается в воду; на морозе вода замерзает и превращается в ле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  <Words>642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8:29:11Z</dcterms:created>
  <dc:creator>User</dc:creator>
  <dc:description/>
  <dc:language>en-US</dc:language>
  <cp:lastModifiedBy>Павел</cp:lastModifiedBy>
  <dcterms:modified xsi:type="dcterms:W3CDTF">2018-04-02T13:03:33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