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0442-FBDF-4C59-9AC9-8720C466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0956-CCC2-4EB5-BF19-84C71DF0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5F6D-021C-41C1-83D4-E99801FE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4407-7A22-4A6A-B116-48E6EED3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AA9D-2E17-4EDE-AE97-02F98EA0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A3A1-0B96-42C9-AF05-9536F0CD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0054-77BE-4070-89D0-2BC3860D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39FF-8D73-44DC-A659-1EB2D509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E493-AE1B-496C-B2E2-2ECD6321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E94-D7CC-4649-B4B0-3806DFF8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73E4-38E6-4E56-9366-86869CBF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73BD-F002-418D-8A80-6151D11C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BC1E-D053-43AD-B916-F6F7626648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1785960"/>
            <a:ext cx="8072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br>
              <a:rPr sz="4800"/>
            </a:br>
            <a:r>
              <a:rPr b="1" i="1" lang="en-US" sz="9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ноголикая</a:t>
            </a:r>
            <a:br>
              <a:rPr sz="9600"/>
            </a:br>
            <a:r>
              <a:rPr b="1" i="1" lang="en-US" sz="9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разилия».</a:t>
            </a:r>
            <a:br>
              <a:rPr sz="40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s://im2-tub-ru.yandex.net/i?id=eed02f04601fe89b107c2e249f11d634&amp;n=33&amp;h=215&amp;w=323"/>
          <p:cNvPicPr/>
          <p:nvPr/>
        </p:nvPicPr>
        <p:blipFill>
          <a:blip r:embed="rId2"/>
          <a:stretch/>
        </p:blipFill>
        <p:spPr>
          <a:xfrm>
            <a:off x="1403280" y="1844640"/>
            <a:ext cx="4714920" cy="313848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6572160" y="4286160"/>
            <a:ext cx="171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cs11289.vk.me/u1302700/148233341/x_8b8e2a35.jpg"/>
          <p:cNvPicPr/>
          <p:nvPr/>
        </p:nvPicPr>
        <p:blipFill>
          <a:blip r:embed="rId2"/>
          <a:stretch/>
        </p:blipFill>
        <p:spPr>
          <a:xfrm>
            <a:off x="214200" y="928800"/>
            <a:ext cx="4753080" cy="575316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7429680" y="214200"/>
            <a:ext cx="157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5712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Домашнее задание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раграф 30, составить кроссворд по Бразилии, используя любое ключевое слово. (Например: Бразилия; Карнавал и др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урока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главные особенности природы, населения и хозяйственной деятельность Бразил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ся с особенностями географического положения и природы Бразилии, определить причины, обуславливающие ее разнообраз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я работать с картой, описывать географическое положение страны и других объект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умение работать в коллективе, чувства любви к природе, повысить познавательный интерес к предмет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«Знаю – Хочу знать – Узнал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14200" y="857160"/>
          <a:ext cx="8715600" cy="603108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ХОЧУ ЗН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УЗ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Бразилия  это футбол, влажные экваториальные  леса, Амазо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 Столица стр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 Город Бразили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8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Родина карнавал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 С какими странами граничит Бразили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 Страна граничит со всеми странами, за исключением Чили и Эквадо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Бразилия это страна с удивительными песчаными пляж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 Каковы особенности природы страны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 Климат страны влажный. Основную часть территории страны занимают влажные экваториальные лес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В Бразилии имеются уникальные тропические лес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. В каких климатических поясах расположена стран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. В экваториальном, субэкваториальном и тропическ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трана родина кака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. Чем характеризуется хозяйственная деятельность Бразили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. В стране бурно развито сельское хозяйство и промышленность. Добывают полезные ископаемые – железные руды, золото, алюминий  и друг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Коренные жители страны – индейц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. Где сосредоточена большая часть населения Бразили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. Большая часть населения сосредоточена около побережья Атлантического океана, в восточной части стра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еред вами «Азбука», в которой представлены природные и хозяйственные объекты Бразил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285840" y="3071880"/>
            <a:ext cx="857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те что вам известно о данных объектах. Пользуясь текстом параграфа и атласом, дать краткую характеристику, каждому из перечисленных объ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428760" y="0"/>
            <a:ext cx="92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32360" y="260280"/>
            <a:ext cx="111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www.qptour.ru/content/countries/ibrasil.gif"/>
          <p:cNvPicPr/>
          <p:nvPr/>
        </p:nvPicPr>
        <p:blipFill>
          <a:blip r:embed="rId3"/>
          <a:stretch/>
        </p:blipFill>
        <p:spPr>
          <a:xfrm>
            <a:off x="4788000" y="1413000"/>
            <a:ext cx="399708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files.vividscreen.info/soft/4347ff56e97cf12aea283b3e937e1f1c/Water-Lilies-1024x1024.jpg"/>
          <p:cNvPicPr/>
          <p:nvPr/>
        </p:nvPicPr>
        <p:blipFill>
          <a:blip r:embed="rId2"/>
          <a:stretch/>
        </p:blipFill>
        <p:spPr>
          <a:xfrm>
            <a:off x="1763640" y="765000"/>
            <a:ext cx="3360960" cy="3241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468360" y="333360"/>
            <a:ext cx="102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://www.lewallpaper.com/newresolution/1440x900-jungle-forest-hd-wallpaper.jpg"/>
          <p:cNvPicPr/>
          <p:nvPr/>
        </p:nvPicPr>
        <p:blipFill>
          <a:blip r:embed="rId3"/>
          <a:stretch/>
        </p:blipFill>
        <p:spPr>
          <a:xfrm>
            <a:off x="3995640" y="4149720"/>
            <a:ext cx="3456000" cy="2530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7885080" y="3645000"/>
            <a:ext cx="100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http://i.imgur.com/wCzBV.png"/>
          <p:cNvPicPr/>
          <p:nvPr/>
        </p:nvPicPr>
        <p:blipFill>
          <a:blip r:embed="rId2"/>
          <a:stretch/>
        </p:blipFill>
        <p:spPr>
          <a:xfrm>
            <a:off x="2843280" y="2708280"/>
            <a:ext cx="4037040" cy="257184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1143000" y="135720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www.citypictures1.com/upload/files/actual/Brazil%20%20Pictures-455.jpg"/>
          <p:cNvPicPr/>
          <p:nvPr/>
        </p:nvPicPr>
        <p:blipFill>
          <a:blip r:embed="rId2"/>
          <a:stretch/>
        </p:blipFill>
        <p:spPr>
          <a:xfrm>
            <a:off x="1187280" y="1052640"/>
            <a:ext cx="5643720" cy="37321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7000920" y="3714840"/>
            <a:ext cx="1357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absolutely-unbelievable.com/wp-content/uploads/2011/06/piranha-power.jpg"/>
          <p:cNvPicPr/>
          <p:nvPr/>
        </p:nvPicPr>
        <p:blipFill>
          <a:blip r:embed="rId2"/>
          <a:stretch/>
        </p:blipFill>
        <p:spPr>
          <a:xfrm>
            <a:off x="1187280" y="836640"/>
            <a:ext cx="4116600" cy="309384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7596360" y="357336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1T08:15:37Z</dcterms:created>
  <dc:creator>User</dc:creator>
  <dc:description/>
  <dc:language>en-US</dc:language>
  <cp:lastModifiedBy>Марина</cp:lastModifiedBy>
  <dcterms:modified xsi:type="dcterms:W3CDTF">2018-04-06T16:34:52Z</dcterms:modified>
  <cp:revision>111</cp:revision>
  <dc:subject/>
  <dc:title>Страны Южной Америки</dc:title>
</cp:coreProperties>
</file>