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FA49-BFAB-476A-8613-D5895B153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05B5-64F4-48D6-898D-438E94F8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4BEB-9D50-4BBE-B03E-561890253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FFB7-1878-48BC-BA91-864138923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D2BE-8013-40FB-9BF3-1C24BD92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FC80-6D63-4EBD-966B-4DD7B249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80F6-4993-4B70-9B2B-551231A6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2B0B-AB4F-49D1-B1AD-F13C5785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3312-4EF8-41D4-86C1-F3778690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15D3-7E30-421E-9095-FA61E637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6F13-EC51-464C-B6EF-3F3493DB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132F-BAB1-4C6A-82C0-CEF1AF1E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9E04-2F77-4E18-BC27-6C224413BF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20" y="1785960"/>
            <a:ext cx="8072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а:</a:t>
            </a:r>
            <a:br>
              <a:rPr sz="4800"/>
            </a:br>
            <a:r>
              <a:rPr b="1" i="1" lang="en-US" sz="9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Многоликая</a:t>
            </a:r>
            <a:br>
              <a:rPr sz="9600"/>
            </a:br>
            <a:r>
              <a:rPr b="1" i="1" lang="en-US" sz="9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разилия».</a:t>
            </a:r>
            <a:br>
              <a:rPr sz="4000"/>
            </a:b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s://im2-tub-ru.yandex.net/i?id=eed02f04601fe89b107c2e249f11d634&amp;n=33&amp;h=215&amp;w=323"/>
          <p:cNvPicPr/>
          <p:nvPr/>
        </p:nvPicPr>
        <p:blipFill>
          <a:blip r:embed="rId2"/>
          <a:stretch/>
        </p:blipFill>
        <p:spPr>
          <a:xfrm>
            <a:off x="1403280" y="1844640"/>
            <a:ext cx="4714920" cy="3138480"/>
          </a:xfrm>
          <a:prstGeom prst="rect">
            <a:avLst/>
          </a:prstGeom>
          <a:ln w="0">
            <a:noFill/>
          </a:ln>
        </p:spPr>
      </p:pic>
      <p:sp>
        <p:nvSpPr>
          <p:cNvPr id="62" name="TextBox 6"/>
          <p:cNvSpPr/>
          <p:nvPr/>
        </p:nvSpPr>
        <p:spPr>
          <a:xfrm>
            <a:off x="6572160" y="4286160"/>
            <a:ext cx="171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cs11289.vk.me/u1302700/148233341/x_8b8e2a35.jpg"/>
          <p:cNvPicPr/>
          <p:nvPr/>
        </p:nvPicPr>
        <p:blipFill>
          <a:blip r:embed="rId2"/>
          <a:stretch/>
        </p:blipFill>
        <p:spPr>
          <a:xfrm>
            <a:off x="214200" y="928800"/>
            <a:ext cx="4753080" cy="5753160"/>
          </a:xfrm>
          <a:prstGeom prst="rect">
            <a:avLst/>
          </a:prstGeom>
          <a:ln w="0">
            <a:noFill/>
          </a:ln>
        </p:spPr>
      </p:pic>
      <p:sp>
        <p:nvSpPr>
          <p:cNvPr id="64" name="TextBox 4"/>
          <p:cNvSpPr/>
          <p:nvPr/>
        </p:nvSpPr>
        <p:spPr>
          <a:xfrm>
            <a:off x="7429680" y="214200"/>
            <a:ext cx="157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5712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Домашнее задание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араграф 30, составить кроссворд по Бразилии, используя любое ключевое слово. (Например: Бразилия; Карнавал и др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 урока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главные особенности природы, населения и хозяйственной деятельность Бразил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ся с особенностями географического положения и природы Бразилии, определить причины, обуславливающие ее разнообрази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мения работать с картой, описывать географическое положение страны и других объект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умение работать в коллективе, чувства любви к природе, повысить познавательный интерес к предмет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«Знаю – Хочу знать – Узнал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14200" y="857160"/>
          <a:ext cx="8715600" cy="6031080"/>
        </p:xfrm>
        <a:graphic>
          <a:graphicData uri="http://schemas.openxmlformats.org/drawingml/2006/table">
            <a:tbl>
              <a:tblPr/>
              <a:tblGrid>
                <a:gridCol w="2905200"/>
                <a:gridCol w="2905200"/>
                <a:gridCol w="2905200"/>
              </a:tblGrid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НА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ХОЧУ ЗН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УЗ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Бразилия  это футбол, влажные экваториальные  леса, Амазо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 Столица стра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 Город Бразили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8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Родина карнавал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 С какими странами граничит Бразилия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 Страна граничит со всеми странами, за исключением Чили и Эквадор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Бразилия это страна с удивительными песчаными пляж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. Каковы особенности природы страны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. Климат страны влажный. Основную часть территории страны занимают влажные экваториальные лес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В Бразилии имеются уникальные тропические лес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. В каких климатических поясах расположена страна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. В экваториальном, субэкваториальном и тропическо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Страна родина кака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. Чем характеризуется хозяйственная деятельность Бразилии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. В стране бурно развито сельское хозяйство и промышленность. Добывают полезные ископаемые – железные руды, золото, алюминий  и друг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Коренные жители страны – индейц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. Где сосредоточена большая часть населения Бразилии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. Большая часть населения сосредоточена около побережья Атлантического океана, в восточной части стран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004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еред вами «Азбука», в которой представлены природные и хозяйственные объекты Бразил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285840" y="3071880"/>
            <a:ext cx="8572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жите что вам известно о данных объектах. Пользуясь текстом параграфа и атласом, дать краткую характеристику, каждому из перечисленных объек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428760" y="0"/>
            <a:ext cx="928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71640" y="907920"/>
            <a:ext cx="3456000" cy="2592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32360" y="260280"/>
            <a:ext cx="111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http://www.qptour.ru/content/countries/ibrasil.gif"/>
          <p:cNvPicPr/>
          <p:nvPr/>
        </p:nvPicPr>
        <p:blipFill>
          <a:blip r:embed="rId3"/>
          <a:stretch/>
        </p:blipFill>
        <p:spPr>
          <a:xfrm>
            <a:off x="4788000" y="1413000"/>
            <a:ext cx="3997080" cy="39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files.vividscreen.info/soft/4347ff56e97cf12aea283b3e937e1f1c/Water-Lilies-1024x1024.jpg"/>
          <p:cNvPicPr/>
          <p:nvPr/>
        </p:nvPicPr>
        <p:blipFill>
          <a:blip r:embed="rId2"/>
          <a:stretch/>
        </p:blipFill>
        <p:spPr>
          <a:xfrm>
            <a:off x="1763640" y="765000"/>
            <a:ext cx="3360960" cy="324180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468360" y="333360"/>
            <a:ext cx="1028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http://www.lewallpaper.com/newresolution/1440x900-jungle-forest-hd-wallpaper.jpg"/>
          <p:cNvPicPr/>
          <p:nvPr/>
        </p:nvPicPr>
        <p:blipFill>
          <a:blip r:embed="rId3"/>
          <a:stretch/>
        </p:blipFill>
        <p:spPr>
          <a:xfrm>
            <a:off x="3995640" y="4149720"/>
            <a:ext cx="3456000" cy="253044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7885080" y="3645000"/>
            <a:ext cx="100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http://i.imgur.com/wCzBV.png"/>
          <p:cNvPicPr/>
          <p:nvPr/>
        </p:nvPicPr>
        <p:blipFill>
          <a:blip r:embed="rId2"/>
          <a:stretch/>
        </p:blipFill>
        <p:spPr>
          <a:xfrm>
            <a:off x="2843280" y="2708280"/>
            <a:ext cx="4037040" cy="257184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/>
          <p:cNvSpPr/>
          <p:nvPr/>
        </p:nvSpPr>
        <p:spPr>
          <a:xfrm>
            <a:off x="1143000" y="135720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www.citypictures1.com/upload/files/actual/Brazil%20%20Pictures-455.jpg"/>
          <p:cNvPicPr/>
          <p:nvPr/>
        </p:nvPicPr>
        <p:blipFill>
          <a:blip r:embed="rId2"/>
          <a:stretch/>
        </p:blipFill>
        <p:spPr>
          <a:xfrm>
            <a:off x="1187280" y="1052640"/>
            <a:ext cx="5643720" cy="373212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7000920" y="3714840"/>
            <a:ext cx="1357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ww.absolutely-unbelievable.com/wp-content/uploads/2011/06/piranha-power.jpg"/>
          <p:cNvPicPr/>
          <p:nvPr/>
        </p:nvPicPr>
        <p:blipFill>
          <a:blip r:embed="rId2"/>
          <a:stretch/>
        </p:blipFill>
        <p:spPr>
          <a:xfrm>
            <a:off x="1187280" y="836640"/>
            <a:ext cx="4116600" cy="309384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7596360" y="357336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1T08:15:37Z</dcterms:created>
  <dc:creator>User</dc:creator>
  <dc:description/>
  <dc:language>en-US</dc:language>
  <cp:lastModifiedBy>Марина</cp:lastModifiedBy>
  <dcterms:modified xsi:type="dcterms:W3CDTF">2018-04-06T16:34:52Z</dcterms:modified>
  <cp:revision>111</cp:revision>
  <dc:subject/>
  <dc:title>Страны Южной Америки</dc:title>
</cp:coreProperties>
</file>