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2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065B-CE4C-47D1-9B67-3FCE3D0F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381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160" y="3945240"/>
            <a:ext cx="7381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88ED-5AFC-4D92-B0B4-66301703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568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160" y="394524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5680" y="394524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5DC-B004-4DE5-8E53-E06CBC08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59040" y="159840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4920" y="159840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160" y="394524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59040" y="394524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4920" y="394524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78BE-7E27-4310-8478-1E5448E4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2E62-07B3-41D7-A1E2-ED8CF327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160" y="1598400"/>
            <a:ext cx="73818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DC53-75AB-40CD-8D94-7F9ED6A0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3818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FF41-C88D-49F3-AFDC-99F0A14D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021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5680" y="1598400"/>
            <a:ext cx="36021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D863-8A11-4313-AEBC-4F16E025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BDA1-204A-49AF-A093-BA2505B9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9240" y="142920"/>
            <a:ext cx="74721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4B47-BB7D-41B6-AB65-5DF1BE53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5680" y="1598400"/>
            <a:ext cx="36021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160" y="394524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0E74-432F-49CB-914C-5B0082CF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160" y="1598400"/>
            <a:ext cx="73818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C4D-F078-4CF3-93F7-D25F6998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021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568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5680" y="394524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001E-5C68-4FFE-BA6E-645AD4A8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568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160" y="3945240"/>
            <a:ext cx="7381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0D8F-E116-4884-B842-EE6E0886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381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160" y="3945240"/>
            <a:ext cx="7381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FB71-A979-49B7-BC22-7F708413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568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160" y="394524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5680" y="394524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8BF1-0CC5-4AE2-B71B-683C4773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59040" y="159840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4920" y="159840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160" y="394524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59040" y="394524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4920" y="394524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9471-28E1-4F0D-8D1A-8987C37A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3818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C54-491A-4E23-AAD9-D74245B5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021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5680" y="1598400"/>
            <a:ext cx="36021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D62-D479-492C-8217-F7236501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31C-3B35-42A0-8C78-D6B28EBC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9240" y="142920"/>
            <a:ext cx="74721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8A7E-DA12-4118-8BCD-DC3F86AA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5680" y="1598400"/>
            <a:ext cx="36021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160" y="394524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3E8-8462-491D-8E97-3C70E87D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021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568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5680" y="394524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1F5A-40B8-4640-A5C4-668F91B3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568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160" y="3945240"/>
            <a:ext cx="7381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87F-4FE0-46BC-B9C4-9406DEEB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58040" cy="6868800"/>
            <a:chOff x="0" y="0"/>
            <a:chExt cx="9158040" cy="6868800"/>
          </a:xfrm>
        </p:grpSpPr>
        <p:sp>
          <p:nvSpPr>
            <p:cNvPr id="1" name="Rectangle 2"/>
            <p:cNvSpPr/>
            <p:nvPr/>
          </p:nvSpPr>
          <p:spPr>
            <a:xfrm>
              <a:off x="0" y="6643800"/>
              <a:ext cx="807732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807732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7952040" y="0"/>
              <a:ext cx="1202760" cy="68565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7847280" y="50400"/>
              <a:ext cx="1292760" cy="6255720"/>
              <a:chOff x="7847280" y="50400"/>
              <a:chExt cx="1292760" cy="6255720"/>
            </a:xfrm>
          </p:grpSpPr>
          <p:grpSp>
            <p:nvGrpSpPr>
              <p:cNvPr id="5" name="Group 6"/>
              <p:cNvGrpSpPr/>
              <p:nvPr/>
            </p:nvGrpSpPr>
            <p:grpSpPr>
              <a:xfrm>
                <a:off x="8380080" y="50400"/>
                <a:ext cx="759960" cy="2218320"/>
                <a:chOff x="8380080" y="50400"/>
                <a:chExt cx="759960" cy="2218320"/>
              </a:xfrm>
            </p:grpSpPr>
            <p:grpSp>
              <p:nvGrpSpPr>
                <p:cNvPr id="6" name="Group 7"/>
                <p:cNvGrpSpPr/>
                <p:nvPr/>
              </p:nvGrpSpPr>
              <p:grpSpPr>
                <a:xfrm>
                  <a:off x="8628840" y="50400"/>
                  <a:ext cx="416160" cy="181440"/>
                  <a:chOff x="8628840" y="50400"/>
                  <a:chExt cx="416160" cy="181440"/>
                </a:xfrm>
              </p:grpSpPr>
              <p:grpSp>
                <p:nvGrpSpPr>
                  <p:cNvPr id="7" name="Group 8"/>
                  <p:cNvGrpSpPr/>
                  <p:nvPr/>
                </p:nvGrpSpPr>
                <p:grpSpPr>
                  <a:xfrm>
                    <a:off x="8628840" y="50400"/>
                    <a:ext cx="416160" cy="181440"/>
                    <a:chOff x="8628840" y="50400"/>
                    <a:chExt cx="416160" cy="181440"/>
                  </a:xfrm>
                </p:grpSpPr>
                <p:sp>
                  <p:nvSpPr>
                    <p:cNvPr id="8" name="Freeform 9"/>
                    <p:cNvSpPr/>
                    <p:nvPr/>
                  </p:nvSpPr>
                  <p:spPr>
                    <a:xfrm rot="16200000">
                      <a:off x="8770320" y="-90720"/>
                      <a:ext cx="133200" cy="4161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0"/>
                    <p:cNvSpPr/>
                    <p:nvPr/>
                  </p:nvSpPr>
                  <p:spPr>
                    <a:xfrm rot="16200000">
                      <a:off x="8760240" y="16920"/>
                      <a:ext cx="92520" cy="3369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1"/>
                  <p:cNvSpPr/>
                  <p:nvPr/>
                </p:nvSpPr>
                <p:spPr>
                  <a:xfrm rot="16200000">
                    <a:off x="8818560" y="126000"/>
                    <a:ext cx="16920" cy="392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 rot="16200000">
                    <a:off x="8723520" y="72000"/>
                    <a:ext cx="28440" cy="853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 rot="16200000">
                    <a:off x="8840520" y="75240"/>
                    <a:ext cx="42480" cy="55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 rot="16200000">
                    <a:off x="8912880" y="109080"/>
                    <a:ext cx="15480" cy="900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 rot="16200000">
                    <a:off x="8846280" y="152280"/>
                    <a:ext cx="4248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 rot="16200000">
                    <a:off x="8745480" y="138960"/>
                    <a:ext cx="25200" cy="630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0080" y="22788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5560" y="2278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7960" y="53244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2000" y="912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5560" y="8366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4280" y="12175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5560" y="15980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5560" y="1978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5"/>
              <p:cNvGrpSpPr/>
              <p:nvPr/>
            </p:nvGrpSpPr>
            <p:grpSpPr>
              <a:xfrm>
                <a:off x="7847280" y="1599480"/>
                <a:ext cx="826200" cy="4706640"/>
                <a:chOff x="7847280" y="1599480"/>
                <a:chExt cx="826200" cy="4706640"/>
              </a:xfrm>
            </p:grpSpPr>
            <p:pic>
              <p:nvPicPr>
                <p:cNvPr id="25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0760" y="1599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7080" y="19040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0760" y="251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9000" y="27414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8840" y="28936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5160" y="319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9000" y="3274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3040" y="37314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2880" y="350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2880" y="388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0760" y="41122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3040" y="220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7280" y="43405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2880" y="487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3040" y="525456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2880" y="5406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5160" y="56350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2880" y="6015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7080" y="58633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5"/>
            <p:cNvSpPr/>
            <p:nvPr/>
          </p:nvSpPr>
          <p:spPr>
            <a:xfrm>
              <a:off x="7952040" y="4907520"/>
              <a:ext cx="119016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7937640" y="4856760"/>
              <a:ext cx="121896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7"/>
            <p:cNvSpPr/>
            <p:nvPr/>
          </p:nvSpPr>
          <p:spPr>
            <a:xfrm>
              <a:off x="7926480" y="2817000"/>
              <a:ext cx="1231560" cy="4035960"/>
            </a:xfrm>
            <a:prstGeom prst="pie">
              <a:avLst/>
            </a:pr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8"/>
            <p:cNvSpPr/>
            <p:nvPr/>
          </p:nvSpPr>
          <p:spPr>
            <a:xfrm>
              <a:off x="8008920" y="3537360"/>
              <a:ext cx="97920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49"/>
            <p:cNvSpPr/>
            <p:nvPr/>
          </p:nvSpPr>
          <p:spPr>
            <a:xfrm>
              <a:off x="8242560" y="426600"/>
              <a:ext cx="91404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0"/>
            <p:cNvSpPr/>
            <p:nvPr/>
          </p:nvSpPr>
          <p:spPr>
            <a:xfrm>
              <a:off x="8248680" y="261720"/>
              <a:ext cx="909360" cy="307080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1"/>
            <p:cNvSpPr/>
            <p:nvPr/>
          </p:nvSpPr>
          <p:spPr>
            <a:xfrm>
              <a:off x="7942320" y="0"/>
              <a:ext cx="57600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2"/>
            <p:cNvSpPr/>
            <p:nvPr/>
          </p:nvSpPr>
          <p:spPr>
            <a:xfrm>
              <a:off x="7942320" y="1080"/>
              <a:ext cx="29988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3"/>
            <p:cNvSpPr/>
            <p:nvPr/>
          </p:nvSpPr>
          <p:spPr>
            <a:xfrm>
              <a:off x="7864560" y="1080"/>
              <a:ext cx="8856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4"/>
            <p:cNvSpPr/>
            <p:nvPr/>
          </p:nvSpPr>
          <p:spPr>
            <a:xfrm>
              <a:off x="7956720" y="6228000"/>
              <a:ext cx="116496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5"/>
            <p:cNvSpPr/>
            <p:nvPr/>
          </p:nvSpPr>
          <p:spPr>
            <a:xfrm rot="5400000">
              <a:off x="4327560" y="3315600"/>
              <a:ext cx="6856560" cy="22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160" y="1598400"/>
            <a:ext cx="73818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38360" indent="-281160">
              <a:spcBef>
                <a:spcPts val="799"/>
              </a:spcBef>
              <a:buSzPct val="113375"/>
              <a:buBlip>
                <a:blip r:embed="rId3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320" y="6241680"/>
            <a:ext cx="17780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160"/>
            <a:ext cx="34509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7280" y="6248160"/>
            <a:ext cx="17510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089C68-D5F6-4C8A-B27C-01236260E581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"/>
          <p:cNvGrpSpPr/>
          <p:nvPr/>
        </p:nvGrpSpPr>
        <p:grpSpPr>
          <a:xfrm>
            <a:off x="0" y="0"/>
            <a:ext cx="9158040" cy="6868800"/>
            <a:chOff x="0" y="0"/>
            <a:chExt cx="9158040" cy="6868800"/>
          </a:xfrm>
        </p:grpSpPr>
        <p:sp>
          <p:nvSpPr>
            <p:cNvPr id="97" name="Rectangle 2"/>
            <p:cNvSpPr/>
            <p:nvPr/>
          </p:nvSpPr>
          <p:spPr>
            <a:xfrm>
              <a:off x="0" y="6643800"/>
              <a:ext cx="807732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3"/>
            <p:cNvSpPr/>
            <p:nvPr/>
          </p:nvSpPr>
          <p:spPr>
            <a:xfrm>
              <a:off x="0" y="0"/>
              <a:ext cx="807732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4"/>
            <p:cNvSpPr/>
            <p:nvPr/>
          </p:nvSpPr>
          <p:spPr>
            <a:xfrm>
              <a:off x="7952040" y="0"/>
              <a:ext cx="1202760" cy="68565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5"/>
            <p:cNvGrpSpPr/>
            <p:nvPr/>
          </p:nvGrpSpPr>
          <p:grpSpPr>
            <a:xfrm>
              <a:off x="7847280" y="50400"/>
              <a:ext cx="1292760" cy="6255720"/>
              <a:chOff x="7847280" y="50400"/>
              <a:chExt cx="1292760" cy="6255720"/>
            </a:xfrm>
          </p:grpSpPr>
          <p:grpSp>
            <p:nvGrpSpPr>
              <p:cNvPr id="101" name="Group 6"/>
              <p:cNvGrpSpPr/>
              <p:nvPr/>
            </p:nvGrpSpPr>
            <p:grpSpPr>
              <a:xfrm>
                <a:off x="8380080" y="50400"/>
                <a:ext cx="759960" cy="2218320"/>
                <a:chOff x="8380080" y="50400"/>
                <a:chExt cx="759960" cy="2218320"/>
              </a:xfrm>
            </p:grpSpPr>
            <p:grpSp>
              <p:nvGrpSpPr>
                <p:cNvPr id="102" name="Group 7"/>
                <p:cNvGrpSpPr/>
                <p:nvPr/>
              </p:nvGrpSpPr>
              <p:grpSpPr>
                <a:xfrm>
                  <a:off x="8628840" y="50400"/>
                  <a:ext cx="416160" cy="181440"/>
                  <a:chOff x="8628840" y="50400"/>
                  <a:chExt cx="416160" cy="181440"/>
                </a:xfrm>
              </p:grpSpPr>
              <p:grpSp>
                <p:nvGrpSpPr>
                  <p:cNvPr id="103" name="Group 8"/>
                  <p:cNvGrpSpPr/>
                  <p:nvPr/>
                </p:nvGrpSpPr>
                <p:grpSpPr>
                  <a:xfrm>
                    <a:off x="8628840" y="50400"/>
                    <a:ext cx="416160" cy="181440"/>
                    <a:chOff x="8628840" y="50400"/>
                    <a:chExt cx="416160" cy="181440"/>
                  </a:xfrm>
                </p:grpSpPr>
                <p:sp>
                  <p:nvSpPr>
                    <p:cNvPr id="104" name="Freeform 9"/>
                    <p:cNvSpPr/>
                    <p:nvPr/>
                  </p:nvSpPr>
                  <p:spPr>
                    <a:xfrm rot="16200000">
                      <a:off x="8770320" y="-90720"/>
                      <a:ext cx="133200" cy="4161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0"/>
                    <p:cNvSpPr/>
                    <p:nvPr/>
                  </p:nvSpPr>
                  <p:spPr>
                    <a:xfrm rot="16200000">
                      <a:off x="8760240" y="16920"/>
                      <a:ext cx="92520" cy="3369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1"/>
                  <p:cNvSpPr/>
                  <p:nvPr/>
                </p:nvSpPr>
                <p:spPr>
                  <a:xfrm rot="16200000">
                    <a:off x="8818560" y="126000"/>
                    <a:ext cx="16920" cy="392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2"/>
                  <p:cNvSpPr/>
                  <p:nvPr/>
                </p:nvSpPr>
                <p:spPr>
                  <a:xfrm rot="16200000">
                    <a:off x="8723520" y="72000"/>
                    <a:ext cx="28440" cy="853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3"/>
                  <p:cNvSpPr/>
                  <p:nvPr/>
                </p:nvSpPr>
                <p:spPr>
                  <a:xfrm rot="16200000">
                    <a:off x="8840520" y="75240"/>
                    <a:ext cx="42480" cy="55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4"/>
                  <p:cNvSpPr/>
                  <p:nvPr/>
                </p:nvSpPr>
                <p:spPr>
                  <a:xfrm rot="16200000">
                    <a:off x="8912880" y="109080"/>
                    <a:ext cx="15480" cy="900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5"/>
                  <p:cNvSpPr/>
                  <p:nvPr/>
                </p:nvSpPr>
                <p:spPr>
                  <a:xfrm rot="16200000">
                    <a:off x="8846280" y="152280"/>
                    <a:ext cx="4248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6"/>
                  <p:cNvSpPr/>
                  <p:nvPr/>
                </p:nvSpPr>
                <p:spPr>
                  <a:xfrm rot="16200000">
                    <a:off x="8745480" y="138960"/>
                    <a:ext cx="25200" cy="630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0080" y="22788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5560" y="2278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7960" y="53244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2000" y="912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5560" y="8366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4280" y="12175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5560" y="15980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5560" y="1978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5"/>
              <p:cNvGrpSpPr/>
              <p:nvPr/>
            </p:nvGrpSpPr>
            <p:grpSpPr>
              <a:xfrm>
                <a:off x="7847280" y="1599480"/>
                <a:ext cx="826200" cy="4706640"/>
                <a:chOff x="7847280" y="1599480"/>
                <a:chExt cx="826200" cy="4706640"/>
              </a:xfrm>
            </p:grpSpPr>
            <p:pic>
              <p:nvPicPr>
                <p:cNvPr id="121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0760" y="1599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7080" y="19040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0760" y="251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9000" y="27414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8840" y="28936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5160" y="319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9000" y="3274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3040" y="37314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2880" y="350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2880" y="388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0760" y="41122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3040" y="220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7280" y="43405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2880" y="487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3040" y="525456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2880" y="5406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5160" y="56350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2880" y="6015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7080" y="58633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5"/>
            <p:cNvSpPr/>
            <p:nvPr/>
          </p:nvSpPr>
          <p:spPr>
            <a:xfrm>
              <a:off x="7952040" y="4907520"/>
              <a:ext cx="119016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6"/>
            <p:cNvSpPr/>
            <p:nvPr/>
          </p:nvSpPr>
          <p:spPr>
            <a:xfrm>
              <a:off x="7937640" y="4856760"/>
              <a:ext cx="121896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7"/>
            <p:cNvSpPr/>
            <p:nvPr/>
          </p:nvSpPr>
          <p:spPr>
            <a:xfrm>
              <a:off x="7926480" y="2817000"/>
              <a:ext cx="1231560" cy="4035960"/>
            </a:xfrm>
            <a:prstGeom prst="pie">
              <a:avLst/>
            </a:pr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8"/>
            <p:cNvSpPr/>
            <p:nvPr/>
          </p:nvSpPr>
          <p:spPr>
            <a:xfrm>
              <a:off x="8008920" y="3537360"/>
              <a:ext cx="97920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49"/>
            <p:cNvSpPr/>
            <p:nvPr/>
          </p:nvSpPr>
          <p:spPr>
            <a:xfrm>
              <a:off x="8242560" y="426600"/>
              <a:ext cx="91404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0"/>
            <p:cNvSpPr/>
            <p:nvPr/>
          </p:nvSpPr>
          <p:spPr>
            <a:xfrm>
              <a:off x="8248680" y="261720"/>
              <a:ext cx="909360" cy="307080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>
              <a:off x="7942320" y="0"/>
              <a:ext cx="57600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2"/>
            <p:cNvSpPr/>
            <p:nvPr/>
          </p:nvSpPr>
          <p:spPr>
            <a:xfrm>
              <a:off x="7942320" y="1080"/>
              <a:ext cx="29988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7864560" y="1080"/>
              <a:ext cx="8856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4"/>
            <p:cNvSpPr/>
            <p:nvPr/>
          </p:nvSpPr>
          <p:spPr>
            <a:xfrm>
              <a:off x="7956720" y="6228000"/>
              <a:ext cx="116496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5"/>
            <p:cNvSpPr/>
            <p:nvPr/>
          </p:nvSpPr>
          <p:spPr>
            <a:xfrm rot="5400000">
              <a:off x="4327560" y="3315600"/>
              <a:ext cx="6856560" cy="22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369800"/>
            <a:ext cx="6961320" cy="20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320" y="6241680"/>
            <a:ext cx="17780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160"/>
            <a:ext cx="34509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7280" y="6248160"/>
            <a:ext cx="17510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924556-AF5B-4660-89EC-F1DC204F8BE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38360" indent="-281160">
              <a:spcBef>
                <a:spcPts val="799"/>
              </a:spcBef>
              <a:buSzPct val="113375"/>
              <a:buBlip>
                <a:blip r:embed="rId3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60360" y="1413000"/>
            <a:ext cx="714528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звитие основ социального и правового сознания дет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556000" y="4581360"/>
            <a:ext cx="525600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Амелина Ирина Валерь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Воспитатель МАДОУ ЦРР д/с № 1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179280" y="917640"/>
            <a:ext cx="74772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ной из форм работы с детьми, являются выезды совместно с родителями к памятным местам, посещение музеев нашего город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928960" y="2786040"/>
            <a:ext cx="2548080" cy="211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179280" y="304920"/>
            <a:ext cx="738036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Основная форма познания окружающего мира - наблюдение, а подведение итогов каждого путешествия включает в себя  различные творческие рабо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071800" y="3335400"/>
            <a:ext cx="2247840" cy="1523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5357880" y="5132520"/>
            <a:ext cx="2287440" cy="1596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52560" y="246240"/>
            <a:ext cx="44481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оверчивы глаза дет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 ангелы хранят их душ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усть безмятежный т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ичто вовеки не наруш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072040" y="1058760"/>
            <a:ext cx="2668680" cy="1820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1285920" y="3357720"/>
            <a:ext cx="1849320" cy="2230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3222720" y="3809880"/>
            <a:ext cx="487836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 пусть не катится сл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и от обид, ни от печа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, словно солнышко,всег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6633"/>
                </a:solidFill>
                <a:latin typeface="Arial"/>
              </a:rPr>
              <a:t>Улыбка на лице сия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187200"/>
            <a:ext cx="747684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7386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SzPct val="126499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Создание условий для формирования у ребенка положительного самоощущения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SzPct val="126499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Способствовать развитию положительного отношения ребенка к окружающим людям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SzPct val="126499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Развитие коммуникативной компетентности ребенка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SzPct val="126499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Развитие социальных навыков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SzPct val="126499"/>
              <a:buBlip>
                <a:blip r:embed="rId5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Формирование правового сознания детей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179280" y="1260360"/>
            <a:ext cx="738684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8040" indent="-338040" algn="ctr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.А. Сухомл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Игра — это искра, зажигающ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гонек пытливости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любознательност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440" y="-41400"/>
            <a:ext cx="7477200" cy="74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7d47d"/>
                </a:solidFill>
                <a:latin typeface="Arial"/>
              </a:rPr>
              <a:t>Игры — драматизаци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юймовочка»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право выбора и право на собственное мнение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Приключения Буратино»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798560" y="2357280"/>
            <a:ext cx="1927440" cy="1305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5572080"/>
            <a:ext cx="50004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5715000" y="4834080"/>
            <a:ext cx="2009880" cy="1466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142560"/>
            <a:ext cx="7476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Три направления работы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своение ребенком общественных норм и правил повед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Формирование навыков безопасного повед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спитание любви к Малой Родин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179280" y="179280"/>
            <a:ext cx="7477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7d47d"/>
                </a:solidFill>
                <a:latin typeface="Arial"/>
              </a:rPr>
              <a:t>Воспитание чувства патриотизма — это весьма кропотливая работа, которая ведется по разным направлениям, в том числе и воспитание любви  к детскому сад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428840" y="3071880"/>
            <a:ext cx="1684080" cy="1114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4643280" y="3643200"/>
            <a:ext cx="2216160" cy="1517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179280" y="360360"/>
            <a:ext cx="360360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ш детский сад находится  в Балтийском районе города Калининграда, у которого тоже есть своя историческая памя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5286240" y="677880"/>
            <a:ext cx="2384640" cy="1608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929120" y="4838760"/>
            <a:ext cx="2467080" cy="154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179280" y="360360"/>
            <a:ext cx="540072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Знакомство с дошкольным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учреждением начинаю с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посещения выставочных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экспозиций, постепенного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погружения в мир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новостроек и улиц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старого город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864400" y="928800"/>
            <a:ext cx="1876320" cy="1842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1157400" y="3714840"/>
            <a:ext cx="2179440" cy="1428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3"/>
          <a:stretch/>
        </p:blipFill>
        <p:spPr>
          <a:xfrm>
            <a:off x="4214880" y="3286080"/>
            <a:ext cx="2490840" cy="1479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263520" y="398520"/>
            <a:ext cx="74772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f7d47d"/>
                </a:solidFill>
                <a:latin typeface="Monotype Corsiva"/>
              </a:rPr>
              <a:t> </a:t>
            </a:r>
            <a:r>
              <a:rPr b="0" lang="ru-RU" sz="2600" spc="-1" strike="noStrike">
                <a:solidFill>
                  <a:srgbClr val="f7d47d"/>
                </a:solidFill>
                <a:latin typeface="Arial"/>
              </a:rPr>
              <a:t>Систематизированный материал музейных экспозиций, дает детям реальную возможность соприкоснуться с героической  историей своего родного город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6143760" y="3828960"/>
            <a:ext cx="1417680" cy="1751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1071720" y="2739960"/>
            <a:ext cx="1431720" cy="1768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2901960" y="4572000"/>
            <a:ext cx="1866960" cy="1328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4-06T15:44:38Z</dcterms:modified>
  <cp:revision>12</cp:revision>
  <dc:subject/>
  <dc:title>PowerPoint Presentation</dc:title>
</cp:coreProperties>
</file>