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B14-2CDE-4207-996E-3FD60D1F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69C-09EF-4632-807F-87F7FDA1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D96-FE2D-4583-86E0-54F5D31C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904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492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16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904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492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9F0-B634-4698-979B-A5523AA1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C09-91BC-4804-A6CF-77FA92B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D6C3-2B31-4349-9643-3DCB09BD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53F-886D-4163-ACDD-4ED1A35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967-EECE-4176-880B-FE06C6A9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B83E-A565-4E72-B011-2A2949FE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1EB2-4A87-42B1-A579-6D0FED7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1B9-2013-4A90-935F-1B56E32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F50-5767-41A0-BC60-A938AFF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4263-0325-4BB0-9B44-E43FF48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0A8-B19A-4084-81F9-BAE1CE2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7EF7-C55C-49F8-8730-5354347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1BF-7DA2-4AA8-8124-7601F0BE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5904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4920" y="159840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16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5904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4920" y="3945240"/>
            <a:ext cx="23767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7F99-0100-4434-B71B-F76477F9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1CB-D594-4848-AD83-651069D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0FC-007F-4288-A056-EA618A8B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E17-507B-4CC1-93F6-F313BCBF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F38-609A-411F-9723-0B9F7DD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9D1-6252-4A45-A3E6-4F4B424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5680" y="394524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C62-D480-473B-9C04-C3D5A16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5680" y="1598400"/>
            <a:ext cx="36021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160" y="3945240"/>
            <a:ext cx="7381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621-6228-41D5-869D-4D8A8FC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50400"/>
              <a:ext cx="1292760" cy="6255720"/>
              <a:chOff x="7847280" y="50400"/>
              <a:chExt cx="1292760" cy="62557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50400"/>
                <a:ext cx="759960" cy="2218320"/>
                <a:chOff x="8380080" y="50400"/>
                <a:chExt cx="759960" cy="22183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28840" y="50400"/>
                  <a:ext cx="416160" cy="181440"/>
                  <a:chOff x="8628840" y="50400"/>
                  <a:chExt cx="416160" cy="18144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28840" y="50400"/>
                    <a:ext cx="416160" cy="181440"/>
                    <a:chOff x="8628840" y="50400"/>
                    <a:chExt cx="416160" cy="18144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0320" y="-90720"/>
                      <a:ext cx="133200" cy="4161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0240" y="16920"/>
                      <a:ext cx="92520" cy="3369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18560" y="12600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3520" y="72000"/>
                    <a:ext cx="28440" cy="85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0520" y="75240"/>
                    <a:ext cx="42480" cy="55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12880" y="109080"/>
                    <a:ext cx="15480" cy="90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6280" y="152280"/>
                    <a:ext cx="4248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5480" y="138960"/>
                    <a:ext cx="25200" cy="63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prstGeom prst="pie">
              <a:avLst/>
            </a:pr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7560" y="3315600"/>
              <a:ext cx="6856560" cy="22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160" y="1598400"/>
            <a:ext cx="7381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SzPct val="113375"/>
              <a:buBlip>
                <a:blip r:embed="rId3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5956A7-BDF6-42C6-81CC-AF5432DC6E8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50400"/>
              <a:ext cx="1292760" cy="6255720"/>
              <a:chOff x="7847280" y="50400"/>
              <a:chExt cx="1292760" cy="62557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50400"/>
                <a:ext cx="759960" cy="2218320"/>
                <a:chOff x="8380080" y="50400"/>
                <a:chExt cx="759960" cy="22183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28840" y="50400"/>
                  <a:ext cx="416160" cy="181440"/>
                  <a:chOff x="8628840" y="50400"/>
                  <a:chExt cx="416160" cy="18144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28840" y="50400"/>
                    <a:ext cx="416160" cy="181440"/>
                    <a:chOff x="8628840" y="50400"/>
                    <a:chExt cx="416160" cy="18144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0320" y="-90720"/>
                      <a:ext cx="133200" cy="4161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0240" y="16920"/>
                      <a:ext cx="92520" cy="3369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18560" y="12600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3520" y="72000"/>
                    <a:ext cx="28440" cy="85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0520" y="75240"/>
                    <a:ext cx="42480" cy="55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12880" y="109080"/>
                    <a:ext cx="15480" cy="90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6280" y="152280"/>
                    <a:ext cx="4248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5480" y="138960"/>
                    <a:ext cx="25200" cy="63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prstGeom prst="pie">
              <a:avLst/>
            </a:pr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7560" y="3315600"/>
              <a:ext cx="6856560" cy="22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69800"/>
            <a:ext cx="696132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653615-86C6-4142-A9B7-579A5935A37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SzPct val="113375"/>
              <a:buBlip>
                <a:blip r:embed="rId3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60360" y="1413000"/>
            <a:ext cx="714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витие основ социального и правового сознания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556000" y="4581360"/>
            <a:ext cx="52560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Амелина Ирина Валер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оспитатель МАДОУ ЦРР д/с № 1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179280" y="917640"/>
            <a:ext cx="7477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й из форм работы с детьми, являются выезды совместно с родителями к памятным местам, посещение музеев наше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28960" y="2786040"/>
            <a:ext cx="2548080" cy="211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79280" y="304920"/>
            <a:ext cx="7380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Основная форма познания окружающего мира - наблюдение, а подведение итогов каждого путешествия включает в себя  различные творческие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71800" y="3335400"/>
            <a:ext cx="2247840" cy="152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5357880" y="5132520"/>
            <a:ext cx="2287440" cy="1596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2560" y="246240"/>
            <a:ext cx="4448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верчивы глаза дет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ангелы хранят их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усть безмятежный т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ичто вовеки не наруш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072040" y="1058760"/>
            <a:ext cx="2668680" cy="1820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285920" y="3357720"/>
            <a:ext cx="1849320" cy="223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3222720" y="3809880"/>
            <a:ext cx="4878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пусть не катится с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и от обид, ни от печ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, словно солнышко,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Улыбка на лице сия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187200"/>
            <a:ext cx="747684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7386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26499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оздание условий для формирования у ребенка положительного самоощущения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пособствовать развитию положительного отношения ребенка к окружающим людям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Развитие коммуникативной компетентности ребенка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Развитие социальных навыков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26499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Формирование правового сознания детей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79280" y="1260360"/>
            <a:ext cx="73868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Игра — это искра, зажигающ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гонек пытливост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юбознательност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440" y="-41400"/>
            <a:ext cx="7477200" cy="74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Игры — драма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право выбора и право на собственное мнение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Приключения Буратино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98560" y="2357280"/>
            <a:ext cx="1927440" cy="130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5572080"/>
            <a:ext cx="500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715000" y="4834080"/>
            <a:ext cx="200988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14256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Три направления работ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воение ребенком общественных норм и правил по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ирование навыков безопасного по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ние любви к Малой Роди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79280" y="179280"/>
            <a:ext cx="7477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Воспитание чувства патриотизма — это весьма кропотливая работа, которая ведется по разным направлениям, в том числе и воспитание любви  к детскому сад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428840" y="3071880"/>
            <a:ext cx="1684080" cy="111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643280" y="3643200"/>
            <a:ext cx="2216160" cy="151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9280" y="360360"/>
            <a:ext cx="36036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ш детский сад находится  в Балтийском районе города Калининграда, у которого тоже есть своя историческая пам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286240" y="677880"/>
            <a:ext cx="2384640" cy="160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929120" y="4838760"/>
            <a:ext cx="2467080" cy="154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79280" y="360360"/>
            <a:ext cx="540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Знакомство с дошкольны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учреждением начинаю 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посещения выставочны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экспозиций, постепенног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погружения в мир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новостроек и улиц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таро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864400" y="928800"/>
            <a:ext cx="1876320" cy="184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1157400" y="3714840"/>
            <a:ext cx="217944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4214880" y="3286080"/>
            <a:ext cx="2490840" cy="1479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63520" y="398520"/>
            <a:ext cx="7477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7d47d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f7d47d"/>
                </a:solidFill>
                <a:latin typeface="Arial"/>
              </a:rPr>
              <a:t>Систематизированный материал музейных экспозиций, дает детям реальную возможность соприкоснуться с героической  историей своего родного го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143760" y="3828960"/>
            <a:ext cx="1417680" cy="1751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1071720" y="2739960"/>
            <a:ext cx="1431720" cy="176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2901960" y="4572000"/>
            <a:ext cx="1866960" cy="1328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4-06T15:44:38Z</dcterms:modified>
  <cp:revision>12</cp:revision>
  <dc:subject/>
  <dc:title>PowerPoint Presentation</dc:title>
</cp:coreProperties>
</file>