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73F-C850-4DBA-A4DB-4F81FCD0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902-F336-4360-AAA8-DA2FAB4A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9DE-2C6A-431D-912C-8190DA40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4CA-AE29-4579-8F65-49ABEB09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954-9ECF-4835-AE4F-74FFF2D7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33E-BEF1-43E7-909B-1A5452A9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AD7-69F9-473F-9E0B-5DE2D697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C6F-DAEC-4980-9812-205D8889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138-193E-4AB0-9D69-6B96CA4E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66C-5AAC-43CA-89E5-4103C81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447-95F4-4F08-90B7-88C4D7DB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383-CE36-4935-92D8-272416B4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Presentations\Презентации\Russia\Без-имени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D:\Presentations\Презентации\Russia\2vm8z74.jpg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7A9A-A566-4F30-B4B8-F4284F3A2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4" descr="D:\Presentations\Презентации\Russia\Без-имени3.png"/>
          <p:cNvPicPr/>
          <p:nvPr/>
        </p:nvPicPr>
        <p:blipFill>
          <a:blip r:embed="rId4"/>
          <a:stretch/>
        </p:blipFill>
        <p:spPr>
          <a:xfrm>
            <a:off x="0" y="6143760"/>
            <a:ext cx="91440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resentations\Презентации\Russia\uпнr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Автономное Дошкольное Учреждение Центр Развитие Ребенка  Д\С № 131 г.Калинининград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оект « Золотая Хохлома»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 подготовили  и реализовали  воспитатели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елина Ирина Валерьев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рофеева Елена Иванов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элементами хохломской росписи через презентацию « Чудо-хохлома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7" descr="DSC02535"/>
          <p:cNvPicPr/>
          <p:nvPr/>
        </p:nvPicPr>
        <p:blipFill>
          <a:blip r:embed="rId1"/>
          <a:stretch/>
        </p:blipFill>
        <p:spPr>
          <a:xfrm>
            <a:off x="714240" y="2428920"/>
            <a:ext cx="2502000" cy="187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DSC02536"/>
          <p:cNvPicPr/>
          <p:nvPr/>
        </p:nvPicPr>
        <p:blipFill>
          <a:blip r:embed="rId2"/>
          <a:stretch/>
        </p:blipFill>
        <p:spPr>
          <a:xfrm>
            <a:off x="4857840" y="2286000"/>
            <a:ext cx="31813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исование элементов хохломы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17" descr="DSC02504"/>
          <p:cNvPicPr/>
          <p:nvPr/>
        </p:nvPicPr>
        <p:blipFill>
          <a:blip r:embed="rId1"/>
          <a:stretch/>
        </p:blipFill>
        <p:spPr>
          <a:xfrm>
            <a:off x="1428840" y="264312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DSC02506"/>
          <p:cNvPicPr/>
          <p:nvPr/>
        </p:nvPicPr>
        <p:blipFill>
          <a:blip r:embed="rId2"/>
          <a:stretch/>
        </p:blipFill>
        <p:spPr>
          <a:xfrm>
            <a:off x="5643720" y="2428920"/>
            <a:ext cx="25430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исование хохломской посуды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9" descr="DSC0251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SC0252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DSC0252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SC02522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списные издели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9" descr="DSC02526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DSC02528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DSC02532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DSC02527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исные ложки ( пластилинография)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6" descr="DSC02511"/>
          <p:cNvPicPr/>
          <p:nvPr/>
        </p:nvPicPr>
        <p:blipFill>
          <a:blip r:embed="rId1"/>
          <a:stretch/>
        </p:blipFill>
        <p:spPr>
          <a:xfrm>
            <a:off x="857160" y="2500200"/>
            <a:ext cx="2853000" cy="214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DSC02514"/>
          <p:cNvPicPr/>
          <p:nvPr/>
        </p:nvPicPr>
        <p:blipFill>
          <a:blip r:embed="rId2"/>
          <a:stretch/>
        </p:blipFill>
        <p:spPr>
          <a:xfrm>
            <a:off x="5286240" y="2857680"/>
            <a:ext cx="247176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пликация с элементами хохломской росписи « Чудо-горшочек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15" descr="DSC02500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DSC02501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DSC02503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DSC02505"/>
          <p:cNvPicPr/>
          <p:nvPr/>
        </p:nvPicPr>
        <p:blipFill>
          <a:blip r:embed="rId4"/>
          <a:stretch/>
        </p:blipFill>
        <p:spPr>
          <a:xfrm>
            <a:off x="5214960" y="392904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местно с детьми сделали по мотивам хохломской росписи « Наш вернисаж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6" descr="DSC02534"/>
          <p:cNvPicPr/>
          <p:nvPr/>
        </p:nvPicPr>
        <p:blipFill>
          <a:blip r:embed="rId1"/>
          <a:stretch/>
        </p:blipFill>
        <p:spPr>
          <a:xfrm>
            <a:off x="2143080" y="2357280"/>
            <a:ext cx="48024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овали мини музе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 Золотая хохлом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9" descr="DSC02539"/>
          <p:cNvPicPr/>
          <p:nvPr/>
        </p:nvPicPr>
        <p:blipFill>
          <a:blip r:embed="rId1"/>
          <a:stretch/>
        </p:blipFill>
        <p:spPr>
          <a:xfrm>
            <a:off x="103032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DSC0254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DSC0254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DSC02542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8" descr="DSC0254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DSC0256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2572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SC02582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ли альбом совместных рисунков детей и родителей по проекту « Золотая хохлома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8" descr="DSC0258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SC0258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DSC02586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DSC0258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расотой Руси полна ЗОЛОТАЯ ХОХЛОМ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ы строга, нетороплива, величава и игри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ы любовью рождена, мастерством одарен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ушу русскую неси из глубин святой РУСИ!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Ольга Просто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ультации для родителей в виде папок передвижек « Чудо-хохлом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9" descr="DSC02516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SC02517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DSC02518"/>
          <p:cNvPicPr/>
          <p:nvPr/>
        </p:nvPicPr>
        <p:blipFill>
          <a:blip r:embed="rId3"/>
          <a:stretch/>
        </p:blipFill>
        <p:spPr>
          <a:xfrm>
            <a:off x="2916360" y="3933720"/>
            <a:ext cx="2916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ольшое спасибо за внимание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проект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ше время мало внимания уделяется знакомству детей с различными видами декоративно – прикладного искусства и с народными традициями. Это и побудило провести целенаправленную работу по воспитанию детей на материале народного искусства, на основе чего и был создан данный проект. В нем рассматривается воспитательное значение народного искусства, на основе такого народного промысла, как хохлом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  <p:sp>
        <p:nvSpPr>
          <p:cNvPr id="52" name="Содержимое 2"/>
          <p:cNvSpPr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ель проект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: знакомить детей с одним из народных промыслов России - хохломской росписью; закрепить умение детей выполнять декоративные узоры хохломской росписи на разных шаблонных формах. - обогащать духовную культуру детей, обобщить результаты коллективной творческой деятельности детей, родителе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  <p:sp>
        <p:nvSpPr>
          <p:cNvPr id="56" name="Содержимое 2"/>
          <p:cNvSpPr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адачи проекта: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1125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•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ить различать виды народного декоративно-прикладного искусства, знать некоторые сведения о промысле, характерных признаках, традициях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познакомить с предметами разных промыслов с растительным узором хохлом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учить видеть красоту геометрических и растительных узоров, стилизацию знакомых форм: травка, цветок, лист, ягод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учить выделять средства выразительности: элементы узора, их цвет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элементов роспис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•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вивать художественно-творческие способности детей, желание вносить элементы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красного в окружающую их обстановку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формировать основы эстетического вкус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воспитывать у детей любовь к русскому прикладному искусств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важение к работе народных мастер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D:\Presentations\Презентации\Russia\picture.png"/>
          <p:cNvPicPr/>
          <p:nvPr/>
        </p:nvPicPr>
        <p:blipFill>
          <a:blip r:embed="rId1"/>
          <a:stretch/>
        </p:blipFill>
        <p:spPr>
          <a:xfrm>
            <a:off x="7161120" y="3500280"/>
            <a:ext cx="1982880" cy="2643480"/>
          </a:xfrm>
          <a:prstGeom prst="rect">
            <a:avLst/>
          </a:prstGeom>
          <a:ln w="0">
            <a:noFill/>
          </a:ln>
        </p:spPr>
      </p:pic>
      <p:sp>
        <p:nvSpPr>
          <p:cNvPr id="60" name="Содержимое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ект краткосрочный март-апре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ект творчес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теграция образовательных областей: «Художественное творчество», «Познание», «Коммуникация», «Чтение художественной литературы», «Социализация», «Здоровье».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жидаемые результаты: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•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вышение качества усвоения знаний во время непосредственно образовательной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появление интереса к истории Росси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формирование у детей патриотических чувств и развития духовност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ознакомление с историей создания хохломской росписи и конструктивными особенностям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• развитие художественных способностей и творческого воображения у детей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•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ктивизация эмоциональной отзывчивости в самостоятельной деятельности, проявление творческого самовыражения;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частники проекта: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628640"/>
            <a:ext cx="8686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ети  8 старшей группы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спитатели : Амелина Ирина Валерьевна, Ерофеева Елена Ивановна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дител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D:\Presentations\Презентации\Russia\original_mirror.png"/>
          <p:cNvPicPr/>
          <p:nvPr/>
        </p:nvPicPr>
        <p:blipFill>
          <a:blip r:embed="rId1"/>
          <a:stretch/>
        </p:blipFill>
        <p:spPr>
          <a:xfrm>
            <a:off x="142920" y="642960"/>
            <a:ext cx="1214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омство с хохломской росписью через дидактические игр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13" descr="DSC02491"/>
          <p:cNvPicPr/>
          <p:nvPr/>
        </p:nvPicPr>
        <p:blipFill>
          <a:blip r:embed="rId1"/>
          <a:stretch/>
        </p:blipFill>
        <p:spPr>
          <a:xfrm>
            <a:off x="5877000" y="160020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DSC02492"/>
          <p:cNvPicPr/>
          <p:nvPr/>
        </p:nvPicPr>
        <p:blipFill>
          <a:blip r:embed="rId2"/>
          <a:stretch/>
        </p:blipFill>
        <p:spPr>
          <a:xfrm>
            <a:off x="5672160" y="4286160"/>
            <a:ext cx="2452680" cy="1839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DSC02493"/>
          <p:cNvPicPr/>
          <p:nvPr/>
        </p:nvPicPr>
        <p:blipFill>
          <a:blip r:embed="rId3"/>
          <a:stretch/>
        </p:blipFill>
        <p:spPr>
          <a:xfrm>
            <a:off x="1500120" y="3130560"/>
            <a:ext cx="29955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19:05:05Z</dcterms:created>
  <dc:creator>Сотрудник</dc:creator>
  <dc:description/>
  <dc:language>en-US</dc:language>
  <cp:lastModifiedBy>user</cp:lastModifiedBy>
  <dcterms:modified xsi:type="dcterms:W3CDTF">2018-04-06T15:06:43Z</dcterms:modified>
  <cp:revision>15</cp:revision>
  <dc:subject>Россия Хохлома шаблон для презентаций</dc:subject>
  <dc:title>Слайд 1</dc:title>
</cp:coreProperties>
</file>