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8DF-92CD-4DC1-AF76-E0C36DA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C3A-B1BD-41C8-AFCB-E3EFC05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87B-A0BA-4584-810E-2BE35193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0E4-B5E9-4562-A5E1-DD633E00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C52-E814-4288-99D1-A778CDB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392-AD19-420B-8036-C2F7C6C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A4E-4580-42DF-BE1D-D5D01BC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163-66C6-4E09-AA1B-33ED641C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DDE-BCB3-4AD0-9A86-5DD83B3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4E0-984C-4FF4-9148-D4C8066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394-BF13-4C1B-8F88-5AF3E8C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786-4CA4-4D0B-90D2-199D58A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Presentations\Презентации\Russia\Без-имени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Presentations\Презентации\Russia\2vm8z74.jpg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11B-0222-48EA-974B-94BF0F20A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" descr="D:\Presentations\Презентации\Russia\Без-имени3.png"/>
          <p:cNvPicPr/>
          <p:nvPr/>
        </p:nvPicPr>
        <p:blipFill>
          <a:blip r:embed="rId4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resentations\Презентации\Russia\uпнr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Дошкольное Учреждение Центр Развитие Ребенка  Д\С № 131 г.Калинининград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ект « Золотая Хохлома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 подготовили  и реализовали  воспитатели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елина Ирина Валерьев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рофеева Елена Иванов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элементами хохломской росписи через презентацию « Чудо-хохлома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7" descr="DSC02535"/>
          <p:cNvPicPr/>
          <p:nvPr/>
        </p:nvPicPr>
        <p:blipFill>
          <a:blip r:embed="rId1"/>
          <a:stretch/>
        </p:blipFill>
        <p:spPr>
          <a:xfrm>
            <a:off x="714240" y="2428920"/>
            <a:ext cx="2502000" cy="187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SC02536"/>
          <p:cNvPicPr/>
          <p:nvPr/>
        </p:nvPicPr>
        <p:blipFill>
          <a:blip r:embed="rId2"/>
          <a:stretch/>
        </p:blipFill>
        <p:spPr>
          <a:xfrm>
            <a:off x="4857840" y="228600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исование элементов хохломы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17" descr="DSC02504"/>
          <p:cNvPicPr/>
          <p:nvPr/>
        </p:nvPicPr>
        <p:blipFill>
          <a:blip r:embed="rId1"/>
          <a:stretch/>
        </p:blipFill>
        <p:spPr>
          <a:xfrm>
            <a:off x="1428840" y="264312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DSC02506"/>
          <p:cNvPicPr/>
          <p:nvPr/>
        </p:nvPicPr>
        <p:blipFill>
          <a:blip r:embed="rId2"/>
          <a:stretch/>
        </p:blipFill>
        <p:spPr>
          <a:xfrm>
            <a:off x="5643720" y="2428920"/>
            <a:ext cx="25430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исование хохломской посуды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DSC025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SC0252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DSC0252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SC0252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писные издел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9" descr="DSC0252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SC0252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DSC02532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DSC02527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исные ложки ( пластилинография)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6" descr="DSC02511"/>
          <p:cNvPicPr/>
          <p:nvPr/>
        </p:nvPicPr>
        <p:blipFill>
          <a:blip r:embed="rId1"/>
          <a:stretch/>
        </p:blipFill>
        <p:spPr>
          <a:xfrm>
            <a:off x="857160" y="2500200"/>
            <a:ext cx="2853000" cy="214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SC02514"/>
          <p:cNvPicPr/>
          <p:nvPr/>
        </p:nvPicPr>
        <p:blipFill>
          <a:blip r:embed="rId2"/>
          <a:stretch/>
        </p:blipFill>
        <p:spPr>
          <a:xfrm>
            <a:off x="5286240" y="2857680"/>
            <a:ext cx="24717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ликация с элементами хохломской росписи « Чудо-горшочек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5" descr="DSC02500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DSC0250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DSC02503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DSC02505"/>
          <p:cNvPicPr/>
          <p:nvPr/>
        </p:nvPicPr>
        <p:blipFill>
          <a:blip r:embed="rId4"/>
          <a:stretch/>
        </p:blipFill>
        <p:spPr>
          <a:xfrm>
            <a:off x="5214960" y="392904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местно с детьми сделали по мотивам хохломской росписи « Наш вернисаж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6" descr="DSC02534"/>
          <p:cNvPicPr/>
          <p:nvPr/>
        </p:nvPicPr>
        <p:blipFill>
          <a:blip r:embed="rId1"/>
          <a:stretch/>
        </p:blipFill>
        <p:spPr>
          <a:xfrm>
            <a:off x="2143080" y="2357280"/>
            <a:ext cx="48024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овали мини музе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 Золотая хохлом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9" descr="DSC02539"/>
          <p:cNvPicPr/>
          <p:nvPr/>
        </p:nvPicPr>
        <p:blipFill>
          <a:blip r:embed="rId1"/>
          <a:stretch/>
        </p:blipFill>
        <p:spPr>
          <a:xfrm>
            <a:off x="103032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SC0254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DSC0254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SC0254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8" descr="DSC0254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SC0256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2572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SC0258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ли альбом совместных рисунков детей и родителей по проекту « Золотая хохлома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8" descr="DSC0258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SC0258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SC0258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DSC0258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расотой Руси полна ЗОЛОТАЯ ХОХЛОМ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ы строга, нетороплива, величава и игри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ы любовью рождена, мастерством одаре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ушу русскую неси из глубин святой РУСИ!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льга Просто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ультации для родителей в виде папок передвижек « Чудо-хохлом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9" descr="DSC0251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SC02517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DSC02518"/>
          <p:cNvPicPr/>
          <p:nvPr/>
        </p:nvPicPr>
        <p:blipFill>
          <a:blip r:embed="rId3"/>
          <a:stretch/>
        </p:blipFill>
        <p:spPr>
          <a:xfrm>
            <a:off x="2916360" y="393372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ольшое спасибо за внимание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проект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ше время мало внимания уделяется знакомству детей с различными видами декоративно – прикладного искусства и с народными традициями. Это и побудило провести целенаправленную работу по воспитанию детей на материале народного искусства, на основе чего и был создан данный проект. В нем рассматривается воспитательное значение народного искусства, на основе такого народного промысла, как хохлом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 проект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: знакомить детей с одним из народных промыслов России - хохломской росписью; закрепить умение детей выполнять декоративные узоры хохломской росписи на разных шаблонных формах. - обогащать духовную культуру детей, обобщить результаты коллективной творческой деятельности детей, родител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  <p:sp>
        <p:nvSpPr>
          <p:cNvPr id="56" name="Содержимое 2"/>
          <p:cNvSpPr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чи проекта: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125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ить различать виды народного декоративно-прикладного искусства, знать некоторые сведения о промысле, характерных признаках, традициях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познакомить с предметами разных промыслов с растительным узором хохлом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учить видеть красоту геометрических и растительных узоров, стилизацию знакомых форм: травка, цветок, лист, ягод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учить выделять средства выразительности: элементы узора, их цве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элементов роспис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вать художественно-творческие способности детей, желание вносить элементы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красного в окружающую их обстановку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формировать основы эстетического вкус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воспитывать у детей любовь к русскому прикладному искусств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важение к работе народных мастер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D:\Presentations\Презентации\Russia\picture.png"/>
          <p:cNvPicPr/>
          <p:nvPr/>
        </p:nvPicPr>
        <p:blipFill>
          <a:blip r:embed="rId1"/>
          <a:stretch/>
        </p:blipFill>
        <p:spPr>
          <a:xfrm>
            <a:off x="7161120" y="3500280"/>
            <a:ext cx="1982880" cy="2643480"/>
          </a:xfrm>
          <a:prstGeom prst="rect">
            <a:avLst/>
          </a:prstGeom>
          <a:ln w="0">
            <a:noFill/>
          </a:ln>
        </p:spPr>
      </p:pic>
      <p:sp>
        <p:nvSpPr>
          <p:cNvPr id="60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ект краткосрочный март-апре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ект творче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теграция образовательных областей: «Художественное творчество», «Познание», «Коммуникация», «Чтение художественной литературы», «Социализация», «Здоровье».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идаемые результаты: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вышение качества усвоения знаний во время непосредственно образователь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появление интереса к истории Росси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формирование у детей патриотических чувств и развития духов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ознакомление с историей создания хохломской росписи и конструктивными особенностям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развитие художественных способностей и творческого воображения у детей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•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ктивизация эмоциональной отзывчивости в самостоятельной деятельности, проявление творческого самовыражения;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частники проекта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ти  8 старшей группы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атели : Амелина Ирина Валерьевна, Ерофеева Елена Ивановн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дите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хохломской росписью через дидактические иг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3" descr="DSC02491"/>
          <p:cNvPicPr/>
          <p:nvPr/>
        </p:nvPicPr>
        <p:blipFill>
          <a:blip r:embed="rId1"/>
          <a:stretch/>
        </p:blipFill>
        <p:spPr>
          <a:xfrm>
            <a:off x="5877000" y="16002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DSC02492"/>
          <p:cNvPicPr/>
          <p:nvPr/>
        </p:nvPicPr>
        <p:blipFill>
          <a:blip r:embed="rId2"/>
          <a:stretch/>
        </p:blipFill>
        <p:spPr>
          <a:xfrm>
            <a:off x="5672160" y="4286160"/>
            <a:ext cx="2452680" cy="183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DSC02493"/>
          <p:cNvPicPr/>
          <p:nvPr/>
        </p:nvPicPr>
        <p:blipFill>
          <a:blip r:embed="rId3"/>
          <a:stretch/>
        </p:blipFill>
        <p:spPr>
          <a:xfrm>
            <a:off x="1500120" y="3130560"/>
            <a:ext cx="29955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9:05:05Z</dcterms:created>
  <dc:creator>Сотрудник</dc:creator>
  <dc:description/>
  <dc:language>en-US</dc:language>
  <cp:lastModifiedBy>user</cp:lastModifiedBy>
  <dcterms:modified xsi:type="dcterms:W3CDTF">2018-04-06T15:06:43Z</dcterms:modified>
  <cp:revision>15</cp:revision>
  <dc:subject>Россия Хохлома шаблон для презентаций</dc:subject>
  <dc:title>Слайд 1</dc:title>
</cp:coreProperties>
</file>