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91E4-B459-4FD7-9C08-C18EBAC337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3A5-B755-47CE-AEAA-06C8CF3D49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A030-62B1-4475-A53A-E0D1BCA44F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1BD-CC65-43CA-A8C9-A0D24C0E57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F6A-BFAB-4A1E-848C-1BD6C71AAC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E85-9E6F-43C6-8C06-7034A38A7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B12F-DF8A-4E30-9FE1-08A62DCECD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4B1A-1B94-454A-84C5-BF6F23E21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906-41C7-4A38-BFC4-055448AEA2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EC95-0FEA-4693-8E80-C370D8CD53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BBEC-322A-41BD-A6AC-1C6BBE6130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E8E-5EA1-4138-B9B1-96E161CD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271-E208-4A55-B2A9-CD8EDFF7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96C-FD11-483D-937D-B288C055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236-EFD4-4307-B81C-BF4E5D5D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5A0E-3C50-4F92-B70E-5937F2AB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9FF6-574E-4063-B25C-7E03A00D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0F5-9E2B-4907-A31D-7F5B393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3398-0230-4BDB-8C5E-12825E0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531-3D36-4DA9-ACC8-D92902EE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3534-DF3A-4155-AB0B-ACA7238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3C8E-FC69-4B5B-B5B8-4F60508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D4E-5923-4196-A08C-791A0679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014B-3C01-4E95-AFFA-579BBEA0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10E2-2E57-4D1A-918B-3C3202C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AE4A-2A59-40C8-A8F0-F7AC1E6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859D-2B5B-4C73-999C-8A60D5F2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ED1C-AE93-42F2-8457-BA67DE22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E368-9A57-49F5-A3FE-11E5F599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AF3F-0E50-469C-A997-2400B39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720B-F453-472D-8058-2EFA7191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007B-A747-49B7-ADC4-B8C90068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B3FC-FABE-48CC-9833-89C75B6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7E3-7158-4014-B31E-E2A2BF3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2048-D9CC-40C2-90BA-3E0E7BB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1839-504F-4CF0-86AE-45A5033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4FB0-30E4-404B-912A-54F5FDE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391A-4FF4-439E-A7BB-28881EA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A48B-3D50-425C-8AA2-E8394B23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B293-33CB-40B3-9159-A02558CF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728C-2D5D-46F6-8CC2-0334809F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374E-ABE7-407C-B7E0-CF109F81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58B6-7D35-4A06-BC18-EA9B822A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5846-611B-4E55-A1C6-6EC9D6F4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6C5-EC17-4943-B5C2-6FB14DB6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A3E9-2A90-4318-A1B5-D49A191D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CAD2A-BB8A-4B5F-89B9-2E3747A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C751-721F-4C18-88B1-13AEE6F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C6F1-A72E-4992-B791-E82DE78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F0B3-B0D8-4186-BE85-44A931A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E6A0-E8D2-40FC-AE64-012CC48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0384-2173-4B0A-BF1D-26161BC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0E86-1CCF-4964-8B6F-07F0BF9E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7FC6-B967-4D4E-9076-62CD8697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56691-8F1B-44B1-AE48-10436E55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306-4657-415D-834E-C9744EE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333DC-AEC6-4E5A-A111-40E7ACC3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0FA6-2F83-4865-BE0E-CD8C6E07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3332-5914-4BD9-A716-58EE2B2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5694-0F9B-46A4-9DB1-0A36B1E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FE03-1D7C-44BA-8F25-867ADEA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4636-9445-410C-B0B7-232FC93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286F-E5FA-447B-BF73-36A2EE4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21B6C-EA25-45DF-AFAD-C1B7B9A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118D-336D-45B7-A972-30D3459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1EE6-6F26-46EE-8006-0111DEEA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921-C0B4-46FB-A0FA-21CC357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D3A2-B548-44E9-8F05-9C5F9077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4EDC1-86C0-4841-996D-DE091EBA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8CC6-2271-4CD7-8007-A86B438C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5DA7E-A318-4165-A504-FD1EF51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7D4B-B5FC-4040-8FD2-A7B6A97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C31CA-056D-4C71-8EB1-EFA1E23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0056-5441-4A4E-9035-546954EE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62AD4-65D1-4FBF-A910-937F9BBA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FBC7-36F3-4098-BB2E-5A22D38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A984-CF81-42D1-8E70-7A304CA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95F-27B5-42F6-A0BB-5A38149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B5B1A-4425-46FD-B2AB-E67B252F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E1E9-470A-442A-9AE0-5564D891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8448-6E7E-4824-ABFF-53F912C4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4AB07-28E4-430A-ADCE-6FB07D8C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A212-8C9D-4B39-AB98-0A2739D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A9D6C-4501-4A3E-B8A0-0053F83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1F8B-4892-4334-842D-F9DB3A9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CFBD-DD70-4AEF-AE53-BC42901B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EF45-A31A-4A75-8E38-8C3ECE81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E6BF-E287-4CC1-827F-F9E1F3F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1D4-5420-4B85-A7E9-8340093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9A79-88AE-4366-9D77-57A5C9A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AE80-7F1D-4FD9-B973-E36982A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4A841-291D-4D53-9803-F163806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E4CF8-FBD1-4F30-AA59-37BAA696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ED4DB-5C2E-407D-847E-40B74C6D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AB7-09A0-4923-A601-8BA5B45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94DF-D4FD-459B-A7E3-1B08EC721C3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E71-9043-4C38-8C0B-E4054676D2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03A-15BD-4E32-BAFF-0E022F6925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EDA8-9E91-4E28-9EDE-3DF0930536B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D210-9502-4EFB-A505-90E26FA5CD3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346-0628-46E0-9208-53A083232C8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65AC-127C-4DCF-B5BC-3675396907A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file:///../../student_samples/student_presentation/&#1053;&#1080;&#1082;&#1086;&#1083;&#1072;&#1081;%20&#1050;&#1086;&#1087;&#1077;&#769;&#1088;&#1085;&#1080;&#1082;.pptx" TargetMode="Externa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2"/>
          <a:stretch/>
        </p:blipFill>
        <p:spPr>
          <a:xfrm>
            <a:off x="281160" y="2298600"/>
            <a:ext cx="844848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285840" y="152280"/>
            <a:ext cx="8407440" cy="993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Corbel"/>
              </a:rPr>
              <a:t>Вахрушев, А. А. Окружающий мир. Наша планета Земля: учебник в 4 ч. - М.: Баласс, 2004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Corbel"/>
              </a:rPr>
              <a:t>Вахрушев, А. А. Наша планета Земля: методические рекомендации. - М.: Баласс, 2002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Corbel"/>
              </a:rPr>
              <a:t>Окружающий мир. 2 класс: поурочные планы по учебнику А. А. Вахрушева / авт.-сост. Н. В. Кийко, Н. А. Порунова. - Волгоград: Учитель, 2005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74560" indent="-457200">
              <a:buClr>
                <a:srgbClr val="ddddd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3"/>
              </a:rPr>
              <a:t>Сообщение о Николае Коперни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4" action="ppaction://hlinksldjump"/>
              </a:rPr>
              <a:t>Показ на «живой» мод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5" action="ppaction://hlinksldjump"/>
              </a:rPr>
              <a:t>Изображение смены дня и ночи на мод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6" action="ppaction://hlinksldjump"/>
              </a:rPr>
              <a:t>Знакомство с видами искусственных спутников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7" action="ppaction://hlinksldjump"/>
              </a:rPr>
              <a:t>Моделиро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f5f5f"/>
                </a:solidFill>
                <a:uFillTx/>
                <a:latin typeface="Arial"/>
                <a:ea typeface="Arial"/>
                <a:hlinkClick r:id="rId8" action="ppaction://hlinksldjump"/>
              </a:rPr>
              <a:t>Контрольные вопрос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2"/>
          <a:stretch/>
        </p:blipFill>
        <p:spPr>
          <a:xfrm>
            <a:off x="993600" y="-6480"/>
            <a:ext cx="7102800" cy="1463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85840" y="12142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итель  - Солнце. Ребенок – Земля с куклой-наблюдателем (показывается вращение Земли вокруг своей оси и смена  дня и ноч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F:\Смена дня и ночи\ДВИЖЕНИЕ СИСТЕМЫ ЗЕМЛЯ - ЛУНА вокруг общего центра масс.jpg"/>
          <p:cNvPicPr/>
          <p:nvPr/>
        </p:nvPicPr>
        <p:blipFill>
          <a:blip r:embed="rId3"/>
          <a:stretch/>
        </p:blipFill>
        <p:spPr>
          <a:xfrm>
            <a:off x="1143000" y="2071800"/>
            <a:ext cx="7397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28760" y="500040"/>
            <a:ext cx="8215200" cy="642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4000"/>
          </a:bodyPr>
          <a:p>
            <a:pPr marL="367920" indent="-26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лученные результаты заносятся в тетра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Солнце 3"/>
          <p:cNvSpPr/>
          <p:nvPr/>
        </p:nvSpPr>
        <p:spPr>
          <a:xfrm>
            <a:off x="214200" y="2500200"/>
            <a:ext cx="200052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Солнце 4"/>
          <p:cNvSpPr/>
          <p:nvPr/>
        </p:nvSpPr>
        <p:spPr>
          <a:xfrm>
            <a:off x="2428920" y="2500200"/>
            <a:ext cx="200016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Солнце 5"/>
          <p:cNvSpPr/>
          <p:nvPr/>
        </p:nvSpPr>
        <p:spPr>
          <a:xfrm>
            <a:off x="4714920" y="2500200"/>
            <a:ext cx="200016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Солнце 6"/>
          <p:cNvSpPr/>
          <p:nvPr/>
        </p:nvSpPr>
        <p:spPr>
          <a:xfrm>
            <a:off x="6929280" y="2500200"/>
            <a:ext cx="2000520" cy="1928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285840" y="2000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571840" y="1928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4857840" y="1928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ч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7000920" y="1857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Овал 11"/>
          <p:cNvGrpSpPr/>
          <p:nvPr/>
        </p:nvGrpSpPr>
        <p:grpSpPr>
          <a:xfrm>
            <a:off x="396720" y="4827600"/>
            <a:ext cx="1560600" cy="1487520"/>
            <a:chOff x="396720" y="4827600"/>
            <a:chExt cx="1560600" cy="1487520"/>
          </a:xfrm>
        </p:grpSpPr>
        <p:pic>
          <p:nvPicPr>
            <p:cNvPr id="326" name="Овал 11" descr=""/>
            <p:cNvPicPr/>
            <p:nvPr/>
          </p:nvPicPr>
          <p:blipFill>
            <a:blip r:embed="rId2"/>
            <a:stretch/>
          </p:blipFill>
          <p:spPr>
            <a:xfrm>
              <a:off x="396720" y="4827600"/>
              <a:ext cx="15606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47640" y="5067360"/>
              <a:ext cx="106200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Овал 12"/>
          <p:cNvGrpSpPr/>
          <p:nvPr/>
        </p:nvGrpSpPr>
        <p:grpSpPr>
          <a:xfrm>
            <a:off x="2614680" y="4968720"/>
            <a:ext cx="1560600" cy="1492560"/>
            <a:chOff x="2614680" y="4968720"/>
            <a:chExt cx="1560600" cy="1492560"/>
          </a:xfrm>
        </p:grpSpPr>
        <p:pic>
          <p:nvPicPr>
            <p:cNvPr id="329" name="Овал 12" descr=""/>
            <p:cNvPicPr/>
            <p:nvPr/>
          </p:nvPicPr>
          <p:blipFill>
            <a:blip r:embed="rId3"/>
            <a:stretch/>
          </p:blipFill>
          <p:spPr>
            <a:xfrm>
              <a:off x="2614680" y="4968720"/>
              <a:ext cx="1560600" cy="14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862360" y="5210280"/>
              <a:ext cx="106200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Овал 13"/>
          <p:cNvGrpSpPr/>
          <p:nvPr/>
        </p:nvGrpSpPr>
        <p:grpSpPr>
          <a:xfrm>
            <a:off x="4827600" y="4827600"/>
            <a:ext cx="1560600" cy="1487520"/>
            <a:chOff x="4827600" y="4827600"/>
            <a:chExt cx="1560600" cy="1487520"/>
          </a:xfrm>
        </p:grpSpPr>
        <p:pic>
          <p:nvPicPr>
            <p:cNvPr id="332" name="Овал 13" descr=""/>
            <p:cNvPicPr/>
            <p:nvPr/>
          </p:nvPicPr>
          <p:blipFill>
            <a:blip r:embed="rId4"/>
            <a:stretch/>
          </p:blipFill>
          <p:spPr>
            <a:xfrm>
              <a:off x="4827600" y="4827600"/>
              <a:ext cx="15606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076720" y="5067360"/>
              <a:ext cx="106200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Овал 14"/>
          <p:cNvGrpSpPr/>
          <p:nvPr/>
        </p:nvGrpSpPr>
        <p:grpSpPr>
          <a:xfrm>
            <a:off x="7113600" y="4900680"/>
            <a:ext cx="1560600" cy="1487520"/>
            <a:chOff x="7113600" y="4900680"/>
            <a:chExt cx="1560600" cy="1487520"/>
          </a:xfrm>
        </p:grpSpPr>
        <p:pic>
          <p:nvPicPr>
            <p:cNvPr id="335" name="Овал 14" descr=""/>
            <p:cNvPicPr/>
            <p:nvPr/>
          </p:nvPicPr>
          <p:blipFill>
            <a:blip r:embed="rId5"/>
            <a:stretch/>
          </p:blipFill>
          <p:spPr>
            <a:xfrm>
              <a:off x="7113600" y="4900680"/>
              <a:ext cx="15606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362720" y="5138640"/>
              <a:ext cx="106200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Улыбающееся лицо 15"/>
          <p:cNvSpPr/>
          <p:nvPr/>
        </p:nvSpPr>
        <p:spPr>
          <a:xfrm>
            <a:off x="1000080" y="4572000"/>
            <a:ext cx="357120" cy="285840"/>
          </a:xfrm>
          <a:prstGeom prst="smileyFace">
            <a:avLst>
              <a:gd name="adj" fmla="val 9282"/>
            </a:avLst>
          </a:prstGeom>
          <a:blipFill rotWithShape="0">
            <a:blip r:embed="rId6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Улыбающееся лицо 16"/>
          <p:cNvSpPr/>
          <p:nvPr/>
        </p:nvSpPr>
        <p:spPr>
          <a:xfrm>
            <a:off x="2286000" y="5500800"/>
            <a:ext cx="357120" cy="285480"/>
          </a:xfrm>
          <a:prstGeom prst="smileyFace">
            <a:avLst>
              <a:gd name="adj" fmla="val 9282"/>
            </a:avLst>
          </a:prstGeom>
          <a:blipFill rotWithShape="0">
            <a:blip r:embed="rId7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Улыбающееся лицо 17"/>
          <p:cNvSpPr/>
          <p:nvPr/>
        </p:nvSpPr>
        <p:spPr>
          <a:xfrm>
            <a:off x="5429160" y="6286680"/>
            <a:ext cx="357120" cy="285480"/>
          </a:xfrm>
          <a:prstGeom prst="smileyFace">
            <a:avLst>
              <a:gd name="adj" fmla="val 9282"/>
            </a:avLst>
          </a:prstGeom>
          <a:blipFill rotWithShape="0">
            <a:blip r:embed="rId8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Улыбающееся лицо 18"/>
          <p:cNvSpPr/>
          <p:nvPr/>
        </p:nvSpPr>
        <p:spPr>
          <a:xfrm>
            <a:off x="8572680" y="5500800"/>
            <a:ext cx="357120" cy="285480"/>
          </a:xfrm>
          <a:prstGeom prst="smileyFace">
            <a:avLst>
              <a:gd name="adj" fmla="val 9282"/>
            </a:avLst>
          </a:prstGeom>
          <a:blipFill rotWithShape="0">
            <a:blip r:embed="rId9"/>
            <a:srcRect/>
            <a:tile tx="0" ty="0" sx="100000" sy="100000" algn="ctr"/>
          </a:blipFill>
          <a:ln w="478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едините два круга длиной планкой. Что будет обозначать эта планка в космос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rbel"/>
              </a:rPr>
              <a:t>Взаимное притяжение Солнца и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клейте точку (наблюдателя) у края круга – Земли. Покажите, как Земля вращается вокруг своей ос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rbel"/>
              </a:rPr>
              <a:t>1</a:t>
            </a:r>
            <a:r>
              <a:rPr b="1" lang="ru-RU" sz="3200" spc="-1" strike="noStrike">
                <a:solidFill>
                  <a:srgbClr val="663300"/>
                </a:solidFill>
                <a:latin typeface="Corbel"/>
              </a:rPr>
              <a:t>вариант: положение «день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rbel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Corbel"/>
              </a:rPr>
              <a:t>вариант: положение «ночь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9656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857160" y="1285920"/>
            <a:ext cx="757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ди научились выводить спутники на орбиту. Для этого спутник должен преодолеть притяжение Земли и развить такую скорость, чтобы двигаться по  эллиптической и или круговой  орбите вокруг Земли, не падая на нее (это первая космическая скорость 7,9 км/с, вторая космическая скорость – 11,2 км/с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ди создают спутники для разных нуж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утники связ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«подвешивают» над определенной точкой земной поверхности. « - Как он может «висеть» над определенной точкой, если Земля вращается?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Arial"/>
              </a:rPr>
              <a:t>(Вращаться в том же направлении и той же скоростью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 - Спутники «подвешиваются» так, чтобы они находились в прямой видимости друг от друга, поэтому пойманный с Земли сигнал передается от одного спутника к другому, а потом снова на Землю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Овал 4"/>
          <p:cNvGrpSpPr/>
          <p:nvPr/>
        </p:nvGrpSpPr>
        <p:grpSpPr>
          <a:xfrm>
            <a:off x="3828960" y="5327640"/>
            <a:ext cx="914400" cy="847800"/>
            <a:chOff x="3828960" y="5327640"/>
            <a:chExt cx="914400" cy="847800"/>
          </a:xfrm>
        </p:grpSpPr>
        <p:pic>
          <p:nvPicPr>
            <p:cNvPr id="346" name="Овал 4" descr=""/>
            <p:cNvPicPr/>
            <p:nvPr/>
          </p:nvPicPr>
          <p:blipFill>
            <a:blip r:embed="rId3"/>
            <a:stretch/>
          </p:blipFill>
          <p:spPr>
            <a:xfrm>
              <a:off x="3828960" y="5327640"/>
              <a:ext cx="914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983040" y="5472000"/>
              <a:ext cx="606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Овал 5"/>
          <p:cNvSpPr/>
          <p:nvPr/>
        </p:nvSpPr>
        <p:spPr>
          <a:xfrm>
            <a:off x="5214960" y="5000760"/>
            <a:ext cx="500040" cy="42840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Овал 6"/>
          <p:cNvSpPr/>
          <p:nvPr/>
        </p:nvSpPr>
        <p:spPr>
          <a:xfrm>
            <a:off x="5286240" y="6143760"/>
            <a:ext cx="500040" cy="42840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Овал 7"/>
          <p:cNvSpPr/>
          <p:nvPr/>
        </p:nvSpPr>
        <p:spPr>
          <a:xfrm>
            <a:off x="3286080" y="4929120"/>
            <a:ext cx="500040" cy="42876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Овал 8"/>
          <p:cNvSpPr/>
          <p:nvPr/>
        </p:nvSpPr>
        <p:spPr>
          <a:xfrm>
            <a:off x="2571840" y="6072120"/>
            <a:ext cx="500040" cy="428760"/>
          </a:xfrm>
          <a:prstGeom prst="ellipse">
            <a:avLst/>
          </a:prstGeom>
          <a:solidFill>
            <a:srgbClr val="dddddd"/>
          </a:solidFill>
          <a:ln w="4788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Прямая со стрелкой 10"/>
          <p:cNvCxnSpPr/>
          <p:nvPr/>
        </p:nvCxnSpPr>
        <p:spPr>
          <a:xfrm flipH="1">
            <a:off x="4714920" y="5428080"/>
            <a:ext cx="643320" cy="32292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3" name="Прямая со стрелкой 12"/>
          <p:cNvCxnSpPr>
            <a:endCxn id="349" idx="1"/>
          </p:cNvCxnSpPr>
          <p:nvPr/>
        </p:nvCxnSpPr>
        <p:spPr>
          <a:xfrm>
            <a:off x="4714920" y="5857920"/>
            <a:ext cx="645120" cy="34992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4" name="Прямая со стрелкой 14"/>
          <p:cNvCxnSpPr>
            <a:stCxn id="349" idx="2"/>
            <a:endCxn id="351" idx="6"/>
          </p:cNvCxnSpPr>
          <p:nvPr/>
        </p:nvCxnSpPr>
        <p:spPr>
          <a:xfrm flipH="1" flipV="1">
            <a:off x="3071160" y="6286320"/>
            <a:ext cx="2215080" cy="7200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5" name="Прямая со стрелкой 16"/>
          <p:cNvCxnSpPr>
            <a:stCxn id="351" idx="7"/>
            <a:endCxn id="346" idx="2"/>
          </p:cNvCxnSpPr>
          <p:nvPr/>
        </p:nvCxnSpPr>
        <p:spPr>
          <a:xfrm flipV="1">
            <a:off x="2998800" y="5751000"/>
            <a:ext cx="859680" cy="38520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6" name="Прямая со стрелкой 18"/>
          <p:cNvCxnSpPr>
            <a:endCxn id="350" idx="5"/>
          </p:cNvCxnSpPr>
          <p:nvPr/>
        </p:nvCxnSpPr>
        <p:spPr>
          <a:xfrm flipH="1" flipV="1">
            <a:off x="3712680" y="5294160"/>
            <a:ext cx="145440" cy="27828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357" name="Прямая со стрелкой 20"/>
          <p:cNvCxnSpPr>
            <a:endCxn id="348" idx="2"/>
          </p:cNvCxnSpPr>
          <p:nvPr/>
        </p:nvCxnSpPr>
        <p:spPr>
          <a:xfrm>
            <a:off x="3785760" y="5143680"/>
            <a:ext cx="1429560" cy="72000"/>
          </a:xfrm>
          <a:prstGeom prst="straightConnector1">
            <a:avLst/>
          </a:prstGeom>
          <a:ln cap="rnd" w="6480">
            <a:solidFill>
              <a:srgbClr val="66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9656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28760" y="1428840"/>
            <a:ext cx="4572000" cy="251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утники-наблюдател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вижутся по круговым орбитам,  «рассматривая» поверхность Земли. Скорость движения не совпадает с земной. Спутники пролетают над земной поверхностью. Наблюдают за состоянием лесов, полей, за пожарам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Рисунок 3" descr="Искусственные Спутники Земли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14600" cy="277632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4" descr=""/>
          <p:cNvPicPr/>
          <p:nvPr/>
        </p:nvPicPr>
        <p:blipFill>
          <a:blip r:embed="rId4"/>
          <a:stretch/>
        </p:blipFill>
        <p:spPr>
          <a:xfrm>
            <a:off x="3803760" y="4322880"/>
            <a:ext cx="5065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742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500040" y="64260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ть ли у Земли естественный спутник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Луна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Луна – звезда или планет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бы Луна сама излучала свет, как Солнце, какой бы мы ее видели всегд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руглой, светящейся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мы видим Луну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 помощью модели разберемся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чему мы видим Луну такой. К ваше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ели на короткой планке присоедини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 Луну. Луна вращается против часово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елки. Полный оборот вокруг Земл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делает за 28 дней.  Установите н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ели ход солнечных лучей и пример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ый вид Луны на неб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Рисунок 4" descr="4.jpg"/>
          <p:cNvPicPr/>
          <p:nvPr/>
        </p:nvPicPr>
        <p:blipFill>
          <a:blip r:embed="rId3"/>
          <a:stretch/>
        </p:blipFill>
        <p:spPr>
          <a:xfrm>
            <a:off x="5286240" y="1857240"/>
            <a:ext cx="34578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2"/>
          <a:stretch/>
        </p:blipFill>
        <p:spPr>
          <a:xfrm>
            <a:off x="285840" y="85680"/>
            <a:ext cx="8407440" cy="706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28760" y="8571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ова тема урока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чему происходит смена дня и ноч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ие виды искусственных спутников знаете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каким орбитам они движутся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ть ли у Земли естественный спутник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чему по-разному видим Луну на небе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(Неодинаковое освещение Солнцем, отраженный свет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10:17Z</dcterms:created>
  <dc:creator>Оксана</dc:creator>
  <dc:description/>
  <dc:language>en-US</dc:language>
  <cp:lastModifiedBy>Учитель</cp:lastModifiedBy>
  <dcterms:modified xsi:type="dcterms:W3CDTF">2009-12-20T07:51:04Z</dcterms:modified>
  <cp:revision>75</cp:revision>
  <dc:subject/>
  <dc:title>Смена дня и но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