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747B-B485-4E32-9B09-8326471831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3E8-AE70-4BEC-A5FD-76C6690629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FE1-1877-436A-BDCD-6456A8A227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72CE-D9F3-46F8-AD41-C192966F2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E32-4380-493E-BD55-96A5EC5A5A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A163-57F5-475A-BC1D-06CE5477E8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76C-FD05-4421-A01F-8BC4EE643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5FE-A68F-490C-AB91-F13DE7DF19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42BF-4450-4B6A-B5B7-398B48DD00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D31D-DBB1-4BCD-ADA8-B546E4919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444D-B94A-4294-AFA1-3A5C98667E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FA3-7C7C-4309-9A25-7F280880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5F2-7125-40E0-92F1-9F119A1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682-4C36-4A04-A890-15CEA04D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023-CEC4-4C0E-9F45-BBA8A4C3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CAB7-F677-4694-99D2-C4B02CAC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24D6-33F7-4784-925B-E798CA2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162-5F98-47F9-A7E8-50D2842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509C-D97F-4667-9CBC-4CA37C8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04F3-739E-42E1-AC3C-10D382AC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13CA-F15C-4D8E-8D6F-2FC06C3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765-F697-4506-9607-3FAFBD1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63E-6D42-45C7-B09C-7FE33D2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2F2-DDE0-4573-A454-76E5DAA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C9DC-23AB-41E2-B871-3D1F29B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E88-1718-462C-B162-CA8DAC4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D765-63C0-4446-84AB-099BCBF0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A76-4793-44AC-B40A-E59AD35B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FDF7-949B-42B2-944E-927980D5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F781-8371-4935-955A-B566D077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6A97-AA6F-4C9C-A70F-455ADD6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F4E8-299D-4F72-A908-ED01F5E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AEF1-3718-4774-B88E-1ADAA84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640-1951-41AE-9541-4455A362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73B8-D3CE-4A25-BD11-5E967C08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720B-999E-4110-AAE0-69996D1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4A89-A723-4AFB-9C8D-DC28D9F4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7CF9-B500-4726-85B3-43A63AC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C279-97EF-4086-9FCA-6C95971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DF4D-AAA4-41F9-B55A-718C5A5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F667-FB45-4835-B4D3-6D58027E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C429-883C-497E-9E81-9C6EF59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7F56-3FBD-4039-96B0-63D2902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7DD6-115D-4CA0-B1E1-3AB0CB0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09D-8842-4CE6-BFE9-CB0FB20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6F3D-70C0-4966-8508-D17F34CA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B558-A032-412E-84E7-696F9A5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A0EC-E2B9-4378-A6A9-8CBD2B2B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3390-3D39-4AA8-AE83-03D93FDC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A4F1-970E-434E-B026-2A1B61F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9209-47AB-4E61-84E9-29E43B0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7C6B-699D-46A6-82F0-A33E4083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337E-45B7-44C8-AA86-AA8B2922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12F4-9F4E-49A8-98A2-3354B5D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8E70-3C7B-4CF7-89D3-046456FB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006-9530-4D53-BDC9-DF58E8C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67E8-5DC9-49D7-9170-5912167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94428-A36F-4BBA-9BF0-D37BCDD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903C-2516-45FE-8276-A548F91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5903-D091-4F84-9D21-ECFC63E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9282-7FDA-4FE0-8E73-9E2A414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380E-8A8E-4AEC-BAEA-46EA83A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2876-E3F3-4114-A442-B681DDC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AB7E-F362-4726-A5BE-6C7B64B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9899-5329-4E8C-B9AE-D4956422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C6DB-E7EC-4D59-88BF-E766FA54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497-418E-4B06-A3FC-672D64C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4CB8-5224-4BC1-B332-F3B548A6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6B7CE-AA78-4A3F-A9A4-4EF85042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9029-9DAC-40D9-98F9-8F26D4D0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A8BD-3CA3-4E2F-9380-CC2AE96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E7063-FB99-4F06-A29D-B749EF6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CCBE-74B7-4C4F-BB00-4B13A37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7839-FC2E-4B32-94AD-21B7AC4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F62F-1797-4F32-80F6-1D46AC5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D3A8-E664-4AF3-849F-26F26F3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917B-DF7D-47E3-B342-39B3880B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1B2-497B-4504-9541-FA6DF9A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CE29-350D-4D78-83BE-91E1DC9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69FB-6E35-4199-96C8-5C0BE895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AE36E-74CE-4C14-A241-4C7BB321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8FA2-C27F-4BA9-A5A8-FCB3918F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2348-2860-4B69-BB5C-D9864D5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EDA4-27D4-4D42-8476-CC4742B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5657-2B5B-4388-B53D-5E6AAB2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BC57-E026-4FBD-A596-6690C56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F011C-383F-40F8-B52E-8B6C8D9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8296-C9D4-423D-9A6D-30A9FF5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93A-3969-4975-9E4D-8C48EA60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F38B-53B2-4F00-AC8A-75678AC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4A1A-9E02-4C83-AC9B-1DC6F8AF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5808-4080-4104-8AB2-B925EBE8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EC1A-3DE6-4BBF-BD68-2B40278F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1FC7-6FEA-4593-8E1B-9B78C7F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CD9-5081-48F4-8046-9105708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2D1E-07BB-45A0-B2D7-679E7A3F83F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B27-CE94-4D4B-85D0-D091DCD0A1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0782-56F0-4454-8BBB-3B1DFFD373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AA68-06DC-4634-9A44-B0FD069BAC2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6CF-B989-45C1-A118-06314076125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8B9-FCC5-41FA-BDEC-891C7E78EFC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8CE5-98E8-46F3-BA76-950368DEFA3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../../student_samples/student_presentation/&#1053;&#1080;&#1082;&#1086;&#1083;&#1072;&#1081;%20&#1050;&#1086;&#1087;&#1077;&#769;&#1088;&#1085;&#1080;&#1082;.pptx" TargetMode="Externa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281160" y="2298600"/>
            <a:ext cx="844848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285840" y="152280"/>
            <a:ext cx="8407440" cy="993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Вахрушев, А. А. Окружающий мир. Наша планета Земля: учебник в 4 ч. - М.: Баласс, 2004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Вахрушев, А. А. Наша планета Земля: методические рекомендации. - М.: Баласс, 2002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Окружающий мир. 2 класс: поурочные планы по учебнику А. А. Вахрушева / авт.-сост. Н. В. Кийко, Н. А. Порунова. - Волгоград: Учитель, 2005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3"/>
              </a:rPr>
              <a:t>Сообщение о Николае Коперни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4" action="ppaction://hlinksldjump"/>
              </a:rPr>
              <a:t>Показ на «живой»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5" action="ppaction://hlinksldjump"/>
              </a:rPr>
              <a:t>Изображение смены дня и ночи на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6" action="ppaction://hlinksldjump"/>
              </a:rPr>
              <a:t>Знакомство с видами искусственных спутников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7" action="ppaction://hlinksldjump"/>
              </a:rPr>
              <a:t>Моделиро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8" action="ppaction://hlinksldjump"/>
              </a:rPr>
              <a:t>Контрольные вопрос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993600" y="-6480"/>
            <a:ext cx="7102800" cy="1463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85840" y="12142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итель  - Солнце. Ребенок – Земля с куклой-наблюдателем (показывается вращение Земли вокруг своей оси и смена  дня и ноч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F:\Смена дня и ночи\ДВИЖЕНИЕ СИСТЕМЫ ЗЕМЛЯ - ЛУНА вокруг общего центра масс.jpg"/>
          <p:cNvPicPr/>
          <p:nvPr/>
        </p:nvPicPr>
        <p:blipFill>
          <a:blip r:embed="rId3"/>
          <a:stretch/>
        </p:blipFill>
        <p:spPr>
          <a:xfrm>
            <a:off x="1143000" y="2071800"/>
            <a:ext cx="7397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28760" y="500040"/>
            <a:ext cx="8215200" cy="642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4000"/>
          </a:bodyPr>
          <a:p>
            <a:pPr marL="367920" indent="-26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лученные результаты заносятся в тетра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Солнце 3"/>
          <p:cNvSpPr/>
          <p:nvPr/>
        </p:nvSpPr>
        <p:spPr>
          <a:xfrm>
            <a:off x="214200" y="2500200"/>
            <a:ext cx="200052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Солнце 4"/>
          <p:cNvSpPr/>
          <p:nvPr/>
        </p:nvSpPr>
        <p:spPr>
          <a:xfrm>
            <a:off x="2428920" y="2500200"/>
            <a:ext cx="200016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Солнце 5"/>
          <p:cNvSpPr/>
          <p:nvPr/>
        </p:nvSpPr>
        <p:spPr>
          <a:xfrm>
            <a:off x="4714920" y="2500200"/>
            <a:ext cx="200016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Солнце 6"/>
          <p:cNvSpPr/>
          <p:nvPr/>
        </p:nvSpPr>
        <p:spPr>
          <a:xfrm>
            <a:off x="6929280" y="2500200"/>
            <a:ext cx="200052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285840" y="2000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571840" y="192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4857840" y="192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ч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7000920" y="1857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Овал 11"/>
          <p:cNvGrpSpPr/>
          <p:nvPr/>
        </p:nvGrpSpPr>
        <p:grpSpPr>
          <a:xfrm>
            <a:off x="396720" y="4827600"/>
            <a:ext cx="1560600" cy="1487520"/>
            <a:chOff x="396720" y="4827600"/>
            <a:chExt cx="1560600" cy="1487520"/>
          </a:xfrm>
        </p:grpSpPr>
        <p:pic>
          <p:nvPicPr>
            <p:cNvPr id="326" name="Овал 11" descr=""/>
            <p:cNvPicPr/>
            <p:nvPr/>
          </p:nvPicPr>
          <p:blipFill>
            <a:blip r:embed="rId2"/>
            <a:stretch/>
          </p:blipFill>
          <p:spPr>
            <a:xfrm>
              <a:off x="396720" y="482760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47640" y="506736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Овал 12"/>
          <p:cNvGrpSpPr/>
          <p:nvPr/>
        </p:nvGrpSpPr>
        <p:grpSpPr>
          <a:xfrm>
            <a:off x="2614680" y="4968720"/>
            <a:ext cx="1560600" cy="1492560"/>
            <a:chOff x="2614680" y="4968720"/>
            <a:chExt cx="1560600" cy="1492560"/>
          </a:xfrm>
        </p:grpSpPr>
        <p:pic>
          <p:nvPicPr>
            <p:cNvPr id="329" name="Овал 12" descr=""/>
            <p:cNvPicPr/>
            <p:nvPr/>
          </p:nvPicPr>
          <p:blipFill>
            <a:blip r:embed="rId3"/>
            <a:stretch/>
          </p:blipFill>
          <p:spPr>
            <a:xfrm>
              <a:off x="2614680" y="4968720"/>
              <a:ext cx="1560600" cy="14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862360" y="521028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Овал 13"/>
          <p:cNvGrpSpPr/>
          <p:nvPr/>
        </p:nvGrpSpPr>
        <p:grpSpPr>
          <a:xfrm>
            <a:off x="4827600" y="4827600"/>
            <a:ext cx="1560600" cy="1487520"/>
            <a:chOff x="4827600" y="4827600"/>
            <a:chExt cx="1560600" cy="1487520"/>
          </a:xfrm>
        </p:grpSpPr>
        <p:pic>
          <p:nvPicPr>
            <p:cNvPr id="332" name="Овал 13" descr=""/>
            <p:cNvPicPr/>
            <p:nvPr/>
          </p:nvPicPr>
          <p:blipFill>
            <a:blip r:embed="rId4"/>
            <a:stretch/>
          </p:blipFill>
          <p:spPr>
            <a:xfrm>
              <a:off x="4827600" y="482760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076720" y="506736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Овал 14"/>
          <p:cNvGrpSpPr/>
          <p:nvPr/>
        </p:nvGrpSpPr>
        <p:grpSpPr>
          <a:xfrm>
            <a:off x="7113600" y="4900680"/>
            <a:ext cx="1560600" cy="1487520"/>
            <a:chOff x="7113600" y="4900680"/>
            <a:chExt cx="1560600" cy="1487520"/>
          </a:xfrm>
        </p:grpSpPr>
        <p:pic>
          <p:nvPicPr>
            <p:cNvPr id="335" name="Овал 14" descr=""/>
            <p:cNvPicPr/>
            <p:nvPr/>
          </p:nvPicPr>
          <p:blipFill>
            <a:blip r:embed="rId5"/>
            <a:stretch/>
          </p:blipFill>
          <p:spPr>
            <a:xfrm>
              <a:off x="7113600" y="490068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362720" y="5138640"/>
              <a:ext cx="106200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Улыбающееся лицо 15"/>
          <p:cNvSpPr/>
          <p:nvPr/>
        </p:nvSpPr>
        <p:spPr>
          <a:xfrm>
            <a:off x="1000080" y="4572000"/>
            <a:ext cx="357120" cy="285840"/>
          </a:xfrm>
          <a:prstGeom prst="smileyFace">
            <a:avLst>
              <a:gd name="adj" fmla="val 9282"/>
            </a:avLst>
          </a:prstGeom>
          <a:blipFill rotWithShape="0">
            <a:blip r:embed="rId6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Улыбающееся лицо 16"/>
          <p:cNvSpPr/>
          <p:nvPr/>
        </p:nvSpPr>
        <p:spPr>
          <a:xfrm>
            <a:off x="2286000" y="550080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7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Улыбающееся лицо 17"/>
          <p:cNvSpPr/>
          <p:nvPr/>
        </p:nvSpPr>
        <p:spPr>
          <a:xfrm>
            <a:off x="5429160" y="628668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8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Улыбающееся лицо 18"/>
          <p:cNvSpPr/>
          <p:nvPr/>
        </p:nvSpPr>
        <p:spPr>
          <a:xfrm>
            <a:off x="8572680" y="550080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9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едините два круга длиной планкой. Что будет обозначать эта планка в космос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заимное притяжение Солнца и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клейте точку (наблюдателя) у края круга – Земли. Покажите, как Земля вращается вокруг своей ос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rbel"/>
              </a:rPr>
              <a:t>1</a:t>
            </a: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ариант: положение «день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rbel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ариант: положение «ночь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9656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857160" y="1285920"/>
            <a:ext cx="757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ди научились выводить спутники на орбиту. Для этого спутник должен преодолеть притяжение Земли и развить такую скорость, чтобы двигаться по  эллиптической и или круговой  орбите вокруг Земли, не падая на нее (это первая космическая скорость 7,9 км/с, вторая космическая скорость – 11,2 км/с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ди создают спутники для разных нуж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утники связ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«подвешивают» над определенной точкой земной поверхности. « - Как он может «висеть» над определенной точкой, если Земля вращается?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Arial"/>
              </a:rPr>
              <a:t>(Вращаться в том же направлении и той же скоростью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 - Спутники «подвешиваются» так, чтобы они находились в прямой видимости друг от друга, поэтому пойманный с Земли сигнал передается от одного спутника к другому, а потом снова на Землю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Овал 4"/>
          <p:cNvGrpSpPr/>
          <p:nvPr/>
        </p:nvGrpSpPr>
        <p:grpSpPr>
          <a:xfrm>
            <a:off x="3828960" y="5327640"/>
            <a:ext cx="914400" cy="847800"/>
            <a:chOff x="3828960" y="5327640"/>
            <a:chExt cx="914400" cy="847800"/>
          </a:xfrm>
        </p:grpSpPr>
        <p:pic>
          <p:nvPicPr>
            <p:cNvPr id="346" name="Овал 4" descr=""/>
            <p:cNvPicPr/>
            <p:nvPr/>
          </p:nvPicPr>
          <p:blipFill>
            <a:blip r:embed="rId3"/>
            <a:stretch/>
          </p:blipFill>
          <p:spPr>
            <a:xfrm>
              <a:off x="3828960" y="5327640"/>
              <a:ext cx="914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983040" y="5472000"/>
              <a:ext cx="606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Овал 5"/>
          <p:cNvSpPr/>
          <p:nvPr/>
        </p:nvSpPr>
        <p:spPr>
          <a:xfrm>
            <a:off x="5214960" y="5000760"/>
            <a:ext cx="500040" cy="42840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Овал 6"/>
          <p:cNvSpPr/>
          <p:nvPr/>
        </p:nvSpPr>
        <p:spPr>
          <a:xfrm>
            <a:off x="5286240" y="6143760"/>
            <a:ext cx="500040" cy="42840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Овал 7"/>
          <p:cNvSpPr/>
          <p:nvPr/>
        </p:nvSpPr>
        <p:spPr>
          <a:xfrm>
            <a:off x="3286080" y="4929120"/>
            <a:ext cx="500040" cy="42876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Овал 8"/>
          <p:cNvSpPr/>
          <p:nvPr/>
        </p:nvSpPr>
        <p:spPr>
          <a:xfrm>
            <a:off x="2571840" y="6072120"/>
            <a:ext cx="500040" cy="42876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Прямая со стрелкой 10"/>
          <p:cNvCxnSpPr/>
          <p:nvPr/>
        </p:nvCxnSpPr>
        <p:spPr>
          <a:xfrm flipH="1">
            <a:off x="4714920" y="5428080"/>
            <a:ext cx="643320" cy="32292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3" name="Прямая со стрелкой 12"/>
          <p:cNvCxnSpPr>
            <a:endCxn id="349" idx="1"/>
          </p:cNvCxnSpPr>
          <p:nvPr/>
        </p:nvCxnSpPr>
        <p:spPr>
          <a:xfrm>
            <a:off x="4714920" y="5857920"/>
            <a:ext cx="645120" cy="34992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4" name="Прямая со стрелкой 14"/>
          <p:cNvCxnSpPr>
            <a:stCxn id="349" idx="2"/>
            <a:endCxn id="351" idx="6"/>
          </p:cNvCxnSpPr>
          <p:nvPr/>
        </p:nvCxnSpPr>
        <p:spPr>
          <a:xfrm flipH="1" flipV="1">
            <a:off x="3071160" y="6286320"/>
            <a:ext cx="2215080" cy="720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5" name="Прямая со стрелкой 16"/>
          <p:cNvCxnSpPr>
            <a:stCxn id="351" idx="7"/>
            <a:endCxn id="346" idx="2"/>
          </p:cNvCxnSpPr>
          <p:nvPr/>
        </p:nvCxnSpPr>
        <p:spPr>
          <a:xfrm flipV="1">
            <a:off x="2998800" y="5751000"/>
            <a:ext cx="859680" cy="3852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6" name="Прямая со стрелкой 18"/>
          <p:cNvCxnSpPr>
            <a:endCxn id="350" idx="5"/>
          </p:cNvCxnSpPr>
          <p:nvPr/>
        </p:nvCxnSpPr>
        <p:spPr>
          <a:xfrm flipH="1" flipV="1">
            <a:off x="3712680" y="5294160"/>
            <a:ext cx="145440" cy="27828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7" name="Прямая со стрелкой 20"/>
          <p:cNvCxnSpPr>
            <a:endCxn id="348" idx="2"/>
          </p:cNvCxnSpPr>
          <p:nvPr/>
        </p:nvCxnSpPr>
        <p:spPr>
          <a:xfrm>
            <a:off x="3785760" y="5143680"/>
            <a:ext cx="1429560" cy="720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9656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28760" y="1428840"/>
            <a:ext cx="4572000" cy="251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утники-наблюдател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вижутся по круговым орбитам,  «рассматривая» поверхность Земли. Скорость движения не совпадает с земной. Спутники пролетают над земной поверхностью. Наблюдают за состоянием лесов, полей, за пожарам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Рисунок 3" descr="Искусственные Спутники Земли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14600" cy="277632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4" descr=""/>
          <p:cNvPicPr/>
          <p:nvPr/>
        </p:nvPicPr>
        <p:blipFill>
          <a:blip r:embed="rId4"/>
          <a:stretch/>
        </p:blipFill>
        <p:spPr>
          <a:xfrm>
            <a:off x="3803760" y="4322880"/>
            <a:ext cx="5065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742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500040" y="64260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ть ли у Земли естественный спутник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Луна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Луна – звезда или планет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бы Луна сама излучала свет, как Солнце, какой бы мы ее видели всегд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руглой, светящейся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мы видим Луну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 помощью модели разберемся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ему мы видим Луну такой. К ваше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и на короткой планке присоедини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 Луну. Луна вращается против часово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елки. Полный оборот вокруг Земл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делает за 28 дней.  Установите н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и ход солнечных лучей и пример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ый вид Луны на неб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Рисунок 4" descr="4.jpg"/>
          <p:cNvPicPr/>
          <p:nvPr/>
        </p:nvPicPr>
        <p:blipFill>
          <a:blip r:embed="rId3"/>
          <a:stretch/>
        </p:blipFill>
        <p:spPr>
          <a:xfrm>
            <a:off x="5286240" y="1857240"/>
            <a:ext cx="3457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2"/>
          <a:stretch/>
        </p:blipFill>
        <p:spPr>
          <a:xfrm>
            <a:off x="285840" y="85680"/>
            <a:ext cx="8407440" cy="706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28760" y="8571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ова тема урока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чему происходит смена дня и ноч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ие виды искусственных спутников знаете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каким орбитам они движутся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ть ли у Земли естественный спутник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чему по-разному видим Луну на небе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(Неодинаковое освещение Солнцем, отраженный свет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10:17Z</dcterms:created>
  <dc:creator>Оксана</dc:creator>
  <dc:description/>
  <dc:language>en-US</dc:language>
  <cp:lastModifiedBy>Учитель</cp:lastModifiedBy>
  <dcterms:modified xsi:type="dcterms:W3CDTF">2009-12-20T07:51:04Z</dcterms:modified>
  <cp:revision>75</cp:revision>
  <dc:subject/>
  <dc:title>Смена дня и но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