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55.jpeg" ContentType="image/jpeg"/>
  <Override PartName="/ppt/media/image43.png" ContentType="image/png"/>
  <Override PartName="/ppt/media/image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.jpeg" ContentType="image/jpeg"/>
  <Override PartName="/ppt/media/image61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49.png" ContentType="image/png"/>
  <Override PartName="/ppt/media/image12.png" ContentType="image/png"/>
  <Override PartName="/ppt/media/image23.jpeg" ContentType="image/jpeg"/>
  <Override PartName="/ppt/media/image41.jpeg" ContentType="image/jpeg"/>
  <Override PartName="/ppt/media/image14.jpeg" ContentType="image/jpeg"/>
  <Override PartName="/ppt/media/image60.png" ContentType="image/png"/>
  <Override PartName="/ppt/media/image6.jpeg" ContentType="image/jpeg"/>
  <Override PartName="/ppt/media/image42.jpeg" ContentType="image/jpeg"/>
  <Override PartName="/ppt/media/image18.png" ContentType="image/png"/>
  <Override PartName="/ppt/media/image11.jpeg" ContentType="image/jpeg"/>
  <Override PartName="/ppt/media/image24.png" ContentType="image/png"/>
  <Override PartName="/ppt/media/image29.png" ContentType="image/png"/>
  <Override PartName="/ppt/media/image21.jpeg" ContentType="image/jpeg"/>
  <Override PartName="/ppt/media/image16.png" ContentType="image/png"/>
  <Override PartName="/ppt/media/image27.png" ContentType="image/png"/>
  <Override PartName="/ppt/media/image20.png" ContentType="image/png"/>
  <Override PartName="/ppt/media/image17.jpeg" ContentType="image/jpeg"/>
  <Override PartName="/ppt/media/image15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5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54.jpeg" ContentType="image/jpeg"/>
  <Override PartName="/ppt/media/image33.png" ContentType="image/png"/>
  <Override PartName="/ppt/media/image56.jpeg" ContentType="image/jpeg"/>
  <Override PartName="/ppt/media/image34.png" ContentType="image/png"/>
  <Override PartName="/ppt/media/image36.png" ContentType="image/png"/>
  <Override PartName="/ppt/media/image40.jpeg" ContentType="image/jpeg"/>
  <Override PartName="/ppt/media/image44.png" ContentType="image/png"/>
  <Override PartName="/ppt/media/image63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png" ContentType="image/png"/>
  <Override PartName="/ppt/media/image50.jpeg" ContentType="image/jpeg"/>
  <Override PartName="/ppt/media/image51.jpeg" ContentType="image/jpeg"/>
  <Override PartName="/ppt/media/image13.png" ContentType="image/png"/>
  <Override PartName="/ppt/media/image52.jpeg" ContentType="image/jpeg"/>
  <Override PartName="/ppt/media/image5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BC7-01E5-4210-AC5B-DCFC31E8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DBF-302D-466C-9378-05CE53FD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1BF-57F3-4B5E-ADDB-040C3276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90D-EEBB-4386-87B4-4C2A18B5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EE9A-9DA0-4E70-908B-27929025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3452-FF2D-4AE8-A2D5-8ABA590E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667C-7441-4102-93FB-E07F92F6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C51D-EE77-4B36-8093-7B10F2C2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C568-B352-4D50-9E17-990DCC66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2097-FE5F-48F8-B49D-DD04AE85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A481-997C-434A-9E2D-B11CF37E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25D-5836-456C-A7F1-1F690A34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DEB2-DC1F-47D8-8473-2DBED3A4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72B7-74D6-4EB2-A0C0-E3AC020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4228-A2CC-4F26-8CC3-0784D8CA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BE44-7318-42C0-A8F6-3771635D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4428-3CA5-42CE-B4F8-C8675DEA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2CD6-9B82-47FE-AA07-18AA78C7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E797-E7B6-4462-846A-4E35E4BE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0DEC-3BEC-40B3-809B-9BFEA79B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4F46-D224-41E4-AF1F-A87CEA33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A885-72FE-4EA1-BB52-34B2A2AA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D2C-C698-4457-B6E6-C80D81F4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EB15-8664-4CE2-9379-8F7600CD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7CF1-0C05-4E5E-A614-68F9EF7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9F54-3572-44AC-97A9-9418074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0606-CA23-4301-BFB5-8EE062E4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E19E-8D0A-4A96-BDC5-48AC22C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9538-4CD9-4D21-8168-B9E508B5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D38D-A023-40EB-9935-E0924E92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A13A-D2D1-4883-B642-42293AEA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18AA-DFA4-42E7-95B6-DDEC4FF9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40497-D57A-4FA1-B8AD-940464F0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8D0-2969-4310-ABC8-838C6E8E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5267-7B71-4A89-A802-71F9AB44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46CD4-1F0F-46E9-8465-656F2B9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2B443-10CA-468E-9CE4-9A7D9DB4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CD3BF-DE72-485F-8D7C-0C6AB605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E1EF7-1B8E-4274-B804-3C876EA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3D9E-2A24-4562-9D0B-68844008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AF06-F84B-404C-ABAF-4BA962C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D3DE-D6B8-4822-9835-68FDBCF0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159A-FCD3-414E-9249-14D00474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89F2-9993-43B7-994A-FA53EEC4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9E1-1834-4AC3-92C4-C2239E95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E21FF-EE93-44A3-8639-F01C9A91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168B7-710E-473E-8D7D-917D05F0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869D6-D119-4183-AABE-568AD2BC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F506D-B3CD-421A-A086-046C0823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23926-D8AC-4FD3-B6FA-141506A1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AA3D1-F420-4C1D-8D33-9CC68AF5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7425A-2164-456E-A3DF-68CA5DF7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DE4A5-AB75-4EC2-8A0F-3C034FA4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AB99-9469-49B7-96A3-77E79ACF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7FE17-927E-42C6-B9B1-52D70275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48E-E3D3-48C3-A2F7-1EAE3956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E15B3-E035-46C2-93F3-3143090C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CD75-B032-4BF5-ACBC-92989984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5F4FC-8890-42BE-8762-87824F45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3DBC6-70D3-4D92-BA19-4488B05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F18C-1D8C-459F-9F8C-37FED14C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44A3-02BF-4DC9-9DD9-334F5DE0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E818F-D0DB-4B53-97BC-BC19ECE5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9793F-27DC-4C06-A26C-E116762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FE15E-AD40-4B72-9A27-396938A2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3B961-E21F-47BD-ABDE-BE1C147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844-C477-42B8-A874-5666546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7633-1842-4A74-B40F-195E8904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593D-B22E-42D8-B6D2-EA834230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C3AA9-27CB-4EB6-87CD-0A8C3C85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B069B-5D45-4440-B18C-770D4862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84ECC-9157-41C3-B6E4-C42F9E83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895A0-72C6-414E-A02C-A122B5FA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2738-98C5-49B8-9CC3-A4A37098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B90CF-800E-47C5-B986-C008516A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00509-C211-4F57-9A48-4D208213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D43FD-C853-4ABD-8C2A-08D63C66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958-F8CA-474C-B7F6-AD22FA4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625BF-88BF-4D5B-9FB3-B2DB3CA4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BB34-B3C8-4A42-A4C2-D10449CA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163F7-5AAE-403D-B907-00DE861E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C20B2-52A3-4407-B35E-144C0BE5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92963-8266-45DD-AFA1-815E4773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5C4-7B80-4307-903E-8444A28F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44C7-6407-4D09-B6B9-04C129104D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FF2F-A005-4337-84E4-8C13306677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B02D-7CA8-4AC6-AB9E-900C02C8E6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7AC5-B5DB-468C-9B4F-CFD8C9E84D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1753-A401-4868-BB8D-C98CB75E8DC1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94F5-B1EB-4815-A2F7-B02EFB8C20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1D81-D12E-4BC1-897D-2135A7E87F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image" Target="../media/image58.png"/><Relationship Id="rId1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8240" y="1966680"/>
            <a:ext cx="101106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«Включение  ребенка  с расстройствами аутистичного спектра в общеобразовательную среду »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3606840" y="3108240"/>
            <a:ext cx="487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Составитель: Аристова Гал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                            </a:t>
            </a: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Учитель - дефектол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                            </a:t>
            </a: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ГБОУ СО ЦПМСС «Эх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80520" y="4330440"/>
            <a:ext cx="113950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Arial"/>
                <a:ea typeface="Arial"/>
              </a:rPr>
              <a:t>ГАОУ ДПО СВЕРДЛОВСКОЙ ОБЛАСТИ «ИНСТИТУТ РАЗВИТИЯ ОБРАЗОВАНИЯ»</a:t>
            </a: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Arial"/>
                <a:ea typeface="Arial"/>
              </a:rPr>
              <a:t>2 ноября 2017 год</a:t>
            </a: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C:\Users\Адм\YandexDisk\Скриншоты\2016-05-04_14-32-34.png"/>
          <p:cNvPicPr/>
          <p:nvPr/>
        </p:nvPicPr>
        <p:blipFill>
          <a:blip r:embed="rId1"/>
          <a:stretch/>
        </p:blipFill>
        <p:spPr>
          <a:xfrm>
            <a:off x="204840" y="1900080"/>
            <a:ext cx="1324080" cy="1946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Адм\YandexDisk\Скриншоты\2016-05-04_14-34-54.png"/>
          <p:cNvPicPr/>
          <p:nvPr/>
        </p:nvPicPr>
        <p:blipFill>
          <a:blip r:embed="rId2"/>
          <a:stretch/>
        </p:blipFill>
        <p:spPr>
          <a:xfrm>
            <a:off x="7481880" y="4543560"/>
            <a:ext cx="1684440" cy="151596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11520" y="591012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ясняющие карт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3"/>
          <a:stretch/>
        </p:blipFill>
        <p:spPr>
          <a:xfrm>
            <a:off x="8899560" y="496800"/>
            <a:ext cx="3097080" cy="1106640"/>
          </a:xfrm>
          <a:prstGeom prst="rect">
            <a:avLst/>
          </a:prstGeom>
          <a:ln w="0">
            <a:noFill/>
          </a:ln>
        </p:spPr>
      </p:pic>
      <p:sp>
        <p:nvSpPr>
          <p:cNvPr id="423" name="TextBox 5"/>
          <p:cNvSpPr/>
          <p:nvPr/>
        </p:nvSpPr>
        <p:spPr>
          <a:xfrm>
            <a:off x="3095640" y="54864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ртинки и пиктограммы позволя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разить свои эмоции, чувства, жел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4" descr="C:\Users\Адм\YandexDisk\Скриншоты\2016-05-04_14-51-16.png"/>
          <p:cNvPicPr/>
          <p:nvPr/>
        </p:nvPicPr>
        <p:blipFill>
          <a:blip r:embed="rId4"/>
          <a:stretch/>
        </p:blipFill>
        <p:spPr>
          <a:xfrm>
            <a:off x="5695920" y="1897200"/>
            <a:ext cx="1633680" cy="18558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Адм\YandexDisk\Скриншоты\2016-05-03_00-15-58.png"/>
          <p:cNvPicPr/>
          <p:nvPr/>
        </p:nvPicPr>
        <p:blipFill>
          <a:blip r:embed="rId5"/>
          <a:stretch/>
        </p:blipFill>
        <p:spPr>
          <a:xfrm>
            <a:off x="3071880" y="3916440"/>
            <a:ext cx="2182680" cy="1268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C:\Users\Адм\YandexDisk\Скриншоты\2016-05-04_15-00-16.png"/>
          <p:cNvPicPr/>
          <p:nvPr/>
        </p:nvPicPr>
        <p:blipFill>
          <a:blip r:embed="rId6"/>
          <a:stretch/>
        </p:blipFill>
        <p:spPr>
          <a:xfrm>
            <a:off x="3013200" y="2087640"/>
            <a:ext cx="2473200" cy="16761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C:\Users\Адм\YandexDisk\Скриншоты\2016-05-04_15-08-10.png"/>
          <p:cNvPicPr/>
          <p:nvPr/>
        </p:nvPicPr>
        <p:blipFill>
          <a:blip r:embed="rId7"/>
          <a:stretch/>
        </p:blipFill>
        <p:spPr>
          <a:xfrm>
            <a:off x="1569960" y="3941640"/>
            <a:ext cx="1295640" cy="1871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C:\Users\Адм\YandexDisk\Скриншоты\2016-05-04_15-09-52.png"/>
          <p:cNvPicPr/>
          <p:nvPr/>
        </p:nvPicPr>
        <p:blipFill>
          <a:blip r:embed="rId8"/>
          <a:stretch/>
        </p:blipFill>
        <p:spPr>
          <a:xfrm>
            <a:off x="1616040" y="1922400"/>
            <a:ext cx="1251000" cy="1913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C:\Users\Адм\YandexDisk\Скриншоты\2016-05-04_14-48-17.png"/>
          <p:cNvPicPr/>
          <p:nvPr/>
        </p:nvPicPr>
        <p:blipFill>
          <a:blip r:embed="rId9"/>
          <a:stretch/>
        </p:blipFill>
        <p:spPr>
          <a:xfrm>
            <a:off x="204840" y="3930480"/>
            <a:ext cx="1270080" cy="1814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C:\Users\Адм\YandexDisk\Скриншоты\2016-05-04_15-21-25.png"/>
          <p:cNvPicPr/>
          <p:nvPr/>
        </p:nvPicPr>
        <p:blipFill>
          <a:blip r:embed="rId10"/>
          <a:stretch/>
        </p:blipFill>
        <p:spPr>
          <a:xfrm>
            <a:off x="7550280" y="1798560"/>
            <a:ext cx="1514520" cy="2685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C:\Users\Адм\YandexDisk\Скриншоты\2016-05-04_15-26-34.png"/>
          <p:cNvPicPr/>
          <p:nvPr/>
        </p:nvPicPr>
        <p:blipFill>
          <a:blip r:embed="rId11"/>
          <a:stretch/>
        </p:blipFill>
        <p:spPr>
          <a:xfrm>
            <a:off x="5481720" y="3903840"/>
            <a:ext cx="1819080" cy="1360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C:\Users\Адм\YandexDisk\Скриншоты\2016-05-04_15-33-37.png"/>
          <p:cNvPicPr/>
          <p:nvPr/>
        </p:nvPicPr>
        <p:blipFill>
          <a:blip r:embed="rId12"/>
          <a:srcRect l="-181" t="-210" r="0" b="0"/>
          <a:stretch/>
        </p:blipFill>
        <p:spPr>
          <a:xfrm>
            <a:off x="10755360" y="2797200"/>
            <a:ext cx="1190520" cy="860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C:\Users\Адм\YandexDisk\Скриншоты\2016-05-04_15-40-02.png"/>
          <p:cNvPicPr/>
          <p:nvPr/>
        </p:nvPicPr>
        <p:blipFill>
          <a:blip r:embed="rId13"/>
          <a:stretch/>
        </p:blipFill>
        <p:spPr>
          <a:xfrm>
            <a:off x="9228240" y="2852640"/>
            <a:ext cx="1344600" cy="887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5" descr="http://ucentr46.ru/sites/default/files/styles/uc_product/public/gt-s20w_0.jpg?itok=_6a2QuqC"/>
          <p:cNvPicPr/>
          <p:nvPr/>
        </p:nvPicPr>
        <p:blipFill>
          <a:blip r:embed="rId14"/>
          <a:stretch/>
        </p:blipFill>
        <p:spPr>
          <a:xfrm>
            <a:off x="9242280" y="174132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7" descr="C:\Users\Адм\YandexDisk\Скриншоты\2016-05-04_15-47-34.png"/>
          <p:cNvPicPr/>
          <p:nvPr/>
        </p:nvPicPr>
        <p:blipFill>
          <a:blip r:embed="rId15"/>
          <a:stretch/>
        </p:blipFill>
        <p:spPr>
          <a:xfrm>
            <a:off x="9239400" y="3808440"/>
            <a:ext cx="1400040" cy="941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8" descr="C:\Users\Адм\YandexDisk\Скриншоты\2016-05-04_15-52-55.png"/>
          <p:cNvPicPr/>
          <p:nvPr/>
        </p:nvPicPr>
        <p:blipFill>
          <a:blip r:embed="rId16"/>
          <a:stretch/>
        </p:blipFill>
        <p:spPr>
          <a:xfrm>
            <a:off x="10783800" y="3784680"/>
            <a:ext cx="1144800" cy="909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0" descr="C:\Users\Адм\YandexDisk\Скриншоты\2016-05-04_15-57-07.png"/>
          <p:cNvPicPr/>
          <p:nvPr/>
        </p:nvPicPr>
        <p:blipFill>
          <a:blip r:embed="rId17"/>
          <a:stretch/>
        </p:blipFill>
        <p:spPr>
          <a:xfrm>
            <a:off x="9239400" y="4863960"/>
            <a:ext cx="1350720" cy="1041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1" descr="C:\Users\Адм\YandexDisk\Скриншоты\2016-05-04_16-00-32.png"/>
          <p:cNvPicPr/>
          <p:nvPr/>
        </p:nvPicPr>
        <p:blipFill>
          <a:blip r:embed="rId18"/>
          <a:stretch/>
        </p:blipFill>
        <p:spPr>
          <a:xfrm>
            <a:off x="10682280" y="4862520"/>
            <a:ext cx="1258920" cy="10065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3"/>
          <p:cNvSpPr/>
          <p:nvPr/>
        </p:nvSpPr>
        <p:spPr>
          <a:xfrm>
            <a:off x="9367920" y="593712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чевой коммуник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23" descr="http://outfund.ru/wp-content/uploads/2014/07/ipad.png"/>
          <p:cNvPicPr/>
          <p:nvPr/>
        </p:nvPicPr>
        <p:blipFill>
          <a:blip r:embed="rId19"/>
          <a:stretch/>
        </p:blipFill>
        <p:spPr>
          <a:xfrm>
            <a:off x="10393200" y="1793880"/>
            <a:ext cx="1687680" cy="7858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27"/>
          <p:cNvSpPr/>
          <p:nvPr/>
        </p:nvSpPr>
        <p:spPr>
          <a:xfrm>
            <a:off x="1776240" y="177840"/>
            <a:ext cx="728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libri"/>
              </a:rPr>
              <a:t>Вспомогательная наглядность </a:t>
            </a:r>
            <a:r>
              <a:rPr b="0" lang="ru-RU" sz="1800" spc="-1" strike="noStrike">
                <a:solidFill>
                  <a:srgbClr val="ab620e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ab620e"/>
                </a:solidFill>
                <a:latin typeface="Calibri"/>
              </a:rPr>
              <a:t>это картинки в бумажном или электронном варианте, позволяющие ребенку выражать свои потребности, чувства, эмоции, желания, мысли, а взрослому пояснять ребенку  происходящее и требуемое от н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2"/>
          <p:cNvSpPr/>
          <p:nvPr/>
        </p:nvSpPr>
        <p:spPr>
          <a:xfrm>
            <a:off x="2054160" y="409680"/>
            <a:ext cx="974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620e"/>
                </a:solidFill>
                <a:latin typeface="Times New Roman"/>
                <a:ea typeface="Times New Roman"/>
              </a:rPr>
              <a:t>Социальные истории</a:t>
            </a:r>
            <a:r>
              <a:rPr b="1" lang="en-US" sz="2000" spc="-1" strike="noStrike">
                <a:solidFill>
                  <a:srgbClr val="ab620e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это иллюстрированные истории, позволяющие нагляд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объяснить ребенку происходящие или планируемые действия,  с целью сни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уровня его тревожности и предупреждения нежелательного по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2" descr="http://www.corhelp.ru/wp-content/uploads/2015/04/2014-12-11_00001.jpg"/>
          <p:cNvPicPr/>
          <p:nvPr/>
        </p:nvPicPr>
        <p:blipFill>
          <a:blip r:embed="rId1"/>
          <a:stretch/>
        </p:blipFill>
        <p:spPr>
          <a:xfrm>
            <a:off x="8740800" y="4440240"/>
            <a:ext cx="1440000" cy="1863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2427120" y="4421160"/>
            <a:ext cx="1478160" cy="18162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4" descr="2016-05-04_14-42-16.png"/>
          <p:cNvPicPr/>
          <p:nvPr/>
        </p:nvPicPr>
        <p:blipFill>
          <a:blip r:embed="rId3"/>
          <a:stretch/>
        </p:blipFill>
        <p:spPr>
          <a:xfrm>
            <a:off x="6097680" y="1781280"/>
            <a:ext cx="1811160" cy="2503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http://www.corhelp.ru/wp-content/uploads/2015/04/hairdresser.jpg"/>
          <p:cNvPicPr/>
          <p:nvPr/>
        </p:nvPicPr>
        <p:blipFill>
          <a:blip r:embed="rId4"/>
          <a:stretch/>
        </p:blipFill>
        <p:spPr>
          <a:xfrm>
            <a:off x="417600" y="4381560"/>
            <a:ext cx="1881000" cy="18860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Поход в магазин"/>
          <p:cNvPicPr/>
          <p:nvPr/>
        </p:nvPicPr>
        <p:blipFill>
          <a:blip r:embed="rId5"/>
          <a:stretch/>
        </p:blipFill>
        <p:spPr>
          <a:xfrm>
            <a:off x="4257720" y="1830240"/>
            <a:ext cx="1731960" cy="2468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Посещение мужского туалета"/>
          <p:cNvPicPr/>
          <p:nvPr/>
        </p:nvPicPr>
        <p:blipFill>
          <a:blip r:embed="rId6"/>
          <a:stretch/>
        </p:blipFill>
        <p:spPr>
          <a:xfrm>
            <a:off x="2374920" y="1870200"/>
            <a:ext cx="1755720" cy="2428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3" descr="Как вести себя в столовой"/>
          <p:cNvPicPr/>
          <p:nvPr/>
        </p:nvPicPr>
        <p:blipFill>
          <a:blip r:embed="rId7"/>
          <a:stretch/>
        </p:blipFill>
        <p:spPr>
          <a:xfrm>
            <a:off x="8005680" y="1835280"/>
            <a:ext cx="1728720" cy="2395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5" descr="Что можно, а что нельзя делать в школе"/>
          <p:cNvPicPr/>
          <p:nvPr/>
        </p:nvPicPr>
        <p:blipFill>
          <a:blip r:embed="rId8"/>
          <a:stretch/>
        </p:blipFill>
        <p:spPr>
          <a:xfrm>
            <a:off x="9872640" y="1828800"/>
            <a:ext cx="1700280" cy="2424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7" descr="morning"/>
          <p:cNvPicPr/>
          <p:nvPr/>
        </p:nvPicPr>
        <p:blipFill>
          <a:blip r:embed="rId9"/>
          <a:stretch/>
        </p:blipFill>
        <p:spPr>
          <a:xfrm>
            <a:off x="6927840" y="4419720"/>
            <a:ext cx="1697040" cy="1778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9" descr="Одевание"/>
          <p:cNvPicPr/>
          <p:nvPr/>
        </p:nvPicPr>
        <p:blipFill>
          <a:blip r:embed="rId10"/>
          <a:stretch/>
        </p:blipFill>
        <p:spPr>
          <a:xfrm>
            <a:off x="349200" y="1806480"/>
            <a:ext cx="1903320" cy="2379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1" descr="Как вести себя в кафе"/>
          <p:cNvPicPr/>
          <p:nvPr/>
        </p:nvPicPr>
        <p:blipFill>
          <a:blip r:embed="rId11"/>
          <a:stretch/>
        </p:blipFill>
        <p:spPr>
          <a:xfrm>
            <a:off x="10325160" y="4437000"/>
            <a:ext cx="1272960" cy="18129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5" descr="2016-05-05_03-15-06.png"/>
          <p:cNvPicPr/>
          <p:nvPr/>
        </p:nvPicPr>
        <p:blipFill>
          <a:blip r:embed="rId12"/>
          <a:stretch/>
        </p:blipFill>
        <p:spPr>
          <a:xfrm>
            <a:off x="4005360" y="4489560"/>
            <a:ext cx="28512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1" descr="2016-05-04_13-49-09.png"/>
          <p:cNvPicPr/>
          <p:nvPr/>
        </p:nvPicPr>
        <p:blipFill>
          <a:blip r:embed="rId1"/>
          <a:stretch/>
        </p:blipFill>
        <p:spPr>
          <a:xfrm>
            <a:off x="303120" y="1862280"/>
            <a:ext cx="3203640" cy="19620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2" descr="2016-05-09_16-09-43.png"/>
          <p:cNvPicPr/>
          <p:nvPr/>
        </p:nvPicPr>
        <p:blipFill>
          <a:blip r:embed="rId2"/>
          <a:stretch/>
        </p:blipFill>
        <p:spPr>
          <a:xfrm>
            <a:off x="324000" y="4041720"/>
            <a:ext cx="3170160" cy="19432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3" descr="2000-01-05 22-50-38.JPG"/>
          <p:cNvPicPr/>
          <p:nvPr/>
        </p:nvPicPr>
        <p:blipFill>
          <a:blip r:embed="rId3"/>
          <a:stretch/>
        </p:blipFill>
        <p:spPr>
          <a:xfrm>
            <a:off x="3666960" y="1843200"/>
            <a:ext cx="2051280" cy="4367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http://img1.liveinternet.ru/images/attach/c/6/91/9/91009737_PL_RASPORADOK.jpg"/>
          <p:cNvPicPr/>
          <p:nvPr/>
        </p:nvPicPr>
        <p:blipFill>
          <a:blip r:embed="rId4"/>
          <a:stretch/>
        </p:blipFill>
        <p:spPr>
          <a:xfrm>
            <a:off x="5850000" y="1870200"/>
            <a:ext cx="2994120" cy="4352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Users\Адм\YandexDisk\Скриншоты\2016-05-16_07-21-51.png"/>
          <p:cNvPicPr/>
          <p:nvPr/>
        </p:nvPicPr>
        <p:blipFill>
          <a:blip r:embed="rId5"/>
          <a:stretch/>
        </p:blipFill>
        <p:spPr>
          <a:xfrm>
            <a:off x="8916840" y="1911240"/>
            <a:ext cx="3002040" cy="4338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7"/>
          <p:cNvSpPr/>
          <p:nvPr/>
        </p:nvSpPr>
        <p:spPr>
          <a:xfrm>
            <a:off x="2160720" y="195120"/>
            <a:ext cx="958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Визуальное расписание – позволяет ориентировать ребенка во времени и пространстве, а также помогает ребенку отслеживать свою работу в последовательности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5480" y="1784520"/>
            <a:ext cx="1190628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нее существовавшая модель образования детей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6" name="Picture 6" descr="new_page612_01_215x142"/>
          <p:cNvPicPr/>
          <p:nvPr/>
        </p:nvPicPr>
        <p:blipFill>
          <a:blip r:embed="rId1"/>
          <a:stretch/>
        </p:blipFill>
        <p:spPr>
          <a:xfrm>
            <a:off x="2270160" y="2567160"/>
            <a:ext cx="2130480" cy="251136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pic>
        <p:nvPicPr>
          <p:cNvPr id="327" name="Picture 7" descr="new_page612_02_215x142"/>
          <p:cNvPicPr/>
          <p:nvPr/>
        </p:nvPicPr>
        <p:blipFill>
          <a:blip r:embed="rId2"/>
          <a:stretch/>
        </p:blipFill>
        <p:spPr>
          <a:xfrm>
            <a:off x="5133960" y="2583000"/>
            <a:ext cx="2112840" cy="245412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pic>
        <p:nvPicPr>
          <p:cNvPr id="328" name="Picture 9" descr="new_page612_04_215x142"/>
          <p:cNvPicPr/>
          <p:nvPr/>
        </p:nvPicPr>
        <p:blipFill>
          <a:blip r:embed="rId3"/>
          <a:stretch/>
        </p:blipFill>
        <p:spPr>
          <a:xfrm>
            <a:off x="7850160" y="2573280"/>
            <a:ext cx="2144880" cy="252720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sp>
        <p:nvSpPr>
          <p:cNvPr id="329" name="AutoShape 48"/>
          <p:cNvSpPr/>
          <p:nvPr/>
        </p:nvSpPr>
        <p:spPr>
          <a:xfrm flipV="1">
            <a:off x="7962840" y="5387400"/>
            <a:ext cx="2148120" cy="65556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ти вне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8"/>
          <p:cNvSpPr/>
          <p:nvPr/>
        </p:nvSpPr>
        <p:spPr>
          <a:xfrm flipV="1">
            <a:off x="5079960" y="5370480"/>
            <a:ext cx="2222640" cy="67320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ециальное 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48"/>
          <p:cNvSpPr/>
          <p:nvPr/>
        </p:nvSpPr>
        <p:spPr>
          <a:xfrm flipV="1">
            <a:off x="2149560" y="5396760"/>
            <a:ext cx="2197080" cy="67140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щ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Заголовок 3"/>
          <p:cNvSpPr/>
          <p:nvPr/>
        </p:nvSpPr>
        <p:spPr>
          <a:xfrm>
            <a:off x="1347840" y="130320"/>
            <a:ext cx="10625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51080" y="1579320"/>
            <a:ext cx="103536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овременная модель структуры содержания образования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grpSp>
        <p:nvGrpSpPr>
          <p:cNvPr id="334" name="Group 35"/>
          <p:cNvGrpSpPr/>
          <p:nvPr/>
        </p:nvGrpSpPr>
        <p:grpSpPr>
          <a:xfrm>
            <a:off x="506520" y="2390400"/>
            <a:ext cx="11186640" cy="3865680"/>
            <a:chOff x="506520" y="2390400"/>
            <a:chExt cx="11186640" cy="3865680"/>
          </a:xfrm>
        </p:grpSpPr>
        <p:grpSp>
          <p:nvGrpSpPr>
            <p:cNvPr id="335" name="Group 36"/>
            <p:cNvGrpSpPr/>
            <p:nvPr/>
          </p:nvGrpSpPr>
          <p:grpSpPr>
            <a:xfrm>
              <a:off x="506520" y="2390400"/>
              <a:ext cx="11186640" cy="3865680"/>
              <a:chOff x="506520" y="2390400"/>
              <a:chExt cx="11186640" cy="3865680"/>
            </a:xfrm>
          </p:grpSpPr>
          <p:grpSp>
            <p:nvGrpSpPr>
              <p:cNvPr id="336" name="Group 37"/>
              <p:cNvGrpSpPr/>
              <p:nvPr/>
            </p:nvGrpSpPr>
            <p:grpSpPr>
              <a:xfrm>
                <a:off x="1294200" y="2390400"/>
                <a:ext cx="10398960" cy="3865680"/>
                <a:chOff x="1294200" y="2390400"/>
                <a:chExt cx="10398960" cy="3865680"/>
              </a:xfrm>
            </p:grpSpPr>
            <p:grpSp>
              <p:nvGrpSpPr>
                <p:cNvPr id="337" name="Group 38"/>
                <p:cNvGrpSpPr/>
                <p:nvPr/>
              </p:nvGrpSpPr>
              <p:grpSpPr>
                <a:xfrm>
                  <a:off x="4727520" y="2741760"/>
                  <a:ext cx="1713600" cy="1289880"/>
                  <a:chOff x="4727520" y="2741760"/>
                  <a:chExt cx="1713600" cy="1289880"/>
                </a:xfrm>
              </p:grpSpPr>
              <p:sp>
                <p:nvSpPr>
                  <p:cNvPr id="338" name="Oval 39"/>
                  <p:cNvSpPr/>
                  <p:nvPr/>
                </p:nvSpPr>
                <p:spPr>
                  <a:xfrm>
                    <a:off x="4727520" y="274176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9" name="Oval 40"/>
                  <p:cNvSpPr/>
                  <p:nvPr/>
                </p:nvSpPr>
                <p:spPr>
                  <a:xfrm>
                    <a:off x="4835520" y="2831760"/>
                    <a:ext cx="1501200" cy="1119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0" name="Oval 41"/>
                  <p:cNvSpPr/>
                  <p:nvPr/>
                </p:nvSpPr>
                <p:spPr>
                  <a:xfrm>
                    <a:off x="5028120" y="2996280"/>
                    <a:ext cx="1086840" cy="8107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Oval 42"/>
                  <p:cNvSpPr/>
                  <p:nvPr/>
                </p:nvSpPr>
                <p:spPr>
                  <a:xfrm>
                    <a:off x="5156280" y="3084480"/>
                    <a:ext cx="861120" cy="62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42" name="Group 43"/>
                <p:cNvGrpSpPr/>
                <p:nvPr/>
              </p:nvGrpSpPr>
              <p:grpSpPr>
                <a:xfrm>
                  <a:off x="6646680" y="2734200"/>
                  <a:ext cx="1713600" cy="1289880"/>
                  <a:chOff x="6646680" y="2734200"/>
                  <a:chExt cx="1713600" cy="1289880"/>
                </a:xfrm>
              </p:grpSpPr>
              <p:sp>
                <p:nvSpPr>
                  <p:cNvPr id="343" name="Oval 44"/>
                  <p:cNvSpPr/>
                  <p:nvPr/>
                </p:nvSpPr>
                <p:spPr>
                  <a:xfrm>
                    <a:off x="6646680" y="273420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4" name="Oval 45"/>
                  <p:cNvSpPr/>
                  <p:nvPr/>
                </p:nvSpPr>
                <p:spPr>
                  <a:xfrm>
                    <a:off x="6771960" y="2845080"/>
                    <a:ext cx="1455840" cy="1083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5" name="Oval 46"/>
                  <p:cNvSpPr/>
                  <p:nvPr/>
                </p:nvSpPr>
                <p:spPr>
                  <a:xfrm>
                    <a:off x="6850800" y="2921760"/>
                    <a:ext cx="1289520" cy="9363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6" name="Oval 47"/>
                  <p:cNvSpPr/>
                  <p:nvPr/>
                </p:nvSpPr>
                <p:spPr>
                  <a:xfrm>
                    <a:off x="7068240" y="3076560"/>
                    <a:ext cx="860400" cy="622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47" name="AutoShape 48"/>
                <p:cNvSpPr/>
                <p:nvPr/>
              </p:nvSpPr>
              <p:spPr>
                <a:xfrm flipV="1">
                  <a:off x="8342640" y="2402640"/>
                  <a:ext cx="3321360" cy="690480"/>
                </a:xfrm>
                <a:prstGeom prst="wedgeRectCallout">
                  <a:avLst>
                    <a:gd name="adj1" fmla="val -55203"/>
                    <a:gd name="adj2" fmla="val -94787"/>
                  </a:avLst>
                </a:prstGeom>
                <a:solidFill>
                  <a:srgbClr val="f7ce9d"/>
                </a:solidFill>
                <a:ln w="9360">
                  <a:solidFill>
                    <a:srgbClr val="ab620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Цензовый уровень  образования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AutoShape 49"/>
                <p:cNvSpPr/>
                <p:nvPr/>
              </p:nvSpPr>
              <p:spPr>
                <a:xfrm flipV="1">
                  <a:off x="1294200" y="2389680"/>
                  <a:ext cx="3438000" cy="674280"/>
                </a:xfrm>
                <a:prstGeom prst="wedgeRectCallout">
                  <a:avLst>
                    <a:gd name="adj1" fmla="val 68675"/>
                    <a:gd name="adj2" fmla="val -17750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Цензовый уровень  образования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49" name="Group 50"/>
                <p:cNvGrpSpPr/>
                <p:nvPr/>
              </p:nvGrpSpPr>
              <p:grpSpPr>
                <a:xfrm>
                  <a:off x="4834800" y="4419720"/>
                  <a:ext cx="1713600" cy="1289880"/>
                  <a:chOff x="4834800" y="4419720"/>
                  <a:chExt cx="1713600" cy="1289880"/>
                </a:xfrm>
              </p:grpSpPr>
              <p:sp>
                <p:nvSpPr>
                  <p:cNvPr id="350" name="Oval 51"/>
                  <p:cNvSpPr/>
                  <p:nvPr/>
                </p:nvSpPr>
                <p:spPr>
                  <a:xfrm>
                    <a:off x="4834800" y="441972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1" name="Oval 52"/>
                  <p:cNvSpPr/>
                  <p:nvPr/>
                </p:nvSpPr>
                <p:spPr>
                  <a:xfrm>
                    <a:off x="4997880" y="4568400"/>
                    <a:ext cx="1374480" cy="102348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2" name="Oval 53"/>
                  <p:cNvSpPr/>
                  <p:nvPr/>
                </p:nvSpPr>
                <p:spPr>
                  <a:xfrm>
                    <a:off x="5080320" y="4626360"/>
                    <a:ext cx="1204560" cy="9093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3" name="Oval 54"/>
                  <p:cNvSpPr/>
                  <p:nvPr/>
                </p:nvSpPr>
                <p:spPr>
                  <a:xfrm>
                    <a:off x="5379120" y="4859640"/>
                    <a:ext cx="586800" cy="44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54" name="AutoShape 55"/>
                <p:cNvSpPr/>
                <p:nvPr/>
              </p:nvSpPr>
              <p:spPr>
                <a:xfrm flipV="1">
                  <a:off x="1406160" y="5627520"/>
                  <a:ext cx="3649320" cy="601200"/>
                </a:xfrm>
                <a:prstGeom prst="wedgeRectCallout">
                  <a:avLst>
                    <a:gd name="adj1" fmla="val 65685"/>
                    <a:gd name="adj2" fmla="val 54953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Образование ниже цензового уровня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55" name="Group 56"/>
                <p:cNvGrpSpPr/>
                <p:nvPr/>
              </p:nvGrpSpPr>
              <p:grpSpPr>
                <a:xfrm>
                  <a:off x="6709320" y="4419720"/>
                  <a:ext cx="1713240" cy="1289880"/>
                  <a:chOff x="6709320" y="4419720"/>
                  <a:chExt cx="1713240" cy="1289880"/>
                </a:xfrm>
              </p:grpSpPr>
              <p:sp>
                <p:nvSpPr>
                  <p:cNvPr id="356" name="Oval 57"/>
                  <p:cNvSpPr/>
                  <p:nvPr/>
                </p:nvSpPr>
                <p:spPr>
                  <a:xfrm>
                    <a:off x="6709320" y="4419720"/>
                    <a:ext cx="171324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7" name="Oval 58"/>
                  <p:cNvSpPr/>
                  <p:nvPr/>
                </p:nvSpPr>
                <p:spPr>
                  <a:xfrm>
                    <a:off x="6998400" y="4683240"/>
                    <a:ext cx="1083960" cy="804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8" name="Oval 59"/>
                  <p:cNvSpPr/>
                  <p:nvPr/>
                </p:nvSpPr>
                <p:spPr>
                  <a:xfrm>
                    <a:off x="7153200" y="4810320"/>
                    <a:ext cx="774720" cy="550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59" name="AutoShape 60"/>
                <p:cNvSpPr/>
                <p:nvPr/>
              </p:nvSpPr>
              <p:spPr>
                <a:xfrm flipV="1">
                  <a:off x="7981200" y="5553360"/>
                  <a:ext cx="3711960" cy="702720"/>
                </a:xfrm>
                <a:prstGeom prst="wedgeRectCallout">
                  <a:avLst>
                    <a:gd name="adj1" fmla="val -38050"/>
                    <a:gd name="adj2" fmla="val 84791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14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4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Социальные навыки и элементы общего обра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0" name="AutoShape 61"/>
              <p:cNvSpPr/>
              <p:nvPr/>
            </p:nvSpPr>
            <p:spPr>
              <a:xfrm>
                <a:off x="520920" y="3847680"/>
                <a:ext cx="4149720" cy="403200"/>
              </a:xfrm>
              <a:prstGeom prst="borderCallout1">
                <a:avLst>
                  <a:gd name="adj1" fmla="val 18750"/>
                  <a:gd name="adj2" fmla="val -8333"/>
                  <a:gd name="adj3" fmla="val -32810"/>
                  <a:gd name="adj4" fmla="val 11725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724209"/>
                    </a:solidFill>
                    <a:latin typeface="Calibri"/>
                  </a:rPr>
                  <a:t>Коррекцион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AutoShape 62"/>
              <p:cNvSpPr/>
              <p:nvPr/>
            </p:nvSpPr>
            <p:spPr>
              <a:xfrm>
                <a:off x="506520" y="3368520"/>
                <a:ext cx="4103280" cy="387000"/>
              </a:xfrm>
              <a:prstGeom prst="borderCallout1">
                <a:avLst>
                  <a:gd name="adj1" fmla="val 18750"/>
                  <a:gd name="adj2" fmla="val -8333"/>
                  <a:gd name="adj3" fmla="val 22523"/>
                  <a:gd name="adj4" fmla="val 125499"/>
                </a:avLst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Фундаментальное ядро 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AutoShape 63"/>
              <p:cNvSpPr/>
              <p:nvPr/>
            </p:nvSpPr>
            <p:spPr>
              <a:xfrm>
                <a:off x="576360" y="4782960"/>
                <a:ext cx="4074840" cy="393480"/>
              </a:xfrm>
              <a:prstGeom prst="borderCallout1">
                <a:avLst>
                  <a:gd name="adj1" fmla="val 18750"/>
                  <a:gd name="adj2" fmla="val -8333"/>
                  <a:gd name="adj3" fmla="val -217560"/>
                  <a:gd name="adj4" fmla="val 133375"/>
                </a:avLst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Социально-адаптацион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AutoShape 64"/>
              <p:cNvSpPr/>
              <p:nvPr/>
            </p:nvSpPr>
            <p:spPr>
              <a:xfrm>
                <a:off x="520920" y="4298760"/>
                <a:ext cx="4134960" cy="385560"/>
              </a:xfrm>
              <a:prstGeom prst="borderCallout1">
                <a:avLst>
                  <a:gd name="adj1" fmla="val 18750"/>
                  <a:gd name="adj2" fmla="val -8333"/>
                  <a:gd name="adj3" fmla="val 11828"/>
                  <a:gd name="adj4" fmla="val 94324"/>
                </a:avLst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Образовательно-воспитатель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4" name="Oval 65"/>
            <p:cNvSpPr/>
            <p:nvPr/>
          </p:nvSpPr>
          <p:spPr>
            <a:xfrm>
              <a:off x="7373880" y="4945320"/>
              <a:ext cx="346320" cy="250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5" name="Заголовок 3"/>
          <p:cNvSpPr/>
          <p:nvPr/>
        </p:nvSpPr>
        <p:spPr>
          <a:xfrm>
            <a:off x="1347840" y="130320"/>
            <a:ext cx="10625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Схема 8" descr=""/>
          <p:cNvPicPr/>
          <p:nvPr/>
        </p:nvPicPr>
        <p:blipFill>
          <a:blip r:embed="rId1"/>
          <a:stretch/>
        </p:blipFill>
        <p:spPr>
          <a:xfrm>
            <a:off x="-1620720" y="3029040"/>
            <a:ext cx="11185560" cy="32256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0"/>
          <p:cNvSpPr/>
          <p:nvPr/>
        </p:nvSpPr>
        <p:spPr>
          <a:xfrm>
            <a:off x="168120" y="1879560"/>
            <a:ext cx="12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Затруднения возникающие при  совместной деятельности педагога и ребёнка с</a:t>
            </a:r>
            <a:r>
              <a:rPr b="1" lang="ru-RU" sz="24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сстройствами аутистичного спек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10735200" y="4253040"/>
            <a:ext cx="4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9734400" y="32893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1"/>
          <p:cNvSpPr/>
          <p:nvPr/>
        </p:nvSpPr>
        <p:spPr>
          <a:xfrm>
            <a:off x="9204120" y="379584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9109800" y="506556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9858960" y="56116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4"/>
          <p:cNvSpPr/>
          <p:nvPr/>
        </p:nvSpPr>
        <p:spPr>
          <a:xfrm>
            <a:off x="9808560" y="4829040"/>
            <a:ext cx="4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http://mr-shar.ru/photos/material-dlya-raboty-po-muzykalnomu-vospitaniyu-s-detmi-so-slojnoy-strukturoy-defekta-70283-large.jpg"/>
          <p:cNvPicPr/>
          <p:nvPr/>
        </p:nvPicPr>
        <p:blipFill>
          <a:blip r:embed="rId2"/>
          <a:stretch/>
        </p:blipFill>
        <p:spPr>
          <a:xfrm>
            <a:off x="8018640" y="3138480"/>
            <a:ext cx="3759120" cy="30304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47840" y="129960"/>
            <a:ext cx="1062504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5880" y="1746360"/>
            <a:ext cx="11945880" cy="104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1. Внедряем ребёнка в образовательную среду                   2. Устанавливаем контакт 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7" name="Picture 12" descr=""/>
          <p:cNvPicPr/>
          <p:nvPr/>
        </p:nvPicPr>
        <p:blipFill>
          <a:blip r:embed="rId1"/>
          <a:stretch/>
        </p:blipFill>
        <p:spPr>
          <a:xfrm>
            <a:off x="299880" y="2811600"/>
            <a:ext cx="6855120" cy="3206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http://www.s.056.ua/section/newsIconCis2/subdir/full/upload/images/news/icon/shutterstock_61699324-e1413909818258_143219522364_143281853140.jpg"/>
          <p:cNvPicPr/>
          <p:nvPr/>
        </p:nvPicPr>
        <p:blipFill>
          <a:blip r:embed="rId2"/>
          <a:stretch/>
        </p:blipFill>
        <p:spPr>
          <a:xfrm>
            <a:off x="7691400" y="3403440"/>
            <a:ext cx="4100400" cy="27338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6"/>
          <p:cNvSpPr/>
          <p:nvPr/>
        </p:nvSpPr>
        <p:spPr>
          <a:xfrm>
            <a:off x="7712280" y="2784600"/>
            <a:ext cx="40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Через интересы и увлечения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Заголовок 3"/>
          <p:cNvSpPr/>
          <p:nvPr/>
        </p:nvSpPr>
        <p:spPr>
          <a:xfrm>
            <a:off x="1347840" y="130320"/>
            <a:ext cx="10625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9"/>
          <p:cNvSpPr/>
          <p:nvPr/>
        </p:nvSpPr>
        <p:spPr>
          <a:xfrm>
            <a:off x="941400" y="1766880"/>
            <a:ext cx="95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10" descr=""/>
          <p:cNvPicPr/>
          <p:nvPr/>
        </p:nvPicPr>
        <p:blipFill>
          <a:blip r:embed="rId1"/>
          <a:stretch/>
        </p:blipFill>
        <p:spPr>
          <a:xfrm>
            <a:off x="0" y="2689200"/>
            <a:ext cx="6564240" cy="360684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3"/>
          <p:cNvSpPr/>
          <p:nvPr/>
        </p:nvSpPr>
        <p:spPr>
          <a:xfrm>
            <a:off x="865440" y="2030400"/>
            <a:ext cx="449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3. Начинаем работу с формир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оциально бытовых навы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рямоугольник 14"/>
          <p:cNvSpPr/>
          <p:nvPr/>
        </p:nvSpPr>
        <p:spPr>
          <a:xfrm>
            <a:off x="7372800" y="2182680"/>
            <a:ext cx="373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4. Постепенно вводим навы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академического компонен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12" descr=""/>
          <p:cNvPicPr/>
          <p:nvPr/>
        </p:nvPicPr>
        <p:blipFill>
          <a:blip r:embed="rId2"/>
          <a:stretch/>
        </p:blipFill>
        <p:spPr>
          <a:xfrm>
            <a:off x="7118280" y="3357720"/>
            <a:ext cx="4884840" cy="2881080"/>
          </a:xfrm>
          <a:prstGeom prst="rect">
            <a:avLst/>
          </a:prstGeom>
          <a:ln w="0">
            <a:noFill/>
          </a:ln>
        </p:spPr>
      </p:pic>
      <p:sp>
        <p:nvSpPr>
          <p:cNvPr id="386" name="Заголовок 3"/>
          <p:cNvSpPr/>
          <p:nvPr/>
        </p:nvSpPr>
        <p:spPr>
          <a:xfrm>
            <a:off x="1347840" y="130320"/>
            <a:ext cx="10625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4" descr="http://cdn5.imgbb.ru/user/176/1761289/201503/9ecd7adfdecbe6e2ef6eb51230e440ec.jpg"/>
          <p:cNvPicPr/>
          <p:nvPr/>
        </p:nvPicPr>
        <p:blipFill>
          <a:blip r:embed="rId1"/>
          <a:stretch/>
        </p:blipFill>
        <p:spPr>
          <a:xfrm>
            <a:off x="7175520" y="5197320"/>
            <a:ext cx="795240" cy="67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http://www.arinasorokina.ru/wp-content/uploads/2012/05/clipart-mjach.png"/>
          <p:cNvPicPr/>
          <p:nvPr/>
        </p:nvPicPr>
        <p:blipFill>
          <a:blip r:embed="rId2"/>
          <a:stretch/>
        </p:blipFill>
        <p:spPr>
          <a:xfrm>
            <a:off x="7077240" y="3800520"/>
            <a:ext cx="1179360" cy="1181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8" descr="http://dgdesign.ru/uploads/posts/2015-02/thumbs/1423726705_korichnevyy-stul-prozrachnyy-fon.png"/>
          <p:cNvPicPr/>
          <p:nvPr/>
        </p:nvPicPr>
        <p:blipFill>
          <a:blip r:embed="rId3"/>
          <a:stretch/>
        </p:blipFill>
        <p:spPr>
          <a:xfrm>
            <a:off x="8493120" y="3057480"/>
            <a:ext cx="1160640" cy="1924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0" descr="http://cs623121.vk.me/v623121106/12e1f/hLQK9z-wKUU.jpg"/>
          <p:cNvPicPr/>
          <p:nvPr/>
        </p:nvPicPr>
        <p:blipFill>
          <a:blip r:embed="rId4"/>
          <a:stretch/>
        </p:blipFill>
        <p:spPr>
          <a:xfrm>
            <a:off x="8529480" y="5005440"/>
            <a:ext cx="600120" cy="852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2" descr="http://png.clipart.me/graphics/thumbs/124/apple-icon_124633021.jpg"/>
          <p:cNvPicPr/>
          <p:nvPr/>
        </p:nvPicPr>
        <p:blipFill>
          <a:blip r:embed="rId5"/>
          <a:stretch/>
        </p:blipFill>
        <p:spPr>
          <a:xfrm>
            <a:off x="9779040" y="5267160"/>
            <a:ext cx="523800" cy="513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4" descr="http://s1.iconbird.com/ico/2013/11/491/w256h2561384698911applered.png"/>
          <p:cNvPicPr/>
          <p:nvPr/>
        </p:nvPicPr>
        <p:blipFill>
          <a:blip r:embed="rId6"/>
          <a:stretch/>
        </p:blipFill>
        <p:spPr>
          <a:xfrm>
            <a:off x="9683640" y="423072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6" descr="http://wl.static.fotolia.com/jpg/00/05/86/31/110_F_5863123_FqKD6OON0dCzvkC7xrJ0cEH7Vt7joxzu.jpg"/>
          <p:cNvPicPr/>
          <p:nvPr/>
        </p:nvPicPr>
        <p:blipFill>
          <a:blip r:embed="rId7"/>
          <a:stretch/>
        </p:blipFill>
        <p:spPr>
          <a:xfrm>
            <a:off x="10931400" y="52149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8" descr="http://www.clker.com/cliparts/r/G/a/A/x/r/toilet-md.png"/>
          <p:cNvPicPr/>
          <p:nvPr/>
        </p:nvPicPr>
        <p:blipFill>
          <a:blip r:embed="rId8"/>
          <a:stretch/>
        </p:blipFill>
        <p:spPr>
          <a:xfrm>
            <a:off x="10733040" y="3711600"/>
            <a:ext cx="951120" cy="1415880"/>
          </a:xfrm>
          <a:prstGeom prst="rect">
            <a:avLst/>
          </a:prstGeom>
          <a:ln w="0">
            <a:noFill/>
          </a:ln>
        </p:spPr>
      </p:pic>
      <p:cxnSp>
        <p:nvCxnSpPr>
          <p:cNvPr id="395" name="Прямая со стрелкой 27"/>
          <p:cNvCxnSpPr/>
          <p:nvPr/>
        </p:nvCxnSpPr>
        <p:spPr>
          <a:xfrm flipV="1">
            <a:off x="7602120" y="4939920"/>
            <a:ext cx="1080" cy="288000"/>
          </a:xfrm>
          <a:prstGeom prst="straightConnector1">
            <a:avLst/>
          </a:prstGeom>
          <a:ln w="381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396" name="Прямая со стрелкой 28"/>
          <p:cNvCxnSpPr/>
          <p:nvPr/>
        </p:nvCxnSpPr>
        <p:spPr>
          <a:xfrm flipV="1">
            <a:off x="8805600" y="4682880"/>
            <a:ext cx="1080" cy="288000"/>
          </a:xfrm>
          <a:prstGeom prst="straightConnector1">
            <a:avLst/>
          </a:prstGeom>
          <a:ln w="381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397" name="Прямая со стрелкой 29"/>
          <p:cNvCxnSpPr/>
          <p:nvPr/>
        </p:nvCxnSpPr>
        <p:spPr>
          <a:xfrm flipV="1">
            <a:off x="11234520" y="5011200"/>
            <a:ext cx="1080" cy="286560"/>
          </a:xfrm>
          <a:prstGeom prst="straightConnector1">
            <a:avLst/>
          </a:prstGeom>
          <a:ln w="381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398" name="Прямая со стрелкой 30"/>
          <p:cNvCxnSpPr/>
          <p:nvPr/>
        </p:nvCxnSpPr>
        <p:spPr>
          <a:xfrm flipV="1">
            <a:off x="10104120" y="5013000"/>
            <a:ext cx="1080" cy="288000"/>
          </a:xfrm>
          <a:prstGeom prst="straightConnector1">
            <a:avLst/>
          </a:prstGeom>
          <a:ln w="38160">
            <a:solidFill>
              <a:srgbClr val="e48312"/>
            </a:solidFill>
            <a:miter/>
            <a:tailEnd len="med" type="arrow" w="med"/>
          </a:ln>
        </p:spPr>
      </p:cxnSp>
      <p:pic>
        <p:nvPicPr>
          <p:cNvPr id="399" name="Рисунок 5" descr="КР.png"/>
          <p:cNvPicPr/>
          <p:nvPr/>
        </p:nvPicPr>
        <p:blipFill>
          <a:blip r:embed="rId9"/>
          <a:stretch/>
        </p:blipFill>
        <p:spPr>
          <a:xfrm>
            <a:off x="277920" y="2797200"/>
            <a:ext cx="6191280" cy="34671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32"/>
          <p:cNvSpPr/>
          <p:nvPr/>
        </p:nvSpPr>
        <p:spPr>
          <a:xfrm>
            <a:off x="387360" y="19861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5f2c1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оздаём для ребенка коррекционно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звивающую сре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Прямоугольник 33"/>
          <p:cNvSpPr/>
          <p:nvPr/>
        </p:nvSpPr>
        <p:spPr>
          <a:xfrm>
            <a:off x="7137360" y="210996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6. Обучаем соотнош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47840" y="129960"/>
            <a:ext cx="1062504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6" descr="ар.png"/>
          <p:cNvPicPr/>
          <p:nvPr/>
        </p:nvPicPr>
        <p:blipFill>
          <a:blip r:embed="rId1"/>
          <a:stretch/>
        </p:blipFill>
        <p:spPr>
          <a:xfrm>
            <a:off x="243000" y="2511360"/>
            <a:ext cx="5986440" cy="3703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Documents and Settings\Админ\Мои документы\Downloads\сканирование0015.jpg"/>
          <p:cNvPicPr/>
          <p:nvPr/>
        </p:nvPicPr>
        <p:blipFill>
          <a:blip r:embed="rId2"/>
          <a:stretch/>
        </p:blipFill>
        <p:spPr>
          <a:xfrm>
            <a:off x="6321600" y="1741320"/>
            <a:ext cx="1820520" cy="2108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3"/>
          <a:stretch/>
        </p:blipFill>
        <p:spPr>
          <a:xfrm>
            <a:off x="8451720" y="1833480"/>
            <a:ext cx="3503880" cy="186372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10"/>
          <p:cNvSpPr/>
          <p:nvPr/>
        </p:nvSpPr>
        <p:spPr>
          <a:xfrm>
            <a:off x="6373800" y="3816360"/>
            <a:ext cx="1749600" cy="26496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Пикт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11"/>
          <p:cNvSpPr/>
          <p:nvPr/>
        </p:nvSpPr>
        <p:spPr>
          <a:xfrm>
            <a:off x="6361200" y="5738760"/>
            <a:ext cx="2081160" cy="53028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Карточки с картин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12"/>
          <p:cNvSpPr/>
          <p:nvPr/>
        </p:nvSpPr>
        <p:spPr>
          <a:xfrm>
            <a:off x="8488440" y="3822840"/>
            <a:ext cx="3386160" cy="28548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Дактильная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&amp;Ocy;&amp;vcy;&amp;ocy;&amp;shchcy;&amp;ncy;&amp;ocy;&amp;iecy; &amp;lcy;&amp;ocy;&amp;tcy;&amp;ocy;"/>
          <p:cNvPicPr/>
          <p:nvPr/>
        </p:nvPicPr>
        <p:blipFill>
          <a:blip r:embed="rId4"/>
          <a:stretch/>
        </p:blipFill>
        <p:spPr>
          <a:xfrm>
            <a:off x="6310440" y="4183200"/>
            <a:ext cx="2116080" cy="1501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&amp;Tcy;&amp;iecy;&amp;mcy;&amp;acy; &amp;Ncy;&amp;iecy;&amp;vcy;&amp;iecy;&amp;rcy;&amp;bcy;&amp;acy;&amp;lcy;&amp;softcy;&amp;ncy;&amp;ycy;&amp;iecy; &amp;scy;&amp;rcy;&amp;iecy;&amp;dcy;&amp;scy;&amp;tcy;&amp;vcy;&amp;acy; &amp;ocy;&amp;bcy;&amp;shchcy;&amp;iecy;&amp;ncy;&amp;icy;&amp;yacy;"/>
          <p:cNvPicPr/>
          <p:nvPr/>
        </p:nvPicPr>
        <p:blipFill>
          <a:blip r:embed="rId5"/>
          <a:stretch/>
        </p:blipFill>
        <p:spPr>
          <a:xfrm>
            <a:off x="8561520" y="4280040"/>
            <a:ext cx="3433680" cy="15238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15"/>
          <p:cNvSpPr/>
          <p:nvPr/>
        </p:nvSpPr>
        <p:spPr>
          <a:xfrm>
            <a:off x="8561520" y="5937120"/>
            <a:ext cx="3386160" cy="28440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Жестовая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16"/>
          <p:cNvSpPr/>
          <p:nvPr/>
        </p:nvSpPr>
        <p:spPr>
          <a:xfrm>
            <a:off x="272880" y="1917720"/>
            <a:ext cx="605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7. Формируем навыки коммуникац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ботаем над речь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47840" y="129960"/>
            <a:ext cx="1062504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6" descr=""/>
          <p:cNvPicPr/>
          <p:nvPr/>
        </p:nvPicPr>
        <p:blipFill>
          <a:blip r:embed="rId1"/>
          <a:srcRect l="885" t="2722" r="1812" b="0"/>
          <a:stretch/>
        </p:blipFill>
        <p:spPr>
          <a:xfrm>
            <a:off x="204840" y="2279520"/>
            <a:ext cx="8319960" cy="40276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7"/>
          <p:cNvSpPr/>
          <p:nvPr/>
        </p:nvSpPr>
        <p:spPr>
          <a:xfrm>
            <a:off x="0" y="1870200"/>
            <a:ext cx="84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8.  Развиваем  социально – бытовое ориентирование реб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8" descr=""/>
          <p:cNvPicPr/>
          <p:nvPr/>
        </p:nvPicPr>
        <p:blipFill>
          <a:blip r:embed="rId2"/>
          <a:srcRect l="0" t="0" r="1329" b="0"/>
          <a:stretch/>
        </p:blipFill>
        <p:spPr>
          <a:xfrm>
            <a:off x="8666280" y="4146480"/>
            <a:ext cx="3166920" cy="2087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3"/>
          <a:stretch/>
        </p:blipFill>
        <p:spPr>
          <a:xfrm>
            <a:off x="8707320" y="1824120"/>
            <a:ext cx="3125880" cy="2166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47840" y="129960"/>
            <a:ext cx="1062504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9:41:38Z</dcterms:created>
  <dc:creator>Соловьева Светлана Викторовна</dc:creator>
  <dc:description/>
  <dc:language>en-US</dc:language>
  <cp:lastModifiedBy>Админ</cp:lastModifiedBy>
  <dcterms:modified xsi:type="dcterms:W3CDTF">2018-04-07T08:09:19Z</dcterms:modified>
  <cp:revision>100</cp:revision>
  <dc:subject/>
  <dc:title>«Социализация детей с интеллектуальными нарушениями в контексте модернизации системы образования: опыт, проблемы, перспективы»</dc:title>
</cp:coreProperties>
</file>