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12E9-3F5D-4A1B-870B-65D353BD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973D-302B-4DA2-9F31-401635A0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6FBA-E2B8-4D77-A04B-9CFE313B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9CBD-5D1C-4CA2-BD7C-1AC11EE7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0732-58BC-4BBD-89C6-5EA7D600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EF44-553E-4DDB-881E-7846719C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F538-55EC-4911-8B01-C3E6C7B2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2EAC-9923-4986-A128-74D01714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7927-11D3-4DAE-91B1-4A828395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C5D2-D31A-417D-8555-B0616E59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FA00-15E4-485E-A0C2-CCA1482C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1AF-CA22-469C-A001-1AC67101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9884-DC49-49F6-98A8-FB606AAE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3B15-62FB-4375-B979-14A1529F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B2B2-8BEC-4CE6-9986-C686BD2F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F67F-73D8-40E0-AEA8-D033F662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0E9B-8C41-4381-A9D1-01E4CEB4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12115-1B3B-4849-9DFD-F3344D8F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63193-E482-4FEE-815F-B1507EF8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D8B7D-2F9B-4BE9-BF47-7334CB0D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9117F-8CCD-40E3-9FCA-5B4AB909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5C41E-8A0E-4115-BBCB-1714FE1D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F8E-ACD8-4DCB-A52E-337843F9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10B99-7CA9-49F6-BED9-284AF097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FB7CA-4E99-4D3F-A72C-EE10B64B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4C29C-4804-4BBE-9038-E5596D5A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170CA-E7A2-49F5-90AD-CE7E36AA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5E85D-26CB-4C26-9179-2816C89B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E2E22-6B3C-45D1-9789-250069B3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79AB4-53B6-471E-81BF-8792F1A0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08F5F-4CE7-4731-A7DE-5C1029FC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BF33D-7EDE-4643-92EE-24283878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702FD-EE5A-422C-B1EE-EEB68C59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6ED2-CC75-4421-A042-4A61A719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BD1B3-88AF-4A36-90EC-FFA3ABC3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1C1C0-0616-4DE8-81D1-8DF6C257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AC099-4607-4122-9EFD-DDEFE257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86C3E-C285-4B1D-B8C7-131C535A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A63AC-EB90-4BB8-9C41-A86EB928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6AC8C-9A6A-4AB5-A36A-E49290C8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7B8CA-1DB7-4B12-B1D5-C57B0015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03699-CBEB-45BD-A09C-C3BEAF52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9ED50-C158-4C79-853F-8F194EA5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0EF-418F-4002-8878-8695DA92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5C23-F4A5-49FC-928D-1255A612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A81-575B-425C-A2A4-E37CB9F6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D23-87C9-460F-AEEC-CE41F8B6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73B-A14B-4F74-B4BE-C979B698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19C0-FFED-41BC-8844-6F577CBB462B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73DE-F4A2-4A4E-A159-674ADCCEB759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EC0A-80A2-41D4-BDCC-F195AF95BFE2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6F21-BC38-490F-AB9F-DD96A7976C62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615456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АРТИКУЛЯЦИОННАЯ ГИМНАСТИКА ДЛЯ ЗВУКОВ Ш,Ж,Щ,Ч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71280" y="5013000"/>
            <a:ext cx="58258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Васянькина Е.В. Учитель-логопед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entury Gothic"/>
              </a:rPr>
              <a:t>ПОКАЖИ, КАК ШИПИТ ЗМЕ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0" name="Picture 5" descr="https://static8.depositphotos.com/1497380/1035/v/950/depositphotos_10356878-stock-illustration-funny-snake-cartoon.jpg"/>
          <p:cNvPicPr/>
          <p:nvPr/>
        </p:nvPicPr>
        <p:blipFill>
          <a:blip r:embed="rId1"/>
          <a:stretch/>
        </p:blipFill>
        <p:spPr>
          <a:xfrm>
            <a:off x="914400" y="1125360"/>
            <a:ext cx="73152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5" name="Picture 6" descr="https://cf.ppt-online.org/files/slide/3/3WgCucL7GBOUoNPkq9phyanK6zVjmJZrs28exX/slide-4.jpg"/>
          <p:cNvPicPr/>
          <p:nvPr/>
        </p:nvPicPr>
        <p:blipFill>
          <a:blip r:embed="rId1"/>
          <a:stretch/>
        </p:blipFill>
        <p:spPr>
          <a:xfrm>
            <a:off x="826920" y="907920"/>
            <a:ext cx="7345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22400" y="393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7" name="Picture 6" descr="https://ds02.infourok.ru/uploads/ex/00be/00008975-7a9b97d1/1/img7.jpg"/>
          <p:cNvPicPr/>
          <p:nvPr/>
        </p:nvPicPr>
        <p:blipFill>
          <a:blip r:embed="rId1"/>
          <a:stretch/>
        </p:blipFill>
        <p:spPr>
          <a:xfrm>
            <a:off x="1022400" y="765000"/>
            <a:ext cx="72007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9" name="Picture 5" descr="http://900igr.net/up/datas/189506/008.jpg"/>
          <p:cNvPicPr/>
          <p:nvPr/>
        </p:nvPicPr>
        <p:blipFill>
          <a:blip r:embed="rId1"/>
          <a:stretch/>
        </p:blipFill>
        <p:spPr>
          <a:xfrm>
            <a:off x="684360" y="765000"/>
            <a:ext cx="77752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АЧЕЛЯХ Я КАЧАЮСЬ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РХ-ВНИЗ, ВВЕРХ-ВНИЗ.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СЕ ВЫШЕ ПОДНИМАЮСЬ –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РХ-ВНИЗ, ВВЕРХ-ВНИЗ.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Объект 3" descr=""/>
          <p:cNvPicPr/>
          <p:nvPr/>
        </p:nvPicPr>
        <p:blipFill>
          <a:blip r:embed="rId1"/>
          <a:stretch/>
        </p:blipFill>
        <p:spPr>
          <a:xfrm>
            <a:off x="5867280" y="4797360"/>
            <a:ext cx="2229120" cy="1486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https://voinka.educrimea.ru/uploads/5000/20488/section/335113/artikulyacionnaya_gimnastika/0013-013-Artikuljatsionnoe-uprazhnenie-Kacheli.jpg"/>
          <p:cNvPicPr/>
          <p:nvPr/>
        </p:nvPicPr>
        <p:blipFill>
          <a:blip r:embed="rId2"/>
          <a:stretch/>
        </p:blipFill>
        <p:spPr>
          <a:xfrm>
            <a:off x="900000" y="246240"/>
            <a:ext cx="770256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2640" y="3043080"/>
            <a:ext cx="78404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Picture 2" descr="https://cf.ppt-online.org/files/slide/f/fKB58vL2Ad6tXyWNaScRmQV3ujzTD4nGrMsewJ/slide-4.jpg"/>
          <p:cNvPicPr/>
          <p:nvPr/>
        </p:nvPicPr>
        <p:blipFill>
          <a:blip r:embed="rId1"/>
          <a:stretch/>
        </p:blipFill>
        <p:spPr>
          <a:xfrm>
            <a:off x="1258920" y="692280"/>
            <a:ext cx="67690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6" name="Picture 5" descr="http://images.myshared.ru/10/996231/slide_21.jpg"/>
          <p:cNvPicPr/>
          <p:nvPr/>
        </p:nvPicPr>
        <p:blipFill>
          <a:blip r:embed="rId1"/>
          <a:stretch/>
        </p:blipFill>
        <p:spPr>
          <a:xfrm>
            <a:off x="1332000" y="836640"/>
            <a:ext cx="6696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http://images.myshared.ru/5/358262/slide_15.jpg"/>
          <p:cNvPicPr/>
          <p:nvPr/>
        </p:nvPicPr>
        <p:blipFill>
          <a:blip r:embed="rId1"/>
          <a:stretch/>
        </p:blipFill>
        <p:spPr>
          <a:xfrm>
            <a:off x="1116000" y="907920"/>
            <a:ext cx="725976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://mbdou12-krop.ru/wp-content/gallery/gimn/%D0%A1%D0%BB%D0%B0%D0%B9%D0%B414.JPG"/>
          <p:cNvPicPr/>
          <p:nvPr/>
        </p:nvPicPr>
        <p:blipFill>
          <a:blip r:embed="rId1"/>
          <a:stretch/>
        </p:blipFill>
        <p:spPr>
          <a:xfrm>
            <a:off x="900000" y="692280"/>
            <a:ext cx="7559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Admin</cp:lastModifiedBy>
  <dcterms:modified xsi:type="dcterms:W3CDTF">2018-04-07T15:25:37Z</dcterms:modified>
  <cp:revision>13</cp:revision>
  <dc:subject/>
  <dc:title>Презентация PowerPoint</dc:title>
</cp:coreProperties>
</file>