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E4E-B576-42CF-BC46-AE15243F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366-61AB-4E98-8763-05CC8DE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B69-9A2B-40F3-BFBC-5AE9D7F4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AA6-C7EE-42C9-BA7C-4BD9FF11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1114-04EC-40B1-BA7E-48A17F78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10F-917A-4685-8B04-C222910A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A1F-BE15-48B4-A6B7-EC41B18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B1A2-8A75-4DBC-97A5-8CF08EA5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D8A0-0AFE-4F75-86D1-FF2ACA0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C8F2-1AC1-4CBC-995D-AF428C8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856A-9626-42CE-8803-DF6825E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569-F12B-4D71-969F-B6D5150A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6A2A-1A7C-4F04-B0B1-BB3DFDCE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1430-F8C7-4828-A09B-5715207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7F8-C5C1-4C24-961F-E6E6676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37E-C1FE-4FD9-9BE3-69F9173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75E4-B320-4961-9512-E4EC4230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717D-86C2-4168-B250-49E8352E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23FE-B606-4C51-9E87-54DF5A9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46EC-56B9-4B2E-B32E-D60196F3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12DF-C767-449A-AC3E-84FCC2C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57C1-78ED-4DE0-95DB-5C2418D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A48-2739-4A9C-9F15-1F95F0D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C17E-3F03-4418-867C-59C83496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6076-EA78-47C1-972F-141A536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AE29-0B19-41EE-834E-C340FB8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D9DC-B4CE-4F98-A9E8-E1702C5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2430-D96C-4E32-81D8-A7E292A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8C51-837C-4F5E-A0FE-669BCEC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3BF1-A984-4F52-87F5-1D634F8E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FB5D-072C-411E-B76F-5ECD7D5C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FA2E-16A1-4CEE-AEB3-AB02AB0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3E89-ECEA-4E82-8E3D-467CA16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27A-79C8-458A-8196-20CD2FD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E472-B201-419B-A1BA-8358AB93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6980-BE36-4583-82D4-0E997E2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E704-C955-4932-A524-A631D43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DADC-0F61-4256-A39F-BD9568BA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8401-EE40-43BB-B032-7B1B39B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DCA1-F98F-467E-BC37-05B7490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5581-2C92-4920-A616-DB63121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EE75-C7D3-4E06-BF64-43D38A04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A27F-6897-4240-9BD5-DCAB6B76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C90-50DC-489B-A456-8802EE3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565-7214-4746-98AC-D66C920B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6FD-43CA-4DAE-B3AF-AB95633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948-EF20-4025-9894-E2E2F464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C62-E63A-4C7F-8335-13168A7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374-E4BB-49E0-9C57-144CF1BB768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890-E747-4A75-9B4B-343EAC14E70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D53-7270-4B56-A6B3-D73FFCF520D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2559-7959-42D8-96CA-A1B1175217F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АРТИКУЛЯЦИОННАЯ ГИМНАСТИКА ДЛЯ ЗВУКОВ Ш,Ж,Щ,Ч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5825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асянькина Е.В. Учитель-логопед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entury Gothic"/>
              </a:rPr>
              <a:t>ПОКАЖИ, КАК ШИПИТ ЗМЕ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5" descr="https://static8.depositphotos.com/1497380/1035/v/950/depositphotos_10356878-stock-illustration-funny-snake-cartoon.jpg"/>
          <p:cNvPicPr/>
          <p:nvPr/>
        </p:nvPicPr>
        <p:blipFill>
          <a:blip r:embed="rId1"/>
          <a:stretch/>
        </p:blipFill>
        <p:spPr>
          <a:xfrm>
            <a:off x="914400" y="1125360"/>
            <a:ext cx="73152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Picture 6" descr="https://cf.ppt-online.org/files/slide/3/3WgCucL7GBOUoNPkq9phyanK6zVjmJZrs28exX/slide-4.jpg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2400" y="393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7" name="Picture 6" descr="https://ds02.infourok.ru/uploads/ex/00be/00008975-7a9b97d1/1/img7.jpg"/>
          <p:cNvPicPr/>
          <p:nvPr/>
        </p:nvPicPr>
        <p:blipFill>
          <a:blip r:embed="rId1"/>
          <a:stretch/>
        </p:blipFill>
        <p:spPr>
          <a:xfrm>
            <a:off x="1022400" y="765000"/>
            <a:ext cx="72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5" descr="http://900igr.net/up/datas/189506/008.jpg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ЧЕЛЯХ Я КАЧАЮСЬ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РХ-ВНИЗ, ВВЕРХ-ВНИЗ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СЕ ВЫШЕ ПОДНИМАЮСЬ –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РХ-ВНИЗ, ВВЕРХ-ВНИЗ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1"/>
          <a:stretch/>
        </p:blipFill>
        <p:spPr>
          <a:xfrm>
            <a:off x="5867280" y="4797360"/>
            <a:ext cx="2229120" cy="1486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s://voinka.educrimea.ru/uploads/5000/20488/section/335113/artikulyacionnaya_gimnastika/0013-013-Artikuljatsionnoe-uprazhnenie-Kacheli.jpg"/>
          <p:cNvPicPr/>
          <p:nvPr/>
        </p:nvPicPr>
        <p:blipFill>
          <a:blip r:embed="rId2"/>
          <a:stretch/>
        </p:blipFill>
        <p:spPr>
          <a:xfrm>
            <a:off x="900000" y="246240"/>
            <a:ext cx="77025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2640" y="3043080"/>
            <a:ext cx="7840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2" descr="https://cf.ppt-online.org/files/slide/f/fKB58vL2Ad6tXyWNaScRmQV3ujzTD4nGrMsewJ/slide-4.jpg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Picture 5" descr="http://images.myshared.ru/10/996231/slide_21.jpg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images.myshared.ru/5/358262/slide_15.jpg"/>
          <p:cNvPicPr/>
          <p:nvPr/>
        </p:nvPicPr>
        <p:blipFill>
          <a:blip r:embed="rId1"/>
          <a:stretch/>
        </p:blipFill>
        <p:spPr>
          <a:xfrm>
            <a:off x="1116000" y="907920"/>
            <a:ext cx="72597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mbdou12-krop.ru/wp-content/gallery/gimn/%D0%A1%D0%BB%D0%B0%D0%B9%D0%B414.JPG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Admin</cp:lastModifiedBy>
  <dcterms:modified xsi:type="dcterms:W3CDTF">2018-04-07T15:25:37Z</dcterms:modified>
  <cp:revision>13</cp:revision>
  <dc:subject/>
  <dc:title>Презентация PowerPoint</dc:title>
</cp:coreProperties>
</file>