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FDB-C589-4CB0-AD25-A78175F9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70E-546D-486E-B10A-A7B10D2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881-BCA1-4407-B6E6-4DDFCB3E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84D-258B-4D75-B9B5-E0025B52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9FC-C283-4AD0-AC70-812B7C24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43FD-E5BA-4530-AACC-534D6ED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46B1-26A1-417D-9CFB-1E1E1549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E18A-E17E-438B-9F1E-280A233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6AD-0F0D-4169-90CF-9F30A42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9D80-0E2B-4B20-92E5-FCC1399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808-13F1-4ADC-85FC-1793A39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F37-0CD5-4BEE-A395-FD42D1EA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FB4-17BD-4E6B-A221-3CCB59D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C22-31E0-47A7-B130-54D587A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BC02-C4A6-4411-BD83-00B953DC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C8E8-93C7-478E-92A9-881D244A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0AA4-9D96-43B2-9503-63DB235F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C32-1535-4C08-B000-24D4253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DCA-4A84-41C6-A865-256ABCA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458-A320-4B20-8BBB-D4B2FD77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F3A-21FD-4353-9A49-AC3C5FD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A45-0714-4DC3-B9F4-7682A40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5BE-B6CF-439D-91FA-1FADD21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FD4-B2C4-4CB8-8383-5B566F1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DF4-4BE5-42B2-AB73-D12579C0836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EB7A-DAC3-4176-9BB8-214CB82F688D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494172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ОУ СОШ «Школа здоровья» №90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. Москва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 сущ., прилаг., числительное)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4038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 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dog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46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Verdana"/>
              </a:rPr>
              <a:t>Составьте из слов вопросительное предложение: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you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Учитель</cp:lastModifiedBy>
  <dcterms:modified xsi:type="dcterms:W3CDTF">2013-11-28T06:42:54Z</dcterms:modified>
  <cp:revision>28</cp:revision>
  <dc:subject/>
  <dc:title>Глагол “to be” в английском языке</dc:title>
</cp:coreProperties>
</file>