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B637-8182-4EF3-83A3-059A0367D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06C7-F582-45D1-A563-5F3629D9D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34F8-4AF4-4AE2-974E-F3D9F1CD0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0EA8-B982-4857-9BFB-3DC254FFA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4859D-C1EA-42DB-9872-CFDD94C07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C697D-82B2-4FDD-9B36-F0670467D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CF612-1AD1-4655-91DB-D551A2912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593E7-94A5-4223-A082-22EF5210B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D918D-0AFA-4195-BED9-DF8485501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82069-694F-4F3C-BFB0-C768AD4B0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258B3-61F9-49CF-8CA5-A0819780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7379-5DAF-43DF-B3F9-666D66056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61A65-73C5-4AD8-8D8B-E9EDE9DC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564AB-9D3D-408C-916C-2E114B25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8AAC3-3245-4D62-B547-7C5D0CA73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DF83A-7B45-4C90-81D6-030C5E57C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1924F-CCFF-4095-A1D5-895FCD161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C463-8CC5-414E-899D-AD128A643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E0D4-A626-4DB0-AD34-6514BC6A6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2241-B09A-4E05-A163-64AAC61B3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F3DC-2C00-4EBB-A065-99C9AD1A4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9EFE-15FD-4025-B18B-01FC7025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C152-B007-40F2-997C-8FBAB8D0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139A-7C24-47B2-8462-849C8D8E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33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F0534-DFCF-4C81-B2CB-E0A7278E64BB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560" y="63000"/>
              <a:ext cx="3622680" cy="6129000"/>
              <a:chOff x="5407560" y="63000"/>
              <a:chExt cx="362268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1160" y="348120"/>
                <a:ext cx="2116440" cy="235656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400" y="1959840"/>
                <a:ext cx="90648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5600" y="2592360"/>
                <a:ext cx="43956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480" y="67428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4280" y="2645280"/>
                <a:ext cx="16344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240" y="1243080"/>
                <a:ext cx="19080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400"/>
                <a:ext cx="52380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3800" y="297720"/>
              <a:ext cx="891360" cy="829440"/>
              <a:chOff x="5653800" y="297720"/>
              <a:chExt cx="891360" cy="8294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400" y="796320"/>
                <a:ext cx="179280" cy="361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280" y="476640"/>
                <a:ext cx="306360" cy="30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5720" y="397440"/>
                <a:ext cx="31932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1200" y="5253480"/>
              <a:ext cx="1062360" cy="833400"/>
              <a:chOff x="961200" y="5253480"/>
              <a:chExt cx="1062360" cy="8334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400" y="5520600"/>
                <a:ext cx="250920" cy="3016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8000" y="5730840"/>
                <a:ext cx="429480" cy="2505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560" y="5377680"/>
                <a:ext cx="448920" cy="1274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AC1DC-0439-42CA-B309-82E8885CA9CC}" type="slidenum">
              <a:rPr b="0" lang="ru-RU" sz="14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Заголовок 1" descr=""/>
          <p:cNvPicPr/>
          <p:nvPr/>
        </p:nvPicPr>
        <p:blipFill>
          <a:blip r:embed="rId1"/>
          <a:stretch/>
        </p:blipFill>
        <p:spPr>
          <a:xfrm>
            <a:off x="2004840" y="-433440"/>
            <a:ext cx="7340760" cy="371304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6" descr="74b29636946801718e2379564c887d1d.jpg"/>
          <p:cNvPicPr/>
          <p:nvPr/>
        </p:nvPicPr>
        <p:blipFill>
          <a:blip r:embed="rId2"/>
          <a:stretch/>
        </p:blipFill>
        <p:spPr>
          <a:xfrm>
            <a:off x="5867280" y="2924280"/>
            <a:ext cx="2840040" cy="39337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4"/>
          <p:cNvSpPr/>
          <p:nvPr/>
        </p:nvSpPr>
        <p:spPr>
          <a:xfrm>
            <a:off x="4408560" y="4745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250920" y="4941720"/>
            <a:ext cx="8893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Нехорошева Наталья Владимировна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ГОУ СОШ «Школа здоровья» №901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                 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г. Москва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71" name="Picture 9" descr="Картинка 24 из 64000"/>
          <p:cNvPicPr/>
          <p:nvPr/>
        </p:nvPicPr>
        <p:blipFill>
          <a:blip r:embed="rId3"/>
          <a:stretch/>
        </p:blipFill>
        <p:spPr>
          <a:xfrm>
            <a:off x="179280" y="692280"/>
            <a:ext cx="4127760" cy="4321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i?id=144054370-07"/>
          <p:cNvPicPr/>
          <p:nvPr/>
        </p:nvPicPr>
        <p:blipFill>
          <a:blip r:embed="rId4"/>
          <a:stretch/>
        </p:blipFill>
        <p:spPr>
          <a:xfrm>
            <a:off x="2195640" y="4292640"/>
            <a:ext cx="86364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3"/>
          <p:cNvSpPr/>
          <p:nvPr/>
        </p:nvSpPr>
        <p:spPr>
          <a:xfrm>
            <a:off x="900000" y="1125360"/>
            <a:ext cx="82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onstantia"/>
              </a:rPr>
              <a:t>На русский язык глагол </a:t>
            </a:r>
            <a:r>
              <a:rPr b="1" lang="ru-RU" sz="2800" spc="-1" strike="noStrike">
                <a:solidFill>
                  <a:srgbClr val="cc0099"/>
                </a:solidFill>
                <a:latin typeface="Constantia"/>
              </a:rPr>
              <a:t>to be</a:t>
            </a:r>
            <a:r>
              <a:rPr b="0" lang="ru-RU" sz="2800" spc="-1" strike="noStrike">
                <a:solidFill>
                  <a:srgbClr val="000066"/>
                </a:solidFill>
                <a:latin typeface="Constantia"/>
              </a:rPr>
              <a:t> переводится как "быть, находиться, есть, существовать, являться".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onstantia"/>
              </a:rPr>
              <a:t>Этот глагол изменяется по лицам и числам, каждое лицо и число имеет свою форму: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4" name="Прямоугольник 4"/>
          <p:cNvSpPr/>
          <p:nvPr/>
        </p:nvSpPr>
        <p:spPr>
          <a:xfrm>
            <a:off x="1835280" y="3716280"/>
            <a:ext cx="71294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Constantia"/>
              </a:rPr>
              <a:t>I</a:t>
            </a:r>
            <a:r>
              <a:rPr b="1" lang="en-US" sz="3200" spc="-1" strike="noStrike">
                <a:solidFill>
                  <a:srgbClr val="000066"/>
                </a:solidFill>
                <a:latin typeface="Constantia"/>
              </a:rPr>
              <a:t> </a:t>
            </a:r>
            <a:r>
              <a:rPr b="1" lang="en-US" sz="3200" spc="-1" strike="noStrike">
                <a:solidFill>
                  <a:srgbClr val="33cc33"/>
                </a:solidFill>
                <a:latin typeface="Constantia"/>
              </a:rPr>
              <a:t>am</a:t>
            </a:r>
            <a:r>
              <a:rPr b="1" lang="en-US" sz="3200" spc="-1" strike="noStrike">
                <a:solidFill>
                  <a:srgbClr val="000066"/>
                </a:solidFill>
                <a:latin typeface="Constantia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pupil.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            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You</a:t>
            </a: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 pupil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                             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She</a:t>
            </a: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33cc33"/>
                </a:solidFill>
                <a:latin typeface="Verdana"/>
              </a:rPr>
              <a:t>is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 pupil.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       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We</a:t>
            </a: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pupils.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He</a:t>
            </a: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33cc33"/>
                </a:solidFill>
                <a:latin typeface="Verdana"/>
              </a:rPr>
              <a:t>is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 pupil.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        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You </a:t>
            </a:r>
            <a:r>
              <a:rPr b="1" lang="en-US" sz="28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pupils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It</a:t>
            </a: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33cc33"/>
                </a:solidFill>
                <a:latin typeface="Verdana"/>
              </a:rPr>
              <a:t>is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 dog.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           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They</a:t>
            </a: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pupils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1384200" y="49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2536560" y="270000"/>
            <a:ext cx="503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0099"/>
                </a:solidFill>
                <a:latin typeface="Arial"/>
              </a:rPr>
              <a:t>Глагол « </a:t>
            </a:r>
            <a:r>
              <a:rPr b="0" lang="en-US" sz="5400" spc="-1" strike="noStrike">
                <a:solidFill>
                  <a:srgbClr val="cc0099"/>
                </a:solidFill>
                <a:latin typeface="Arial"/>
              </a:rPr>
              <a:t>to be</a:t>
            </a:r>
            <a:r>
              <a:rPr b="0" lang="ru-RU" sz="5400" spc="-1" strike="noStrike">
                <a:solidFill>
                  <a:srgbClr val="cc0099"/>
                </a:solidFill>
                <a:latin typeface="Arial"/>
              </a:rPr>
              <a:t>»</a:t>
            </a:r>
            <a:endParaRPr b="0" lang="en-US" sz="5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91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99"/>
                </a:solidFill>
                <a:latin typeface="Verdana"/>
              </a:rPr>
              <a:t>Порядок слов в вопросительном</a:t>
            </a:r>
            <a:br>
              <a:rPr sz="4000"/>
            </a:br>
            <a:r>
              <a:rPr b="0" lang="ru-RU" sz="4000" spc="-1" strike="noStrike">
                <a:solidFill>
                  <a:srgbClr val="cc0099"/>
                </a:solidFill>
                <a:latin typeface="Verdana"/>
              </a:rPr>
              <a:t> предложении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1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.</a:t>
            </a: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A</a:t>
            </a:r>
            <a:r>
              <a:rPr b="0" lang="ru-RU" sz="2800" spc="-1" strike="noStrike">
                <a:solidFill>
                  <a:srgbClr val="00b050"/>
                </a:solidFill>
                <a:latin typeface="Verdana"/>
              </a:rPr>
              <a:t>m, </a:t>
            </a: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I</a:t>
            </a:r>
            <a:r>
              <a:rPr b="0" lang="ru-RU" sz="2800" spc="-1" strike="noStrike">
                <a:solidFill>
                  <a:srgbClr val="00b050"/>
                </a:solidFill>
                <a:latin typeface="Verdana"/>
              </a:rPr>
              <a:t>s, </a:t>
            </a: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A</a:t>
            </a:r>
            <a:r>
              <a:rPr b="0" lang="ru-RU" sz="2800" spc="-1" strike="noStrike">
                <a:solidFill>
                  <a:srgbClr val="00b050"/>
                </a:solidFill>
                <a:latin typeface="Verdana"/>
              </a:rPr>
              <a:t>re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.подлежащее (сущ. или       местоимение)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3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. Дополнение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( сущ., прилаг., числительное)?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457200" y="1665360"/>
            <a:ext cx="4038480" cy="43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91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99"/>
                </a:solidFill>
                <a:latin typeface="Verdana"/>
              </a:rPr>
              <a:t>Порядок слов в вопросительном  предложении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348000" y="1599840"/>
            <a:ext cx="5796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1. </a:t>
            </a:r>
            <a:r>
              <a:rPr b="0" lang="en-US" sz="3200" spc="-1" strike="noStrike">
                <a:solidFill>
                  <a:srgbClr val="00b050"/>
                </a:solidFill>
                <a:latin typeface="Verdana"/>
              </a:rPr>
              <a:t>Am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I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a pupil</a:t>
            </a: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?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            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2. </a:t>
            </a:r>
            <a:r>
              <a:rPr b="0" lang="en-US" sz="3200" spc="-1" strike="noStrike">
                <a:solidFill>
                  <a:srgbClr val="00b050"/>
                </a:solidFill>
                <a:latin typeface="Verdana"/>
              </a:rPr>
              <a:t>Are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you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a pupil</a:t>
            </a: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?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                             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3.</a:t>
            </a:r>
            <a:r>
              <a:rPr b="0" lang="en-US" sz="3200" spc="-1" strike="noStrike">
                <a:solidFill>
                  <a:srgbClr val="00b050"/>
                </a:solidFill>
                <a:latin typeface="Verdana"/>
              </a:rPr>
              <a:t> Is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she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a pupil</a:t>
            </a: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?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     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4</a:t>
            </a:r>
            <a:r>
              <a:rPr b="0" lang="en-US" sz="3200" spc="-1" strike="noStrike">
                <a:solidFill>
                  <a:srgbClr val="00b050"/>
                </a:solidFill>
                <a:latin typeface="Verdana"/>
              </a:rPr>
              <a:t>. Are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 we 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pupils</a:t>
            </a: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?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5.</a:t>
            </a:r>
            <a:r>
              <a:rPr b="0" lang="en-US" sz="3200" spc="-1" strike="noStrike">
                <a:solidFill>
                  <a:srgbClr val="00b050"/>
                </a:solidFill>
                <a:latin typeface="Verdana"/>
              </a:rPr>
              <a:t> Is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he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a pupil</a:t>
            </a: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?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       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6. </a:t>
            </a:r>
            <a:r>
              <a:rPr b="0" lang="en-US" sz="3200" spc="-1" strike="noStrike">
                <a:solidFill>
                  <a:srgbClr val="00b050"/>
                </a:solidFill>
                <a:latin typeface="Verdana"/>
              </a:rPr>
              <a:t>Are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you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pupils</a:t>
            </a: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7.</a:t>
            </a:r>
            <a:r>
              <a:rPr b="0" lang="en-US" sz="3200" spc="-1" strike="noStrike">
                <a:solidFill>
                  <a:srgbClr val="00b050"/>
                </a:solidFill>
                <a:latin typeface="Verdana"/>
              </a:rPr>
              <a:t> Is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it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a dog</a:t>
            </a: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?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          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8.</a:t>
            </a:r>
            <a:r>
              <a:rPr b="0" lang="en-US" sz="3200" spc="-1" strike="noStrike">
                <a:solidFill>
                  <a:srgbClr val="00b050"/>
                </a:solidFill>
                <a:latin typeface="Verdana"/>
              </a:rPr>
              <a:t> Are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 they 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pupils</a:t>
            </a: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82" name="Picture 5" descr=""/>
          <p:cNvPicPr/>
          <p:nvPr/>
        </p:nvPicPr>
        <p:blipFill>
          <a:blip r:embed="rId1"/>
          <a:stretch/>
        </p:blipFill>
        <p:spPr>
          <a:xfrm>
            <a:off x="457200" y="2290680"/>
            <a:ext cx="3035160" cy="30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24000" y="765000"/>
            <a:ext cx="9468000" cy="14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0099"/>
                </a:solidFill>
                <a:latin typeface="Verdana"/>
              </a:rPr>
              <a:t>Составьте из слов вопросительное предложение:</a:t>
            </a:r>
            <a:endParaRPr b="0" lang="en-US" sz="5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356000" y="2133360"/>
            <a:ext cx="4608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 doctor,</a:t>
            </a: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 is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she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b05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am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I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, a pupil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 driver,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he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, </a:t>
            </a: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is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we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, pilots, </a:t>
            </a: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are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b05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are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, a teacher,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 you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tudents, </a:t>
            </a: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are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they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you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, cosmonauts, </a:t>
            </a: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are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85" name="Picture 15" descr="Картинка 76 из 64000"/>
          <p:cNvPicPr/>
          <p:nvPr/>
        </p:nvPicPr>
        <p:blipFill>
          <a:blip r:embed="rId1"/>
          <a:stretch/>
        </p:blipFill>
        <p:spPr>
          <a:xfrm>
            <a:off x="0" y="2214720"/>
            <a:ext cx="4330800" cy="35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181440" y="102960"/>
            <a:ext cx="9325080" cy="123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0099"/>
                </a:solidFill>
                <a:latin typeface="Verdana"/>
              </a:rPr>
              <a:t>Проверь себя:</a:t>
            </a:r>
            <a:endParaRPr b="0" lang="en-US" sz="6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995280" y="2133360"/>
            <a:ext cx="4969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b05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Is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she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 doctor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b05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Am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I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a pupil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b05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Is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he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 driver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b05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Are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we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pilots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b05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Are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you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a teacher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b05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Are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they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tudents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b05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Are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you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cosmonauts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88" name="Picture 15" descr="Картинка 76 из 64000"/>
          <p:cNvPicPr/>
          <p:nvPr/>
        </p:nvPicPr>
        <p:blipFill>
          <a:blip r:embed="rId1"/>
          <a:stretch/>
        </p:blipFill>
        <p:spPr>
          <a:xfrm>
            <a:off x="179280" y="2276640"/>
            <a:ext cx="3708360" cy="35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7T14:58:07Z</dcterms:created>
  <dc:creator>1</dc:creator>
  <dc:description/>
  <dc:language>en-US</dc:language>
  <cp:lastModifiedBy>Учитель</cp:lastModifiedBy>
  <dcterms:modified xsi:type="dcterms:W3CDTF">2013-11-28T06:42:54Z</dcterms:modified>
  <cp:revision>28</cp:revision>
  <dc:subject/>
  <dc:title>Глагол “to be” в английском языке</dc:title>
</cp:coreProperties>
</file>