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1DD7-F640-4901-ADCE-6E574E6B2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627A-08B3-4E98-9239-7DC2CE8E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86AA-D555-4BE9-9B12-B4834BE43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18C8-B984-481C-BD42-3F67668F3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D4F0-50BA-4043-B1B8-E4D7F62FB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DAED-6C16-4E92-9B33-59A533A5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65FC-D9BD-4411-9CFD-F4D28A39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775C-A5B4-473A-B81F-CA6D59FC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22F0-F102-430B-AC7B-BBD24183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1863-655C-47E0-8AA3-DE560FD3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965BC-28B8-4A46-8BD6-90395AA5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B861-1AA8-4294-8112-7A804A55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C34B-8B81-4A11-93C3-E529A24D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A813-1268-4DAD-B030-C371EA16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BA25-EC6C-4095-814D-70220FEA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F8F1-67AB-4E02-8F9A-7C61DADF4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12CA-4DA1-4388-8CCB-A6D327063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88D4-70BE-42F6-A8A4-3F0F3656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A796-5BFD-40B5-BB82-65F47931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7D24-8F96-48F3-B633-F847CEF2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0551-74B3-4E2B-BC36-B9688ECB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A96B-AEB1-4070-B2CB-F48F417E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96F8-55D0-4641-9611-BAD889F3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8E71-4C2C-4555-8A09-69B3CFF0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76AE-DCBA-4DEB-AB08-6BAD7F1FF9D8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000"/>
              <a:ext cx="3622680" cy="6129000"/>
              <a:chOff x="5407560" y="63000"/>
              <a:chExt cx="362268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160" y="348120"/>
                <a:ext cx="211644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400" y="1959840"/>
                <a:ext cx="90648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3800" y="297720"/>
              <a:ext cx="891360" cy="829440"/>
              <a:chOff x="5653800" y="29772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400" y="79632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64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5720" y="39744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1200" y="5253480"/>
              <a:ext cx="1062360" cy="833400"/>
              <a:chOff x="961200" y="5253480"/>
              <a:chExt cx="1062360" cy="8334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400" y="5520600"/>
                <a:ext cx="250920" cy="3016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8000" y="5730840"/>
                <a:ext cx="429480" cy="2505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560" y="5377680"/>
                <a:ext cx="448920" cy="127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7DB7-CF2C-4AC8-8F78-297C7CBB9BF2}" type="slidenum">
              <a:rPr b="0" lang="ru-RU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Заголовок 1" descr=""/>
          <p:cNvPicPr/>
          <p:nvPr/>
        </p:nvPicPr>
        <p:blipFill>
          <a:blip r:embed="rId1"/>
          <a:stretch/>
        </p:blipFill>
        <p:spPr>
          <a:xfrm>
            <a:off x="2004840" y="-433440"/>
            <a:ext cx="7340760" cy="371304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6" descr="74b29636946801718e2379564c887d1d.jpg"/>
          <p:cNvPicPr/>
          <p:nvPr/>
        </p:nvPicPr>
        <p:blipFill>
          <a:blip r:embed="rId2"/>
          <a:stretch/>
        </p:blipFill>
        <p:spPr>
          <a:xfrm>
            <a:off x="5867280" y="2924280"/>
            <a:ext cx="2840040" cy="39337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4408560" y="4745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250920" y="4941720"/>
            <a:ext cx="889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Нехорошева Наталья Владимировна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ГОУ СОШ «Школа здоровья» №901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г. Москва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1" name="Picture 9" descr="Картинка 24 из 64000"/>
          <p:cNvPicPr/>
          <p:nvPr/>
        </p:nvPicPr>
        <p:blipFill>
          <a:blip r:embed="rId3"/>
          <a:stretch/>
        </p:blipFill>
        <p:spPr>
          <a:xfrm>
            <a:off x="179280" y="692280"/>
            <a:ext cx="4127760" cy="4321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i?id=144054370-07"/>
          <p:cNvPicPr/>
          <p:nvPr/>
        </p:nvPicPr>
        <p:blipFill>
          <a:blip r:embed="rId4"/>
          <a:stretch/>
        </p:blipFill>
        <p:spPr>
          <a:xfrm>
            <a:off x="2195640" y="4292640"/>
            <a:ext cx="8636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3"/>
          <p:cNvSpPr/>
          <p:nvPr/>
        </p:nvSpPr>
        <p:spPr>
          <a:xfrm>
            <a:off x="900000" y="1125360"/>
            <a:ext cx="82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onstantia"/>
              </a:rPr>
              <a:t>На русский язык глагол </a:t>
            </a:r>
            <a:r>
              <a:rPr b="1" lang="ru-RU" sz="2800" spc="-1" strike="noStrike">
                <a:solidFill>
                  <a:srgbClr val="cc0099"/>
                </a:solidFill>
                <a:latin typeface="Constantia"/>
              </a:rPr>
              <a:t>to be</a:t>
            </a:r>
            <a:r>
              <a:rPr b="0" lang="ru-RU" sz="2800" spc="-1" strike="noStrike">
                <a:solidFill>
                  <a:srgbClr val="000066"/>
                </a:solidFill>
                <a:latin typeface="Constantia"/>
              </a:rPr>
              <a:t> переводится как "быть, находиться, есть, существовать, являться".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onstantia"/>
              </a:rPr>
              <a:t>Этот глагол изменяется по лицам и числам, каждое лицо и число имеет свою форму: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4" name="Прямоугольник 4"/>
          <p:cNvSpPr/>
          <p:nvPr/>
        </p:nvSpPr>
        <p:spPr>
          <a:xfrm>
            <a:off x="1835280" y="3716280"/>
            <a:ext cx="71294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nstantia"/>
              </a:rPr>
              <a:t>I</a:t>
            </a:r>
            <a:r>
              <a:rPr b="1" lang="en-US" sz="3200" spc="-1" strike="noStrike">
                <a:solidFill>
                  <a:srgbClr val="000066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Constantia"/>
              </a:rPr>
              <a:t>am</a:t>
            </a:r>
            <a:r>
              <a:rPr b="1" lang="en-US" sz="3200" spc="-1" strike="noStrike">
                <a:solidFill>
                  <a:srgbClr val="000066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pupil.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   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You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pupil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                            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She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Verdana"/>
              </a:rPr>
              <a:t>is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pupil.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We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pupils.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He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Verdana"/>
              </a:rPr>
              <a:t>is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pupil.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You </a:t>
            </a:r>
            <a:r>
              <a:rPr b="1" lang="en-US" sz="28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pupils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It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Verdana"/>
              </a:rPr>
              <a:t>is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dog.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   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They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pupil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1384200" y="49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2536560" y="270000"/>
            <a:ext cx="503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99"/>
                </a:solidFill>
                <a:latin typeface="Arial"/>
              </a:rPr>
              <a:t>Глагол « </a:t>
            </a:r>
            <a:r>
              <a:rPr b="0" lang="en-US" sz="5400" spc="-1" strike="noStrike">
                <a:solidFill>
                  <a:srgbClr val="cc0099"/>
                </a:solidFill>
                <a:latin typeface="Arial"/>
              </a:rPr>
              <a:t>to be</a:t>
            </a:r>
            <a:r>
              <a:rPr b="0" lang="ru-RU" sz="5400" spc="-1" strike="noStrike">
                <a:solidFill>
                  <a:srgbClr val="cc0099"/>
                </a:solidFill>
                <a:latin typeface="Arial"/>
              </a:rPr>
              <a:t>»</a:t>
            </a: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Verdana"/>
              </a:rPr>
              <a:t>Порядок слов в отрицательном предложении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067280" y="1413000"/>
            <a:ext cx="5076720" cy="50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Verdana"/>
              </a:rPr>
              <a:t>1.Подлежащее (сущ. или </a:t>
            </a: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      </a:t>
            </a:r>
            <a:r>
              <a:rPr b="0" lang="ru-RU" sz="4000" spc="-1" strike="noStrike">
                <a:solidFill>
                  <a:srgbClr val="ff3300"/>
                </a:solidFill>
                <a:latin typeface="Verdana"/>
              </a:rPr>
              <a:t>местоимение)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2</a:t>
            </a:r>
            <a:r>
              <a:rPr b="0" lang="ru-RU" sz="4000" spc="-1" strike="noStrike">
                <a:solidFill>
                  <a:srgbClr val="33cc33"/>
                </a:solidFill>
                <a:latin typeface="Verdana"/>
              </a:rPr>
              <a:t>.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am, is, are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not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4. 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Дополнение 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( сущ., прилаг., числительное)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9" name="Picture 10" descr="Картинка 167 из 64000"/>
          <p:cNvPicPr/>
          <p:nvPr/>
        </p:nvPicPr>
        <p:blipFill>
          <a:blip r:embed="rId1"/>
          <a:stretch/>
        </p:blipFill>
        <p:spPr>
          <a:xfrm>
            <a:off x="214200" y="1928880"/>
            <a:ext cx="400068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280" y="102960"/>
            <a:ext cx="896472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99"/>
                </a:solidFill>
                <a:latin typeface="Verdana"/>
              </a:rPr>
              <a:t>Порядок слов в отрицательном предложении.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780000" y="1599840"/>
            <a:ext cx="536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1.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I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am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a pupil.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              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2.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You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a pupil.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                              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3.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She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is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a pupil.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        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4.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We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pupils.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5.He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is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a pupil.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         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6.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You </a:t>
            </a: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pupils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7.It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is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a dog.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           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They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1" lang="en-US" sz="3600" spc="-1" strike="noStrike">
                <a:solidFill>
                  <a:srgbClr val="33cc33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pupils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2" name="Picture 13" descr="Картинка 36 из 64000"/>
          <p:cNvPicPr/>
          <p:nvPr/>
        </p:nvPicPr>
        <p:blipFill>
          <a:blip r:embed="rId1"/>
          <a:stretch/>
        </p:blipFill>
        <p:spPr>
          <a:xfrm>
            <a:off x="357120" y="2133720"/>
            <a:ext cx="363852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103320"/>
            <a:ext cx="9325080" cy="109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0099"/>
                </a:solidFill>
                <a:latin typeface="Verdana"/>
              </a:rPr>
              <a:t>Сокращенные ответы</a:t>
            </a:r>
            <a:endParaRPr b="0" lang="en-US" sz="6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16000" y="2205000"/>
            <a:ext cx="6227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I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cc33"/>
                </a:solidFill>
                <a:latin typeface="Verdana"/>
              </a:rPr>
              <a:t>am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not –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I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’</a:t>
            </a: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m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not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He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cc33"/>
                </a:solidFill>
                <a:latin typeface="Verdana"/>
              </a:rPr>
              <a:t>is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not -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He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is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n’t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  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She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cc33"/>
                </a:solidFill>
                <a:latin typeface="Verdana"/>
              </a:rPr>
              <a:t>is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not -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She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is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n’t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It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cc33"/>
                </a:solidFill>
                <a:latin typeface="Verdana"/>
              </a:rPr>
              <a:t>is 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not -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It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is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n’t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We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cc33"/>
                </a:solidFill>
                <a:latin typeface="Verdana"/>
              </a:rPr>
              <a:t>are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not -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We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are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n’t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  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You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cc33"/>
                </a:solidFill>
                <a:latin typeface="Verdana"/>
              </a:rPr>
              <a:t>are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not -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You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are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n’t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They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cc33"/>
                </a:solidFill>
                <a:latin typeface="Verdana"/>
              </a:rPr>
              <a:t>are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not -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They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are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n’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5" name="Picture 6" descr="Картинка 41 из 64000"/>
          <p:cNvPicPr/>
          <p:nvPr/>
        </p:nvPicPr>
        <p:blipFill>
          <a:blip r:embed="rId1"/>
          <a:stretch/>
        </p:blipFill>
        <p:spPr>
          <a:xfrm>
            <a:off x="0" y="2276640"/>
            <a:ext cx="318276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14:58:07Z</dcterms:created>
  <dc:creator>1</dc:creator>
  <dc:description/>
  <dc:language>en-US</dc:language>
  <cp:lastModifiedBy>Учитель</cp:lastModifiedBy>
  <dcterms:modified xsi:type="dcterms:W3CDTF">2013-11-28T06:08:29Z</dcterms:modified>
  <cp:revision>28</cp:revision>
  <dc:subject/>
  <dc:title>Глагол “to be” в английском языке</dc:title>
</cp:coreProperties>
</file>