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7FC-2D9D-4520-B731-A894CB8D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8B2-CFC3-4BD9-BCCD-CF9F104A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283-28E0-485C-9B69-971661B5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7F1-4EC0-4D5C-99D2-8AA38A5D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AEA3-BA74-4921-8856-A16E6D5C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0C5D-BD34-49DF-B707-BB9DD2E0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58EB-F27F-4C45-A0C5-1A84F5A7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1BA0-36DC-4BB5-B734-9F9474B9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737F-E000-4931-918F-5F906DD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A0B5-A376-424A-AF26-10834554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AE71-C0B2-4FD4-B1D9-051D95A8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EDF-6C8A-48DA-ADD0-55124DE5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3F7E-29A4-4628-9CFA-CD9F19B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C342-6885-4592-B4F8-B829779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4C5F-8B46-4737-9DAD-6BFB68BB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4C0C-9063-4762-AB36-B6987BD3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F5D1-C207-4F5A-9E87-0AC89604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C2F-F89A-472D-B615-A183B03F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1E4-9463-40DE-A237-A30DD40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479-3A84-4720-B4B3-CDD27D74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EAF-C300-422E-BD8F-F6A56ED2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B63-7FB8-4DDF-9CB3-14D34F46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DF6-EA21-4FE3-A2B7-8255C67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766-E4F9-42F0-921E-D96444D6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ACE0-AFD7-4E12-87BB-18A72FC114A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2D38-819B-4063-B3CD-BAA3BE8DDD32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2004840" y="-433440"/>
            <a:ext cx="7340760" cy="371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867280" y="29242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50920" y="494172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хорошева Наталья Владимиро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ОУ СОШ «Школа здоровья» №90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. Москва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/>
          <p:cNvPicPr/>
          <p:nvPr/>
        </p:nvPicPr>
        <p:blipFill>
          <a:blip r:embed="rId3"/>
          <a:stretch/>
        </p:blipFill>
        <p:spPr>
          <a:xfrm>
            <a:off x="179280" y="692280"/>
            <a:ext cx="4127760" cy="43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4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35280" y="3716280"/>
            <a:ext cx="712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g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36560" y="270000"/>
            <a:ext cx="50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Глагол «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to be</a:t>
            </a: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отрица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50767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1.Подлежащее (сущ. или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местоимение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2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m, is, ar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4.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Дополнение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( сущ., прилаг., числительное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10" descr="Картинка 167 из 64000"/>
          <p:cNvPicPr/>
          <p:nvPr/>
        </p:nvPicPr>
        <p:blipFill>
          <a:blip r:embed="rId1"/>
          <a:stretch/>
        </p:blipFill>
        <p:spPr>
          <a:xfrm>
            <a:off x="214200" y="1928880"/>
            <a:ext cx="40006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89647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Verdana"/>
              </a:rPr>
              <a:t>Порядок слов в отрицательном предложении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80000" y="1599840"/>
            <a:ext cx="536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1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m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2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4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5.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6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7.I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dog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13" descr="Картинка 36 из 64000"/>
          <p:cNvPicPr/>
          <p:nvPr/>
        </p:nvPicPr>
        <p:blipFill>
          <a:blip r:embed="rId1"/>
          <a:stretch/>
        </p:blipFill>
        <p:spPr>
          <a:xfrm>
            <a:off x="357120" y="2133720"/>
            <a:ext cx="36385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03320"/>
            <a:ext cx="932508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Сокращенные ответы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6227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–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m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no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6" descr="Картинка 41 из 64000"/>
          <p:cNvPicPr/>
          <p:nvPr/>
        </p:nvPicPr>
        <p:blipFill>
          <a:blip r:embed="rId1"/>
          <a:stretch/>
        </p:blipFill>
        <p:spPr>
          <a:xfrm>
            <a:off x="0" y="2276640"/>
            <a:ext cx="3182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Учитель</cp:lastModifiedBy>
  <dcterms:modified xsi:type="dcterms:W3CDTF">2013-11-28T06:08:29Z</dcterms:modified>
  <cp:revision>28</cp:revision>
  <dc:subject/>
  <dc:title>Глагол “to be” в английском языке</dc:title>
</cp:coreProperties>
</file>