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1CE-B474-4B59-9A55-AB58AE62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98A-D357-4B65-82CF-EE6FF02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3C7-112C-4285-B0E5-4F085167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A27-9235-4F5E-B670-68DC82E8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583-313B-488B-8C12-05A73F67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62F-3BD5-4A21-9B4B-E15E49CA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DED-EED6-4F10-A697-0B5DC35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169-CD4F-4556-B0C8-D9C80EE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FAC-3E9B-4575-8E4D-39F66F4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411-2DE9-46B3-89DE-88ED18A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C4D-2144-42D2-A77B-E08927DD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71A-70F4-46AB-8959-1AE61EC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6E8-E60F-4806-913C-5534261A1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3995640" y="234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643280" y="29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49236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1"/>
          <p:cNvSpPr/>
          <p:nvPr/>
        </p:nvSpPr>
        <p:spPr>
          <a:xfrm>
            <a:off x="5940360" y="270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550872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3276720" y="537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2268360" y="170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5"/>
          <p:cNvSpPr/>
          <p:nvPr/>
        </p:nvSpPr>
        <p:spPr>
          <a:xfrm>
            <a:off x="4284720" y="119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3"/>
          <p:cNvSpPr/>
          <p:nvPr/>
        </p:nvSpPr>
        <p:spPr>
          <a:xfrm>
            <a:off x="3132000" y="256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4"/>
          <p:cNvSpPr/>
          <p:nvPr/>
        </p:nvSpPr>
        <p:spPr>
          <a:xfrm>
            <a:off x="1692360" y="4076640"/>
            <a:ext cx="914400" cy="914400"/>
          </a:xfrm>
          <a:prstGeom prst="ellipse">
            <a:avLst/>
          </a:prstGeom>
          <a:solidFill>
            <a:srgbClr val="3b9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H="1">
            <a:off x="4572000" y="21337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>
            <a:off x="2987640" y="2565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 flipV="1">
            <a:off x="2556000" y="4149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3780000" y="5084280"/>
            <a:ext cx="71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H="1">
            <a:off x="5579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5292720" y="4653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3"/>
          <p:cNvSpPr/>
          <p:nvPr/>
        </p:nvSpPr>
        <p:spPr>
          <a:xfrm>
            <a:off x="2843280" y="342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"/>
          <p:cNvSpPr/>
          <p:nvPr/>
        </p:nvSpPr>
        <p:spPr>
          <a:xfrm>
            <a:off x="324000" y="115920"/>
            <a:ext cx="8424720" cy="1052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величь каждое из чисел на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95640" y="234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4643280" y="29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349236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5940360" y="270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5508720" y="465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3276720" y="537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2268360" y="170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4284720" y="119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3"/>
          <p:cNvSpPr/>
          <p:nvPr/>
        </p:nvSpPr>
        <p:spPr>
          <a:xfrm>
            <a:off x="3132000" y="2565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1692360" y="4076640"/>
            <a:ext cx="914400" cy="914400"/>
          </a:xfrm>
          <a:prstGeom prst="ellipse">
            <a:avLst/>
          </a:prstGeom>
          <a:solidFill>
            <a:srgbClr val="3b9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 flipH="1">
            <a:off x="4572000" y="21337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2987640" y="2565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7"/>
          <p:cNvSpPr/>
          <p:nvPr/>
        </p:nvSpPr>
        <p:spPr>
          <a:xfrm flipV="1">
            <a:off x="2556000" y="4149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 flipV="1">
            <a:off x="3780000" y="5084280"/>
            <a:ext cx="71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 flipH="1">
            <a:off x="5579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>
            <a:off x="5292720" y="4653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3"/>
          <p:cNvSpPr/>
          <p:nvPr/>
        </p:nvSpPr>
        <p:spPr>
          <a:xfrm>
            <a:off x="2843280" y="342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4"/>
          <p:cNvSpPr/>
          <p:nvPr/>
        </p:nvSpPr>
        <p:spPr>
          <a:xfrm>
            <a:off x="324000" y="115920"/>
            <a:ext cx="8424720" cy="1052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меньши каждое из чисел на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( 2 + 5)  -  6 =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( 8 – 3 ) - 1 =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395280" y="0"/>
            <a:ext cx="842472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еши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899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- 4 + 1+2 - 4+6 =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395280" y="0"/>
            <a:ext cx="842472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еши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 + 2 ___  3 + 3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 – 6 ___  7 + 1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95280" y="0"/>
            <a:ext cx="842472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ра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Тани 5 конфет, у Миши – 3 конфеты. Сколько всегоконфет у дет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https://i.ytimg.com/vi/SCKDgDxYvx8/hqdefault.jpg"/>
          <p:cNvPicPr/>
          <p:nvPr/>
        </p:nvPicPr>
        <p:blipFill>
          <a:blip r:embed="rId1"/>
          <a:stretch/>
        </p:blipFill>
        <p:spPr>
          <a:xfrm>
            <a:off x="395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https://i.ytimg.com/vi/SCKDgDxYvx8/hqdefault.jpg"/>
          <p:cNvPicPr/>
          <p:nvPr/>
        </p:nvPicPr>
        <p:blipFill>
          <a:blip r:embed="rId2"/>
          <a:stretch/>
        </p:blipFill>
        <p:spPr>
          <a:xfrm>
            <a:off x="395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https://i.ytimg.com/vi/SCKDgDxYvx8/hqdefault.jpg"/>
          <p:cNvPicPr/>
          <p:nvPr/>
        </p:nvPicPr>
        <p:blipFill>
          <a:blip r:embed="rId3"/>
          <a:stretch/>
        </p:blipFill>
        <p:spPr>
          <a:xfrm>
            <a:off x="1619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9" descr="https://i.ytimg.com/vi/SCKDgDxYvx8/hqdefault.jpg"/>
          <p:cNvPicPr/>
          <p:nvPr/>
        </p:nvPicPr>
        <p:blipFill>
          <a:blip r:embed="rId4"/>
          <a:stretch/>
        </p:blipFill>
        <p:spPr>
          <a:xfrm>
            <a:off x="1619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https://i.ytimg.com/vi/SCKDgDxYvx8/hqdefault.jpg"/>
          <p:cNvPicPr/>
          <p:nvPr/>
        </p:nvPicPr>
        <p:blipFill>
          <a:blip r:embed="rId5"/>
          <a:stretch/>
        </p:blipFill>
        <p:spPr>
          <a:xfrm>
            <a:off x="2843280" y="4508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1" descr="http://i.otzovik.com/objects/b/110000/107788.png"/>
          <p:cNvPicPr/>
          <p:nvPr/>
        </p:nvPicPr>
        <p:blipFill>
          <a:blip r:embed="rId6"/>
          <a:stretch/>
        </p:blipFill>
        <p:spPr>
          <a:xfrm>
            <a:off x="5292720" y="3716280"/>
            <a:ext cx="2957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Тани 5 конфет, у Миши – 3 конфеты. На сколько больше конфет  у Тани, чем у Миш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https://i.ytimg.com/vi/SCKDgDxYvx8/hqdefault.jpg"/>
          <p:cNvPicPr/>
          <p:nvPr/>
        </p:nvPicPr>
        <p:blipFill>
          <a:blip r:embed="rId1"/>
          <a:stretch/>
        </p:blipFill>
        <p:spPr>
          <a:xfrm>
            <a:off x="395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https://i.ytimg.com/vi/SCKDgDxYvx8/hqdefault.jpg"/>
          <p:cNvPicPr/>
          <p:nvPr/>
        </p:nvPicPr>
        <p:blipFill>
          <a:blip r:embed="rId2"/>
          <a:stretch/>
        </p:blipFill>
        <p:spPr>
          <a:xfrm>
            <a:off x="395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https://i.ytimg.com/vi/SCKDgDxYvx8/hqdefault.jpg"/>
          <p:cNvPicPr/>
          <p:nvPr/>
        </p:nvPicPr>
        <p:blipFill>
          <a:blip r:embed="rId3"/>
          <a:stretch/>
        </p:blipFill>
        <p:spPr>
          <a:xfrm>
            <a:off x="1619280" y="393372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https://i.ytimg.com/vi/SCKDgDxYvx8/hqdefault.jpg"/>
          <p:cNvPicPr/>
          <p:nvPr/>
        </p:nvPicPr>
        <p:blipFill>
          <a:blip r:embed="rId4"/>
          <a:stretch/>
        </p:blipFill>
        <p:spPr>
          <a:xfrm>
            <a:off x="1619280" y="5084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https://i.ytimg.com/vi/SCKDgDxYvx8/hqdefault.jpg"/>
          <p:cNvPicPr/>
          <p:nvPr/>
        </p:nvPicPr>
        <p:blipFill>
          <a:blip r:embed="rId5"/>
          <a:stretch/>
        </p:blipFill>
        <p:spPr>
          <a:xfrm>
            <a:off x="2843280" y="4508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http://i.otzovik.com/objects/b/110000/107788.png"/>
          <p:cNvPicPr/>
          <p:nvPr/>
        </p:nvPicPr>
        <p:blipFill>
          <a:blip r:embed="rId6"/>
          <a:stretch/>
        </p:blipFill>
        <p:spPr>
          <a:xfrm>
            <a:off x="5292720" y="3716280"/>
            <a:ext cx="2957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Бы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10 птиц,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улете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3 птицы. Сколько птиц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осталось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Бы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5 птиц,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прилете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3 птицы. Сколько птиц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Arial"/>
              </a:rPr>
              <a:t>стало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661080" y="4941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6661080" y="5013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14:12Z</dcterms:created>
  <dc:creator>я</dc:creator>
  <dc:description/>
  <dc:language>en-US</dc:language>
  <cp:lastModifiedBy>Комп</cp:lastModifiedBy>
  <dcterms:modified xsi:type="dcterms:W3CDTF">2018-04-07T06:31:20Z</dcterms:modified>
  <cp:revision>29</cp:revision>
  <dc:subject/>
  <dc:title>Слайд 1</dc:title>
</cp:coreProperties>
</file>