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D81-9D75-4F97-9DDB-D9D760F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8FF-4FF0-438E-93FE-4F61C4FA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FBD-CA70-4C56-B7E0-3D224FA9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542-0E29-4D8A-81CC-0BF3E10B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B91-1358-4AA9-9297-3D2877CE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EF0-9039-4A0D-8CB0-9D5C613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95F-3AA6-49B4-B2D9-7AFF6A5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E3D-7B16-4983-AC94-530B2DA1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B14-A66A-4CCE-A2D6-ED1069C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F3A-DE23-4670-AE7A-257EC93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ACD-05ED-4542-8FCB-4B811BC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1F1-DB13-4094-8761-81DA2BE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6F6C-E16D-4997-9D9D-0405A6AC9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3995640" y="23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64328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49236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1"/>
          <p:cNvSpPr/>
          <p:nvPr/>
        </p:nvSpPr>
        <p:spPr>
          <a:xfrm>
            <a:off x="594036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3276720" y="537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2268360" y="17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4284720" y="119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3"/>
          <p:cNvSpPr/>
          <p:nvPr/>
        </p:nvSpPr>
        <p:spPr>
          <a:xfrm>
            <a:off x="3132000" y="256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4"/>
          <p:cNvSpPr/>
          <p:nvPr/>
        </p:nvSpPr>
        <p:spPr>
          <a:xfrm>
            <a:off x="1692360" y="4076640"/>
            <a:ext cx="914400" cy="914400"/>
          </a:xfrm>
          <a:prstGeom prst="ellipse">
            <a:avLst/>
          </a:prstGeom>
          <a:solidFill>
            <a:srgbClr val="3b9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H="1">
            <a:off x="4572000" y="21337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2987640" y="256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 flipV="1">
            <a:off x="2556000" y="4149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3780000" y="5084280"/>
            <a:ext cx="71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H="1">
            <a:off x="5579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529272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2843280" y="342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"/>
          <p:cNvSpPr/>
          <p:nvPr/>
        </p:nvSpPr>
        <p:spPr>
          <a:xfrm>
            <a:off x="324000" y="115920"/>
            <a:ext cx="8424720" cy="10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величь каждое из чисел на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95640" y="23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464328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349236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594036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3276720" y="537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2268360" y="17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4284720" y="119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3132000" y="256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1692360" y="4076640"/>
            <a:ext cx="914400" cy="914400"/>
          </a:xfrm>
          <a:prstGeom prst="ellipse">
            <a:avLst/>
          </a:prstGeom>
          <a:solidFill>
            <a:srgbClr val="3b9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 flipH="1">
            <a:off x="4572000" y="21337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2987640" y="256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 flipV="1">
            <a:off x="2556000" y="4149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 flipV="1">
            <a:off x="3780000" y="5084280"/>
            <a:ext cx="71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 flipH="1">
            <a:off x="5579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>
            <a:off x="529272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3"/>
          <p:cNvSpPr/>
          <p:nvPr/>
        </p:nvSpPr>
        <p:spPr>
          <a:xfrm>
            <a:off x="2843280" y="342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4"/>
          <p:cNvSpPr/>
          <p:nvPr/>
        </p:nvSpPr>
        <p:spPr>
          <a:xfrm>
            <a:off x="324000" y="115920"/>
            <a:ext cx="8424720" cy="10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меньши каждое из чисел на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( 2 + 5)  -  6 =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( 8 – 3 ) - 1 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ш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899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- 4 + 1+2 - 4+6 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ш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 + 2 ___  3 + 3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 – 6 ___  7 + 1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Тани 5 конфет, у Миши – 3 конфеты. Сколько всегоконфет у дет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https://i.ytimg.com/vi/SCKDgDxYvx8/hqdefault.jpg"/>
          <p:cNvPicPr/>
          <p:nvPr/>
        </p:nvPicPr>
        <p:blipFill>
          <a:blip r:embed="rId1"/>
          <a:stretch/>
        </p:blipFill>
        <p:spPr>
          <a:xfrm>
            <a:off x="395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s://i.ytimg.com/vi/SCKDgDxYvx8/hqdefault.jpg"/>
          <p:cNvPicPr/>
          <p:nvPr/>
        </p:nvPicPr>
        <p:blipFill>
          <a:blip r:embed="rId2"/>
          <a:stretch/>
        </p:blipFill>
        <p:spPr>
          <a:xfrm>
            <a:off x="395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https://i.ytimg.com/vi/SCKDgDxYvx8/hqdefault.jpg"/>
          <p:cNvPicPr/>
          <p:nvPr/>
        </p:nvPicPr>
        <p:blipFill>
          <a:blip r:embed="rId3"/>
          <a:stretch/>
        </p:blipFill>
        <p:spPr>
          <a:xfrm>
            <a:off x="1619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https://i.ytimg.com/vi/SCKDgDxYvx8/hqdefault.jpg"/>
          <p:cNvPicPr/>
          <p:nvPr/>
        </p:nvPicPr>
        <p:blipFill>
          <a:blip r:embed="rId4"/>
          <a:stretch/>
        </p:blipFill>
        <p:spPr>
          <a:xfrm>
            <a:off x="1619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ttps://i.ytimg.com/vi/SCKDgDxYvx8/hqdefault.jpg"/>
          <p:cNvPicPr/>
          <p:nvPr/>
        </p:nvPicPr>
        <p:blipFill>
          <a:blip r:embed="rId5"/>
          <a:stretch/>
        </p:blipFill>
        <p:spPr>
          <a:xfrm>
            <a:off x="2843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http://i.otzovik.com/objects/b/110000/107788.png"/>
          <p:cNvPicPr/>
          <p:nvPr/>
        </p:nvPicPr>
        <p:blipFill>
          <a:blip r:embed="rId6"/>
          <a:stretch/>
        </p:blipFill>
        <p:spPr>
          <a:xfrm>
            <a:off x="5292720" y="3716280"/>
            <a:ext cx="2957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Тани 5 конфет, у Миши – 3 конфеты. На сколько больше конфет  у Тани, чем у Миш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https://i.ytimg.com/vi/SCKDgDxYvx8/hqdefault.jpg"/>
          <p:cNvPicPr/>
          <p:nvPr/>
        </p:nvPicPr>
        <p:blipFill>
          <a:blip r:embed="rId1"/>
          <a:stretch/>
        </p:blipFill>
        <p:spPr>
          <a:xfrm>
            <a:off x="395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https://i.ytimg.com/vi/SCKDgDxYvx8/hqdefault.jpg"/>
          <p:cNvPicPr/>
          <p:nvPr/>
        </p:nvPicPr>
        <p:blipFill>
          <a:blip r:embed="rId2"/>
          <a:stretch/>
        </p:blipFill>
        <p:spPr>
          <a:xfrm>
            <a:off x="395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s://i.ytimg.com/vi/SCKDgDxYvx8/hqdefault.jpg"/>
          <p:cNvPicPr/>
          <p:nvPr/>
        </p:nvPicPr>
        <p:blipFill>
          <a:blip r:embed="rId3"/>
          <a:stretch/>
        </p:blipFill>
        <p:spPr>
          <a:xfrm>
            <a:off x="1619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https://i.ytimg.com/vi/SCKDgDxYvx8/hqdefault.jpg"/>
          <p:cNvPicPr/>
          <p:nvPr/>
        </p:nvPicPr>
        <p:blipFill>
          <a:blip r:embed="rId4"/>
          <a:stretch/>
        </p:blipFill>
        <p:spPr>
          <a:xfrm>
            <a:off x="1619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https://i.ytimg.com/vi/SCKDgDxYvx8/hqdefault.jpg"/>
          <p:cNvPicPr/>
          <p:nvPr/>
        </p:nvPicPr>
        <p:blipFill>
          <a:blip r:embed="rId5"/>
          <a:stretch/>
        </p:blipFill>
        <p:spPr>
          <a:xfrm>
            <a:off x="2843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http://i.otzovik.com/objects/b/110000/107788.png"/>
          <p:cNvPicPr/>
          <p:nvPr/>
        </p:nvPicPr>
        <p:blipFill>
          <a:blip r:embed="rId6"/>
          <a:stretch/>
        </p:blipFill>
        <p:spPr>
          <a:xfrm>
            <a:off x="5292720" y="3716280"/>
            <a:ext cx="2957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10 птиц,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улете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3 птицы. Сколько птиц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осталось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5 птиц,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прилете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3 птицы. Сколько птиц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ста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14:12Z</dcterms:created>
  <dc:creator>я</dc:creator>
  <dc:description/>
  <dc:language>en-US</dc:language>
  <cp:lastModifiedBy>Комп</cp:lastModifiedBy>
  <dcterms:modified xsi:type="dcterms:W3CDTF">2018-04-07T06:31:20Z</dcterms:modified>
  <cp:revision>29</cp:revision>
  <dc:subject/>
  <dc:title>Слайд 1</dc:title>
</cp:coreProperties>
</file>