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309-D826-41E7-AD48-56501127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8D7-ABB2-422C-A86F-3F5C844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DA2-FCCE-46D4-850B-BDB606E3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617-B79D-4C59-997C-84A1CCB8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E16-5DBA-44FE-96B8-4FD22D3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151-AF7E-4B87-AAC8-104D1C9C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9D1-CA51-4496-BDE7-276926A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B1F-54E5-4C64-BE91-08C3E81B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A80-29B8-4D01-A702-08AE7D7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14A-7601-417B-8EEF-8E22553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78C-F726-4C50-903A-344AA42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EB9-09A1-4D6D-B4F8-167E8F1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124-F588-4A4C-A723-A7DAA5E20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1328760" y="2030400"/>
            <a:ext cx="64674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 всех выбор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лементов и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c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учётом их поряд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ывают числом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размещен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лементов по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571840" y="3571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аз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1216080" y="3857760"/>
                <a:ext cx="6433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" name="Object 19"/>
          <p:cNvGraphicFramePr/>
          <p:nvPr/>
        </p:nvGraphicFramePr>
        <p:xfrm>
          <a:off x="2916360" y="4581360"/>
          <a:ext cx="2286000" cy="19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581360"/>
                    <a:ext cx="22860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mage6"/>
          <p:cNvPicPr/>
          <p:nvPr/>
        </p:nvPicPr>
        <p:blipFill>
          <a:blip r:embed="rId1"/>
          <a:stretch/>
        </p:blipFill>
        <p:spPr>
          <a:xfrm>
            <a:off x="2714760" y="5572080"/>
            <a:ext cx="4719600" cy="380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Разме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mage4"/>
          <p:cNvPicPr/>
          <p:nvPr/>
        </p:nvPicPr>
        <p:blipFill>
          <a:blip r:embed="rId2"/>
          <a:stretch/>
        </p:blipFill>
        <p:spPr>
          <a:xfrm>
            <a:off x="428760" y="1500120"/>
            <a:ext cx="3714480" cy="539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28760" y="2357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Это  - формула для вычисления числа размещ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Здесь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– число объектов «из которых выбирали»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– число объектов «по сколько составля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286160" y="1285920"/>
            <a:ext cx="4643640" cy="764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ит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Число размещений из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по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00040" y="435780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Запишите и вычисл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28760" y="4714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1. Число размещений из 7 по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428760" y="514368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. Число размещений из 5 п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5"/>
          <p:cNvPicPr/>
          <p:nvPr/>
        </p:nvPicPr>
        <p:blipFill>
          <a:blip r:embed="rId3"/>
          <a:stretch/>
        </p:blipFill>
        <p:spPr>
          <a:xfrm>
            <a:off x="4429080" y="4714920"/>
            <a:ext cx="2143080" cy="44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mage6"/>
          <p:cNvPicPr/>
          <p:nvPr/>
        </p:nvPicPr>
        <p:blipFill>
          <a:blip r:embed="rId4"/>
          <a:stretch/>
        </p:blipFill>
        <p:spPr>
          <a:xfrm>
            <a:off x="4424400" y="5143680"/>
            <a:ext cx="471960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7"/>
          <p:cNvPicPr/>
          <p:nvPr/>
        </p:nvPicPr>
        <p:blipFill>
          <a:blip r:embed="rId5"/>
          <a:stretch/>
        </p:blipFill>
        <p:spPr>
          <a:xfrm>
            <a:off x="1428840" y="6072120"/>
            <a:ext cx="5043240" cy="357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0"/>
          <p:cNvSpPr/>
          <p:nvPr/>
        </p:nvSpPr>
        <p:spPr>
          <a:xfrm>
            <a:off x="6000840" y="5143680"/>
            <a:ext cx="3143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000160" y="5572080"/>
            <a:ext cx="22860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6429240" y="5572080"/>
            <a:ext cx="22860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428760" y="557208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3. Число размещений из 8 п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28840" y="6000840"/>
            <a:ext cx="2857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428760" y="6000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4*. Число размещений из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по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4" descr="кубик рубика.jpg"/>
          <p:cNvPicPr/>
          <p:nvPr/>
        </p:nvPicPr>
        <p:blipFill>
          <a:blip r:embed="rId6"/>
          <a:stretch/>
        </p:blipFill>
        <p:spPr>
          <a:xfrm>
            <a:off x="6572160" y="4286160"/>
            <a:ext cx="2357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357280" y="285840"/>
            <a:ext cx="66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Учащиеся 2 класса изучают 9 предметов. Сколькими способами можно составить расписание на один день, чтобы в нём было 4 различных предмета?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71680" y="2357280"/>
            <a:ext cx="77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Любое расписание на один день, составленное из 4 различных предметов, отличается от другого либо набором предметов, либо порядком их следования. Имеем размещения из 9 по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928880" y="4000680"/>
          <a:ext cx="4284720" cy="28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000680"/>
                    <a:ext cx="42847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Box 4"/>
          <p:cNvSpPr/>
          <p:nvPr/>
        </p:nvSpPr>
        <p:spPr>
          <a:xfrm>
            <a:off x="0" y="-142920"/>
            <a:ext cx="3714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Задача №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5:58:58Z</dcterms:created>
  <dc:creator>АВН</dc:creator>
  <dc:description/>
  <dc:language>en-US</dc:language>
  <cp:lastModifiedBy>Елена Жалыбина</cp:lastModifiedBy>
  <dcterms:modified xsi:type="dcterms:W3CDTF">2016-03-26T20:44:35Z</dcterms:modified>
  <cp:revision>16</cp:revision>
  <dc:subject/>
  <dc:title>Число всех выборов k элементов из n  данных  c  учётом их порядка называют числом размещений из n элементов по k. </dc:title>
</cp:coreProperties>
</file>