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4.wmf" ContentType="image/x-wmf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FB5-9BCA-4579-A7E7-DC6B0873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21C-D0F4-4177-86B7-749F6E3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37E-C9C8-45B8-A836-0CF13432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CE9-1709-4ACF-9EF9-3B19357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031E-90D3-4392-85E8-B5310ADB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AE1C-2EE2-4F27-986D-0906D538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EBE-30A8-4E3A-ABB9-4416FFB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1C98-C45C-407C-9F1E-17691C2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73F-642E-4615-8453-68E66C97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6016-D48E-4BFD-B338-ED9753D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F1C-B624-41EC-8D44-A5DBCB2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6E6-9BC2-4139-8C66-0EC3962A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FDA7-BA1F-4C00-B1E0-147CE2C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6E21-A1E7-4E34-9EBB-52DF98E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ADA-3E21-412E-AFEF-FF64681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F32-5F8E-46F6-8D34-6A2F627F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382-3E61-4F13-A29E-9176C127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F16D-B50F-426B-AF16-21D1225B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47F7-8937-4B2E-9F8D-2E1FFA30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289C-2049-4123-83AB-E091825C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741A-9A98-402A-BF6C-6744FA9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DF9C-7345-4E30-AB14-4183241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CB1-90E8-4E98-A5A6-F13F8D3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9D9E-23B9-4FB0-A325-CB0984F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E6AB-68C4-413B-A74F-8563AE5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342E-2C44-4089-A195-EB4A820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80AA-1532-47CA-83AC-A2EAB24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A062-CAF4-4F7E-BC8A-0674939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02B6-168F-4141-A58C-27B91742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1BE8-3343-4CA7-BEE0-51545277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C894-3139-44D0-B974-195B0609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62DB-9979-4698-A821-79F69CD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A8FB-EBB8-403D-A720-356E499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2E3-FDA9-4262-9D38-51066F8D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6F41-6DEB-4438-B5B7-0877BD8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A8B3-5896-422E-99C3-5C47190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6EC0-4D69-4CB6-B61C-698900B3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870D-CFF6-407F-98C8-E706470F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3676-5485-4242-A4F4-F208060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D61E-B1CF-46B0-B4FC-3A05600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FAD0-0C6D-4BF6-BF37-F9210D89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87F9-D208-4DA4-82F0-D7571BBE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3356-D1CC-4C0D-8C20-62C6F1D3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6EC4-4B7E-480E-B1A4-0A45B4D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1F2-A20C-4887-949F-C74D9AE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3DA2-6B15-42D5-ACF4-9CEA67D2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F544-C860-4ADE-ACB4-41B7C42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B4CF-4C61-4E6F-88D3-780A339C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05F8-AF6A-4B9D-9921-FCBD9FF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6EB0-40D6-4980-A4A3-57EF7FFD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90A1-D60F-4FB7-9351-B3B0C1E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98C1-DFA6-47A2-A4FA-3013970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ACA2-81DA-4E2D-9B78-EA59056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B305-2710-428D-BC58-EF65929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7143-123F-42ED-8000-AD6AD17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9C5-8EA0-4023-8459-F7DD3F3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F45A-343D-4EA2-B512-BF856850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D13-E6C2-4680-A820-AD3F125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A76-033D-445F-A1AE-F173258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3AC-0590-4325-ABC0-F2A9CEB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77D-F4CA-41E8-97F9-EEFC3EA70D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6D3-D858-4719-94B8-D343BCB1D6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36CC-2B74-4DFE-BF47-21F8644A2C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53D-B4AB-4F4B-A0F9-A13CA157CD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134-486B-45F9-974E-9ED97F1E41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1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3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5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6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227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9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pic>
        <p:nvPicPr>
          <p:cNvPr id="230" name="Picture 22" descr="J0232988"/>
          <p:cNvPicPr/>
          <p:nvPr/>
        </p:nvPicPr>
        <p:blipFill>
          <a:blip r:embed="rId1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4"/>
          <p:cNvSpPr/>
          <p:nvPr/>
        </p:nvSpPr>
        <p:spPr>
          <a:xfrm>
            <a:off x="6143760" y="5643720"/>
            <a:ext cx="21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К « 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5">
            <a:hlinkClick r:id="rId2"/>
          </p:cNvPr>
          <p:cNvSpPr/>
          <p:nvPr/>
        </p:nvSpPr>
        <p:spPr>
          <a:xfrm>
            <a:off x="3898800" y="6477120"/>
            <a:ext cx="13716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klass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838080" y="380880"/>
            <a:ext cx="7925040" cy="289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838080" y="3657600"/>
            <a:ext cx="7848720" cy="2895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876560" y="4648320"/>
            <a:ext cx="2972160" cy="1447200"/>
            <a:chOff x="4876560" y="4648320"/>
            <a:chExt cx="2972160" cy="1447200"/>
          </a:xfrm>
        </p:grpSpPr>
        <p:sp>
          <p:nvSpPr>
            <p:cNvPr id="322" name="Arc 5"/>
            <p:cNvSpPr/>
            <p:nvPr/>
          </p:nvSpPr>
          <p:spPr>
            <a:xfrm>
              <a:off x="5504040" y="5619600"/>
              <a:ext cx="788400" cy="4510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fill="none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</a:path>
                <a:path stroke="0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  <a:lnTo>
                    <a:pt x="7152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5854680" y="4648320"/>
              <a:ext cx="0" cy="13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>
              <a:off x="5902920" y="6033960"/>
              <a:ext cx="193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 flipV="1">
              <a:off x="4876560" y="4791240"/>
              <a:ext cx="915480" cy="125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5854680" y="6057000"/>
              <a:ext cx="19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"/>
            <p:cNvSpPr/>
            <p:nvPr/>
          </p:nvSpPr>
          <p:spPr>
            <a:xfrm>
              <a:off x="5747760" y="5992200"/>
              <a:ext cx="1551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5846040" y="5826600"/>
              <a:ext cx="216000" cy="19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9452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4fc4"/>
                </a:solidFill>
                <a:latin typeface="Verdana"/>
              </a:rPr>
              <a:t>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838080" y="3581280"/>
            <a:ext cx="794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бол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4"/>
          <p:cNvGrpSpPr/>
          <p:nvPr/>
        </p:nvGrpSpPr>
        <p:grpSpPr>
          <a:xfrm>
            <a:off x="5639040" y="1371600"/>
            <a:ext cx="1904760" cy="1599840"/>
            <a:chOff x="5639040" y="1371600"/>
            <a:chExt cx="1904760" cy="1599840"/>
          </a:xfrm>
        </p:grpSpPr>
        <p:sp>
          <p:nvSpPr>
            <p:cNvPr id="332" name="Line 15"/>
            <p:cNvSpPr/>
            <p:nvPr/>
          </p:nvSpPr>
          <p:spPr>
            <a:xfrm flipH="1">
              <a:off x="5692320" y="2921760"/>
              <a:ext cx="1851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 flipV="1">
              <a:off x="5693400" y="1371600"/>
              <a:ext cx="0" cy="15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 flipH="1">
              <a:off x="5686920" y="2954880"/>
              <a:ext cx="185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 flipV="1">
              <a:off x="5686560" y="1914840"/>
              <a:ext cx="1440000" cy="103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rc 19"/>
            <p:cNvSpPr/>
            <p:nvPr/>
          </p:nvSpPr>
          <p:spPr>
            <a:xfrm>
              <a:off x="6074280" y="272160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0"/>
            <p:cNvSpPr/>
            <p:nvPr/>
          </p:nvSpPr>
          <p:spPr>
            <a:xfrm flipH="1">
              <a:off x="5638680" y="2860200"/>
              <a:ext cx="1508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 flipH="1">
              <a:off x="5706720" y="2671560"/>
              <a:ext cx="258120" cy="236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838240" cy="1747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3543120" cy="158112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4"/>
          <p:cNvGrpSpPr/>
          <p:nvPr/>
        </p:nvGrpSpPr>
        <p:grpSpPr>
          <a:xfrm>
            <a:off x="2340000" y="4941720"/>
            <a:ext cx="1905120" cy="1295280"/>
            <a:chOff x="2340000" y="4941720"/>
            <a:chExt cx="1905120" cy="1295280"/>
          </a:xfrm>
        </p:grpSpPr>
        <p:sp>
          <p:nvSpPr>
            <p:cNvPr id="342" name="AutoShape 25"/>
            <p:cNvSpPr/>
            <p:nvPr/>
          </p:nvSpPr>
          <p:spPr>
            <a:xfrm>
              <a:off x="2340000" y="494172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3238560" y="560700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2416320" y="499716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2405160" y="49640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"/>
            <p:cNvSpPr/>
            <p:nvPr/>
          </p:nvSpPr>
          <p:spPr>
            <a:xfrm>
              <a:off x="2427480" y="496872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2613240" y="537336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2613240" y="537336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2"/>
            <p:cNvSpPr/>
            <p:nvPr/>
          </p:nvSpPr>
          <p:spPr>
            <a:xfrm>
              <a:off x="253872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2697480" y="601956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28558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301464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316728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7"/>
            <p:cNvSpPr/>
            <p:nvPr/>
          </p:nvSpPr>
          <p:spPr>
            <a:xfrm>
              <a:off x="33274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8"/>
            <p:cNvSpPr/>
            <p:nvPr/>
          </p:nvSpPr>
          <p:spPr>
            <a:xfrm>
              <a:off x="348480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9"/>
            <p:cNvSpPr/>
            <p:nvPr/>
          </p:nvSpPr>
          <p:spPr>
            <a:xfrm>
              <a:off x="364500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0"/>
            <p:cNvSpPr/>
            <p:nvPr/>
          </p:nvSpPr>
          <p:spPr>
            <a:xfrm>
              <a:off x="380556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41"/>
          <p:cNvGrpSpPr/>
          <p:nvPr/>
        </p:nvGrpSpPr>
        <p:grpSpPr>
          <a:xfrm>
            <a:off x="1476360" y="1844640"/>
            <a:ext cx="1905120" cy="1295280"/>
            <a:chOff x="1476360" y="1844640"/>
            <a:chExt cx="1905120" cy="1295280"/>
          </a:xfrm>
        </p:grpSpPr>
        <p:sp>
          <p:nvSpPr>
            <p:cNvPr id="359" name="AutoShape 42"/>
            <p:cNvSpPr/>
            <p:nvPr/>
          </p:nvSpPr>
          <p:spPr>
            <a:xfrm>
              <a:off x="1476360" y="184464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"/>
            <p:cNvSpPr/>
            <p:nvPr/>
          </p:nvSpPr>
          <p:spPr>
            <a:xfrm>
              <a:off x="2374920" y="250992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4"/>
            <p:cNvSpPr/>
            <p:nvPr/>
          </p:nvSpPr>
          <p:spPr>
            <a:xfrm>
              <a:off x="1552680" y="19000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5"/>
            <p:cNvSpPr/>
            <p:nvPr/>
          </p:nvSpPr>
          <p:spPr>
            <a:xfrm>
              <a:off x="1541520" y="186696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6"/>
            <p:cNvSpPr/>
            <p:nvPr/>
          </p:nvSpPr>
          <p:spPr>
            <a:xfrm>
              <a:off x="1563840" y="187164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7"/>
            <p:cNvSpPr/>
            <p:nvPr/>
          </p:nvSpPr>
          <p:spPr>
            <a:xfrm>
              <a:off x="1749600" y="22762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8"/>
            <p:cNvSpPr/>
            <p:nvPr/>
          </p:nvSpPr>
          <p:spPr>
            <a:xfrm>
              <a:off x="1749600" y="227628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9"/>
            <p:cNvSpPr/>
            <p:nvPr/>
          </p:nvSpPr>
          <p:spPr>
            <a:xfrm>
              <a:off x="167508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0"/>
            <p:cNvSpPr/>
            <p:nvPr/>
          </p:nvSpPr>
          <p:spPr>
            <a:xfrm>
              <a:off x="1833840" y="292248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1"/>
            <p:cNvSpPr/>
            <p:nvPr/>
          </p:nvSpPr>
          <p:spPr>
            <a:xfrm>
              <a:off x="19922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2"/>
            <p:cNvSpPr/>
            <p:nvPr/>
          </p:nvSpPr>
          <p:spPr>
            <a:xfrm>
              <a:off x="215100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3"/>
            <p:cNvSpPr/>
            <p:nvPr/>
          </p:nvSpPr>
          <p:spPr>
            <a:xfrm>
              <a:off x="230364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4"/>
            <p:cNvSpPr/>
            <p:nvPr/>
          </p:nvSpPr>
          <p:spPr>
            <a:xfrm>
              <a:off x="24638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5"/>
            <p:cNvSpPr/>
            <p:nvPr/>
          </p:nvSpPr>
          <p:spPr>
            <a:xfrm>
              <a:off x="262116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6"/>
            <p:cNvSpPr/>
            <p:nvPr/>
          </p:nvSpPr>
          <p:spPr>
            <a:xfrm>
              <a:off x="278136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7"/>
            <p:cNvSpPr/>
            <p:nvPr/>
          </p:nvSpPr>
          <p:spPr>
            <a:xfrm>
              <a:off x="294192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cc00cc"/>
                </a:solidFill>
                <a:latin typeface="Verdana"/>
              </a:rPr>
              <a:t>Виды уг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6" name="Схема 3" descr=""/>
          <p:cNvPicPr/>
          <p:nvPr/>
        </p:nvPicPr>
        <p:blipFill>
          <a:blip r:embed="rId1"/>
          <a:stretch/>
        </p:blipFill>
        <p:spPr>
          <a:xfrm>
            <a:off x="96840" y="1994040"/>
            <a:ext cx="8798040" cy="382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кие бывают углы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овите фигуры, которые содержат прямые уг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4"/>
          <p:cNvSpPr/>
          <p:nvPr/>
        </p:nvSpPr>
        <p:spPr>
          <a:xfrm rot="1330200">
            <a:off x="330120" y="3643200"/>
            <a:ext cx="2016360" cy="6271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2428920" y="3286080"/>
            <a:ext cx="2087640" cy="1440000"/>
          </a:xfrm>
          <a:prstGeom prst="parallelogram">
            <a:avLst>
              <a:gd name="adj" fmla="val 67125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4643280" y="3357720"/>
            <a:ext cx="1944720" cy="1079280"/>
          </a:xfrm>
          <a:prstGeom prst="pi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 rot="2772000">
            <a:off x="6732000" y="3213000"/>
            <a:ext cx="1214640" cy="1214280"/>
          </a:xfrm>
          <a:prstGeom prst="diamond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2571840" y="4857840"/>
            <a:ext cx="2448000" cy="1224000"/>
          </a:xfrm>
          <a:prstGeom prst="triangle">
            <a:avLst>
              <a:gd name="adj" fmla="val 50000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4932360" y="4869000"/>
            <a:ext cx="1655640" cy="122400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0"/>
          <p:cNvSpPr/>
          <p:nvPr/>
        </p:nvSpPr>
        <p:spPr>
          <a:xfrm rot="246600">
            <a:off x="6802200" y="4754160"/>
            <a:ext cx="2089080" cy="1214640"/>
          </a:xfrm>
          <a:prstGeom prst="diamond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684360" y="4869000"/>
            <a:ext cx="158400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3280" y="2060640"/>
            <a:ext cx="8183520" cy="265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вариант: построить острый уго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 вариант построить тупой уго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ка тест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3280" y="184464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а;   2.б;  3. меньше,   4. 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е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тог урок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915920"/>
            <a:ext cx="8183520" cy="280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Что такое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ак построить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ды угл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2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3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4"/>
          <p:cNvSpPr/>
          <p:nvPr/>
        </p:nvSpPr>
        <p:spPr>
          <a:xfrm>
            <a:off x="27147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5715000" y="35719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b023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Овал 43" descr=""/>
          <p:cNvPicPr/>
          <p:nvPr/>
        </p:nvPicPr>
        <p:blipFill>
          <a:blip r:embed="rId1"/>
          <a:stretch/>
        </p:blipFill>
        <p:spPr>
          <a:xfrm>
            <a:off x="1809720" y="378000"/>
            <a:ext cx="6681960" cy="17427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44"/>
          <p:cNvSpPr/>
          <p:nvPr/>
        </p:nvSpPr>
        <p:spPr>
          <a:xfrm>
            <a:off x="1908000" y="2349360"/>
            <a:ext cx="4969080" cy="71928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b023"/>
                </a:solidFill>
                <a:latin typeface="Arial"/>
                <a:ea typeface="Arial"/>
              </a:rPr>
              <a:t>В – знаю, умею,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8"/>
          <p:cNvSpPr/>
          <p:nvPr/>
        </p:nvSpPr>
        <p:spPr>
          <a:xfrm>
            <a:off x="1042920" y="3141720"/>
            <a:ext cx="4608720" cy="72072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Б – сомнев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9"/>
          <p:cNvSpPr/>
          <p:nvPr/>
        </p:nvSpPr>
        <p:spPr>
          <a:xfrm>
            <a:off x="539640" y="4005360"/>
            <a:ext cx="4969080" cy="647640"/>
          </a:xfrm>
          <a:prstGeom prst="rect">
            <a:avLst/>
          </a:prstGeom>
          <a:solidFill>
            <a:srgbClr val="ffffff"/>
          </a:solidFill>
          <a:ln w="42480">
            <a:solidFill>
              <a:srgbClr val="302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А – трудно, сл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9" descr="ОЧКАРИК"/>
          <p:cNvPicPr/>
          <p:nvPr/>
        </p:nvPicPr>
        <p:blipFill>
          <a:blip r:embed="rId2"/>
          <a:stretch/>
        </p:blipFill>
        <p:spPr>
          <a:xfrm>
            <a:off x="468360" y="1268280"/>
            <a:ext cx="1685880" cy="142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  зада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03280" y="1988640"/>
            <a:ext cx="8183520" cy="27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олни в Т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12,1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12,11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Рисунок 5" descr="C:\Users\Надежда\Desktop\Pic01208.jpg"/>
          <p:cNvPicPr/>
          <p:nvPr/>
        </p:nvPicPr>
        <p:blipFill>
          <a:blip r:embed="rId1"/>
          <a:stretch/>
        </p:blipFill>
        <p:spPr>
          <a:xfrm>
            <a:off x="357120" y="1428840"/>
            <a:ext cx="3643560" cy="46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TextBox 1"/>
          <p:cNvGrpSpPr/>
          <p:nvPr/>
        </p:nvGrpSpPr>
        <p:grpSpPr>
          <a:xfrm>
            <a:off x="1274760" y="133200"/>
            <a:ext cx="7308720" cy="1592280"/>
            <a:chOff x="1274760" y="133200"/>
            <a:chExt cx="7308720" cy="1592280"/>
          </a:xfrm>
        </p:grpSpPr>
        <p:pic>
          <p:nvPicPr>
            <p:cNvPr id="234" name="TextBox 1" descr=""/>
            <p:cNvPicPr/>
            <p:nvPr/>
          </p:nvPicPr>
          <p:blipFill>
            <a:blip r:embed="rId1"/>
            <a:stretch/>
          </p:blipFill>
          <p:spPr>
            <a:xfrm>
              <a:off x="1274760" y="133200"/>
              <a:ext cx="73087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571760" y="285840"/>
              <a:ext cx="692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Verdana"/>
                </a:rPr>
                <a:t>Арифметический диктан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"/>
          <p:cNvSpPr/>
          <p:nvPr/>
        </p:nvSpPr>
        <p:spPr>
          <a:xfrm>
            <a:off x="785880" y="1928880"/>
            <a:ext cx="714384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число, которое больше 34 и меньше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785880" y="2500200"/>
            <a:ext cx="521496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числите разность чисел 12 и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785880" y="3071880"/>
            <a:ext cx="464184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числите сумму чисел 60 и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785880" y="3595680"/>
            <a:ext cx="357192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6 уменьшите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785880" y="5000760"/>
            <a:ext cx="4071960" cy="368280"/>
          </a:xfrm>
          <a:prstGeom prst="rect">
            <a:avLst/>
          </a:prstGeom>
          <a:solidFill>
            <a:srgbClr val="6600ff"/>
          </a:solidFill>
          <a:ln w="9360">
            <a:solidFill>
              <a:srgbClr val="cc00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сколько 80 больше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TextBox 8"/>
          <p:cNvGrpSpPr/>
          <p:nvPr/>
        </p:nvGrpSpPr>
        <p:grpSpPr>
          <a:xfrm>
            <a:off x="738360" y="4498920"/>
            <a:ext cx="3315960" cy="560520"/>
            <a:chOff x="738360" y="4498920"/>
            <a:chExt cx="3315960" cy="560520"/>
          </a:xfrm>
        </p:grpSpPr>
        <p:pic>
          <p:nvPicPr>
            <p:cNvPr id="242" name="TextBox 8" descr=""/>
            <p:cNvPicPr/>
            <p:nvPr/>
          </p:nvPicPr>
          <p:blipFill>
            <a:blip r:embed="rId2"/>
            <a:stretch/>
          </p:blipFill>
          <p:spPr>
            <a:xfrm>
              <a:off x="738360" y="4498920"/>
              <a:ext cx="3315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57160" y="4572000"/>
              <a:ext cx="31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К 1 5 прибавили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0"/>
          <p:cNvSpPr/>
          <p:nvPr/>
        </p:nvSpPr>
        <p:spPr>
          <a:xfrm>
            <a:off x="1000080" y="551664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2143080" y="5516640"/>
            <a:ext cx="47628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00240" y="5589720"/>
            <a:ext cx="76860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4071960" y="5589720"/>
            <a:ext cx="88740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143680" y="558972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6156360" y="5589720"/>
            <a:ext cx="8636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7215120" y="5516640"/>
            <a:ext cx="768240" cy="581400"/>
          </a:xfrm>
          <a:prstGeom prst="rect">
            <a:avLst/>
          </a:prstGeom>
          <a:solidFill>
            <a:srgbClr val="ff0000"/>
          </a:solidFill>
          <a:ln w="4248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TextBox 6"/>
          <p:cNvGrpSpPr/>
          <p:nvPr/>
        </p:nvGrpSpPr>
        <p:grpSpPr>
          <a:xfrm>
            <a:off x="738360" y="3998880"/>
            <a:ext cx="7515000" cy="560520"/>
            <a:chOff x="738360" y="3998880"/>
            <a:chExt cx="7515000" cy="560520"/>
          </a:xfrm>
        </p:grpSpPr>
        <p:pic>
          <p:nvPicPr>
            <p:cNvPr id="252" name="TextBox 6" descr=""/>
            <p:cNvPicPr/>
            <p:nvPr/>
          </p:nvPicPr>
          <p:blipFill>
            <a:blip r:embed="rId3"/>
            <a:stretch/>
          </p:blipFill>
          <p:spPr>
            <a:xfrm>
              <a:off x="738360" y="3998880"/>
              <a:ext cx="7515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57160" y="407196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Запишите число, в котором 7 десятков и 2 еди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2"/>
          <p:cNvSpPr/>
          <p:nvPr/>
        </p:nvSpPr>
        <p:spPr>
          <a:xfrm flipH="1" rot="876600">
            <a:off x="3275640" y="1066320"/>
            <a:ext cx="2055600" cy="2092320"/>
          </a:xfrm>
          <a:custGeom>
            <a:avLst/>
            <a:gdLst>
              <a:gd name="textAreaLeft" fmla="*/ 360 w 2055600"/>
              <a:gd name="textAreaRight" fmla="*/ 2056320 w 2055600"/>
              <a:gd name="textAreaTop" fmla="*/ 0 h 2092320"/>
              <a:gd name="textAreaBottom" fmla="*/ 2092680 h 2092320"/>
            </a:gdLst>
            <a:ahLst/>
            <a:rect l="textAreaLeft" t="textAreaTop" r="textAreaRight" b="textAreaBottom"/>
            <a:pathLst>
              <a:path fill="none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</a:path>
              <a:path stroke="0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13"/>
          <p:cNvSpPr/>
          <p:nvPr/>
        </p:nvSpPr>
        <p:spPr>
          <a:xfrm>
            <a:off x="2895480" y="3200400"/>
            <a:ext cx="2438640" cy="259092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</a:path>
              <a:path stroke="0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  <a:lnTo>
                  <a:pt x="19611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262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67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extBox 1" descr=""/>
          <p:cNvPicPr/>
          <p:nvPr/>
        </p:nvPicPr>
        <p:blipFill>
          <a:blip r:embed="rId1"/>
          <a:stretch/>
        </p:blipFill>
        <p:spPr>
          <a:xfrm>
            <a:off x="781200" y="566640"/>
            <a:ext cx="7508880" cy="993960"/>
          </a:xfrm>
          <a:prstGeom prst="rect">
            <a:avLst/>
          </a:prstGeom>
          <a:ln w="0">
            <a:noFill/>
          </a:ln>
        </p:spPr>
      </p:pic>
      <p:grpSp>
        <p:nvGrpSpPr>
          <p:cNvPr id="264" name="Прямоугольник 2"/>
          <p:cNvGrpSpPr/>
          <p:nvPr/>
        </p:nvGrpSpPr>
        <p:grpSpPr>
          <a:xfrm>
            <a:off x="914400" y="2170080"/>
            <a:ext cx="1579680" cy="1517760"/>
            <a:chOff x="914400" y="2170080"/>
            <a:chExt cx="1579680" cy="1517760"/>
          </a:xfrm>
        </p:grpSpPr>
        <p:pic>
          <p:nvPicPr>
            <p:cNvPr id="26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14400" y="2170080"/>
              <a:ext cx="15796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00080" y="2214720"/>
              <a:ext cx="141444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Овал 3"/>
          <p:cNvSpPr/>
          <p:nvPr/>
        </p:nvSpPr>
        <p:spPr>
          <a:xfrm>
            <a:off x="3071880" y="2143080"/>
            <a:ext cx="1428840" cy="135720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ый треугольник 4"/>
          <p:cNvSpPr/>
          <p:nvPr/>
        </p:nvSpPr>
        <p:spPr>
          <a:xfrm>
            <a:off x="5072040" y="2143080"/>
            <a:ext cx="1714680" cy="1285920"/>
          </a:xfrm>
          <a:prstGeom prst="rtTriangle">
            <a:avLst/>
          </a:prstGeom>
          <a:solidFill>
            <a:srgbClr val="7030a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Шестиугольник 5"/>
          <p:cNvSpPr/>
          <p:nvPr/>
        </p:nvSpPr>
        <p:spPr>
          <a:xfrm>
            <a:off x="7072200" y="2214720"/>
            <a:ext cx="1417680" cy="12142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ема урока: «Угол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1915920"/>
            <a:ext cx="8183520" cy="280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Что такое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ак построить угол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ды угл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1066680" y="4495680"/>
            <a:ext cx="3353040" cy="1905120"/>
            <a:chOff x="1066680" y="4495680"/>
            <a:chExt cx="3353040" cy="1905120"/>
          </a:xfrm>
        </p:grpSpPr>
        <p:grpSp>
          <p:nvGrpSpPr>
            <p:cNvPr id="273" name="Group 3"/>
            <p:cNvGrpSpPr/>
            <p:nvPr/>
          </p:nvGrpSpPr>
          <p:grpSpPr>
            <a:xfrm>
              <a:off x="1099800" y="4626720"/>
              <a:ext cx="2976840" cy="1773720"/>
              <a:chOff x="1099800" y="4626720"/>
              <a:chExt cx="2976840" cy="1773720"/>
            </a:xfrm>
          </p:grpSpPr>
          <p:pic>
            <p:nvPicPr>
              <p:cNvPr id="274" name="Picture 4" descr="n200_45"/>
              <p:cNvPicPr/>
              <p:nvPr/>
            </p:nvPicPr>
            <p:blipFill>
              <a:blip r:embed="rId1"/>
              <a:stretch/>
            </p:blipFill>
            <p:spPr>
              <a:xfrm>
                <a:off x="2584800" y="4626720"/>
                <a:ext cx="1491840" cy="177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5" descr="015463"/>
              <p:cNvPicPr/>
              <p:nvPr/>
            </p:nvPicPr>
            <p:blipFill>
              <a:blip r:embed="rId2"/>
              <a:stretch/>
            </p:blipFill>
            <p:spPr>
              <a:xfrm>
                <a:off x="1099800" y="4626720"/>
                <a:ext cx="1267560" cy="164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6" name="AutoShape 6"/>
            <p:cNvSpPr/>
            <p:nvPr/>
          </p:nvSpPr>
          <p:spPr>
            <a:xfrm>
              <a:off x="1066680" y="4495680"/>
              <a:ext cx="3353040" cy="19051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7"/>
          <p:cNvGrpSpPr/>
          <p:nvPr/>
        </p:nvGrpSpPr>
        <p:grpSpPr>
          <a:xfrm>
            <a:off x="990720" y="1295280"/>
            <a:ext cx="3352680" cy="1905120"/>
            <a:chOff x="990720" y="1295280"/>
            <a:chExt cx="3352680" cy="1905120"/>
          </a:xfrm>
        </p:grpSpPr>
        <p:sp>
          <p:nvSpPr>
            <p:cNvPr id="278" name="AutoShape 8"/>
            <p:cNvSpPr/>
            <p:nvPr/>
          </p:nvSpPr>
          <p:spPr>
            <a:xfrm>
              <a:off x="990720" y="1295280"/>
              <a:ext cx="3352680" cy="19051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9" descr="401"/>
            <p:cNvPicPr/>
            <p:nvPr/>
          </p:nvPicPr>
          <p:blipFill>
            <a:blip r:embed="rId3"/>
            <a:stretch/>
          </p:blipFill>
          <p:spPr>
            <a:xfrm>
              <a:off x="1067040" y="1368000"/>
              <a:ext cx="1460520" cy="16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0" descr="A22"/>
            <p:cNvPicPr/>
            <p:nvPr/>
          </p:nvPicPr>
          <p:blipFill>
            <a:blip r:embed="rId4"/>
            <a:stretch/>
          </p:blipFill>
          <p:spPr>
            <a:xfrm>
              <a:off x="2743200" y="1368000"/>
              <a:ext cx="1327320" cy="179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11"/>
          <p:cNvGrpSpPr/>
          <p:nvPr/>
        </p:nvGrpSpPr>
        <p:grpSpPr>
          <a:xfrm>
            <a:off x="5105520" y="2133720"/>
            <a:ext cx="3504960" cy="3809520"/>
            <a:chOff x="5105520" y="2133720"/>
            <a:chExt cx="3504960" cy="3809520"/>
          </a:xfrm>
        </p:grpSpPr>
        <p:sp>
          <p:nvSpPr>
            <p:cNvPr id="282" name="AutoShape 12"/>
            <p:cNvSpPr/>
            <p:nvPr/>
          </p:nvSpPr>
          <p:spPr>
            <a:xfrm>
              <a:off x="5105520" y="2133720"/>
              <a:ext cx="3504960" cy="3745080"/>
            </a:xfrm>
            <a:custGeom>
              <a:avLst/>
              <a:gdLst>
                <a:gd name="textAreaLeft" fmla="*/ 171000 w 3504960"/>
                <a:gd name="textAreaRight" fmla="*/ 3333960 w 3504960"/>
                <a:gd name="textAreaTop" fmla="*/ 171000 h 3745080"/>
                <a:gd name="textAreaBottom" fmla="*/ 3574080 h 3745080"/>
              </a:gdLst>
              <a:ahLst/>
              <a:rect l="textAreaLeft" t="textAreaTop" r="textAreaRight" b="textAreaBottom"/>
              <a:pathLst>
                <a:path w="21600" h="23080">
                  <a:moveTo>
                    <a:pt x="3600" y="0"/>
                  </a:moveTo>
                  <a:arcTo wR="3600" hR="3600" stAng="16200000" swAng="-5400000"/>
                  <a:lnTo>
                    <a:pt x="0" y="19480"/>
                  </a:lnTo>
                  <a:arcTo wR="3600" hR="3600" stAng="10800000" swAng="-5400000"/>
                  <a:lnTo>
                    <a:pt x="18000" y="230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3" descr="AO12"/>
            <p:cNvPicPr/>
            <p:nvPr/>
          </p:nvPicPr>
          <p:blipFill>
            <a:blip r:embed="rId5"/>
            <a:stretch/>
          </p:blipFill>
          <p:spPr>
            <a:xfrm>
              <a:off x="5320080" y="2349720"/>
              <a:ext cx="300384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" descr="karlosugol_b"/>
            <p:cNvPicPr/>
            <p:nvPr/>
          </p:nvPicPr>
          <p:blipFill>
            <a:blip r:embed="rId6"/>
            <a:stretch/>
          </p:blipFill>
          <p:spPr>
            <a:xfrm>
              <a:off x="5248440" y="3862080"/>
              <a:ext cx="307548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 Box 15"/>
          <p:cNvSpPr/>
          <p:nvPr/>
        </p:nvSpPr>
        <p:spPr>
          <a:xfrm>
            <a:off x="1334160" y="549360"/>
            <a:ext cx="25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олок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438160" y="1268280"/>
            <a:ext cx="29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ловой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261080" y="3716280"/>
            <a:ext cx="31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угольник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1219320" y="1295280"/>
            <a:ext cx="1371600" cy="11304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3886200" y="2133720"/>
            <a:ext cx="1371600" cy="11430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066680" y="3657600"/>
            <a:ext cx="1600200" cy="1143000"/>
          </a:xfrm>
          <a:prstGeom prst="hexagon">
            <a:avLst>
              <a:gd name="adj" fmla="val 35000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781680" y="3733920"/>
            <a:ext cx="1752840" cy="167616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705720" y="1295280"/>
            <a:ext cx="1828800" cy="99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3886200" y="4952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762120" y="2465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048120" y="32767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172200" y="2389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2120" y="48006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971800" y="5818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5943600" y="54370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90960" y="54864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285640" y="586728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61400" y="4800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5867280" y="236232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2971440" y="32767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838080" y="243828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838080" y="457200"/>
            <a:ext cx="80773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Им  угол  имя  подар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гол – эт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857240"/>
            <a:ext cx="8183520" cy="1500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ометрическая фигура, образованная двумя лучами с одним и тем же начал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2987640" y="3933720"/>
            <a:ext cx="1079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 flipV="1">
            <a:off x="4067280" y="3860640"/>
            <a:ext cx="39607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924360" y="5013360"/>
            <a:ext cx="266760" cy="288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Прямоугольник 6" descr=""/>
          <p:cNvPicPr/>
          <p:nvPr/>
        </p:nvPicPr>
        <p:blipFill>
          <a:blip r:embed="rId1"/>
          <a:stretch/>
        </p:blipFill>
        <p:spPr>
          <a:xfrm>
            <a:off x="5589720" y="3852720"/>
            <a:ext cx="2773080" cy="16401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7" descr=""/>
          <p:cNvPicPr/>
          <p:nvPr/>
        </p:nvPicPr>
        <p:blipFill>
          <a:blip r:embed="rId2"/>
          <a:stretch/>
        </p:blipFill>
        <p:spPr>
          <a:xfrm>
            <a:off x="1805040" y="3236760"/>
            <a:ext cx="2071800" cy="23529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8" descr=""/>
          <p:cNvPicPr/>
          <p:nvPr/>
        </p:nvPicPr>
        <p:blipFill>
          <a:blip r:embed="rId3"/>
          <a:stretch/>
        </p:blipFill>
        <p:spPr>
          <a:xfrm>
            <a:off x="2840040" y="5175360"/>
            <a:ext cx="3103560" cy="95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Схема 5" descr=""/>
          <p:cNvPicPr/>
          <p:nvPr/>
        </p:nvPicPr>
        <p:blipFill>
          <a:blip r:embed="rId1"/>
          <a:stretch/>
        </p:blipFill>
        <p:spPr>
          <a:xfrm>
            <a:off x="658800" y="262080"/>
            <a:ext cx="7759800" cy="896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2"/>
          <a:stretch/>
        </p:blipFill>
        <p:spPr>
          <a:xfrm>
            <a:off x="2057400" y="1285920"/>
            <a:ext cx="4487760" cy="5191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"/>
          <p:cNvPicPr/>
          <p:nvPr/>
        </p:nvPicPr>
        <p:blipFill>
          <a:blip r:embed="rId3"/>
          <a:srcRect l="64977" t="9083" r="3525" b="22740"/>
          <a:stretch/>
        </p:blipFill>
        <p:spPr>
          <a:xfrm>
            <a:off x="5410080" y="175248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318" name="WordArt 16"/>
          <p:cNvSpPr txBox="1"/>
          <p:nvPr/>
        </p:nvSpPr>
        <p:spPr>
          <a:xfrm>
            <a:off x="2438280" y="57913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прямой у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</p:spTree>
  </p:cSld>
  <p:transition>
    <p:split dir="in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35 0.25833 E">
                                      <p:cBhvr>
                                        <p:cTn id="32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3:37:48Z</dcterms:created>
  <dc:creator>user</dc:creator>
  <dc:description/>
  <dc:language>en-US</dc:language>
  <cp:lastModifiedBy>1</cp:lastModifiedBy>
  <dcterms:modified xsi:type="dcterms:W3CDTF">2015-11-29T17:00:43Z</dcterms:modified>
  <cp:revision>41</cp:revision>
  <dc:subject/>
  <dc:title>2 класс</dc:title>
</cp:coreProperties>
</file>