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331B-9B06-4672-9084-A7F5DF6CB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2CD3-1D51-4C34-AE52-20D27894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FD38CF-CC82-4927-B45B-BFEF19B1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78C8B3-614A-4198-847A-C7DC6FA2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224972-8C7C-4270-858D-1912E301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8CC3B7-79F1-470F-A3FF-5C443EE3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4B3CBB-19FE-43B5-81F3-1438172D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7233A8-4764-4774-8D07-2F978FC8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FFBA21-9FF1-4A58-BE0F-D839B7B8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D0C887-8793-45D7-A831-31905E599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18DBFF-4E67-4AE5-B4E3-D2773016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7288BC-1090-4554-8558-EE106C3D9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947A-E24F-4698-8859-F8E6A0FE8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4CAEFC-CA6A-4A69-B2EF-328FA17C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94C9C1-AAEB-4F06-ACBC-F2B25088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4DBF53-6580-4362-8031-630C35C5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62D4D2-AEFA-464C-8571-C78897F9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040F0D-E401-4AA4-BBAC-EB75ACEA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F4812C-C450-44D8-A6F4-E484CC7F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BD21C4-7E4E-45F0-B902-5141C2E9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D7C353-81B4-4DD4-A2FE-BF5A24AF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4DF9E9-EC97-4323-A146-78682B75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381B4A-D09A-49BA-8208-6E565D170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8C0A-63A5-4610-A86F-A3BFD65BB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598127-FD67-4248-AA03-65B5AA261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7E426-1046-42C8-AF9D-495855841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FEF53-0810-4511-9D9B-B06DD8A0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6075A-07EA-42B3-8A89-869CD3DA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7589A-0418-44D8-A4F9-3CA336D4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C7541-7190-4B8F-8FE2-20C85F14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4B0C1-6602-490B-91AD-44722993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B2E87-9217-43A2-A47A-23E7F077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01E89-10D6-44A5-9DA3-705E51E6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44E18-A437-43F2-8380-7EA8877D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807A-5171-4466-8A2A-FBAA2E9E9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2DE19-07B6-4F11-A2BD-684240F7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FA0B2-8ABB-40A2-9B0E-AA0E4B998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11837-EA36-498B-8CC6-BFAA17815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EF9FE5-B5FF-44DC-8045-BC461B588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CC7B6F-E569-466E-837D-54E8AA5B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8599A5-3678-449D-87E2-55D756FB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5E3B0D-FBAE-4151-A23F-02284855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AE6866-9409-4F5A-B639-B721FFB4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C77BB7-2F7B-4A39-807F-60659DC5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A21E62-EF5D-408C-8901-239415F9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1429-74FA-4096-81CC-AD229313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27016A-908E-4F71-B86D-F6D29826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164AF8-C861-483A-8A0D-29895296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070DD4-75F7-4076-B57D-157AC1C1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D4885D-EFEA-47FF-83EA-D0130134F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ED7F0C-4A52-48D5-B2B2-A106C4BA8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809E-4C73-4BC2-BCDB-AB779A67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865F-307D-4765-A0AD-289F267B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1214-84DE-4EA1-8BC6-88A0601F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63FA-E9D2-4699-BE63-F2AB81E7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B839-9FF3-4A26-84AB-72B1CC09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AF00-E8B6-46FA-8D5F-A7EE777A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1E2E-B822-49CD-98B8-CC880E94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0398-D3F4-485C-8B81-C91806BD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DF0A-0BAC-45CC-A14B-01DC694E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F851-48CB-4E26-91C4-A4E96C1BA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4E7C-DED3-434E-A8E4-A9BE13046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E4E8D-83A2-437A-B804-5D5CBEA2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EA29B-9C38-433B-ABDE-D7C916CC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943CF-4B0C-45B4-A5F0-B5448B88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31297-9ADE-4AE4-AA49-BADC74FA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83BD6-5636-41B5-9A9C-D4062762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3917-56E7-460F-A898-499BA55D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BA731-3641-4A4D-B124-6BE099F2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70ECA-324D-40B0-9490-032D4B58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96AC9-5EE3-462E-A81C-A1FC9502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30029-DB64-4B54-AF00-4030E451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FF6D4-1142-4BDD-ADCC-2D699787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42746-46CB-409E-A6B9-C90323D09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5EDF1-617C-416E-AFAB-B61CBE688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AB85C-166B-4707-BE02-C89BC7490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F899B-05D6-4DC2-8303-32D952DD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1EE9A-C81B-4AED-A425-B484285D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FA48-0CE3-446F-9DA0-BD1F274F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66A9D-249D-4B7D-BAE2-EB57CE63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DEF41-6626-4ADD-9C82-5D7DD405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37AD5-5EF3-46C4-BE0D-3F77C6D9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A5B4A-0150-4ED6-91D9-05798A91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2EC1A-F423-49C2-9CC5-34865ACD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CCE87-2787-4BBC-AA95-8A940695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9F3C3-A3C4-451D-8F35-4D278617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E750B-7F4F-4D02-BD99-28FD4DB72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62E8C-4635-4643-8C66-D26BD4032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590A4-82DE-4C3D-AD40-B8C735B6D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2843-2FBB-43A7-87DC-766FC3C7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6F7DD-C2AB-478F-B7EF-A520CEA5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0B59B-BF48-41FA-9601-ECC35B3F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0E0FF-56F2-40EF-9F52-82686AF8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CF2DC-9F48-4D5D-A48A-A9A586D2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05DBC-A547-49FC-A471-62899751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35AEF-A813-46D4-8A9A-C44878A3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B226C-F904-429D-863F-08A76820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48EBC-4A93-4AEF-859E-C49D1A04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191BD-3F5F-4EAC-9EB4-44182865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B3C94-7698-4D33-9F82-8398E67A5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508A-44ED-40DC-847B-6A8B50EC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05958-0737-41F1-AE5C-793B69F83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C2E40-8BE1-477A-938B-AD7479467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1CDF2-7C0D-43C8-B137-59F60C3C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01115-A334-4094-8D91-2C91B140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F1086-28A6-4A70-812F-F6D1151A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F917C-F652-4C02-8F1C-8CC5B129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CA386-4C0B-4732-90E4-BC9013E7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4DC03-0F0C-47F8-8C99-DB990831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0A4DB-71DA-491D-A2CF-F34F8448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2C079-19AA-4663-9C1B-EC35786F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F5E6-7EDE-4E36-876B-31611C16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3C377-A53B-4283-8963-EBDEBA44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C266E-AEBB-4954-A645-B47064E05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8E87D-794A-4AD3-B1BB-85162E37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A67AB-5C09-4C27-AAD4-ACE0A4661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44F9E-40F4-41F6-BF3E-FA894BBF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3449D-622D-4B54-BC07-21989B35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F03DD-2A47-4AFF-8B5E-849E2510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8DD51-E23D-47AC-9808-954BFA5B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4DE22-C608-4F06-A6FA-69368835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A7E9D-F540-4116-BFE3-F22A22F8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C8FC-9809-4943-B166-2FBC5790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012FA-03EF-4939-A703-D4B3554C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79F52-0A63-4331-805F-9D1BF092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B8B9F-5EF2-4325-BED0-5147700D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03188-469B-47C1-858E-93E2B4BB1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DE6C0-3788-47C0-8E13-D67B977F6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FE232-78B8-4FF4-898B-CD0E69A0E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D8B20-799C-4955-8D90-92DEBBAB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3B8A8-8B9B-4FBE-AF0E-20C5DE0C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080D8-97C3-4C98-B13F-37D38AE1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860D2-2615-4930-92E6-844944B2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603B-B8B8-4E32-A713-6297A078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0E9BB-D37B-44C0-8D73-278A957F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A699A-7A0D-4AD6-9D1D-84DC4003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9F128-514A-4E0E-829B-FCA5B6E4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DDA76-069B-4C5E-9BCE-4B14464D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C2C56-839A-490F-8323-3255E175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6E018-5EA3-4B6E-8E0C-1462BF5A3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55DA4-A7A7-452E-BFBB-9C4D4F811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31C346-1113-491B-8EAB-52DD07EDD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7D49D9-ED1E-4900-9206-99610CEA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AD4DF5-B8B0-46E9-ACDB-F0CB7C77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5428-56A7-4853-85CF-EDCABAF0CF8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6899-3D72-49FC-A09C-5F0F55BF28D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8FDB-553C-486C-A635-D8430E66E22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8DF9-2DBF-42A7-AB93-77923EBF517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F0DE-B727-4674-A1DD-AF292111170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498E-00EB-4A5D-A2C5-2FC7366AAAE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8FDF-5D34-426B-B995-EA8E26F8104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D40C-2EB9-4129-A338-D5D49B56A61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8E37-FD75-4B40-8CE9-BAEE7244A62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7BA2-63C9-41BF-81A2-54CF1FF198E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6872-B2C7-4237-865C-71630C2DF45A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195F-90AA-4ECB-A2A6-D7290B1A083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12d1c"/>
                </a:solidFill>
                <a:latin typeface="Georgia"/>
              </a:rPr>
              <a:t>Тест по теме : Воинская обязанность. 11 класс</a:t>
            </a:r>
            <a:r>
              <a:rPr b="0" lang="ru-RU" sz="4000" spc="-1" strike="noStrike">
                <a:solidFill>
                  <a:srgbClr val="7b9899"/>
                </a:solidFill>
                <a:latin typeface="Georgia"/>
              </a:rPr>
              <a:t>.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28760" y="3285720"/>
            <a:ext cx="822960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втор: Карандашов Николай Александрович, преподаватель-организатор ОБЖ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ОУ СОШ №33 ст. Архангельско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12d1c"/>
                </a:solidFill>
                <a:latin typeface="Georgia"/>
              </a:rPr>
              <a:t>9. Какой врач не входит в состав медицинской комиссии при первоначальной постановке на воинский учёт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213840" y="2785680"/>
            <a:ext cx="8472600" cy="32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1. Психиатр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2. Окулист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3. Невропатолог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4. Патологоанатом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5. Отоларинголог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42920" y="285840"/>
            <a:ext cx="87868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12d1c"/>
                </a:solidFill>
                <a:latin typeface="Georgia"/>
              </a:rPr>
              <a:t>10.Какой буквой обозначается категория «Ограниченно годен к военной службе»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57200" y="2214720"/>
            <a:ext cx="8229600" cy="37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1. А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2. Б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3. В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4. Г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5. Д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53452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12d1c"/>
                </a:solidFill>
                <a:latin typeface="Georgia"/>
              </a:rPr>
              <a:t>11.С какой категорией граждане исключаются с воинского учёта?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1. А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2. Б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3. В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4. Г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5. Д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07f6d"/>
                </a:solidFill>
                <a:latin typeface="Georgia"/>
              </a:rPr>
              <a:t>Источники: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1. Смирнов А.Т. Основы безопасности жизнедеятельности: учеб. для учащихся 11 кл. /А.Т. Смирнов, Б.О Хренников; под общ. ред. А.Т. Смирнова. – М.: Просвещение, 2009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title"/>
          </p:nvPr>
        </p:nvSpPr>
        <p:spPr>
          <a:xfrm>
            <a:off x="685800" y="1356840"/>
            <a:ext cx="77724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712d1c"/>
                </a:solidFill>
                <a:latin typeface="Georgia"/>
              </a:rPr>
              <a:t>1. Что такое воинская обязанность (дать определение).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0" y="-214200"/>
            <a:ext cx="91440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12d1c"/>
                </a:solidFill>
                <a:latin typeface="Georgia"/>
              </a:rPr>
              <a:t>2. Каким законом РФ определено содержание воинской обязанности?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7200" y="2142720"/>
            <a:ext cx="8229600" cy="38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1. «О воинской обязанности и военной службе»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2. «Об обороне»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3. «О статусе военнослужащих»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12d1c"/>
                </a:solidFill>
                <a:latin typeface="Georgia"/>
              </a:rPr>
              <a:t>3. Когда осуществляется первоначальная постановка на воинский учёт граждан мужского пола?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0" y="2643120"/>
            <a:ext cx="9144000" cy="33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1. С 1.01 по 31.03 в год исполнения 18 летнего возраста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2. С 1.04 по 30.06. в год исполнения 17 летнего возраста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3. С 1.01 по 31.03 в год исполнения 17 летнего возраста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8929800" cy="18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12d1c"/>
                </a:solidFill>
                <a:latin typeface="Georgia"/>
              </a:rPr>
              <a:t>4. В каких случаях осуществляется первоначальная постановка на воинский учёт граждан женского пола?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213840" y="2500200"/>
            <a:ext cx="8643960" cy="41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1. После получения военно-учётной специальности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2. После окончания высшего учебного заведения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3. По желанию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28760" y="928800"/>
            <a:ext cx="8229600" cy="28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12d1c"/>
                </a:solidFill>
                <a:latin typeface="Georgia"/>
              </a:rPr>
              <a:t>5. Составляющие воинской обязанности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2428920"/>
            <a:ext cx="69850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12d1c"/>
                </a:solidFill>
                <a:latin typeface="Georgia"/>
              </a:rPr>
              <a:t>6. Какое должностное лицо в Российской Федерации может объявить на территории страны военное положение?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28760" y="271440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1. Президент РФ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2. Председатель правительства РФ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3. Министр обороны РФ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85840" y="64296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12d1c"/>
                </a:solidFill>
                <a:latin typeface="Georgia"/>
              </a:rPr>
              <a:t>7. Что относится к обязательной подготовке к военной службе?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285840" y="16430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. Подготовка по основам военной службы в образовательном учреждени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. Обучение по программе военной подготовки офицеров запаса на военных кафедрах при федеральных государственных образовательных учреждениях высшего профессионального образовани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3. Обучение по дополнительным образовательным программам военной подготовк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56760" y="571320"/>
            <a:ext cx="853452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12d1c"/>
                </a:solidFill>
                <a:latin typeface="Georgia"/>
              </a:rPr>
              <a:t>8. Что относится к добровольной подготовке к военной службе?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1. Занятия военно-прикладными видами спорта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2. Получение начальных знаний в области обороны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3. Военно-патриотическое воспитание граждан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4T10:53:49Z</dcterms:created>
  <dc:creator>Николай</dc:creator>
  <dc:description/>
  <dc:language>en-US</dc:language>
  <cp:lastModifiedBy>Николай</cp:lastModifiedBy>
  <dcterms:modified xsi:type="dcterms:W3CDTF">2010-12-24T11:58:03Z</dcterms:modified>
  <cp:revision>8</cp:revision>
  <dc:subject/>
  <dc:title>1. Дайте определение воинской обязанности</dc:title>
</cp:coreProperties>
</file>