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DE0-F97A-4A2E-8F9C-D8ADA785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C42-D045-42AA-9B80-A150626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180A2-27F4-44A1-95B0-2E8B152A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8F602-1594-4BA4-B7C8-4A904A0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8FD4C-DE83-49BD-B54E-D499BFD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0CB2E-D3B3-4933-855F-E2BA753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FDC2A-CFDE-4884-967F-24336FA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17B85-B8C7-4069-8569-232FDBA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17C82-8A3D-4B6F-93C5-2A5302E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C4A6C-14D1-4374-B8D8-B538AB47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B03AE-89E0-4BBB-BFD7-665D88DF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FF3DF-CB89-4670-B1B2-F534F3B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EE6-2966-4EB7-A8F1-47CA0150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C0917-97C7-4EB4-AFC8-3D05865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9FE76-75D7-4830-9794-6425CDA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9890A-FB47-4412-BD32-6A5B1ED4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2B80C-9356-4F74-AFC8-2C76A4ED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63978-1ABF-415D-B9A7-7F973FC7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4502F-4938-45DD-AD9B-7F41D16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0B17D-6CF1-45ED-BC81-F3FADE7E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3D63D-007B-4038-8709-1600332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4CF94-9471-4CD6-94D8-47DB1478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0EC52-05D0-4EE0-97C7-0005F51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8B4-D24F-41B8-9600-347F69B7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EAF1C-CD13-431C-8482-F825121B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2788-252B-48D7-8EEC-EB18A8A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66CD9-9309-456C-8BF0-BFB52846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D42D-F5ED-4991-8CE0-E3282E9B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0F57-1E4D-4320-886D-94685D8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70E7-1B27-4578-A792-63AF550D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CABA-C047-435D-9BB1-BF756CE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699B1-1237-4AC5-8BFA-39DE7FB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A630-3D80-417B-A7C5-1B91ED55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DB781-4B7F-4360-90F7-0A66C33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3002-6866-43AC-B370-DDD4B7BE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03C91-635E-47AA-BAC2-3059BF2D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98AE7-BD6C-49E2-8305-CD300EFC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83750-1657-4656-98E1-A9145554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A4DB4-508C-48E0-B0C6-8D1E637E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956CC-CF24-43EA-88BC-A5172591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6465F-608F-43F2-8BC4-08A543C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B3152-4799-4911-A629-E8FC4A5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270F2-E199-40ED-9131-007232E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AC01B-1ED2-4F8B-936E-11968DE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37206-0B69-4EC9-92E4-6377FD7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72B-56BA-4D08-B47E-F3068AF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B8D12-9DB7-4721-9EDF-0CE3E13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E1E70-4299-4B58-B409-809508C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93B3A-036C-4F71-A189-88F854B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0E901-6A57-4155-AFB1-931C2B9D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37FA7-A37C-46DA-AA86-2FCF95AE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F3B3-2CDF-4D79-9FE9-FBDF9A9B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9E6A-3279-48FE-9567-3400320C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ECC-F96D-4A97-A171-010C5FB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A60-7D01-4E38-BF6F-7DC5F55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D732-7334-4C0B-9C61-DEE0C39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AF1-59F2-43B8-9963-3AD9B8F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A4B-1CDE-40C0-965F-EE3A9C7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57F0-9BA5-45BD-9432-73A5CED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CA71-7B19-431B-BE35-A64974C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A0F-BD4F-44CF-8084-42B53BA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759F-7FAD-444B-A3B7-5EFD9017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6A4A-4E7C-41C2-8FB8-94EF0C86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DD3A-9B0F-4257-8976-FA00028D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DA73-B1E7-4855-8616-90FC27B2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DCEC-9F9E-47F7-A98E-D8B835D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789A-2AEE-4644-806E-E37C316F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3B0-4F45-463D-82B7-5DAA252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DB35-C860-4826-977C-879FEE7A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936D-E7BC-4C2D-85BA-FB4B385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1631-C112-4A17-A9C6-E1C766C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EFA8-8523-4D89-BD50-F833AE20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0223-B466-43F9-9D89-482D56C2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D87F-0EE3-4A13-8489-6F9049E9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92AB-79B5-4063-AE6A-70B02C6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25B8-0D9C-48C7-9574-E4E6EFFF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AED7-B4AF-4A54-963E-8956E33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54AD-3D0C-4224-9A05-57BDE374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CB5-9187-4F7A-AAAF-5DFB35FC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0B75-B185-4190-B06B-EBE4CD9D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4020-15E6-49FD-B101-9068DBA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7705-373A-41CE-A88B-264C3DDD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68DA-92D0-47D7-97DC-17E1631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C377-3E96-4F6F-9A04-ED851C78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EE1B-539B-4348-867B-4210412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5804-EC1B-492E-BABD-70F3119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4EE9-EBF7-4F0C-9653-FD4A7DA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3C5E-B615-4CE6-8D24-36F73094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74D39-DBDB-4D18-999E-C60BE892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E6F-6B0D-4A75-986E-81D570C1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12B7-36A1-4201-ADAD-44D976A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F9F8-7D92-4953-91BD-3B12FA7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184B-94D6-48A2-9916-02F9D0AA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6EC3-8E0A-48BC-AD41-5A1621B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A260-40EB-4277-96CF-EC6932AF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BEEA-C109-425C-8DAB-63D9191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B101-18B9-48A1-83E2-AFAE998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580F-7785-4338-A219-4268A62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13DB0-C537-40F2-87A0-F8DCB24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1C24-46B9-4696-B90C-EE2F88C9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21E-77D6-442D-9474-FA422110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D5E4-C069-432B-8885-95B48BDF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1809-5220-4D46-A228-32DDE3A1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4B36-001C-41A9-B53A-BBF29C4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78C9-5F45-4038-A6F6-14D4BDD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FB78-4A21-4EA7-A537-F8BE415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EB0F-FBBB-4E98-A07E-0A1A5BF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B4791-57AA-4AB8-AEEC-C12C634E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8BF37-2855-4E22-A513-2F7B487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516F9-2AAF-4335-9FB9-93763A9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C9F2-478E-4D7C-8A63-044F50B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B94-DA35-4C0E-A7C0-6ACA100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48DA-1470-4AA2-B7B3-8D9B856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07E9-CE0F-496E-ACCC-668D3D88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9B805-B965-402D-95C6-5ED4ED78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AFEA5-7986-4F5A-BA87-F8879A35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7577-F5A4-4F81-A065-7E90895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8B85-80B2-44D7-BF6B-866DC15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DF6B0-693E-4BD7-B7E1-C8BF5E7C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491A-827C-41C0-9EB5-3C761C9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82BF-2A9E-4A4E-B985-737CE12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96553-BA20-4597-B5CE-85C7AE2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226-1194-4AE5-B54F-F67AA2B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7692-2FBE-47F5-9282-A722C68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4C2DB-423B-4427-94D0-0CAA033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E198-02B6-4CBC-913F-39EC814D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A2C6-CBDA-4B62-9C60-A5060056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DE69-864A-463F-A334-EA0B9DE2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C85E-3BB6-4FAE-99DB-535D80A4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A723-F1EE-41E8-B42C-491FE10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2FFB-1534-4D7D-961E-96294D6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5698A-E093-49CD-B8AD-AA36277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8DCED-5B00-49C3-8233-83AE596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563-E309-49F0-BC41-877EF05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10BF0-46F9-4319-A64E-C0CD2E0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CA64-51C4-4338-8455-3A79F4D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332EF-D508-4200-B8D0-C17A58A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9B88-9550-43E9-A970-DF062B1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131F-0308-4DC1-A319-A5AB65B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7C37-FED9-4768-971D-50E80319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A187-061A-40B4-B904-89E753F9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CB98A-9BC7-42E5-B57F-4235DAA1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D12CB-99AF-4FA9-817F-5F0276A6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210B3-E353-4102-9642-E2EEA8F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E5A-6299-46D4-9C21-E804A5BBA4B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D06-6FDF-453B-99C8-ECDAEDF65E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7B43-8525-476B-9E5B-C957BEFC87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92BB-CC1E-4E3F-AD77-448CBB3811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B00-3443-4846-B465-556B2760D7D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364-82F0-49BA-AD60-78DF4B69D7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7310-C3C4-40E8-BD76-4ABD2975D0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653-33B2-4E23-B400-41B3FDF53F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6DA-8411-472A-8D8D-5865A5888E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E967-6A6C-4BC8-B4DE-3067133B01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112-CDAF-4B41-90F8-408B55223D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076-CD3F-4FB2-824A-7C42C92E6E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12d1c"/>
                </a:solidFill>
                <a:latin typeface="Georgia"/>
              </a:rPr>
              <a:t>Тест по теме : Воинская обязанность. 11 класс</a:t>
            </a: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3285720"/>
            <a:ext cx="82296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втор: Карандашов Николай Александрович, 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У СОШ №33 ст. Архангельск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Georgia"/>
              </a:rPr>
              <a:t>9. Какой врач не входит в состав медицинской комиссии при первоначальной постановке на воинский учёт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13840" y="2785680"/>
            <a:ext cx="8472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сихиатр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Окулис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Невропатоло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Патологоанатом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Отоларинголог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8786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Georgia"/>
              </a:rPr>
              <a:t>10.Какой буквой обозначается категория «Ограниченно годен к военной службе»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2214720"/>
            <a:ext cx="8229600" cy="37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Б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11.С какой категорией граждане исключаются с воинского учёта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Б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7f6d"/>
                </a:solidFill>
                <a:latin typeface="Georgia"/>
              </a:rPr>
              <a:t>Источники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1. Смирнов А.Т. Основы безопасности жизнедеятельности: учеб. для учащихся 11 кл. /А.Т. Смирнов, Б.О Хренников; под общ. ред. А.Т. Смирнова. – М.: Просвещение, 2009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12d1c"/>
                </a:solidFill>
                <a:latin typeface="Georgia"/>
              </a:rPr>
              <a:t>1. Что такое воинская обязанность (дать определение)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21420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2. Каким законом РФ определено содержание воинской обязанности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214272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«О воинской обязанности и военной службе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«Об обороне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«О статусе военнослужащих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Georgia"/>
              </a:rPr>
              <a:t>3. Когда осуществляется первоначальная постановка на воинский учёт граждан мужского пола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2643120"/>
            <a:ext cx="91440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С 1.01 по 31.03 в год исполнения 18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С 1.04 по 30.06. в год исполнения 17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С 1.01 по 31.03 в год исполнения 17 летнего возрас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298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4. В каких случаях осуществляется первоначальная постановка на воинский учёт граждан женского пола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13840" y="250020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осле получения военно-учётной специальност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осле окончания высшего учебного заведен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По желанию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Georgia"/>
              </a:rPr>
              <a:t>5. Составляющие воинской обязанност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2428920"/>
            <a:ext cx="6985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6. Какое должностное лицо в Российской Федерации может объявить на территории страны военное положени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28760" y="271440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Президент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редседатель правительства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Министр обороны РФ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7. Что относится к обязательной подготовке к военной служб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84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Подготовка по основам военной службы в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Обучение по программе военной подготовки офицеров запаса на военных кафедрах при федеральных государственных образовательных учреждениях высшего профессионального образов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Обучение по дополнительным образовательным программам военной подготов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Georgia"/>
              </a:rPr>
              <a:t>8. Что относится к добровольной подготовке к военной служб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Занятия военно-прикладными видами спорт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Получение начальных знаний в области оборон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Военно-патриотическое воспитание граждан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0:53:49Z</dcterms:created>
  <dc:creator>Николай</dc:creator>
  <dc:description/>
  <dc:language>en-US</dc:language>
  <cp:lastModifiedBy>Николай</cp:lastModifiedBy>
  <dcterms:modified xsi:type="dcterms:W3CDTF">2010-12-24T11:58:03Z</dcterms:modified>
  <cp:revision>8</cp:revision>
  <dc:subject/>
  <dc:title>1. Дайте определение воинской обязанности</dc:title>
</cp:coreProperties>
</file>