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98B-9DB6-4D44-B50B-4E1F5C66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9B0-A0AA-4E76-B7E7-15E04895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9FA-009D-4BAD-86E1-6031A00F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0A3C-87CF-4926-8D09-9F545669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7DCF-3810-4ECC-B772-7E61A814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5A0D-5624-4EB5-9AFD-F66DE631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7691-6F3E-49ED-AF94-B0A39A5E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9AFB-D9D1-4EC1-8C77-518E6B92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5A85-E000-41CA-ACE0-5A7D0B58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0D40-0A4F-4778-A812-9B4B80AF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622C-903F-40C5-98BA-9CF71C92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9E5-F64C-44BE-9598-3DE0946C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FB20-B67C-48E0-8145-307D73B5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5A3A-15A3-4141-8FF4-6E909C6F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DD55-3F87-408C-B241-B0361E84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6E55-1462-4E4B-BE37-1B4D459E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725E-2531-4B80-B33D-ED58DEC0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83EE9-63FA-44C2-9BAF-F523AD4B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8E4B4-E66C-44B6-9D21-B67B5810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871CC-02D4-4E99-8E78-E647F05F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02941-A9E0-4326-A88C-E78085B8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071B6-9846-4740-AF1B-539599E3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33F-4624-45A2-B011-9DDC9C9D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80A06-6D36-4E93-B703-F8F835F6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DD923-4DC1-488E-90B5-807D572E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0C9D2-4BF2-4754-B215-279D4A45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53285-E35E-45DC-B624-F8A71ED7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A7039-5057-4743-97A4-77C1E0AC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D4D84-C436-4FC5-A4FC-BAACFAE0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54267-23E7-4759-865A-3A2A69FD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B6CE2-D688-4B1E-AE87-F4834010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B679A-FC3A-4459-9A6C-23F33453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4D0D3-6ED1-432D-A594-8DE3D020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49CC-13C6-424B-A51A-DC015183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C4117-B864-49A0-876C-5C6CB170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6EC47-D74B-4EB8-BC8D-318AB87F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C11C1-F148-456C-9787-C3D191A3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BD6FE-17C5-4060-B163-BAD91B6B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518D4-472B-4A5F-B955-F824A9E1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7A395-03DA-45DF-9112-E7320C6B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009FE-3E6A-469E-8D7D-E0143C62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568AE-7381-4455-8AF9-30D5EF7C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066EF-21A3-4CCC-83B5-3E9353D6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35A-42A0-4890-A5DB-C2BAAC84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4BD-4551-4184-8BAF-FC362D07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DA1F-8FA3-4796-A073-E7505D48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3FB2-A485-49E6-8914-57A4F74C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FA6-63A5-452D-82BF-7CEC14EF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4504-C0BA-4D5C-80EB-CEDB9A491AEF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BB3B-D43E-4564-BF2C-92885D44099B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6FD0-D8CC-4906-9A74-22A5B8AC75B0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DFC1-2FE0-4216-BD36-407D39CEF6C0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34880" y="18864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rebuchet MS"/>
              </a:rPr>
              <a:t>ИГРОВОЙ МОДУЛЬ «ДЭЙБИИР»</a:t>
            </a:r>
            <a:endParaRPr b="1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8000" y="5661000"/>
            <a:ext cx="8920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294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Попова Н.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7294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воспитатель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Picture 10" descr="http://fotki.ykt.ru/albums/userpics/24407/1338009078_42_20120525_img_3904.jpg"/>
          <p:cNvPicPr/>
          <p:nvPr/>
        </p:nvPicPr>
        <p:blipFill>
          <a:blip r:embed="rId1"/>
          <a:stretch/>
        </p:blipFill>
        <p:spPr>
          <a:xfrm>
            <a:off x="2225520" y="2182680"/>
            <a:ext cx="505332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6:34:55Z</dcterms:created>
  <dc:creator>Admin</dc:creator>
  <dc:description/>
  <dc:language>en-US</dc:language>
  <cp:lastModifiedBy>Acer 5750G</cp:lastModifiedBy>
  <dcterms:modified xsi:type="dcterms:W3CDTF">2013-09-21T23:52:55Z</dcterms:modified>
  <cp:revision>74</cp:revision>
  <dc:subject/>
  <dc:title>Якутия</dc:title>
</cp:coreProperties>
</file>