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DF2-20FB-434B-BB5D-3ABAAB60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D33-C595-46B9-ABA1-B4A53D2D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8A3-EE96-4FB7-974A-D382F175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290-71D9-44D2-8984-3E150F04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8FC6-5EE3-4949-BAFC-450351DF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C204-1EE1-4CFC-BB21-31D2EA58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897B-9754-42CC-83B0-71362440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707F-A03D-421C-AEDC-170D81F0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F42E-D866-4E61-AD1D-6135CAB8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B71B-530F-4B61-B2D9-64E6C2E8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EBD7-E779-4766-84A3-A6DBDA15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1ED-0742-438D-B580-2B3669B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C979-6674-4E46-937D-77224A2D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66F1-987A-41E3-AA01-6D424A7B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D7D1-AC9B-4613-B7EE-D4103C91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5B40-C4BC-45D0-B809-4C2F7A1C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DBDB-7C54-4A9B-ADA2-339BCB16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7A7B3-790C-4546-970B-45E73703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E152-4C14-4494-B30C-097F79DB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4ECD-A8B7-4EEA-AA56-395969E4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CF0A-66A7-4630-84BF-1A15CBE6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EE0D-AB22-4E5B-A517-97433F92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3AB-9EA0-4381-81BA-7DB15EF3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1EF9-CAC8-4B51-B8C8-1B5C16FC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BC85-6D73-4FDC-923A-8468B142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F63AE-8429-478D-B853-60BBA49E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5CBE-36DA-45B4-B486-CF2A0F9B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8DA8-90B8-48AA-86E5-E6FB16C9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879D-CAA4-4411-AD8A-08423E9C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622A-C6A9-4E3D-8C22-DF16542C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24E94-EC1F-4E06-93D1-E04E1750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2298-F123-42A7-A204-6AC140A5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3701-DA4E-4BC5-A0CD-9E57D3B9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0B3-DD5C-4DB2-B5B2-86633FF0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3D7C3-EBF3-4B09-85FB-8E700053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32D9-C5D1-40DE-9B88-F977F48E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DBFAD-DEFE-4D4A-9FBA-42890007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0B96-2F94-41E1-AABE-3A3857AE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A1471-BB05-404E-9DED-7F1B4E48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93B5B-FCB2-4143-BB3A-C250CF6E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E04B-0147-4252-A4A0-72CC4B9B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A355F-98A2-4EC2-B1D8-D29088E8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49C93-A298-4DCE-8067-D8056902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4D9-5235-45A8-B9DD-99E46A8B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E86-4BE2-4DCA-A2AC-9CC8C37C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C5C-8DCA-43EB-9D0B-E9380135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283-30C8-45BD-87CC-13B1252C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170-A344-4FB5-B579-E6138809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EB04-916C-4E91-BD21-C8794D8F28C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3A48-5580-4770-9C2C-48F87C51077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A9DD-CB2C-401C-B511-35E198F3B63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13AF-DE83-440E-AED9-BB2B61A923C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4880" y="18864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rebuchet MS"/>
              </a:rPr>
              <a:t>ИГРОВОЙ МОДУЛЬ «ДЭЙБИИР»</a:t>
            </a:r>
            <a:endParaRPr b="1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8000" y="5661000"/>
            <a:ext cx="8920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294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Попова Н.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7294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воспитател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10" descr="http://fotki.ykt.ru/albums/userpics/24407/1338009078_42_20120525_img_3904.jpg"/>
          <p:cNvPicPr/>
          <p:nvPr/>
        </p:nvPicPr>
        <p:blipFill>
          <a:blip r:embed="rId1"/>
          <a:stretch/>
        </p:blipFill>
        <p:spPr>
          <a:xfrm>
            <a:off x="2225520" y="2182680"/>
            <a:ext cx="50533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6:34:55Z</dcterms:created>
  <dc:creator>Admin</dc:creator>
  <dc:description/>
  <dc:language>en-US</dc:language>
  <cp:lastModifiedBy>Acer 5750G</cp:lastModifiedBy>
  <dcterms:modified xsi:type="dcterms:W3CDTF">2013-09-21T23:52:55Z</dcterms:modified>
  <cp:revision>74</cp:revision>
  <dc:subject/>
  <dc:title>Якутия</dc:title>
</cp:coreProperties>
</file>