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18.gif" ContentType="image/gif"/>
  <Override PartName="/ppt/media/image22.png" ContentType="image/png"/>
  <Override PartName="/ppt/media/image21.jpeg" ContentType="image/jpeg"/>
  <Override PartName="/ppt/media/image17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5D3-CA5B-4B17-A410-1F73559A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575-79B2-4F85-97FC-23007C18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714-FD5C-4ADC-AD69-73C27C26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219-1F15-4B0F-B8FC-1DC07C6F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D1D-8173-47CC-B4DE-E5EAC3DE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46D-7A70-4FF6-A822-3EED8AE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0D5-1B54-4E26-A2DB-0AA88740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B7D-BACC-4DFC-8D93-43B0E374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A16-E817-464F-AF8A-98FBCC1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F21-7304-4D3A-AF03-578E185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E24-B605-4FD1-BA22-3FF5FB3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73B-B6CA-403C-AF6F-0C440C9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3739-F510-4EEE-BAA5-9944D1EA1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УРОКИ ИСТИНЫ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 в сказке 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Антуана де Сент – Экзюпери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МАЛЕНЬКИЙ ПРИНЦ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valeria_-_malenkii_princ.mp3" descr=""/>
          <p:cNvPicPr/>
          <p:nvPr/>
        </p:nvPicPr>
        <p:blipFill>
          <a:blip r:embed="rId2"/>
          <a:stretch/>
        </p:blipFill>
        <p:spPr>
          <a:xfrm>
            <a:off x="609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76022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ЩАНИЕ МАЛЕНЬКОГО ПРИНЦА И Р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valeria_-_malenkii_princ.mp3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6022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192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Чем огорчила Маленького принца встреча с розами на Зем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ав ли он бы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69343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Рисунок3"/>
          <p:cNvPicPr/>
          <p:nvPr/>
        </p:nvPicPr>
        <p:blipFill>
          <a:blip r:embed="rId2"/>
          <a:stretch/>
        </p:blipFill>
        <p:spPr>
          <a:xfrm>
            <a:off x="2133720" y="1219320"/>
            <a:ext cx="4940280" cy="5410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299960" y="304920"/>
            <a:ext cx="70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ЕКРЕТЫ МУДРОГО 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Встреча Маленького принца с Лис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11"/>
          <p:cNvPicPr/>
          <p:nvPr/>
        </p:nvPicPr>
        <p:blipFill>
          <a:blip r:embed="rId2"/>
          <a:stretch/>
        </p:blipFill>
        <p:spPr>
          <a:xfrm>
            <a:off x="1295280" y="1600200"/>
            <a:ext cx="64962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АФОРИЗМЫ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На Земле чего только не бывает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Нет в мире совершенства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Но если ты меня приручишь, моя жизнь точно солнцем озарится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Узнать можно только те вещи, которые приручишь»;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лова только мешают понимать друг друга»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 Я узнаю цену счастью!»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Нужно соблюдать обряды!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Зорко одно лишь сердце. Самого главного глазами не увидиш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906119_zorko-odno-lish-serdtse"/>
          <p:cNvPicPr/>
          <p:nvPr/>
        </p:nvPicPr>
        <p:blipFill>
          <a:blip r:embed="rId2"/>
          <a:srcRect l="0" t="0" r="0" b="2673"/>
          <a:stretch/>
        </p:blipFill>
        <p:spPr>
          <a:xfrm>
            <a:off x="3733920" y="1933560"/>
            <a:ext cx="4876560" cy="4414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609480" y="25146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это — самое глав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ое нельзя увид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з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65386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rcRect l="0" t="0" r="0" b="10604"/>
          <a:stretch/>
        </p:blipFill>
        <p:spPr>
          <a:xfrm>
            <a:off x="4648320" y="914400"/>
            <a:ext cx="4267080" cy="5486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то зна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приручить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valeria_-_malenkii_princ.mp3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76022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Что же оказывается по – настоящему ценным на Зем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ЛЮБО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РУЖ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ЕР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75"/>
                            </p:stCondLst>
                            <p:childTnLst>
                              <p:par>
                                <p:cTn id="268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269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75"/>
                            </p:stCondLst>
                            <p:childTnLst>
                              <p:par>
                                <p:cTn id="27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-0.07865 C 0.00451 -0.10271 0.02552 -0.13717 0.05052 -0.13717 C 0.0875 -0.13717 0.11753 -0.10132 0.11753 -0.05598 C 0.11753 -0.04141 0.11458 -0.02799 0.10851 -0.01596 C 0.10955 -0.01596 -0.00747 0.16378 -0.00747 0.16516 C -0.00747 0.16378 -0.12448 -0.01596 -0.12344 -0.01596 C -0.12952 -0.02799 -0.13247 -0.04141 -0.13247 -0.05598 C -0.13247 -0.10132 -0.10243 -0.13717 -0.06441 -0.13717 C -0.04045 -0.13717 -0.01945 -0.10271 -0.00747 -0.07865 Z">
                                      <p:cBhvr>
                                        <p:cTn id="272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75"/>
                            </p:stCondLst>
                            <p:childTnLst>
                              <p:par>
                                <p:cTn id="274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17 -0.0768 C 0.06215 -0.10085 0.08316 -0.13532 0.10816 -0.13532 C 0.14514 -0.13532 0.17517 -0.09947 0.17517 -0.05413 C 0.17517 -0.03955 0.17222 -0.02614 0.16614 -0.01411 C 0.16718 -0.01411 0.05017 0.16563 0.05017 0.16702 C 0.05017 0.16563 -0.06684 -0.01411 -0.0658 -0.01411 C -0.07188 -0.02614 -0.07483 -0.03955 -0.07483 -0.05413 C -0.07483 -0.09947 -0.0448 -0.13532 -0.00677 -0.13532 C 0.01718 -0.13532 0.03819 -0.10085 0.05017 -0.0768 Z">
                                      <p:cBhvr>
                                        <p:cTn id="275" dur="3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27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st_ex"/>
          <p:cNvPicPr/>
          <p:nvPr/>
        </p:nvPicPr>
        <p:blipFill>
          <a:blip r:embed="rId2"/>
          <a:stretch/>
        </p:blipFill>
        <p:spPr>
          <a:xfrm>
            <a:off x="152280" y="685800"/>
            <a:ext cx="3719520" cy="5867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Антуан де Сент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– Экзюпери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«Маленький прин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Рисунок8"/>
          <p:cNvPicPr/>
          <p:nvPr/>
        </p:nvPicPr>
        <p:blipFill>
          <a:blip r:embed="rId3"/>
          <a:stretch/>
        </p:blipFill>
        <p:spPr>
          <a:xfrm>
            <a:off x="5029200" y="2362320"/>
            <a:ext cx="379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СТЕРОИД     Б-6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М"/>
          <p:cNvPicPr/>
          <p:nvPr/>
        </p:nvPicPr>
        <p:blipFill>
          <a:blip r:embed="rId2"/>
          <a:stretch/>
        </p:blipFill>
        <p:spPr>
          <a:xfrm>
            <a:off x="0" y="1371600"/>
            <a:ext cx="6408720" cy="2779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5" descr="39671461"/>
          <p:cNvPicPr/>
          <p:nvPr/>
        </p:nvPicPr>
        <p:blipFill>
          <a:blip r:embed="rId3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15"/>
          <p:cNvPicPr/>
          <p:nvPr/>
        </p:nvPicPr>
        <p:blipFill>
          <a:blip r:embed="rId2"/>
          <a:stretch/>
        </p:blipFill>
        <p:spPr>
          <a:xfrm>
            <a:off x="457200" y="1905120"/>
            <a:ext cx="5334120" cy="4343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Есть такое твердое правило: встал поутру, умылся, привел себя в порядок — и сразу же приведи в порядок свою планет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14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361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ты сам приводишь в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ядок свою планету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М"/>
          <p:cNvPicPr/>
          <p:nvPr/>
        </p:nvPicPr>
        <p:blipFill>
          <a:blip r:embed="rId2"/>
          <a:stretch/>
        </p:blipFill>
        <p:spPr>
          <a:xfrm>
            <a:off x="3973680" y="152280"/>
            <a:ext cx="5170320" cy="64771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8359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2428920" cy="23716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Появление Р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rose_open-1"/>
          <p:cNvPicPr/>
          <p:nvPr/>
        </p:nvPicPr>
        <p:blipFill>
          <a:blip r:embed="rId3"/>
          <a:stretch/>
        </p:blipFill>
        <p:spPr>
          <a:xfrm>
            <a:off x="2514600" y="2057400"/>
            <a:ext cx="4267080" cy="398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259092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59" name="Picture 3" descr=""/>
          <p:cNvPicPr/>
          <p:nvPr/>
        </p:nvPicPr>
        <p:blipFill>
          <a:blip r:embed="rId5"/>
          <a:stretch/>
        </p:blipFill>
        <p:spPr>
          <a:xfrm>
            <a:off x="6676920" y="4971960"/>
            <a:ext cx="2467080" cy="18860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60" name="Picture 3" descr=""/>
          <p:cNvPicPr/>
          <p:nvPr/>
        </p:nvPicPr>
        <p:blipFill>
          <a:blip r:embed="rId6"/>
          <a:stretch/>
        </p:blipFill>
        <p:spPr>
          <a:xfrm>
            <a:off x="0" y="4060800"/>
            <a:ext cx="2590920" cy="279720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62" name="Picture 4" descr="blest5"/>
          <p:cNvPicPr/>
          <p:nvPr/>
        </p:nvPicPr>
        <p:blipFill>
          <a:blip r:embed="rId2"/>
          <a:stretch/>
        </p:blipFill>
        <p:spPr>
          <a:xfrm>
            <a:off x="990720" y="2438280"/>
            <a:ext cx="2031840" cy="2924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124080" y="609480"/>
            <a:ext cx="5105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«КА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ТРУ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ХАРАКТЕР 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ЭТ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ЦВЕТКА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Aranjuies mon amour.mp3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4804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_802a_b6be88d6_orig"/>
          <p:cNvPicPr/>
          <p:nvPr/>
        </p:nvPicPr>
        <p:blipFill>
          <a:blip r:embed="rId2"/>
          <a:stretch/>
        </p:blipFill>
        <p:spPr>
          <a:xfrm>
            <a:off x="2514600" y="2209680"/>
            <a:ext cx="3487680" cy="3962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РОЗА                    ПРИН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КЕТЛИВА                    ПРИВЯЗ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ПРИЗНА                      ЗАБОТЛ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ИДЧИВА                     ТЕРПЕЛ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ОРДА                                 ОБИ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ЕСКРОМНА            НЕСЧА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РАБРОСТЬ                ВИНОВАТ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4"/>
          <p:cNvPicPr/>
          <p:nvPr/>
        </p:nvPicPr>
        <p:blipFill>
          <a:blip r:embed="rId2"/>
          <a:stretch/>
        </p:blipFill>
        <p:spPr>
          <a:xfrm>
            <a:off x="1143000" y="1600200"/>
            <a:ext cx="6800760" cy="4524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«Надо было судить не по словам, а по дел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19112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5:51:08Z</dcterms:created>
  <dc:creator>Админ</dc:creator>
  <dc:description/>
  <dc:language>en-US</dc:language>
  <cp:lastModifiedBy>User</cp:lastModifiedBy>
  <dcterms:modified xsi:type="dcterms:W3CDTF">2018-02-26T07:13:0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