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17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90D-E5D2-48F9-AFD5-14226F69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9A3-9A5E-4D6F-8A30-7BD42BCF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1DF-55B8-4044-9BDC-E77CA2BF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A18-A7B6-47F6-A906-773A74A4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F84-63BB-48BD-BE08-BAF9C20D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8B6-E135-4515-9896-C322A9C4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682-ABBA-4391-B1FC-0AC9DCBE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27D-8184-414C-B91A-E687785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B91-0F5F-4F2E-83E2-6AD3318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EA3-175C-4DD4-9772-1F8FD29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3B6-D65B-48D1-AA7D-993D4A4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244-7EA7-402D-B85F-7C4E9C0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A3E-AF2A-43B5-941F-42D70AB22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УРОКИ ИСТИНЫ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 в сказке 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Антуана де Сент – Экзюпери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МАЛЕНЬКИЙ ПРИНЦ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valeria_-_malenkii_princ.mp3" descr=""/>
          <p:cNvPicPr/>
          <p:nvPr/>
        </p:nvPicPr>
        <p:blipFill>
          <a:blip r:embed="rId2"/>
          <a:stretch/>
        </p:blipFill>
        <p:spPr>
          <a:xfrm>
            <a:off x="609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6022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ЩАНИЕ МАЛЕНЬКОГО ПРИНЦА И Р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valeria_-_malenkii_princ.mp3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6022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192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Чем огорчила Маленького принца встреча с розами на Зем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ав ли он бы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69343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Рисунок3"/>
          <p:cNvPicPr/>
          <p:nvPr/>
        </p:nvPicPr>
        <p:blipFill>
          <a:blip r:embed="rId2"/>
          <a:stretch/>
        </p:blipFill>
        <p:spPr>
          <a:xfrm>
            <a:off x="2133720" y="1219320"/>
            <a:ext cx="4940280" cy="541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299960" y="304920"/>
            <a:ext cx="70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ЕКРЕТЫ МУДРОГО 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Встреча Маленького принца с Лис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11"/>
          <p:cNvPicPr/>
          <p:nvPr/>
        </p:nvPicPr>
        <p:blipFill>
          <a:blip r:embed="rId2"/>
          <a:stretch/>
        </p:blipFill>
        <p:spPr>
          <a:xfrm>
            <a:off x="1295280" y="1600200"/>
            <a:ext cx="64962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АФОРИЗМЫ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а Земле чего только не бывает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ет в мире совершенства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о если ты меня приручишь, моя жизнь точно солнцем озарится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Узнать можно только те вещи, которые приручишь»;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лова только мешают понимать друг друга»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 Я узнаю цену счастью!»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Нужно соблюдать обряды!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Зорко одно лишь сердце. Самого главного глазами не увидиш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906119_zorko-odno-lish-serdtse"/>
          <p:cNvPicPr/>
          <p:nvPr/>
        </p:nvPicPr>
        <p:blipFill>
          <a:blip r:embed="rId2"/>
          <a:srcRect l="0" t="0" r="0" b="2673"/>
          <a:stretch/>
        </p:blipFill>
        <p:spPr>
          <a:xfrm>
            <a:off x="3733920" y="1933560"/>
            <a:ext cx="4876560" cy="4414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609480" y="25146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это — самое глав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е нельзя увид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з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65386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rcRect l="0" t="0" r="0" b="10604"/>
          <a:stretch/>
        </p:blipFill>
        <p:spPr>
          <a:xfrm>
            <a:off x="4648320" y="914400"/>
            <a:ext cx="4267080" cy="5486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 зна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приручить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valeria_-_malenkii_princ.mp3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76022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Что же оказывается по – настоящему ценным на Зем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ЛЮБО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Р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ЕР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75"/>
                            </p:stCondLst>
                            <p:childTnLst>
                              <p:par>
                                <p:cTn id="26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69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75"/>
                            </p:stCondLst>
                            <p:childTnLst>
                              <p:par>
                                <p:cTn id="27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-0.07865 C 0.00451 -0.10271 0.02552 -0.13717 0.05052 -0.13717 C 0.0875 -0.13717 0.11753 -0.10132 0.11753 -0.05598 C 0.11753 -0.04141 0.11458 -0.02799 0.10851 -0.01596 C 0.10955 -0.01596 -0.00747 0.16378 -0.00747 0.16516 C -0.00747 0.16378 -0.12448 -0.01596 -0.12344 -0.01596 C -0.12952 -0.02799 -0.13247 -0.04141 -0.13247 -0.05598 C -0.13247 -0.10132 -0.10243 -0.13717 -0.06441 -0.13717 C -0.04045 -0.13717 -0.01945 -0.10271 -0.00747 -0.07865 Z">
                                      <p:cBhvr>
                                        <p:cTn id="272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75"/>
                            </p:stCondLst>
                            <p:childTnLst>
                              <p:par>
                                <p:cTn id="274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17 -0.0768 C 0.06215 -0.10085 0.08316 -0.13532 0.10816 -0.13532 C 0.14514 -0.13532 0.17517 -0.09947 0.17517 -0.05413 C 0.17517 -0.03955 0.17222 -0.02614 0.16614 -0.01411 C 0.16718 -0.01411 0.05017 0.16563 0.05017 0.16702 C 0.05017 0.16563 -0.06684 -0.01411 -0.0658 -0.01411 C -0.07188 -0.02614 -0.07483 -0.03955 -0.07483 -0.05413 C -0.07483 -0.09947 -0.0448 -0.13532 -0.00677 -0.13532 C 0.01718 -0.13532 0.03819 -0.10085 0.05017 -0.0768 Z">
                                      <p:cBhvr>
                                        <p:cTn id="275" dur="3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7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st_ex"/>
          <p:cNvPicPr/>
          <p:nvPr/>
        </p:nvPicPr>
        <p:blipFill>
          <a:blip r:embed="rId2"/>
          <a:stretch/>
        </p:blipFill>
        <p:spPr>
          <a:xfrm>
            <a:off x="152280" y="685800"/>
            <a:ext cx="3719520" cy="5867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Антуан де Сент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– Экзюпери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Маленький прин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Рисунок8"/>
          <p:cNvPicPr/>
          <p:nvPr/>
        </p:nvPicPr>
        <p:blipFill>
          <a:blip r:embed="rId3"/>
          <a:stretch/>
        </p:blipFill>
        <p:spPr>
          <a:xfrm>
            <a:off x="5029200" y="2362320"/>
            <a:ext cx="379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СТЕРОИД     Б-6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М"/>
          <p:cNvPicPr/>
          <p:nvPr/>
        </p:nvPicPr>
        <p:blipFill>
          <a:blip r:embed="rId2"/>
          <a:stretch/>
        </p:blipFill>
        <p:spPr>
          <a:xfrm>
            <a:off x="0" y="1371600"/>
            <a:ext cx="6408720" cy="2779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5" descr="39671461"/>
          <p:cNvPicPr/>
          <p:nvPr/>
        </p:nvPicPr>
        <p:blipFill>
          <a:blip r:embed="rId3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5"/>
          <p:cNvPicPr/>
          <p:nvPr/>
        </p:nvPicPr>
        <p:blipFill>
          <a:blip r:embed="rId2"/>
          <a:stretch/>
        </p:blipFill>
        <p:spPr>
          <a:xfrm>
            <a:off x="457200" y="1905120"/>
            <a:ext cx="533412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Есть такое твердое правило: встал поутру, умылся, привел себя в порядок — и сразу же приведи в порядок свою планет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4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ты сам приводишь в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ядок свою планету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М"/>
          <p:cNvPicPr/>
          <p:nvPr/>
        </p:nvPicPr>
        <p:blipFill>
          <a:blip r:embed="rId2"/>
          <a:stretch/>
        </p:blipFill>
        <p:spPr>
          <a:xfrm>
            <a:off x="3973680" y="152280"/>
            <a:ext cx="5170320" cy="64771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8359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2428920" cy="23716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Появление Р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rose_open-1"/>
          <p:cNvPicPr/>
          <p:nvPr/>
        </p:nvPicPr>
        <p:blipFill>
          <a:blip r:embed="rId3"/>
          <a:stretch/>
        </p:blipFill>
        <p:spPr>
          <a:xfrm>
            <a:off x="2514600" y="2057400"/>
            <a:ext cx="4267080" cy="398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259092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5"/>
          <a:stretch/>
        </p:blipFill>
        <p:spPr>
          <a:xfrm>
            <a:off x="6676920" y="4971960"/>
            <a:ext cx="2467080" cy="18860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6"/>
          <a:stretch/>
        </p:blipFill>
        <p:spPr>
          <a:xfrm>
            <a:off x="0" y="4060800"/>
            <a:ext cx="2590920" cy="279720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2" name="Picture 4" descr="blest5"/>
          <p:cNvPicPr/>
          <p:nvPr/>
        </p:nvPicPr>
        <p:blipFill>
          <a:blip r:embed="rId2"/>
          <a:stretch/>
        </p:blipFill>
        <p:spPr>
          <a:xfrm>
            <a:off x="990720" y="2438280"/>
            <a:ext cx="2031840" cy="2924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124080" y="609480"/>
            <a:ext cx="5105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«КА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ТРУ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ХАРАКТЕР 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ЭТ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ЦВЕТКА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ranjuies mon amour.mp3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480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_802a_b6be88d6_orig"/>
          <p:cNvPicPr/>
          <p:nvPr/>
        </p:nvPicPr>
        <p:blipFill>
          <a:blip r:embed="rId2"/>
          <a:stretch/>
        </p:blipFill>
        <p:spPr>
          <a:xfrm>
            <a:off x="2514600" y="2209680"/>
            <a:ext cx="3487680" cy="3962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РОЗА                    ПРИН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КЕТЛИВА                    ПРИВЯЗ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ПРИЗНА                      ЗАБОТ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ИДЧИВА                     ТЕРПЕ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ОРДА                                 ОБИ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ЕСКРОМНА            НЕСЧА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РАБРОСТЬ                ВИНОВА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4"/>
          <p:cNvPicPr/>
          <p:nvPr/>
        </p:nvPicPr>
        <p:blipFill>
          <a:blip r:embed="rId2"/>
          <a:stretch/>
        </p:blipFill>
        <p:spPr>
          <a:xfrm>
            <a:off x="1143000" y="1600200"/>
            <a:ext cx="6800760" cy="4524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«Надо было судить не по словам, а по дел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19112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5:51:08Z</dcterms:created>
  <dc:creator>Админ</dc:creator>
  <dc:description/>
  <dc:language>en-US</dc:language>
  <cp:lastModifiedBy>User</cp:lastModifiedBy>
  <dcterms:modified xsi:type="dcterms:W3CDTF">2018-02-26T07:13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