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CD5-37E8-4593-A11B-7507819F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1F2-E1F3-458C-9698-E8907948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ADD-78B5-446A-913D-3A3E0BC3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782-4ED3-4E43-99F2-F9C3255C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BC3-4895-448C-88D9-567CAAA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984-9E56-4D17-BE40-6FEB43D4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7B5-FFB5-4A56-89E9-C34FD94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CAE-5B64-40A7-A86A-6875F8D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585-6423-4D2B-8AF4-E274164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74D-3BD5-4443-B064-F20D3BBF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256-A520-4A28-86E0-EC410DB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1C8-7ADB-4105-A47E-7C3C7C1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2454-A4B5-4B19-BB8B-44167D963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61928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91636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421164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694836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5508720" y="1341360"/>
            <a:ext cx="793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Picture 10" descr="MCj04348160000[1]"/>
          <p:cNvPicPr/>
          <p:nvPr/>
        </p:nvPicPr>
        <p:blipFill>
          <a:blip r:embed="rId1"/>
          <a:stretch/>
        </p:blipFill>
        <p:spPr>
          <a:xfrm>
            <a:off x="2843280" y="3573360"/>
            <a:ext cx="331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Картинка 18 из 48951"/>
          <p:cNvPicPr/>
          <p:nvPr/>
        </p:nvPicPr>
        <p:blipFill>
          <a:blip r:embed="rId1"/>
          <a:stretch/>
        </p:blipFill>
        <p:spPr>
          <a:xfrm>
            <a:off x="2411280" y="3933720"/>
            <a:ext cx="4191120" cy="27306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1116000" y="3284640"/>
            <a:ext cx="10810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948360" y="3284640"/>
            <a:ext cx="10810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4140360" y="2637000"/>
            <a:ext cx="10792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MCj03436750000[1]"/>
          <p:cNvPicPr/>
          <p:nvPr/>
        </p:nvPicPr>
        <p:blipFill>
          <a:blip r:embed="rId2"/>
          <a:stretch/>
        </p:blipFill>
        <p:spPr>
          <a:xfrm>
            <a:off x="3635280" y="549360"/>
            <a:ext cx="184176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MCj02804570000[1]"/>
          <p:cNvPicPr/>
          <p:nvPr/>
        </p:nvPicPr>
        <p:blipFill>
          <a:blip r:embed="rId3"/>
          <a:stretch/>
        </p:blipFill>
        <p:spPr>
          <a:xfrm>
            <a:off x="6948360" y="333360"/>
            <a:ext cx="1791000" cy="25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MCHH01125_0000[1]"/>
          <p:cNvPicPr/>
          <p:nvPr/>
        </p:nvPicPr>
        <p:blipFill>
          <a:blip r:embed="rId4"/>
          <a:stretch/>
        </p:blipFill>
        <p:spPr>
          <a:xfrm>
            <a:off x="324000" y="260280"/>
            <a:ext cx="156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ртинка 128 из 11556"/>
          <p:cNvPicPr/>
          <p:nvPr/>
        </p:nvPicPr>
        <p:blipFill>
          <a:blip r:embed="rId1"/>
          <a:stretch/>
        </p:blipFill>
        <p:spPr>
          <a:xfrm>
            <a:off x="250920" y="512640"/>
            <a:ext cx="4465440" cy="223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Картинка 16 из 11556"/>
          <p:cNvPicPr/>
          <p:nvPr/>
        </p:nvPicPr>
        <p:blipFill>
          <a:blip r:embed="rId2"/>
          <a:stretch/>
        </p:blipFill>
        <p:spPr>
          <a:xfrm>
            <a:off x="250920" y="3068640"/>
            <a:ext cx="4464000" cy="3357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66 из 11556"/>
          <p:cNvPicPr/>
          <p:nvPr/>
        </p:nvPicPr>
        <p:blipFill>
          <a:blip r:embed="rId3"/>
          <a:stretch/>
        </p:blipFill>
        <p:spPr>
          <a:xfrm>
            <a:off x="4932360" y="981000"/>
            <a:ext cx="39276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Если чувствуешь запах га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разу же открой ок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ь все ручки плиты, перекрой газ с помощью крана на тру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ЕЛЬЗ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зажигать спички, включать свет или электроприб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запах не исчезает, то вызови газовую службу. Лучше всего это сделать у соседей, поскольку телефоном пользоваться опа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Картинка 60 из 11556"/>
          <p:cNvPicPr/>
          <p:nvPr/>
        </p:nvPicPr>
        <p:blipFill>
          <a:blip r:embed="rId1"/>
          <a:stretch/>
        </p:blipFill>
        <p:spPr>
          <a:xfrm>
            <a:off x="324000" y="260280"/>
            <a:ext cx="3382920" cy="338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Картинка 293 из 11556"/>
          <p:cNvPicPr/>
          <p:nvPr/>
        </p:nvPicPr>
        <p:blipFill>
          <a:blip r:embed="rId2"/>
          <a:stretch/>
        </p:blipFill>
        <p:spPr>
          <a:xfrm>
            <a:off x="5364000" y="3573360"/>
            <a:ext cx="3454560" cy="2922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3492360" y="2781360"/>
            <a:ext cx="1873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04</a:t>
            </a:r>
            <a:endParaRPr b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914544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сканирование0008"/>
          <p:cNvPicPr/>
          <p:nvPr/>
        </p:nvPicPr>
        <p:blipFill>
          <a:blip r:embed="rId2"/>
          <a:stretch/>
        </p:blipFill>
        <p:spPr>
          <a:xfrm>
            <a:off x="4680" y="2492280"/>
            <a:ext cx="910908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сканирование0028"/>
          <p:cNvPicPr/>
          <p:nvPr/>
        </p:nvPicPr>
        <p:blipFill>
          <a:blip r:embed="rId3"/>
          <a:stretch/>
        </p:blipFill>
        <p:spPr>
          <a:xfrm>
            <a:off x="-36360" y="4697280"/>
            <a:ext cx="91738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2920" y="5373720"/>
            <a:ext cx="41259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ладимир Мая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4076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омнить твёрдо нужно нам – пожар не возникает с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артинка 3 из 255083"/>
          <p:cNvPicPr/>
          <p:nvPr/>
        </p:nvPicPr>
        <p:blipFill>
          <a:blip r:embed="rId1"/>
          <a:stretch/>
        </p:blipFill>
        <p:spPr>
          <a:xfrm>
            <a:off x="395280" y="765000"/>
            <a:ext cx="4392720" cy="313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Картинка 7 из 255083"/>
          <p:cNvPicPr/>
          <p:nvPr/>
        </p:nvPicPr>
        <p:blipFill>
          <a:blip r:embed="rId2"/>
          <a:stretch/>
        </p:blipFill>
        <p:spPr>
          <a:xfrm>
            <a:off x="5003640" y="189000"/>
            <a:ext cx="38484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РИЧИНЫ ПОЖА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00" y="112212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исправность электрических приб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бывчивость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кра из печи, кам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гковоспламеняющиеся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ы со спич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росин, бензин,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Самые главные виновники пожаров – ЛЮД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5761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СТЬ ПОМНИТ КАЖДЫЙ ГРАЖДАНИН ПОЖАРНЫЙ НО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артинка 26 из 255083"/>
          <p:cNvPicPr/>
          <p:nvPr/>
        </p:nvPicPr>
        <p:blipFill>
          <a:blip r:embed="rId1"/>
          <a:stretch/>
        </p:blipFill>
        <p:spPr>
          <a:xfrm>
            <a:off x="5651640" y="189000"/>
            <a:ext cx="334800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Картинка 1 из 255083"/>
          <p:cNvPicPr/>
          <p:nvPr/>
        </p:nvPicPr>
        <p:blipFill>
          <a:blip r:embed="rId2"/>
          <a:stretch/>
        </p:blipFill>
        <p:spPr>
          <a:xfrm>
            <a:off x="395280" y="2852640"/>
            <a:ext cx="4967280" cy="3726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6588000" y="3357720"/>
            <a:ext cx="165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01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при пожа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Если пламя небольшое, постарайся его погасить. Для этого лучше всего набросить на огонь одея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Если огонь сильно разгорается, то немедленно вызывай пожар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Выбеги из квартиры и позови на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Если ты в квартире с младшим братом или сестрой, то выбегайте вместе, держась з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Убегая из квартиры захлопни дверь, что бы не допустить распространение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Если пожар сильные и много дыма, то прикрой рот и нос мокрым полоте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В задымленном месте передвигайся на четвереньках или полз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и пожар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ЛЬЗ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ьзоваться лиф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ри вызове пожарны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ови адрес, где случился пож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общи свой номер телеф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ови свою фамилию и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аком подъезде и на каком этаже случился пож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лучше подъехать пожарной службе к горящему д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620640"/>
          <a:ext cx="8496000" cy="5616720"/>
        </p:xfrm>
        <a:graphic>
          <a:graphicData uri="http://schemas.openxmlformats.org/drawingml/2006/table">
            <a:tbl>
              <a:tblPr/>
              <a:tblGrid>
                <a:gridCol w="2408040"/>
                <a:gridCol w="1446120"/>
                <a:gridCol w="2081520"/>
                <a:gridCol w="2560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ч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ю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лоч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рлян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 rot="944400">
            <a:off x="1063440" y="700200"/>
            <a:ext cx="731520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 О Д А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3138480" y="3860640"/>
            <a:ext cx="32274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ри аварии водопро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ерни вентиль, который перекрывает в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вони родителям и сообщи о случившем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перекрыть воду невозможно, то сразу звони родителям или диспетче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36:56Z</dcterms:created>
  <dc:creator>WIN7XP</dc:creator>
  <dc:description/>
  <dc:language>en-US</dc:language>
  <cp:lastModifiedBy>504N1</cp:lastModifiedBy>
  <dcterms:modified xsi:type="dcterms:W3CDTF">2017-01-23T14:49:02Z</dcterms:modified>
  <cp:revision>9</cp:revision>
  <dc:subject/>
  <dc:title>Слайд 1</dc:title>
</cp:coreProperties>
</file>