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2911-28D7-4805-A559-3BD2EE194B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3D5E-A365-49CD-9C76-57041B59B8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D649-24F7-44C2-8580-5A0C4F8877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3571-7A11-4175-A979-659F42E109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F086-9C59-4983-BB6D-F45BD80379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8CBE-8F97-405F-B8EA-0D2EE0C4A37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52A1-194D-42D6-90BC-E07B788E3FE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304B-73F8-4800-8FBA-FFA8B0C1DA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3C1B-826A-44AA-B852-EC3BFC6278A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D561-930B-4ED5-BED9-C4DBEE53F8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DDD6-94C8-406B-9563-8CAD171450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0E33-7042-4A00-B3ED-3E06035C82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003F-BF09-4A5A-87ED-07B6843868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6235-EE6A-4AAC-98BE-F20D43BD23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DBB9-BC3E-429E-A45C-54B1A258A6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A354-D79B-4E89-8790-2EE80622AC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8F61-35ED-4EAE-AF02-12F55A2B70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9C49-65B5-4DF2-956A-6BEB50836B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5635-C3FD-45C8-9905-06835147F0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64DA-1CCD-4CDD-AF4D-9D049F958E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36E-4D15-493C-BC27-B322384F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A8F-80A5-412A-A6AF-0AC8D666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7A5-928D-468B-BA7F-A90CFE03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192-EA05-4E55-8418-0CA8C7FA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235E-575A-471B-9867-426370B6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582B-16C4-418F-8E91-5EB9F6C6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265C-F0AE-43B5-8A66-1787CB30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A157-6541-44C2-B046-EACD1DD5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E58F-BFBD-4DD6-B5DE-4B41F162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B865-93BF-4657-BA00-C8F4AF58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BD01-78AF-467C-A04F-067E677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788-498A-4CF6-BD58-76F003FF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D0A7-5E9A-40C5-A08A-B00D3B79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C12A-C03B-4E92-BEBE-9AD9A7FF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D6FF-ED1E-412E-9843-804781D4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BA03-06ED-47B6-AF1E-DFF6F7F5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05E5-75BC-4AC1-A3CB-292426B3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C075-6480-4DBF-A9BD-1A926F0E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E18C-5B9D-4B9F-A983-69736D1C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7778-7075-42BB-A94A-161D9E89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1802-4128-4B48-A45A-4D3A6341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D7DC-458B-4ED0-9A09-E4B8470E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F95-4B83-4230-B90B-C70BC715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7255-9B73-4FDC-8530-102E9C2D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736F-D0C2-4BC5-AAC8-A57CD94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A7D9-E57A-4025-837A-97C519A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6A0D-591E-45A5-BA01-83DB29B4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564C-1B3C-4ACE-A590-1361DE0A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3DDB-6149-4FC9-901B-92DBB544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20D6-C913-420B-B151-8B5DA65E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59CA7-5EA1-4F24-8D8F-B67984EA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37DE4-900C-424D-8D73-D45F913F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C87F-BFD7-489A-9147-AC20C22D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0D3-4F9B-4990-B843-B3B46785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3C14-28E6-4B33-B150-16D20C36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EB7C-7EFB-41DA-86F1-863CC5B3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780E-45DE-4413-A9B5-540CCFF4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8EDD-0035-4C90-BF41-8B9C7EE4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9062-AA90-429B-836A-BECAC5FD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F4D6-B0A8-4C9E-9A96-8B63154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DCDC-30B2-4816-9F44-37698D75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8E080-9584-4756-BD6A-48139DA6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FA212-1A29-4DD0-8FC9-E4E4B681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45330-4CB5-4284-8DDD-EAF98933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4C3-3B7B-4CBE-9B62-2A87763A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312CB-CBF7-403E-AEEF-86390688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EFDFC-FEB3-4BFB-B0A9-51FE1D4A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8F1F-DDAA-4CF5-9B46-2E2D1B46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5072D-B7C4-45F1-9B15-7ABC176A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8789C-AD41-408F-B723-B0D2633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2D43D-BB2A-45E8-ACAC-E21AE08B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AA19-38DD-49FB-8B53-D97804E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B002-55A4-4F8F-ACEE-DCEA359C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07376-299E-4D96-B18D-EE175F05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07BD-73D9-4B5A-B30F-0F4A1B53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7D6-BC35-483E-874F-5FA2F62A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CDBD3-1355-4D43-BCE1-7B483BB7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CC426-10F6-4B08-AB08-749AA33C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2CF8-4486-4A36-84CD-6FCF42D8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1F5AB-FAD3-41A0-88D6-F4BE1FF7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AFA1F-DC30-49C3-AF18-8D1A71D5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9394-A49D-443D-B5AB-77CA3017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DA05E-799A-4092-88A2-2778AD0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75D9C-6EC7-449C-8C1F-B516BD1B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BBB28-E1EA-4E98-8AC3-BC07F1E5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EA439-71C1-4CD1-AADD-4C7261FE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EEF-B07E-4A6D-8D0E-6E6ACA56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C2883-CF54-435A-AA66-0EE9DF7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E024C-5BB4-4495-8493-1AF11727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D00F9-33D6-4E10-A86D-FAEC8D77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6304F-1F38-49F8-A241-1112E5E1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4BED-BCA2-4FE6-8DF9-3D1785A0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DE2A0-1399-46B6-9C67-3916A193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A6DA2-6108-4928-8781-C3B4BE38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9EE1F-2273-4A20-B03E-9812ACF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ACACE-3C77-47DD-8906-6244ABE2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7CD5-A7B6-4C7B-B753-6314EF7E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B91-8021-44DC-ABA7-452895F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5C818-E1BC-4307-9D12-96E2FB03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F9B50-979B-4CB2-9169-80FAB0B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FF1C4-A8B0-4B49-B8A0-301D160C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5890-9F26-407A-893D-269022D5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BD1CF-EB67-467A-978B-3E9AA7EE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90D-6D86-45A5-A9BE-E890E9A0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E0FC-8384-4EAA-9B66-E8C137D430EA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B1CB-5F00-4E74-9428-41CC9FEFCC67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EBAD-26FC-454D-8A96-5FF422FE4F3D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D90-AF43-470A-A114-5E8C01C9A248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61A0-6922-4AE6-83D6-C1D0B225630E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8E3D-09A2-4087-89D0-B4DC9129CB9E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9868-E039-475F-A4C4-B523DB5F07A7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казенное общеобразовательное учреждение Краснодарского края специальная (коррекционная)  школа-интернат ст-цы Староминской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составления рабочих программ и КТП по учебным предметам для обучающихся с ОВЗ в условиях реализации ФГО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руководитель МО Н. Г. Иващенко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2"/>
          <p:cNvSpPr/>
          <p:nvPr/>
        </p:nvSpPr>
        <p:spPr>
          <a:xfrm>
            <a:off x="1071720" y="428760"/>
            <a:ext cx="7858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чебного предмета, курса включ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разделов учебной программы и характеристику основных содержательных ли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планируемых видов деятельности, экскурс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проект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езерва учебного време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содержания (порядок изучения разделов и тем) учебного предмета, количество часов на изучение каждой темы осуществляется в соответствии с ФГОС НОО, ФГОС НОО обучающихся с ОВЗ или ФГОС образования обучающихся с умственной отсталостью индивидуально учител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ётом используемого УМК, особенностей образовательной организации и категории обучающихся с ОВЗ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8000" y="5684760"/>
            <a:ext cx="32868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572314"/>
              </a:solidFill>
              <a:latin typeface="Times New Roman"/>
              <a:ea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42640" y="928800"/>
            <a:ext cx="75438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материально-технического обеспечения образовательной деятельност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ные пособия (учебники указываются с теми годами издания, которые имеются в школьной библиотеке и будут выданы обучающимся для освоение тем и разделов рабочей программы по учебному предмету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ранно-звуковые пособия (могут быть в цифровом виде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обучения (средства ИКТ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и электронные образовательные ресурс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рактическое и учебно-лабораторное оборудовани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уральные объект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онные пособ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инструмент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уральный фонд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357120"/>
            <a:ext cx="761508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е оформление титульного листа Рабочей программы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  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рриториальный, административный округ (город, район, поселок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ное наименование образовательного учреждения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О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педагогического совета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________ 20 __ года протокол № 1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___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 подпись руководителя ОУ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 Ф.И.О.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азать учебный предмет, курс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бразования (класс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ьное общее, основное общее образование с указанием классов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часов ____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____________________________________________ ___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работана на основе_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азать программу/программы, издательство, год издания)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ый вариант последней страницы рабочей программы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                                                                                                                                                  СОГЛАСОВАНО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заседания                                                                                                                                             Заместитель директора по УВР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го объединения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й  ОО                                                                                                                                                            подпись Ф.И.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____________ 20 __ года № 1                                                                                                                          ______________ 20 __ года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ь руководителя МО    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000080" y="24444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 Староминский район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Краснодарского края специальная (коррекционная) школа-интернат ст-цы Староминск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педсов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30.08.2016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педсов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  ПРОГРАМ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ТЕНИЮ И РАЗВИТИЮ РЕЧ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бучения (класс) –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- 4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час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класс: 170 часов (5 часов в неделю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: 170 часов (5 часов в неделю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: 136 часов (4  часа в неделю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: базов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ващенко Н.Г., Капуста С.Л., Канищева Н.А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00080" y="357120"/>
            <a:ext cx="76867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яснительная записка…………………………………………………...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щая характеристика учебного предмета «Чтение и развитие реч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писание места учебного предмета «Чтение и развитие речи» во 2 – 4 классах в учебном план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Личностные, метапредметные и предметные результаты освоения учебного предмета «Чтение и развитие речи» во 2 – 4 класс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ание учебного предмета «Чтение и развитие речи» во 2 – 4 класс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ечень учебно-методического, материально- технического обеспечения программы по предмету «Чтение и развитие реч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360" y="357120"/>
            <a:ext cx="76150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составлена в соответстви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Федеральным Законом от 29 декабря 2012 года №273-ФЗ «Об образовании в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разработана  на основ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аптированной основной общеобразовательной программы ГБОУ школы – интерната;                                                                                             - примерн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специальной (коррекционной) образовательной школ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а: 1-4кл. Под ред. В.В.Воронковой» Подготовительный. 1-4  классы - М.:«Просвещение», 2011 год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бного плана ГБОУ школы - интерна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по предмету «Чтение и развитие речи» для обучающихся с ограниченными возможностями здоровья  2 - 4  классов  определяет общую стратегию обучения, воспитания и развития обучающихся средствами учебного предмета, в соответствии с целями изучения предмета «Чтение и развитие реч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71360" y="285840"/>
            <a:ext cx="761508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цель предмет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 детей читать доступный их пониманию текст вслух и про себ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мысленно воспринимать прочитанно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навык сознательного, правильного, беглого и выразительного чт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ботка умения правильно строить предложения; 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равственные каче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выше указанными задачами на уроках  решаются и специальные задачи, направленные на коррекцию умственной деятельности школьников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коррекционной работ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рительного восприятия и узнава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 и ориента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сновных мыслительных операций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глядно-образного и словесно-логического мышл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нарушений  эмоционально-личностной сфер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словар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индивидуальных пробелов в знаниях, умениях, навыках.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1360" y="213840"/>
            <a:ext cx="761508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учебного предмета «Чтение и развитие речи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и развитие речи как учебный предмет является ведущим, так как от его усвоения во многом зависит успешность всего школьного обучения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 учащихся формируется навык сознательного, правильного, беглого и выразительного чтени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тения подбираются произведения народного творчества, классиков русской и зарубежной литературы, доступные пониманию статьи из газет и журналов. В процессе обучения чтению у учащихся последовательно формируется умение с помощью учителя разбираться в содержании прочитанног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программе на каждый год обучения дается примерная тематика произведений, определяется уровень требований к технике чтения, анализу  текстов, совершенствованию навыков устной речи и объему внеклассного чтени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ка произведений для чтения подобрана с учетом максимального развития познавательных интересов детей, расширения их кругозора, воспитания нравственных качест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годах обучения читаются произведения о нашей Родине, ее прошлом и настоящем, о мудрости и героизме русского народ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техники чтения осуществляется последовательно на каждом году обучения. Постоянное внимание следует уделять формированию навыка правильного чтения, которым умственно отсталые учащиеся в силу особенностей психического развития овладевают с большим трудом, что затрудняет понимание содержания прочитанног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лое чтение, т. е. плавное, в темпе разговорной речи чтение вслух, формируется постепенно. Во 2 классе учащиеся читают по слогам, постепенно переходя к чтению целыми словами. В дальнейшем навык беглого чтения совершенствуетс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142560"/>
            <a:ext cx="76867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с овладением чтением вслух школьники учатся читать про себя. Систематическая работа по обучению чтению про себя начинается с 3 класса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 выразительностью речи умственно отсталые учащиеся знакомятся во 2 классе. Однако систематическое формирование выразительного чтения начинается примерно в 3 классе с перехода на чтение целыми словами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содержания читаемого осуществляется в процессе анализа произведений. При этом очень важна система работы по установлению причинно-следственных связей и закономерностей, так как этот вид деятельности имеет огромное коррекционное значение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 процессе обучения чтению должен уделить особое внимание работе с иллюстративным материалом как одним из эффективных средств формирования познавательной деятельности учащихся и коррекции недостатков их развит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стной речи. Большое внимание на уроках чтения уделяется развитию связной устной речи. Учащиеся овладевают правильным, полным и последовательным пересказом в процессе систематической работы, направленной на понимание содержания произведений, обогащение и уточнение словарного запаса, обучение правильному построению предложений, и в процессе упражнений в воспроизведении прочитанного. С этой целью в младших классах в зависимости от сложности текста используются вопросы, готовый или коллективно составленный план, картинный план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чтение ставит задачу начала формирования читательской самостоятельности у учащихся: развития у них интереса к чтению, знакомства с лучшими, доступными их пониманию произведениями детской литературы, формирования навыков самостоятельного чтения книг, читательской культуры; посещения библиотеки; умения выбирать книгу по интерес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000080" y="285840"/>
            <a:ext cx="7686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места учебного предмета «Чтение и развитие речи» во 2 – 4 классах в учебном план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о предмету «Чтение и развитие речи» для обучающихся с ограниченными возможностями здоровья  2 - 4 класса составлена с учётом особенностей познавательной деятельности детей с ограниченными возможностями здоровья, направлена на разностороннее развитие личности обучающихся, способствует их умственному развитию, содержит материал, помогающий обучающимся достичь того уровня общеобразовательных знаний и умений, который необходим им для социальной адапта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чтения и развития речи проводятся во 2 – 3 классах 5 раз в неделю (170 часов в год), в 4 классе – 4 раза в неделю (136 часов в г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 и содержательно программа по предмету «Чтение и развитие речи» для обучающихся с ограниченными возможностями здоровья составлена таким образом, что уровень сложности материала опирается на ранее полученные знания во время уроков чтения и развития речи,  уроков развития устной речи на основе изучения предметов и явлений окружающей действи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настоящей программы по предмету «Чтение и развитие речи» - 3 учебных год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разовательного учреждения, который регламентирует деятельность педагога, учитывает специфику учреждения и уровень подготовленности учащихся конкретного класса, обеспечивает достижение планируемых результатов освоения основной образовательной программы началь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71360" y="428400"/>
            <a:ext cx="780084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, метапредметные и предметные результаты освоенияучебного предмета «Чтение и развитие речи» во 2 – 4 класс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результа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осознание себя как гражданина России; формирование чувства гордости за свою Родину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сформированность адекватных представлений о собственных возможностях, о насущно необходимом жизнеобеспечении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навыками коммуникации и принятыми нормами социального взаимодействия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принятие и освоение социальной роли обучающегося, проявление социально значимых мотивов учебной деятельности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навыков сотрудничества с взрослыми и сверстниками в разных социальных ситуациях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 воспитание эстетических потребностей, ценностей и чувств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 развитие этических чувств, проявление доброжелательности, эмоционально-нра­вственной отзывчивости и взаимопомощи, проявление сопереживания к чувствам других людей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 сформированность установки на наличие мотивации к творческому труду, работе на результат, бережному отношению к материальным и духовным ценностя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результат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нимать и сохранять цели и задачи учебной деятельности, находить средства и способы её осуществления.Овладение способами выполнения заданий творческого и поискового характе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планировать, контролировать и оценивать учебные действия в соответствии с поставленной задачей и условиями её выполнения, определять наиболее эффективные способы достижения результа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ечевых средств и средств информационных и коммуникационных технологий для решения коммуникативных и познавательных задач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логическими действиями сравнения, анализа, синтеза, обобщения, классификации по родовидовым признакам, установления аналогий и причинно-следственных связей, построения рассуждений, отнесения к известным понятия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слушать собеседника и вести диалог; готовность признать возможность существования различных точек зрения и права каждого иметь свою; излагать своё мнение и аргументировать свою точку зр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результат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уровень освоения предметных результатов не являетс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м для всех обучающихс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й уровень является обязательным для всех обучающихся с умственной отсталостью. Отсутствие достижения этого уровня по отдельным предметам не является препятствием к продолжению образования по данному варианту программ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й уровень: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знанное и правильное чтение текст вслух по слогам и целыми словами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содержания прочитанного текста по вопросам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стие в коллективной работе по оценке поступков героев и событий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зительное чтение наизусть 5-7 коротких стихотворений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уровень: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 текста после предварительного анализа вслух целыми словами (сложные по семантике и структуре слова ― по слогам) с соблюдением пауз, с соответствующим тоном голоса и темпом речи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веты на вопросы учителя по прочитанному тексту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 основной мысли текста после предварительного его анализа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 текста молча с выполнением заданий учителя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 главных действующих лиц произведения; элементарная оценка их поступков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 диалогов по ролям с использованием некоторых средств устной выразительности (после предварительного разбора)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 по частям с опорой на вопросы учителя, картинный план или иллюстрацию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зительное чтение наизусть 7-8 стихотворений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71360" y="-360"/>
            <a:ext cx="78627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чебного предме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1071720" y="357120"/>
          <a:ext cx="7630920" cy="614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357120"/>
                    <a:ext cx="7630920" cy="61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28800" y="142560"/>
            <a:ext cx="8005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учебно-методического, материально-технического обеспече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папк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карточк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этах и писателя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ий материа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говые таблиц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емена года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равствуй, школа!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иллюстрац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утбу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ое оборудован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онные материал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и картин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 писателе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о словарными слов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пособ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 по темам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фильм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00080" y="214200"/>
            <a:ext cx="79344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специальных (коррекционных) образовательных учреждений VIII вида: Подготовительный, 1 – 4 классы/под ред. В. В. Воронковой; 4 –е издание. – М.: Просвещение, 2010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Ильина С.Ю. Чтение 2 класс: Учебник. - 11-е изд. – СПб.: фил. изд-во «Просвещение», 2016  (10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льина С.Ю., Матвеева Л.В. Чтение 3 класс. - 9-е изд. - М: Просвещение, 2016 (10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льина С.Ю., Матвеева Л.В. Чтение 4 класс. - 6-е изд. - М:  Просвещение, 2016 (9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учение учащихся I – IV классов вспомогательной школы: Пособие для учителя, Под ред. В.Г. Перовой. – 2-е изд., перераб. – М.: перераб. – М. Просвещение, 1982. – 285 с., и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Аксёнова А.К. Методика преподавания русского языка для детей с нарушениями интеллекта: учеб  для студентов пед. вузов. А.К. Асёнова, С.Ю.. Ильина. – М.: Просвещение,2011. – 335 с., и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Гостинская Е.С., Михайлова М.И.,  Внеклассное чтение. Дидактический материал 2 кл., М., 2005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усские народные загадки, пословицы, поговорки. / Сост. Ю.Г.Круглов. – М.: Просвещение, 1990г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зорова О.В., Нефедова Е.А. Тесты по проверке техники чтения для начальной школы: М.: Астрель, 2006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стромина С.Н. Как преодолеть трудности в обучении чтению. М.: Ось – 89, 2004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Кутявина С.В., Гостимская Е.С., Байкова М.И. Поурочные разработки по литературному чтению. М.; Вако, 2007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Логопедическая азбука. / В.А.Ракитина, Е.Н.Рыжанкова. – Ростов н/Д: Феникс, 2006г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о                                                                Согласовано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заседании МО                                                   зам. директора по УР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 1                                                             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 29.08.2016г.                                                        Парамонова З.П.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О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Иващенко Н.Г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о-тематического планирова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ми ФГОС НОО, ФГОС НОО обучающихся с ОВЗ и ФГОС образования обучающихся с умственной отсталостью (интеллектуальными нарушениями) программы отдельных учебных предметов, курсов должны содержать тематическое планирование с определением основных видов учебной деятельности обучающихся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3285720"/>
            <a:ext cx="749952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и предметные результаты освоения учебного предмета планируются на основе ФГОС НОО обучающихся с ОВЗ и с учетом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ой группы (класса), для которого составляется КТП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ня развития учащихся данного класс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аемой темы или разде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4" name="Object 2"/>
          <p:cNvGraphicFramePr/>
          <p:nvPr/>
        </p:nvGraphicFramePr>
        <p:xfrm>
          <a:off x="1523880" y="1000080"/>
          <a:ext cx="7344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00080"/>
                    <a:ext cx="7344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7" name="Object 2"/>
          <p:cNvGraphicFramePr/>
          <p:nvPr/>
        </p:nvGraphicFramePr>
        <p:xfrm>
          <a:off x="1000080" y="714240"/>
          <a:ext cx="7996320" cy="592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14240"/>
                    <a:ext cx="7996320" cy="59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1071720" y="571680"/>
          <a:ext cx="78580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571680"/>
                    <a:ext cx="7858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000080" y="571680"/>
            <a:ext cx="768672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рабочей программы педагог учитывает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ФГОС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ю образовательного учреждения, его целевые ориентир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отребности семьи и ребен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освоения основной образовательной программы начального общего образования: обязательный минимум и максимальный объем содержания учебного курс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часов учебной нагрузки, определенного учебным планом образовательного учреждения для реализации учебных предметов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фессиональной компетентност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чащихся класс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-техническое обеспечение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71360" y="285840"/>
            <a:ext cx="7862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857160" y="285840"/>
          <a:ext cx="8001000" cy="57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85840"/>
                    <a:ext cx="8001000" cy="57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достижения обучающимися с умственной отсталостью планируемых результатов освоения адаптированной основной образовательной программы общего образован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71360" y="1285560"/>
            <a:ext cx="7862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 ФГОС для обучающихся с умственной отсталостью оценке подлежа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и предметные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ых результатов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осуществляться на основании применения метода экспертной оценки, членами ПМПК школ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ализа предоставляются в форме условных единиц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 – нет продвижения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 – минимальное продвижение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алла – среднее продвижение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лла – значительное продвижени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ценки личностных достижений заносятся в индивидуальную карту развития обучающегос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-2880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57160" y="214200"/>
            <a:ext cx="8143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результа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ы с овладением обучающимися содержанием каждой образовательной области и характеризуют достижения обучающихся в усвоении знаний и умений, способность их применять в практ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ым акт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 5- бальная шкала оцени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 со второго полугодия 2-го класса (для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ианта №1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, а также в течение первого полугодия второго класса используется только качественная оцен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3"/>
          <p:cNvSpPr/>
          <p:nvPr/>
        </p:nvSpPr>
        <p:spPr>
          <a:xfrm>
            <a:off x="928800" y="714240"/>
            <a:ext cx="778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х программам учебных предметов, курсов в соответствии 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ми ФГОС НОО обучающихся с ограниченными возможност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и ФГОС образования обучающихся с умственной отстал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3" descr=""/>
          <p:cNvPicPr/>
          <p:nvPr/>
        </p:nvPicPr>
        <p:blipFill>
          <a:blip r:embed="rId1"/>
          <a:stretch/>
        </p:blipFill>
        <p:spPr>
          <a:xfrm>
            <a:off x="4546440" y="320976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2"/>
          <p:cNvSpPr/>
          <p:nvPr/>
        </p:nvSpPr>
        <p:spPr>
          <a:xfrm>
            <a:off x="1000080" y="500040"/>
            <a:ext cx="7858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учебных предметов, коррекционных курсов должны    содержа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яснительную записку, в которой конкретизируются общие це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с учетом специфики учебного предмета, коррекционного к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щую характеристику учебного предмета, коррекционного курса 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ом особенностей его освоения обучающими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писание места учебного предмета в учебном план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личностные и предметные результаты освоения учебного предмет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го к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одержание учебного предмета, коррекционного к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описание материально-технического обеспечения образователь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2"/>
          <p:cNvSpPr/>
          <p:nvPr/>
        </p:nvSpPr>
        <p:spPr>
          <a:xfrm>
            <a:off x="1000080" y="71424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 конкретизиру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акты и учебно-методические документы, на основании которых разработана рабочая программ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учебного курса, предмета в достижении обучающимися с ОВЗ планируемых результатов освоения основной образовательной программы школ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нование выбора содержания части программы по учебному предмету, формируемой участниками образовательных отношений/компонента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360" y="213840"/>
            <a:ext cx="761508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учебного предмета, кур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разделе раскрывается роль и значимость предмета с точки зрения целей образования категории обучающихся с ОВЗ (с опорой на концепцию Стандартов специального образования), современных требований к результатам освоения АООП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преемственность при изучении данного предмета, курса в начальной и основной школе, расставляются акценты в осуществлении связи обучения по предмету с практикой и с актуальными проблемами социализации и дальнейшей социальной адаптации лиц с ОВ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2"/>
          <p:cNvSpPr/>
          <p:nvPr/>
        </p:nvSpPr>
        <p:spPr>
          <a:xfrm>
            <a:off x="1143000" y="612720"/>
            <a:ext cx="757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места учебного предмета, курса в учебном пла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раздел предполагает указание классов, в которых планируется освоение данной рабочей программы, и количества часов, выделенных на освоение программы, а также разделение на инвариантную и вариативну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уемую участниками образовательных отношений/компонен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) части. Возможна разбивка общего коли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 по неделям и годам обучения в табличном вид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"/>
          <p:cNvSpPr/>
          <p:nvPr/>
        </p:nvSpPr>
        <p:spPr>
          <a:xfrm>
            <a:off x="1071720" y="642960"/>
            <a:ext cx="7786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, метапредметные и предметные результаты осво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ого учебного предмета, кур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разделе отражаются личностные, метапредметные и предметные результаты освоения учебного предмета, согласующиеся с поставленными ранее целями освоения рабочей программы. Результаты отражают как общие (общественные и государственные), так и особые (для данной категории обучающихся с ОВЗ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отребности, сформулированы в деятельност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оказать связь планируемых образовательных результатов с достижением коррекционных целей образования в ходе освоения содержания учебного предмета обучающимися с ОВЗ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8:40:18Z</dcterms:created>
  <dc:creator>Admin</dc:creator>
  <dc:description/>
  <dc:language>en-US</dc:language>
  <cp:lastModifiedBy>Windows User</cp:lastModifiedBy>
  <dcterms:modified xsi:type="dcterms:W3CDTF">2018-04-08T16:08:21Z</dcterms:modified>
  <cp:revision>146</cp:revision>
  <dc:subject/>
  <dc:title>Структура рабочей программы по учебным предметам для обучающихся с ОВЗ</dc:title>
</cp:coreProperties>
</file>