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media/image10.wmf" ContentType="image/x-wmf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7CC55-A30E-47E1-878A-752F0B63499C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92473-79A1-4A9B-846D-ED21E222FE6F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7215C-620E-48E0-9BC2-5738B5146825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DDCCE-2878-4D50-B0F5-82E840402968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D66F4-0D8D-4C2F-9631-D737A00E3869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CD844-17C0-4754-89F6-240429020A6A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FAE5F-EC27-4ECC-869F-431BF9AD022E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481CF-FCE7-4244-8A2C-22D903C52EC3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BCE1A-793C-4B36-B770-E11352EF9548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B9270-A599-415E-8753-72573D78C9DE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0718A-E8B4-4DDC-B0EC-7D7676882DFE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5DB1F-A270-48D6-B374-F78D453278CF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9FC78-9889-4AD9-8176-C7FE8EA9534C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BC290-171C-44E2-B3B7-63745352EDEA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77054-6A6A-4C28-9C3A-1F1216C7ED8B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B714F-995D-45E5-A858-D397E34B2B0C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43C0C-F451-4A1E-AA58-E45325A91412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A434B-49A2-4F99-ACC3-558C89265BE9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5C072-7FBA-4490-A253-F8EF90595E0C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34984-DE41-41C3-97BC-B2825F68928A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02906-EDAD-4075-8DD5-61381A55C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97B6C-8154-4BFD-BC5A-A7EFF90F8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A37BD-5870-4031-8E9B-D584F82B9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F19C1-D341-4404-94AF-6E13AEC54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6ADA8-3411-4656-A663-A6DD238B7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C6D49-0BF4-44B3-B9C6-A5EBBC918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B7546-D5D5-4B88-96E5-5706401CB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04F63-F862-43C8-B6CB-73E3E2C55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1ECFD-3A4C-48C3-BB15-524C27D42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215D0-8734-45A4-B081-226C5A801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36F32-5D8C-4408-8134-3916E88B6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D770E-0274-4914-A8AA-9674B6DC0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AB4F9-0B47-4775-AE27-700FED613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6EE88-CB5D-4831-B68E-767C09772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4FF3C-B706-42C3-85FF-0A0962682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BC6D0-51BA-45BB-8318-5F01D3E3D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65529-C718-46A9-8A40-6E78C9C34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310C87-433C-44CD-ACFF-1108E6A3C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AEB00B-3B32-4FC9-9BEC-3A77B168A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D4E463-0DB1-4B48-812C-8F8E7A4F0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B2B6F6-6D84-4462-B026-4D9DF090B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F25311-C6A3-4357-A2CF-CBE5B1254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16A27-7550-4714-9104-83C222BB5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F9FB9C-B30A-4302-AA3A-06E044875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D76AEF-8B73-41D9-9363-85D07D678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4B0FBD-FB06-42B9-9838-EAEE4B78F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D5BFF0-D82A-44AC-A8F7-14B19A4EF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DAE4B8-4537-4A9F-AF6A-A73FA0C2A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B8DCB7-DABB-452C-89E4-82FBB5BA5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1FC475-6118-4C28-BF9F-3E0E11513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BF0F41-9398-4EC8-A975-B76D849C5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A30774-698D-43B1-AC8B-3A1769E5F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9555A1-D7F2-4811-BA91-08E7E8FAB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9FF10-ADB8-4636-AE84-C42CFE5FA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035584-F4C6-4A15-9394-1B00E9F79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20D702-73D4-48FE-9CC0-0CB755010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E49CB2-B334-4910-9671-0FF960D02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07CE7D-CBA6-4DBD-B8EC-4706E257A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CA1CEA-ECBC-4083-8294-CE88F136E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ADC07D-58C0-4914-80D5-AC0B4161C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D77CCB-397C-410B-A202-9248BF28B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2B2938-AB80-4226-B368-9437BB3EC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07BA41-9DC9-401D-A448-DBEB6BC4A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94822C-5824-4DD8-AE05-C1BB190DA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F9C27-4BDB-4C95-8C1D-EDEF9A700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D01FC0-5B92-41AB-8CFF-6B921CFDF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458CAF-1A7F-4B77-AE06-636AC4707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9AD5CC-5555-4EF8-A77F-BD7CE12B1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DE28B8-49D6-4A6B-96D4-1CA9B5529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1F93BE-96B5-4C89-A1B4-EC7E4A69F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0805D7-A835-4229-9C2C-7CB39FA66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3F42FB-D443-4541-8B19-70A674219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CB1091-59BD-46F2-B821-146DC302D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39F8D4-EB48-4A4B-A699-3F5335765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CAB507-782E-43B8-BC7D-2E48C5782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E74AB-0BAA-4243-8E35-15B41B10B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E91A9F-2DAB-4088-8231-C2CBD7E7C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63F649-EBBB-42D0-819D-9E656860C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6905E1-6706-42A8-A192-6AD52819F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25154F-2BE2-4B77-9EC8-B376FF76A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F33A23-E7CF-4EB9-A0D7-EF380A1C7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1B1C7E-F4B6-4E0E-9BE2-8111DCE85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398D91-E925-469F-A2E8-C66D0993A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FF2D07-3B36-4712-8A64-293EEB009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C80AB1-99D9-401C-87E4-22025E5E9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546038-6FA8-4C17-8F19-120937B29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6565B-B817-457C-A2D5-14FA1A154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B8261D-8802-421A-9D66-0FD2BBA8B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23A80E-5EE1-4D5B-B28D-029FB4787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749864-1CBB-4136-AA09-76FBBBF09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2953F0-E14E-49BF-A956-358E0F73B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DDE85D-76CA-4CA9-8160-75431DEE8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57389F-B96A-45AB-916E-419498E30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BDB91E-C13E-41E1-BEA1-9B3ABD3D0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A80BB6-65A5-40E9-9430-24AE6DB73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E4891C-A6E0-45F6-A73A-83352E4CE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19583D-C9A8-4958-AA8D-C1288EF47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10BB7-80D2-4B6D-9929-9C3F0DA04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F9DDE1-98BD-49B7-9018-F9B3893C5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B260FB-A03F-4BCB-A042-F46003B5B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CBE950-A4B1-449B-9156-77FEAA217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4D5C71-66F0-40C0-8CED-9EBCB551F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401C47-9B06-4110-B3B9-F115415D5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0568C-361F-4545-9807-7AD910C2B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C00A7-72C9-444E-BAAF-C8C3006A406F}" type="slidenum">
              <a:rPr b="0" lang="ru-RU" sz="1200" spc="-1" strike="noStrike">
                <a:solidFill>
                  <a:srgbClr val="b5a788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D9A67-0C84-4632-8AB1-8EAACC597BD6}" type="slidenum">
              <a:rPr b="0" lang="ru-RU" sz="1200" spc="-1" strike="noStrike">
                <a:solidFill>
                  <a:srgbClr val="b5a788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1E24F-680F-43FB-B456-305F32E2BFC5}" type="slidenum">
              <a:rPr b="0" lang="ru-RU" sz="1200" spc="-1" strike="noStrike">
                <a:solidFill>
                  <a:srgbClr val="b5a788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ADD71-E63D-478B-92FA-3D16C6E4EA42}" type="slidenum">
              <a:rPr b="0" lang="ru-RU" sz="1200" spc="-1" strike="noStrike">
                <a:solidFill>
                  <a:srgbClr val="b5a788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73A85-1C86-4C67-A2C4-F8E4BAEB34BE}" type="slidenum">
              <a:rPr b="0" lang="ru-RU" sz="1200" spc="-1" strike="noStrike">
                <a:solidFill>
                  <a:srgbClr val="b5a788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2A12F-2055-48ED-9FFC-3E64759D2CF7}" type="slidenum">
              <a:rPr b="0" lang="ru-RU" sz="1200" spc="-1" strike="noStrike">
                <a:solidFill>
                  <a:srgbClr val="b5a788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2F0C2-BA4C-4AC0-A8D6-BBE8FF44431A}" type="slidenum">
              <a:rPr b="0" lang="ru-RU" sz="1200" spc="-1" strike="noStrike">
                <a:solidFill>
                  <a:srgbClr val="b5a788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457200" y="571680"/>
            <a:ext cx="8229600" cy="555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сударственное казенное общеобразовательное учреждение Краснодарского края специальная (коррекционная)  школа-интернат ст-цы Староминской 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хнологии составления рабочих программ и КТП по учебным предметам для обучающихся с ОВЗ в условиях реализации ФГОС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ила: руководитель МО Н. Г. Иващенко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Прямоугольник 2"/>
          <p:cNvSpPr/>
          <p:nvPr/>
        </p:nvSpPr>
        <p:spPr>
          <a:xfrm>
            <a:off x="1071720" y="428760"/>
            <a:ext cx="785808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держание учебного предмета, курса включает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именование разделов учебной программы и характеристику основных содержательных линий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чень планируемых видов деятельности, экскурсий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авления проектной деятельности обучающихся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ние резерва учебного времен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ектирование содержания (порядок изучения разделов и тем) учебного предмета, количество часов на изучение каждой темы осуществляется в соответствии с ФГОС НОО, ФГОС НОО обучающихся с ОВЗ или ФГОС образования обучающихся с умственной отсталостью индивидуально учителем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учётом используемого УМК, особенностей образовательной организации и категории обучающихся с ОВЗ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388000" y="5684760"/>
            <a:ext cx="328680" cy="94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00" spc="-1" strike="noStrike">
              <a:solidFill>
                <a:srgbClr val="572314"/>
              </a:solidFill>
              <a:latin typeface="Times New Roman"/>
              <a:ea typeface="Times New Roman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1142640" y="928800"/>
            <a:ext cx="7543800" cy="52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исание материально-технического обеспечения образовательной деятельности: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чатные пособия (учебники указываются с теми годами издания, которые имеются в школьной библиотеке и будут выданы обучающимся для освоение тем и разделов рабочей программы по учебному предмету);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ранно-звуковые пособия (могут быть в цифровом виде);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хнические средства обучения (средства ИКТ);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ифровые и электронные образовательные ресурсы;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бно-практическое и учебно-лабораторное оборудование;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туральные объекты;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монстрационные пособия;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зыкальные инструменты;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туральный фонд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1071360" y="357120"/>
            <a:ext cx="7615080" cy="57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рное оформление титульного листа Рабочей программы</a:t>
            </a:r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____________  </a:t>
            </a:r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территориальный, административный округ (город, район, поселок)</a:t>
            </a:r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олное наименование образовательного учреждения)</a:t>
            </a:r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ТВЕРЖДЕНО</a:t>
            </a:r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ением педагогического совета</a:t>
            </a:r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 ________ 20 __ года протокол № 1</a:t>
            </a:r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седатель _______</a:t>
            </a:r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 подпись руководителя ОУ</a:t>
            </a:r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 Ф.И.О.</a:t>
            </a:r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ЧАЯ ПРОГРАММА</a:t>
            </a:r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________________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указать учебный предмет, курс)</a:t>
            </a:r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овень образования (класс)</a:t>
            </a:r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начальное общее, основное общее образование с указанием классов)</a:t>
            </a:r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ичество часов ________</a:t>
            </a:r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____________________________________________ ____</a:t>
            </a:r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рамма разработана на основе_</a:t>
            </a:r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указать программу/программы, издательство, год издания)</a:t>
            </a:r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комендуемый вариант последней страницы рабочей программы</a:t>
            </a:r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ГЛАСОВАНО                                                                                                                                                  СОГЛАСОВАНО</a:t>
            </a:r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токол заседания                                                                                                                                             Заместитель директора по УВР</a:t>
            </a:r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ического объединения</a:t>
            </a:r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ей  ОО                                                                                                                                                            подпись Ф.И.О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 ____________ 20 __ года № 1                                                                                                                          ______________ 20 __ года</a:t>
            </a:r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пись руководителя МО    </a:t>
            </a:r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457200" y="357120"/>
            <a:ext cx="8229600" cy="57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0" name="Rectangle 4"/>
          <p:cNvSpPr/>
          <p:nvPr/>
        </p:nvSpPr>
        <p:spPr>
          <a:xfrm>
            <a:off x="1000080" y="244440"/>
            <a:ext cx="78580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МО Староминский район –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сударственное бюджетное общеобразовательное учреждение Краснодарского края специальная (коррекционная) школа-интернат ст-цы Староминской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ТВЕРЖДЕНО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ением педсовет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токол №  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  30.08.2016 год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седатель педсовет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ЧАЯ   ПРОГРАММ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ЧТЕНИЮ И РАЗВИТИЮ РЕЧ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епень обучения (класс) – 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2- 4 класс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ичество часов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класс: 170 часов (5 часов в неделю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класс: 170 часов (5 часов в неделю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класс: 136 часов (4  часа в неделю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овень: базовый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я: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Иващенко Н.Г., Капуста С.Л., Канищева Н.А.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1000080" y="357120"/>
            <a:ext cx="7686720" cy="57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держание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Пояснительная записка…………………………………………………...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Общая характеристика учебного предмета «Чтение и развитие речи»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Описание места учебного предмета «Чтение и развитие речи» во 2 – 4 классах в учебном плане.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V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Личностные, метапредметные и предметные результаты освоения учебного предмета «Чтение и развитие речи» во 2 – 4 классах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Содержание учебного предмета «Чтение и развитие речи» во 2 – 4 классах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Перечень учебно-методического, материально- технического обеспечения программы по предмету «Чтение и развитие речи»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 txBox="1"/>
          <p:nvPr/>
        </p:nvSpPr>
        <p:spPr>
          <a:xfrm>
            <a:off x="1071360" y="357120"/>
            <a:ext cx="761508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яснительная записка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чая программа составлена в соответствие: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с Федеральным Законом от 29 декабря 2012 года №273-ФЗ «Об образовании в Российской Федерации»;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чая программа разработана  на основе: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15000"/>
              </a:lnSpc>
              <a:spcBef>
                <a:spcPts val="6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адаптированной основной общеобразовательной программы ГБОУ школы – интерната;                                                                                             - примерной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раммы специальной (коррекционной) образовательной школы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II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ида: 1-4кл. Под ред. В.В.Воронковой» Подготовительный. 1-4  классы - М.:«Просвещение», 2011 год,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15000"/>
              </a:lnSpc>
              <a:spcBef>
                <a:spcPts val="6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учебного плана ГБОУ школы - интерната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чая программа по предмету «Чтение и развитие речи» для обучающихся с ограниченными возможностями здоровья  2 - 4  классов  определяет общую стратегию обучения, воспитания и развития обучающихся средствами учебного предмета, в соответствии с целями изучения предмета «Чтение и развитие речи»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1071360" y="285840"/>
            <a:ext cx="7615080" cy="584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вная цель предмета: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аучить детей читать доступный их пониманию текст вслух и про себя;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смысленно воспринимать прочитанное;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формировать навык сознательного, правильного, беглого и выразительного чтения;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ыработка умения правильно строить предложения;  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ть нравственные качества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яду с выше указанными задачами на уроках  решаются и специальные задачи, направленные на коррекцию умственной деятельности школьников.  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е направления коррекционной работы: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зрительного восприятия и узнавания;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пространственных представлений и ориентации;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основных мыслительных операций;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наглядно-образного и словесно-логического мышления;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рекция нарушений  эмоционально-личностной сферы;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огащение словаря;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рекция индивидуальных пробелов в знаниях, умениях, навыках.    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1071360" y="213840"/>
            <a:ext cx="7615080" cy="591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ая характеристика учебного предмета «Чтение и развитие речи».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ение и развитие речи как учебный предмет является ведущим, так как от его усвоения во многом зависит успешность всего школьного обучения. 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 учащихся формируется навык сознательного, правильного, беглого и выразительного чтения.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чтения подбираются произведения народного творчества, классиков русской и зарубежной литературы, доступные пониманию статьи из газет и журналов. В процессе обучения чтению у учащихся последовательно формируется умение с помощью учителя разбираться в содержании прочитанного.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 программе на каждый год обучения дается примерная тематика произведений, определяется уровень требований к технике чтения, анализу  текстов, совершенствованию навыков устной речи и объему внеклассного чтения.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атика произведений для чтения подобрана с учетом максимального развития познавательных интересов детей, расширения их кругозора, воспитания нравственных качеств.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всех годах обучения читаются произведения о нашей Родине, ее прошлом и настоящем, о мудрости и героизме русского народа.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ершенствование техники чтения осуществляется последовательно на каждом году обучения. Постоянное внимание следует уделять формированию навыка правильного чтения, которым умственно отсталые учащиеся в силу особенностей психического развития овладевают с большим трудом, что затрудняет понимание содержания прочитанного.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глое чтение, т. е. плавное, в темпе разговорной речи чтение вслух, формируется постепенно. Во 2 классе учащиеся читают по слогам, постепенно переходя к чтению целыми словами. В дальнейшем навык беглого чтения совершенствуется.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1000080" y="142560"/>
            <a:ext cx="7686720" cy="642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овременно с овладением чтением вслух школьники учатся читать про себя. Систематическая работа по обучению чтению про себя начинается с 3 класса.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 выразительностью речи умственно отсталые учащиеся знакомятся во 2 классе. Однако систематическое формирование выразительного чтения начинается примерно в 3 классе с перехода на чтение целыми словами.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воение содержания читаемого осуществляется в процессе анализа произведений. При этом очень важна система работы по установлению причинно-следственных связей и закономерностей, так как этот вид деятельности имеет огромное коррекционное значение.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в процессе обучения чтению должен уделить особое внимание работе с иллюстративным материалом как одним из эффективных средств формирования познавательной деятельности учащихся и коррекции недостатков их развития.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устной речи. Большое внимание на уроках чтения уделяется развитию связной устной речи. Учащиеся овладевают правильным, полным и последовательным пересказом в процессе систематической работы, направленной на понимание содержания произведений, обогащение и уточнение словарного запаса, обучение правильному построению предложений, и в процессе упражнений в воспроизведении прочитанного. С этой целью в младших классах в зависимости от сложности текста используются вопросы, готовый или коллективно составленный план, картинный план.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еклассное чтение ставит задачу начала формирования читательской самостоятельности у учащихся: развития у них интереса к чтению, знакомства с лучшими, доступными их пониманию произведениями детской литературы, формирования навыков самостоятельного чтения книг, читательской культуры; посещения библиотеки; умения выбирать книгу по интересу.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1000080" y="285840"/>
            <a:ext cx="7686720" cy="62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исание места учебного предмета «Чтение и развитие речи» во 2 – 4 классах в учебном плане.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рамма по предмету «Чтение и развитие речи» для обучающихся с ограниченными возможностями здоровья  2 - 4 класса составлена с учётом особенностей познавательной деятельности детей с ограниченными возможностями здоровья, направлена на разностороннее развитие личности обучающихся, способствует их умственному развитию, содержит материал, помогающий обучающимся достичь того уровня общеобразовательных знаний и умений, который необходим им для социальной адаптации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оки чтения и развития речи проводятся во 2 – 3 классах 5 раз в неделю (170 часов в год), в 4 классе – 4 раза в неделю (136 часов в год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      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но и содержательно программа по предмету «Чтение и развитие речи» для обучающихся с ограниченными возможностями здоровья составлена таким образом, что уровень сложности материала опирается на ранее полученные знания во время уроков чтения и развития речи,  уроков развития устной речи на основе изучения предметов и явлений окружающей действительности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ок реализации настоящей программы по предмету «Чтение и развитие речи» - 3 учебных года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457200" y="571680"/>
            <a:ext cx="8229600" cy="555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чая программа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кумент образовательного учреждения, который регламентирует деятельность педагога, учитывает специфику учреждения и уровень подготовленности учащихся конкретного класса, обеспечивает достижение планируемых результатов освоения основной образовательной программы начального общего образования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 txBox="1"/>
          <p:nvPr/>
        </p:nvSpPr>
        <p:spPr>
          <a:xfrm>
            <a:off x="1071360" y="428400"/>
            <a:ext cx="7800840" cy="563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чностные, метапредметные и предметные результаты освоенияучебного предмета «Чтение и развитие речи» во 2 – 4 классах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чностные результаты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 осознание себя как гражданина России; формирование чувства гордости за свою Родину;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 сформированность адекватных представлений о собственных возможностях, о насущно необходимом жизнеобеспечении;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 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ладение навыками коммуникации и принятыми нормами социального взаимодействия;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 принятие и освоение социальной роли обучающегося, проявление социально значимых мотивов учебной деятельности;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) 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формированность навыков сотрудничества с взрослыми и сверстниками в разных социальных ситуациях;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) воспитание эстетических потребностей, ценностей и чувств;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) развитие этических чувств, проявление доброжелательности, эмоционально-нра­вственной отзывчивости и взаимопомощи, проявление сопереживания к чувствам других людей;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) сформированность установки на наличие мотивации к творческому труду, работе на результат, бережному отношению к материальным и духовным ценностям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1434960" y="214200"/>
            <a:ext cx="7499520" cy="603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апредметные результаты: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собность принимать и сохранять цели и задачи учебной деятельности, находить средства и способы её осуществления.Овладение способами выполнения заданий творческого и поискового характера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ия планировать, контролировать и оценивать учебные действия в соответствии с поставленной задачей и условиями её выполнения, определять наиболее эффективные способы достижения результата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ние речевых средств и средств информационных и коммуникационных технологий для решения коммуникативных и познавательных задач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владение логическими действиями сравнения, анализа, синтеза, обобщения, классификации по родовидовым признакам, установления аналогий и причинно-следственных связей, построения рассуждений, отнесения к известным понятиям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товность слушать собеседника и вести диалог; готовность признать возможность существования различных точек зрения и права каждого иметь свою; излагать своё мнение и аргументировать свою точку зрения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1434960" y="285480"/>
            <a:ext cx="7499520" cy="596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метные результаты.</a:t>
            </a:r>
            <a:endParaRPr b="0" lang="en-US" sz="13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статочный уровень освоения предметных результатов не является</a:t>
            </a:r>
            <a:endParaRPr b="0" lang="en-US" sz="13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язательным для всех обучающихся.</a:t>
            </a:r>
            <a:endParaRPr b="0" lang="en-US" sz="13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нимальный уровень является обязательным для всех обучающихся с умственной отсталостью. Отсутствие достижения этого уровня по отдельным предметам не является препятствием к продолжению образования по данному варианту программы.</a:t>
            </a:r>
            <a:endParaRPr b="0" lang="en-US" sz="13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нимальный уровень:</a:t>
            </a:r>
            <a:endParaRPr b="0" lang="en-US" sz="13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сознанное и правильное чтение текст вслух по слогам и целыми словами;</a:t>
            </a:r>
            <a:endParaRPr b="0" lang="en-US" sz="13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ересказ содержания прочитанного текста по вопросам;</a:t>
            </a:r>
            <a:endParaRPr b="0" lang="en-US" sz="13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участие в коллективной работе по оценке поступков героев и событий;</a:t>
            </a:r>
            <a:endParaRPr b="0" lang="en-US" sz="13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ыразительное чтение наизусть 5-7 коротких стихотворений.</a:t>
            </a:r>
            <a:endParaRPr b="0" lang="en-US" sz="13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статочный уровень:</a:t>
            </a:r>
            <a:endParaRPr b="0" lang="en-US" sz="13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чтение текста после предварительного анализа вслух целыми словами (сложные по семантике и структуре слова ― по слогам) с соблюдением пауз, с соответствующим тоном голоса и темпом речи;</a:t>
            </a:r>
            <a:endParaRPr b="0" lang="en-US" sz="13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тветы на вопросы учителя по прочитанному тексту;</a:t>
            </a:r>
            <a:endParaRPr b="0" lang="en-US" sz="13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пределение основной мысли текста после предварительного его анализа;</a:t>
            </a:r>
            <a:endParaRPr b="0" lang="en-US" sz="13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чтение текста молча с выполнением заданий учителя;</a:t>
            </a:r>
            <a:endParaRPr b="0" lang="en-US" sz="13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пределение главных действующих лиц произведения; элементарная оценка их поступков;</a:t>
            </a:r>
            <a:endParaRPr b="0" lang="en-US" sz="13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чтение диалогов по ролям с использованием некоторых средств устной выразительности (после предварительного разбора);</a:t>
            </a:r>
            <a:endParaRPr b="0" lang="en-US" sz="13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ересказ текста по частям с опорой на вопросы учителя, картинный план или иллюстрацию;</a:t>
            </a:r>
            <a:endParaRPr b="0" lang="en-US" sz="13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ыразительное чтение наизусть 7-8 стихотворений.</a:t>
            </a:r>
            <a:endParaRPr b="0" lang="en-US" sz="13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1071360" y="-360"/>
            <a:ext cx="7862760" cy="664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держание учебного предмета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graphicFrame>
        <p:nvGraphicFramePr>
          <p:cNvPr id="354" name="Object 4"/>
          <p:cNvGraphicFramePr/>
          <p:nvPr/>
        </p:nvGraphicFramePr>
        <p:xfrm>
          <a:off x="1071720" y="357120"/>
          <a:ext cx="7630920" cy="6143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357120"/>
                    <a:ext cx="7630920" cy="614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928800" y="142560"/>
            <a:ext cx="800568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чень учебно-методического, материально-технического обеспечения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атические папки: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дивидуальные карточки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поэтах и писателях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гопедический материал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говые таблицы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ы: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Времена года»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Здравствуй, школа!»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атические иллюстрации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хнические средства: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утбук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рактивное оборудование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зентации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монстрационные материалы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продукции картин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люстрации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треты писателей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точки со словарными словами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лектронные пособия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зентации по темам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льтфильмы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1000080" y="214200"/>
            <a:ext cx="7934400" cy="642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71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исок литературы: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раммы специальных (коррекционных) образовательных учреждений VIII вида: Подготовительный, 1 – 4 классы/под ред. В. В. Воронковой; 4 –е издание. – М.: Просвещение, 2010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 Ильина С.Ю. Чтение 2 класс: Учебник. - 11-е изд. – СПб.: фил. изд-во «Просвещение», 2016  (10)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Ильина С.Ю., Матвеева Л.В. Чтение 3 класс. - 9-е изд. - М: Просвещение, 2016 (10)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Ильина С.Ю., Матвеева Л.В. Чтение 4 класс. - 6-е изд. - М:  Просвещение, 2016 (9)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Обучение учащихся I – IV классов вспомогательной школы: Пособие для учителя, Под ред. В.Г. Перовой. – 2-е изд., перераб. – М.: перераб. – М. Просвещение, 1982. – 285 с., ил.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Аксёнова А.К. Методика преподавания русского языка для детей с нарушениями интеллекта: учеб  для студентов пед. вузов. А.К. Асёнова, С.Ю.. Ильина. – М.: Просвещение,2011. – 335 с., ил.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Гостинская Е.С., Михайлова М.И.,  Внеклассное чтение. Дидактический материал 2 кл., М., 2005.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Русские народные загадки, пословицы, поговорки. / Сост. Ю.Г.Круглов. – М.: Просвещение, 1990г.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 Узорова О.В., Нефедова Е.А. Тесты по проверке техники чтения для начальной школы: М.: Астрель, 2006.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 Костромина С.Н. Как преодолеть трудности в обучении чтению. М.: Ось – 89, 2004.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.Кутявина С.В., Гостимская Е.С., Байкова М.И. Поурочные разработки по литературному чтению. М.; Вако, 2007.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. Логопедическая азбука. / В.А.Ракитина, Е.Н.Рыжанкова. – Ростов н/Д: Феникс, 2006г.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суждено                                                                Согласовано                                       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 заседании МО                                                   зам. директора по УР    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токол № 1                                                             ________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   29.08.2016г.                                                        Парамонова З.П.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ководитель МО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 Иващенко Н.Г.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комендации по составлению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лендарно-тематического планирования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оответствии с требованиями ФГОС НОО, ФГОС НОО обучающихся с ОВЗ и ФГОС образования обучающихся с умственной отсталостью (интеллектуальными нарушениями) программы отдельных учебных предметов, курсов должны содержать тематическое планирование с определением основных видов учебной деятельности обучающихся.</a:t>
            </a:r>
            <a:br>
              <a:rPr sz="1800"/>
            </a:br>
            <a:endParaRPr b="0" lang="en-US" sz="1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1434960" y="3285720"/>
            <a:ext cx="7499520" cy="296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чностные и предметные результаты освоения учебного предмета планируются на основе ФГОС НОО обучающихся с ОВЗ и с учетом: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озрастной группы (класса), для которого составляется КТП;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уровня развития учащихся данного класса;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изучаемой темы или раздела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graphicFrame>
        <p:nvGraphicFramePr>
          <p:cNvPr id="364" name="Object 2"/>
          <p:cNvGraphicFramePr/>
          <p:nvPr/>
        </p:nvGraphicFramePr>
        <p:xfrm>
          <a:off x="1523880" y="1000080"/>
          <a:ext cx="7344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000080"/>
                    <a:ext cx="7344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graphicFrame>
        <p:nvGraphicFramePr>
          <p:cNvPr id="367" name="Object 2"/>
          <p:cNvGraphicFramePr/>
          <p:nvPr/>
        </p:nvGraphicFramePr>
        <p:xfrm>
          <a:off x="1000080" y="714240"/>
          <a:ext cx="7996320" cy="5929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0080" y="714240"/>
                    <a:ext cx="7996320" cy="592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1434960" y="500040"/>
            <a:ext cx="7499520" cy="574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graphicFrame>
        <p:nvGraphicFramePr>
          <p:cNvPr id="371" name="Object 3"/>
          <p:cNvGraphicFramePr/>
          <p:nvPr/>
        </p:nvGraphicFramePr>
        <p:xfrm>
          <a:off x="1071720" y="571680"/>
          <a:ext cx="7858080" cy="571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571680"/>
                    <a:ext cx="785808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 txBox="1"/>
          <p:nvPr/>
        </p:nvSpPr>
        <p:spPr>
          <a:xfrm>
            <a:off x="1000080" y="571680"/>
            <a:ext cx="7686720" cy="555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составлении рабочей программы педагог учитывает: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бования ФГОС;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цепцию образовательного учреждения, его целевые ориентиры;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овательные потребности семьи и ребенка;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ируемые результаты освоения основной образовательной программы начального общего образования: обязательный минимум и максимальный объем содержания учебного курса;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ъем часов учебной нагрузки, определенного учебным планом образовательного учреждения для реализации учебных предметов;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овень профессиональной компетентности;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енности учащихся класса;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риально-техническое обеспечение образовательного учреждения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1071360" y="285840"/>
            <a:ext cx="7862760" cy="62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graphicFrame>
        <p:nvGraphicFramePr>
          <p:cNvPr id="375" name="Object 3"/>
          <p:cNvGraphicFramePr/>
          <p:nvPr/>
        </p:nvGraphicFramePr>
        <p:xfrm>
          <a:off x="857160" y="285840"/>
          <a:ext cx="8001000" cy="5786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57160" y="285840"/>
                    <a:ext cx="8001000" cy="578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а оценки достижения обучающимися с умственной отсталостью планируемых результатов освоения адаптированной основной образовательной программы общего образования</a:t>
            </a:r>
            <a:br>
              <a:rPr sz="1800"/>
            </a:br>
            <a:endParaRPr b="0" lang="en-US" sz="1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1071360" y="1285560"/>
            <a:ext cx="786276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оответствии с требования ФГОС для обучающихся с умственной отсталостью оценке подлежат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чностные и предметные результаты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ценка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личностных результатов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дет осуществляться на основании применения метода экспертной оценки, членами ПМПК школы.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ультаты анализа предоставляются в форме условных единиц: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 баллов – нет продвижения;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балл – минимальное продвижение;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балла – среднее продвижение;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балла – значительное продвижение.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ультаты оценки личностных достижений заносятся в индивидуальную карту развития обучающегося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434960" y="-28800"/>
            <a:ext cx="7499520" cy="68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857160" y="214200"/>
            <a:ext cx="8143920" cy="642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метные результаты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язаны с овладением обучающимися содержанием каждой образовательной области и характеризуют достижения обучающихся в усвоении знаний и умений, способность их применять в практической деятельности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оответствии с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кальным актом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колы 5- бальная шкала оценивания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чинается со второго полугодия 2-го класса (для программы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арианта №1)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ервом классе, а также в течение первого полугодия второго класса используется только качественная оценка.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АСИБО 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ВНИМАНИЕ!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Прямоугольник 3"/>
          <p:cNvSpPr/>
          <p:nvPr/>
        </p:nvSpPr>
        <p:spPr>
          <a:xfrm>
            <a:off x="928800" y="714240"/>
            <a:ext cx="77864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комендации по составлению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чих программам учебных предметов, курсов в соответствии с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бованиями ФГОС НОО обучающихся с ограниченными возможностям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оровья и ФГОС образования обучающихся с умственной отсталостью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9" name="Picture 23" descr=""/>
          <p:cNvPicPr/>
          <p:nvPr/>
        </p:nvPicPr>
        <p:blipFill>
          <a:blip r:embed="rId1"/>
          <a:stretch/>
        </p:blipFill>
        <p:spPr>
          <a:xfrm>
            <a:off x="4546440" y="3209760"/>
            <a:ext cx="2076480" cy="20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Прямоугольник 2"/>
          <p:cNvSpPr/>
          <p:nvPr/>
        </p:nvSpPr>
        <p:spPr>
          <a:xfrm>
            <a:off x="1000080" y="500040"/>
            <a:ext cx="785808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раммы учебных предметов, коррекционных курсов должны    содержать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пояснительную записку, в которой конкретизируются общие цел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ования с учетом специфики учебного предмета, коррекционного курса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общую характеристику учебного предмета, коррекционного курса с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том особенностей его освоения обучающимися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описание места учебного предмета в учебном плане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личностные и предметные результаты освоения учебного предмета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рекционного курса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) содержание учебного предмета, коррекционного курса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) тематическое планирование с определением основных видов учебной деятельности обучающихся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) описание материально-технического обеспечения образовательной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Прямоугольник 2"/>
          <p:cNvSpPr/>
          <p:nvPr/>
        </p:nvSpPr>
        <p:spPr>
          <a:xfrm>
            <a:off x="1000080" y="714240"/>
            <a:ext cx="74296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яснительная записка конкретизирует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рмативные акты и учебно-методические документы, на основании которых разработана рабочая программа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ль учебного курса, предмета в достижении обучающимися с ОВЗ планируемых результатов освоения основной образовательной программы школы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боснование выбора содержания части программы по учебному предмету, формируемой участниками образовательных отношений/компонента образовательной организаци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1071360" y="213840"/>
            <a:ext cx="7615080" cy="591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95560" indent="-228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ая характеристика учебного предмета, курса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95560" indent="-228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9556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данном разделе раскрывается роль и значимость предмета с точки зрения целей образования категории обучающихся с ОВЗ (с опорой на концепцию Стандартов специального образования), современных требований к результатам освоения АООП.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9556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азывается преемственность при изучении данного предмета, курса в начальной и основной школе, расставляются акценты в осуществлении связи обучения по предмету с практикой и с актуальными проблемами социализации и дальнейшей социальной адаптации лиц с ОВЗ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95560" indent="-228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Прямоугольник 2"/>
          <p:cNvSpPr/>
          <p:nvPr/>
        </p:nvSpPr>
        <p:spPr>
          <a:xfrm>
            <a:off x="1143000" y="612720"/>
            <a:ext cx="75722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исание места учебного предмета, курса в учебном план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нный раздел предполагает указание классов, в которых планируется освоение данной рабочей программы, и количества часов, выделенных на освоение программы, а также разделение на инвариантную и вариативную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формируемую участниками образовательных отношений/компонент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овательной организации) части. Возможна разбивка общего количеств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сов по неделям и годам обучения в табличном виде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Прямоугольник 2"/>
          <p:cNvSpPr/>
          <p:nvPr/>
        </p:nvSpPr>
        <p:spPr>
          <a:xfrm>
            <a:off x="1071720" y="642960"/>
            <a:ext cx="778644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чностные, метапредметные и предметные результаты освоения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кретного учебного предмета, курс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данном разделе отражаются личностные, метапредметные и предметные результаты освоения учебного предмета, согласующиеся с поставленными ранее целями освоения рабочей программы. Результаты отражают как общие (общественные и государственные), так и особые (для данной категории обучающихся с ОВЗ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овательные потребности, сформулированы в деятельностной форме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бходимо показать связь планируемых образовательных результатов с достижением коррекционных целей образования в ходе освоения содержания учебного предмета обучающимися с ОВЗ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7T18:40:18Z</dcterms:created>
  <dc:creator>Admin</dc:creator>
  <dc:description/>
  <dc:language>en-US</dc:language>
  <cp:lastModifiedBy>Windows User</cp:lastModifiedBy>
  <dcterms:modified xsi:type="dcterms:W3CDTF">2018-04-08T16:08:21Z</dcterms:modified>
  <cp:revision>146</cp:revision>
  <dc:subject/>
  <dc:title>Структура рабочей программы по учебным предметам для обучающихся с ОВЗ</dc:title>
</cp:coreProperties>
</file>