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899953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0BB-C1D6-4100-9F51-D4C1958D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810108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745080"/>
            <a:ext cx="810108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8DD-8F71-4F0C-B2B0-08050438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7450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37450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20E-5CDF-485B-9FC0-C7D4BC7D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112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15112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7450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7450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37450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617-AA39-4CD7-A989-8BBA4457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511280"/>
            <a:ext cx="810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3B6-1749-46A3-8940-4C9FD46B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810108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4F5-17F0-4E03-A901-8B7B6DEC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577-BA69-4281-AD0C-EACC31A9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3C0-F4E3-4DBA-A923-08BD276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58480"/>
            <a:ext cx="81010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68C-E197-4C11-AD11-9F70236D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7450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661-6E59-4E55-9863-1503D6D9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37450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6CF-A298-4709-B475-12CF8E63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745080"/>
            <a:ext cx="810108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B0E-051F-4CA6-A03B-993E9801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511280"/>
            <a:ext cx="810108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64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22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47640" indent="-2203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90800" indent="-2224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90800" indent="-2224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90800" indent="-2224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900760"/>
            <a:ext cx="2100240" cy="450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lstStyle>
            <a:lvl1pPr indent="0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900760"/>
            <a:ext cx="2850840" cy="450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lstStyle>
            <a:lvl1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5900760"/>
            <a:ext cx="2100240" cy="450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245AF37A-BD03-4F7B-82BB-D9C9F783D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61440" y="5904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001080" cy="6480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88560" rIns="885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. Ильф, Е. Петров «12 стуль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...Остап повернулся спиной к кафедре и с усмешкой стал рассматривать своих конкурентов. Был разгар аукциона. Свободных мест уже не было. Как раз позади Остапа, дама, переговорив с мужем, польстилась на сту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Чудесные полукресла!Дивная работа!Соня!Из дворца же!»-и подняла р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Сто сорок пять, в пятом ряду справа. -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л потух. Слишком до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432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177480"/>
            <a:ext cx="9001080" cy="60865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ривести дроби к наименьшему общему знаменателю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10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7956720" y="5832360"/>
            <a:ext cx="709560" cy="411120"/>
          </a:xfrm>
          <a:custGeom>
            <a:avLst/>
            <a:gdLst>
              <a:gd name="textAreaLeft" fmla="*/ 26640 w 709560"/>
              <a:gd name="textAreaRight" fmla="*/ 682920 w 70956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37266" h="21600">
                <a:moveTo>
                  <a:pt x="0" y="0"/>
                </a:moveTo>
                <a:lnTo>
                  <a:pt x="37266" y="0"/>
                </a:lnTo>
                <a:lnTo>
                  <a:pt x="37266" y="21600"/>
                </a:lnTo>
                <a:lnTo>
                  <a:pt x="0" y="21600"/>
                </a:lnTo>
                <a:close/>
              </a:path>
              <a:path fill="lightenLess" w="37266" h="21600">
                <a:moveTo>
                  <a:pt x="0" y="0"/>
                </a:moveTo>
                <a:lnTo>
                  <a:pt x="37266" y="0"/>
                </a:lnTo>
                <a:lnTo>
                  <a:pt x="35866" y="1400"/>
                </a:lnTo>
                <a:lnTo>
                  <a:pt x="1400" y="1400"/>
                </a:lnTo>
                <a:close/>
              </a:path>
              <a:path fill="darken" w="37266" h="21600">
                <a:moveTo>
                  <a:pt x="37266" y="0"/>
                </a:moveTo>
                <a:lnTo>
                  <a:pt x="37266" y="21600"/>
                </a:lnTo>
                <a:lnTo>
                  <a:pt x="35866" y="20200"/>
                </a:lnTo>
                <a:lnTo>
                  <a:pt x="35866" y="1400"/>
                </a:lnTo>
                <a:close/>
              </a:path>
              <a:path fill="darkenLess" w="37266" h="21600">
                <a:moveTo>
                  <a:pt x="37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66" y="20200"/>
                </a:lnTo>
                <a:close/>
              </a:path>
              <a:path fill="lighten" w="37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66" h="21600">
                <a:moveTo>
                  <a:pt x="11627" y="7493"/>
                </a:moveTo>
                <a:lnTo>
                  <a:pt x="15134" y="7493"/>
                </a:lnTo>
                <a:lnTo>
                  <a:pt x="15134" y="12828"/>
                </a:lnTo>
                <a:cubicBezTo>
                  <a:pt x="15134" y="13751"/>
                  <a:pt x="15935" y="14482"/>
                  <a:pt x="16971" y="14482"/>
                </a:cubicBezTo>
                <a:lnTo>
                  <a:pt x="18633" y="14482"/>
                </a:lnTo>
                <a:cubicBezTo>
                  <a:pt x="19669" y="14482"/>
                  <a:pt x="20470" y="13751"/>
                  <a:pt x="20470" y="12828"/>
                </a:cubicBezTo>
                <a:lnTo>
                  <a:pt x="20470" y="7493"/>
                </a:lnTo>
                <a:lnTo>
                  <a:pt x="18633" y="7493"/>
                </a:lnTo>
                <a:lnTo>
                  <a:pt x="22141" y="3985"/>
                </a:lnTo>
                <a:lnTo>
                  <a:pt x="25814" y="7493"/>
                </a:lnTo>
                <a:lnTo>
                  <a:pt x="23977" y="7493"/>
                </a:lnTo>
                <a:lnTo>
                  <a:pt x="23977" y="12828"/>
                </a:lnTo>
                <a:cubicBezTo>
                  <a:pt x="23977" y="15596"/>
                  <a:pt x="21401" y="18155"/>
                  <a:pt x="18633" y="18155"/>
                </a:cubicBezTo>
                <a:lnTo>
                  <a:pt x="16971" y="18155"/>
                </a:lnTo>
                <a:cubicBezTo>
                  <a:pt x="14203" y="18155"/>
                  <a:pt x="11627" y="15596"/>
                  <a:pt x="1162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1511280"/>
            <a:ext cx="822672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риведите дроби         и       к наименьшему общему знаменателю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Какие дроби сократимые, а какие - несократимые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825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825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825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932360" y="1224000"/>
                <a:ext cx="425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7813800" y="5832360"/>
            <a:ext cx="709560" cy="408240"/>
          </a:xfrm>
          <a:custGeom>
            <a:avLst/>
            <a:gdLst>
              <a:gd name="textAreaLeft" fmla="*/ 26280 w 709560"/>
              <a:gd name="textAreaRight" fmla="*/ 683280 w 70956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37529" h="21600">
                <a:moveTo>
                  <a:pt x="0" y="0"/>
                </a:moveTo>
                <a:lnTo>
                  <a:pt x="37529" y="0"/>
                </a:lnTo>
                <a:lnTo>
                  <a:pt x="37529" y="21600"/>
                </a:lnTo>
                <a:lnTo>
                  <a:pt x="0" y="21600"/>
                </a:lnTo>
                <a:close/>
              </a:path>
              <a:path fill="lightenLess" w="37529" h="21600">
                <a:moveTo>
                  <a:pt x="0" y="0"/>
                </a:moveTo>
                <a:lnTo>
                  <a:pt x="37529" y="0"/>
                </a:lnTo>
                <a:lnTo>
                  <a:pt x="36129" y="1400"/>
                </a:lnTo>
                <a:lnTo>
                  <a:pt x="1400" y="1400"/>
                </a:lnTo>
                <a:close/>
              </a:path>
              <a:path fill="darken" w="37529" h="21600">
                <a:moveTo>
                  <a:pt x="37529" y="0"/>
                </a:moveTo>
                <a:lnTo>
                  <a:pt x="37529" y="21600"/>
                </a:lnTo>
                <a:lnTo>
                  <a:pt x="36129" y="20200"/>
                </a:lnTo>
                <a:lnTo>
                  <a:pt x="36129" y="1400"/>
                </a:lnTo>
                <a:close/>
              </a:path>
              <a:path fill="darkenLess" w="37529" h="21600">
                <a:moveTo>
                  <a:pt x="37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29" y="20200"/>
                </a:lnTo>
                <a:close/>
              </a:path>
              <a:path fill="lighten" w="37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29" h="21600">
                <a:moveTo>
                  <a:pt x="11758" y="7493"/>
                </a:moveTo>
                <a:lnTo>
                  <a:pt x="15266" y="7493"/>
                </a:lnTo>
                <a:lnTo>
                  <a:pt x="15266" y="12828"/>
                </a:lnTo>
                <a:cubicBezTo>
                  <a:pt x="15266" y="13751"/>
                  <a:pt x="16066" y="14482"/>
                  <a:pt x="17102" y="14482"/>
                </a:cubicBezTo>
                <a:lnTo>
                  <a:pt x="18764" y="14482"/>
                </a:lnTo>
                <a:cubicBezTo>
                  <a:pt x="19800" y="14482"/>
                  <a:pt x="20601" y="13751"/>
                  <a:pt x="20601" y="12828"/>
                </a:cubicBezTo>
                <a:lnTo>
                  <a:pt x="20601" y="7493"/>
                </a:lnTo>
                <a:lnTo>
                  <a:pt x="18764" y="7493"/>
                </a:lnTo>
                <a:lnTo>
                  <a:pt x="22272" y="3985"/>
                </a:lnTo>
                <a:lnTo>
                  <a:pt x="25945" y="7493"/>
                </a:lnTo>
                <a:lnTo>
                  <a:pt x="24108" y="7493"/>
                </a:lnTo>
                <a:lnTo>
                  <a:pt x="24108" y="12828"/>
                </a:lnTo>
                <a:cubicBezTo>
                  <a:pt x="24108" y="15596"/>
                  <a:pt x="21532" y="18155"/>
                  <a:pt x="18764" y="18155"/>
                </a:cubicBezTo>
                <a:lnTo>
                  <a:pt x="17102" y="18155"/>
                </a:lnTo>
                <a:cubicBezTo>
                  <a:pt x="14334" y="18155"/>
                  <a:pt x="11758" y="15596"/>
                  <a:pt x="1175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13440" y="1440000"/>
                <a:ext cx="5684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77480"/>
            <a:ext cx="8632800" cy="60865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число называют дополнительным множителем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 его найт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Сформулируйте основное свойство дроби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8151840" y="5832360"/>
            <a:ext cx="849240" cy="408240"/>
          </a:xfrm>
          <a:custGeom>
            <a:avLst/>
            <a:gdLst>
              <a:gd name="textAreaLeft" fmla="*/ 26280 w 849240"/>
              <a:gd name="textAreaRight" fmla="*/ 822960 w 84924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44913" h="21600">
                <a:moveTo>
                  <a:pt x="0" y="0"/>
                </a:moveTo>
                <a:lnTo>
                  <a:pt x="44913" y="0"/>
                </a:lnTo>
                <a:lnTo>
                  <a:pt x="44913" y="21600"/>
                </a:lnTo>
                <a:lnTo>
                  <a:pt x="0" y="21600"/>
                </a:lnTo>
                <a:close/>
              </a:path>
              <a:path fill="lightenLess" w="44913" h="21600">
                <a:moveTo>
                  <a:pt x="0" y="0"/>
                </a:moveTo>
                <a:lnTo>
                  <a:pt x="44913" y="0"/>
                </a:lnTo>
                <a:lnTo>
                  <a:pt x="43513" y="1400"/>
                </a:lnTo>
                <a:lnTo>
                  <a:pt x="1400" y="1400"/>
                </a:lnTo>
                <a:close/>
              </a:path>
              <a:path fill="darken" w="44913" h="21600">
                <a:moveTo>
                  <a:pt x="44913" y="0"/>
                </a:moveTo>
                <a:lnTo>
                  <a:pt x="44913" y="21600"/>
                </a:lnTo>
                <a:lnTo>
                  <a:pt x="43513" y="20200"/>
                </a:lnTo>
                <a:lnTo>
                  <a:pt x="43513" y="1400"/>
                </a:lnTo>
                <a:close/>
              </a:path>
              <a:path fill="darkenLess" w="44913" h="21600">
                <a:moveTo>
                  <a:pt x="44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13" y="20200"/>
                </a:lnTo>
                <a:close/>
              </a:path>
              <a:path fill="lighten" w="44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13" h="21600">
                <a:moveTo>
                  <a:pt x="15450" y="7493"/>
                </a:moveTo>
                <a:lnTo>
                  <a:pt x="18957" y="7493"/>
                </a:lnTo>
                <a:lnTo>
                  <a:pt x="18957" y="12828"/>
                </a:lnTo>
                <a:cubicBezTo>
                  <a:pt x="18957" y="13751"/>
                  <a:pt x="19758" y="14482"/>
                  <a:pt x="20794" y="14482"/>
                </a:cubicBezTo>
                <a:lnTo>
                  <a:pt x="22456" y="14482"/>
                </a:lnTo>
                <a:cubicBezTo>
                  <a:pt x="23492" y="14482"/>
                  <a:pt x="24293" y="13751"/>
                  <a:pt x="24293" y="12828"/>
                </a:cubicBezTo>
                <a:lnTo>
                  <a:pt x="24293" y="7493"/>
                </a:lnTo>
                <a:lnTo>
                  <a:pt x="22456" y="7493"/>
                </a:lnTo>
                <a:lnTo>
                  <a:pt x="25964" y="3985"/>
                </a:lnTo>
                <a:lnTo>
                  <a:pt x="29637" y="7493"/>
                </a:lnTo>
                <a:lnTo>
                  <a:pt x="27800" y="7493"/>
                </a:lnTo>
                <a:lnTo>
                  <a:pt x="27800" y="12828"/>
                </a:lnTo>
                <a:cubicBezTo>
                  <a:pt x="27800" y="15596"/>
                  <a:pt x="25224" y="18155"/>
                  <a:pt x="22456" y="18155"/>
                </a:cubicBezTo>
                <a:lnTo>
                  <a:pt x="20794" y="18155"/>
                </a:lnTo>
                <a:cubicBezTo>
                  <a:pt x="18026" y="18155"/>
                  <a:pt x="15450" y="15596"/>
                  <a:pt x="1545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001080" cy="6480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10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885080" y="5832360"/>
            <a:ext cx="849240" cy="408240"/>
          </a:xfrm>
          <a:custGeom>
            <a:avLst/>
            <a:gdLst>
              <a:gd name="textAreaLeft" fmla="*/ 26280 w 849240"/>
              <a:gd name="textAreaRight" fmla="*/ 822960 w 84924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44913" h="21600">
                <a:moveTo>
                  <a:pt x="0" y="0"/>
                </a:moveTo>
                <a:lnTo>
                  <a:pt x="44913" y="0"/>
                </a:lnTo>
                <a:lnTo>
                  <a:pt x="44913" y="21600"/>
                </a:lnTo>
                <a:lnTo>
                  <a:pt x="0" y="21600"/>
                </a:lnTo>
                <a:close/>
              </a:path>
              <a:path fill="lightenLess" w="44913" h="21600">
                <a:moveTo>
                  <a:pt x="0" y="0"/>
                </a:moveTo>
                <a:lnTo>
                  <a:pt x="44913" y="0"/>
                </a:lnTo>
                <a:lnTo>
                  <a:pt x="43513" y="1400"/>
                </a:lnTo>
                <a:lnTo>
                  <a:pt x="1400" y="1400"/>
                </a:lnTo>
                <a:close/>
              </a:path>
              <a:path fill="darken" w="44913" h="21600">
                <a:moveTo>
                  <a:pt x="44913" y="0"/>
                </a:moveTo>
                <a:lnTo>
                  <a:pt x="44913" y="21600"/>
                </a:lnTo>
                <a:lnTo>
                  <a:pt x="43513" y="20200"/>
                </a:lnTo>
                <a:lnTo>
                  <a:pt x="43513" y="1400"/>
                </a:lnTo>
                <a:close/>
              </a:path>
              <a:path fill="darkenLess" w="44913" h="21600">
                <a:moveTo>
                  <a:pt x="44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13" y="20200"/>
                </a:lnTo>
                <a:close/>
              </a:path>
              <a:path fill="lighten" w="44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13" h="21600">
                <a:moveTo>
                  <a:pt x="15450" y="7493"/>
                </a:moveTo>
                <a:lnTo>
                  <a:pt x="18957" y="7493"/>
                </a:lnTo>
                <a:lnTo>
                  <a:pt x="18957" y="12828"/>
                </a:lnTo>
                <a:cubicBezTo>
                  <a:pt x="18957" y="13751"/>
                  <a:pt x="19758" y="14482"/>
                  <a:pt x="20794" y="14482"/>
                </a:cubicBezTo>
                <a:lnTo>
                  <a:pt x="22456" y="14482"/>
                </a:lnTo>
                <a:cubicBezTo>
                  <a:pt x="23492" y="14482"/>
                  <a:pt x="24293" y="13751"/>
                  <a:pt x="24293" y="12828"/>
                </a:cubicBezTo>
                <a:lnTo>
                  <a:pt x="24293" y="7493"/>
                </a:lnTo>
                <a:lnTo>
                  <a:pt x="22456" y="7493"/>
                </a:lnTo>
                <a:lnTo>
                  <a:pt x="25964" y="3985"/>
                </a:lnTo>
                <a:lnTo>
                  <a:pt x="29637" y="7493"/>
                </a:lnTo>
                <a:lnTo>
                  <a:pt x="27800" y="7493"/>
                </a:lnTo>
                <a:lnTo>
                  <a:pt x="27800" y="12828"/>
                </a:lnTo>
                <a:cubicBezTo>
                  <a:pt x="27800" y="15596"/>
                  <a:pt x="25224" y="18155"/>
                  <a:pt x="22456" y="18155"/>
                </a:cubicBezTo>
                <a:lnTo>
                  <a:pt x="20794" y="18155"/>
                </a:lnTo>
                <a:cubicBezTo>
                  <a:pt x="18026" y="18155"/>
                  <a:pt x="15450" y="15596"/>
                  <a:pt x="1545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2000" y="-360"/>
            <a:ext cx="8380440" cy="62643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SzPct val="102812"/>
              <a:buBlip>
                <a:blip r:embed="rId1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равнить дроби с разными знаменателям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74"/>
              </a:spcBef>
              <a:buSzPct val="102768"/>
              <a:buBlip>
                <a:blip r:embed="rId2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29440" y="5832360"/>
            <a:ext cx="779760" cy="476280"/>
          </a:xfrm>
          <a:custGeom>
            <a:avLst/>
            <a:gdLst>
              <a:gd name="textAreaLeft" fmla="*/ 30600 w 779760"/>
              <a:gd name="textAreaRight" fmla="*/ 749160 w 7797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353" h="21600">
                <a:moveTo>
                  <a:pt x="0" y="0"/>
                </a:moveTo>
                <a:lnTo>
                  <a:pt x="35353" y="0"/>
                </a:lnTo>
                <a:lnTo>
                  <a:pt x="35353" y="21600"/>
                </a:lnTo>
                <a:lnTo>
                  <a:pt x="0" y="21600"/>
                </a:lnTo>
                <a:close/>
              </a:path>
              <a:path fill="lightenLess" w="35353" h="21600">
                <a:moveTo>
                  <a:pt x="0" y="0"/>
                </a:moveTo>
                <a:lnTo>
                  <a:pt x="35353" y="0"/>
                </a:lnTo>
                <a:lnTo>
                  <a:pt x="33953" y="1400"/>
                </a:lnTo>
                <a:lnTo>
                  <a:pt x="1400" y="1400"/>
                </a:lnTo>
                <a:close/>
              </a:path>
              <a:path fill="darken" w="35353" h="21600">
                <a:moveTo>
                  <a:pt x="35353" y="0"/>
                </a:moveTo>
                <a:lnTo>
                  <a:pt x="35353" y="21600"/>
                </a:lnTo>
                <a:lnTo>
                  <a:pt x="33953" y="20200"/>
                </a:lnTo>
                <a:lnTo>
                  <a:pt x="33953" y="1400"/>
                </a:lnTo>
                <a:close/>
              </a:path>
              <a:path fill="darkenLess" w="35353" h="21600">
                <a:moveTo>
                  <a:pt x="35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53" y="20200"/>
                </a:lnTo>
                <a:close/>
              </a:path>
              <a:path fill="lighten" w="35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53" h="21600">
                <a:moveTo>
                  <a:pt x="10670" y="7493"/>
                </a:moveTo>
                <a:lnTo>
                  <a:pt x="14178" y="7493"/>
                </a:lnTo>
                <a:lnTo>
                  <a:pt x="14178" y="12828"/>
                </a:lnTo>
                <a:cubicBezTo>
                  <a:pt x="14178" y="13751"/>
                  <a:pt x="14978" y="14482"/>
                  <a:pt x="16014" y="14482"/>
                </a:cubicBezTo>
                <a:lnTo>
                  <a:pt x="17676" y="14482"/>
                </a:lnTo>
                <a:cubicBezTo>
                  <a:pt x="18712" y="14482"/>
                  <a:pt x="19513" y="13751"/>
                  <a:pt x="19513" y="12828"/>
                </a:cubicBezTo>
                <a:lnTo>
                  <a:pt x="19513" y="7493"/>
                </a:lnTo>
                <a:lnTo>
                  <a:pt x="17676" y="7493"/>
                </a:lnTo>
                <a:lnTo>
                  <a:pt x="21184" y="3985"/>
                </a:lnTo>
                <a:lnTo>
                  <a:pt x="24857" y="7493"/>
                </a:lnTo>
                <a:lnTo>
                  <a:pt x="23021" y="7493"/>
                </a:lnTo>
                <a:lnTo>
                  <a:pt x="23021" y="12828"/>
                </a:lnTo>
                <a:cubicBezTo>
                  <a:pt x="23021" y="15596"/>
                  <a:pt x="20444" y="18155"/>
                  <a:pt x="17676" y="18155"/>
                </a:cubicBezTo>
                <a:lnTo>
                  <a:pt x="16014" y="18155"/>
                </a:lnTo>
                <a:cubicBezTo>
                  <a:pt x="13246" y="18155"/>
                  <a:pt x="10670" y="15596"/>
                  <a:pt x="1067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2360" y="0"/>
            <a:ext cx="8569440" cy="6192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SzPct val="102865"/>
              <a:buBlip>
                <a:blip r:embed="rId1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дроби сократимые, а какие - несократимые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сравнить дроби с разными знаменателям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10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13800" y="5761080"/>
            <a:ext cx="849240" cy="341280"/>
          </a:xfrm>
          <a:custGeom>
            <a:avLst/>
            <a:gdLst>
              <a:gd name="textAreaLeft" fmla="*/ 21960 w 849240"/>
              <a:gd name="textAreaRight" fmla="*/ 827280 w 849240"/>
              <a:gd name="textAreaTop" fmla="*/ 21960 h 341280"/>
              <a:gd name="textAreaBottom" fmla="*/ 319320 h 341280"/>
            </a:gdLst>
            <a:ahLst/>
            <a:rect l="textAreaLeft" t="textAreaTop" r="textAreaRight" b="textAreaBottom"/>
            <a:pathLst>
              <a:path w="53715" h="21600">
                <a:moveTo>
                  <a:pt x="0" y="0"/>
                </a:moveTo>
                <a:lnTo>
                  <a:pt x="53715" y="0"/>
                </a:lnTo>
                <a:lnTo>
                  <a:pt x="53715" y="21600"/>
                </a:lnTo>
                <a:lnTo>
                  <a:pt x="0" y="21600"/>
                </a:lnTo>
                <a:close/>
              </a:path>
              <a:path fill="lightenLess" w="53715" h="21600">
                <a:moveTo>
                  <a:pt x="0" y="0"/>
                </a:moveTo>
                <a:lnTo>
                  <a:pt x="53715" y="0"/>
                </a:lnTo>
                <a:lnTo>
                  <a:pt x="52315" y="1400"/>
                </a:lnTo>
                <a:lnTo>
                  <a:pt x="1400" y="1400"/>
                </a:lnTo>
                <a:close/>
              </a:path>
              <a:path fill="darken" w="53715" h="21600">
                <a:moveTo>
                  <a:pt x="53715" y="0"/>
                </a:moveTo>
                <a:lnTo>
                  <a:pt x="53715" y="21600"/>
                </a:lnTo>
                <a:lnTo>
                  <a:pt x="52315" y="20200"/>
                </a:lnTo>
                <a:lnTo>
                  <a:pt x="52315" y="1400"/>
                </a:lnTo>
                <a:close/>
              </a:path>
              <a:path fill="darkenLess" w="53715" h="21600">
                <a:moveTo>
                  <a:pt x="53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15" y="20200"/>
                </a:lnTo>
                <a:close/>
              </a:path>
              <a:path fill="lighten" w="53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15" h="21600">
                <a:moveTo>
                  <a:pt x="19851" y="7493"/>
                </a:moveTo>
                <a:lnTo>
                  <a:pt x="23359" y="7493"/>
                </a:lnTo>
                <a:lnTo>
                  <a:pt x="23359" y="12828"/>
                </a:lnTo>
                <a:cubicBezTo>
                  <a:pt x="23359" y="13751"/>
                  <a:pt x="24160" y="14482"/>
                  <a:pt x="25195" y="14482"/>
                </a:cubicBezTo>
                <a:lnTo>
                  <a:pt x="26858" y="14482"/>
                </a:lnTo>
                <a:cubicBezTo>
                  <a:pt x="27893" y="14482"/>
                  <a:pt x="28694" y="13751"/>
                  <a:pt x="28694" y="12828"/>
                </a:cubicBezTo>
                <a:lnTo>
                  <a:pt x="28694" y="7493"/>
                </a:lnTo>
                <a:lnTo>
                  <a:pt x="26858" y="7493"/>
                </a:lnTo>
                <a:lnTo>
                  <a:pt x="30365" y="3985"/>
                </a:lnTo>
                <a:lnTo>
                  <a:pt x="34038" y="7493"/>
                </a:lnTo>
                <a:lnTo>
                  <a:pt x="32202" y="7493"/>
                </a:lnTo>
                <a:lnTo>
                  <a:pt x="32202" y="12828"/>
                </a:lnTo>
                <a:cubicBezTo>
                  <a:pt x="32202" y="15596"/>
                  <a:pt x="29626" y="18155"/>
                  <a:pt x="26858" y="18155"/>
                </a:cubicBezTo>
                <a:lnTo>
                  <a:pt x="25195" y="18155"/>
                </a:lnTo>
                <a:cubicBezTo>
                  <a:pt x="22428" y="18155"/>
                  <a:pt x="19851" y="15596"/>
                  <a:pt x="198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001080" cy="6480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3800" y="5832360"/>
            <a:ext cx="850680" cy="408240"/>
          </a:xfrm>
          <a:custGeom>
            <a:avLst/>
            <a:gdLst>
              <a:gd name="textAreaLeft" fmla="*/ 26280 w 850680"/>
              <a:gd name="textAreaRight" fmla="*/ 824400 w 85068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44989" h="21600">
                <a:moveTo>
                  <a:pt x="0" y="0"/>
                </a:moveTo>
                <a:lnTo>
                  <a:pt x="44989" y="0"/>
                </a:lnTo>
                <a:lnTo>
                  <a:pt x="44989" y="21600"/>
                </a:lnTo>
                <a:lnTo>
                  <a:pt x="0" y="21600"/>
                </a:lnTo>
                <a:close/>
              </a:path>
              <a:path fill="lightenLess" w="44989" h="21600">
                <a:moveTo>
                  <a:pt x="0" y="0"/>
                </a:moveTo>
                <a:lnTo>
                  <a:pt x="44989" y="0"/>
                </a:lnTo>
                <a:lnTo>
                  <a:pt x="43589" y="1400"/>
                </a:lnTo>
                <a:lnTo>
                  <a:pt x="1400" y="1400"/>
                </a:lnTo>
                <a:close/>
              </a:path>
              <a:path fill="darken" w="44989" h="21600">
                <a:moveTo>
                  <a:pt x="44989" y="0"/>
                </a:moveTo>
                <a:lnTo>
                  <a:pt x="44989" y="21600"/>
                </a:lnTo>
                <a:lnTo>
                  <a:pt x="43589" y="20200"/>
                </a:lnTo>
                <a:lnTo>
                  <a:pt x="43589" y="1400"/>
                </a:lnTo>
                <a:close/>
              </a:path>
              <a:path fill="darkenLess" w="44989" h="21600">
                <a:moveTo>
                  <a:pt x="44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9" y="20200"/>
                </a:lnTo>
                <a:close/>
              </a:path>
              <a:path fill="lighten" w="44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89" h="21600">
                <a:moveTo>
                  <a:pt x="15488" y="7493"/>
                </a:moveTo>
                <a:lnTo>
                  <a:pt x="18996" y="7493"/>
                </a:lnTo>
                <a:lnTo>
                  <a:pt x="18996" y="12828"/>
                </a:lnTo>
                <a:cubicBezTo>
                  <a:pt x="18996" y="13751"/>
                  <a:pt x="19796" y="14482"/>
                  <a:pt x="20832" y="14482"/>
                </a:cubicBezTo>
                <a:lnTo>
                  <a:pt x="22494" y="14482"/>
                </a:lnTo>
                <a:cubicBezTo>
                  <a:pt x="23530" y="14482"/>
                  <a:pt x="24331" y="13751"/>
                  <a:pt x="24331" y="12828"/>
                </a:cubicBezTo>
                <a:lnTo>
                  <a:pt x="24331" y="7493"/>
                </a:lnTo>
                <a:lnTo>
                  <a:pt x="22494" y="7493"/>
                </a:lnTo>
                <a:lnTo>
                  <a:pt x="26002" y="3985"/>
                </a:lnTo>
                <a:lnTo>
                  <a:pt x="29675" y="7493"/>
                </a:lnTo>
                <a:lnTo>
                  <a:pt x="27839" y="7493"/>
                </a:lnTo>
                <a:lnTo>
                  <a:pt x="27839" y="12828"/>
                </a:lnTo>
                <a:cubicBezTo>
                  <a:pt x="27839" y="15596"/>
                  <a:pt x="25262" y="18155"/>
                  <a:pt x="22494" y="18155"/>
                </a:cubicBezTo>
                <a:lnTo>
                  <a:pt x="20832" y="18155"/>
                </a:lnTo>
                <a:cubicBezTo>
                  <a:pt x="18064" y="18155"/>
                  <a:pt x="15488" y="15596"/>
                  <a:pt x="1548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001080" cy="6480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Сто сорок пять. Д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стап равнодушно рассматривал лепной карниз. Ипполит Матвеевич сидел, опустив голову и вздрагив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Сто сорок пять. Т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Но прежде, чем черный лакированный молоток ударился о фанерную фанеру, Остап повернулся, выбросил вверх руку и негромко сказал: - Две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Продано, - сказал аукцион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96160" y="5977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0.0)">
                                      <p:cBhvr>
                                        <p:cTn id="1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8360" y="5904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642520" cy="6480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укцио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лат. 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cti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-продажа с публичного торга, способ продажи некоторых товаров, при котором товар предварительно выставляется для осмо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укциони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человек, проводящий аукци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артовая це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цена на лот, устанавливаемая до начала аукц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ор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роцедура прода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аукцио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продать вещи как можно дор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от № 1,..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единица товара, выставляемого на прод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75.0)">
                                      <p:cBhvr>
                                        <p:cTn id="1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784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303640" y="44928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570560" y="194616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2303640" y="174312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03640" y="310356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0560" y="324000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351144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215100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6804000" y="85716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4570560" y="65412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83212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0" y="153828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6360" y="216000"/>
            <a:ext cx="8101080" cy="59198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0360" y="0"/>
            <a:ext cx="8550360" cy="6480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равнить дроби с разными знаменателям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318960" y="5826240"/>
            <a:ext cx="495360" cy="271440"/>
          </a:xfrm>
          <a:custGeom>
            <a:avLst/>
            <a:gdLst>
              <a:gd name="textAreaLeft" fmla="*/ 17280 w 495360"/>
              <a:gd name="textAreaRight" fmla="*/ 478080 w 495360"/>
              <a:gd name="textAreaTop" fmla="*/ 17280 h 271440"/>
              <a:gd name="textAreaBottom" fmla="*/ 254160 h 271440"/>
            </a:gdLst>
            <a:ahLst/>
            <a:rect l="textAreaLeft" t="textAreaTop" r="textAreaRight" b="textAreaBottom"/>
            <a:pathLst>
              <a:path w="39395" h="21600">
                <a:moveTo>
                  <a:pt x="0" y="0"/>
                </a:moveTo>
                <a:lnTo>
                  <a:pt x="39395" y="0"/>
                </a:lnTo>
                <a:lnTo>
                  <a:pt x="39395" y="21600"/>
                </a:lnTo>
                <a:lnTo>
                  <a:pt x="0" y="21600"/>
                </a:lnTo>
                <a:close/>
              </a:path>
              <a:path fill="lightenLess" w="39395" h="21600">
                <a:moveTo>
                  <a:pt x="0" y="0"/>
                </a:moveTo>
                <a:lnTo>
                  <a:pt x="39395" y="0"/>
                </a:lnTo>
                <a:lnTo>
                  <a:pt x="37995" y="1400"/>
                </a:lnTo>
                <a:lnTo>
                  <a:pt x="1400" y="1400"/>
                </a:lnTo>
                <a:close/>
              </a:path>
              <a:path fill="darken" w="39395" h="21600">
                <a:moveTo>
                  <a:pt x="39395" y="0"/>
                </a:moveTo>
                <a:lnTo>
                  <a:pt x="39395" y="21600"/>
                </a:lnTo>
                <a:lnTo>
                  <a:pt x="37995" y="20200"/>
                </a:lnTo>
                <a:lnTo>
                  <a:pt x="37995" y="1400"/>
                </a:lnTo>
                <a:close/>
              </a:path>
              <a:path fill="darkenLess" w="39395" h="21600">
                <a:moveTo>
                  <a:pt x="39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95" y="20200"/>
                </a:lnTo>
                <a:close/>
              </a:path>
              <a:path fill="lighten" w="39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95" h="21600">
                <a:moveTo>
                  <a:pt x="12691" y="7493"/>
                </a:moveTo>
                <a:lnTo>
                  <a:pt x="16199" y="7493"/>
                </a:lnTo>
                <a:lnTo>
                  <a:pt x="16199" y="12828"/>
                </a:lnTo>
                <a:cubicBezTo>
                  <a:pt x="16199" y="13751"/>
                  <a:pt x="16999" y="14482"/>
                  <a:pt x="18035" y="14482"/>
                </a:cubicBezTo>
                <a:lnTo>
                  <a:pt x="19697" y="14482"/>
                </a:lnTo>
                <a:cubicBezTo>
                  <a:pt x="20733" y="14482"/>
                  <a:pt x="21534" y="13751"/>
                  <a:pt x="21534" y="12828"/>
                </a:cubicBezTo>
                <a:lnTo>
                  <a:pt x="21534" y="7493"/>
                </a:lnTo>
                <a:lnTo>
                  <a:pt x="19697" y="7493"/>
                </a:lnTo>
                <a:lnTo>
                  <a:pt x="23205" y="3985"/>
                </a:lnTo>
                <a:lnTo>
                  <a:pt x="26878" y="7493"/>
                </a:lnTo>
                <a:lnTo>
                  <a:pt x="25042" y="7493"/>
                </a:lnTo>
                <a:lnTo>
                  <a:pt x="25042" y="12828"/>
                </a:lnTo>
                <a:cubicBezTo>
                  <a:pt x="25042" y="15596"/>
                  <a:pt x="22465" y="18155"/>
                  <a:pt x="19697" y="18155"/>
                </a:cubicBezTo>
                <a:lnTo>
                  <a:pt x="18035" y="18155"/>
                </a:lnTo>
                <a:cubicBezTo>
                  <a:pt x="15267" y="18155"/>
                  <a:pt x="12691" y="15596"/>
                  <a:pt x="126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313920"/>
            <a:ext cx="9001080" cy="6165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o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вычесть дроби с разными знаменателям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o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Сформулируйте основное свойство дроби. 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o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актик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8172360" y="5832360"/>
            <a:ext cx="567000" cy="341280"/>
          </a:xfrm>
          <a:custGeom>
            <a:avLst/>
            <a:gdLst>
              <a:gd name="textAreaLeft" fmla="*/ 21960 w 567000"/>
              <a:gd name="textAreaRight" fmla="*/ 545040 w 567000"/>
              <a:gd name="textAreaTop" fmla="*/ 21960 h 341280"/>
              <a:gd name="textAreaBottom" fmla="*/ 319320 h 341280"/>
            </a:gdLst>
            <a:ahLst/>
            <a:rect l="textAreaLeft" t="textAreaTop" r="textAreaRight" b="textAreaBottom"/>
            <a:pathLst>
              <a:path w="35871" h="21600">
                <a:moveTo>
                  <a:pt x="0" y="0"/>
                </a:moveTo>
                <a:lnTo>
                  <a:pt x="35871" y="0"/>
                </a:lnTo>
                <a:lnTo>
                  <a:pt x="35871" y="21600"/>
                </a:lnTo>
                <a:lnTo>
                  <a:pt x="0" y="21600"/>
                </a:lnTo>
                <a:close/>
              </a:path>
              <a:path fill="lightenLess" w="35871" h="21600">
                <a:moveTo>
                  <a:pt x="0" y="0"/>
                </a:moveTo>
                <a:lnTo>
                  <a:pt x="35871" y="0"/>
                </a:lnTo>
                <a:lnTo>
                  <a:pt x="34471" y="1400"/>
                </a:lnTo>
                <a:lnTo>
                  <a:pt x="1400" y="1400"/>
                </a:lnTo>
                <a:close/>
              </a:path>
              <a:path fill="darken" w="35871" h="21600">
                <a:moveTo>
                  <a:pt x="35871" y="0"/>
                </a:moveTo>
                <a:lnTo>
                  <a:pt x="35871" y="21600"/>
                </a:lnTo>
                <a:lnTo>
                  <a:pt x="34471" y="20200"/>
                </a:lnTo>
                <a:lnTo>
                  <a:pt x="34471" y="1400"/>
                </a:lnTo>
                <a:close/>
              </a:path>
              <a:path fill="darkenLess" w="35871" h="21600">
                <a:moveTo>
                  <a:pt x="35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71" y="20200"/>
                </a:lnTo>
                <a:close/>
              </a:path>
              <a:path fill="lighten" w="35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71" h="21600">
                <a:moveTo>
                  <a:pt x="10929" y="7493"/>
                </a:moveTo>
                <a:lnTo>
                  <a:pt x="14437" y="7493"/>
                </a:lnTo>
                <a:lnTo>
                  <a:pt x="14437" y="12828"/>
                </a:lnTo>
                <a:cubicBezTo>
                  <a:pt x="14437" y="13751"/>
                  <a:pt x="15237" y="14482"/>
                  <a:pt x="16273" y="14482"/>
                </a:cubicBezTo>
                <a:lnTo>
                  <a:pt x="17936" y="14482"/>
                </a:lnTo>
                <a:cubicBezTo>
                  <a:pt x="18971" y="14482"/>
                  <a:pt x="19772" y="13751"/>
                  <a:pt x="19772" y="12828"/>
                </a:cubicBezTo>
                <a:lnTo>
                  <a:pt x="19772" y="7493"/>
                </a:lnTo>
                <a:lnTo>
                  <a:pt x="17936" y="7493"/>
                </a:lnTo>
                <a:lnTo>
                  <a:pt x="21443" y="3985"/>
                </a:lnTo>
                <a:lnTo>
                  <a:pt x="25116" y="7493"/>
                </a:lnTo>
                <a:lnTo>
                  <a:pt x="23280" y="7493"/>
                </a:lnTo>
                <a:lnTo>
                  <a:pt x="23280" y="12828"/>
                </a:lnTo>
                <a:cubicBezTo>
                  <a:pt x="23280" y="15596"/>
                  <a:pt x="20703" y="18155"/>
                  <a:pt x="17936" y="18155"/>
                </a:cubicBezTo>
                <a:lnTo>
                  <a:pt x="16273" y="18155"/>
                </a:lnTo>
                <a:cubicBezTo>
                  <a:pt x="13505" y="18155"/>
                  <a:pt x="10929" y="15596"/>
                  <a:pt x="1092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245880"/>
            <a:ext cx="9001080" cy="60181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число называют дополнительным множителем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8172360" y="5904000"/>
            <a:ext cx="638280" cy="339480"/>
          </a:xfrm>
          <a:custGeom>
            <a:avLst/>
            <a:gdLst>
              <a:gd name="textAreaLeft" fmla="*/ 21960 w 638280"/>
              <a:gd name="textAreaRight" fmla="*/ 616320 w 638280"/>
              <a:gd name="textAreaTop" fmla="*/ 21960 h 339480"/>
              <a:gd name="textAreaBottom" fmla="*/ 317520 h 339480"/>
            </a:gdLst>
            <a:ahLst/>
            <a:rect l="textAreaLeft" t="textAreaTop" r="textAreaRight" b="textAreaBottom"/>
            <a:pathLst>
              <a:path w="40592" h="21600">
                <a:moveTo>
                  <a:pt x="0" y="0"/>
                </a:moveTo>
                <a:lnTo>
                  <a:pt x="40592" y="0"/>
                </a:lnTo>
                <a:lnTo>
                  <a:pt x="40592" y="21600"/>
                </a:lnTo>
                <a:lnTo>
                  <a:pt x="0" y="21600"/>
                </a:lnTo>
                <a:close/>
              </a:path>
              <a:path fill="lightenLess" w="40592" h="21600">
                <a:moveTo>
                  <a:pt x="0" y="0"/>
                </a:moveTo>
                <a:lnTo>
                  <a:pt x="40592" y="0"/>
                </a:lnTo>
                <a:lnTo>
                  <a:pt x="39192" y="1400"/>
                </a:lnTo>
                <a:lnTo>
                  <a:pt x="1400" y="1400"/>
                </a:lnTo>
                <a:close/>
              </a:path>
              <a:path fill="darken" w="40592" h="21600">
                <a:moveTo>
                  <a:pt x="40592" y="0"/>
                </a:moveTo>
                <a:lnTo>
                  <a:pt x="40592" y="21600"/>
                </a:lnTo>
                <a:lnTo>
                  <a:pt x="39192" y="20200"/>
                </a:lnTo>
                <a:lnTo>
                  <a:pt x="39192" y="1400"/>
                </a:lnTo>
                <a:close/>
              </a:path>
              <a:path fill="darkenLess" w="40592" h="21600">
                <a:moveTo>
                  <a:pt x="40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92" y="20200"/>
                </a:lnTo>
                <a:close/>
              </a:path>
              <a:path fill="lighten" w="40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92" h="21600">
                <a:moveTo>
                  <a:pt x="13289" y="7493"/>
                </a:moveTo>
                <a:lnTo>
                  <a:pt x="16797" y="7493"/>
                </a:lnTo>
                <a:lnTo>
                  <a:pt x="16797" y="12828"/>
                </a:lnTo>
                <a:cubicBezTo>
                  <a:pt x="16797" y="13751"/>
                  <a:pt x="17598" y="14482"/>
                  <a:pt x="18633" y="14482"/>
                </a:cubicBezTo>
                <a:lnTo>
                  <a:pt x="20296" y="14482"/>
                </a:lnTo>
                <a:cubicBezTo>
                  <a:pt x="21332" y="14482"/>
                  <a:pt x="22132" y="13751"/>
                  <a:pt x="22132" y="12828"/>
                </a:cubicBezTo>
                <a:lnTo>
                  <a:pt x="22132" y="7493"/>
                </a:lnTo>
                <a:lnTo>
                  <a:pt x="20296" y="7493"/>
                </a:lnTo>
                <a:lnTo>
                  <a:pt x="23803" y="3985"/>
                </a:lnTo>
                <a:lnTo>
                  <a:pt x="27476" y="7493"/>
                </a:lnTo>
                <a:lnTo>
                  <a:pt x="25640" y="7493"/>
                </a:lnTo>
                <a:lnTo>
                  <a:pt x="25640" y="12828"/>
                </a:lnTo>
                <a:cubicBezTo>
                  <a:pt x="25640" y="15596"/>
                  <a:pt x="23064" y="18155"/>
                  <a:pt x="20296" y="18155"/>
                </a:cubicBezTo>
                <a:lnTo>
                  <a:pt x="18633" y="18155"/>
                </a:lnTo>
                <a:cubicBezTo>
                  <a:pt x="15866" y="18155"/>
                  <a:pt x="13289" y="15596"/>
                  <a:pt x="1328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821800" cy="63356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ычесть дроби с разными знаменателям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10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172360" y="5832360"/>
            <a:ext cx="636840" cy="339840"/>
          </a:xfrm>
          <a:custGeom>
            <a:avLst/>
            <a:gdLst>
              <a:gd name="textAreaLeft" fmla="*/ 21960 w 636840"/>
              <a:gd name="textAreaRight" fmla="*/ 614880 w 63684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0457" h="21600">
                <a:moveTo>
                  <a:pt x="0" y="0"/>
                </a:moveTo>
                <a:lnTo>
                  <a:pt x="40457" y="0"/>
                </a:lnTo>
                <a:lnTo>
                  <a:pt x="40457" y="21600"/>
                </a:lnTo>
                <a:lnTo>
                  <a:pt x="0" y="21600"/>
                </a:lnTo>
                <a:close/>
              </a:path>
              <a:path fill="lightenLess" w="40457" h="21600">
                <a:moveTo>
                  <a:pt x="0" y="0"/>
                </a:moveTo>
                <a:lnTo>
                  <a:pt x="40457" y="0"/>
                </a:lnTo>
                <a:lnTo>
                  <a:pt x="39057" y="1400"/>
                </a:lnTo>
                <a:lnTo>
                  <a:pt x="1400" y="1400"/>
                </a:lnTo>
                <a:close/>
              </a:path>
              <a:path fill="darken" w="40457" h="21600">
                <a:moveTo>
                  <a:pt x="40457" y="0"/>
                </a:moveTo>
                <a:lnTo>
                  <a:pt x="40457" y="21600"/>
                </a:lnTo>
                <a:lnTo>
                  <a:pt x="39057" y="20200"/>
                </a:lnTo>
                <a:lnTo>
                  <a:pt x="39057" y="1400"/>
                </a:lnTo>
                <a:close/>
              </a:path>
              <a:path fill="darkenLess" w="40457" h="21600">
                <a:moveTo>
                  <a:pt x="40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7" y="20200"/>
                </a:lnTo>
                <a:close/>
              </a:path>
              <a:path fill="lighten" w="40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57" h="21600">
                <a:moveTo>
                  <a:pt x="13222" y="7493"/>
                </a:moveTo>
                <a:lnTo>
                  <a:pt x="16730" y="7493"/>
                </a:lnTo>
                <a:lnTo>
                  <a:pt x="16730" y="12828"/>
                </a:lnTo>
                <a:cubicBezTo>
                  <a:pt x="16730" y="13751"/>
                  <a:pt x="17530" y="14482"/>
                  <a:pt x="18566" y="14482"/>
                </a:cubicBezTo>
                <a:lnTo>
                  <a:pt x="20229" y="14482"/>
                </a:lnTo>
                <a:cubicBezTo>
                  <a:pt x="21264" y="14482"/>
                  <a:pt x="22065" y="13751"/>
                  <a:pt x="22065" y="12828"/>
                </a:cubicBezTo>
                <a:lnTo>
                  <a:pt x="22065" y="7493"/>
                </a:lnTo>
                <a:lnTo>
                  <a:pt x="20229" y="7493"/>
                </a:lnTo>
                <a:lnTo>
                  <a:pt x="23736" y="3985"/>
                </a:lnTo>
                <a:lnTo>
                  <a:pt x="27409" y="7493"/>
                </a:lnTo>
                <a:lnTo>
                  <a:pt x="25573" y="7493"/>
                </a:lnTo>
                <a:lnTo>
                  <a:pt x="25573" y="12828"/>
                </a:lnTo>
                <a:cubicBezTo>
                  <a:pt x="25573" y="15596"/>
                  <a:pt x="22996" y="18155"/>
                  <a:pt x="20229" y="18155"/>
                </a:cubicBezTo>
                <a:lnTo>
                  <a:pt x="18566" y="18155"/>
                </a:lnTo>
                <a:cubicBezTo>
                  <a:pt x="15798" y="18155"/>
                  <a:pt x="13222" y="15596"/>
                  <a:pt x="1322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3:38:37Z</dcterms:created>
  <dc:creator>kost</dc:creator>
  <dc:description/>
  <dc:language>en-US</dc:language>
  <cp:lastModifiedBy>Kost</cp:lastModifiedBy>
  <dcterms:modified xsi:type="dcterms:W3CDTF">2007-10-17T17:43:19Z</dcterms:modified>
  <cp:revision>13</cp:revision>
  <dc:subject/>
  <dc:title>Слайд 1</dc:title>
</cp:coreProperties>
</file>