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899953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070-9AC1-489F-B103-8A660A79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810108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745080"/>
            <a:ext cx="810108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BD1-038A-4826-A18E-58C3B34D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A9F-C49A-4F94-BD36-F3ACA9C0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112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5112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7450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450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3745080"/>
            <a:ext cx="260820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538-CFC5-429B-9A6B-88AA55C8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511280"/>
            <a:ext cx="810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E51-DBCA-41B9-9CEA-3309A1F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810108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FD9-D422-477C-B02D-0F13679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E1B-AD94-4A1B-B2BC-D9B89C1D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CD4-EB7F-48D7-9A97-7CD7C20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58480"/>
            <a:ext cx="81010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FEB-C7A4-438D-81F8-E46F44A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D6C-A8CF-4FAF-99AC-4520E35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37450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14B-0D64-4C49-81B8-6A3B81A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511280"/>
            <a:ext cx="395316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745080"/>
            <a:ext cx="8101080" cy="203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475-3AC0-4358-B7A5-C8D328F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511280"/>
            <a:ext cx="810108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64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22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47640" indent="-2203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90800" indent="-2224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90800" indent="-2224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90800" indent="-2224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900760"/>
            <a:ext cx="2100240" cy="450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lstStyle>
            <a:lvl1pPr indent="0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900760"/>
            <a:ext cx="2850840" cy="450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lstStyle>
            <a:lvl1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5900760"/>
            <a:ext cx="2100240" cy="450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C26FAB44-4201-498D-9170-957F9035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61440" y="5904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001080" cy="6480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88560" rIns="885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. Ильф, Е. Петров «12 стуль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...Остап повернулся спиной к кафедре и с усмешкой стал рассматривать своих конкурентов. Был разгар аукциона. Свободных мест уже не было. Как раз позади Остапа, дама, переговорив с мужем, польстилась на сту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Чудесные полукресла!Дивная работа!Соня!Из дворца же!»-и подняла р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Сто сорок пять, в пятом ряду справа. -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л потух. Слишком д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432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77480"/>
            <a:ext cx="9001080" cy="60865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ривести дроби к наименьшему общему знаменателю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956720" y="5832360"/>
            <a:ext cx="709560" cy="411120"/>
          </a:xfrm>
          <a:custGeom>
            <a:avLst/>
            <a:gdLst>
              <a:gd name="textAreaLeft" fmla="*/ 26640 w 709560"/>
              <a:gd name="textAreaRight" fmla="*/ 682920 w 70956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37266" h="21600">
                <a:moveTo>
                  <a:pt x="0" y="0"/>
                </a:moveTo>
                <a:lnTo>
                  <a:pt x="37266" y="0"/>
                </a:lnTo>
                <a:lnTo>
                  <a:pt x="37266" y="21600"/>
                </a:lnTo>
                <a:lnTo>
                  <a:pt x="0" y="21600"/>
                </a:lnTo>
                <a:close/>
              </a:path>
              <a:path fill="lightenLess" w="37266" h="21600">
                <a:moveTo>
                  <a:pt x="0" y="0"/>
                </a:moveTo>
                <a:lnTo>
                  <a:pt x="37266" y="0"/>
                </a:lnTo>
                <a:lnTo>
                  <a:pt x="35866" y="1400"/>
                </a:lnTo>
                <a:lnTo>
                  <a:pt x="1400" y="1400"/>
                </a:lnTo>
                <a:close/>
              </a:path>
              <a:path fill="darken" w="37266" h="21600">
                <a:moveTo>
                  <a:pt x="37266" y="0"/>
                </a:moveTo>
                <a:lnTo>
                  <a:pt x="37266" y="21600"/>
                </a:lnTo>
                <a:lnTo>
                  <a:pt x="35866" y="20200"/>
                </a:lnTo>
                <a:lnTo>
                  <a:pt x="35866" y="1400"/>
                </a:lnTo>
                <a:close/>
              </a:path>
              <a:path fill="darkenLess" w="37266" h="21600">
                <a:moveTo>
                  <a:pt x="37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66" y="20200"/>
                </a:lnTo>
                <a:close/>
              </a:path>
              <a:path fill="lighten" w="37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66" h="21600">
                <a:moveTo>
                  <a:pt x="11627" y="7493"/>
                </a:moveTo>
                <a:lnTo>
                  <a:pt x="15134" y="7493"/>
                </a:lnTo>
                <a:lnTo>
                  <a:pt x="15134" y="12828"/>
                </a:lnTo>
                <a:cubicBezTo>
                  <a:pt x="15134" y="13751"/>
                  <a:pt x="15935" y="14482"/>
                  <a:pt x="16971" y="14482"/>
                </a:cubicBezTo>
                <a:lnTo>
                  <a:pt x="18633" y="14482"/>
                </a:lnTo>
                <a:cubicBezTo>
                  <a:pt x="19669" y="14482"/>
                  <a:pt x="20470" y="13751"/>
                  <a:pt x="20470" y="12828"/>
                </a:cubicBezTo>
                <a:lnTo>
                  <a:pt x="20470" y="7493"/>
                </a:lnTo>
                <a:lnTo>
                  <a:pt x="18633" y="7493"/>
                </a:lnTo>
                <a:lnTo>
                  <a:pt x="22141" y="3985"/>
                </a:lnTo>
                <a:lnTo>
                  <a:pt x="25814" y="7493"/>
                </a:lnTo>
                <a:lnTo>
                  <a:pt x="23977" y="7493"/>
                </a:lnTo>
                <a:lnTo>
                  <a:pt x="23977" y="12828"/>
                </a:lnTo>
                <a:cubicBezTo>
                  <a:pt x="23977" y="15596"/>
                  <a:pt x="21401" y="18155"/>
                  <a:pt x="18633" y="18155"/>
                </a:cubicBezTo>
                <a:lnTo>
                  <a:pt x="16971" y="18155"/>
                </a:lnTo>
                <a:cubicBezTo>
                  <a:pt x="14203" y="18155"/>
                  <a:pt x="11627" y="15596"/>
                  <a:pt x="1162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5848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1511280"/>
            <a:ext cx="8226720" cy="4276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риведите дроби         и       к наименьшему общему знаменателю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акие дроби сократимые, а какие - несократимые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825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825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825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32360" y="1224000"/>
                <a:ext cx="425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813800" y="5832360"/>
            <a:ext cx="709560" cy="408240"/>
          </a:xfrm>
          <a:custGeom>
            <a:avLst/>
            <a:gdLst>
              <a:gd name="textAreaLeft" fmla="*/ 26280 w 709560"/>
              <a:gd name="textAreaRight" fmla="*/ 683280 w 70956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37529" h="21600">
                <a:moveTo>
                  <a:pt x="0" y="0"/>
                </a:moveTo>
                <a:lnTo>
                  <a:pt x="37529" y="0"/>
                </a:lnTo>
                <a:lnTo>
                  <a:pt x="37529" y="21600"/>
                </a:lnTo>
                <a:lnTo>
                  <a:pt x="0" y="21600"/>
                </a:lnTo>
                <a:close/>
              </a:path>
              <a:path fill="lightenLess" w="37529" h="21600">
                <a:moveTo>
                  <a:pt x="0" y="0"/>
                </a:moveTo>
                <a:lnTo>
                  <a:pt x="37529" y="0"/>
                </a:lnTo>
                <a:lnTo>
                  <a:pt x="36129" y="1400"/>
                </a:lnTo>
                <a:lnTo>
                  <a:pt x="1400" y="1400"/>
                </a:lnTo>
                <a:close/>
              </a:path>
              <a:path fill="darken" w="37529" h="21600">
                <a:moveTo>
                  <a:pt x="37529" y="0"/>
                </a:moveTo>
                <a:lnTo>
                  <a:pt x="37529" y="21600"/>
                </a:lnTo>
                <a:lnTo>
                  <a:pt x="36129" y="20200"/>
                </a:lnTo>
                <a:lnTo>
                  <a:pt x="36129" y="1400"/>
                </a:lnTo>
                <a:close/>
              </a:path>
              <a:path fill="darkenLess" w="37529" h="21600">
                <a:moveTo>
                  <a:pt x="37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29" y="20200"/>
                </a:lnTo>
                <a:close/>
              </a:path>
              <a:path fill="lighten" w="37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29" h="21600">
                <a:moveTo>
                  <a:pt x="11758" y="7493"/>
                </a:moveTo>
                <a:lnTo>
                  <a:pt x="15266" y="7493"/>
                </a:lnTo>
                <a:lnTo>
                  <a:pt x="15266" y="12828"/>
                </a:lnTo>
                <a:cubicBezTo>
                  <a:pt x="15266" y="13751"/>
                  <a:pt x="16066" y="14482"/>
                  <a:pt x="17102" y="14482"/>
                </a:cubicBezTo>
                <a:lnTo>
                  <a:pt x="18764" y="14482"/>
                </a:lnTo>
                <a:cubicBezTo>
                  <a:pt x="19800" y="14482"/>
                  <a:pt x="20601" y="13751"/>
                  <a:pt x="20601" y="12828"/>
                </a:cubicBezTo>
                <a:lnTo>
                  <a:pt x="20601" y="7493"/>
                </a:lnTo>
                <a:lnTo>
                  <a:pt x="18764" y="7493"/>
                </a:lnTo>
                <a:lnTo>
                  <a:pt x="22272" y="3985"/>
                </a:lnTo>
                <a:lnTo>
                  <a:pt x="25945" y="7493"/>
                </a:lnTo>
                <a:lnTo>
                  <a:pt x="24108" y="7493"/>
                </a:lnTo>
                <a:lnTo>
                  <a:pt x="24108" y="12828"/>
                </a:lnTo>
                <a:cubicBezTo>
                  <a:pt x="24108" y="15596"/>
                  <a:pt x="21532" y="18155"/>
                  <a:pt x="18764" y="18155"/>
                </a:cubicBezTo>
                <a:lnTo>
                  <a:pt x="17102" y="18155"/>
                </a:lnTo>
                <a:cubicBezTo>
                  <a:pt x="14334" y="18155"/>
                  <a:pt x="11758" y="15596"/>
                  <a:pt x="1175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13440" y="1440000"/>
                <a:ext cx="568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77480"/>
            <a:ext cx="8632800" cy="60865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число называют дополнительным множителем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его найт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8151840" y="5832360"/>
            <a:ext cx="849240" cy="408240"/>
          </a:xfrm>
          <a:custGeom>
            <a:avLst/>
            <a:gdLst>
              <a:gd name="textAreaLeft" fmla="*/ 26280 w 849240"/>
              <a:gd name="textAreaRight" fmla="*/ 822960 w 84924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44913" h="21600">
                <a:moveTo>
                  <a:pt x="0" y="0"/>
                </a:moveTo>
                <a:lnTo>
                  <a:pt x="44913" y="0"/>
                </a:lnTo>
                <a:lnTo>
                  <a:pt x="44913" y="21600"/>
                </a:lnTo>
                <a:lnTo>
                  <a:pt x="0" y="21600"/>
                </a:lnTo>
                <a:close/>
              </a:path>
              <a:path fill="lightenLess" w="44913" h="21600">
                <a:moveTo>
                  <a:pt x="0" y="0"/>
                </a:moveTo>
                <a:lnTo>
                  <a:pt x="44913" y="0"/>
                </a:lnTo>
                <a:lnTo>
                  <a:pt x="43513" y="1400"/>
                </a:lnTo>
                <a:lnTo>
                  <a:pt x="1400" y="1400"/>
                </a:lnTo>
                <a:close/>
              </a:path>
              <a:path fill="darken" w="44913" h="21600">
                <a:moveTo>
                  <a:pt x="44913" y="0"/>
                </a:moveTo>
                <a:lnTo>
                  <a:pt x="44913" y="21600"/>
                </a:lnTo>
                <a:lnTo>
                  <a:pt x="43513" y="20200"/>
                </a:lnTo>
                <a:lnTo>
                  <a:pt x="43513" y="1400"/>
                </a:lnTo>
                <a:close/>
              </a:path>
              <a:path fill="darkenLess" w="44913" h="21600">
                <a:moveTo>
                  <a:pt x="44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3" y="20200"/>
                </a:lnTo>
                <a:close/>
              </a:path>
              <a:path fill="lighten" w="44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13" h="21600">
                <a:moveTo>
                  <a:pt x="15450" y="7493"/>
                </a:moveTo>
                <a:lnTo>
                  <a:pt x="18957" y="7493"/>
                </a:lnTo>
                <a:lnTo>
                  <a:pt x="18957" y="12828"/>
                </a:lnTo>
                <a:cubicBezTo>
                  <a:pt x="18957" y="13751"/>
                  <a:pt x="19758" y="14482"/>
                  <a:pt x="20794" y="14482"/>
                </a:cubicBezTo>
                <a:lnTo>
                  <a:pt x="22456" y="14482"/>
                </a:lnTo>
                <a:cubicBezTo>
                  <a:pt x="23492" y="14482"/>
                  <a:pt x="24293" y="13751"/>
                  <a:pt x="24293" y="12828"/>
                </a:cubicBezTo>
                <a:lnTo>
                  <a:pt x="24293" y="7493"/>
                </a:lnTo>
                <a:lnTo>
                  <a:pt x="22456" y="7493"/>
                </a:lnTo>
                <a:lnTo>
                  <a:pt x="25964" y="3985"/>
                </a:lnTo>
                <a:lnTo>
                  <a:pt x="29637" y="7493"/>
                </a:lnTo>
                <a:lnTo>
                  <a:pt x="27800" y="7493"/>
                </a:lnTo>
                <a:lnTo>
                  <a:pt x="27800" y="12828"/>
                </a:lnTo>
                <a:cubicBezTo>
                  <a:pt x="27800" y="15596"/>
                  <a:pt x="25224" y="18155"/>
                  <a:pt x="22456" y="18155"/>
                </a:cubicBezTo>
                <a:lnTo>
                  <a:pt x="20794" y="18155"/>
                </a:lnTo>
                <a:cubicBezTo>
                  <a:pt x="18026" y="18155"/>
                  <a:pt x="15450" y="15596"/>
                  <a:pt x="1545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885080" y="5832360"/>
            <a:ext cx="849240" cy="408240"/>
          </a:xfrm>
          <a:custGeom>
            <a:avLst/>
            <a:gdLst>
              <a:gd name="textAreaLeft" fmla="*/ 26280 w 849240"/>
              <a:gd name="textAreaRight" fmla="*/ 822960 w 84924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44913" h="21600">
                <a:moveTo>
                  <a:pt x="0" y="0"/>
                </a:moveTo>
                <a:lnTo>
                  <a:pt x="44913" y="0"/>
                </a:lnTo>
                <a:lnTo>
                  <a:pt x="44913" y="21600"/>
                </a:lnTo>
                <a:lnTo>
                  <a:pt x="0" y="21600"/>
                </a:lnTo>
                <a:close/>
              </a:path>
              <a:path fill="lightenLess" w="44913" h="21600">
                <a:moveTo>
                  <a:pt x="0" y="0"/>
                </a:moveTo>
                <a:lnTo>
                  <a:pt x="44913" y="0"/>
                </a:lnTo>
                <a:lnTo>
                  <a:pt x="43513" y="1400"/>
                </a:lnTo>
                <a:lnTo>
                  <a:pt x="1400" y="1400"/>
                </a:lnTo>
                <a:close/>
              </a:path>
              <a:path fill="darken" w="44913" h="21600">
                <a:moveTo>
                  <a:pt x="44913" y="0"/>
                </a:moveTo>
                <a:lnTo>
                  <a:pt x="44913" y="21600"/>
                </a:lnTo>
                <a:lnTo>
                  <a:pt x="43513" y="20200"/>
                </a:lnTo>
                <a:lnTo>
                  <a:pt x="43513" y="1400"/>
                </a:lnTo>
                <a:close/>
              </a:path>
              <a:path fill="darkenLess" w="44913" h="21600">
                <a:moveTo>
                  <a:pt x="44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3" y="20200"/>
                </a:lnTo>
                <a:close/>
              </a:path>
              <a:path fill="lighten" w="44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13" h="21600">
                <a:moveTo>
                  <a:pt x="15450" y="7493"/>
                </a:moveTo>
                <a:lnTo>
                  <a:pt x="18957" y="7493"/>
                </a:lnTo>
                <a:lnTo>
                  <a:pt x="18957" y="12828"/>
                </a:lnTo>
                <a:cubicBezTo>
                  <a:pt x="18957" y="13751"/>
                  <a:pt x="19758" y="14482"/>
                  <a:pt x="20794" y="14482"/>
                </a:cubicBezTo>
                <a:lnTo>
                  <a:pt x="22456" y="14482"/>
                </a:lnTo>
                <a:cubicBezTo>
                  <a:pt x="23492" y="14482"/>
                  <a:pt x="24293" y="13751"/>
                  <a:pt x="24293" y="12828"/>
                </a:cubicBezTo>
                <a:lnTo>
                  <a:pt x="24293" y="7493"/>
                </a:lnTo>
                <a:lnTo>
                  <a:pt x="22456" y="7493"/>
                </a:lnTo>
                <a:lnTo>
                  <a:pt x="25964" y="3985"/>
                </a:lnTo>
                <a:lnTo>
                  <a:pt x="29637" y="7493"/>
                </a:lnTo>
                <a:lnTo>
                  <a:pt x="27800" y="7493"/>
                </a:lnTo>
                <a:lnTo>
                  <a:pt x="27800" y="12828"/>
                </a:lnTo>
                <a:cubicBezTo>
                  <a:pt x="27800" y="15596"/>
                  <a:pt x="25224" y="18155"/>
                  <a:pt x="22456" y="18155"/>
                </a:cubicBezTo>
                <a:lnTo>
                  <a:pt x="20794" y="18155"/>
                </a:lnTo>
                <a:cubicBezTo>
                  <a:pt x="18026" y="18155"/>
                  <a:pt x="15450" y="15596"/>
                  <a:pt x="1545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2000" y="-360"/>
            <a:ext cx="8380440" cy="62643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SzPct val="102812"/>
              <a:buBlip>
                <a:blip r:embed="rId1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равни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29440" y="5832360"/>
            <a:ext cx="779760" cy="476280"/>
          </a:xfrm>
          <a:custGeom>
            <a:avLst/>
            <a:gdLst>
              <a:gd name="textAreaLeft" fmla="*/ 30600 w 779760"/>
              <a:gd name="textAreaRight" fmla="*/ 749160 w 779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3" h="21600">
                <a:moveTo>
                  <a:pt x="10670" y="7493"/>
                </a:moveTo>
                <a:lnTo>
                  <a:pt x="14178" y="7493"/>
                </a:lnTo>
                <a:lnTo>
                  <a:pt x="14178" y="12828"/>
                </a:lnTo>
                <a:cubicBezTo>
                  <a:pt x="14178" y="13751"/>
                  <a:pt x="14978" y="14482"/>
                  <a:pt x="16014" y="14482"/>
                </a:cubicBezTo>
                <a:lnTo>
                  <a:pt x="17676" y="14482"/>
                </a:lnTo>
                <a:cubicBezTo>
                  <a:pt x="18712" y="14482"/>
                  <a:pt x="19513" y="13751"/>
                  <a:pt x="19513" y="12828"/>
                </a:cubicBezTo>
                <a:lnTo>
                  <a:pt x="19513" y="7493"/>
                </a:lnTo>
                <a:lnTo>
                  <a:pt x="17676" y="7493"/>
                </a:lnTo>
                <a:lnTo>
                  <a:pt x="21184" y="3985"/>
                </a:lnTo>
                <a:lnTo>
                  <a:pt x="24857" y="7493"/>
                </a:lnTo>
                <a:lnTo>
                  <a:pt x="23021" y="7493"/>
                </a:lnTo>
                <a:lnTo>
                  <a:pt x="23021" y="12828"/>
                </a:lnTo>
                <a:cubicBezTo>
                  <a:pt x="23021" y="15596"/>
                  <a:pt x="20444" y="18155"/>
                  <a:pt x="17676" y="18155"/>
                </a:cubicBezTo>
                <a:lnTo>
                  <a:pt x="16014" y="18155"/>
                </a:lnTo>
                <a:cubicBezTo>
                  <a:pt x="13246" y="18155"/>
                  <a:pt x="10670" y="15596"/>
                  <a:pt x="1067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2360" y="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SzPct val="102865"/>
              <a:buBlip>
                <a:blip r:embed="rId1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дроби сократимые, а какие - несократимые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сравнить дроби с разными знаменателям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13800" y="5761080"/>
            <a:ext cx="849240" cy="341280"/>
          </a:xfrm>
          <a:custGeom>
            <a:avLst/>
            <a:gdLst>
              <a:gd name="textAreaLeft" fmla="*/ 21960 w 849240"/>
              <a:gd name="textAreaRight" fmla="*/ 827280 w 849240"/>
              <a:gd name="textAreaTop" fmla="*/ 21960 h 341280"/>
              <a:gd name="textAreaBottom" fmla="*/ 319320 h 34128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15" y="1400"/>
                </a:lnTo>
                <a:lnTo>
                  <a:pt x="1400" y="1400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15" y="20200"/>
                </a:lnTo>
                <a:lnTo>
                  <a:pt x="52315" y="1400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15" y="20200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15" h="21600">
                <a:moveTo>
                  <a:pt x="19851" y="7493"/>
                </a:moveTo>
                <a:lnTo>
                  <a:pt x="23359" y="7493"/>
                </a:lnTo>
                <a:lnTo>
                  <a:pt x="23359" y="12828"/>
                </a:lnTo>
                <a:cubicBezTo>
                  <a:pt x="23359" y="13751"/>
                  <a:pt x="24160" y="14482"/>
                  <a:pt x="25195" y="14482"/>
                </a:cubicBezTo>
                <a:lnTo>
                  <a:pt x="26858" y="14482"/>
                </a:lnTo>
                <a:cubicBezTo>
                  <a:pt x="27893" y="14482"/>
                  <a:pt x="28694" y="13751"/>
                  <a:pt x="28694" y="12828"/>
                </a:cubicBezTo>
                <a:lnTo>
                  <a:pt x="28694" y="7493"/>
                </a:lnTo>
                <a:lnTo>
                  <a:pt x="26858" y="7493"/>
                </a:lnTo>
                <a:lnTo>
                  <a:pt x="30365" y="3985"/>
                </a:lnTo>
                <a:lnTo>
                  <a:pt x="34038" y="7493"/>
                </a:lnTo>
                <a:lnTo>
                  <a:pt x="32202" y="7493"/>
                </a:lnTo>
                <a:lnTo>
                  <a:pt x="32202" y="12828"/>
                </a:lnTo>
                <a:cubicBezTo>
                  <a:pt x="32202" y="15596"/>
                  <a:pt x="29626" y="18155"/>
                  <a:pt x="26858" y="18155"/>
                </a:cubicBezTo>
                <a:lnTo>
                  <a:pt x="25195" y="18155"/>
                </a:lnTo>
                <a:cubicBezTo>
                  <a:pt x="22428" y="18155"/>
                  <a:pt x="19851" y="15596"/>
                  <a:pt x="198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3800" y="5832360"/>
            <a:ext cx="850680" cy="408240"/>
          </a:xfrm>
          <a:custGeom>
            <a:avLst/>
            <a:gdLst>
              <a:gd name="textAreaLeft" fmla="*/ 26280 w 850680"/>
              <a:gd name="textAreaRight" fmla="*/ 824400 w 85068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44989" h="21600">
                <a:moveTo>
                  <a:pt x="0" y="0"/>
                </a:moveTo>
                <a:lnTo>
                  <a:pt x="44989" y="0"/>
                </a:lnTo>
                <a:lnTo>
                  <a:pt x="44989" y="21600"/>
                </a:lnTo>
                <a:lnTo>
                  <a:pt x="0" y="21600"/>
                </a:lnTo>
                <a:close/>
              </a:path>
              <a:path fill="lightenLess" w="44989" h="21600">
                <a:moveTo>
                  <a:pt x="0" y="0"/>
                </a:moveTo>
                <a:lnTo>
                  <a:pt x="44989" y="0"/>
                </a:lnTo>
                <a:lnTo>
                  <a:pt x="43589" y="1400"/>
                </a:lnTo>
                <a:lnTo>
                  <a:pt x="1400" y="1400"/>
                </a:lnTo>
                <a:close/>
              </a:path>
              <a:path fill="darken" w="44989" h="21600">
                <a:moveTo>
                  <a:pt x="44989" y="0"/>
                </a:moveTo>
                <a:lnTo>
                  <a:pt x="44989" y="21600"/>
                </a:lnTo>
                <a:lnTo>
                  <a:pt x="43589" y="20200"/>
                </a:lnTo>
                <a:lnTo>
                  <a:pt x="43589" y="1400"/>
                </a:lnTo>
                <a:close/>
              </a:path>
              <a:path fill="darkenLess" w="44989" h="21600">
                <a:moveTo>
                  <a:pt x="4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9" y="20200"/>
                </a:lnTo>
                <a:close/>
              </a:path>
              <a:path fill="lighten" w="4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9" h="21600">
                <a:moveTo>
                  <a:pt x="15488" y="7493"/>
                </a:moveTo>
                <a:lnTo>
                  <a:pt x="18996" y="7493"/>
                </a:lnTo>
                <a:lnTo>
                  <a:pt x="18996" y="12828"/>
                </a:lnTo>
                <a:cubicBezTo>
                  <a:pt x="18996" y="13751"/>
                  <a:pt x="19796" y="14482"/>
                  <a:pt x="20832" y="14482"/>
                </a:cubicBezTo>
                <a:lnTo>
                  <a:pt x="22494" y="14482"/>
                </a:lnTo>
                <a:cubicBezTo>
                  <a:pt x="23530" y="14482"/>
                  <a:pt x="24331" y="13751"/>
                  <a:pt x="24331" y="12828"/>
                </a:cubicBezTo>
                <a:lnTo>
                  <a:pt x="24331" y="7493"/>
                </a:lnTo>
                <a:lnTo>
                  <a:pt x="22494" y="7493"/>
                </a:lnTo>
                <a:lnTo>
                  <a:pt x="26002" y="3985"/>
                </a:lnTo>
                <a:lnTo>
                  <a:pt x="29675" y="7493"/>
                </a:lnTo>
                <a:lnTo>
                  <a:pt x="27839" y="7493"/>
                </a:lnTo>
                <a:lnTo>
                  <a:pt x="27839" y="12828"/>
                </a:lnTo>
                <a:cubicBezTo>
                  <a:pt x="27839" y="15596"/>
                  <a:pt x="25262" y="18155"/>
                  <a:pt x="22494" y="18155"/>
                </a:cubicBezTo>
                <a:lnTo>
                  <a:pt x="20832" y="18155"/>
                </a:lnTo>
                <a:cubicBezTo>
                  <a:pt x="18064" y="18155"/>
                  <a:pt x="15488" y="15596"/>
                  <a:pt x="1548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480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Сто сорок пять. Д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стап равнодушно рассматривал лепной карниз. Ипполит Матвеевич сидел, опустив голову и вздрагив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Сто сорок пять. Т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Но прежде, чем черный лакированный молоток ударился о фанерную фанеру, Остап повернулся, выбросил вверх руку и негромко сказал: - Две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Продано, - сказал аукцион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96160" y="5977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1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8360" y="5904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64252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укцио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лат. 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ti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-продажа с публичного торга, способ продажи некоторых товаров, при котором товар предварительно выставляется для осмо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укциони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человек, проводящий аукци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артовая це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цена на лот, устанавливаемая до начала аукц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о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роцедура прода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аукцио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родать вещи как можно дор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00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от № 1,..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единица товара, выставляемого на прод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75.0)">
                                      <p:cBhvr>
                                        <p:cTn id="1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784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303640" y="44928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70560" y="194616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2303640" y="174312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3640" y="310356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0560" y="324000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351144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215100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6804000" y="857160"/>
            <a:ext cx="2197080" cy="102096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960"/>
              <a:gd name="textAreaBottom" fmla="*/ 955080 h 1020960"/>
            </a:gdLst>
            <a:ahLst/>
            <a:rect l="textAreaLeft" t="textAreaTop" r="textAreaRight" b="textAreaBottom"/>
            <a:pathLst>
              <a:path w="46474" h="21600">
                <a:moveTo>
                  <a:pt x="0" y="0"/>
                </a:moveTo>
                <a:lnTo>
                  <a:pt x="46474" y="0"/>
                </a:lnTo>
                <a:lnTo>
                  <a:pt x="46474" y="21600"/>
                </a:lnTo>
                <a:lnTo>
                  <a:pt x="0" y="21600"/>
                </a:lnTo>
                <a:close/>
              </a:path>
              <a:path fill="lightenLess" w="46474" h="21600">
                <a:moveTo>
                  <a:pt x="0" y="0"/>
                </a:moveTo>
                <a:lnTo>
                  <a:pt x="46474" y="0"/>
                </a:lnTo>
                <a:lnTo>
                  <a:pt x="45074" y="1400"/>
                </a:lnTo>
                <a:lnTo>
                  <a:pt x="1400" y="1400"/>
                </a:lnTo>
                <a:close/>
              </a:path>
              <a:path fill="darken" w="46474" h="21600">
                <a:moveTo>
                  <a:pt x="46474" y="0"/>
                </a:moveTo>
                <a:lnTo>
                  <a:pt x="46474" y="21600"/>
                </a:lnTo>
                <a:lnTo>
                  <a:pt x="45074" y="20200"/>
                </a:lnTo>
                <a:lnTo>
                  <a:pt x="45074" y="1400"/>
                </a:lnTo>
                <a:close/>
              </a:path>
              <a:path fill="darkenLess" w="46474" h="21600">
                <a:moveTo>
                  <a:pt x="4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74" y="20200"/>
                </a:lnTo>
                <a:close/>
              </a:path>
              <a:path fill="lighten" w="4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4570560" y="65412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83212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0" y="1538280"/>
            <a:ext cx="2197080" cy="1020600"/>
          </a:xfrm>
          <a:custGeom>
            <a:avLst/>
            <a:gdLst>
              <a:gd name="textAreaLeft" fmla="*/ 65880 w 2197080"/>
              <a:gd name="textAreaRight" fmla="*/ 2131200 w 2197080"/>
              <a:gd name="textAreaTop" fmla="*/ 65880 h 1020600"/>
              <a:gd name="textAreaBottom" fmla="*/ 954720 h 1020600"/>
            </a:gdLst>
            <a:ahLst/>
            <a:rect l="textAreaLeft" t="textAreaTop" r="textAreaRight" b="textAreaBottom"/>
            <a:pathLst>
              <a:path w="46490" h="21600">
                <a:moveTo>
                  <a:pt x="0" y="0"/>
                </a:moveTo>
                <a:lnTo>
                  <a:pt x="46490" y="0"/>
                </a:lnTo>
                <a:lnTo>
                  <a:pt x="46490" y="21600"/>
                </a:lnTo>
                <a:lnTo>
                  <a:pt x="0" y="21600"/>
                </a:lnTo>
                <a:close/>
              </a:path>
              <a:path fill="lightenLess" w="46490" h="21600">
                <a:moveTo>
                  <a:pt x="0" y="0"/>
                </a:moveTo>
                <a:lnTo>
                  <a:pt x="46490" y="0"/>
                </a:lnTo>
                <a:lnTo>
                  <a:pt x="45090" y="1400"/>
                </a:lnTo>
                <a:lnTo>
                  <a:pt x="1400" y="1400"/>
                </a:lnTo>
                <a:close/>
              </a:path>
              <a:path fill="darken" w="46490" h="21600">
                <a:moveTo>
                  <a:pt x="46490" y="0"/>
                </a:moveTo>
                <a:lnTo>
                  <a:pt x="46490" y="21600"/>
                </a:lnTo>
                <a:lnTo>
                  <a:pt x="45090" y="20200"/>
                </a:lnTo>
                <a:lnTo>
                  <a:pt x="45090" y="1400"/>
                </a:lnTo>
                <a:close/>
              </a:path>
              <a:path fill="darkenLess" w="46490" h="21600">
                <a:moveTo>
                  <a:pt x="46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0" y="20200"/>
                </a:lnTo>
                <a:close/>
              </a:path>
              <a:path fill="lighten" w="46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 algn="ct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ЛОТ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6360" y="216000"/>
            <a:ext cx="8101080" cy="59198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0360" y="0"/>
            <a:ext cx="8550360" cy="6480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равни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18960" y="5826240"/>
            <a:ext cx="495360" cy="271440"/>
          </a:xfrm>
          <a:custGeom>
            <a:avLst/>
            <a:gdLst>
              <a:gd name="textAreaLeft" fmla="*/ 17280 w 495360"/>
              <a:gd name="textAreaRight" fmla="*/ 478080 w 49536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39395" h="21600">
                <a:moveTo>
                  <a:pt x="0" y="0"/>
                </a:moveTo>
                <a:lnTo>
                  <a:pt x="39395" y="0"/>
                </a:lnTo>
                <a:lnTo>
                  <a:pt x="39395" y="21600"/>
                </a:lnTo>
                <a:lnTo>
                  <a:pt x="0" y="21600"/>
                </a:lnTo>
                <a:close/>
              </a:path>
              <a:path fill="lightenLess" w="39395" h="21600">
                <a:moveTo>
                  <a:pt x="0" y="0"/>
                </a:moveTo>
                <a:lnTo>
                  <a:pt x="39395" y="0"/>
                </a:lnTo>
                <a:lnTo>
                  <a:pt x="37995" y="1400"/>
                </a:lnTo>
                <a:lnTo>
                  <a:pt x="1400" y="1400"/>
                </a:lnTo>
                <a:close/>
              </a:path>
              <a:path fill="darken" w="39395" h="21600">
                <a:moveTo>
                  <a:pt x="39395" y="0"/>
                </a:moveTo>
                <a:lnTo>
                  <a:pt x="39395" y="21600"/>
                </a:lnTo>
                <a:lnTo>
                  <a:pt x="37995" y="20200"/>
                </a:lnTo>
                <a:lnTo>
                  <a:pt x="37995" y="1400"/>
                </a:lnTo>
                <a:close/>
              </a:path>
              <a:path fill="darkenLess" w="39395" h="21600">
                <a:moveTo>
                  <a:pt x="39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95" y="20200"/>
                </a:lnTo>
                <a:close/>
              </a:path>
              <a:path fill="lighten" w="39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95" h="21600">
                <a:moveTo>
                  <a:pt x="12691" y="7493"/>
                </a:moveTo>
                <a:lnTo>
                  <a:pt x="16199" y="7493"/>
                </a:lnTo>
                <a:lnTo>
                  <a:pt x="16199" y="12828"/>
                </a:lnTo>
                <a:cubicBezTo>
                  <a:pt x="16199" y="13751"/>
                  <a:pt x="16999" y="14482"/>
                  <a:pt x="18035" y="14482"/>
                </a:cubicBezTo>
                <a:lnTo>
                  <a:pt x="19697" y="14482"/>
                </a:lnTo>
                <a:cubicBezTo>
                  <a:pt x="20733" y="14482"/>
                  <a:pt x="21534" y="13751"/>
                  <a:pt x="21534" y="12828"/>
                </a:cubicBezTo>
                <a:lnTo>
                  <a:pt x="21534" y="7493"/>
                </a:lnTo>
                <a:lnTo>
                  <a:pt x="19697" y="7493"/>
                </a:lnTo>
                <a:lnTo>
                  <a:pt x="23205" y="3985"/>
                </a:lnTo>
                <a:lnTo>
                  <a:pt x="26878" y="7493"/>
                </a:lnTo>
                <a:lnTo>
                  <a:pt x="25042" y="7493"/>
                </a:lnTo>
                <a:lnTo>
                  <a:pt x="25042" y="12828"/>
                </a:lnTo>
                <a:cubicBezTo>
                  <a:pt x="25042" y="15596"/>
                  <a:pt x="22465" y="18155"/>
                  <a:pt x="19697" y="18155"/>
                </a:cubicBezTo>
                <a:lnTo>
                  <a:pt x="18035" y="18155"/>
                </a:lnTo>
                <a:cubicBezTo>
                  <a:pt x="15267" y="18155"/>
                  <a:pt x="12691" y="15596"/>
                  <a:pt x="126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313920"/>
            <a:ext cx="9001080" cy="61657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o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вычес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o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 Приведите свой прим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o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ракти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172360" y="5832360"/>
            <a:ext cx="567000" cy="341280"/>
          </a:xfrm>
          <a:custGeom>
            <a:avLst/>
            <a:gdLst>
              <a:gd name="textAreaLeft" fmla="*/ 21960 w 567000"/>
              <a:gd name="textAreaRight" fmla="*/ 545040 w 567000"/>
              <a:gd name="textAreaTop" fmla="*/ 21960 h 341280"/>
              <a:gd name="textAreaBottom" fmla="*/ 319320 h 341280"/>
            </a:gdLst>
            <a:ahLst/>
            <a:rect l="textAreaLeft" t="textAreaTop" r="textAreaRight" b="textAreaBottom"/>
            <a:pathLst>
              <a:path w="35871" h="21600">
                <a:moveTo>
                  <a:pt x="0" y="0"/>
                </a:moveTo>
                <a:lnTo>
                  <a:pt x="35871" y="0"/>
                </a:lnTo>
                <a:lnTo>
                  <a:pt x="35871" y="21600"/>
                </a:lnTo>
                <a:lnTo>
                  <a:pt x="0" y="21600"/>
                </a:lnTo>
                <a:close/>
              </a:path>
              <a:path fill="lightenLess" w="35871" h="21600">
                <a:moveTo>
                  <a:pt x="0" y="0"/>
                </a:moveTo>
                <a:lnTo>
                  <a:pt x="35871" y="0"/>
                </a:lnTo>
                <a:lnTo>
                  <a:pt x="34471" y="1400"/>
                </a:lnTo>
                <a:lnTo>
                  <a:pt x="1400" y="1400"/>
                </a:lnTo>
                <a:close/>
              </a:path>
              <a:path fill="darken" w="35871" h="21600">
                <a:moveTo>
                  <a:pt x="35871" y="0"/>
                </a:moveTo>
                <a:lnTo>
                  <a:pt x="35871" y="21600"/>
                </a:lnTo>
                <a:lnTo>
                  <a:pt x="34471" y="20200"/>
                </a:lnTo>
                <a:lnTo>
                  <a:pt x="34471" y="1400"/>
                </a:lnTo>
                <a:close/>
              </a:path>
              <a:path fill="darkenLess" w="35871" h="21600">
                <a:moveTo>
                  <a:pt x="35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71" y="20200"/>
                </a:lnTo>
                <a:close/>
              </a:path>
              <a:path fill="lighten" w="35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71" h="21600">
                <a:moveTo>
                  <a:pt x="10929" y="7493"/>
                </a:moveTo>
                <a:lnTo>
                  <a:pt x="14437" y="7493"/>
                </a:lnTo>
                <a:lnTo>
                  <a:pt x="14437" y="12828"/>
                </a:lnTo>
                <a:cubicBezTo>
                  <a:pt x="14437" y="13751"/>
                  <a:pt x="15237" y="14482"/>
                  <a:pt x="16273" y="14482"/>
                </a:cubicBezTo>
                <a:lnTo>
                  <a:pt x="17936" y="14482"/>
                </a:lnTo>
                <a:cubicBezTo>
                  <a:pt x="18971" y="14482"/>
                  <a:pt x="19772" y="13751"/>
                  <a:pt x="19772" y="12828"/>
                </a:cubicBezTo>
                <a:lnTo>
                  <a:pt x="19772" y="7493"/>
                </a:lnTo>
                <a:lnTo>
                  <a:pt x="17936" y="7493"/>
                </a:lnTo>
                <a:lnTo>
                  <a:pt x="21443" y="3985"/>
                </a:lnTo>
                <a:lnTo>
                  <a:pt x="25116" y="7493"/>
                </a:lnTo>
                <a:lnTo>
                  <a:pt x="23280" y="7493"/>
                </a:lnTo>
                <a:lnTo>
                  <a:pt x="23280" y="12828"/>
                </a:lnTo>
                <a:cubicBezTo>
                  <a:pt x="23280" y="15596"/>
                  <a:pt x="20703" y="18155"/>
                  <a:pt x="17936" y="18155"/>
                </a:cubicBezTo>
                <a:lnTo>
                  <a:pt x="16273" y="18155"/>
                </a:lnTo>
                <a:cubicBezTo>
                  <a:pt x="13505" y="18155"/>
                  <a:pt x="10929" y="15596"/>
                  <a:pt x="1092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9001080" cy="60181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число называют дополнительным множителем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901"/>
              </a:spcBef>
              <a:buNone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8172360" y="5904000"/>
            <a:ext cx="638280" cy="339480"/>
          </a:xfrm>
          <a:custGeom>
            <a:avLst/>
            <a:gdLst>
              <a:gd name="textAreaLeft" fmla="*/ 21960 w 638280"/>
              <a:gd name="textAreaRight" fmla="*/ 616320 w 638280"/>
              <a:gd name="textAreaTop" fmla="*/ 21960 h 339480"/>
              <a:gd name="textAreaBottom" fmla="*/ 317520 h 339480"/>
            </a:gdLst>
            <a:ahLst/>
            <a:rect l="textAreaLeft" t="textAreaTop" r="textAreaRight" b="textAreaBottom"/>
            <a:pathLst>
              <a:path w="40592" h="21600">
                <a:moveTo>
                  <a:pt x="0" y="0"/>
                </a:moveTo>
                <a:lnTo>
                  <a:pt x="40592" y="0"/>
                </a:lnTo>
                <a:lnTo>
                  <a:pt x="40592" y="21600"/>
                </a:lnTo>
                <a:lnTo>
                  <a:pt x="0" y="21600"/>
                </a:lnTo>
                <a:close/>
              </a:path>
              <a:path fill="lightenLess" w="40592" h="21600">
                <a:moveTo>
                  <a:pt x="0" y="0"/>
                </a:moveTo>
                <a:lnTo>
                  <a:pt x="40592" y="0"/>
                </a:lnTo>
                <a:lnTo>
                  <a:pt x="39192" y="1400"/>
                </a:lnTo>
                <a:lnTo>
                  <a:pt x="1400" y="1400"/>
                </a:lnTo>
                <a:close/>
              </a:path>
              <a:path fill="darken" w="40592" h="21600">
                <a:moveTo>
                  <a:pt x="40592" y="0"/>
                </a:moveTo>
                <a:lnTo>
                  <a:pt x="40592" y="21600"/>
                </a:lnTo>
                <a:lnTo>
                  <a:pt x="39192" y="20200"/>
                </a:lnTo>
                <a:lnTo>
                  <a:pt x="39192" y="1400"/>
                </a:lnTo>
                <a:close/>
              </a:path>
              <a:path fill="darkenLess" w="40592" h="21600">
                <a:moveTo>
                  <a:pt x="40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92" y="20200"/>
                </a:lnTo>
                <a:close/>
              </a:path>
              <a:path fill="lighten" w="40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92" h="21600">
                <a:moveTo>
                  <a:pt x="13289" y="7493"/>
                </a:moveTo>
                <a:lnTo>
                  <a:pt x="16797" y="7493"/>
                </a:lnTo>
                <a:lnTo>
                  <a:pt x="16797" y="12828"/>
                </a:lnTo>
                <a:cubicBezTo>
                  <a:pt x="16797" y="13751"/>
                  <a:pt x="17598" y="14482"/>
                  <a:pt x="18633" y="14482"/>
                </a:cubicBezTo>
                <a:lnTo>
                  <a:pt x="20296" y="14482"/>
                </a:lnTo>
                <a:cubicBezTo>
                  <a:pt x="21332" y="14482"/>
                  <a:pt x="22132" y="13751"/>
                  <a:pt x="22132" y="12828"/>
                </a:cubicBezTo>
                <a:lnTo>
                  <a:pt x="22132" y="7493"/>
                </a:lnTo>
                <a:lnTo>
                  <a:pt x="20296" y="7493"/>
                </a:lnTo>
                <a:lnTo>
                  <a:pt x="23803" y="3985"/>
                </a:lnTo>
                <a:lnTo>
                  <a:pt x="27476" y="7493"/>
                </a:lnTo>
                <a:lnTo>
                  <a:pt x="25640" y="7493"/>
                </a:lnTo>
                <a:lnTo>
                  <a:pt x="25640" y="12828"/>
                </a:lnTo>
                <a:cubicBezTo>
                  <a:pt x="25640" y="15596"/>
                  <a:pt x="23064" y="18155"/>
                  <a:pt x="20296" y="18155"/>
                </a:cubicBezTo>
                <a:lnTo>
                  <a:pt x="18633" y="18155"/>
                </a:lnTo>
                <a:cubicBezTo>
                  <a:pt x="15866" y="18155"/>
                  <a:pt x="13289" y="15596"/>
                  <a:pt x="1328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821800" cy="63356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rmAutofit/>
          </a:bodyPr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ычесть дроби с разными знаменателям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ведите сво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100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172360" y="5832360"/>
            <a:ext cx="636840" cy="339840"/>
          </a:xfrm>
          <a:custGeom>
            <a:avLst/>
            <a:gdLst>
              <a:gd name="textAreaLeft" fmla="*/ 21960 w 636840"/>
              <a:gd name="textAreaRight" fmla="*/ 614880 w 63684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0457" h="21600">
                <a:moveTo>
                  <a:pt x="0" y="0"/>
                </a:moveTo>
                <a:lnTo>
                  <a:pt x="40457" y="0"/>
                </a:lnTo>
                <a:lnTo>
                  <a:pt x="40457" y="21600"/>
                </a:lnTo>
                <a:lnTo>
                  <a:pt x="0" y="21600"/>
                </a:lnTo>
                <a:close/>
              </a:path>
              <a:path fill="lightenLess" w="40457" h="21600">
                <a:moveTo>
                  <a:pt x="0" y="0"/>
                </a:moveTo>
                <a:lnTo>
                  <a:pt x="40457" y="0"/>
                </a:lnTo>
                <a:lnTo>
                  <a:pt x="39057" y="1400"/>
                </a:lnTo>
                <a:lnTo>
                  <a:pt x="1400" y="1400"/>
                </a:lnTo>
                <a:close/>
              </a:path>
              <a:path fill="darken" w="40457" h="21600">
                <a:moveTo>
                  <a:pt x="40457" y="0"/>
                </a:moveTo>
                <a:lnTo>
                  <a:pt x="40457" y="21600"/>
                </a:lnTo>
                <a:lnTo>
                  <a:pt x="39057" y="20200"/>
                </a:lnTo>
                <a:lnTo>
                  <a:pt x="39057" y="1400"/>
                </a:lnTo>
                <a:close/>
              </a:path>
              <a:path fill="darkenLess" w="40457" h="21600">
                <a:moveTo>
                  <a:pt x="40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7" y="20200"/>
                </a:lnTo>
                <a:close/>
              </a:path>
              <a:path fill="lighten" w="40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57" h="21600">
                <a:moveTo>
                  <a:pt x="13222" y="7493"/>
                </a:moveTo>
                <a:lnTo>
                  <a:pt x="16730" y="7493"/>
                </a:lnTo>
                <a:lnTo>
                  <a:pt x="16730" y="12828"/>
                </a:lnTo>
                <a:cubicBezTo>
                  <a:pt x="16730" y="13751"/>
                  <a:pt x="17530" y="14482"/>
                  <a:pt x="18566" y="14482"/>
                </a:cubicBezTo>
                <a:lnTo>
                  <a:pt x="20229" y="14482"/>
                </a:lnTo>
                <a:cubicBezTo>
                  <a:pt x="21264" y="14482"/>
                  <a:pt x="22065" y="13751"/>
                  <a:pt x="22065" y="12828"/>
                </a:cubicBezTo>
                <a:lnTo>
                  <a:pt x="22065" y="7493"/>
                </a:lnTo>
                <a:lnTo>
                  <a:pt x="20229" y="7493"/>
                </a:lnTo>
                <a:lnTo>
                  <a:pt x="23736" y="3985"/>
                </a:lnTo>
                <a:lnTo>
                  <a:pt x="27409" y="7493"/>
                </a:lnTo>
                <a:lnTo>
                  <a:pt x="25573" y="7493"/>
                </a:lnTo>
                <a:lnTo>
                  <a:pt x="25573" y="12828"/>
                </a:lnTo>
                <a:cubicBezTo>
                  <a:pt x="25573" y="15596"/>
                  <a:pt x="22996" y="18155"/>
                  <a:pt x="20229" y="18155"/>
                </a:cubicBezTo>
                <a:lnTo>
                  <a:pt x="18566" y="18155"/>
                </a:lnTo>
                <a:cubicBezTo>
                  <a:pt x="15798" y="18155"/>
                  <a:pt x="13222" y="15596"/>
                  <a:pt x="1322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3:38:37Z</dcterms:created>
  <dc:creator>kost</dc:creator>
  <dc:description/>
  <dc:language>en-US</dc:language>
  <cp:lastModifiedBy>Kost</cp:lastModifiedBy>
  <dcterms:modified xsi:type="dcterms:W3CDTF">2007-10-17T17:43:19Z</dcterms:modified>
  <cp:revision>13</cp:revision>
  <dc:subject/>
  <dc:title>Слайд 1</dc:title>
</cp:coreProperties>
</file>