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204-3F48-45D9-BFFF-50099380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FA9-8404-40C6-BC70-02DD12AE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C33-7E62-4CF8-894D-B8B4D1F9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713-27EF-42DE-B1B0-F9F1FA96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1120-F99D-4AC6-9DAB-E1691DAD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F38B-FD5A-4E1C-A427-362EF758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4942-CAD4-438D-92C9-FFEA5E65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A999-1225-4093-B3AA-54EF9C58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EDCE-C605-4C4A-90C6-5BF99CCF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B3DF-A3EC-481E-AE11-D907B433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4EC1-11DE-44EA-BF72-FE7897F3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98F-1E6F-4160-9994-D3A94466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9104-ED1E-4EE5-A068-38429EBD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A298-1AF1-428A-A64A-94FE8C26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0DA1-8D25-4DE9-90CE-C1027B26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BC03-FE7C-4760-80B9-820AE3AA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0E27-3F72-404D-8460-032E2222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B09-1E3D-4A6D-B4E0-C9E56714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543-BE1D-42AB-887C-A51FA93E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500-458B-481E-A1F3-511BDAD7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FA04-4CF0-4C57-9186-C27426C4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5FF-19CA-46C2-A08A-DB8A7651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0DF3-AC6D-4BFA-9C76-5FE208D8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627-438A-4710-9508-339086DD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FE0C-EC83-491F-9B1B-6AC005B570B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720" y="59760"/>
              <a:ext cx="3620520" cy="6132600"/>
              <a:chOff x="5409720" y="59760"/>
              <a:chExt cx="3620520" cy="61326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4520"/>
                <a:ext cx="211392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6240"/>
                <a:ext cx="90540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8400"/>
                <a:ext cx="43884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120" y="6706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840" y="264528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520" y="12430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08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6280"/>
              <a:ext cx="893160" cy="824760"/>
              <a:chOff x="5650560" y="29628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040" y="47052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600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9960"/>
              <a:ext cx="1059120" cy="829800"/>
              <a:chOff x="968760" y="525996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516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520"/>
                <a:ext cx="44892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4381-6FF2-4E07-AC90-E424F6E00F9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Горбатова Людмила Степановна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читель начальных классо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МБОУ «СОШ №1 им. М. А. Бухтуева» г. Кызы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Чтение – вот лучшее учени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А. С. Пушкин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Содержимое 3" descr="C:\Documents and Settings\Пользователь\Мои документы\Мои результаты сканировани\2010-02 (фев)\сканирование0001.jpg"/>
          <p:cNvPicPr/>
          <p:nvPr/>
        </p:nvPicPr>
        <p:blipFill>
          <a:blip r:embed="rId1"/>
          <a:stretch/>
        </p:blipFill>
        <p:spPr>
          <a:xfrm>
            <a:off x="4532400" y="849240"/>
            <a:ext cx="319716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ыразительност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8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ним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сознанный пересказ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2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Проблем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егодняшний мир — иной. Компьютер и телевизор отняли у детей время и желание читать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Родители жалуются, что детей трудно заставить читать. Часто обращаются к педагогам за советом: как пробудить у ребенка интерес к чтению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Группы детей по сформированности  читательских умений и интереса к чтению.</a:t>
            </a: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Читают художественные произведения сверх программных требований, увлекаются художественной литературо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Читают только программные произвед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Читают программные произведения, пропуская пейзажные зарисовки, сокращая монологи и др.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Читают программные произведения по популярным сборникам в значительном сокращении, либо только по учебнику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е читают  совсем. Чтение для них тяжелое брем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Н.Н.Сметанникова выделила три уровня компетенций чтения: низший, средний и высший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600200"/>
          <a:ext cx="8229600" cy="4056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сший уровен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редний уровен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изкий уровен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еглое чтение про себя текстов своего уровня из разных источников с полным пониманием</a:t>
                      </a: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остаточно беглое чтение текстов своего уровня из разных источников с хорошим пониманием</a:t>
                      </a: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амостоятельное беглое чтение текстов своего уровня из разных источников с хорошим пониманием затруднено</a:t>
                      </a: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гадывание значений слов, непонимание текста при трудностях техники чтения в случае самостоятельного чтения текстов своего уровня</a:t>
                      </a: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440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Цель работ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3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создание условий для развития читательской компетентности  у младших школьников и достижение более высокого уровня ее развития  по всем показателям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чебная деятельност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роки чт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роки внеклассного чт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Литературное чтен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Литературные проект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нкурсы, олимпиады, соревнова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ррекционные логопедические занят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ррекционные занятия психолог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я для развития беглости чте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 группа – упражнения для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сширения поля зр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 группа – упражнения для  активизации органов реч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я для развития выразительного чте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ля развития дыха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ля развития голос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ля дикц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Содержимое 4" descr="SN850559.JPG"/>
          <p:cNvPicPr/>
          <p:nvPr/>
        </p:nvPicPr>
        <p:blipFill>
          <a:blip r:embed="rId1"/>
          <a:stretch/>
        </p:blipFill>
        <p:spPr>
          <a:xfrm>
            <a:off x="4648320" y="2313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520" y="1447920"/>
            <a:ext cx="619308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Развитие читательской компетентности учащихся начальных классов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54331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Упражнения для формирования правильности чтения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 группа – направлена на развитие внимания, памя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 группа – упражнения со словами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абота со словарям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1" name="Содержимое 4" descr="SN850567.JPG"/>
          <p:cNvPicPr/>
          <p:nvPr/>
        </p:nvPicPr>
        <p:blipFill>
          <a:blip r:embed="rId1"/>
          <a:stretch/>
        </p:blipFill>
        <p:spPr>
          <a:xfrm>
            <a:off x="457200" y="2313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12" name="Содержимое 5" descr="SN850619.JPG"/>
          <p:cNvPicPr/>
          <p:nvPr/>
        </p:nvPicPr>
        <p:blipFill>
          <a:blip r:embed="rId2"/>
          <a:stretch/>
        </p:blipFill>
        <p:spPr>
          <a:xfrm>
            <a:off x="4648320" y="2313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я для развития осознанного чте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огические упражн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гры по составлению слов со слова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бота над деформированными текстами, неоконченными рассказа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бота с текстом (с учебником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ндивидуальная работа с ребёнком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6" name="Содержимое 3" descr="SN850574.JPG"/>
          <p:cNvPicPr/>
          <p:nvPr/>
        </p:nvPicPr>
        <p:blipFill>
          <a:blip r:embed="rId1"/>
          <a:stretch/>
        </p:blipFill>
        <p:spPr>
          <a:xfrm>
            <a:off x="1601640" y="1600200"/>
            <a:ext cx="59407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неклассная деятельност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сещение театра, кин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ружковая работ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сещение библиоте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оектная деятель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комендации родителям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полнение домашнего задания по чтени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суждение с ребенком прочитанног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емейное чт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дписка на детские журнал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едение читательских дневник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азвитие читательского интерес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2" name="Содержимое 4" descr="SN850570.JPG"/>
          <p:cNvPicPr/>
          <p:nvPr/>
        </p:nvPicPr>
        <p:blipFill>
          <a:blip r:embed="rId1"/>
          <a:stretch/>
        </p:blipFill>
        <p:spPr>
          <a:xfrm>
            <a:off x="457200" y="2313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3" name="Содержимое 5" descr="SN850645.JPG"/>
          <p:cNvPicPr/>
          <p:nvPr/>
        </p:nvPicPr>
        <p:blipFill>
          <a:blip r:embed="rId2"/>
          <a:stretch/>
        </p:blipFill>
        <p:spPr>
          <a:xfrm>
            <a:off x="4648320" y="2313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азвитие читательского интерес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5" name="Содержимое 4" descr="SN850616.JPG"/>
          <p:cNvPicPr/>
          <p:nvPr/>
        </p:nvPicPr>
        <p:blipFill>
          <a:blip r:embed="rId1"/>
          <a:stretch/>
        </p:blipFill>
        <p:spPr>
          <a:xfrm>
            <a:off x="457200" y="2313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6" name="Содержимое 5" descr="SN850657.JPG"/>
          <p:cNvPicPr/>
          <p:nvPr/>
        </p:nvPicPr>
        <p:blipFill>
          <a:blip r:embed="rId2"/>
          <a:stretch/>
        </p:blipFill>
        <p:spPr>
          <a:xfrm>
            <a:off x="4648320" y="2313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380880"/>
            <a:ext cx="82440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казатели успеш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ложительное отношение к самой читательской деятельности ("люблю читать")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заинтересованность конкретными книгами ("хочу эти книги")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влечение самим процессом чтения ("не могу оторваться от книги")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тремление поделиться с другими радостью от общения с книгой ("хочу, чтобы другие об этой книге узнали")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Феномен читательского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интерес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"Нет наслаждения книгой, — говорил С. Соловейчик, — нет чтения, нет читателя. Безучастное перелистывание страниц, холодное наблюдение за происходящим в книге — это не чтение. Любование искусством писателя и поэта, смакование слова и сочетаний слов, восторг по поводу удачного выражения, изумление перед мастерством изображения и описания, волнение, вызванное глубиной мысли, — вот чтение"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ФЕДЕРАЛЬНЫЙ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ГОСУДАРСТВЕННЫЙ ОБРАЗОВАТЕЛЬНЫЙ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СТАНДАРТ ОБЩЕГО ОБРАЗОВАНИЯ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Начальное общее образование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Цель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– нравственно-эстетическое воспитание и развитие учащихся в процессе обучения чтению; формирование способности полноценно и глубоко воспринимать художественную литературу на основе изучения основ теории литературы, практики анализа художественного текста и опыта самостоятельной творческой деятельности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24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Задачи: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владение навыком осознанного, правильного, беглого и выразительного чтения как базовым в системе образования младших школьников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формирование читательского кругозора и приобретение опыта самостоятельной читательской деятельности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овершенствование всех видов речевой деятельности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владение начальными навыками работы с учебными и научно-познавательными текстам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оспитание интереса к чтению и книг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4400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Успешность решения поставленных задач осуществляется в процессе реализации совокупности следующих методов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600" cy="4197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РГАНИЗАЦИИ ДЕЯТЕЛЬНОСТИ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ТИМУЛИРОВАНИЯ ДЕЯТЕЛЬНОСТИ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уче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пражне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заимооценк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каз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хвал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дража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ощре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ребова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оревнова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искусси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ощре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есед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хвал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гр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тимулирова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24364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Предметная компетентность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технике чтения, приемах и понимании прочитанного и прослушанного произведения;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знании детских книг и умение их самостоятельно выбирать;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стойчивом интересе к самостоятельной читательской деятельности (читательская самостоятельность);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мении устанавливать причинно-следственные связи в художественном, учебном, научно-популярном тексте, построение логических рассуждений, доказательств;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мении работать с некоторыми типами текстов (повествование, описание, рассуждение, отзыв, создание собственных мини-сочинений;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мении выделять главную мысль художественного текста;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мении интерпретировать текст в устном словесном пересказе, сочинении;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мении сравнивать искусство слова с другими видами искусства (живопись, театр, кино, музыка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роявлении художественно-творческих способов действий читателя, слушателя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исателя и т.д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243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Актуальность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егодня читательская культура личности высоко оценивается мировым сообщество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днако в России, как и во многих странах мира, наблюдается снижение уровня читательской культуры населения. В результате огромного количества перемен в жизни общества за последние двадцать лет статус чтения, его роль, отношение к нему сильно меняется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Данные по технике чтени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80880" y="1600200"/>
          <a:ext cx="8305920" cy="4648320"/>
        </p:xfrm>
        <a:graphic>
          <a:graphicData uri="http://schemas.openxmlformats.org/drawingml/2006/table">
            <a:tbl>
              <a:tblPr/>
              <a:tblGrid>
                <a:gridCol w="1722600"/>
                <a:gridCol w="1646280"/>
                <a:gridCol w="1644480"/>
                <a:gridCol w="1646280"/>
                <a:gridCol w="1646280"/>
              </a:tblGrid>
              <a:tr h="22690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од обучения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сокий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ровень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ше нормы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иже нормы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 класс 2016г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2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9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 класс 2017г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7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 класс 2018г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6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6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50"/>
          <p:cNvSpPr/>
          <p:nvPr/>
        </p:nvSpPr>
        <p:spPr>
          <a:xfrm>
            <a:off x="593640" y="2394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мп чте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6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</cp:lastModifiedBy>
  <dcterms:modified xsi:type="dcterms:W3CDTF">2018-04-08T07:00:55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