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B4E3A-82E5-4788-928A-9566E85F4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804D0-4311-46BF-B773-CB02544FD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5B1C2-0F32-41FB-BCA0-836ACFD8B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563D3-054F-47D7-BF53-066FEDFB0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617D6-EE83-43D7-90A6-C08F6C0B6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AF79A-0C96-4F2D-8E26-61100142E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651B5-4FC0-4CBA-9E63-8594A19ED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E74C7-CEE8-4CCD-B213-DC2155468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D3CD7-67A7-4EA0-AFD7-D1F45DE6F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D9AB9-C847-40BB-A2B1-D178E2447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D1606-1F3F-4AE2-85E0-78ACE37E4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66FCC-AFB7-4747-925B-09AE90C03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29D41-A720-4D11-86CE-CDC35FA69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31117-B93A-477D-92F6-81A732D7C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7BBD8-CA16-4479-AE97-26740DBB8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D19B8-E6EB-444C-9B81-4214D014A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A8CD8-993E-40F7-AE03-176228BC6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504FA-749C-436E-958E-56C6DDCB5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095E5-6571-4A52-A17E-990CA6D19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5A333-E56B-4102-B962-DC1BA9ECF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E85E3-362B-43FC-89A1-36CE46063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9B434-AE7B-45F6-B84C-CFDA06083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5A37A-BABA-4AA4-9259-DB7BC47C5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27564-36F7-4DFD-9D36-D070D99FD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8200" y="3847680"/>
                <a:ext cx="65520" cy="18180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1760" y="4054320"/>
                <a:ext cx="1834200" cy="1664640"/>
                <a:chOff x="851760" y="4054320"/>
                <a:chExt cx="1834200" cy="166464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4680" y="3942720"/>
                  <a:ext cx="476280" cy="122328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37480" y="4976640"/>
                  <a:ext cx="110160" cy="50220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0920" y="5568120"/>
                  <a:ext cx="199800" cy="8532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280" y="6172920"/>
              <a:ext cx="790920" cy="635400"/>
              <a:chOff x="467280" y="6172920"/>
              <a:chExt cx="790920" cy="63540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1600" y="6171480"/>
                <a:ext cx="196560" cy="2559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58880" y="6512760"/>
                <a:ext cx="336600" cy="212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640" y="6410880"/>
                <a:ext cx="352080" cy="108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5CFD9-30D6-4F6C-BCA6-089CE7A5CE0F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50400" cy="6858000"/>
            <a:chOff x="-20160" y="0"/>
            <a:chExt cx="905040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409720" y="59760"/>
              <a:ext cx="3620520" cy="6132600"/>
              <a:chOff x="5409720" y="59760"/>
              <a:chExt cx="3620520" cy="613260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3320" y="344520"/>
                <a:ext cx="2113920" cy="235656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22120" y="1956240"/>
                <a:ext cx="905400" cy="84276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4160" y="2588400"/>
                <a:ext cx="438840" cy="39492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51120" y="670680"/>
                <a:ext cx="38880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52840" y="2645280"/>
                <a:ext cx="16308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39520" y="1243080"/>
                <a:ext cx="190080" cy="14256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40000" y="2930400"/>
                <a:ext cx="523080" cy="326772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3480" y="3106800"/>
              <a:ext cx="512280" cy="103032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400" y="2000160"/>
              <a:ext cx="199836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116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4520" y="4532400"/>
              <a:ext cx="56160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7560" y="4728960"/>
              <a:ext cx="13788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88920" y="5195880"/>
              <a:ext cx="175860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49720" y="1033560"/>
              <a:ext cx="1015200" cy="1262160"/>
              <a:chOff x="4149720" y="1033560"/>
              <a:chExt cx="1015200" cy="126216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63720" y="1071360"/>
                <a:ext cx="285840" cy="378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48680" y="1604520"/>
                <a:ext cx="488880" cy="3142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09760" y="1962000"/>
                <a:ext cx="511200" cy="1602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50560" y="296280"/>
              <a:ext cx="893160" cy="824760"/>
              <a:chOff x="5650560" y="296280"/>
              <a:chExt cx="893160" cy="82476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62160" y="790200"/>
                <a:ext cx="179280" cy="361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11040" y="470520"/>
                <a:ext cx="306360" cy="300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54280" y="396000"/>
                <a:ext cx="319320" cy="153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68760" y="5259960"/>
              <a:ext cx="1059120" cy="829800"/>
              <a:chOff x="968760" y="5259960"/>
              <a:chExt cx="1059120" cy="82980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711080" y="5524920"/>
                <a:ext cx="250920" cy="299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93040" y="5735160"/>
                <a:ext cx="429480" cy="2487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60120" y="5384520"/>
                <a:ext cx="448920" cy="12672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75840" y="444960"/>
              <a:ext cx="1690200" cy="1146600"/>
              <a:chOff x="375840" y="444960"/>
              <a:chExt cx="1690200" cy="114660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76080" y="1063440"/>
                <a:ext cx="35532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22760" y="588600"/>
                <a:ext cx="608400" cy="4406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78640" y="1102320"/>
                <a:ext cx="636120" cy="22392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383960" y="3712320"/>
              <a:ext cx="1155600" cy="1607760"/>
              <a:chOff x="7383960" y="3712320"/>
              <a:chExt cx="1155600" cy="160776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38680" y="4755960"/>
                <a:ext cx="35532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889400" y="4455360"/>
                <a:ext cx="608040" cy="4406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581960" y="3781080"/>
                <a:ext cx="635760" cy="22428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1760" y="3240"/>
              <a:ext cx="136800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25040" y="161280"/>
              <a:ext cx="108072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69080" y="1361160"/>
              <a:ext cx="52344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29440" y="1282320"/>
              <a:ext cx="195120" cy="37044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4120" y="0"/>
              <a:ext cx="19656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48800" y="1963800"/>
              <a:ext cx="62352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688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95BD6-5506-43A1-A679-F4131A180BF0}" type="slidenum">
              <a:rPr b="0" lang="ru-RU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66"/>
                </a:solidFill>
                <a:latin typeface="Verdana"/>
              </a:rPr>
              <a:t>Горбатова Людмила Степановна</a:t>
            </a:r>
            <a:endParaRPr b="0" lang="en-US" sz="2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Учитель начальных классов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МБОУ «СОШ №1 им. М. А. Бухтуева» г. Кызыл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Чтение – вот лучшее учение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А. С. Пушкин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69" name="Содержимое 3" descr="C:\Documents and Settings\Пользователь\Мои документы\Мои результаты сканировани\2010-02 (фев)\сканирование0001.jpg"/>
          <p:cNvPicPr/>
          <p:nvPr/>
        </p:nvPicPr>
        <p:blipFill>
          <a:blip r:embed="rId1"/>
          <a:stretch/>
        </p:blipFill>
        <p:spPr>
          <a:xfrm>
            <a:off x="4532400" y="849240"/>
            <a:ext cx="3197160" cy="47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Выразительность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8" name="Содержимое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4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Понимание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0" name="Содержимое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4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Осознанный пересказ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2" name="Содержимое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4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Verdana"/>
              </a:rPr>
              <a:t>Проблема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99"/>
                </a:solidFill>
                <a:latin typeface="Verdana"/>
              </a:rPr>
              <a:t>Сегодняшний мир — иной. Компьютер и телевизор отняли у детей время и желание читать.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99"/>
                </a:solidFill>
                <a:latin typeface="Verdana"/>
              </a:rPr>
              <a:t>Родители жалуются, что детей трудно заставить читать. Часто обращаются к педагогам за советом: как пробудить у ребенка интерес к чтению?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Verdana"/>
              </a:rPr>
              <a:t>Группы детей по сформированности  читательских умений и интереса к чтению.</a:t>
            </a:r>
            <a:r>
              <a:rPr b="0" lang="ru-RU" sz="2800" spc="-1" strike="noStrike">
                <a:solidFill>
                  <a:srgbClr val="006666"/>
                </a:solidFill>
                <a:latin typeface="Verdana"/>
              </a:rPr>
              <a:t> 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Читают художественные произведения сверх программных требований, увлекаются художественной литературой;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Читают только программные произведения;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Читают программные произведения, пропуская пейзажные зарисовки, сокращая монологи и др.;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Читают программные произведения по популярным сборникам в значительном сокращении, либо только по учебнику;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Не читают  совсем. Чтение для них тяжелое бремя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66"/>
                </a:solidFill>
                <a:latin typeface="Verdana"/>
              </a:rPr>
              <a:t>Н.Н.Сметанникова выделила три уровня компетенций чтения: низший, средний и высший.</a:t>
            </a: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457200" y="1600200"/>
          <a:ext cx="8229600" cy="405612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944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Высший уровень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Средний уровень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Низкий уровень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311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Беглое чтение про себя текстов своего уровня из разных источников с полным пониманием</a:t>
                      </a:r>
                      <a:r>
                        <a:rPr b="0" lang="ru-RU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 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Достаточно беглое чтение текстов своего уровня из разных источников с хорошим пониманием</a:t>
                      </a:r>
                      <a:r>
                        <a:rPr b="0" lang="ru-RU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 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Самостоятельное беглое чтение текстов своего уровня из разных источников с хорошим пониманием затруднено</a:t>
                      </a:r>
                      <a:r>
                        <a:rPr b="0" lang="ru-RU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 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Угадывание значений слов, непонимание текста при трудностях техники чтения в случае самостоятельного чтения текстов своего уровня</a:t>
                      </a:r>
                      <a:r>
                        <a:rPr b="0" lang="ru-RU" sz="16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 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244000" cy="103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Цель работы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37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9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99"/>
                </a:solidFill>
                <a:latin typeface="Verdana"/>
              </a:rPr>
              <a:t>создание условий для развития читательской компетентности  у младших школьников и достижение более высокого уровня ее развития  по всем показателям.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Учебная деятельность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Уроки чтения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Уроки внеклассного чтения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Литературное чтение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Литературные проекты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Конкурсы, олимпиады, соревнования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Коррекционные логопедические занятия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Коррекционные занятия психолога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Упражнения для развития беглости чтения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1 группа – упражнения для          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                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расширения поля зрения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2 группа – упражнения для  активизации органов речи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Упражнения для развития выразительного чтения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600200"/>
            <a:ext cx="403848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Для развития дыхания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Для развития голоса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Для дикции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07" name="Содержимое 4" descr="SN850559.JPG"/>
          <p:cNvPicPr/>
          <p:nvPr/>
        </p:nvPicPr>
        <p:blipFill>
          <a:blip r:embed="rId1"/>
          <a:stretch/>
        </p:blipFill>
        <p:spPr>
          <a:xfrm>
            <a:off x="4648320" y="231300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23520" y="1447920"/>
            <a:ext cx="6193080" cy="358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6666"/>
                </a:solidFill>
                <a:latin typeface="Verdana"/>
              </a:rPr>
              <a:t>Развитие читательской компетентности учащихся начальных классов</a:t>
            </a:r>
            <a:endParaRPr b="0" lang="en-US" sz="4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1371600" y="5433120"/>
            <a:ext cx="6400800" cy="1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Verdana"/>
              </a:rPr>
              <a:t>Упражнения для формирования правильности чтения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1 группа – направлена на развитие внимания, памяти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2 группа – упражнения со словами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Работа со словарями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1" name="Содержимое 4" descr="SN850567.JPG"/>
          <p:cNvPicPr/>
          <p:nvPr/>
        </p:nvPicPr>
        <p:blipFill>
          <a:blip r:embed="rId1"/>
          <a:stretch/>
        </p:blipFill>
        <p:spPr>
          <a:xfrm>
            <a:off x="457200" y="231300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212" name="Содержимое 5" descr="SN850619.JPG"/>
          <p:cNvPicPr/>
          <p:nvPr/>
        </p:nvPicPr>
        <p:blipFill>
          <a:blip r:embed="rId2"/>
          <a:stretch/>
        </p:blipFill>
        <p:spPr>
          <a:xfrm>
            <a:off x="4648320" y="231300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Упражнения для развития осознанного чтения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Логические упражнения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Игры по составлению слов со словами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Работа над деформированными текстами, неоконченными рассказами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Работа с текстом (с учебником)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Индивидуальная работа с ребёнком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6" name="Содержимое 3" descr="SN850574.JPG"/>
          <p:cNvPicPr/>
          <p:nvPr/>
        </p:nvPicPr>
        <p:blipFill>
          <a:blip r:embed="rId1"/>
          <a:stretch/>
        </p:blipFill>
        <p:spPr>
          <a:xfrm>
            <a:off x="1601640" y="1600200"/>
            <a:ext cx="5940720" cy="44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Внеклассная деятельность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Посещение театра, кино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Кружковая работа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Посещение библиотеки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Проектная деятельность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Рекомендации родителям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Выполнение домашнего задания по чтению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Обсуждение с ребенком прочитанного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Семейное чтение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Подписка на детские журналы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Ведение читательских дневников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Развитие читательского интереса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2" name="Содержимое 4" descr="SN850570.JPG"/>
          <p:cNvPicPr/>
          <p:nvPr/>
        </p:nvPicPr>
        <p:blipFill>
          <a:blip r:embed="rId1"/>
          <a:stretch/>
        </p:blipFill>
        <p:spPr>
          <a:xfrm>
            <a:off x="457200" y="231300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223" name="Содержимое 5" descr="SN850645.JPG"/>
          <p:cNvPicPr/>
          <p:nvPr/>
        </p:nvPicPr>
        <p:blipFill>
          <a:blip r:embed="rId2"/>
          <a:stretch/>
        </p:blipFill>
        <p:spPr>
          <a:xfrm>
            <a:off x="4648320" y="231300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Развитие читательского интереса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5" name="Содержимое 4" descr="SN850616.JPG"/>
          <p:cNvPicPr/>
          <p:nvPr/>
        </p:nvPicPr>
        <p:blipFill>
          <a:blip r:embed="rId1"/>
          <a:stretch/>
        </p:blipFill>
        <p:spPr>
          <a:xfrm>
            <a:off x="457200" y="231300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226" name="Содержимое 5" descr="SN850657.JPG"/>
          <p:cNvPicPr/>
          <p:nvPr/>
        </p:nvPicPr>
        <p:blipFill>
          <a:blip r:embed="rId2"/>
          <a:stretch/>
        </p:blipFill>
        <p:spPr>
          <a:xfrm>
            <a:off x="4648320" y="231300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42800" y="380880"/>
            <a:ext cx="8244000" cy="103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Показатели успешности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положительное отношение к самой читательской деятельности ("люблю читать");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29040" indent="-32904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заинтересованность конкретными книгами ("хочу эти книги");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29040" indent="-32904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увлечение самим процессом чтения ("не могу оторваться от книги");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29040" indent="-32904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стремление поделиться с другими радостью от общения с книгой ("хочу, чтобы другие об этой книге узнали").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66"/>
                </a:solidFill>
                <a:latin typeface="Verdana"/>
              </a:rPr>
              <a:t>Феномен читательского</a:t>
            </a:r>
            <a:r>
              <a:rPr b="0" lang="ru-RU" sz="4000" spc="-1" strike="noStrike">
                <a:solidFill>
                  <a:srgbClr val="006666"/>
                </a:solidFill>
                <a:latin typeface="Verdana"/>
              </a:rPr>
              <a:t> </a:t>
            </a:r>
            <a:r>
              <a:rPr b="1" lang="ru-RU" sz="4000" spc="-1" strike="noStrike">
                <a:solidFill>
                  <a:srgbClr val="006666"/>
                </a:solidFill>
                <a:latin typeface="Verdana"/>
              </a:rPr>
              <a:t>интереса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"Нет наслаждения книгой, — говорил С. Соловейчик, — нет чтения, нет читателя. Безучастное перелистывание страниц, холодное наблюдение за происходящим в книге — это не чтение. Любование искусством писателя и поэта, смакование слова и сочетаний слов, восторг по поводу удачного выражения, изумление перед мастерством изображения и описания, волнение, вызванное глубиной мысли, — вот чтение"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66"/>
                </a:solidFill>
                <a:latin typeface="Verdana"/>
              </a:rPr>
              <a:t>ФЕДЕРАЛЬНЫЙ</a:t>
            </a:r>
            <a:br>
              <a:rPr sz="2400"/>
            </a:br>
            <a:r>
              <a:rPr b="1" lang="ru-RU" sz="2400" spc="-1" strike="noStrike">
                <a:solidFill>
                  <a:srgbClr val="006666"/>
                </a:solidFill>
                <a:latin typeface="Verdana"/>
              </a:rPr>
              <a:t>ГОСУДАРСТВЕННЫЙ ОБРАЗОВАТЕЛЬНЫЙ</a:t>
            </a:r>
            <a:br>
              <a:rPr sz="2400"/>
            </a:br>
            <a:r>
              <a:rPr b="1" lang="ru-RU" sz="2400" spc="-1" strike="noStrike">
                <a:solidFill>
                  <a:srgbClr val="006666"/>
                </a:solidFill>
                <a:latin typeface="Verdana"/>
              </a:rPr>
              <a:t>СТАНДАРТ ОБЩЕГО ОБРАЗОВАНИЯ</a:t>
            </a:r>
            <a:br>
              <a:rPr sz="2400"/>
            </a:br>
            <a:r>
              <a:rPr b="1" lang="ru-RU" sz="2400" spc="-1" strike="noStrike">
                <a:solidFill>
                  <a:srgbClr val="006666"/>
                </a:solidFill>
                <a:latin typeface="Verdana"/>
              </a:rPr>
              <a:t>Начальное общее образование</a:t>
            </a: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2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99"/>
                </a:solidFill>
                <a:latin typeface="Verdana"/>
              </a:rPr>
              <a:t>Цель 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– нравственно-эстетическое воспитание и развитие учащихся в процессе обучения чтению; формирование способности полноценно и глубоко воспринимать художественную литературу на основе изучения основ теории литературы, практики анализа художественного текста и опыта самостоятельной творческой деятельности.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33160" y="456840"/>
            <a:ext cx="82436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Verdana"/>
              </a:rPr>
              <a:t>Задачи: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овладение навыком осознанного, правильного, беглого и выразительного чтения как базовым в системе образования младших школьников;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формирование читательского кругозора и приобретение опыта самостоятельной читательской деятельности;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совершенствование всех видов речевой деятельности;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овладение начальными навыками работы с учебными и научно-познавательными текстами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воспитание интереса к чтению и книге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44000" cy="1036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66"/>
                </a:solidFill>
                <a:latin typeface="Verdana"/>
              </a:rPr>
              <a:t>Успешность решения поставленных задач осуществляется в процессе реализации совокупности следующих методов:</a:t>
            </a: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457200" y="1600200"/>
          <a:ext cx="8229600" cy="41972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ОРГАНИЗАЦИИ ДЕЯТЕЛЬНОСТИ 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СТИМУЛИРОВАНИЯ ДЕЯТЕЛЬНОСТИ 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Приучение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Оценка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Упражнение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Взаимооценка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4460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Показ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Похвала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4428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Подражание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Поощрение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4460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Требование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Соревнование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Дискуссия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Поощрение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Беседа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Похвала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443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Игра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Стимулирование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8243640" cy="579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Verdana"/>
              </a:rPr>
              <a:t>Предметная компетентность</a:t>
            </a:r>
            <a:r>
              <a:rPr b="0" lang="ru-RU" sz="40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15328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технике чтения, приемах и понимании прочитанного и прослушанного произведения;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знании детских книг и умение их самостоятельно выбирать;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устойчивом интересе к самостоятельной читательской деятельности (читательская самостоятельность);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умении устанавливать причинно-следственные связи в художественном, учебном, научно-популярном тексте, построение логических рассуждений, доказательств;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умении работать с некоторыми типами текстов (повествование, описание, рассуждение, отзыв, создание собственных мини-сочинений;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умении выделять главную мысль художественного текста;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умении интерпретировать текст в устном словесном пересказе, сочинении;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умении сравнивать искусство слова с другими видами искусства (живопись, театр, кино, музыка)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проявлении художественно-творческих способов действий читателя, слушателя,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      </a:t>
            </a: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писателя и т.д.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824364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66"/>
                </a:solidFill>
                <a:latin typeface="Verdana"/>
              </a:rPr>
              <a:t>Актуальность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33520" y="11430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Сегодня читательская культура личности высоко оценивается мировым сообществом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Однако в России, как и во многих странах мира, наблюдается снижение уровня читательской культуры населения. В результате огромного количества перемен в жизни общества за последние двадцать лет статус чтения, его роль, отношение к нему сильно меняется.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66"/>
                </a:solidFill>
                <a:latin typeface="Verdana"/>
              </a:rPr>
              <a:t>Данные по технике чтения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380880" y="1600200"/>
          <a:ext cx="8305920" cy="4648320"/>
        </p:xfrm>
        <a:graphic>
          <a:graphicData uri="http://schemas.openxmlformats.org/drawingml/2006/table">
            <a:tbl>
              <a:tblPr/>
              <a:tblGrid>
                <a:gridCol w="1722600"/>
                <a:gridCol w="1646280"/>
                <a:gridCol w="1644480"/>
                <a:gridCol w="1646280"/>
                <a:gridCol w="1646280"/>
              </a:tblGrid>
              <a:tr h="2269080">
                <a:tc>
                  <a:txBody>
                    <a:bodyPr lIns="90000" rIns="90000" tIns="46800" bIns="46800" anchor="t" anchorCtr="1" vert="eaVer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Год обучения</a:t>
                      </a:r>
                      <a:endParaRPr b="0" lang="en-US" sz="2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 vert="eaVer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Высокий</a:t>
                      </a:r>
                      <a:endParaRPr b="0" lang="en-US" sz="2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Уровень</a:t>
                      </a:r>
                      <a:endParaRPr b="0" lang="en-US" sz="2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 vert="eaVer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Выше нормы</a:t>
                      </a:r>
                      <a:endParaRPr b="0" lang="en-US" sz="2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 vert="eaVer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Норма</a:t>
                      </a:r>
                      <a:endParaRPr b="0" lang="en-US" sz="2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 vert="eaVer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Ниже нормы</a:t>
                      </a:r>
                      <a:endParaRPr b="0" lang="en-US" sz="2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81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2 класс 2016г.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3%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26%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42%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29%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81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3 класс 2017г.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12%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28%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43%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17%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747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4 класс 2018г.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16%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32%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46%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6%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4" name="Text Box 50"/>
          <p:cNvSpPr/>
          <p:nvPr/>
        </p:nvSpPr>
        <p:spPr>
          <a:xfrm>
            <a:off x="593640" y="2394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Темп чтения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6" name="Содержимое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4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Людмила</cp:lastModifiedBy>
  <dcterms:modified xsi:type="dcterms:W3CDTF">2018-04-08T07:00:55Z</dcterms:modified>
  <cp:revision>2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