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C1B-495F-40ED-A785-2F41B966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CED-C096-4041-8D74-8F75A2B2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9A7-C419-4D5E-A230-8E574B43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9FC-7C1F-41F2-B11C-4A48C314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CF15-0F2F-425D-8509-AE0A6D8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1540-1B8A-4259-9001-44CC033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E10-76ED-4A5D-990D-5768B46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F840-BD70-4074-9D37-150D780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556-14AE-4E5A-8D86-1DCA5A03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2D92-705D-4B8C-B2D3-01DDCD72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04A3-A8E6-4033-9B73-E9A7B80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D10-C5BE-4FD5-93BD-A57567F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3CCF-2492-46B4-90D6-92DCCE2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1C5-3B8C-4D01-BD58-8F3DE66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071-A262-49FB-BB13-43AD009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12EA-DABC-4DE5-BB7E-483A483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A1A-E049-46E5-ACE5-3A17A5EF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35D5A-CB1C-4C5E-ACE5-A97E4331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ADB54-B844-4D0F-8F24-4D36D1B5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45FD5-A9B3-44A6-8480-5C0CCE0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75CF9-8F0C-45C4-9C7E-C7F6E944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B5B6B-0D46-4E83-9CEE-7A3A9DC4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2E-7D87-4C7E-B87C-80EB7A6C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53F02-084A-42C7-B9A4-C43D215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D3C4B-D962-422C-909E-1972F46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CA54C-F99E-42C7-819B-97A609A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76718-48C8-4113-8AE6-61505AF7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0FBD2-3457-466E-88E9-4E824CB0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043EF-2E2C-4E6B-A4B4-72FBEA5C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5A7C5-1C82-4EFA-A2BC-302560C7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DAE-0210-482E-AD2D-3A788C8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F7C-B1E4-40C1-9055-806E5934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E19-99D6-495D-9BC8-935A06B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493-1B22-4D20-AE39-CB81AD2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3D3-7598-4D13-AFA6-E24ABF5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73A-06B8-4229-A9CE-D3FF868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210-3660-484F-B886-6C4121E00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8E9-5045-4DF8-ADA2-D924F3025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08F6-64D3-418C-B02E-B3B0A7678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05.07г. Классная работ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гол. Измерение угло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234900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 1. Повторить виды уг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Отработать навык  построения уг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Подготовиться к тестировани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ьно ли названы углы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Т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                    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                  КЕР, РЕК, 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56360" y="1197000"/>
          <a:ext cx="57924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1197000"/>
                    <a:ext cx="579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33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349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0960" y="200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209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84360" y="24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227664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7162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02240" y="193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016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428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067280" y="4508640"/>
            <a:ext cx="576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4508640"/>
            <a:ext cx="2592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67760" y="6184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532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6932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43280" y="5157720"/>
          <a:ext cx="43200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5157720"/>
                    <a:ext cx="432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те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1                     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4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31640" y="1844640"/>
            <a:ext cx="215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3640" y="1844640"/>
            <a:ext cx="122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5653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492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365720"/>
            <a:ext cx="158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7280" y="3141360"/>
            <a:ext cx="792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508360" y="2997360"/>
            <a:ext cx="19429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587640" y="620640"/>
            <a:ext cx="86364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019640" y="4076640"/>
            <a:ext cx="43164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076640"/>
            <a:ext cx="187308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013360"/>
            <a:ext cx="237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5084640"/>
            <a:ext cx="3240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421000"/>
            <a:ext cx="287280" cy="71280"/>
          </a:xfrm>
          <a:custGeom>
            <a:avLst/>
            <a:gdLst/>
            <a:ahLst/>
            <a:rect l="l" t="t" r="r" b="b"/>
            <a:pathLst>
              <a:path w="181" h="45">
                <a:moveTo>
                  <a:pt x="0" y="0"/>
                </a:moveTo>
                <a:cubicBezTo>
                  <a:pt x="71" y="19"/>
                  <a:pt x="143" y="38"/>
                  <a:pt x="181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 rot="8133600">
            <a:off x="4604760" y="2423880"/>
            <a:ext cx="720000" cy="7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93080" y="2421000"/>
            <a:ext cx="2851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5064000">
            <a:off x="2822400" y="4610160"/>
            <a:ext cx="349920" cy="90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74" y="35"/>
                </a:moveTo>
                <a:arcTo wR="10800" hR="10800" stAng="-5121493" swAng="4820934"/>
                <a:lnTo>
                  <a:pt x="10800" y="10800"/>
                </a:lnTo>
                <a:close/>
              </a:path>
              <a:path fill="none" w="21600" h="21600">
                <a:moveTo>
                  <a:pt x="11674" y="35"/>
                </a:moveTo>
                <a:arcTo wR="10800" hR="10800" stAng="-5121493" swAng="48209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04360" y="450792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780000" y="4581360"/>
            <a:ext cx="1425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458136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4:01:01Z</dcterms:created>
  <dc:creator>Kost</dc:creator>
  <dc:description/>
  <dc:language>en-US</dc:language>
  <cp:lastModifiedBy>Kost</cp:lastModifiedBy>
  <dcterms:modified xsi:type="dcterms:W3CDTF">2007-05-16T14:47:48Z</dcterms:modified>
  <cp:revision>4</cp:revision>
  <dc:subject/>
  <dc:title>17.05.07г. Классная работа Угол. Измерение углов.</dc:title>
</cp:coreProperties>
</file>