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F833-8FEE-44F7-8E2D-FE9C42EB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F14B-65A8-468C-BB5C-831BC6DA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81F7-F788-43D1-A5A3-DFBB862F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4800-3CB0-40D0-87A8-70484C2C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BD84-92C9-4BBB-88E1-D205B876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0E0F-BA51-4069-ACAB-8A1C23FB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7176-FC2D-48B4-9A9F-FF5C1A8F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A266-B99F-4B06-9C8F-BEB8CAAB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B9D8-638C-4700-8856-F9469984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D86B-0E10-47C8-8A33-26184B58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4354-81EB-403C-9B4C-38F1C1C2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74FB-E396-4CB9-BBBA-E443D84E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7D09-7117-4510-BC29-299EF738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8C7B-0352-4950-B94A-05AED658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C905-C285-497B-B26B-C60C246B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86BF-1F9A-4B9F-86A2-F8E7618F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13DB-5F62-4814-95C3-B35F58BB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4A5899-B8A0-4DB3-AECF-39022EF1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22AC9F-F3B8-4EFE-9CFC-2DA2C2B9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091E6B-3D8C-4E9B-A4DE-EF85B7C6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7DCB21-0710-4AD1-A1D0-2A2B3759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A8982-AE94-401B-832C-37434819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581F-F49F-4FA4-972A-5C9CE0AC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F27276-3715-40FD-84D3-C2A9AC84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75FD9B-C25A-4A20-9639-09CFC66C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3AFF06-0B5B-4F06-90B4-6214F5DD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865721-AF79-486B-90E0-7A9E29AD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7082E-E111-40CD-B3E1-E7B8E45E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C002FC-D3C4-42D7-BB59-D2582200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2D5FC-0000-4750-8B05-E3311F26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1FF1-1A70-42B7-A205-43AA2563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9F93-D32A-4099-9BF5-DFAA0504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5BB9-180E-4E00-9890-4E239CF5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B32A-B30E-4161-A905-20172751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E44A-53E2-478F-8DA2-BACBA438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969D-AAAE-4944-8630-090AD875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B8E5-7707-4010-A983-768ED48D9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CBEF-9749-4E8A-9CAF-87F1D86330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F27A-AA50-46D1-9695-EAD9F093C8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17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.05.07г. Классная работа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Угол. Измерение углов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-360" y="2349000"/>
            <a:ext cx="8893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Цель: 1. Повторить виды угл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.Отработать навык  построения уг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. Подготовиться к тестированию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вильно ли названы углы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МТ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1                                 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А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3                   КЕР, РЕК, К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156360" y="1197000"/>
          <a:ext cx="57924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1197000"/>
                    <a:ext cx="5792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332000" y="23493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2349360"/>
            <a:ext cx="223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20960" y="2008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20960" y="38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84360" y="2440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2276640"/>
            <a:ext cx="8636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0" y="371628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02240" y="1936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10160" y="3716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144280" y="3736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067280" y="4508640"/>
            <a:ext cx="576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3280" y="4508640"/>
            <a:ext cx="259272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67760" y="61848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05320" y="4024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69320" y="4889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643280" y="5157720"/>
          <a:ext cx="43200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5157720"/>
                    <a:ext cx="4320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йдите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1                     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4                                     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331640" y="1844640"/>
            <a:ext cx="21564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23640" y="1844640"/>
            <a:ext cx="122364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2565360"/>
            <a:ext cx="33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59280" y="249228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4360" y="4365720"/>
            <a:ext cx="15829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067280" y="3141360"/>
            <a:ext cx="792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508360" y="2997360"/>
            <a:ext cx="19429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587640" y="620640"/>
            <a:ext cx="86364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7019640" y="4076640"/>
            <a:ext cx="43164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20000" y="4076640"/>
            <a:ext cx="187308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5013360"/>
            <a:ext cx="2376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0360" y="5084640"/>
            <a:ext cx="324000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2421000"/>
            <a:ext cx="287280" cy="71280"/>
          </a:xfrm>
          <a:custGeom>
            <a:avLst/>
            <a:gdLst/>
            <a:ahLst/>
            <a:rect l="l" t="t" r="r" b="b"/>
            <a:pathLst>
              <a:path w="181" h="45">
                <a:moveTo>
                  <a:pt x="0" y="0"/>
                </a:moveTo>
                <a:cubicBezTo>
                  <a:pt x="71" y="19"/>
                  <a:pt x="143" y="38"/>
                  <a:pt x="181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 rot="8133600">
            <a:off x="4604760" y="2423880"/>
            <a:ext cx="720000" cy="72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093080" y="2421000"/>
            <a:ext cx="28512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 rot="5064000">
            <a:off x="2822400" y="4610160"/>
            <a:ext cx="349920" cy="90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74" y="35"/>
                </a:moveTo>
                <a:arcTo wR="10800" hR="10800" stAng="-5121493" swAng="4820934"/>
                <a:lnTo>
                  <a:pt x="10800" y="10800"/>
                </a:lnTo>
                <a:close/>
              </a:path>
              <a:path fill="none" w="21600" h="21600">
                <a:moveTo>
                  <a:pt x="11674" y="35"/>
                </a:moveTo>
                <a:arcTo wR="10800" hR="10800" stAng="-5121493" swAng="482093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804360" y="4507920"/>
            <a:ext cx="720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780000" y="4581360"/>
            <a:ext cx="1425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24360" y="4581360"/>
            <a:ext cx="288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4:01:01Z</dcterms:created>
  <dc:creator>Kost</dc:creator>
  <dc:description/>
  <dc:language>en-US</dc:language>
  <cp:lastModifiedBy>Kost</cp:lastModifiedBy>
  <dcterms:modified xsi:type="dcterms:W3CDTF">2007-05-16T14:47:48Z</dcterms:modified>
  <cp:revision>4</cp:revision>
  <dc:subject/>
  <dc:title>17.05.07г. Классная работа Угол. Измерение углов.</dc:title>
</cp:coreProperties>
</file>