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F6F-82EE-4B00-B122-96FE68E0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198-84E7-4818-A97B-E88810B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0BB-A403-49B0-A854-83FD719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2E1-2BEC-4225-A7A5-28A29899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2AE4-498C-45FB-A43A-FDE7AF9D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99B-6F1E-4BA8-A341-046127A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1B57-CA6D-4E1F-BE54-4E9D9C18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174E-2119-4A1C-81F0-6B87376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491-4716-4C9E-B1E2-4E1E8FC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75F-7C8A-4E2E-8B20-0B4AC8D6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5A5-C6FA-43C8-8E3F-C324384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1A4-4D34-496C-8627-59187A2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F21-31FF-4A6D-BD43-D88DA6CC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9BE-E036-4A78-8C99-0EC9AAB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718E-D5BE-464C-9382-8046EB0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8B5-F104-4481-8332-2A9AB69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0535-C01F-4E28-9F8B-66B5FA58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7AB95-84BB-4253-9E45-A61ACB34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08C5A-B0B9-466B-82C8-5ED9320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7134E-DC12-4275-BC22-703D6D53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4172-D728-42E9-8BCE-DB2B49A7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B4FC4-488C-4BB6-9A6E-7C8CA35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94E-7ACB-4D9C-84AC-0627AAF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76CC0-5A83-4BCD-8103-C0A21DDC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4758A-5E47-4559-AE0E-0DEB7CBD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8D562-5702-4D70-B1ED-5067922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6FA2F-3237-4331-95F3-953EE4FD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F7158-6E8C-4B42-B184-234FFDA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48474-87F0-4562-93E6-D870CC11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FC684-11C8-4CCF-A409-6774593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1CE-023A-4A8B-AE87-A0B8F7B7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E6F-6D12-438D-B2DE-D83F4A3E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70C-08AC-48CD-A81D-B6EABC6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29D-4DCF-4FDE-8930-8540F01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85F-A902-4662-A657-6AEF20F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88A-4F5E-427E-8B9B-49155BD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35C-E69F-4BFF-B381-3886A1E9E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832-ABE2-4A47-860A-9E41CCCCA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11F-A96A-4322-AEF8-8B485A492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3"/>
          <p:cNvSpPr/>
          <p:nvPr/>
        </p:nvSpPr>
        <p:spPr>
          <a:xfrm>
            <a:off x="826920" y="4508640"/>
            <a:ext cx="2737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усал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4"/>
          <p:cNvSpPr/>
          <p:nvPr/>
        </p:nvSpPr>
        <p:spPr>
          <a:xfrm>
            <a:off x="755640" y="2637000"/>
            <a:ext cx="1728720" cy="86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сто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3708360" y="2852640"/>
            <a:ext cx="172728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нешни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6300720" y="4724280"/>
            <a:ext cx="1727280" cy="865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м пит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Прямая со стрелкой 9"/>
          <p:cNvCxnSpPr/>
          <p:nvPr/>
        </p:nvCxnSpPr>
        <p:spPr>
          <a:xfrm flipV="1">
            <a:off x="3419280" y="3933000"/>
            <a:ext cx="86580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10"/>
          <p:cNvCxnSpPr/>
          <p:nvPr/>
        </p:nvCxnSpPr>
        <p:spPr>
          <a:xfrm flipV="1">
            <a:off x="1476000" y="3572640"/>
            <a:ext cx="1080" cy="86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11"/>
          <p:cNvCxnSpPr/>
          <p:nvPr/>
        </p:nvCxnSpPr>
        <p:spPr>
          <a:xfrm flipV="1">
            <a:off x="3924360" y="5229000"/>
            <a:ext cx="2232720" cy="7200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Прямая со стрелкой 14"/>
          <p:cNvCxnSpPr/>
          <p:nvPr/>
        </p:nvCxnSpPr>
        <p:spPr>
          <a:xfrm flipH="1" flipV="1">
            <a:off x="4211280" y="1772640"/>
            <a:ext cx="216720" cy="86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15"/>
          <p:cNvCxnSpPr/>
          <p:nvPr/>
        </p:nvCxnSpPr>
        <p:spPr>
          <a:xfrm flipV="1">
            <a:off x="5076360" y="213300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16"/>
          <p:cNvCxnSpPr/>
          <p:nvPr/>
        </p:nvCxnSpPr>
        <p:spPr>
          <a:xfrm flipV="1">
            <a:off x="6804000" y="3357000"/>
            <a:ext cx="216720" cy="1224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Прямая со стрелкой 17"/>
          <p:cNvCxnSpPr/>
          <p:nvPr/>
        </p:nvCxnSpPr>
        <p:spPr>
          <a:xfrm flipV="1">
            <a:off x="7811640" y="407592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3" name="Прямая со стрелкой 20"/>
          <p:cNvCxnSpPr/>
          <p:nvPr/>
        </p:nvCxnSpPr>
        <p:spPr>
          <a:xfrm flipV="1">
            <a:off x="1979280" y="1772640"/>
            <a:ext cx="864360" cy="64836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Прямая со стрелкой 21"/>
          <p:cNvCxnSpPr/>
          <p:nvPr/>
        </p:nvCxnSpPr>
        <p:spPr>
          <a:xfrm flipH="1" flipV="1">
            <a:off x="899640" y="1196640"/>
            <a:ext cx="288000" cy="1152720"/>
          </a:xfrm>
          <a:prstGeom prst="straightConnector1">
            <a:avLst/>
          </a:prstGeom>
          <a:ln w="982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E:\все про школу\4 класс\4 класс Ира Б\литература\I полугодие\12 Андерсен\рисунки\3.jpg"/>
          <p:cNvPicPr/>
          <p:nvPr/>
        </p:nvPicPr>
        <p:blipFill>
          <a:blip r:embed="rId1"/>
          <a:stretch/>
        </p:blipFill>
        <p:spPr>
          <a:xfrm>
            <a:off x="3203640" y="2637000"/>
            <a:ext cx="2798640" cy="37303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8" descr=""/>
          <p:cNvPicPr/>
          <p:nvPr/>
        </p:nvPicPr>
        <p:blipFill>
          <a:blip r:embed="rId2"/>
          <a:stretch/>
        </p:blipFill>
        <p:spPr>
          <a:xfrm>
            <a:off x="-85680" y="231840"/>
            <a:ext cx="9144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8" name="Содержимое 3" descr="0_21ac1_79b1fbb8_L.jpeg"/>
          <p:cNvPicPr/>
          <p:nvPr/>
        </p:nvPicPr>
        <p:blipFill>
          <a:blip r:embed="rId1"/>
          <a:stretch/>
        </p:blipFill>
        <p:spPr>
          <a:xfrm>
            <a:off x="-39600" y="0"/>
            <a:ext cx="40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0_725c_580a1ff9_XL.jpeg"/>
          <p:cNvPicPr/>
          <p:nvPr/>
        </p:nvPicPr>
        <p:blipFill>
          <a:blip r:embed="rId2"/>
          <a:stretch/>
        </p:blipFill>
        <p:spPr>
          <a:xfrm>
            <a:off x="3857760" y="115920"/>
            <a:ext cx="52862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0" descr="b_67240.jpg"/>
          <p:cNvPicPr/>
          <p:nvPr/>
        </p:nvPicPr>
        <p:blipFill>
          <a:blip r:embed="rId1"/>
          <a:stretch/>
        </p:blipFill>
        <p:spPr>
          <a:xfrm>
            <a:off x="-6480" y="476280"/>
            <a:ext cx="918396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0" descr="3i.jpeg"/>
          <p:cNvPicPr/>
          <p:nvPr/>
        </p:nvPicPr>
        <p:blipFill>
          <a:blip r:embed="rId1"/>
          <a:stretch/>
        </p:blipFill>
        <p:spPr>
          <a:xfrm>
            <a:off x="855720" y="0"/>
            <a:ext cx="6885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6" descr="disney-cinderella-scarlett-johanson.jpg"/>
          <p:cNvPicPr/>
          <p:nvPr/>
        </p:nvPicPr>
        <p:blipFill>
          <a:blip r:embed="rId1"/>
          <a:stretch/>
        </p:blipFill>
        <p:spPr>
          <a:xfrm>
            <a:off x="1187280" y="-95400"/>
            <a:ext cx="66582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4" descr="sirenos06-41k.jpg"/>
          <p:cNvPicPr/>
          <p:nvPr/>
        </p:nvPicPr>
        <p:blipFill>
          <a:blip r:embed="rId1"/>
          <a:stretch/>
        </p:blipFill>
        <p:spPr>
          <a:xfrm>
            <a:off x="539640" y="15840"/>
            <a:ext cx="77774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все про школу\4 класс\4 класс Ира Б\литература\I полугодие\12 Андерсен\рисунки\3.jpg"/>
          <p:cNvPicPr/>
          <p:nvPr/>
        </p:nvPicPr>
        <p:blipFill>
          <a:blip r:embed="rId1"/>
          <a:stretch/>
        </p:blipFill>
        <p:spPr>
          <a:xfrm>
            <a:off x="3203640" y="2637000"/>
            <a:ext cx="2798640" cy="373032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8" descr=""/>
          <p:cNvPicPr/>
          <p:nvPr/>
        </p:nvPicPr>
        <p:blipFill>
          <a:blip r:embed="rId2"/>
          <a:stretch/>
        </p:blipFill>
        <p:spPr>
          <a:xfrm>
            <a:off x="-85680" y="231840"/>
            <a:ext cx="9144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611280" y="2133720"/>
            <a:ext cx="7993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виз 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440" y="-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440" y="-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096920" y="214632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т сказок лучше тех, котор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ёт  сама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4720" y="1413000"/>
            <a:ext cx="396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Жил-был принц. И пришло ему время жениться. Он хотел взять себе в жены непременно принцессу, да не какую-нибудь, а самую настоящую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HELOVEK"/>
          <p:cNvPicPr/>
          <p:nvPr/>
        </p:nvPicPr>
        <p:blipFill>
          <a:blip r:embed="rId1"/>
          <a:stretch/>
        </p:blipFill>
        <p:spPr>
          <a:xfrm>
            <a:off x="684360" y="595008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43720" y="5877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ринцесса на горош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hb_1"/>
          <p:cNvPicPr/>
          <p:nvPr/>
        </p:nvPicPr>
        <p:blipFill>
          <a:blip r:embed="rId2"/>
          <a:stretch/>
        </p:blipFill>
        <p:spPr>
          <a:xfrm>
            <a:off x="1547640" y="1125360"/>
            <a:ext cx="235116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b_3"/>
          <p:cNvPicPr/>
          <p:nvPr/>
        </p:nvPicPr>
        <p:blipFill>
          <a:blip r:embed="rId3"/>
          <a:stretch/>
        </p:blipFill>
        <p:spPr>
          <a:xfrm>
            <a:off x="7236000" y="5013360"/>
            <a:ext cx="838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43192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Жила на свете одна женщина. У неё не было детей. А ей очень хотелось ребеночка. Вот пошла она к старой колдунье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HELOVEK"/>
          <p:cNvPicPr/>
          <p:nvPr/>
        </p:nvPicPr>
        <p:blipFill>
          <a:blip r:embed="rId1"/>
          <a:stretch/>
        </p:blipFill>
        <p:spPr>
          <a:xfrm>
            <a:off x="1835280" y="595008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395880" y="58770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Image_4"/>
          <p:cNvPicPr/>
          <p:nvPr/>
        </p:nvPicPr>
        <p:blipFill>
          <a:blip r:embed="rId2"/>
          <a:stretch/>
        </p:blipFill>
        <p:spPr>
          <a:xfrm>
            <a:off x="4643280" y="907920"/>
            <a:ext cx="3473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0" y="3715920"/>
            <a:ext cx="396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анс Христи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дерсе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1805-187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portret_v_rame"/>
          <p:cNvPicPr/>
          <p:nvPr/>
        </p:nvPicPr>
        <p:blipFill>
          <a:blip r:embed="rId1"/>
          <a:stretch/>
        </p:blipFill>
        <p:spPr>
          <a:xfrm>
            <a:off x="468360" y="404640"/>
            <a:ext cx="359100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8532720" y="5937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211640" y="9079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зд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мирно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сенар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имых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66978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1956 году была учрежден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еждународная преми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мени Г.Х. Андерсена,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торую часто называют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Малой нобелевской преми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342864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суждается она раз в два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началу премия Андерсена присуждалась только автору лучшей детской книг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 с 1966 года её выдают ещё и лучшему художнику-иллюстрат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05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мя  Г.Х. Андерсена  носит золотая медаль, которой награждаются лучшие в мире детские писатели и художники-иллюстраторы детских кни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лучить эту медаль так же почётно, как стать Нобелевским лауреа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710560" y="6021360"/>
            <a:ext cx="4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Медаль Андерсена"/>
          <p:cNvPicPr/>
          <p:nvPr/>
        </p:nvPicPr>
        <p:blipFill>
          <a:blip r:embed="rId1"/>
          <a:stretch/>
        </p:blipFill>
        <p:spPr>
          <a:xfrm>
            <a:off x="3203640" y="3429000"/>
            <a:ext cx="252072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нь рождения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.Х. Андерсена - 2 апреля -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1967 года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л отмечаться ещё и как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ждународный день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тской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е странное созданье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прекрасно сложе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в море или в океан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волной и пеною друж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дно морское ей знакомо -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одводном царстве рожде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, мечтой своей влеком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астенько плавала од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орской, неведомой пучин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аздумьях детских о душе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ведала людской кручины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вица взрослая у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не совсем, чтобы девиц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рыбкой тоже не назва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все ждала земного принц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 с милым счастье испытать</a:t>
            </a: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487440"/>
            <a:ext cx="4595760" cy="160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E:\все про школу\4 класс\4 класс Ира Б\литература\I полугодие\12 Андерсен\рисунки\4.jpg"/>
          <p:cNvPicPr/>
          <p:nvPr/>
        </p:nvPicPr>
        <p:blipFill>
          <a:blip r:embed="rId2"/>
          <a:stretch/>
        </p:blipFill>
        <p:spPr>
          <a:xfrm>
            <a:off x="2268360" y="1989000"/>
            <a:ext cx="6597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27:56Z</dcterms:created>
  <dc:creator>Admin</dc:creator>
  <dc:description/>
  <dc:language>en-US</dc:language>
  <cp:lastModifiedBy>МАША</cp:lastModifiedBy>
  <dcterms:modified xsi:type="dcterms:W3CDTF">2017-10-09T16:47:34Z</dcterms:modified>
  <cp:revision>7</cp:revision>
  <dc:subject/>
  <dc:title>Слайд 1</dc:title>
</cp:coreProperties>
</file>