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9CE-15CF-4F09-85C6-C6EBD876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84C-9992-42AE-8880-321C50C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B51-232B-4427-8A76-6539B244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3E5-A1D1-4B78-9FD3-24D71A8E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DAED-4E03-401D-936A-3AE1BB1B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3409-9DDA-4E99-9CD9-BAD9EF85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C9DE-E145-40EF-ABE8-028C91C7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8513-1F5B-49FD-9B82-593DD93F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802C-0D9F-44E7-BB40-2AB9C22C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92E3-33E2-48EB-B25E-A2FB7218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7D5B-DE20-4E4F-8396-4419E93E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E38-B513-4920-85AC-D9C6E95F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D72B-DD31-4098-A4DE-E78723C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5A62-30CC-4913-AC8D-576DF477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DD17-C656-4BC4-96CE-79A0403A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354C-FCBA-4E6C-BF8D-F6F743D9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511C-1C81-44C7-AC1F-396E020A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8E679-7569-47B2-8DAB-59CF4C25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1BD2E-7321-4E2F-B763-8A189F27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8B522-DE74-42AD-9550-03CA7338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14B5F-85D7-4DC0-BC18-7DBCA218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7A7D4-7C6A-45A8-BB67-44E882A7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6B2-3E36-4006-B8F5-D60D0D5C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FD44B-72E7-4D2A-B374-211727CA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AF6C0-4900-4A31-98BF-4565D740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A8699-5A8F-421A-AD27-BFA3FF6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00F4E-B341-4F75-88FE-C3130D1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F6775-5880-4A03-966A-47B9C215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A1AB1-A43D-46ED-9E16-7AD29D13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B6E5E-4631-4E1E-AE17-2F9550B1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F11-81EB-4F62-8C49-88A0ED9B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1F9-A29A-48B6-805E-7BD755E0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863-6E1E-4AE4-B2C9-7F339576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272-DE37-4A60-8985-86764613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3A2-3B87-4F16-93D2-BDA42A3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E75-FFBC-4778-8359-359E56E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BE9D-EF72-4A94-98DE-B67D1C3BB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76B8-2FBE-4C5A-9B56-8D966C111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6449-8EE3-46CD-8ACB-0D409EA22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итературное чт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Овал 3"/>
          <p:cNvSpPr/>
          <p:nvPr/>
        </p:nvSpPr>
        <p:spPr>
          <a:xfrm>
            <a:off x="826920" y="4508640"/>
            <a:ext cx="2737080" cy="144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усал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4"/>
          <p:cNvSpPr/>
          <p:nvPr/>
        </p:nvSpPr>
        <p:spPr>
          <a:xfrm>
            <a:off x="755640" y="2637000"/>
            <a:ext cx="1728720" cy="86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есто об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6"/>
          <p:cNvSpPr/>
          <p:nvPr/>
        </p:nvSpPr>
        <p:spPr>
          <a:xfrm>
            <a:off x="3708360" y="2852640"/>
            <a:ext cx="1727280" cy="863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нешни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6300720" y="4724280"/>
            <a:ext cx="1727280" cy="865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м пит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Прямая со стрелкой 9"/>
          <p:cNvCxnSpPr/>
          <p:nvPr/>
        </p:nvCxnSpPr>
        <p:spPr>
          <a:xfrm flipV="1">
            <a:off x="3419280" y="3933000"/>
            <a:ext cx="865800" cy="648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Прямая со стрелкой 10"/>
          <p:cNvCxnSpPr/>
          <p:nvPr/>
        </p:nvCxnSpPr>
        <p:spPr>
          <a:xfrm flipV="1">
            <a:off x="1476000" y="3572640"/>
            <a:ext cx="1080" cy="864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Прямая со стрелкой 11"/>
          <p:cNvCxnSpPr/>
          <p:nvPr/>
        </p:nvCxnSpPr>
        <p:spPr>
          <a:xfrm flipV="1">
            <a:off x="3924360" y="5229000"/>
            <a:ext cx="2232720" cy="7200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Прямая со стрелкой 14"/>
          <p:cNvCxnSpPr/>
          <p:nvPr/>
        </p:nvCxnSpPr>
        <p:spPr>
          <a:xfrm flipH="1" flipV="1">
            <a:off x="4211280" y="1772640"/>
            <a:ext cx="216720" cy="864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Прямая со стрелкой 15"/>
          <p:cNvCxnSpPr/>
          <p:nvPr/>
        </p:nvCxnSpPr>
        <p:spPr>
          <a:xfrm flipV="1">
            <a:off x="5076360" y="2133000"/>
            <a:ext cx="864360" cy="648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Прямая со стрелкой 16"/>
          <p:cNvCxnSpPr/>
          <p:nvPr/>
        </p:nvCxnSpPr>
        <p:spPr>
          <a:xfrm flipV="1">
            <a:off x="6804000" y="3357000"/>
            <a:ext cx="216720" cy="1224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Прямая со стрелкой 17"/>
          <p:cNvCxnSpPr/>
          <p:nvPr/>
        </p:nvCxnSpPr>
        <p:spPr>
          <a:xfrm flipV="1">
            <a:off x="7811640" y="4075920"/>
            <a:ext cx="864360" cy="648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3" name="Прямая со стрелкой 20"/>
          <p:cNvCxnSpPr/>
          <p:nvPr/>
        </p:nvCxnSpPr>
        <p:spPr>
          <a:xfrm flipV="1">
            <a:off x="1979280" y="1772640"/>
            <a:ext cx="864360" cy="648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4" name="Прямая со стрелкой 21"/>
          <p:cNvCxnSpPr/>
          <p:nvPr/>
        </p:nvCxnSpPr>
        <p:spPr>
          <a:xfrm flipH="1" flipV="1">
            <a:off x="899640" y="1196640"/>
            <a:ext cx="288000" cy="115272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E:\все про школу\4 класс\4 класс Ира Б\литература\I полугодие\12 Андерсен\рисунки\3.jpg"/>
          <p:cNvPicPr/>
          <p:nvPr/>
        </p:nvPicPr>
        <p:blipFill>
          <a:blip r:embed="rId1"/>
          <a:stretch/>
        </p:blipFill>
        <p:spPr>
          <a:xfrm>
            <a:off x="3203640" y="2637000"/>
            <a:ext cx="2798640" cy="373032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8" descr=""/>
          <p:cNvPicPr/>
          <p:nvPr/>
        </p:nvPicPr>
        <p:blipFill>
          <a:blip r:embed="rId2"/>
          <a:stretch/>
        </p:blipFill>
        <p:spPr>
          <a:xfrm>
            <a:off x="-85680" y="231840"/>
            <a:ext cx="9144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68" name="Содержимое 3" descr="0_21ac1_79b1fbb8_L.jpeg"/>
          <p:cNvPicPr/>
          <p:nvPr/>
        </p:nvPicPr>
        <p:blipFill>
          <a:blip r:embed="rId1"/>
          <a:stretch/>
        </p:blipFill>
        <p:spPr>
          <a:xfrm>
            <a:off x="-39600" y="0"/>
            <a:ext cx="40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0_725c_580a1ff9_XL.jpeg"/>
          <p:cNvPicPr/>
          <p:nvPr/>
        </p:nvPicPr>
        <p:blipFill>
          <a:blip r:embed="rId2"/>
          <a:stretch/>
        </p:blipFill>
        <p:spPr>
          <a:xfrm>
            <a:off x="3857760" y="115920"/>
            <a:ext cx="52862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0" descr="b_67240.jpg"/>
          <p:cNvPicPr/>
          <p:nvPr/>
        </p:nvPicPr>
        <p:blipFill>
          <a:blip r:embed="rId1"/>
          <a:stretch/>
        </p:blipFill>
        <p:spPr>
          <a:xfrm>
            <a:off x="-6480" y="476280"/>
            <a:ext cx="918396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0" descr="3i.jpeg"/>
          <p:cNvPicPr/>
          <p:nvPr/>
        </p:nvPicPr>
        <p:blipFill>
          <a:blip r:embed="rId1"/>
          <a:stretch/>
        </p:blipFill>
        <p:spPr>
          <a:xfrm>
            <a:off x="855720" y="0"/>
            <a:ext cx="6885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6" descr="disney-cinderella-scarlett-johanson.jpg"/>
          <p:cNvPicPr/>
          <p:nvPr/>
        </p:nvPicPr>
        <p:blipFill>
          <a:blip r:embed="rId1"/>
          <a:stretch/>
        </p:blipFill>
        <p:spPr>
          <a:xfrm>
            <a:off x="1187280" y="-95400"/>
            <a:ext cx="66582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4" descr="sirenos06-41k.jpg"/>
          <p:cNvPicPr/>
          <p:nvPr/>
        </p:nvPicPr>
        <p:blipFill>
          <a:blip r:embed="rId1"/>
          <a:stretch/>
        </p:blipFill>
        <p:spPr>
          <a:xfrm>
            <a:off x="539640" y="15840"/>
            <a:ext cx="777744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E:\все про школу\4 класс\4 класс Ира Б\литература\I полугодие\12 Андерсен\рисунки\3.jpg"/>
          <p:cNvPicPr/>
          <p:nvPr/>
        </p:nvPicPr>
        <p:blipFill>
          <a:blip r:embed="rId1"/>
          <a:stretch/>
        </p:blipFill>
        <p:spPr>
          <a:xfrm>
            <a:off x="3203640" y="2637000"/>
            <a:ext cx="2798640" cy="373032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8" descr=""/>
          <p:cNvPicPr/>
          <p:nvPr/>
        </p:nvPicPr>
        <p:blipFill>
          <a:blip r:embed="rId2"/>
          <a:stretch/>
        </p:blipFill>
        <p:spPr>
          <a:xfrm>
            <a:off x="-85680" y="231840"/>
            <a:ext cx="9144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611280" y="2133720"/>
            <a:ext cx="7993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за урок!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виз 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440" y="-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440" y="-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096920" y="2146320"/>
            <a:ext cx="68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т сказок лучше тех, котор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ёт  сама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284720" y="1413000"/>
            <a:ext cx="396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Жил-был принц. И пришло ему время жениться. Он хотел взять себе в жены непременно принцессу, да не какую-нибудь, а самую настоящую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CHELOVEK"/>
          <p:cNvPicPr/>
          <p:nvPr/>
        </p:nvPicPr>
        <p:blipFill>
          <a:blip r:embed="rId1"/>
          <a:stretch/>
        </p:blipFill>
        <p:spPr>
          <a:xfrm>
            <a:off x="684360" y="595008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043720" y="587700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ринцесса на гороши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hb_1"/>
          <p:cNvPicPr/>
          <p:nvPr/>
        </p:nvPicPr>
        <p:blipFill>
          <a:blip r:embed="rId2"/>
          <a:stretch/>
        </p:blipFill>
        <p:spPr>
          <a:xfrm>
            <a:off x="1547640" y="1125360"/>
            <a:ext cx="2351160" cy="417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hb_3"/>
          <p:cNvPicPr/>
          <p:nvPr/>
        </p:nvPicPr>
        <p:blipFill>
          <a:blip r:embed="rId3"/>
          <a:stretch/>
        </p:blipFill>
        <p:spPr>
          <a:xfrm>
            <a:off x="7236000" y="5013360"/>
            <a:ext cx="83808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43192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Жила на свете одна женщина. У неё не было детей. А ей очень хотелось ребеночка. Вот пошла она к старой колдунье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HELOVEK"/>
          <p:cNvPicPr/>
          <p:nvPr/>
        </p:nvPicPr>
        <p:blipFill>
          <a:blip r:embed="rId1"/>
          <a:stretch/>
        </p:blipFill>
        <p:spPr>
          <a:xfrm>
            <a:off x="1835280" y="595008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395880" y="587700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Дюймовоч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Image_4"/>
          <p:cNvPicPr/>
          <p:nvPr/>
        </p:nvPicPr>
        <p:blipFill>
          <a:blip r:embed="rId2"/>
          <a:stretch/>
        </p:blipFill>
        <p:spPr>
          <a:xfrm>
            <a:off x="4643280" y="907920"/>
            <a:ext cx="34736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0" y="3715920"/>
            <a:ext cx="396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анс Христи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дерсе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1805-187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portret_v_rame"/>
          <p:cNvPicPr/>
          <p:nvPr/>
        </p:nvPicPr>
        <p:blipFill>
          <a:blip r:embed="rId1"/>
          <a:stretch/>
        </p:blipFill>
        <p:spPr>
          <a:xfrm>
            <a:off x="468360" y="404640"/>
            <a:ext cx="3591000" cy="4824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8532720" y="5937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4211640" y="9079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зд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мирно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всенаро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юбимых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66978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1956 году была учрежден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еждународная преми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мени Г.Х. Андерсена,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торую часто называют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Малой нобелевской преми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3428640"/>
            <a:ext cx="79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суждается она раз в два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началу премия Андерсена присуждалась только автору лучшей детской книг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 с 1966 года её выдают ещё и лучшему художнику-иллюстрато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280" y="475920"/>
            <a:ext cx="705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мя  Г.Х. Андерсена  носит золотая медаль, которой награждаются лучшие в мире детские писатели и художники-иллюстраторы детских кни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лучить эту медаль так же почётно, как стать Нобелевским лауреа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710560" y="6021360"/>
            <a:ext cx="43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Медаль Андерсена"/>
          <p:cNvPicPr/>
          <p:nvPr/>
        </p:nvPicPr>
        <p:blipFill>
          <a:blip r:embed="rId1"/>
          <a:stretch/>
        </p:blipFill>
        <p:spPr>
          <a:xfrm>
            <a:off x="3203640" y="3429000"/>
            <a:ext cx="252072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3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нь рождения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.Х. Андерсена - 2 апреля -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 1967 года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л отмечаться ещё и как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ждународный день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тской кни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е странное созданье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а прекрасно сложен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в море или в океане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волной и пеною друж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дно морское ей знакомо -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одводном царстве рожден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а, мечтой своей влеком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астенько плавала од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орской, неведомой пучин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раздумьях детских о душе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ведала людской кручины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вица взрослая у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не совсем, чтобы девиц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рыбкой тоже не назвать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все ждала земного принц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 с милым счастье испытать</a:t>
            </a: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487440"/>
            <a:ext cx="4595760" cy="160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E:\все про школу\4 класс\4 класс Ира Б\литература\I полугодие\12 Андерсен\рисунки\4.jpg"/>
          <p:cNvPicPr/>
          <p:nvPr/>
        </p:nvPicPr>
        <p:blipFill>
          <a:blip r:embed="rId2"/>
          <a:stretch/>
        </p:blipFill>
        <p:spPr>
          <a:xfrm>
            <a:off x="2268360" y="1989000"/>
            <a:ext cx="6597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5:27:56Z</dcterms:created>
  <dc:creator>Admin</dc:creator>
  <dc:description/>
  <dc:language>en-US</dc:language>
  <cp:lastModifiedBy>МАША</cp:lastModifiedBy>
  <dcterms:modified xsi:type="dcterms:W3CDTF">2017-10-09T16:47:34Z</dcterms:modified>
  <cp:revision>7</cp:revision>
  <dc:subject/>
  <dc:title>Слайд 1</dc:title>
</cp:coreProperties>
</file>