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BC2-82D5-4437-8C68-F39DBF9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686-3845-4989-894D-3DA64D2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B38-06B2-4F41-A33B-73FB3E56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659-1D9F-41F8-B08B-C09DE32C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C655-8764-4A0E-832D-4DEFD80D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7E21-2DB3-4010-B95B-87F0082D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826-B6F4-43C9-9CC7-31D7D02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C2C9-5798-4B92-A798-9044543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8590-3C78-4DA3-941E-A6749DBA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7F5C-0A5D-4D34-B5F8-2804649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3E94-89F2-45AC-ACD4-1FEC335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CB4-33F1-4A87-830B-92ACD3A9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E8AB-83EE-43E3-B88E-D8C8A476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0296-00F9-4AB5-AAB9-0D0EE87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6349-3340-4FF6-82F5-A9676EE1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9C6-D5CB-4803-A584-046A355C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7BF9-4F11-47C3-9644-D5D65A8B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1407-4712-4DBD-A18B-B9AE1F1F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6E82-B544-4D33-9973-7621C40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D388-FCAB-4B34-9393-59D7B724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7DD3-18C7-4312-B278-D790960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725C-83E4-4EEC-9145-426407F6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BBC-82B2-42E8-A7AC-489B2B3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807A-2DF6-42DA-A9C2-27421F53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D2CF-4F93-44B4-B887-12A9B60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EF33-B8E6-4B10-902A-080E490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13B2-9C96-4EF6-A535-217F8E8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1FC4-0A1B-4326-83FD-122C27D3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07EB-0663-42FF-BF9B-ADEE51B4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B811-5BC6-4190-B008-511127A0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1039-9584-43F2-B0D2-7198ADCD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235E-C6E7-448C-B1E5-7D65447E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4063-BB77-4A91-A528-91F99D0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8FD-C456-4591-ACEF-5A013DC0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F839-119D-4E0F-BEB0-7FB095F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4302-C44A-4744-B7EB-DAC7FDA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DC6A-72E1-4CB5-9CFD-AD86130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44BF-64A3-435B-B5D6-1BE14A8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0BB0-3ACF-448A-BDEA-214005B4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0890-0FE3-4BED-8BFF-12EA770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4D86-9790-43AD-95FB-04ABC17A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A14E-5903-4E79-9EFF-62A58217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0F17-1FF1-47CE-A3E1-05A4B4E5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D79-8A6D-4123-8F6E-D75455A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6A0-6B6B-451D-A07F-DBFF3F73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992-6089-4B23-BC38-57D70B1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1F6-FC3E-4352-BE5E-9A879C1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712-CF2E-4A94-893B-9B40ACE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F560-3DBF-4479-BEDB-8F53146FEB82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4DC4-4C74-4E05-BA37-A673CA92D43F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AE5-CF58-4887-B8AB-25EF8E1F9A4F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44F-E752-4CD6-AB18-9BF335485D0A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2" descr=""/>
          <p:cNvPicPr/>
          <p:nvPr/>
        </p:nvPicPr>
        <p:blipFill>
          <a:blip r:embed="rId1"/>
          <a:stretch/>
        </p:blipFill>
        <p:spPr>
          <a:xfrm>
            <a:off x="1609560" y="1828800"/>
            <a:ext cx="6418440" cy="1511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571680" y="2928960"/>
            <a:ext cx="4404960" cy="3303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5-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2"/>
          <p:cNvSpPr/>
          <p:nvPr/>
        </p:nvSpPr>
        <p:spPr>
          <a:xfrm>
            <a:off x="984960" y="214200"/>
            <a:ext cx="66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376b"/>
                </a:solidFill>
                <a:latin typeface="Constanti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18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-88920" y="37861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20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020680" y="1285920"/>
            <a:ext cx="107064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806800" y="1285920"/>
            <a:ext cx="1149840" cy="411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429840" cy="76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154520" y="1357200"/>
            <a:ext cx="617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Have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On 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Do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n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not slept 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to 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they w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very love my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Did you ever see this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 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214720" y="128592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a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oe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 not sleep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o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love my mothe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very much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ave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you eve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en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his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is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3200400" y="2876400"/>
            <a:ext cx="24256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user</cp:lastModifiedBy>
  <dcterms:modified xsi:type="dcterms:W3CDTF">2018-04-07T12:14:22Z</dcterms:modified>
  <cp:revision>36</cp:revision>
  <dc:subject/>
  <dc:title>Слайд 1</dc:title>
</cp:coreProperties>
</file>