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F63-748F-473D-9B72-0E5A54FB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133-C0A0-484F-9075-B3944A13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2DB-ED10-471E-ABC9-29964D72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205-180F-4A02-A40D-B4418D5C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A0C5-B96F-4E60-96CE-2F8557E2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147-44CC-44EE-A0CD-A3DBF516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AEE8-FABF-416A-A218-6A544F5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8FA-0DA1-46A8-A42F-776668E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249F-F101-4E2D-BAEE-05B78C2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1106-A160-43BE-9A97-C612B4E6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EC6-A39D-4936-A699-45B000E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635-BD0F-40B7-9CC1-2531178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D6E-BAA6-4AB9-B7FB-6F2CA9FC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3E3-473A-42E1-9B10-B455F47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54CB-3A41-438A-8317-27A77E4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1FDD-C7A9-4D4F-AC18-18AA8A6F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C4B7-4216-4855-A925-ADC893EF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A096-6C81-4609-BCFE-51243132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EEC1-0482-46F4-8D59-37BF458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7F46-1117-4826-94DA-52A0A2CC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6753-C403-4401-921E-5B939439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78A7-5B08-40CE-B450-34CD6AE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00A-4C23-46DD-BFED-B76BC37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BFE8-1CD2-45FD-B937-CDE4ECD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A967-38AF-4279-A589-78868F4C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2D8C-E6EB-47DD-A381-50D84E51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2E2F-1B32-406F-B206-D7C9E9E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B8CA-8DF5-4FFC-A24D-33137642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28BA-E3A0-4848-9ED2-D2C85148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B95E-163D-4F33-BE59-463BB971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EEE8-BD66-42C3-B51E-A0C541FD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B57E9-FE6B-4E34-832C-31C12DDA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0BC8-0232-4522-BD69-57744F5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EAB-219F-4CA2-BDDE-329589B8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081F-8EAF-4700-9244-C10DA3C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4080-1D78-4134-AC95-19E9001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69C4-7A19-4562-AA3F-09A7349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0A14-F486-4A79-93B9-9AD6D2D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E8B82-3579-4816-B8D8-A4068FF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6771A-798C-436D-84A4-0D96AF5F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A1D8-6D72-4C1A-A2A4-6140A3C4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5D78-BF86-4EEA-9BDC-4173E1A3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BBBA-D583-4539-B58E-2E2CC969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ED4-7B3A-483E-BED6-42ED00EC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379-BC0C-4B82-AF01-CDA1A9F0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A47-7C8B-43C2-AAFD-AE18E88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73D-6E06-4088-AFF4-99F5EEB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10D-8F6F-49FD-88AF-061FE14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194-9B22-416B-AB7F-5E9E0D1ED275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2E8-39B4-4E61-8FA9-A5275C9EF28B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55B2-9E5A-4CA9-9C38-2440ABBD4752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D7F-B115-49C3-849D-38D693D2F067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2" descr=""/>
          <p:cNvPicPr/>
          <p:nvPr/>
        </p:nvPicPr>
        <p:blipFill>
          <a:blip r:embed="rId1"/>
          <a:stretch/>
        </p:blipFill>
        <p:spPr>
          <a:xfrm>
            <a:off x="1609560" y="1828800"/>
            <a:ext cx="6418440" cy="1511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571680" y="2928960"/>
            <a:ext cx="4404960" cy="3303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5-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2"/>
          <p:cNvSpPr/>
          <p:nvPr/>
        </p:nvSpPr>
        <p:spPr>
          <a:xfrm>
            <a:off x="984960" y="214200"/>
            <a:ext cx="66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376b"/>
                </a:solidFill>
                <a:latin typeface="Constanti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18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-88920" y="37861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20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020680" y="1285920"/>
            <a:ext cx="107064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806800" y="1285920"/>
            <a:ext cx="1149840" cy="411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429840" cy="76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154520" y="1357200"/>
            <a:ext cx="617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Have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On 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Do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n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not slept 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to 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they w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very love my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Did you ever see this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 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214720" y="128592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a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oe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 not sleep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o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love my mothe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very much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ave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you eve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en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his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is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3200400" y="2876400"/>
            <a:ext cx="24256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user</cp:lastModifiedBy>
  <dcterms:modified xsi:type="dcterms:W3CDTF">2018-04-07T12:14:22Z</dcterms:modified>
  <cp:revision>36</cp:revision>
  <dc:subject/>
  <dc:title>Слайд 1</dc:title>
</cp:coreProperties>
</file>