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5.png" ContentType="image/png"/>
  <Override PartName="/ppt/media/image2.gif" ContentType="image/gif"/>
  <Override PartName="/ppt/media/image42.jpeg" ContentType="image/jpeg"/>
  <Override PartName="/ppt/media/image24.png" ContentType="image/png"/>
  <Override PartName="/ppt/media/image11.jpeg" ContentType="image/jpe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34.png" ContentType="image/png"/>
  <Override PartName="/ppt/media/image40.jpeg" ContentType="image/jpeg"/>
  <Override PartName="/ppt/media/image32.png" ContentType="image/png"/>
  <Override PartName="/ppt/media/image1.jpeg" ContentType="image/jpeg"/>
  <Override PartName="/ppt/media/image41.jpeg" ContentType="image/jpeg"/>
  <Override PartName="/ppt/media/image4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3.wmf" ContentType="image/x-wmf"/>
  <Override PartName="/ppt/media/image7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6E9-BA9E-4965-9932-E70055DE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1DD-A39C-4679-8263-D2883D05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DC9-8C42-438E-A36F-D6B1301A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47B-A166-4852-86D6-0BF8F290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D18-5D76-4D32-AA10-5B62E4B5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2B6-813C-4529-9451-1B336DD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16F-6762-4B0B-B2B4-97875922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454-4E38-4BD8-8898-049DED1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D33-DE71-4EF3-8FA3-F1B1C5D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980-3D1D-4EE4-9675-503B642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6D5-CF00-4709-A20B-3E647D65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6AF-5309-49F8-86C4-343628A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10E2-1856-43D2-B64B-48620A3B5D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Игра 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«Знания по видам спорт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3214440"/>
            <a:ext cx="7786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РЫТЫЙ УР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ой культур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гирлянда"/>
          <p:cNvPicPr/>
          <p:nvPr/>
        </p:nvPicPr>
        <p:blipFill>
          <a:blip r:embed="rId1"/>
          <a:stretch/>
        </p:blipFill>
        <p:spPr>
          <a:xfrm>
            <a:off x="611280" y="5445000"/>
            <a:ext cx="7777080" cy="71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гирлянда"/>
          <p:cNvPicPr/>
          <p:nvPr/>
        </p:nvPicPr>
        <p:blipFill>
          <a:blip r:embed="rId2"/>
          <a:stretch/>
        </p:blipFill>
        <p:spPr>
          <a:xfrm>
            <a:off x="468360" y="333360"/>
            <a:ext cx="777708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212901"/>
          <p:cNvPicPr/>
          <p:nvPr/>
        </p:nvPicPr>
        <p:blipFill>
          <a:blip r:embed="rId3"/>
          <a:stretch/>
        </p:blipFill>
        <p:spPr>
          <a:xfrm>
            <a:off x="642960" y="3571920"/>
            <a:ext cx="1285920" cy="17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J0212893"/>
          <p:cNvPicPr/>
          <p:nvPr/>
        </p:nvPicPr>
        <p:blipFill>
          <a:blip r:embed="rId4"/>
          <a:stretch/>
        </p:blipFill>
        <p:spPr>
          <a:xfrm flipH="1">
            <a:off x="7143840" y="3538440"/>
            <a:ext cx="16286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зовите российского гроссмейстера, который в октябре 1999 года выиграл в Интернете партию проти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ахматисто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любителей из 75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) А. Алёх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) А. Карп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) Г. Касп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) Э. Ласк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3097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4240" y="1999800"/>
            <a:ext cx="795816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Хокке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857680" y="3571920"/>
            <a:ext cx="36064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590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вид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усским хоккее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Хоккей с шай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Хоккей с мяч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Хоккей с клюш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Хоккей с кирпич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796000" y="263700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ливная спортплощадка дл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ист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это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Площад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т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П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166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 мяч используют в игре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й с мяч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Оранжев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Си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Чер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рас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2837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называется передач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йб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артнёр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Бро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ыб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311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ка ещё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уществу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На тра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С шай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С мяч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Пляж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428840" cy="143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7380360" y="3068640"/>
            <a:ext cx="14396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 руководством какого тренера армейский клуб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 становился чемпионом СССР п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ю с шайбо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Анатолий Тара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Евгений Майо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авел Бу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ал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арла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660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Подведение    итого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шарики"/>
          <p:cNvPicPr/>
          <p:nvPr/>
        </p:nvPicPr>
        <p:blipFill>
          <a:blip r:embed="rId1"/>
          <a:stretch/>
        </p:blipFill>
        <p:spPr>
          <a:xfrm>
            <a:off x="1214280" y="3286080"/>
            <a:ext cx="159084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шарики"/>
          <p:cNvPicPr/>
          <p:nvPr/>
        </p:nvPicPr>
        <p:blipFill>
          <a:blip r:embed="rId2"/>
          <a:stretch/>
        </p:blipFill>
        <p:spPr>
          <a:xfrm>
            <a:off x="6143760" y="3500280"/>
            <a:ext cx="1590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63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Футбо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857680" y="3071880"/>
            <a:ext cx="3460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722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Шахмат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857680" y="3429000"/>
            <a:ext cx="3012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ая спортивная игра является самой популярной в мир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Баскетб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Футб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Волейб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Хокк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867280" y="3068640"/>
            <a:ext cx="288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, согласн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ы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равилам, должна быть перекладина для ворот?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Чер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Желт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Бел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оричне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т удар ввели в прави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7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году. Ка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Косвенны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Углово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рямо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Боково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309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человек находится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ле в момент начала игры, если на нём находится судья и две команды?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9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 карточка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означает удаление с пол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Желт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Бел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Зеле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р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797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 должен бы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ы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мяч для игры на заснеженном поле?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Зеле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рас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Чер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Си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2592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номер украша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к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еле и Марадоны?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374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сколько должен закончиться первый тай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ог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матча, чтобы второй тайм начался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:0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3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4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4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35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способ удара по мячу есть в футбол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шко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с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Щё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от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867280" y="2997360"/>
            <a:ext cx="280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из этих сборных команд п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уществу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Македо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Алб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Сан-Мари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ую страну считают роди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х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Амер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Росс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Инд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Афр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00120"/>
            <a:ext cx="7458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28960" y="328608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е современное государство считается родиной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Егип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Гр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Фра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Ита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1"/>
          <a:stretch/>
        </p:blipFill>
        <p:spPr>
          <a:xfrm>
            <a:off x="6227640" y="3068640"/>
            <a:ext cx="2305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гда состоялись первые Олимпийские игр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В 776 г. до н. 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В 552 г. до н.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В 776 г. н.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 В 552 г. н.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3024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помните дословно девиз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«О спорт, ты – мир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«Быстрее бегать - быстрее думать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«Быстрее, выше, сильнее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«Развиваем тело, закаляем дух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32720" y="2997360"/>
            <a:ext cx="201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их птиц традиционно выпускают на открытии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Сини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Жаворо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Вор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Голуб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 представляет собой олимпийская эмблем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Восем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Пят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Шест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Сем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588000" y="2637000"/>
            <a:ext cx="22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XII летние Олимпийские игры состоялись в Москве. В каком год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В 195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В 196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В 199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 198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80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зовите талисман Олимпийских игр в Москв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За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Чебура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Медвед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оло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012000" y="2924280"/>
            <a:ext cx="280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метров в самой короткой легкоатлетической дистанции современных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10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20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9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 5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56360" y="357336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стадион стал центральной ареной Олимпийских иг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года в Москв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Дина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Луж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Локомот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Стадион им. Стрельц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857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игров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о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л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Стади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Площад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а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о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2951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де прошли Зимние Олимпийские игры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014 год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Кит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Со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Аф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 Гр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3240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Подведение    итого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шарики"/>
          <p:cNvPicPr/>
          <p:nvPr/>
        </p:nvPicPr>
        <p:blipFill>
          <a:blip r:embed="rId1"/>
          <a:stretch/>
        </p:blipFill>
        <p:spPr>
          <a:xfrm>
            <a:off x="2500200" y="3571920"/>
            <a:ext cx="159084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шарики"/>
          <p:cNvPicPr/>
          <p:nvPr/>
        </p:nvPicPr>
        <p:blipFill>
          <a:blip r:embed="rId2"/>
          <a:stretch/>
        </p:blipFill>
        <p:spPr>
          <a:xfrm>
            <a:off x="5500800" y="3286080"/>
            <a:ext cx="1590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фигура может «перепрыгивать» через други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С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Лад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о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519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пешек одного цвета расположено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о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доске в начале парт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Сем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Восем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Дев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Ш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циферблатов име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час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Од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Д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Не име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3013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рокировок может сдела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ис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 ходе одной партии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Д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Од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Ни од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з скольких  клеток состои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дос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32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6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81;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7:50:09Z</dcterms:created>
  <dc:creator>Елена</dc:creator>
  <dc:description/>
  <dc:language>en-US</dc:language>
  <cp:lastModifiedBy>ms</cp:lastModifiedBy>
  <dcterms:modified xsi:type="dcterms:W3CDTF">2018-04-01T12:55:36Z</dcterms:modified>
  <cp:revision>52</cp:revision>
  <dc:subject/>
  <dc:title>PowerPoint Presentation</dc:title>
</cp:coreProperties>
</file>