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5.png" ContentType="image/png"/>
  <Override PartName="/ppt/media/image2.gif" ContentType="image/gif"/>
  <Override PartName="/ppt/media/image42.jpeg" ContentType="image/jpeg"/>
  <Override PartName="/ppt/media/image24.png" ContentType="image/png"/>
  <Override PartName="/ppt/media/image11.jpeg" ContentType="image/jpeg"/>
  <Override PartName="/ppt/media/image26.png" ContentType="image/pn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0.png" ContentType="image/png"/>
  <Override PartName="/ppt/media/image31.png" ContentType="image/png"/>
  <Override PartName="/ppt/media/image33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35.png" ContentType="image/png"/>
  <Override PartName="/ppt/media/image43.jpeg" ContentType="image/jpeg"/>
  <Override PartName="/ppt/media/image39.png" ContentType="image/png"/>
  <Override PartName="/ppt/media/image34.png" ContentType="image/png"/>
  <Override PartName="/ppt/media/image40.jpeg" ContentType="image/jpeg"/>
  <Override PartName="/ppt/media/image32.png" ContentType="image/png"/>
  <Override PartName="/ppt/media/image1.jpeg" ContentType="image/jpeg"/>
  <Override PartName="/ppt/media/image41.jpeg" ContentType="image/jpeg"/>
  <Override PartName="/ppt/media/image4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13.png" ContentType="image/png"/>
  <Override PartName="/ppt/media/image3.wmf" ContentType="image/x-wmf"/>
  <Override PartName="/ppt/media/image7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764-A816-4AA8-BE9C-EC8653F6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2DA-7160-4E86-8DD1-6E46757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E36-3250-49AB-95F7-18CB17A3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86C-26A9-43EA-A243-48B3FF4D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7E3-95E5-4524-8234-A532C874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9D7-71FC-4E2D-B60B-A67DFE04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16B-9FB2-4ECC-B8A7-69838EF9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54E-5526-428F-A280-3A248562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235-C199-458B-8E4B-C1FE6169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02E-1AB7-45A5-83F7-9A5B71CA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3C9-1043-4656-9C01-07719AE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ED8-F829-414A-A990-FBA5190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1B67-B678-4063-B9ED-18A6C51540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714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Игра викторина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«Знания по видам спорт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3214440"/>
            <a:ext cx="77868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КРЫТЫЙ УР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ческой культур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гирлянда"/>
          <p:cNvPicPr/>
          <p:nvPr/>
        </p:nvPicPr>
        <p:blipFill>
          <a:blip r:embed="rId1"/>
          <a:stretch/>
        </p:blipFill>
        <p:spPr>
          <a:xfrm>
            <a:off x="611280" y="5445000"/>
            <a:ext cx="7777080" cy="71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гирлянда"/>
          <p:cNvPicPr/>
          <p:nvPr/>
        </p:nvPicPr>
        <p:blipFill>
          <a:blip r:embed="rId2"/>
          <a:stretch/>
        </p:blipFill>
        <p:spPr>
          <a:xfrm>
            <a:off x="468360" y="333360"/>
            <a:ext cx="777708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J0212901"/>
          <p:cNvPicPr/>
          <p:nvPr/>
        </p:nvPicPr>
        <p:blipFill>
          <a:blip r:embed="rId3"/>
          <a:stretch/>
        </p:blipFill>
        <p:spPr>
          <a:xfrm>
            <a:off x="642960" y="3571920"/>
            <a:ext cx="1285920" cy="170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J0212893"/>
          <p:cNvPicPr/>
          <p:nvPr/>
        </p:nvPicPr>
        <p:blipFill>
          <a:blip r:embed="rId4"/>
          <a:stretch/>
        </p:blipFill>
        <p:spPr>
          <a:xfrm flipH="1">
            <a:off x="7143840" y="3538440"/>
            <a:ext cx="162864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зовите российского гроссмейстера, который в октябре 1999 года выиграл в Интернете партию проти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ахматисто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любителей из 75 стран м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) А. Алёх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) А. Карп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) Г. Касп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) Э. Ласк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3097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ту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4240" y="1999800"/>
            <a:ext cx="795816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Хокке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857680" y="3571920"/>
            <a:ext cx="36064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590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вид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усским хоккее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Хоккей с шайб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Хоккей с мяч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Хоккей с клюш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Хоккей с кирпич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796000" y="263700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ливная спортплощадка дл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ист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это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Площад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т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По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31669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6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цвета мяч используют в игре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й с мяч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Оранжев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Си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Чер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рас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867280" y="2781360"/>
            <a:ext cx="2837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называется передач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йб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артнёр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Бро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П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Выб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3311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3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ока ещё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уществу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На тра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С шайб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С мяч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Пляж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428840" cy="143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5867280" y="4365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7380360" y="3068640"/>
            <a:ext cx="14396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 руководством какого тренера армейский клуб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 становился чемпионом СССР п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ккею с шайбо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Анатолий Тара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Евгений Майо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Павел Бу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Вал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арла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2660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Подведение    итого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шарики"/>
          <p:cNvPicPr/>
          <p:nvPr/>
        </p:nvPicPr>
        <p:blipFill>
          <a:blip r:embed="rId1"/>
          <a:stretch/>
        </p:blipFill>
        <p:spPr>
          <a:xfrm>
            <a:off x="1214280" y="3286080"/>
            <a:ext cx="159084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шарики"/>
          <p:cNvPicPr/>
          <p:nvPr/>
        </p:nvPicPr>
        <p:blipFill>
          <a:blip r:embed="rId2"/>
          <a:stretch/>
        </p:blipFill>
        <p:spPr>
          <a:xfrm>
            <a:off x="6143760" y="3500280"/>
            <a:ext cx="1590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ту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63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Футбо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857680" y="3071880"/>
            <a:ext cx="34606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ту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722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Шахмат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2857680" y="3429000"/>
            <a:ext cx="3012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0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ая спортивная игра является самой популярной в мир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Баскетб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Футб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Волейб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Хокк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867280" y="3068640"/>
            <a:ext cx="2881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619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цвета, согласн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ьны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равилам, должна быть перекладина для ворот?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Чер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Желт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Бел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оричнев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084720" y="3500280"/>
            <a:ext cx="2664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тот удар ввели в прави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7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году. Ка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Косвенны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Углово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Прямо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Боково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309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человек находится 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ьн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оле в момент начала игры, если на нём находится судья и две команды?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9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цвета карточка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означает удаление с пол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Желт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Бел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Зеле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р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2797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го цвета должен быть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ьны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мяч для игры на заснеженном поле?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Зеле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рас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Чер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Си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156360" y="3429000"/>
            <a:ext cx="2592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0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номер украша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к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еле и Марадоны?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374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сколько должен закончиться первый тай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ьног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матча, чтобы второй тайм начался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:0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7:3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7:4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7:4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7:35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способ удара по мячу есть в футбол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шко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ос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Щёч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от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867280" y="2997360"/>
            <a:ext cx="2808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из этих сборных команд п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тбол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уществу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Македо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Алб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Сан-Мари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ую страну считают роди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х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Амер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Росс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Инд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Афр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38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ту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500120"/>
            <a:ext cx="74581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928960" y="328608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е современное государство считается родиной Олимпийских иг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Егип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Гр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Фра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Итал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4" descr=""/>
          <p:cNvPicPr/>
          <p:nvPr/>
        </p:nvPicPr>
        <p:blipFill>
          <a:blip r:embed="rId1"/>
          <a:stretch/>
        </p:blipFill>
        <p:spPr>
          <a:xfrm>
            <a:off x="6227640" y="3068640"/>
            <a:ext cx="2305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гда состоялись первые Олимпийские игр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 В 776 г. до н. 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 В 552 г. до н.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В 776 г. н.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 В 552 г. н.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3024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помните дословно девиз Олимпийских иг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«О спорт, ты – мир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«Быстрее бегать - быстрее думать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«Быстрее, выше, сильнее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«Развиваем тело, закаляем дух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732720" y="2997360"/>
            <a:ext cx="201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их птиц традиционно выпускают на открытии Олимпийских иг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Сини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Жаворо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Вор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Голуб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то представляет собой олимпийская эмблем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Восемь переплетенных кол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Пять переплетенных кол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Шесть переплетенных кол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Семь переплетенных кол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6588000" y="2637000"/>
            <a:ext cx="2232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XII летние Олимпийские игры состоялись в Москве. В каком год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 В 1950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В 1960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В 1990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В 1980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80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2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зовите талисман Олимпийских игр в Москв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Зая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Чебура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Медвед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олоб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012000" y="2924280"/>
            <a:ext cx="280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метров в самой короткой легкоатлетической дистанции современных Олимпийских иг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 100 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 200 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90 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 50 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56360" y="357336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ой стадион стал центральной ареной Олимпийских игр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года в Москв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Дина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Луж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Локомоти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Стадион им. Стрельц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2857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игров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о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ол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Стади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Площад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Па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о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2951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1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де прошли Зимние Олимпийские игры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014 год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  Кит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 Со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  Аф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 Гр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5508720" y="3141720"/>
            <a:ext cx="3240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Подведение    итого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64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шарики"/>
          <p:cNvPicPr/>
          <p:nvPr/>
        </p:nvPicPr>
        <p:blipFill>
          <a:blip r:embed="rId1"/>
          <a:stretch/>
        </p:blipFill>
        <p:spPr>
          <a:xfrm>
            <a:off x="2500200" y="3571920"/>
            <a:ext cx="1590840" cy="20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шарики"/>
          <p:cNvPicPr/>
          <p:nvPr/>
        </p:nvPicPr>
        <p:blipFill>
          <a:blip r:embed="rId2"/>
          <a:stretch/>
        </p:blipFill>
        <p:spPr>
          <a:xfrm>
            <a:off x="5500800" y="3286080"/>
            <a:ext cx="1590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6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а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фигура может «перепрыгивать» через други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С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Лад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Ко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519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пешек одного цвета расположено 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о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доске в начале парт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Сем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Восем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Дев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Ше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циферблатов имею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час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Од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Д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Т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Не име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867280" y="2349360"/>
            <a:ext cx="3013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лько рокировок может сделать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ис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в ходе одной партии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Т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Д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Од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Ни од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64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з скольких  клеток состои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хматна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дос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32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6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81;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7:50:09Z</dcterms:created>
  <dc:creator>Елена</dc:creator>
  <dc:description/>
  <dc:language>en-US</dc:language>
  <cp:lastModifiedBy>ms</cp:lastModifiedBy>
  <dcterms:modified xsi:type="dcterms:W3CDTF">2018-04-01T12:55:36Z</dcterms:modified>
  <cp:revision>52</cp:revision>
  <dc:subject/>
  <dc:title>PowerPoint Presentation</dc:title>
</cp:coreProperties>
</file>