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B762-084C-4604-B2FC-7FB41A74DD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0930-7544-494F-9AC9-89E07662E3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75FB-AE19-48C1-BC13-78B1170FAA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C3D-DEB9-4ACE-8DB0-B0089FDE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257-3084-4A34-8DCB-0A7278B0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A1F-543D-4818-ADD6-830AA03A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D55-E1D4-456A-B08B-67B21EED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CEC9-CB64-4E38-A9AF-A552C89A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767-035E-4C9A-AC10-94B26E4F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7D4-ADF1-46D4-9E2C-28AFD6A2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409-5219-40FE-8E66-A4CE4FE7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D3A-43A3-4D44-A6B4-8CDD6A91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4C6-97A4-45BD-8211-25229A62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414-FD73-403D-9A43-F3E5004F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D26-9885-4252-A609-88B67AEA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742B-89C2-4321-981D-131C7FB50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aikaltravel.ru/adm/foto/result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9756-35AB-40A9-946D-B69D13F04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Фото(18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0" y="476280"/>
            <a:ext cx="805824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ругого   края   для   души   не   надо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т   ничего   священней   отчей стороны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00720" y="5157720"/>
            <a:ext cx="410364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ПК «Шаг в будущее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втобиографические мотивы в поэзии М.М.Шихано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8F39-AFC4-407C-85F8-D5A65FC54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8"/>
          <p:cNvPicPr/>
          <p:nvPr/>
        </p:nvPicPr>
        <p:blipFill>
          <a:blip r:embed="rId1"/>
          <a:stretch/>
        </p:blipFill>
        <p:spPr>
          <a:xfrm>
            <a:off x="3132000" y="1916280"/>
            <a:ext cx="5759640" cy="377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пенская церк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а построена В 1727 году на южной окраине Троицкосавска рядом с городским кладбищем (ныне не существует)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_img347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916280"/>
            <a:ext cx="2519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5068-C262-4971-9137-A258CEEA6B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мая 1988 года Михаил Шиханов ушел из жизн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сканирование0033"/>
          <p:cNvPicPr/>
          <p:nvPr/>
        </p:nvPicPr>
        <p:blipFill>
          <a:blip r:embed="rId1"/>
          <a:stretch/>
        </p:blipFill>
        <p:spPr>
          <a:xfrm>
            <a:off x="2340000" y="957240"/>
            <a:ext cx="4608360" cy="3352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68000" y="4508280"/>
            <a:ext cx="641844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 меня обернется Ри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яхта – маленький город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его бы проехать ми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же мертвым никак не см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10B0-CC7E-4B8A-B058-8393636F1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P1020228"/>
          <p:cNvPicPr/>
          <p:nvPr/>
        </p:nvPicPr>
        <p:blipFill>
          <a:blip r:embed="rId1"/>
          <a:srcRect l="-17629" t="717" r="2938" b="7237"/>
          <a:stretch/>
        </p:blipFill>
        <p:spPr>
          <a:xfrm>
            <a:off x="-828720" y="0"/>
            <a:ext cx="6078600" cy="6597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435280" y="1413000"/>
            <a:ext cx="37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мила Дмитриевна, во время презентации новой книги М.М.Шиханова в городской библиоте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Кяхта, 198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3AAA-DE67-49B2-A9DA-8FCE8A4541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8680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333360"/>
            <a:ext cx="316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08000" y="1268280"/>
            <a:ext cx="497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О воздух сторонки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родимо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Твой запах мы чувствуе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         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сердце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в нём горечь разл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       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с любим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в нём сладость нелёг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детств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167280" cy="44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7020000" y="5084640"/>
            <a:ext cx="151272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4A49-053D-4D14-A3CA-90F32B4D6B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0" t="32718" r="0" b="0"/>
          <a:stretch/>
        </p:blipFill>
        <p:spPr>
          <a:xfrm>
            <a:off x="1403280" y="836640"/>
            <a:ext cx="5715000" cy="25574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3203640" y="3789360"/>
            <a:ext cx="49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лань, Елань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е слово ладное!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имя милой, я его шепч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лань… Стоит в межгорье ненаглядная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двинув избы к живуну - ключ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«Песнь рассвету» 1985г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9791-BC0A-47C5-AA2E-679650CF36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хаил Шиха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лся 7 ноября 1937 года в городе Кях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51280" y="1413000"/>
            <a:ext cx="483552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125000"/>
            <a:ext cx="77151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М. Шиханова – Михаил  Иванович погиб  в 1939 году  на русско-япо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йне на  Халхин-Г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черной речки Халкин-Го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де воли весе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льный гу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ланету положив под голов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могиле братской ты засну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«Моя Сибирь, 1977 г.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…снега – на хлеб…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E8CD-23E1-40FA-B367-3CCCBEA05E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DSCF32707.jpg"/>
          <p:cNvPicPr/>
          <p:nvPr/>
        </p:nvPicPr>
        <p:blipFill>
          <a:blip r:embed="rId1"/>
          <a:stretch/>
        </p:blipFill>
        <p:spPr>
          <a:xfrm>
            <a:off x="826920" y="846000"/>
            <a:ext cx="749016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4F07-302E-477D-B646-D2611D9EF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K10"/>
          <p:cNvPicPr/>
          <p:nvPr/>
        </p:nvPicPr>
        <p:blipFill>
          <a:blip r:embed="rId1"/>
          <a:stretch/>
        </p:blipFill>
        <p:spPr>
          <a:xfrm>
            <a:off x="250920" y="2276640"/>
            <a:ext cx="8497800" cy="39481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оэт Бурятии Шиханов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       Самозабвенно был влюблён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       В старинный город деревянный,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       Поэт стихи слагал о нё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17C9-8311-4B71-85FD-DC529E500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24000" y="907560"/>
            <a:ext cx="4978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 М. Шиханова -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иса Степано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мерти мужа воспитывала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ына Михаила и дочь Нину) од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фотографии Раиса Степановна с внучкой Леной, дочерью М. Шихан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сканирование0032"/>
          <p:cNvPicPr/>
          <p:nvPr/>
        </p:nvPicPr>
        <p:blipFill>
          <a:blip r:embed="rId1"/>
          <a:stretch/>
        </p:blipFill>
        <p:spPr>
          <a:xfrm>
            <a:off x="395280" y="836640"/>
            <a:ext cx="3379680" cy="457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5255-E022-48C4-80A7-4EB0316E9C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kahta2"/>
          <p:cNvPicPr/>
          <p:nvPr/>
        </p:nvPicPr>
        <p:blipFill>
          <a:blip r:embed="rId1"/>
          <a:stretch/>
        </p:blipFill>
        <p:spPr>
          <a:xfrm>
            <a:off x="971640" y="476280"/>
            <a:ext cx="69850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0DFF-CBE9-4DC5-8861-9ACA60DDF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rcRect l="0" t="6945" r="56819" b="0"/>
          <a:stretch/>
        </p:blipFill>
        <p:spPr>
          <a:xfrm>
            <a:off x="395280" y="476280"/>
            <a:ext cx="3600360" cy="6381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4212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4920" y="6195960"/>
            <a:ext cx="7308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Я верующий человек,            я крепко верю                         с малолетства:             когда душа светла,    как детство,            она, как родина – навек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0:48:18Z</dcterms:created>
  <dc:creator>ДОМ</dc:creator>
  <dc:description/>
  <dc:language>en-US</dc:language>
  <cp:lastModifiedBy>Пользователь</cp:lastModifiedBy>
  <dcterms:modified xsi:type="dcterms:W3CDTF">2018-04-09T13:50:58Z</dcterms:modified>
  <cp:revision>30</cp:revision>
  <dc:subject/>
  <dc:title>Слайд 1</dc:title>
</cp:coreProperties>
</file>