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F351-785D-4EA1-9D85-0229D781F1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3009-F108-4E6F-862A-963142E3D5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E2B1-1411-4E5C-AF30-99993FBAEB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A5B7-2F00-4D58-B770-0EBFF7A29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D0DE-7E76-4F98-94BA-0F77A9BD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D420-750A-48AE-B598-F048877E3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0044-CF62-41BE-86CB-B8A2AFFB4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0837-D017-4CF0-8B98-01783893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557B-FD56-4BCC-AD75-FFC9DABB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272C-9D7E-4A0C-849E-F7BD59CA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EDD3-E8C4-438D-A9A7-8F0F140F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5F84-F70A-4F28-912A-10868D63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74BE-9CFA-4D3A-9AD1-8A16BCDC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66DE-4E3D-4245-82DA-52F7457D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71DB-BB23-420E-BDD0-1DC2B82D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5e7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EABF-B382-4BE9-AD4A-B6F04D5B49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baikaltravel.ru/adm/foto/result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E7EB-24B3-46D0-99D1-54DF5A87AB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Фото(18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WordArt 5"/>
          <p:cNvSpPr txBox="1"/>
          <p:nvPr/>
        </p:nvSpPr>
        <p:spPr>
          <a:xfrm>
            <a:off x="0" y="476280"/>
            <a:ext cx="8058240" cy="51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ругого   края   для   души   не   надо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ет   ничего   священней   отчей стороны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4500720" y="5157720"/>
            <a:ext cx="4103640" cy="9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ПК «Шаг в будущее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втобиографические мотивы в поэзии М.М.Шиханов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85DC-5968-4B44-AB95-99AD98EC44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8"/>
          <p:cNvPicPr/>
          <p:nvPr/>
        </p:nvPicPr>
        <p:blipFill>
          <a:blip r:embed="rId1"/>
          <a:stretch/>
        </p:blipFill>
        <p:spPr>
          <a:xfrm>
            <a:off x="3132000" y="1916280"/>
            <a:ext cx="5759640" cy="3779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пенская церков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ыла построена В 1727 году на южной окраине Троицкосавска рядом с городским кладбищем (ныне не существует)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c_img347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916280"/>
            <a:ext cx="2519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7DEF-E737-4108-A868-07D43EF9E5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мая 1988 года Михаил Шиханов ушел из жизни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сканирование0033"/>
          <p:cNvPicPr/>
          <p:nvPr/>
        </p:nvPicPr>
        <p:blipFill>
          <a:blip r:embed="rId1"/>
          <a:stretch/>
        </p:blipFill>
        <p:spPr>
          <a:xfrm>
            <a:off x="2340000" y="957240"/>
            <a:ext cx="4608360" cy="33526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68000" y="4508280"/>
            <a:ext cx="641844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ля меня обернется Рим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яхта – маленький город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Я его бы проехать мим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аже мертвым никак не см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9316-90E6-4E99-9361-5DE863F13D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P1020228"/>
          <p:cNvPicPr/>
          <p:nvPr/>
        </p:nvPicPr>
        <p:blipFill>
          <a:blip r:embed="rId1"/>
          <a:srcRect l="-17629" t="717" r="2938" b="7237"/>
          <a:stretch/>
        </p:blipFill>
        <p:spPr>
          <a:xfrm>
            <a:off x="-828720" y="0"/>
            <a:ext cx="6078600" cy="6597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435280" y="1413000"/>
            <a:ext cx="370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Е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дмила Дмитриевна, во время презентации новой книги М.М.Шиханова в городской библиоте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 Кяхта, 1989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7818-2190-480C-B6BA-5D643F855F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686800" y="-53002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79280" y="333360"/>
            <a:ext cx="3168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08000" y="1268280"/>
            <a:ext cx="4978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О воздух сторонки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                      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родимой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Твой запах мы чувствуем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                     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сердце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в нём горечь разлу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                   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с любимо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в нём сладость нелёгк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детств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3167280" cy="443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7020000" y="5084640"/>
            <a:ext cx="1512720" cy="11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22DE-3B9D-45AE-B709-BEE17E7B2B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rcRect l="0" t="32718" r="0" b="0"/>
          <a:stretch/>
        </p:blipFill>
        <p:spPr>
          <a:xfrm>
            <a:off x="1403280" y="836640"/>
            <a:ext cx="5715000" cy="25574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2"/>
          <p:cNvSpPr/>
          <p:nvPr/>
        </p:nvSpPr>
        <p:spPr>
          <a:xfrm>
            <a:off x="3203640" y="3789360"/>
            <a:ext cx="49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лань, Елань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ое слово ладное!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имя милой, я его шепчу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лань… Стоит в межгорье ненаглядная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двинув избы к живуну - ключу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«Песнь рассвету» 1985г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37D1-DE91-466D-B7B6-6CA0841778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6407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хаил Шихан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лся 7 ноября 1937 года в городе Кях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51280" y="1413000"/>
            <a:ext cx="483552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125000"/>
            <a:ext cx="771516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ец М. Шиханова – Михаил  Иванович погиб  в 1939 году  на русско-япон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йне на  Халхин-Го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 черной речки Халкин-Го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де воли весел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льный гу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ланету положив под голов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могиле братской ты засну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«Моя Сибирь, 1977 г.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…снега – на хлеб…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6B1C-E21C-4447-93F4-4B0A942C30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DSCF32707.jpg"/>
          <p:cNvPicPr/>
          <p:nvPr/>
        </p:nvPicPr>
        <p:blipFill>
          <a:blip r:embed="rId1"/>
          <a:stretch/>
        </p:blipFill>
        <p:spPr>
          <a:xfrm>
            <a:off x="826920" y="846000"/>
            <a:ext cx="749016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5002-B880-42AE-927D-B5E35ECE1A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K10"/>
          <p:cNvPicPr/>
          <p:nvPr/>
        </p:nvPicPr>
        <p:blipFill>
          <a:blip r:embed="rId1"/>
          <a:stretch/>
        </p:blipFill>
        <p:spPr>
          <a:xfrm>
            <a:off x="250920" y="2276640"/>
            <a:ext cx="8497800" cy="39481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Поэт Бурятии Шиханов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        Самозабвенно был влюблён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        В старинный город деревянный,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        Поэт стихи слагал о нём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4828-F88D-4213-9952-967091FAEB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924000" y="907560"/>
            <a:ext cx="4978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ь М. Шиханова -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иса Степанов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смерти мужа воспитывала дет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ына Михаила и дочь Нину) од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фотографии Раиса Степановна с внучкой Леной, дочерью М. Шихан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сканирование0032"/>
          <p:cNvPicPr/>
          <p:nvPr/>
        </p:nvPicPr>
        <p:blipFill>
          <a:blip r:embed="rId1"/>
          <a:stretch/>
        </p:blipFill>
        <p:spPr>
          <a:xfrm>
            <a:off x="395280" y="836640"/>
            <a:ext cx="3379680" cy="457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4D18-B666-4EE0-BD5A-3265503391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kahta2"/>
          <p:cNvPicPr/>
          <p:nvPr/>
        </p:nvPicPr>
        <p:blipFill>
          <a:blip r:embed="rId1"/>
          <a:stretch/>
        </p:blipFill>
        <p:spPr>
          <a:xfrm>
            <a:off x="971640" y="476280"/>
            <a:ext cx="698508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856A-7A83-4C33-8BDF-8E4CC6F6E3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rcRect l="0" t="6945" r="56819" b="0"/>
          <a:stretch/>
        </p:blipFill>
        <p:spPr>
          <a:xfrm>
            <a:off x="395280" y="476280"/>
            <a:ext cx="3600360" cy="63817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-42120"/>
            <a:ext cx="8002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94920" y="6195960"/>
            <a:ext cx="73080" cy="69840"/>
          </a:xfrm>
          <a:prstGeom prst="rect">
            <a:avLst/>
          </a:prstGeom>
          <a:noFill/>
          <a:ln w="0">
            <a:noFill/>
          </a:ln>
        </p:spPr>
        <p:txBody>
          <a:bodyPr tIns="24120" bIns="2412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4000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9900cc"/>
                </a:solidFill>
                <a:latin typeface="Arial"/>
              </a:rPr>
              <a:t>Я верующий человек,            я крепко верю                         с малолетства:             когда душа светла,    как детство,            она, как родина – навек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0:48:18Z</dcterms:created>
  <dc:creator>ДОМ</dc:creator>
  <dc:description/>
  <dc:language>en-US</dc:language>
  <cp:lastModifiedBy>Пользователь</cp:lastModifiedBy>
  <dcterms:modified xsi:type="dcterms:W3CDTF">2018-04-09T13:50:58Z</dcterms:modified>
  <cp:revision>30</cp:revision>
  <dc:subject/>
  <dc:title>Слайд 1</dc:title>
</cp:coreProperties>
</file>