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gif" ContentType="image/gi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gif" ContentType="image/gif"/>
  <Override PartName="/ppt/media/image17.png" ContentType="image/png"/>
  <Override PartName="/ppt/media/image1.png" ContentType="image/png"/>
  <Override PartName="/ppt/media/image21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2D53-32A4-4EE3-84BC-C4AEF04C67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585F-F148-422A-9945-C98C5557C4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6C38-C788-4D2F-9A15-A16EA9A11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58DC-E1FB-4ABD-9D8D-E9F335B33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741-17E3-484A-8990-F36400FF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068-6A8B-41ED-9824-34E52187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528EC-33B0-4CBF-B5B7-30F59BB8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CD4F1-54E1-4C61-9C20-40B6D9A2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B0883-F43F-4DC6-B0CF-7CCECC51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46DBD-0F24-4066-BA55-828A18D3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8F7D0-F271-46D8-98F5-1B8256FE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73C0B-1E0A-4741-BFF8-1B390027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9C668-65AB-4927-AD75-12B736EA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0ACC0-0450-4397-808F-DCB2ACFC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159BC-CEDE-4BBE-80BB-727F5271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48AC5-DE66-407B-89A8-7819D755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D27-9671-4949-806F-E5AD6D92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743FF-DD41-419D-9601-B044AEBD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49810-68DC-4F06-B44E-688ADCC5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ACA29-D753-448D-9762-EABF8B13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AD247-4074-4678-AAAE-1DF5299A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9945D-62C3-4611-83A0-B34639C8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272A6-0860-440A-8670-3304EBD7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0A6B2-497A-4E13-A514-B6518D78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1E92D-BD91-45D1-BFB7-47E0C26C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FD37D-F542-4A44-93E0-9DD69B14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A0E01-ADC8-430F-A9F0-75AB64F0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847-4531-447D-9681-431950D2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846CA-9092-43D8-BC19-0E57502F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7A47C-C90F-45BA-AE9D-1ECC3A88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3CC55-8307-4649-9A99-8E4C2EA2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AEB77-CCCB-47CA-BFA3-3FBE7647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3C985-0907-47C4-8639-955D473E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16B94-A7E3-4046-9057-9DEF3E5F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124E7-C8C2-4313-9E85-98CF0E85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54426-DA63-4A20-97EA-A591C88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BA25A-4A94-4B63-A75A-A55DC7DF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3644F-B431-4E8E-B4B7-2D53246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ED8A-602D-4647-B68B-39A2EE47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47D8E-D814-4CB1-9DED-C8E94E00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08E51-EC75-49AB-934F-888136F5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5CB58-0FAB-4A5B-A8A1-34F40228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3F476-3B2D-4477-A55D-CF47D932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9A18A-2640-4514-8134-D6DA6D0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0935B-8E2A-4937-A4DC-E630480C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58C2A-0D7C-429F-AF2F-611FF578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3652D-5BC7-4214-8105-0D10334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D21E7-58A4-43EC-A539-AEAFFD96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B325F-552B-4405-8C71-BF6C7229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79C7-2273-42B4-9C36-C21BEF3A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A3F54-F392-425D-904D-4832C3F9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8B8E7-FB0B-4573-9787-0FBDC647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0F570-397A-4B64-8F25-EC49F246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F3C5E-2F8E-48D7-B80B-4202991C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4A10B-04BC-4A06-9259-F15AFFFF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5AB68-B37F-4621-BF17-65D5B559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7ABFF-5A14-49B6-A97F-5571E974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3EE24-1FDA-491F-B477-59CD1A81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3FE1C-A818-4557-BF18-85131FA8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0532B-374E-4C97-8E2A-7DACBBB5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19B4-7BD2-4572-A40D-EB778753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5142D-E14D-4A5F-AF90-99DCD9D6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AEAFB-F63B-478C-B4E0-5B9FFCF2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16E05-4587-44A1-B517-CF8FD2B3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C5875-2399-4260-8242-E49F5F37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A8F37-6C4C-4BB1-92B4-F49ECA02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7BCF7-81EA-45A5-886E-ADBF8DB9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0AC90-27CE-48B4-9E03-3A4D1285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45D5F-CB5D-4548-B937-CD8DA9D4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79843-E4B4-469F-8697-89ED6A65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ED117-943F-4385-BFEB-9F0A673E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AFD0-57E3-40F3-8D89-DB067A79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EB8CC-9189-49F6-AB0C-2A539C98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537C8-C6E2-49BB-A2C4-845BB5D1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A807F-CD97-431B-B9C7-367FAA29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4D879-4470-4B51-A258-946B15D8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66E08-3142-4140-8379-AEFA2A1F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94558-C4D6-4C08-A82C-C93E99A6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10B3A-32AF-4D6A-BD3B-28F42979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DBA5E-F8B5-4E1F-80B3-4993D3C6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1F53A-413F-4E7A-8A98-67FD3D21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9BCF3-9F65-418F-BA4A-4D2B3F18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A279-D027-498E-BF62-EBA98056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7C045-2635-455C-B69D-6C57EDE6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06C35-AD5F-49D9-BE5A-8B3545BC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588B9-62D4-4DD4-8B21-89FDA9F2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C7252-B84E-4FC7-AF71-41E69BEE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1237F-8D73-4D83-A87F-C9180DB3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C994A-D230-43EB-8794-64E0E77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88278-73C6-4D42-9F95-4DF9FF3F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970E3-A752-49B0-9FED-7478CFA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20E84-6C85-46E8-AF64-A6DA3C9B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45FB1C-1BE6-4511-9A8B-0BB644AB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ABA3-32C8-4213-B193-4090F907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B39CF-3F55-4377-80E6-9DC06B10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8841C-F121-4CA9-A5F9-65559468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C5978-8749-40D8-8C4D-2D44E899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5A0E0C-3068-441B-A522-ED0CBBC8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CF040-C8CE-4BCB-B641-1E07B488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2B69B-95B8-4E14-8216-3EFB29D8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CBC360-D3C2-4FA1-9673-913E2E92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D150D-F411-4CD8-B256-96AB8C30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8D524-289B-41CB-81BF-7C5374E2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A20E6-26AB-4D57-8A69-D9C214B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FB14-D09C-460B-9A98-9BC15CE9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77443D-7FF1-432A-AE8E-29F4F7CB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74E08-1BA5-4B37-A9ED-437452D0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F4AB4-899F-41EC-BAED-82E922F6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9BA-A09A-4BE4-B8AD-72E005F6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9623-58C0-4A8E-8388-FEFDC423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840B-DE64-49A7-9036-74CA31A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9556-7CDC-4A36-93B7-8FC6C4EF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BEAD-1CF4-4D02-A1A2-8E38E519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D57B-9A78-4F50-B106-9183660B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165D-8146-4870-B6E7-C1B3794B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9A39-797C-40DF-9806-97A94FFA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18D5C-31EA-409D-96F0-D908F50F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640D-EEE7-40F6-824F-0A1DE688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BDBC-03E7-4013-A1F3-C2282F10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139-D788-4000-A78F-4C8B5A3E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07AD5-CA1C-49AC-B971-C7304CB6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15DF-D583-4D09-9EF2-EA0F9E5E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CD2A-482F-4ED8-9FC6-6AA8A41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C5B9-9E78-4EB5-BA6D-CE2AE9D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A361-7B37-44A5-B0B7-38870793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F329-961F-4225-936A-CEBA6FC9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11C3-FF82-4C12-99E6-39EF8222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B816A-EDBB-4D15-A447-B03CE098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61A8F-2502-4E10-8072-5B3BFC80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4EC91-039B-4E3B-ABAA-EC2C24A3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376-A09A-4B52-9C52-29108905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68982-3AA3-4E87-97BC-D0931F21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2FB8-F6BE-4A1D-8C0A-342DCD08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9D2FA-1363-41B2-9956-10E9EA8A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6802-B552-4010-B2B1-4C2F28E5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E43F7-737F-4344-AE2D-9FE06D23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0AF8-0B63-482D-B1F4-9E63EF57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F22C-ED8D-439D-A718-A4B38A92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9CBE8-BA37-4B8C-9F61-B032931E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32C0-7BD4-4C82-9028-176E2317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4EE6D-590C-4A57-8FCB-A0E56DF0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364-3925-4A52-98EA-FEC4D24D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EC8F2-0D69-46DF-9EFF-4D035AA7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C9A7D-4108-4F7F-967E-943CCDB9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182E-E066-4867-95CD-D27E9110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8196D-F6B4-4AC5-8398-91CD79F5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26512-ABA5-4173-9A10-6D518B51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A57D5-6BA2-43C6-BA78-EF875CD9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4B20D-8591-4593-86E3-1DA603D7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73263-0C09-413E-9BEE-A29E25C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4BD91-3666-4898-AA24-D47DBDC0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20561-D307-42E5-80C2-0544DA1D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224-4F43-4621-BBE6-DF42AE82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9078F-E3DD-4FA0-8383-0BD0E292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5F99A-E439-4FB9-9B79-B9A61F1D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36470-C088-48B0-BF91-28A93A2A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F30FF-8997-4F37-9E41-4CFE98E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8983-5713-4008-A92F-9B6FAA8A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E964B-9870-44E8-9B57-DEB8F5FE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A781F-9B84-4B20-8A88-67011BDD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01F87-9C89-447E-A192-24BF4E2C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A1FEB-D4C1-4A26-AF5F-4F653070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2DEC0-5886-43C0-9167-563652C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A18-A45C-403E-BAB9-8F030D90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97E6E-E9AD-4A7B-90DB-A4C76B24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8B501-0EC5-4F1C-8443-B9DBB9F4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93AB7-4563-4419-BF14-BF9972D6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DED8B-C126-4B57-959D-1BB9F4F8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378A-EB78-4539-8363-ABF2D943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CAE96-755F-42ED-AFCF-B55BC56A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6D719-1D81-4504-AAF3-46D0C971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AC0E0-6336-458D-BB5E-902406EF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943B5-5B10-4185-B4B3-4558DB9F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85269-3805-4992-AFB0-DCA05F66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AAB-79C7-430A-9FEC-4B020C11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32888-1A56-49A1-84BC-B5BB9FB2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543E8-7AEA-4404-AED5-121637E3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523C2-AC5B-47C6-894E-05E20FE0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E3EFA-BC85-481B-A95D-CCB31172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AA680-C4D2-4348-8CDE-6E0EBB00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EF6EA-4E89-44A4-B726-76671D1A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E79B5-0AF0-4543-A2B9-A9AAE3ED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B8FF8-95C6-4EF2-A3AE-0B33E7FE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9BA31-8B6B-4CDC-94BA-1EEAAA97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35A52-0D21-4913-BC73-52F73657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5C8-FB0E-4430-BEC8-BB95C253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AEC1F-FFB5-4158-AAB7-88254C68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0DC59-DE78-4AF3-A729-8FA835EC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DBC8F-3801-4162-A4BC-D57109CB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332CF-E708-4A4D-887A-B7955FD2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FD54F-3E00-4D38-96E2-7DF48A14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EE934-205A-4CF2-BCD3-3A9F0A6C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3AABF-701E-455B-9132-79ED0D6F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56109-D965-40A5-9950-C1441C3E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D93D2-E750-4474-BD24-CA373889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8251E-A4C0-4B5B-A28C-B8153EA4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7EFA-5B61-49D3-AAD3-1F20CB1630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49F2-35F8-406F-AB82-B7F859724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C2DC-E03C-447B-AAD1-B8DC95D1F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BF2A-59B8-465F-B549-C9688C53A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6630-CC1F-48ED-A5AA-9619E98E07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E1DA-4F2A-47A8-B4F6-1AC5786328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B0A0-4C56-4D56-8567-F2F5FD33A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6846-B1A9-4C06-A939-9C539ACAA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BBF0-0BAC-41AD-BA50-B5C5640D2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CE92-591E-4889-9165-8314D5062B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5929-C26D-45EE-8032-4B7AE7BF4D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E88B-0FA7-47BA-8C10-BC35F4B080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7452-F3AF-455D-A43E-8B293FCD02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D6ED-8795-4012-8420-3AF55B0FDF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3AB6-2E08-44F5-91B4-EA120E6A1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B8F1-6470-4CD9-BA12-EA52F7EBA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" Target="slide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32.xml"/><Relationship Id="rId12" Type="http://schemas.openxmlformats.org/officeDocument/2006/relationships/slide" Target="slide34.xml"/><Relationship Id="rId13" Type="http://schemas.openxmlformats.org/officeDocument/2006/relationships/slide" Target="slide36.xml"/><Relationship Id="rId14" Type="http://schemas.openxmlformats.org/officeDocument/2006/relationships/slide" Target="slide30.xml"/><Relationship Id="rId15" Type="http://schemas.openxmlformats.org/officeDocument/2006/relationships/slide" Target="slide28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7960" y="566064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ОДГОТОВИЛА: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  КУРГУШОВА Е.А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7772400" cy="374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7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 форме  деловой игр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Прямоугольник 4" descr=""/>
          <p:cNvPicPr/>
          <p:nvPr/>
        </p:nvPicPr>
        <p:blipFill>
          <a:blip r:embed="rId1"/>
          <a:stretch/>
        </p:blipFill>
        <p:spPr>
          <a:xfrm>
            <a:off x="390600" y="920880"/>
            <a:ext cx="7851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1476000" y="333360"/>
            <a:ext cx="705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Нормативно-правовая база 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7" descr="PD1"/>
          <p:cNvPicPr/>
          <p:nvPr/>
        </p:nvPicPr>
        <p:blipFill>
          <a:blip r:embed="rId1"/>
          <a:stretch/>
        </p:blipFill>
        <p:spPr>
          <a:xfrm>
            <a:off x="108000" y="4149720"/>
            <a:ext cx="2496960" cy="270828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12"/>
          <p:cNvSpPr/>
          <p:nvPr/>
        </p:nvSpPr>
        <p:spPr>
          <a:xfrm>
            <a:off x="1547640" y="17226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огда был утвержден Федеральный закон «Об образовании в Российской Федер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273-ФЗ от 29.12.2012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6" descr="PD1"/>
          <p:cNvPicPr/>
          <p:nvPr/>
        </p:nvPicPr>
        <p:blipFill>
          <a:blip r:embed="rId2"/>
          <a:stretch/>
        </p:blipFill>
        <p:spPr>
          <a:xfrm>
            <a:off x="0" y="3645000"/>
            <a:ext cx="29624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1115640" y="404280"/>
            <a:ext cx="75596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ормативно-правовая база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7" descr="PD1"/>
          <p:cNvPicPr/>
          <p:nvPr/>
        </p:nvPicPr>
        <p:blipFill>
          <a:blip r:embed="rId1"/>
          <a:stretch/>
        </p:blipFill>
        <p:spPr>
          <a:xfrm>
            <a:off x="0" y="4724280"/>
            <a:ext cx="1967040" cy="2133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11"/>
          <p:cNvSpPr/>
          <p:nvPr/>
        </p:nvSpPr>
        <p:spPr>
          <a:xfrm>
            <a:off x="826920" y="199692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  <a:ea typeface="Calibri"/>
              </a:rPr>
              <a:t>Назовите основные нормативно – правовые документы муниципального 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4978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Уста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Программы (ООП ДО, Программа развития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Локальные акты (положения, распоряжения, приказы, договора 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6" descr="PD1"/>
          <p:cNvPicPr/>
          <p:nvPr/>
        </p:nvPicPr>
        <p:blipFill>
          <a:blip r:embed="rId2"/>
          <a:stretch/>
        </p:blipFill>
        <p:spPr>
          <a:xfrm>
            <a:off x="0" y="3789360"/>
            <a:ext cx="2828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1547640" y="40428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рмативно-правовая б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7" descr="PD1"/>
          <p:cNvPicPr/>
          <p:nvPr/>
        </p:nvPicPr>
        <p:blipFill>
          <a:blip r:embed="rId1"/>
          <a:stretch/>
        </p:blipFill>
        <p:spPr>
          <a:xfrm>
            <a:off x="0" y="458136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9"/>
          <p:cNvSpPr/>
          <p:nvPr/>
        </p:nvSpPr>
        <p:spPr>
          <a:xfrm>
            <a:off x="684360" y="21970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окумент, в котором описывается план мероприятий введения ФГОС 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«Дорожная кар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6" descr="PD1"/>
          <p:cNvPicPr/>
          <p:nvPr/>
        </p:nvPicPr>
        <p:blipFill>
          <a:blip r:embed="rId2"/>
          <a:stretch/>
        </p:blipFill>
        <p:spPr>
          <a:xfrm>
            <a:off x="0" y="4149720"/>
            <a:ext cx="24969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1547640" y="404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рмативно-правовая б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7" descr="PD1"/>
          <p:cNvPicPr/>
          <p:nvPr/>
        </p:nvPicPr>
        <p:blipFill>
          <a:blip r:embed="rId1"/>
          <a:stretch/>
        </p:blipFill>
        <p:spPr>
          <a:xfrm>
            <a:off x="108000" y="4653000"/>
            <a:ext cx="2033640" cy="220500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10"/>
          <p:cNvSpPr/>
          <p:nvPr/>
        </p:nvSpPr>
        <p:spPr>
          <a:xfrm>
            <a:off x="1116000" y="180108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  <a:ea typeface="Calibri"/>
              </a:rPr>
              <a:t>Назовите основные нормативно – правовые документы федерального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итуция РФ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едеральный закон «Об образовании в Российской Федерации» № 273-ФЗ от 29.12.2012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Санитарно-эпидемиологические требования к устройству, содержанию и организации режима работы дошкольных образовательных организаций. СанПиН 2.4.1.3049-13»  (Постановление Главного государственного санитарного врача РФ от 15.05.2013 № 26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каз Министерства образования и науки РФ от 30.08.2013 г. № 101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б утверждении Порядка организации и осуществления образовательной деятельности по основным общеобразовательным программам - образовательным программам дошкольного образования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каз Минобрнауки России от 17.10.2013 №1155 «Об утверждении федерального государственного образовательного стандарта дошкольно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6" descr="PD1"/>
          <p:cNvPicPr/>
          <p:nvPr/>
        </p:nvPicPr>
        <p:blipFill>
          <a:blip r:embed="rId2"/>
          <a:stretch/>
        </p:blipFill>
        <p:spPr>
          <a:xfrm>
            <a:off x="1258920" y="5229360"/>
            <a:ext cx="1170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ООП ДО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Назовите основные разделы, из которых состоит ООП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5" descr="79743"/>
          <p:cNvPicPr/>
          <p:nvPr/>
        </p:nvPicPr>
        <p:blipFill>
          <a:blip r:embed="rId1"/>
          <a:stretch/>
        </p:blipFill>
        <p:spPr>
          <a:xfrm>
            <a:off x="324000" y="4869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Целевой раздел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2. Содержательный раздел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 3. Организационный разде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Bookman Old Style"/>
              </a:rPr>
              <a:t>дополнительный раздел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Bookman Old Style"/>
              </a:rPr>
              <a:t>«Краткая презентац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6" descr="79743"/>
          <p:cNvPicPr/>
          <p:nvPr/>
        </p:nvPicPr>
        <p:blipFill>
          <a:blip r:embed="rId2"/>
          <a:stretch/>
        </p:blipFill>
        <p:spPr>
          <a:xfrm>
            <a:off x="324000" y="33336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4000" y="4406400"/>
            <a:ext cx="8424720" cy="2117880"/>
          </a:xfrm>
          <a:prstGeom prst="rect">
            <a:avLst/>
          </a:prstGeom>
          <a:solidFill>
            <a:srgbClr val="ccff33"/>
          </a:solidFill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ЛАН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ДЕЛОВАЯ ИГРА  «ЗНАТОКИ ФГОС ДО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СКАЗКА  «ФГОС ДО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ПОДВЕДЕНИЕ ИТОГОВ  ПЕДСОВЕ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РЕШЕНИЕ ПЕДСОВЕ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569080" cy="4032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anchor="b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профессионального мастерства и компетенции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влекать каждого педагога в творческий поис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овершенствовать практические навыки профессиона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ствовать развитию педагогического мышления, создать благоприятную атмосферу для творческой работы всех участников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явить уровень профессиональной подготовленности педагогов к введению ФГОС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ООП ДО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Назовите основные направления развития детей (образовательные област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5" descr="79743"/>
          <p:cNvPicPr/>
          <p:nvPr/>
        </p:nvPicPr>
        <p:blipFill>
          <a:blip r:embed="rId1"/>
          <a:stretch/>
        </p:blipFill>
        <p:spPr>
          <a:xfrm>
            <a:off x="395280" y="479736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000" y="2781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- социально-коммуникативное развит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- познавательное развит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- речевое развит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- художественно-эстетическое развит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- физическое 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6" descr="79743"/>
          <p:cNvPicPr/>
          <p:nvPr/>
        </p:nvPicPr>
        <p:blipFill>
          <a:blip r:embed="rId2"/>
          <a:stretch/>
        </p:blipFill>
        <p:spPr>
          <a:xfrm>
            <a:off x="250920" y="11592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ООП ДО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ОП ДО результаты освоения Программы представлены в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………………………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представляют собой социально-нормативные возрастные характеристики возможных достижений ребенка на этапе завершения уровня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5" descr="79743"/>
          <p:cNvPicPr/>
          <p:nvPr/>
        </p:nvPicPr>
        <p:blipFill>
          <a:blip r:embed="rId1"/>
          <a:stretch/>
        </p:blipFill>
        <p:spPr>
          <a:xfrm>
            <a:off x="468360" y="4724280"/>
            <a:ext cx="13809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целевые ориентиры дошкольного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6" descr="79743"/>
          <p:cNvPicPr/>
          <p:nvPr/>
        </p:nvPicPr>
        <p:blipFill>
          <a:blip r:embed="rId2"/>
          <a:stretch/>
        </p:blipFill>
        <p:spPr>
          <a:xfrm>
            <a:off x="611280" y="47628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ООП ДО 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Из чего состо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«Организационный раздел» ООП Д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5" descr="79743"/>
          <p:cNvPicPr/>
          <p:nvPr/>
        </p:nvPicPr>
        <p:blipFill>
          <a:blip r:embed="rId1"/>
          <a:stretch/>
        </p:blipFill>
        <p:spPr>
          <a:xfrm>
            <a:off x="539640" y="4581360"/>
            <a:ext cx="13813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Кадровое обеспеч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Материально – техническое обеспеч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Учебно – методическое обеспеч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Режим дн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Традиционные физкультурные и    музыкальные праздн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Развивающая предметно-пространственная среда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6" descr="79743"/>
          <p:cNvPicPr/>
          <p:nvPr/>
        </p:nvPicPr>
        <p:blipFill>
          <a:blip r:embed="rId2"/>
          <a:stretch/>
        </p:blipFill>
        <p:spPr>
          <a:xfrm>
            <a:off x="395280" y="4437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ООП ДО 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азовите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основные принципы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ошкольного образ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а которых строится ООП ДО</a:t>
            </a:r>
            <a:br>
              <a:rPr sz="3600"/>
            </a:br>
            <a:r>
              <a:rPr b="0" i="1" lang="ru-RU" sz="3600" spc="-1" strike="noStrike">
                <a:solidFill>
                  <a:srgbClr val="7030a0"/>
                </a:solidFill>
                <a:latin typeface="Bookman Old Style"/>
              </a:rPr>
              <a:t>(вставить пропущенные сл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5" descr="79743"/>
          <p:cNvPicPr/>
          <p:nvPr/>
        </p:nvPicPr>
        <p:blipFill>
          <a:blip r:embed="rId1"/>
          <a:stretch/>
        </p:blipFill>
        <p:spPr>
          <a:xfrm>
            <a:off x="250920" y="4724280"/>
            <a:ext cx="13809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59880" cy="6048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лноценное                             ребенк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х этапов детства, обогащение детского развития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Построение образовательной деятельности с учетом        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школьного образования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 Содействие и сотрудничество детей и взрослых, признание ребёнка полноценным участником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4. Поддержка инициативы детей в различных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. Сотрудничество учреждения 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. Приобщение детей к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традициям семьи, общества и государства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7. Формирование                                                                                    ребёнк          в      различных видах деятельности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8. Возрастная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дошкольного образования (соответст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е условий, требований, методов возрасту и особенностям развития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Уче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я дете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Принцип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Учет                           образовательных областе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Соблюдение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я образовательного процесс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6" descr="79743"/>
          <p:cNvPicPr/>
          <p:nvPr/>
        </p:nvPicPr>
        <p:blipFill>
          <a:blip r:embed="rId2"/>
          <a:stretch/>
        </p:blipFill>
        <p:spPr>
          <a:xfrm>
            <a:off x="0" y="5599080"/>
            <a:ext cx="985680" cy="1190520"/>
          </a:xfrm>
          <a:prstGeom prst="rect">
            <a:avLst/>
          </a:prstGeom>
          <a:ln w="0">
            <a:noFill/>
          </a:ln>
        </p:spPr>
      </p:pic>
      <p:sp>
        <p:nvSpPr>
          <p:cNvPr id="783" name="Прямоугольник 4"/>
          <p:cNvSpPr/>
          <p:nvPr/>
        </p:nvSpPr>
        <p:spPr>
          <a:xfrm>
            <a:off x="2090880" y="644400"/>
            <a:ext cx="161748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5"/>
          <p:cNvSpPr/>
          <p:nvPr/>
        </p:nvSpPr>
        <p:spPr>
          <a:xfrm>
            <a:off x="6719760" y="1222200"/>
            <a:ext cx="22194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дивиду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оугольник 6"/>
          <p:cNvSpPr/>
          <p:nvPr/>
        </p:nvSpPr>
        <p:spPr>
          <a:xfrm>
            <a:off x="3227400" y="2014560"/>
            <a:ext cx="3456000" cy="285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разовате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оугольник 7"/>
          <p:cNvSpPr/>
          <p:nvPr/>
        </p:nvSpPr>
        <p:spPr>
          <a:xfrm>
            <a:off x="5675400" y="2347920"/>
            <a:ext cx="259056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идах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оугольник 9"/>
          <p:cNvSpPr/>
          <p:nvPr/>
        </p:nvSpPr>
        <p:spPr>
          <a:xfrm>
            <a:off x="4003560" y="2585880"/>
            <a:ext cx="133524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 семьё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оугольник 10"/>
          <p:cNvSpPr/>
          <p:nvPr/>
        </p:nvSpPr>
        <p:spPr>
          <a:xfrm>
            <a:off x="2911320" y="2870280"/>
            <a:ext cx="3024360" cy="27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циокультурным но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"/>
          <p:cNvSpPr/>
          <p:nvPr/>
        </p:nvSpPr>
        <p:spPr>
          <a:xfrm>
            <a:off x="2243160" y="3330720"/>
            <a:ext cx="6192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знавательных интересов и познавательны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13"/>
          <p:cNvSpPr/>
          <p:nvPr/>
        </p:nvSpPr>
        <p:spPr>
          <a:xfrm>
            <a:off x="2101680" y="3962520"/>
            <a:ext cx="1746360" cy="28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еква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оугольник 14"/>
          <p:cNvSpPr/>
          <p:nvPr/>
        </p:nvSpPr>
        <p:spPr>
          <a:xfrm>
            <a:off x="1138320" y="4479840"/>
            <a:ext cx="28796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тнокультурн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16"/>
          <p:cNvSpPr/>
          <p:nvPr/>
        </p:nvSpPr>
        <p:spPr>
          <a:xfrm>
            <a:off x="1623960" y="4772160"/>
            <a:ext cx="338760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звиваю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17"/>
          <p:cNvSpPr/>
          <p:nvPr/>
        </p:nvSpPr>
        <p:spPr>
          <a:xfrm>
            <a:off x="1258920" y="5041800"/>
            <a:ext cx="1535040" cy="2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тег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18"/>
          <p:cNvSpPr/>
          <p:nvPr/>
        </p:nvSpPr>
        <p:spPr>
          <a:xfrm>
            <a:off x="2101680" y="5337000"/>
            <a:ext cx="4392720" cy="30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мплексно-тематического принц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66596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ФГОС ДО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013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Стандарт включает в себя требования 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труктуре Программы и ее объему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условиям реализации Программы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результатам освоения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4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6" descr="21795"/>
          <p:cNvPicPr/>
          <p:nvPr/>
        </p:nvPicPr>
        <p:blipFill>
          <a:blip r:embed="rId2"/>
          <a:stretch/>
        </p:blipFill>
        <p:spPr>
          <a:xfrm>
            <a:off x="179280" y="3213000"/>
            <a:ext cx="2203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AutoShape 8"/>
          <p:cNvGrpSpPr/>
          <p:nvPr/>
        </p:nvGrpSpPr>
        <p:grpSpPr>
          <a:xfrm>
            <a:off x="2771640" y="549360"/>
            <a:ext cx="4260960" cy="1609560"/>
            <a:chOff x="2771640" y="549360"/>
            <a:chExt cx="4260960" cy="1609560"/>
          </a:xfrm>
        </p:grpSpPr>
        <p:pic>
          <p:nvPicPr>
            <p:cNvPr id="669" name="AutoShape 8" descr=""/>
            <p:cNvPicPr/>
            <p:nvPr/>
          </p:nvPicPr>
          <p:blipFill>
            <a:blip r:embed="rId1"/>
            <a:stretch/>
          </p:blipFill>
          <p:spPr>
            <a:xfrm>
              <a:off x="2771640" y="549360"/>
              <a:ext cx="4260960" cy="16095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70" name="Text Box 4"/>
            <p:cNvSpPr/>
            <p:nvPr/>
          </p:nvSpPr>
          <p:spPr>
            <a:xfrm>
              <a:off x="2903400" y="654120"/>
              <a:ext cx="3997440" cy="1347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ЧЕМУ ОБУЧАТ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AutoShape 8"/>
          <p:cNvGrpSpPr/>
          <p:nvPr/>
        </p:nvGrpSpPr>
        <p:grpSpPr>
          <a:xfrm>
            <a:off x="2771640" y="4508640"/>
            <a:ext cx="4292640" cy="1603080"/>
            <a:chOff x="2771640" y="4508640"/>
            <a:chExt cx="4292640" cy="1603080"/>
          </a:xfrm>
        </p:grpSpPr>
        <p:pic>
          <p:nvPicPr>
            <p:cNvPr id="672" name="AutoShape 8" descr=""/>
            <p:cNvPicPr/>
            <p:nvPr/>
          </p:nvPicPr>
          <p:blipFill>
            <a:blip r:embed="rId2"/>
            <a:stretch/>
          </p:blipFill>
          <p:spPr>
            <a:xfrm>
              <a:off x="2771640" y="4508640"/>
              <a:ext cx="4292640" cy="16030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73" name="Text Box 7"/>
            <p:cNvSpPr/>
            <p:nvPr/>
          </p:nvSpPr>
          <p:spPr>
            <a:xfrm>
              <a:off x="2903400" y="4609800"/>
              <a:ext cx="4029120" cy="1346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КАК ОБУЧАТ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AutoShape 8"/>
          <p:cNvGrpSpPr/>
          <p:nvPr/>
        </p:nvGrpSpPr>
        <p:grpSpPr>
          <a:xfrm>
            <a:off x="2606760" y="2517840"/>
            <a:ext cx="4591080" cy="1609560"/>
            <a:chOff x="2606760" y="2517840"/>
            <a:chExt cx="4591080" cy="1609560"/>
          </a:xfrm>
        </p:grpSpPr>
        <p:pic>
          <p:nvPicPr>
            <p:cNvPr id="675" name="AutoShape 8" descr=""/>
            <p:cNvPicPr/>
            <p:nvPr/>
          </p:nvPicPr>
          <p:blipFill>
            <a:blip r:embed="rId3"/>
            <a:stretch/>
          </p:blipFill>
          <p:spPr>
            <a:xfrm>
              <a:off x="2606760" y="2517840"/>
              <a:ext cx="4591080" cy="16095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76" name="Text Box 10"/>
            <p:cNvSpPr/>
            <p:nvPr/>
          </p:nvSpPr>
          <p:spPr>
            <a:xfrm>
              <a:off x="2884680" y="2620800"/>
              <a:ext cx="4029120" cy="1347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РАДИ ЧЕГО ОБУЧАТ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7" name="Picture 14" descr="C:\Users\Gubina\Desktop\fragezeichen.png"/>
          <p:cNvPicPr/>
          <p:nvPr/>
        </p:nvPicPr>
        <p:blipFill>
          <a:blip r:embed="rId4"/>
          <a:stretch/>
        </p:blipFill>
        <p:spPr>
          <a:xfrm>
            <a:off x="561960" y="385920"/>
            <a:ext cx="1454040" cy="1936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5" descr="C:\Users\Gubina\Desktop\forex-profit-blackbook.png"/>
          <p:cNvPicPr/>
          <p:nvPr/>
        </p:nvPicPr>
        <p:blipFill>
          <a:blip r:embed="rId5"/>
          <a:stretch/>
        </p:blipFill>
        <p:spPr>
          <a:xfrm>
            <a:off x="7140600" y="2455920"/>
            <a:ext cx="1638360" cy="163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79" name="Picture 15" descr="C:\Users\Gubina\Desktop\forex-profit-blackbook.png"/>
          <p:cNvPicPr/>
          <p:nvPr/>
        </p:nvPicPr>
        <p:blipFill>
          <a:blip r:embed="rId6"/>
          <a:stretch/>
        </p:blipFill>
        <p:spPr>
          <a:xfrm>
            <a:off x="7132680" y="4400640"/>
            <a:ext cx="2108160" cy="21096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5" descr="C:\Users\Gubina\Desktop\forex-profit-blackbook.png"/>
          <p:cNvPicPr/>
          <p:nvPr/>
        </p:nvPicPr>
        <p:blipFill>
          <a:blip r:embed="rId7"/>
          <a:stretch/>
        </p:blipFill>
        <p:spPr>
          <a:xfrm>
            <a:off x="7302600" y="21924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&amp;dcy;&amp;iecy;&amp;vcy;&amp;rcy;&amp;chcy;&amp;kcy;&amp;acy;1"/>
          <p:cNvPicPr/>
          <p:nvPr/>
        </p:nvPicPr>
        <p:blipFill>
          <a:blip r:embed="rId8"/>
          <a:stretch/>
        </p:blipFill>
        <p:spPr>
          <a:xfrm>
            <a:off x="281160" y="3645000"/>
            <a:ext cx="2019240" cy="2857320"/>
          </a:xfrm>
          <a:prstGeom prst="rect">
            <a:avLst/>
          </a:prstGeom>
          <a:ln w="0">
            <a:noFill/>
          </a:ln>
        </p:spPr>
      </p:pic>
      <p:sp>
        <p:nvSpPr>
          <p:cNvPr id="68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6893-69F3-49F0-A050-46DB955BFA0B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ФГОС ДО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84040" y="1292400"/>
            <a:ext cx="8436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тандарт является     основой д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(вставьте пропущенное сло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406728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5" descr="21795"/>
          <p:cNvPicPr/>
          <p:nvPr/>
        </p:nvPicPr>
        <p:blipFill>
          <a:blip r:embed="rId1"/>
          <a:stretch/>
        </p:blipFill>
        <p:spPr>
          <a:xfrm>
            <a:off x="6842160" y="2986200"/>
            <a:ext cx="17604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-23760" y="0"/>
            <a:ext cx="9167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ов                             финансирова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                   примерных основных образовательных программ Д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                    Основной образовательной программы дошкольной образовательной организ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            вариативных основных образовательных программ Д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ормирования                               профессионального образования и дополнительного профессионального образования педагогических работников, а также для проведения их аттеста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казания                     родителям (законным представителям) в воспитани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6" descr="21795"/>
          <p:cNvPicPr/>
          <p:nvPr/>
        </p:nvPicPr>
        <p:blipFill>
          <a:blip r:embed="rId2"/>
          <a:stretch/>
        </p:blipFill>
        <p:spPr>
          <a:xfrm>
            <a:off x="7740720" y="201600"/>
            <a:ext cx="1152360" cy="1816200"/>
          </a:xfrm>
          <a:prstGeom prst="rect">
            <a:avLst/>
          </a:prstGeom>
          <a:ln w="0">
            <a:noFill/>
          </a:ln>
        </p:spPr>
      </p:pic>
      <p:sp>
        <p:nvSpPr>
          <p:cNvPr id="808" name="Прямоугольник 1"/>
          <p:cNvSpPr/>
          <p:nvPr/>
        </p:nvSpPr>
        <p:spPr>
          <a:xfrm>
            <a:off x="1979640" y="1049400"/>
            <a:ext cx="1871640" cy="3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оугольник 2"/>
          <p:cNvSpPr/>
          <p:nvPr/>
        </p:nvSpPr>
        <p:spPr>
          <a:xfrm>
            <a:off x="755640" y="1397160"/>
            <a:ext cx="1800360" cy="34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оугольник 4"/>
          <p:cNvSpPr/>
          <p:nvPr/>
        </p:nvSpPr>
        <p:spPr>
          <a:xfrm>
            <a:off x="2916360" y="3573360"/>
            <a:ext cx="21589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5"/>
          <p:cNvSpPr/>
          <p:nvPr/>
        </p:nvSpPr>
        <p:spPr>
          <a:xfrm>
            <a:off x="2135160" y="5075280"/>
            <a:ext cx="1365120" cy="37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оугольник 6"/>
          <p:cNvSpPr/>
          <p:nvPr/>
        </p:nvSpPr>
        <p:spPr>
          <a:xfrm>
            <a:off x="719280" y="2097000"/>
            <a:ext cx="1873080" cy="38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7"/>
          <p:cNvSpPr/>
          <p:nvPr/>
        </p:nvSpPr>
        <p:spPr>
          <a:xfrm>
            <a:off x="814320" y="2886120"/>
            <a:ext cx="188604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ФГОС ДО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Назовите 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 условиям реализации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4"/>
          <p:cNvSpPr/>
          <p:nvPr/>
        </p:nvSpPr>
        <p:spPr>
          <a:xfrm>
            <a:off x="4211640" y="60930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ookman Old Style"/>
              </a:rPr>
              <a:t>Требов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 психолого-педагогическим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дровым, материально-техническим и финансовым условиям реализации Программы, 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также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к развивающей предметно-пространственной ср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6" descr="21795"/>
          <p:cNvPicPr/>
          <p:nvPr/>
        </p:nvPicPr>
        <p:blipFill>
          <a:blip r:embed="rId2"/>
          <a:stretch/>
        </p:blipFill>
        <p:spPr>
          <a:xfrm>
            <a:off x="0" y="3860640"/>
            <a:ext cx="2017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ФГОС ДО 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Почему был принят ФГОС ДО?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(вставить пропущ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 смыслу сл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5" descr="21795"/>
          <p:cNvPicPr/>
          <p:nvPr/>
        </p:nvPicPr>
        <p:blipFill>
          <a:blip r:embed="rId1"/>
          <a:stretch/>
        </p:blipFill>
        <p:spPr>
          <a:xfrm>
            <a:off x="6585120" y="2852640"/>
            <a:ext cx="151740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468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Дошкольное образование становится                общего образования наряду с начальным, основным и средним общем образованием (ст.10, ч.4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Федеральные государственные образовательные стандарты                                для всех уровней общего образования (ст. 5, ч. 3), в том числе для дошкольног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- «            об образовании Российской Федерации». № 273 – ФЗ  от 29.12.2012 г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6" descr="21795"/>
          <p:cNvPicPr/>
          <p:nvPr/>
        </p:nvPicPr>
        <p:blipFill>
          <a:blip r:embed="rId2"/>
          <a:stretch/>
        </p:blipFill>
        <p:spPr>
          <a:xfrm>
            <a:off x="4500720" y="3825720"/>
            <a:ext cx="1776240" cy="2637000"/>
          </a:xfrm>
          <a:prstGeom prst="rect">
            <a:avLst/>
          </a:prstGeom>
          <a:ln w="0">
            <a:noFill/>
          </a:ln>
        </p:spPr>
      </p:pic>
      <p:sp>
        <p:nvSpPr>
          <p:cNvPr id="827" name="Прямоугольник 1"/>
          <p:cNvSpPr/>
          <p:nvPr/>
        </p:nvSpPr>
        <p:spPr>
          <a:xfrm>
            <a:off x="6659640" y="765000"/>
            <a:ext cx="1728720" cy="28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уров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оугольник 3"/>
          <p:cNvSpPr/>
          <p:nvPr/>
        </p:nvSpPr>
        <p:spPr>
          <a:xfrm>
            <a:off x="2340000" y="2168640"/>
            <a:ext cx="266364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утвержд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4"/>
          <p:cNvSpPr/>
          <p:nvPr/>
        </p:nvSpPr>
        <p:spPr>
          <a:xfrm>
            <a:off x="900000" y="3213000"/>
            <a:ext cx="10796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ФГОС ДО 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азовите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цели ФГОС ДО: </a:t>
            </a: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(вставить пропущенные сл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4"/>
          <p:cNvSpPr/>
          <p:nvPr/>
        </p:nvSpPr>
        <p:spPr>
          <a:xfrm>
            <a:off x="4356000" y="60930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94232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овышение социального                      дошкольного образова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Обеспечение                           равенства возможностей для каждого ребенка в получении качественного дошкольного образова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беспечение государственных                      уровня и качества дошкольного образования на основе единства обязательных требований к условиям реализации образовательных программ дошкольного образования, их структуре и результатам их осво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Сохранение                        образовательного пространства Российской Федерации относительно уровня дошкольного образова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6" descr="21795"/>
          <p:cNvPicPr/>
          <p:nvPr/>
        </p:nvPicPr>
        <p:blipFill>
          <a:blip r:embed="rId1"/>
          <a:stretch/>
        </p:blipFill>
        <p:spPr>
          <a:xfrm>
            <a:off x="3672000" y="4595760"/>
            <a:ext cx="1377720" cy="2048040"/>
          </a:xfrm>
          <a:prstGeom prst="rect">
            <a:avLst/>
          </a:prstGeom>
          <a:ln w="0">
            <a:noFill/>
          </a:ln>
        </p:spPr>
      </p:pic>
      <p:sp>
        <p:nvSpPr>
          <p:cNvPr id="835" name="Прямоугольник 1"/>
          <p:cNvSpPr/>
          <p:nvPr/>
        </p:nvSpPr>
        <p:spPr>
          <a:xfrm>
            <a:off x="4284720" y="920880"/>
            <a:ext cx="122400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ат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Прямоугольник 2"/>
          <p:cNvSpPr/>
          <p:nvPr/>
        </p:nvSpPr>
        <p:spPr>
          <a:xfrm>
            <a:off x="2771640" y="1484280"/>
            <a:ext cx="1800360" cy="37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осудар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4"/>
          <p:cNvSpPr/>
          <p:nvPr/>
        </p:nvSpPr>
        <p:spPr>
          <a:xfrm>
            <a:off x="4896000" y="2492280"/>
            <a:ext cx="14396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аран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оугольник 5"/>
          <p:cNvSpPr/>
          <p:nvPr/>
        </p:nvSpPr>
        <p:spPr>
          <a:xfrm>
            <a:off x="2627280" y="3933720"/>
            <a:ext cx="1513080" cy="35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ди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5">
            <a:hlinkClick r:id="rId2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Прямоугольник 2" descr=""/>
          <p:cNvPicPr/>
          <p:nvPr/>
        </p:nvPicPr>
        <p:blipFill>
          <a:blip r:embed="rId1"/>
          <a:stretch/>
        </p:blipFill>
        <p:spPr>
          <a:xfrm>
            <a:off x="1182600" y="1023840"/>
            <a:ext cx="6608880" cy="1103400"/>
          </a:xfrm>
          <a:prstGeom prst="rect">
            <a:avLst/>
          </a:prstGeom>
          <a:ln w="0">
            <a:noFill/>
          </a:ln>
        </p:spPr>
      </p:pic>
      <p:pic>
        <p:nvPicPr>
          <p:cNvPr id="841" name="Рисунок 4" descr=""/>
          <p:cNvPicPr/>
          <p:nvPr/>
        </p:nvPicPr>
        <p:blipFill>
          <a:blip r:embed="rId2"/>
          <a:stretch/>
        </p:blipFill>
        <p:spPr>
          <a:xfrm>
            <a:off x="2771640" y="2506680"/>
            <a:ext cx="3168720" cy="4024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Прямоугольник 3" descr=""/>
          <p:cNvPicPr/>
          <p:nvPr/>
        </p:nvPicPr>
        <p:blipFill>
          <a:blip r:embed="rId1"/>
          <a:stretch/>
        </p:blipFill>
        <p:spPr>
          <a:xfrm>
            <a:off x="585720" y="2468520"/>
            <a:ext cx="7826400" cy="23590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2" descr=""/>
          <p:cNvPicPr/>
          <p:nvPr/>
        </p:nvPicPr>
        <p:blipFill>
          <a:blip r:embed="rId2"/>
          <a:stretch/>
        </p:blipFill>
        <p:spPr>
          <a:xfrm>
            <a:off x="4981680" y="5084640"/>
            <a:ext cx="3720960" cy="1387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85" name="Picture 6" descr="C:\Users\Ольга\Documents\Смайлики (подборка для оформления презентаций)\536849127.gif"/>
          <p:cNvPicPr/>
          <p:nvPr/>
        </p:nvPicPr>
        <p:blipFill>
          <a:blip r:embed="rId3"/>
          <a:stretch/>
        </p:blipFill>
        <p:spPr>
          <a:xfrm>
            <a:off x="179280" y="115920"/>
            <a:ext cx="2880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1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1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шифруйте аббревиатуру ФГОС 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2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овите ведущий вид деятельност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в ДОУ по ФГ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Рисунок 1" descr=""/>
          <p:cNvPicPr/>
          <p:nvPr/>
        </p:nvPicPr>
        <p:blipFill>
          <a:blip r:embed="rId1"/>
          <a:srcRect l="8661" t="3169" r="6683" b="11531"/>
          <a:stretch/>
        </p:blipFill>
        <p:spPr>
          <a:xfrm>
            <a:off x="5219640" y="2925720"/>
            <a:ext cx="3097440" cy="3672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Заголовок 1" descr=""/>
          <p:cNvPicPr/>
          <p:nvPr/>
        </p:nvPicPr>
        <p:blipFill>
          <a:blip r:embed="rId1"/>
          <a:stretch/>
        </p:blipFill>
        <p:spPr>
          <a:xfrm>
            <a:off x="378000" y="-55440"/>
            <a:ext cx="8699400" cy="1993680"/>
          </a:xfrm>
          <a:prstGeom prst="rect">
            <a:avLst/>
          </a:prstGeom>
          <a:ln w="0">
            <a:noFill/>
          </a:ln>
        </p:spPr>
      </p:pic>
      <p:pic>
        <p:nvPicPr>
          <p:cNvPr id="690" name="Содержимое 3" descr=""/>
          <p:cNvPicPr/>
          <p:nvPr/>
        </p:nvPicPr>
        <p:blipFill>
          <a:blip r:embed="rId2"/>
          <a:stretch/>
        </p:blipFill>
        <p:spPr>
          <a:xfrm>
            <a:off x="603360" y="1487520"/>
            <a:ext cx="7864200" cy="1365120"/>
          </a:xfrm>
          <a:prstGeom prst="rect">
            <a:avLst/>
          </a:prstGeom>
          <a:ln w="0">
            <a:noFill/>
          </a:ln>
        </p:spPr>
      </p:pic>
      <p:pic>
        <p:nvPicPr>
          <p:cNvPr id="691" name="Прямоугольник 4" descr=""/>
          <p:cNvPicPr/>
          <p:nvPr/>
        </p:nvPicPr>
        <p:blipFill>
          <a:blip r:embed="rId3"/>
          <a:stretch/>
        </p:blipFill>
        <p:spPr>
          <a:xfrm>
            <a:off x="2262240" y="2395440"/>
            <a:ext cx="1017360" cy="4511880"/>
          </a:xfrm>
          <a:prstGeom prst="rect">
            <a:avLst/>
          </a:prstGeom>
          <a:ln w="0">
            <a:noFill/>
          </a:ln>
        </p:spPr>
      </p:pic>
      <p:pic>
        <p:nvPicPr>
          <p:cNvPr id="692" name="Прямоугольник 5" descr=""/>
          <p:cNvPicPr/>
          <p:nvPr/>
        </p:nvPicPr>
        <p:blipFill>
          <a:blip r:embed="rId4"/>
          <a:stretch/>
        </p:blipFill>
        <p:spPr>
          <a:xfrm>
            <a:off x="6559560" y="2408400"/>
            <a:ext cx="841320" cy="45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108000" y="1166760"/>
          <a:ext cx="8712000" cy="893880"/>
        </p:xfrm>
        <a:graphic>
          <a:graphicData uri="http://schemas.openxmlformats.org/drawingml/2006/table">
            <a:tbl>
              <a:tblPr/>
              <a:tblGrid>
                <a:gridCol w="2879640"/>
                <a:gridCol w="1192320"/>
                <a:gridCol w="1279440"/>
                <a:gridCol w="1120680"/>
                <a:gridCol w="1119240"/>
                <a:gridCol w="11206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ОП Д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108000" y="189000"/>
          <a:ext cx="8713800" cy="936360"/>
        </p:xfrm>
        <a:graphic>
          <a:graphicData uri="http://schemas.openxmlformats.org/drawingml/2006/table">
            <a:tbl>
              <a:tblPr/>
              <a:tblGrid>
                <a:gridCol w="2878200"/>
                <a:gridCol w="1198440"/>
                <a:gridCol w="1200240"/>
                <a:gridCol w="1119240"/>
                <a:gridCol w="1198440"/>
                <a:gridCol w="111924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ормативно-правовая б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144360" y="2133720"/>
          <a:ext cx="8675640" cy="1261800"/>
        </p:xfrm>
        <a:graphic>
          <a:graphicData uri="http://schemas.openxmlformats.org/drawingml/2006/table">
            <a:tbl>
              <a:tblPr/>
              <a:tblGrid>
                <a:gridCol w="2865600"/>
                <a:gridCol w="1193760"/>
                <a:gridCol w="1195200"/>
                <a:gridCol w="1113120"/>
                <a:gridCol w="1193760"/>
                <a:gridCol w="1114200"/>
              </a:tblGrid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ФГОС 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AutoShape 129"/>
          <p:cNvSpPr/>
          <p:nvPr/>
        </p:nvSpPr>
        <p:spPr>
          <a:xfrm>
            <a:off x="4356000" y="189000"/>
            <a:ext cx="935280" cy="93636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25">
                <a:moveTo>
                  <a:pt x="0" y="0"/>
                </a:moveTo>
                <a:lnTo>
                  <a:pt x="21600" y="0"/>
                </a:lnTo>
                <a:lnTo>
                  <a:pt x="21600" y="21625"/>
                </a:lnTo>
                <a:lnTo>
                  <a:pt x="0" y="21625"/>
                </a:lnTo>
                <a:close/>
              </a:path>
              <a:path fill="lightenLess" w="21600" h="21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5">
                <a:moveTo>
                  <a:pt x="21600" y="0"/>
                </a:moveTo>
                <a:lnTo>
                  <a:pt x="21600" y="21625"/>
                </a:lnTo>
                <a:lnTo>
                  <a:pt x="20200" y="20225"/>
                </a:lnTo>
                <a:lnTo>
                  <a:pt x="20200" y="1400"/>
                </a:lnTo>
                <a:close/>
              </a:path>
              <a:path fill="darkenLess" w="21600" h="21625">
                <a:moveTo>
                  <a:pt x="21600" y="21625"/>
                </a:moveTo>
                <a:lnTo>
                  <a:pt x="0" y="21625"/>
                </a:lnTo>
                <a:lnTo>
                  <a:pt x="1400" y="20225"/>
                </a:lnTo>
                <a:lnTo>
                  <a:pt x="20200" y="20225"/>
                </a:lnTo>
                <a:close/>
              </a:path>
              <a:path fill="lighten" w="21600" h="21625">
                <a:moveTo>
                  <a:pt x="0" y="21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130"/>
          <p:cNvSpPr/>
          <p:nvPr/>
        </p:nvSpPr>
        <p:spPr>
          <a:xfrm>
            <a:off x="550872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31"/>
          <p:cNvSpPr/>
          <p:nvPr/>
        </p:nvSpPr>
        <p:spPr>
          <a:xfrm>
            <a:off x="7812000" y="179280"/>
            <a:ext cx="935280" cy="93672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32"/>
          <p:cNvSpPr/>
          <p:nvPr/>
        </p:nvSpPr>
        <p:spPr>
          <a:xfrm>
            <a:off x="6697800" y="187200"/>
            <a:ext cx="934920" cy="9367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42">
                <a:moveTo>
                  <a:pt x="0" y="0"/>
                </a:moveTo>
                <a:lnTo>
                  <a:pt x="21600" y="0"/>
                </a:lnTo>
                <a:lnTo>
                  <a:pt x="21600" y="21642"/>
                </a:lnTo>
                <a:lnTo>
                  <a:pt x="0" y="21642"/>
                </a:lnTo>
                <a:close/>
              </a:path>
              <a:path fill="lightenLess" w="21600" h="216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2">
                <a:moveTo>
                  <a:pt x="21600" y="0"/>
                </a:moveTo>
                <a:lnTo>
                  <a:pt x="21600" y="21642"/>
                </a:lnTo>
                <a:lnTo>
                  <a:pt x="20200" y="20242"/>
                </a:lnTo>
                <a:lnTo>
                  <a:pt x="20200" y="1400"/>
                </a:lnTo>
                <a:close/>
              </a:path>
              <a:path fill="darkenLess" w="21600" h="21642">
                <a:moveTo>
                  <a:pt x="21600" y="21642"/>
                </a:moveTo>
                <a:lnTo>
                  <a:pt x="0" y="21642"/>
                </a:lnTo>
                <a:lnTo>
                  <a:pt x="1400" y="20242"/>
                </a:lnTo>
                <a:lnTo>
                  <a:pt x="20200" y="20242"/>
                </a:lnTo>
                <a:close/>
              </a:path>
              <a:path fill="lighten" w="21600" h="21642">
                <a:moveTo>
                  <a:pt x="0" y="216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38"/>
          <p:cNvSpPr/>
          <p:nvPr/>
        </p:nvSpPr>
        <p:spPr>
          <a:xfrm>
            <a:off x="3059280" y="189000"/>
            <a:ext cx="1006200" cy="936360"/>
          </a:xfrm>
          <a:custGeom>
            <a:avLst/>
            <a:gdLst>
              <a:gd name="textAreaLeft" fmla="*/ 60480 w 1006200"/>
              <a:gd name="textAreaRight" fmla="*/ 945720 w 10062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3210" h="21600">
                <a:moveTo>
                  <a:pt x="0" y="0"/>
                </a:moveTo>
                <a:lnTo>
                  <a:pt x="23210" y="0"/>
                </a:lnTo>
                <a:lnTo>
                  <a:pt x="23210" y="21600"/>
                </a:lnTo>
                <a:lnTo>
                  <a:pt x="0" y="21600"/>
                </a:lnTo>
                <a:close/>
              </a:path>
              <a:path fill="lightenLess" w="23210" h="21600">
                <a:moveTo>
                  <a:pt x="0" y="0"/>
                </a:moveTo>
                <a:lnTo>
                  <a:pt x="23210" y="0"/>
                </a:lnTo>
                <a:lnTo>
                  <a:pt x="21811" y="1400"/>
                </a:lnTo>
                <a:lnTo>
                  <a:pt x="1400" y="1400"/>
                </a:lnTo>
                <a:close/>
              </a:path>
              <a:path fill="darken" w="23210" h="21600">
                <a:moveTo>
                  <a:pt x="23210" y="0"/>
                </a:moveTo>
                <a:lnTo>
                  <a:pt x="23210" y="21600"/>
                </a:lnTo>
                <a:lnTo>
                  <a:pt x="21811" y="20200"/>
                </a:lnTo>
                <a:lnTo>
                  <a:pt x="21811" y="1400"/>
                </a:lnTo>
                <a:close/>
              </a:path>
              <a:path fill="darkenLess" w="23210" h="21600">
                <a:moveTo>
                  <a:pt x="23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11" y="20200"/>
                </a:lnTo>
                <a:close/>
              </a:path>
              <a:path fill="lighten" w="23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76"/>
          <p:cNvSpPr/>
          <p:nvPr/>
        </p:nvSpPr>
        <p:spPr>
          <a:xfrm>
            <a:off x="3132000" y="1197000"/>
            <a:ext cx="935280" cy="8636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91" h="21600">
                <a:moveTo>
                  <a:pt x="0" y="0"/>
                </a:moveTo>
                <a:lnTo>
                  <a:pt x="23391" y="0"/>
                </a:lnTo>
                <a:lnTo>
                  <a:pt x="23391" y="21600"/>
                </a:lnTo>
                <a:lnTo>
                  <a:pt x="0" y="21600"/>
                </a:lnTo>
                <a:close/>
              </a:path>
              <a:path fill="lightenLess" w="23391" h="21600">
                <a:moveTo>
                  <a:pt x="0" y="0"/>
                </a:moveTo>
                <a:lnTo>
                  <a:pt x="23391" y="0"/>
                </a:lnTo>
                <a:lnTo>
                  <a:pt x="21991" y="1400"/>
                </a:lnTo>
                <a:lnTo>
                  <a:pt x="1400" y="1400"/>
                </a:lnTo>
                <a:close/>
              </a:path>
              <a:path fill="darken" w="23391" h="21600">
                <a:moveTo>
                  <a:pt x="23391" y="0"/>
                </a:moveTo>
                <a:lnTo>
                  <a:pt x="23391" y="21600"/>
                </a:lnTo>
                <a:lnTo>
                  <a:pt x="21991" y="20200"/>
                </a:lnTo>
                <a:lnTo>
                  <a:pt x="21991" y="1400"/>
                </a:lnTo>
                <a:close/>
              </a:path>
              <a:path fill="darkenLess" w="23391" h="21600">
                <a:moveTo>
                  <a:pt x="23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1" y="20200"/>
                </a:lnTo>
                <a:close/>
              </a:path>
              <a:path fill="lighten" w="23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177"/>
          <p:cNvSpPr/>
          <p:nvPr/>
        </p:nvSpPr>
        <p:spPr>
          <a:xfrm>
            <a:off x="4284720" y="1197000"/>
            <a:ext cx="1077840" cy="865080"/>
          </a:xfrm>
          <a:custGeom>
            <a:avLst/>
            <a:gdLst>
              <a:gd name="textAreaLeft" fmla="*/ 55800 w 1077840"/>
              <a:gd name="textAreaRight" fmla="*/ 1022040 w 10778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10" h="21600">
                <a:moveTo>
                  <a:pt x="0" y="0"/>
                </a:moveTo>
                <a:lnTo>
                  <a:pt x="26910" y="0"/>
                </a:lnTo>
                <a:lnTo>
                  <a:pt x="26910" y="21600"/>
                </a:lnTo>
                <a:lnTo>
                  <a:pt x="0" y="21600"/>
                </a:lnTo>
                <a:close/>
              </a:path>
              <a:path fill="lightenLess" w="26910" h="21600">
                <a:moveTo>
                  <a:pt x="0" y="0"/>
                </a:moveTo>
                <a:lnTo>
                  <a:pt x="26910" y="0"/>
                </a:lnTo>
                <a:lnTo>
                  <a:pt x="25510" y="1400"/>
                </a:lnTo>
                <a:lnTo>
                  <a:pt x="1400" y="1400"/>
                </a:lnTo>
                <a:close/>
              </a:path>
              <a:path fill="darken" w="26910" h="21600">
                <a:moveTo>
                  <a:pt x="26910" y="0"/>
                </a:moveTo>
                <a:lnTo>
                  <a:pt x="26910" y="21600"/>
                </a:lnTo>
                <a:lnTo>
                  <a:pt x="25510" y="20200"/>
                </a:lnTo>
                <a:lnTo>
                  <a:pt x="25510" y="1400"/>
                </a:lnTo>
                <a:close/>
              </a:path>
              <a:path fill="darkenLess" w="26910" h="21600">
                <a:moveTo>
                  <a:pt x="26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0" y="20200"/>
                </a:lnTo>
                <a:close/>
              </a:path>
              <a:path fill="lighten" w="26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78"/>
          <p:cNvSpPr/>
          <p:nvPr/>
        </p:nvSpPr>
        <p:spPr>
          <a:xfrm>
            <a:off x="5508720" y="119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79"/>
          <p:cNvSpPr/>
          <p:nvPr/>
        </p:nvSpPr>
        <p:spPr>
          <a:xfrm>
            <a:off x="6732720" y="119700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80"/>
          <p:cNvSpPr/>
          <p:nvPr/>
        </p:nvSpPr>
        <p:spPr>
          <a:xfrm>
            <a:off x="7812000" y="1197000"/>
            <a:ext cx="935280" cy="8636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91" h="21600">
                <a:moveTo>
                  <a:pt x="0" y="0"/>
                </a:moveTo>
                <a:lnTo>
                  <a:pt x="23391" y="0"/>
                </a:lnTo>
                <a:lnTo>
                  <a:pt x="23391" y="21600"/>
                </a:lnTo>
                <a:lnTo>
                  <a:pt x="0" y="21600"/>
                </a:lnTo>
                <a:close/>
              </a:path>
              <a:path fill="lightenLess" w="23391" h="21600">
                <a:moveTo>
                  <a:pt x="0" y="0"/>
                </a:moveTo>
                <a:lnTo>
                  <a:pt x="23391" y="0"/>
                </a:lnTo>
                <a:lnTo>
                  <a:pt x="21991" y="1400"/>
                </a:lnTo>
                <a:lnTo>
                  <a:pt x="1400" y="1400"/>
                </a:lnTo>
                <a:close/>
              </a:path>
              <a:path fill="darken" w="23391" h="21600">
                <a:moveTo>
                  <a:pt x="23391" y="0"/>
                </a:moveTo>
                <a:lnTo>
                  <a:pt x="23391" y="21600"/>
                </a:lnTo>
                <a:lnTo>
                  <a:pt x="21991" y="20200"/>
                </a:lnTo>
                <a:lnTo>
                  <a:pt x="21991" y="1400"/>
                </a:lnTo>
                <a:close/>
              </a:path>
              <a:path fill="darkenLess" w="23391" h="21600">
                <a:moveTo>
                  <a:pt x="23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1" y="20200"/>
                </a:lnTo>
                <a:close/>
              </a:path>
              <a:path fill="lighten" w="23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57"/>
          <p:cNvSpPr/>
          <p:nvPr/>
        </p:nvSpPr>
        <p:spPr>
          <a:xfrm>
            <a:off x="5508720" y="2276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58"/>
          <p:cNvSpPr/>
          <p:nvPr/>
        </p:nvSpPr>
        <p:spPr>
          <a:xfrm>
            <a:off x="6588000" y="2205000"/>
            <a:ext cx="935280" cy="107964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933">
                <a:moveTo>
                  <a:pt x="0" y="0"/>
                </a:moveTo>
                <a:lnTo>
                  <a:pt x="21600" y="0"/>
                </a:lnTo>
                <a:lnTo>
                  <a:pt x="21600" y="24933"/>
                </a:lnTo>
                <a:lnTo>
                  <a:pt x="0" y="24933"/>
                </a:lnTo>
                <a:close/>
              </a:path>
              <a:path fill="lightenLess" w="21600" h="249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33">
                <a:moveTo>
                  <a:pt x="21600" y="0"/>
                </a:moveTo>
                <a:lnTo>
                  <a:pt x="21600" y="24933"/>
                </a:lnTo>
                <a:lnTo>
                  <a:pt x="20200" y="23533"/>
                </a:lnTo>
                <a:lnTo>
                  <a:pt x="20200" y="1400"/>
                </a:lnTo>
                <a:close/>
              </a:path>
              <a:path fill="darkenLess" w="21600" h="24933">
                <a:moveTo>
                  <a:pt x="21600" y="24933"/>
                </a:moveTo>
                <a:lnTo>
                  <a:pt x="0" y="24933"/>
                </a:lnTo>
                <a:lnTo>
                  <a:pt x="1400" y="23533"/>
                </a:lnTo>
                <a:lnTo>
                  <a:pt x="20200" y="23533"/>
                </a:lnTo>
                <a:close/>
              </a:path>
              <a:path fill="lighten" w="21600" h="24933">
                <a:moveTo>
                  <a:pt x="0" y="249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59"/>
          <p:cNvSpPr/>
          <p:nvPr/>
        </p:nvSpPr>
        <p:spPr>
          <a:xfrm>
            <a:off x="7812000" y="2205000"/>
            <a:ext cx="935280" cy="108108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81080"/>
              <a:gd name="textAreaBottom" fmla="*/ 1020600 h 1081080"/>
            </a:gdLst>
            <a:ahLst/>
            <a:rect l="textAreaLeft" t="textAreaTop" r="textAreaRight" b="textAreaBottom"/>
            <a:pathLst>
              <a:path w="21600" h="24966">
                <a:moveTo>
                  <a:pt x="0" y="0"/>
                </a:moveTo>
                <a:lnTo>
                  <a:pt x="21600" y="0"/>
                </a:lnTo>
                <a:lnTo>
                  <a:pt x="21600" y="24966"/>
                </a:lnTo>
                <a:lnTo>
                  <a:pt x="0" y="24966"/>
                </a:lnTo>
                <a:close/>
              </a:path>
              <a:path fill="lightenLess" w="21600" h="24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66">
                <a:moveTo>
                  <a:pt x="21600" y="0"/>
                </a:moveTo>
                <a:lnTo>
                  <a:pt x="21600" y="24966"/>
                </a:lnTo>
                <a:lnTo>
                  <a:pt x="20200" y="23566"/>
                </a:lnTo>
                <a:lnTo>
                  <a:pt x="20200" y="1400"/>
                </a:lnTo>
                <a:close/>
              </a:path>
              <a:path fill="darkenLess" w="21600" h="24966">
                <a:moveTo>
                  <a:pt x="21600" y="24966"/>
                </a:moveTo>
                <a:lnTo>
                  <a:pt x="0" y="24966"/>
                </a:lnTo>
                <a:lnTo>
                  <a:pt x="1400" y="23566"/>
                </a:lnTo>
                <a:lnTo>
                  <a:pt x="20200" y="23566"/>
                </a:lnTo>
                <a:close/>
              </a:path>
              <a:path fill="lighten" w="21600" h="24966">
                <a:moveTo>
                  <a:pt x="0" y="24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64"/>
          <p:cNvSpPr/>
          <p:nvPr/>
        </p:nvSpPr>
        <p:spPr>
          <a:xfrm>
            <a:off x="4356000" y="2276640"/>
            <a:ext cx="935280" cy="100800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79">
                <a:moveTo>
                  <a:pt x="0" y="0"/>
                </a:moveTo>
                <a:lnTo>
                  <a:pt x="21600" y="0"/>
                </a:lnTo>
                <a:lnTo>
                  <a:pt x="21600" y="23279"/>
                </a:lnTo>
                <a:lnTo>
                  <a:pt x="0" y="23279"/>
                </a:lnTo>
                <a:close/>
              </a:path>
              <a:path fill="lightenLess" w="21600" h="23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9">
                <a:moveTo>
                  <a:pt x="21600" y="0"/>
                </a:moveTo>
                <a:lnTo>
                  <a:pt x="21600" y="23279"/>
                </a:lnTo>
                <a:lnTo>
                  <a:pt x="20200" y="21879"/>
                </a:lnTo>
                <a:lnTo>
                  <a:pt x="20200" y="1400"/>
                </a:lnTo>
                <a:close/>
              </a:path>
              <a:path fill="darkenLess" w="21600" h="23279">
                <a:moveTo>
                  <a:pt x="21600" y="23279"/>
                </a:moveTo>
                <a:lnTo>
                  <a:pt x="0" y="23279"/>
                </a:lnTo>
                <a:lnTo>
                  <a:pt x="1400" y="21879"/>
                </a:lnTo>
                <a:lnTo>
                  <a:pt x="20200" y="21879"/>
                </a:lnTo>
                <a:close/>
              </a:path>
              <a:path fill="lighten" w="21600" h="23279">
                <a:moveTo>
                  <a:pt x="0" y="23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35"/>
          <p:cNvSpPr/>
          <p:nvPr/>
        </p:nvSpPr>
        <p:spPr>
          <a:xfrm>
            <a:off x="3132000" y="2205000"/>
            <a:ext cx="935280" cy="108108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81080"/>
              <a:gd name="textAreaBottom" fmla="*/ 1020600 h 1081080"/>
            </a:gdLst>
            <a:ahLst/>
            <a:rect l="textAreaLeft" t="textAreaTop" r="textAreaRight" b="textAreaBottom"/>
            <a:pathLst>
              <a:path w="21600" h="24966">
                <a:moveTo>
                  <a:pt x="0" y="0"/>
                </a:moveTo>
                <a:lnTo>
                  <a:pt x="21600" y="0"/>
                </a:lnTo>
                <a:lnTo>
                  <a:pt x="21600" y="24966"/>
                </a:lnTo>
                <a:lnTo>
                  <a:pt x="0" y="24966"/>
                </a:lnTo>
                <a:close/>
              </a:path>
              <a:path fill="lightenLess" w="21600" h="24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66">
                <a:moveTo>
                  <a:pt x="21600" y="0"/>
                </a:moveTo>
                <a:lnTo>
                  <a:pt x="21600" y="24966"/>
                </a:lnTo>
                <a:lnTo>
                  <a:pt x="20200" y="23566"/>
                </a:lnTo>
                <a:lnTo>
                  <a:pt x="20200" y="1400"/>
                </a:lnTo>
                <a:close/>
              </a:path>
              <a:path fill="darkenLess" w="21600" h="24966">
                <a:moveTo>
                  <a:pt x="21600" y="24966"/>
                </a:moveTo>
                <a:lnTo>
                  <a:pt x="0" y="24966"/>
                </a:lnTo>
                <a:lnTo>
                  <a:pt x="1400" y="23566"/>
                </a:lnTo>
                <a:lnTo>
                  <a:pt x="20200" y="23566"/>
                </a:lnTo>
                <a:close/>
              </a:path>
              <a:path fill="lighten" w="21600" h="24966">
                <a:moveTo>
                  <a:pt x="0" y="24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92"/>
          <p:cNvSpPr/>
          <p:nvPr/>
        </p:nvSpPr>
        <p:spPr>
          <a:xfrm>
            <a:off x="612720" y="386064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3 тур   </a:t>
            </a: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«Блиц - турни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"/>
          <p:cNvSpPr/>
          <p:nvPr/>
        </p:nvSpPr>
        <p:spPr>
          <a:xfrm>
            <a:off x="250920" y="5445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виз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щем, думаем, дерзаем, на вопросы Что? Когда? отвеча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39280" y="333000"/>
            <a:ext cx="74804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ормативно-правовая база 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8" descr="PD1"/>
          <p:cNvPicPr/>
          <p:nvPr/>
        </p:nvPicPr>
        <p:blipFill>
          <a:blip r:embed="rId1"/>
          <a:stretch/>
        </p:blipFill>
        <p:spPr>
          <a:xfrm>
            <a:off x="250920" y="4076640"/>
            <a:ext cx="2563560" cy="278136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10"/>
          <p:cNvSpPr/>
          <p:nvPr/>
        </p:nvSpPr>
        <p:spPr>
          <a:xfrm>
            <a:off x="1258920" y="163908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гда был утвержден Приказ Минобрнауки России от «Об утверждении федерального государственного образовательного стандарта дошкольного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7.10.2013 №115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6" descr="PD1"/>
          <p:cNvPicPr/>
          <p:nvPr/>
        </p:nvPicPr>
        <p:blipFill>
          <a:blip r:embed="rId2"/>
          <a:stretch/>
        </p:blipFill>
        <p:spPr>
          <a:xfrm>
            <a:off x="250920" y="3645000"/>
            <a:ext cx="2962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5:31:11Z</dcterms:created>
  <dc:creator>Русина</dc:creator>
  <dc:description/>
  <dc:language>en-US</dc:language>
  <cp:lastModifiedBy>UZER</cp:lastModifiedBy>
  <dcterms:modified xsi:type="dcterms:W3CDTF">2018-04-09T14:13:14Z</dcterms:modified>
  <cp:revision>99</cp:revision>
  <dc:subject/>
  <dc:title>Слайд 1</dc:title>
</cp:coreProperties>
</file>