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gif" ContentType="image/gif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gif" ContentType="image/gif"/>
  <Override PartName="/ppt/media/image17.png" ContentType="image/png"/>
  <Override PartName="/ppt/media/image1.png" ContentType="image/png"/>
  <Override PartName="/ppt/media/image21.gif" ContentType="image/gif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  <p:sldId id="289" r:id="rId52"/>
    <p:sldId id="290" r:id="rId53"/>
    <p:sldId id="291" r:id="rId54"/>
    <p:sldId id="292" r:id="rId55"/>
    <p:sldId id="293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slide" Target="slides/slide34.xml"/><Relationship Id="rId53" Type="http://schemas.openxmlformats.org/officeDocument/2006/relationships/slide" Target="slides/slide35.xml"/><Relationship Id="rId54" Type="http://schemas.openxmlformats.org/officeDocument/2006/relationships/slide" Target="slides/slide36.xml"/><Relationship Id="rId55" Type="http://schemas.openxmlformats.org/officeDocument/2006/relationships/slide" Target="slides/slide37.xml"/><Relationship Id="rId56" Type="http://schemas.openxmlformats.org/officeDocument/2006/relationships/slide" Target="slides/slide38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C64E-4B7F-4D92-B931-6D52E1FADB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174C-476C-482C-8835-481ECD4364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3645-AECC-4E5C-9121-333AD37110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Номер слайда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8B41-A3BB-4B7E-A49C-D79EEF1208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C94C-4177-4A75-8B93-CD8C85129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6BCA-B69B-49EB-BBD3-CF5A23BE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224B06-68E0-49E2-8263-E8091DC8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2E3B62-3B59-4363-9355-BE196F1A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90B102-E5FA-4434-AB7D-5CA7931E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4FCFB1-34D9-4EE9-85AD-8A1AE883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52EA21-2D2D-4D6D-A1F9-C44DB8B4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6FACA9-049C-4B37-B9B8-260B5122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D503C4-0547-42DD-ABB5-E4DF33BE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D08E3D-95F8-4CFB-A4F7-7BFAE31E1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BD899E-C0D6-4075-81EF-2BF4805BF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1E5DA0-4747-4131-9A51-73FE1D124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01EE-A617-46CD-92C1-A8B032B93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03EB28-FD4B-438D-9B7D-97F48E51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22D4AF-C252-4D88-A991-66803B57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6C5BAB-64D1-436F-B196-DD6369DA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CB56C0-EF36-4D40-AAD6-A7E6FA25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335980-411C-4250-BB00-132FA7D7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8B6B33-1A9C-492A-921E-F74DE592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F6E97A-963C-4ADC-B2BC-EBB3D6A9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0F179A-FDE6-46D3-9BA7-7CCB1516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FD00B8-FDAB-421D-9774-7D54ACEE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195156-CFC1-4DAC-A93E-6645AB4D6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CB89-36FA-4DF7-A493-733F9E9A2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6C76C9-CF72-49B2-89F9-10477861B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4F1E4B-8A37-4A7E-8BE7-C178A44C4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4CDE5D-53D4-42FF-BFAC-396A7EE4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593B00-CF2C-4497-9AD0-46FDF401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1270B-41C5-4692-9817-0F8C5C92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808525-E8CC-40D3-8C38-B2E61CE5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4A7CA-94D2-4B93-86C8-C90A7844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ECF4B-9F48-4111-8F85-2CAE2E76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7566C-ED1E-4463-87DB-3290EED9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161EA4-B2B5-4ABD-837C-D38E3821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D60E-A8BF-4817-9A9B-2C3C4D281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61BC22-3F59-46F8-B851-12AE0567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D09EB-72BB-4D43-A44F-B39568453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240E2-C1CA-42EE-AE87-AED42A8B2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2F0368-F457-4914-B47D-F74B1F1B1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28B203-B395-4D8B-A76B-9EBC81C8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1CD8A1-F918-4A4A-93B4-D72BFA5B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55C5ED-D80A-410F-8683-469EE954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1EDAEA-E60F-4673-A310-CAFE1629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362C44-4526-498C-9F34-08B365E0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3D563D-66C3-4224-AC8B-807DF14F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6D475-07D6-448B-93E6-7183DF19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38F70E-3A41-4E56-8250-84922A37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E1F35B-0425-426C-B391-B86329ED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964407-5187-4DE3-92E2-461DB006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A65559-585C-4327-966F-DE6FE7AE3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4B18A4-5156-4E96-A3B1-4F884ED12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C6609D-9FDF-4C29-8DD8-900CB9AF2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F8B94F-9EAB-4C3A-A301-0C537307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433F49-CBAD-4235-8B00-7A8A357F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A7AFC5-EF65-4ABC-90B6-7EBB015A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5973A7-B84E-4416-A293-D13C5CC5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25E03-C693-4AB9-8B1A-843BC454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E9A990-58A1-4A4E-95A1-8075C19A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24AD68-D6E3-4185-82F1-F67D9DDF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2259BA-283B-454B-BFF3-2EFCD58D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0F82C8-1361-408C-8E9C-BF22BEB2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D9177D-E670-4DF6-AA5E-2B0C7989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C1E6CB-F372-4DE5-BFB4-E14ED5610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CA5A51-18F4-4E8C-96C5-9A724D6BE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591B57-589B-4DCE-B312-17EEAB0A0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F46608-DE58-4738-91E2-46312670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595C47-23A8-41AE-B79B-B4A6F3BA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A1143-3D65-428D-877C-00F2B63E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A3EF10-844F-45FC-98FF-52D3CDCE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D93EFB-81B9-4056-97AE-4D91D9FD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C59B4E-B6DE-4385-8AB9-BB5343AA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F064FB-AEDE-44CA-8627-25A40888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03C34D-28A8-4995-B202-055A9A42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031895-AEEE-4569-BF83-1C874E41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B5228C-675C-487A-B4A5-A01AB3E9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749860-301F-4F8E-BBA5-42E79021B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8E4168-C8AA-419C-AF50-082337F62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29919E-3F89-48B9-8FFC-560B912E0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074A-37ED-44A3-8170-9DA5D64B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7CD123-535F-439B-B030-6FD0A671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A70DC9-6F31-44A9-A7A0-2DA4F315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EE390D-E91B-40CB-96B5-2241C6FD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E258D9-9482-467D-AA9F-B49361F8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4C7B75-9398-4977-AED3-F8F690B7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267487-372A-452E-99CB-7401AD4B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69AB80-5D06-4510-B476-7638D664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9B4808-575E-4568-BD92-3B806670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B3A9DA-FE68-4621-A98B-A4B16ECD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BEBB21-B52D-43A0-9E2B-F1CE62E3B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F946E-0982-4927-A74C-CF12AF2D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769558-5EFB-4FA0-B0A0-315EE6FF4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46960D-1266-440F-84F6-4F180D2B4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4C71EE-C8AA-4C59-8294-309AB738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CD6216-E511-4B02-A06B-223C07B8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EBD033-E2AD-4622-A0B5-1C2A5465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46FD41-46CA-4762-B2EA-D8EE7E93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739601-ED23-43DB-9DF5-D13A829C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473A46-069B-4B1F-895A-EE57A19E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A74B29-6DB8-44F1-963D-1D361953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A02931-6254-4B3B-8891-3A035D2D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CE2C-9B04-46B8-9B25-4ED62905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A0AF7E-1CE0-4800-B452-8331F4EF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213912-CE21-470F-934E-814F9343C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7BBD0C-FD27-4B25-BA9D-CF97BB284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B030-7300-4600-A460-D43473B1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FCF0-9A16-4FC0-9FF5-68032309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4F7A-CE22-4B0D-990C-1E1C8E7A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33252-50DF-4713-94BD-0353B7C1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13B5-5A8A-467A-B165-D9549E288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E040-136D-4A43-B3E9-13CBF5DEE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D4DD3-68CC-4C63-9FE3-C8BEC09A7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B7A78-E0B1-4F86-955F-9CA84B33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44B78-F3A8-4F79-A2FE-045EEEDA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02920-7540-4732-922C-6B111B10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0B1B7-AE94-4302-B054-BB1C75E5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4CC2-C877-4C14-8B2B-26E5DD8E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B8380-C148-405B-B001-023E6AED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9F5BD-0C5B-4186-B750-AE764C2F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7C0AC-BFF5-4055-AF3E-CEB06D7E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1F93D-8A1E-47E3-A238-71A70479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5006D-96B2-4A0D-BD1C-11FFA2F9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809C3-0998-4C9F-99DC-D550B4843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96250-A277-4AC3-B172-36D813FB4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EF529-1DA9-4661-9DD1-C1F136DC1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C85BB-544D-4431-A27A-01CB1567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0853C-3A42-4AC2-80C1-5E82FC3F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A200-0144-4AF2-8213-86927EB5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7AFE1-5B24-4DA1-9766-3E8D54F3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3710B-DA01-4AA3-BE4B-99F98339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6B98B-1613-4CCC-BB66-3C96F304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1E4E9-F516-4509-B3FE-A63F53EB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CD030-868E-4D1B-AE61-682F6481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6848D-03EE-4232-B764-29A4DCB7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CCD3F-9EDE-46AE-A025-700DE7CF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D7E8F-9E5F-4519-BB59-8D5333EBC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B79FB-0545-4981-83A7-8042489D2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8E53D-EF33-4390-A09A-90F886C81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296B-92D6-4FCE-A36E-0294CC9C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EB3F0-9ED6-4239-8880-542E3584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07409-B079-443D-A949-9D8AC911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0C1B0-6042-48BF-9303-EDC6A092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20179-9E42-4CCF-9CDD-1BEC9C25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2AA47-3094-4023-99F1-66DE52EF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2D1C2-C215-450E-966F-906EF739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DEEC1-840D-4FB3-8397-8791A178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0B451-FC03-47DC-B3A0-15C0BA13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E26D7-BF1E-4529-958C-568D621E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5004C-05C4-4AE4-829E-825945E95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20C7-41CB-48C6-8A4C-3D3B6EBF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09A0E-028E-4D59-8D04-958709676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05623-5B44-4D9D-9CDA-25E626472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BBA2F-935B-483C-B253-17BFC20A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D9A69-D97E-4A25-90DC-6E3D5D8D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E3044-752B-410F-83C1-7E70C28B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9E747-FF7C-4F00-940E-41A995F6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A04AE-2FE5-4D6F-9963-186A816E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6C790-1CC6-4A5D-9587-11EC833F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6D56D-DE1C-4C51-AA3A-B816A649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A0D23-4467-4DCA-AE0E-A33A19C9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CB6B-B0D8-48A7-AB33-2782A96E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8AFF1-9780-432E-AACD-99D8555D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5DF4A-B47B-446F-85B6-F16F8B242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AFABA-4168-4421-B978-1F577CFD9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CA173-BE49-4A7A-8312-81DA2AAF5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69712-02CD-457E-BDA2-2AC60BBC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AEFBD-FE20-40C0-9F07-0D2A7E04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74A50-1E86-4495-9BD0-A52A5222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F5E9C-DC4D-4AEF-9FBA-D333F03D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368F7-2E08-4871-80D6-01981F2B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B0566-DC43-4D78-8D63-2382ED62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E53B-1E3E-439A-A2E8-F0803A58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D6A3B-15E4-4879-9D17-C37892D5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E98FD-56D4-4193-A24F-BF2A1914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B3456-C2EB-4D06-9D4A-BF16550F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488CF-A8BA-4AFC-AF5F-DB8D23E83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03852-BDEC-45EE-B688-BC059CD51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E6672-6A37-4863-9789-DC66BE653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37323-22A2-4494-8A53-9BE17B61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CFE48-2338-4E8E-997D-1DC4249B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D7A71-34AF-4C93-883C-8055C65E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21D98-4528-406B-9666-8B727A1F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CE94-D8D0-4133-87C1-12A1C3AE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AF030-8677-40B9-A501-F26F9DAF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68B58-4ECC-4654-9F57-B459BF11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2E7F0-3F7C-4D80-8AD5-7DF15B17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02C47-718B-4B05-B5F5-4DB8EE04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E217C-12AA-4186-BEF5-0091B46D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1B00C-2BB5-485C-8647-D6ABB7780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DC531-A5DF-49FE-B078-153025EAF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0FC191-FBA4-42D3-8BB7-BA36ABD76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46D00D-F6EE-4488-98FB-F5226069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D2746C-9EA9-44CB-BC5A-7D108FE6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C50D-A293-4359-A0CA-6FC1641083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5D09-BFCB-4E76-8D9E-4E978C7C46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36B2-63A5-4639-9DFE-A53CED1FE8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0183-7E28-43D5-A4EC-DDEA54AD05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689F-FD0C-4301-AEA4-8576BD661F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091E-D065-4B22-8692-A76415B650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8567-508C-4AF2-9B1B-368EF9F9C7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0F01-C863-4241-92F5-00981521B7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B2C5-0622-4972-BDEE-1A602917C0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ACDC-AA6F-4411-85A6-A440352B48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E330-57F3-45D5-BFC3-3820EB1A0A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4E11-991C-463E-A59C-F6CED60DF7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AE1A-10CA-4AA2-82D7-3743F8764B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5FBB-DDD7-4ABB-A1E4-4114406E0A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6522-C24F-47D5-A3C3-780EBCCC3D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8EF8-D270-42CD-8719-ACC1744DA2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2.xml"/><Relationship Id="rId3" Type="http://schemas.openxmlformats.org/officeDocument/2006/relationships/slide" Target="slide16.xml"/><Relationship Id="rId4" Type="http://schemas.openxmlformats.org/officeDocument/2006/relationships/slide" Target="slide14.xml"/><Relationship Id="rId5" Type="http://schemas.openxmlformats.org/officeDocument/2006/relationships/slide" Target="slide8.xml"/><Relationship Id="rId6" Type="http://schemas.openxmlformats.org/officeDocument/2006/relationships/slide" Target="slide18.xml"/><Relationship Id="rId7" Type="http://schemas.openxmlformats.org/officeDocument/2006/relationships/slide" Target="slide20.xml"/><Relationship Id="rId8" Type="http://schemas.openxmlformats.org/officeDocument/2006/relationships/slide" Target="slide22.xml"/><Relationship Id="rId9" Type="http://schemas.openxmlformats.org/officeDocument/2006/relationships/slide" Target="slide24.xml"/><Relationship Id="rId10" Type="http://schemas.openxmlformats.org/officeDocument/2006/relationships/slide" Target="slide26.xml"/><Relationship Id="rId11" Type="http://schemas.openxmlformats.org/officeDocument/2006/relationships/slide" Target="slide32.xml"/><Relationship Id="rId12" Type="http://schemas.openxmlformats.org/officeDocument/2006/relationships/slide" Target="slide34.xml"/><Relationship Id="rId13" Type="http://schemas.openxmlformats.org/officeDocument/2006/relationships/slide" Target="slide36.xml"/><Relationship Id="rId14" Type="http://schemas.openxmlformats.org/officeDocument/2006/relationships/slide" Target="slide30.xml"/><Relationship Id="rId15" Type="http://schemas.openxmlformats.org/officeDocument/2006/relationships/slide" Target="slide28.xml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77960" y="5660640"/>
            <a:ext cx="7772400" cy="6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ОДГОТОВИЛА: 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  КУРГУШОВА Е.А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39640" y="764640"/>
            <a:ext cx="7772400" cy="374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7000"/>
              </a:lnSpc>
              <a:spcBef>
                <a:spcPts val="1125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в форме  деловой игры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5" name="Прямоугольник 4" descr=""/>
          <p:cNvPicPr/>
          <p:nvPr/>
        </p:nvPicPr>
        <p:blipFill>
          <a:blip r:embed="rId1"/>
          <a:stretch/>
        </p:blipFill>
        <p:spPr>
          <a:xfrm>
            <a:off x="390600" y="920880"/>
            <a:ext cx="785160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ubTitle"/>
          </p:nvPr>
        </p:nvSpPr>
        <p:spPr>
          <a:xfrm>
            <a:off x="1476000" y="333360"/>
            <a:ext cx="70563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Нормативно-правовая база  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5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7" descr="PD1"/>
          <p:cNvPicPr/>
          <p:nvPr/>
        </p:nvPicPr>
        <p:blipFill>
          <a:blip r:embed="rId1"/>
          <a:stretch/>
        </p:blipFill>
        <p:spPr>
          <a:xfrm>
            <a:off x="108000" y="4149720"/>
            <a:ext cx="2496960" cy="2708280"/>
          </a:xfrm>
          <a:prstGeom prst="rect">
            <a:avLst/>
          </a:prstGeom>
          <a:ln w="0">
            <a:noFill/>
          </a:ln>
        </p:spPr>
      </p:pic>
      <p:sp>
        <p:nvSpPr>
          <p:cNvPr id="723" name="Rectangle 12"/>
          <p:cNvSpPr/>
          <p:nvPr/>
        </p:nvSpPr>
        <p:spPr>
          <a:xfrm>
            <a:off x="1547640" y="1722600"/>
            <a:ext cx="698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Когда был утвержден Федеральный закон «Об образовании в Российской Федераци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№ </a:t>
            </a: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273-ФЗ от 29.12.2012 г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5">
            <a:hlinkClick r:id="rId1" action="ppaction://hlinksldjump"/>
          </p:cNvPr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Picture 6" descr="PD1"/>
          <p:cNvPicPr/>
          <p:nvPr/>
        </p:nvPicPr>
        <p:blipFill>
          <a:blip r:embed="rId2"/>
          <a:stretch/>
        </p:blipFill>
        <p:spPr>
          <a:xfrm>
            <a:off x="0" y="3645000"/>
            <a:ext cx="296244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1115640" y="404280"/>
            <a:ext cx="755964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Нормативно-правовая база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5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Picture 7" descr="PD1"/>
          <p:cNvPicPr/>
          <p:nvPr/>
        </p:nvPicPr>
        <p:blipFill>
          <a:blip r:embed="rId1"/>
          <a:stretch/>
        </p:blipFill>
        <p:spPr>
          <a:xfrm>
            <a:off x="0" y="4724280"/>
            <a:ext cx="1967040" cy="2133720"/>
          </a:xfrm>
          <a:prstGeom prst="rect">
            <a:avLst/>
          </a:prstGeom>
          <a:ln w="0">
            <a:noFill/>
          </a:ln>
        </p:spPr>
      </p:pic>
      <p:sp>
        <p:nvSpPr>
          <p:cNvPr id="730" name="Rectangle 11"/>
          <p:cNvSpPr/>
          <p:nvPr/>
        </p:nvSpPr>
        <p:spPr>
          <a:xfrm>
            <a:off x="826920" y="1996920"/>
            <a:ext cx="770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  <a:ea typeface="Calibri"/>
              </a:rPr>
              <a:t>Назовите основные нормативно – правовые документы муниципального уров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94920" y="1341000"/>
            <a:ext cx="8497800" cy="23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- Устав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- Программы (ООП ДО, Программа развития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- Локальные акты (положения, распоряжения, приказы, договора  и д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5">
            <a:hlinkClick r:id="rId1" action="ppaction://hlinksldjump"/>
          </p:cNvPr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Picture 6" descr="PD1"/>
          <p:cNvPicPr/>
          <p:nvPr/>
        </p:nvPicPr>
        <p:blipFill>
          <a:blip r:embed="rId2"/>
          <a:stretch/>
        </p:blipFill>
        <p:spPr>
          <a:xfrm>
            <a:off x="0" y="3789360"/>
            <a:ext cx="28288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1547640" y="404280"/>
            <a:ext cx="6400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ормативно-правовая баз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5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7" descr="PD1"/>
          <p:cNvPicPr/>
          <p:nvPr/>
        </p:nvPicPr>
        <p:blipFill>
          <a:blip r:embed="rId1"/>
          <a:stretch/>
        </p:blipFill>
        <p:spPr>
          <a:xfrm>
            <a:off x="0" y="4581360"/>
            <a:ext cx="2098800" cy="2276640"/>
          </a:xfrm>
          <a:prstGeom prst="rect">
            <a:avLst/>
          </a:prstGeom>
          <a:ln w="0">
            <a:noFill/>
          </a:ln>
        </p:spPr>
      </p:pic>
      <p:sp>
        <p:nvSpPr>
          <p:cNvPr id="737" name="Rectangle 9"/>
          <p:cNvSpPr/>
          <p:nvPr/>
        </p:nvSpPr>
        <p:spPr>
          <a:xfrm>
            <a:off x="684360" y="219708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Документ, в котором описывается план мероприятий введения ФГОС Д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«Дорожная карт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AutoShape 5">
            <a:hlinkClick r:id="rId1" action="ppaction://hlinksldjump"/>
          </p:cNvPr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6" descr="PD1"/>
          <p:cNvPicPr/>
          <p:nvPr/>
        </p:nvPicPr>
        <p:blipFill>
          <a:blip r:embed="rId2"/>
          <a:stretch/>
        </p:blipFill>
        <p:spPr>
          <a:xfrm>
            <a:off x="0" y="4149720"/>
            <a:ext cx="24969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1547640" y="40428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ормативно-правовая баз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5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Picture 7" descr="PD1"/>
          <p:cNvPicPr/>
          <p:nvPr/>
        </p:nvPicPr>
        <p:blipFill>
          <a:blip r:embed="rId1"/>
          <a:stretch/>
        </p:blipFill>
        <p:spPr>
          <a:xfrm>
            <a:off x="108000" y="4653000"/>
            <a:ext cx="2033640" cy="2205000"/>
          </a:xfrm>
          <a:prstGeom prst="rect">
            <a:avLst/>
          </a:prstGeom>
          <a:ln w="0">
            <a:noFill/>
          </a:ln>
        </p:spPr>
      </p:pic>
      <p:sp>
        <p:nvSpPr>
          <p:cNvPr id="744" name="Rectangle 10"/>
          <p:cNvSpPr/>
          <p:nvPr/>
        </p:nvSpPr>
        <p:spPr>
          <a:xfrm>
            <a:off x="1116000" y="1801080"/>
            <a:ext cx="7343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ookman Old Style"/>
                <a:ea typeface="Calibri"/>
              </a:rPr>
              <a:t>Назовите основные нормативно – правовые документы федерального уров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68360" y="220500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онституция РФ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Федеральный закон «Об образовании в Российской Федерации» № 273-ФЗ от 29.12.2012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«Санитарно-эпидемиологические требования к устройству, содержанию и организации режима работы дошкольных образовательных организаций. СанПиН 2.4.1.3049-13»  (Постановление Главного государственного санитарного врача РФ от 15.05.2013 № 26)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иказ Министерства образования и науки РФ от 30.08.2013 г. № 1014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Об утверждении Порядка организации и осуществления образовательной деятельности по основным общеобразовательным программам - образовательным программам дошкольного образования»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иказ Минобрнауки России от 17.10.2013 №1155 «Об утверждении федерального государственного образовательного стандарта дошкольного образова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AutoShape 5">
            <a:hlinkClick r:id="rId1" action="ppaction://hlinksldjump"/>
          </p:cNvPr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Picture 6" descr="PD1"/>
          <p:cNvPicPr/>
          <p:nvPr/>
        </p:nvPicPr>
        <p:blipFill>
          <a:blip r:embed="rId2"/>
          <a:stretch/>
        </p:blipFill>
        <p:spPr>
          <a:xfrm>
            <a:off x="1258920" y="5229360"/>
            <a:ext cx="117000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Arial"/>
              </a:rPr>
              <a:t>ООП ДО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Назовите основные разделы, из которых состоит ООП Д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4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Picture 5" descr="79743"/>
          <p:cNvPicPr/>
          <p:nvPr/>
        </p:nvPicPr>
        <p:blipFill>
          <a:blip r:embed="rId1"/>
          <a:stretch/>
        </p:blipFill>
        <p:spPr>
          <a:xfrm>
            <a:off x="324000" y="4869000"/>
            <a:ext cx="13809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-743040" algn="ctr"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Целевой раздел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2. Содержательный раздел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 3. Организационный раздел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4000" spc="-1" strike="noStrike">
                <a:solidFill>
                  <a:srgbClr val="7030a0"/>
                </a:solidFill>
                <a:latin typeface="Bookman Old Style"/>
              </a:rPr>
              <a:t>дополнительный раздел</a:t>
            </a:r>
            <a:br>
              <a:rPr sz="4000"/>
            </a:br>
            <a:r>
              <a:rPr b="0" lang="ru-RU" sz="4000" spc="-1" strike="noStrike">
                <a:solidFill>
                  <a:srgbClr val="7030a0"/>
                </a:solidFill>
                <a:latin typeface="Bookman Old Style"/>
              </a:rPr>
              <a:t>«Краткая презентац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AutoShape 5">
            <a:hlinkClick r:id="rId1" action="ppaction://hlinksldjump"/>
          </p:cNvPr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6" descr="79743"/>
          <p:cNvPicPr/>
          <p:nvPr/>
        </p:nvPicPr>
        <p:blipFill>
          <a:blip r:embed="rId2"/>
          <a:stretch/>
        </p:blipFill>
        <p:spPr>
          <a:xfrm>
            <a:off x="324000" y="333360"/>
            <a:ext cx="13809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24000" y="4406400"/>
            <a:ext cx="8424720" cy="2117880"/>
          </a:xfrm>
          <a:prstGeom prst="rect">
            <a:avLst/>
          </a:prstGeom>
          <a:solidFill>
            <a:srgbClr val="ccff33"/>
          </a:solidFill>
          <a:ln w="3816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7000"/>
              </a:lnSpc>
              <a:spcBef>
                <a:spcPts val="1125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ПЛАН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ДЕЛОВАЯ ИГРА  «ЗНАТОКИ ФГОС ДО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СКАЗКА  «ФГОС ДО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.ПОДВЕДЕНИЕ ИТОГОВ  ПЕДСОВЕТ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. РЕШЕНИЕ ПЕДСОВЕТ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50560" y="189000"/>
            <a:ext cx="8569080" cy="403200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txBody>
          <a:bodyPr anchor="b">
            <a:normAutofit fontScale="7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шение профессионального мастерства и компетенции педагог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овлекать каждого педагога в творческий поис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овершенствовать практические навыки профессиональ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пособствовать развитию педагогического мышления, создать благоприятную атмосферу для творческой работы всех участников иг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ыявить уровень профессиональной подготовленности педагогов к введению ФГОС Д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00"/>
                </a:solidFill>
                <a:latin typeface="Arial"/>
              </a:rPr>
              <a:t>ООП ДО 2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Назовите основные направления развития детей (образовательные област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4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Picture 5" descr="79743"/>
          <p:cNvPicPr/>
          <p:nvPr/>
        </p:nvPicPr>
        <p:blipFill>
          <a:blip r:embed="rId1"/>
          <a:stretch/>
        </p:blipFill>
        <p:spPr>
          <a:xfrm>
            <a:off x="395280" y="4797360"/>
            <a:ext cx="13809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68000" y="278100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- социально-коммуникативное развитие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- познавательное развитие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- речевое развитие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- художественно-эстетическое развитие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- физическое развит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AutoShape 5">
            <a:hlinkClick r:id="rId1" action="ppaction://hlinksldjump"/>
          </p:cNvPr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Picture 6" descr="79743"/>
          <p:cNvPicPr/>
          <p:nvPr/>
        </p:nvPicPr>
        <p:blipFill>
          <a:blip r:embed="rId2"/>
          <a:stretch/>
        </p:blipFill>
        <p:spPr>
          <a:xfrm>
            <a:off x="250920" y="115920"/>
            <a:ext cx="13809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00"/>
                </a:solidFill>
                <a:latin typeface="Arial"/>
              </a:rPr>
              <a:t>ООП ДО 3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ОП ДО результаты освоения Программы представлены в ви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……………………………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торые представляют собой социально-нормативные возрастные характеристики возможных достижений ребенка на этапе завершения уровня дошкольно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4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5" descr="79743"/>
          <p:cNvPicPr/>
          <p:nvPr/>
        </p:nvPicPr>
        <p:blipFill>
          <a:blip r:embed="rId1"/>
          <a:stretch/>
        </p:blipFill>
        <p:spPr>
          <a:xfrm>
            <a:off x="468360" y="4724280"/>
            <a:ext cx="138096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11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целевые ориентиры дошкольного образ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AutoShape 5">
            <a:hlinkClick r:id="rId1" action="ppaction://hlinksldjump"/>
          </p:cNvPr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Picture 6" descr="79743"/>
          <p:cNvPicPr/>
          <p:nvPr/>
        </p:nvPicPr>
        <p:blipFill>
          <a:blip r:embed="rId2"/>
          <a:stretch/>
        </p:blipFill>
        <p:spPr>
          <a:xfrm>
            <a:off x="611280" y="476280"/>
            <a:ext cx="13809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00"/>
                </a:solidFill>
                <a:latin typeface="Arial"/>
              </a:rPr>
              <a:t>ООП ДО 4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Из чего состои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«Организационный раздел» ООП Д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4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Picture 5" descr="79743"/>
          <p:cNvPicPr/>
          <p:nvPr/>
        </p:nvPicPr>
        <p:blipFill>
          <a:blip r:embed="rId1"/>
          <a:stretch/>
        </p:blipFill>
        <p:spPr>
          <a:xfrm>
            <a:off x="539640" y="4581360"/>
            <a:ext cx="138132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- Кадровое обеспечени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- Материально – техническое обеспечени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- Учебно – методическое обеспечени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- Режим дн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- Традиционные физкультурные и    музыкальные праздник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- Развивающая предметно-пространственная среда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AutoShape 5">
            <a:hlinkClick r:id="rId1" action="ppaction://hlinksldjump"/>
          </p:cNvPr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6" descr="79743"/>
          <p:cNvPicPr/>
          <p:nvPr/>
        </p:nvPicPr>
        <p:blipFill>
          <a:blip r:embed="rId2"/>
          <a:stretch/>
        </p:blipFill>
        <p:spPr>
          <a:xfrm>
            <a:off x="395280" y="4437000"/>
            <a:ext cx="13809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00"/>
                </a:solidFill>
                <a:latin typeface="Arial"/>
              </a:rPr>
              <a:t>ООП ДО 5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Назовите 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основные принципы 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дошкольного образова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на которых строится ООП ДО</a:t>
            </a:r>
            <a:br>
              <a:rPr sz="3600"/>
            </a:br>
            <a:r>
              <a:rPr b="0" i="1" lang="ru-RU" sz="3600" spc="-1" strike="noStrike">
                <a:solidFill>
                  <a:srgbClr val="7030a0"/>
                </a:solidFill>
                <a:latin typeface="Bookman Old Style"/>
              </a:rPr>
              <a:t>(вставить пропущенные слов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4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Picture 5" descr="79743"/>
          <p:cNvPicPr/>
          <p:nvPr/>
        </p:nvPicPr>
        <p:blipFill>
          <a:blip r:embed="rId1"/>
          <a:stretch/>
        </p:blipFill>
        <p:spPr>
          <a:xfrm>
            <a:off x="250920" y="4724280"/>
            <a:ext cx="138096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8759880" cy="6048360"/>
          </a:xfrm>
          <a:prstGeom prst="rect">
            <a:avLst/>
          </a:prstGeom>
          <a:solidFill>
            <a:srgbClr val="ffff00"/>
          </a:solidFill>
          <a:ln w="9360">
            <a:solidFill>
              <a:srgbClr val="ccff66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Полноценное                             ребенком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ех этапов детства, обогащение детского развития.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2. Построение образовательной деятельности с учетом        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ошкольного образования.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3. Содействие и сотрудничество детей и взрослых, признание ребёнка полноценным участником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4. Поддержка инициативы детей в различных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5. Сотрудничество учреждения 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6. Приобщение детей к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     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традициям семьи, общества и государства.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7. Формирование                                                                                    ребёнк          в      различных видах деятельности;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8. Возрастная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  дошкольного образования (соответст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е условий, требований, методов возрасту и особенностям развития)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Учет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я детей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 Принцип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 Учет                           образовательных областей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. Соблюдение 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ения образовательного процесс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5">
            <a:hlinkClick r:id="rId1" action="ppaction://hlinksldjump"/>
          </p:cNvPr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6" descr="79743"/>
          <p:cNvPicPr/>
          <p:nvPr/>
        </p:nvPicPr>
        <p:blipFill>
          <a:blip r:embed="rId2"/>
          <a:stretch/>
        </p:blipFill>
        <p:spPr>
          <a:xfrm>
            <a:off x="0" y="5599080"/>
            <a:ext cx="985680" cy="1190520"/>
          </a:xfrm>
          <a:prstGeom prst="rect">
            <a:avLst/>
          </a:prstGeom>
          <a:ln w="0">
            <a:noFill/>
          </a:ln>
        </p:spPr>
      </p:pic>
      <p:sp>
        <p:nvSpPr>
          <p:cNvPr id="783" name="Прямоугольник 4"/>
          <p:cNvSpPr/>
          <p:nvPr/>
        </p:nvSpPr>
        <p:spPr>
          <a:xfrm>
            <a:off x="2090880" y="644400"/>
            <a:ext cx="161748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ро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Прямоугольник 5"/>
          <p:cNvSpPr/>
          <p:nvPr/>
        </p:nvSpPr>
        <p:spPr>
          <a:xfrm>
            <a:off x="6719760" y="1222200"/>
            <a:ext cx="221940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ндивидуа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Прямоугольник 6"/>
          <p:cNvSpPr/>
          <p:nvPr/>
        </p:nvSpPr>
        <p:spPr>
          <a:xfrm>
            <a:off x="3227400" y="2014560"/>
            <a:ext cx="3456000" cy="285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бразовательных отно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Прямоугольник 7"/>
          <p:cNvSpPr/>
          <p:nvPr/>
        </p:nvSpPr>
        <p:spPr>
          <a:xfrm>
            <a:off x="5675400" y="2347920"/>
            <a:ext cx="2590560" cy="239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идах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Прямоугольник 9"/>
          <p:cNvSpPr/>
          <p:nvPr/>
        </p:nvSpPr>
        <p:spPr>
          <a:xfrm>
            <a:off x="4003560" y="2585880"/>
            <a:ext cx="1335240" cy="304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 семьё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Прямоугольник 10"/>
          <p:cNvSpPr/>
          <p:nvPr/>
        </p:nvSpPr>
        <p:spPr>
          <a:xfrm>
            <a:off x="2911320" y="2870280"/>
            <a:ext cx="3024360" cy="27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оциокультурным норм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12"/>
          <p:cNvSpPr/>
          <p:nvPr/>
        </p:nvSpPr>
        <p:spPr>
          <a:xfrm>
            <a:off x="2243160" y="3330720"/>
            <a:ext cx="61927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знавательных интересов и познавательных дейст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Прямоугольник 13"/>
          <p:cNvSpPr/>
          <p:nvPr/>
        </p:nvSpPr>
        <p:spPr>
          <a:xfrm>
            <a:off x="2101680" y="3962520"/>
            <a:ext cx="1746360" cy="284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деква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Прямоугольник 14"/>
          <p:cNvSpPr/>
          <p:nvPr/>
        </p:nvSpPr>
        <p:spPr>
          <a:xfrm>
            <a:off x="1138320" y="4479840"/>
            <a:ext cx="28796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этнокультурной ситу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Прямоугольник 16"/>
          <p:cNvSpPr/>
          <p:nvPr/>
        </p:nvSpPr>
        <p:spPr>
          <a:xfrm>
            <a:off x="1623960" y="4772160"/>
            <a:ext cx="3387600" cy="2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азвивающе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Прямоугольник 17"/>
          <p:cNvSpPr/>
          <p:nvPr/>
        </p:nvSpPr>
        <p:spPr>
          <a:xfrm>
            <a:off x="1258920" y="5041800"/>
            <a:ext cx="1535040" cy="27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нтег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Прямоугольник 18"/>
          <p:cNvSpPr/>
          <p:nvPr/>
        </p:nvSpPr>
        <p:spPr>
          <a:xfrm>
            <a:off x="2101680" y="5337000"/>
            <a:ext cx="4392720" cy="303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комплексно-тематического принци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665964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00"/>
                </a:solidFill>
                <a:latin typeface="Arial"/>
              </a:rPr>
              <a:t>ФГОС ДО 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80136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Стандарт включает в себя требования к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4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структуре Программы и ее объему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условиям реализации Программы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результатам освоения Програм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AutoShape 4">
            <a:hlinkClick r:id="rId1" action="ppaction://hlinksldjump"/>
          </p:cNvPr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Picture 6" descr="21795"/>
          <p:cNvPicPr/>
          <p:nvPr/>
        </p:nvPicPr>
        <p:blipFill>
          <a:blip r:embed="rId2"/>
          <a:stretch/>
        </p:blipFill>
        <p:spPr>
          <a:xfrm>
            <a:off x="179280" y="3213000"/>
            <a:ext cx="2203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8" name="AutoShape 8"/>
          <p:cNvGrpSpPr/>
          <p:nvPr/>
        </p:nvGrpSpPr>
        <p:grpSpPr>
          <a:xfrm>
            <a:off x="2771640" y="549360"/>
            <a:ext cx="4260960" cy="1609560"/>
            <a:chOff x="2771640" y="549360"/>
            <a:chExt cx="4260960" cy="1609560"/>
          </a:xfrm>
        </p:grpSpPr>
        <p:pic>
          <p:nvPicPr>
            <p:cNvPr id="669" name="AutoShape 8" descr=""/>
            <p:cNvPicPr/>
            <p:nvPr/>
          </p:nvPicPr>
          <p:blipFill>
            <a:blip r:embed="rId1"/>
            <a:stretch/>
          </p:blipFill>
          <p:spPr>
            <a:xfrm>
              <a:off x="2771640" y="549360"/>
              <a:ext cx="4260960" cy="16095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670" name="Text Box 4"/>
            <p:cNvSpPr/>
            <p:nvPr/>
          </p:nvSpPr>
          <p:spPr>
            <a:xfrm>
              <a:off x="2903400" y="654120"/>
              <a:ext cx="3997440" cy="1347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75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33cc"/>
                  </a:solidFill>
                  <a:latin typeface="Arial"/>
                </a:rPr>
                <a:t>ЧЕМУ ОБУЧАТЬ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AutoShape 8"/>
          <p:cNvGrpSpPr/>
          <p:nvPr/>
        </p:nvGrpSpPr>
        <p:grpSpPr>
          <a:xfrm>
            <a:off x="2771640" y="4508640"/>
            <a:ext cx="4292640" cy="1603080"/>
            <a:chOff x="2771640" y="4508640"/>
            <a:chExt cx="4292640" cy="1603080"/>
          </a:xfrm>
        </p:grpSpPr>
        <p:pic>
          <p:nvPicPr>
            <p:cNvPr id="672" name="AutoShape 8" descr=""/>
            <p:cNvPicPr/>
            <p:nvPr/>
          </p:nvPicPr>
          <p:blipFill>
            <a:blip r:embed="rId2"/>
            <a:stretch/>
          </p:blipFill>
          <p:spPr>
            <a:xfrm>
              <a:off x="2771640" y="4508640"/>
              <a:ext cx="4292640" cy="16030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673" name="Text Box 7"/>
            <p:cNvSpPr/>
            <p:nvPr/>
          </p:nvSpPr>
          <p:spPr>
            <a:xfrm>
              <a:off x="2903400" y="4609800"/>
              <a:ext cx="4029120" cy="13460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75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33cc"/>
                  </a:solidFill>
                  <a:latin typeface="Arial"/>
                </a:rPr>
                <a:t>КАК ОБУЧАТЬ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AutoShape 8"/>
          <p:cNvGrpSpPr/>
          <p:nvPr/>
        </p:nvGrpSpPr>
        <p:grpSpPr>
          <a:xfrm>
            <a:off x="2606760" y="2517840"/>
            <a:ext cx="4591080" cy="1609560"/>
            <a:chOff x="2606760" y="2517840"/>
            <a:chExt cx="4591080" cy="1609560"/>
          </a:xfrm>
        </p:grpSpPr>
        <p:pic>
          <p:nvPicPr>
            <p:cNvPr id="675" name="AutoShape 8" descr=""/>
            <p:cNvPicPr/>
            <p:nvPr/>
          </p:nvPicPr>
          <p:blipFill>
            <a:blip r:embed="rId3"/>
            <a:stretch/>
          </p:blipFill>
          <p:spPr>
            <a:xfrm>
              <a:off x="2606760" y="2517840"/>
              <a:ext cx="4591080" cy="16095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676" name="Text Box 10"/>
            <p:cNvSpPr/>
            <p:nvPr/>
          </p:nvSpPr>
          <p:spPr>
            <a:xfrm>
              <a:off x="2884680" y="2620800"/>
              <a:ext cx="4029120" cy="1347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75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33cc"/>
                  </a:solidFill>
                  <a:latin typeface="Arial"/>
                </a:rPr>
                <a:t>РАДИ ЧЕГО ОБУЧАТЬ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7" name="Picture 14" descr="C:\Users\Gubina\Desktop\fragezeichen.png"/>
          <p:cNvPicPr/>
          <p:nvPr/>
        </p:nvPicPr>
        <p:blipFill>
          <a:blip r:embed="rId4"/>
          <a:stretch/>
        </p:blipFill>
        <p:spPr>
          <a:xfrm>
            <a:off x="561960" y="385920"/>
            <a:ext cx="1454040" cy="193644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15" descr="C:\Users\Gubina\Desktop\forex-profit-blackbook.png"/>
          <p:cNvPicPr/>
          <p:nvPr/>
        </p:nvPicPr>
        <p:blipFill>
          <a:blip r:embed="rId5"/>
          <a:stretch/>
        </p:blipFill>
        <p:spPr>
          <a:xfrm>
            <a:off x="7140600" y="2455920"/>
            <a:ext cx="1638360" cy="1638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79" name="Picture 15" descr="C:\Users\Gubina\Desktop\forex-profit-blackbook.png"/>
          <p:cNvPicPr/>
          <p:nvPr/>
        </p:nvPicPr>
        <p:blipFill>
          <a:blip r:embed="rId6"/>
          <a:stretch/>
        </p:blipFill>
        <p:spPr>
          <a:xfrm>
            <a:off x="7132680" y="4400640"/>
            <a:ext cx="2108160" cy="210960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15" descr="C:\Users\Gubina\Desktop\forex-profit-blackbook.png"/>
          <p:cNvPicPr/>
          <p:nvPr/>
        </p:nvPicPr>
        <p:blipFill>
          <a:blip r:embed="rId7"/>
          <a:stretch/>
        </p:blipFill>
        <p:spPr>
          <a:xfrm>
            <a:off x="7302600" y="219240"/>
            <a:ext cx="1676160" cy="167616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4" descr="&amp;dcy;&amp;iecy;&amp;vcy;&amp;rcy;&amp;chcy;&amp;kcy;&amp;acy;1"/>
          <p:cNvPicPr/>
          <p:nvPr/>
        </p:nvPicPr>
        <p:blipFill>
          <a:blip r:embed="rId8"/>
          <a:stretch/>
        </p:blipFill>
        <p:spPr>
          <a:xfrm>
            <a:off x="281160" y="3645000"/>
            <a:ext cx="2019240" cy="2857320"/>
          </a:xfrm>
          <a:prstGeom prst="rect">
            <a:avLst/>
          </a:prstGeom>
          <a:ln w="0">
            <a:noFill/>
          </a:ln>
        </p:spPr>
      </p:pic>
      <p:sp>
        <p:nvSpPr>
          <p:cNvPr id="682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59F2-60E5-4FBB-9622-1BB3A679F1CD}" type="slidenum"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00"/>
                </a:solidFill>
                <a:latin typeface="Arial"/>
              </a:rPr>
              <a:t>ФГОС ДО 2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284040" y="1292400"/>
            <a:ext cx="843624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Стандарт является     основой дл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(вставьте пропущенное слов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4"/>
          <p:cNvSpPr/>
          <p:nvPr/>
        </p:nvSpPr>
        <p:spPr>
          <a:xfrm>
            <a:off x="4067280" y="602136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Picture 5" descr="21795"/>
          <p:cNvPicPr/>
          <p:nvPr/>
        </p:nvPicPr>
        <p:blipFill>
          <a:blip r:embed="rId1"/>
          <a:stretch/>
        </p:blipFill>
        <p:spPr>
          <a:xfrm>
            <a:off x="6842160" y="2986200"/>
            <a:ext cx="176040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-23760" y="0"/>
            <a:ext cx="916776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чётов                             финансировани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                      примерных основных образовательных программ Д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                       Основной образовательной программы дошкольной образовательной организаци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                         вариативных основных образовательных программ Д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Формирования                               профессионального образования и дополнительного профессионального образования педагогических работников, а также для проведения их аттестаци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Оказания                     родителям (законным представителям) в воспитании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5">
            <a:hlinkClick r:id="rId1" action="ppaction://hlinksldjump"/>
          </p:cNvPr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Picture 6" descr="21795"/>
          <p:cNvPicPr/>
          <p:nvPr/>
        </p:nvPicPr>
        <p:blipFill>
          <a:blip r:embed="rId2"/>
          <a:stretch/>
        </p:blipFill>
        <p:spPr>
          <a:xfrm>
            <a:off x="7740720" y="201600"/>
            <a:ext cx="1152360" cy="1816200"/>
          </a:xfrm>
          <a:prstGeom prst="rect">
            <a:avLst/>
          </a:prstGeom>
          <a:ln w="0">
            <a:noFill/>
          </a:ln>
        </p:spPr>
      </p:pic>
      <p:sp>
        <p:nvSpPr>
          <p:cNvPr id="808" name="Прямоугольник 1"/>
          <p:cNvSpPr/>
          <p:nvPr/>
        </p:nvSpPr>
        <p:spPr>
          <a:xfrm>
            <a:off x="1979640" y="1049400"/>
            <a:ext cx="1871640" cy="303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рматив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Прямоугольник 2"/>
          <p:cNvSpPr/>
          <p:nvPr/>
        </p:nvSpPr>
        <p:spPr>
          <a:xfrm>
            <a:off x="755640" y="1397160"/>
            <a:ext cx="1800360" cy="341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рабо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Прямоугольник 4"/>
          <p:cNvSpPr/>
          <p:nvPr/>
        </p:nvSpPr>
        <p:spPr>
          <a:xfrm>
            <a:off x="2916360" y="3573360"/>
            <a:ext cx="215892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держ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Прямоугольник 5"/>
          <p:cNvSpPr/>
          <p:nvPr/>
        </p:nvSpPr>
        <p:spPr>
          <a:xfrm>
            <a:off x="2135160" y="5075280"/>
            <a:ext cx="1365120" cy="374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м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Прямоугольник 6"/>
          <p:cNvSpPr/>
          <p:nvPr/>
        </p:nvSpPr>
        <p:spPr>
          <a:xfrm>
            <a:off x="719280" y="2097000"/>
            <a:ext cx="1873080" cy="389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рабо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Прямоугольник 7"/>
          <p:cNvSpPr/>
          <p:nvPr/>
        </p:nvSpPr>
        <p:spPr>
          <a:xfrm>
            <a:off x="814320" y="2886120"/>
            <a:ext cx="1886040" cy="36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рабо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00"/>
                </a:solidFill>
                <a:latin typeface="Arial"/>
              </a:rPr>
              <a:t>ФГОС ДО 3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Назовите требова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к условиям реализации Програм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4"/>
          <p:cNvSpPr/>
          <p:nvPr/>
        </p:nvSpPr>
        <p:spPr>
          <a:xfrm>
            <a:off x="4211640" y="6093000"/>
            <a:ext cx="453564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8229600" cy="15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Bookman Old Style"/>
              </a:rPr>
              <a:t>Требования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к психолого-педагогическим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кадровым, материально-техническим и финансовым условиям реализации Программы, а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также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 к развивающей предметно-пространственной сре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AutoShape 5">
            <a:hlinkClick r:id="rId1" action="ppaction://hlinksldjump"/>
          </p:cNvPr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Picture 6" descr="21795"/>
          <p:cNvPicPr/>
          <p:nvPr/>
        </p:nvPicPr>
        <p:blipFill>
          <a:blip r:embed="rId2"/>
          <a:stretch/>
        </p:blipFill>
        <p:spPr>
          <a:xfrm>
            <a:off x="0" y="3860640"/>
            <a:ext cx="201780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00"/>
                </a:solidFill>
                <a:latin typeface="Arial"/>
              </a:rPr>
              <a:t>ФГОС ДО 4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Почему был принят ФГОС ДО? </a:t>
            </a: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(вставить пропущен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по смыслу слов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4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Picture 5" descr="21795"/>
          <p:cNvPicPr/>
          <p:nvPr/>
        </p:nvPicPr>
        <p:blipFill>
          <a:blip r:embed="rId1"/>
          <a:stretch/>
        </p:blipFill>
        <p:spPr>
          <a:xfrm>
            <a:off x="6585120" y="2852640"/>
            <a:ext cx="151740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569440" cy="468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- Дошкольное образование становится                общего образования наряду с начальным, основным и средним общем образованием (ст.10, ч.4)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- Федеральные государственные образовательные стандарты                                для всех уровней общего образования (ст. 5, ч. 3), в том числе для дошкольног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- «            об образовании Российской Федерации». № 273 – ФЗ  от 29.12.2012 г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AutoShape 5">
            <a:hlinkClick r:id="rId1" action="ppaction://hlinksldjump"/>
          </p:cNvPr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Picture 6" descr="21795"/>
          <p:cNvPicPr/>
          <p:nvPr/>
        </p:nvPicPr>
        <p:blipFill>
          <a:blip r:embed="rId2"/>
          <a:stretch/>
        </p:blipFill>
        <p:spPr>
          <a:xfrm>
            <a:off x="4500720" y="3825720"/>
            <a:ext cx="1776240" cy="2637000"/>
          </a:xfrm>
          <a:prstGeom prst="rect">
            <a:avLst/>
          </a:prstGeom>
          <a:ln w="0">
            <a:noFill/>
          </a:ln>
        </p:spPr>
      </p:pic>
      <p:sp>
        <p:nvSpPr>
          <p:cNvPr id="827" name="Прямоугольник 1"/>
          <p:cNvSpPr/>
          <p:nvPr/>
        </p:nvSpPr>
        <p:spPr>
          <a:xfrm>
            <a:off x="6659640" y="765000"/>
            <a:ext cx="1728720" cy="28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уровн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Прямоугольник 3"/>
          <p:cNvSpPr/>
          <p:nvPr/>
        </p:nvSpPr>
        <p:spPr>
          <a:xfrm>
            <a:off x="2340000" y="2168640"/>
            <a:ext cx="2663640" cy="36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утвержд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Прямоугольник 4"/>
          <p:cNvSpPr/>
          <p:nvPr/>
        </p:nvSpPr>
        <p:spPr>
          <a:xfrm>
            <a:off x="900000" y="3213000"/>
            <a:ext cx="10796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00"/>
                </a:solidFill>
                <a:latin typeface="Arial"/>
              </a:rPr>
              <a:t>ФГОС ДО 5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Назовите 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цели ФГОС ДО: </a:t>
            </a:r>
            <a:r>
              <a:rPr b="0" i="1" lang="ru-RU" sz="3600" spc="-1" strike="noStrike">
                <a:solidFill>
                  <a:srgbClr val="000000"/>
                </a:solidFill>
                <a:latin typeface="Bookman Old Style"/>
              </a:rPr>
              <a:t>(вставить пропущенные слов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4"/>
          <p:cNvSpPr/>
          <p:nvPr/>
        </p:nvSpPr>
        <p:spPr>
          <a:xfrm>
            <a:off x="4356000" y="6093000"/>
            <a:ext cx="453564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94232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Повышение социального                      дошкольного образования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Обеспечение                           равенства возможностей для каждого ребенка в получении качественного дошкольного образования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Обеспечение государственных                      уровня и качества дошкольного образования на основе единства обязательных требований к условиям реализации образовательных программ дошкольного образования, их структуре и результатам их освоения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Сохранение                        образовательного пространства Российской Федерации относительно уровня дошкольного образования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Picture 6" descr="21795"/>
          <p:cNvPicPr/>
          <p:nvPr/>
        </p:nvPicPr>
        <p:blipFill>
          <a:blip r:embed="rId1"/>
          <a:stretch/>
        </p:blipFill>
        <p:spPr>
          <a:xfrm>
            <a:off x="3672000" y="4595760"/>
            <a:ext cx="1377720" cy="2048040"/>
          </a:xfrm>
          <a:prstGeom prst="rect">
            <a:avLst/>
          </a:prstGeom>
          <a:ln w="0">
            <a:noFill/>
          </a:ln>
        </p:spPr>
      </p:pic>
      <p:sp>
        <p:nvSpPr>
          <p:cNvPr id="835" name="Прямоугольник 1"/>
          <p:cNvSpPr/>
          <p:nvPr/>
        </p:nvSpPr>
        <p:spPr>
          <a:xfrm>
            <a:off x="4284720" y="920880"/>
            <a:ext cx="1224000" cy="36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тат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Прямоугольник 2"/>
          <p:cNvSpPr/>
          <p:nvPr/>
        </p:nvSpPr>
        <p:spPr>
          <a:xfrm>
            <a:off x="2771640" y="1484280"/>
            <a:ext cx="1800360" cy="371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государст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Прямоугольник 4"/>
          <p:cNvSpPr/>
          <p:nvPr/>
        </p:nvSpPr>
        <p:spPr>
          <a:xfrm>
            <a:off x="4896000" y="2492280"/>
            <a:ext cx="14396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гарант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Прямоугольник 5"/>
          <p:cNvSpPr/>
          <p:nvPr/>
        </p:nvSpPr>
        <p:spPr>
          <a:xfrm>
            <a:off x="2627280" y="3933720"/>
            <a:ext cx="1513080" cy="358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един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AutoShape 5">
            <a:hlinkClick r:id="rId2" action="ppaction://hlinksldjump"/>
          </p:cNvPr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0" name="Прямоугольник 2" descr=""/>
          <p:cNvPicPr/>
          <p:nvPr/>
        </p:nvPicPr>
        <p:blipFill>
          <a:blip r:embed="rId1"/>
          <a:stretch/>
        </p:blipFill>
        <p:spPr>
          <a:xfrm>
            <a:off x="1182600" y="1023840"/>
            <a:ext cx="6608880" cy="1103400"/>
          </a:xfrm>
          <a:prstGeom prst="rect">
            <a:avLst/>
          </a:prstGeom>
          <a:ln w="0">
            <a:noFill/>
          </a:ln>
        </p:spPr>
      </p:pic>
      <p:pic>
        <p:nvPicPr>
          <p:cNvPr id="841" name="Рисунок 4" descr=""/>
          <p:cNvPicPr/>
          <p:nvPr/>
        </p:nvPicPr>
        <p:blipFill>
          <a:blip r:embed="rId2"/>
          <a:stretch/>
        </p:blipFill>
        <p:spPr>
          <a:xfrm>
            <a:off x="2771640" y="2506680"/>
            <a:ext cx="3168720" cy="40244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Прямоугольник 3" descr=""/>
          <p:cNvPicPr/>
          <p:nvPr/>
        </p:nvPicPr>
        <p:blipFill>
          <a:blip r:embed="rId1"/>
          <a:stretch/>
        </p:blipFill>
        <p:spPr>
          <a:xfrm>
            <a:off x="585720" y="2468520"/>
            <a:ext cx="7826400" cy="235908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2" descr=""/>
          <p:cNvPicPr/>
          <p:nvPr/>
        </p:nvPicPr>
        <p:blipFill>
          <a:blip r:embed="rId2"/>
          <a:stretch/>
        </p:blipFill>
        <p:spPr>
          <a:xfrm>
            <a:off x="4981680" y="5084640"/>
            <a:ext cx="3720960" cy="13874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85" name="Picture 6" descr="C:\Users\Ольга\Documents\Смайлики (подборка для оформления презентаций)\536849127.gif"/>
          <p:cNvPicPr/>
          <p:nvPr/>
        </p:nvPicPr>
        <p:blipFill>
          <a:blip r:embed="rId3"/>
          <a:stretch/>
        </p:blipFill>
        <p:spPr>
          <a:xfrm>
            <a:off x="179280" y="115920"/>
            <a:ext cx="288000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1 ту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1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шифруйте аббревиатуру ФГОС Д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2к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зовите ведущий вид деятельности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в ДОУ по ФГ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Рисунок 1" descr=""/>
          <p:cNvPicPr/>
          <p:nvPr/>
        </p:nvPicPr>
        <p:blipFill>
          <a:blip r:embed="rId1"/>
          <a:srcRect l="8661" t="3169" r="6683" b="11531"/>
          <a:stretch/>
        </p:blipFill>
        <p:spPr>
          <a:xfrm>
            <a:off x="5219640" y="2925720"/>
            <a:ext cx="3097440" cy="367200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Заголовок 1" descr=""/>
          <p:cNvPicPr/>
          <p:nvPr/>
        </p:nvPicPr>
        <p:blipFill>
          <a:blip r:embed="rId1"/>
          <a:stretch/>
        </p:blipFill>
        <p:spPr>
          <a:xfrm>
            <a:off x="378000" y="-55440"/>
            <a:ext cx="8699400" cy="1993680"/>
          </a:xfrm>
          <a:prstGeom prst="rect">
            <a:avLst/>
          </a:prstGeom>
          <a:ln w="0">
            <a:noFill/>
          </a:ln>
        </p:spPr>
      </p:pic>
      <p:pic>
        <p:nvPicPr>
          <p:cNvPr id="690" name="Содержимое 3" descr=""/>
          <p:cNvPicPr/>
          <p:nvPr/>
        </p:nvPicPr>
        <p:blipFill>
          <a:blip r:embed="rId2"/>
          <a:stretch/>
        </p:blipFill>
        <p:spPr>
          <a:xfrm>
            <a:off x="603360" y="1487520"/>
            <a:ext cx="7864200" cy="1365120"/>
          </a:xfrm>
          <a:prstGeom prst="rect">
            <a:avLst/>
          </a:prstGeom>
          <a:ln w="0">
            <a:noFill/>
          </a:ln>
        </p:spPr>
      </p:pic>
      <p:pic>
        <p:nvPicPr>
          <p:cNvPr id="691" name="Прямоугольник 4" descr=""/>
          <p:cNvPicPr/>
          <p:nvPr/>
        </p:nvPicPr>
        <p:blipFill>
          <a:blip r:embed="rId3"/>
          <a:stretch/>
        </p:blipFill>
        <p:spPr>
          <a:xfrm>
            <a:off x="2262240" y="2395440"/>
            <a:ext cx="1017360" cy="4511880"/>
          </a:xfrm>
          <a:prstGeom prst="rect">
            <a:avLst/>
          </a:prstGeom>
          <a:ln w="0">
            <a:noFill/>
          </a:ln>
        </p:spPr>
      </p:pic>
      <p:pic>
        <p:nvPicPr>
          <p:cNvPr id="692" name="Прямоугольник 5" descr=""/>
          <p:cNvPicPr/>
          <p:nvPr/>
        </p:nvPicPr>
        <p:blipFill>
          <a:blip r:embed="rId4"/>
          <a:stretch/>
        </p:blipFill>
        <p:spPr>
          <a:xfrm>
            <a:off x="6559560" y="2408400"/>
            <a:ext cx="841320" cy="45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3" name=""/>
          <p:cNvGraphicFramePr/>
          <p:nvPr/>
        </p:nvGraphicFramePr>
        <p:xfrm>
          <a:off x="108000" y="1166760"/>
          <a:ext cx="8712000" cy="893880"/>
        </p:xfrm>
        <a:graphic>
          <a:graphicData uri="http://schemas.openxmlformats.org/drawingml/2006/table">
            <a:tbl>
              <a:tblPr/>
              <a:tblGrid>
                <a:gridCol w="2879640"/>
                <a:gridCol w="1192320"/>
                <a:gridCol w="1279440"/>
                <a:gridCol w="1120680"/>
                <a:gridCol w="1119240"/>
                <a:gridCol w="1120680"/>
              </a:tblGrid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ООП Д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4" name=""/>
          <p:cNvGraphicFramePr/>
          <p:nvPr/>
        </p:nvGraphicFramePr>
        <p:xfrm>
          <a:off x="108000" y="189000"/>
          <a:ext cx="8713800" cy="936360"/>
        </p:xfrm>
        <a:graphic>
          <a:graphicData uri="http://schemas.openxmlformats.org/drawingml/2006/table">
            <a:tbl>
              <a:tblPr/>
              <a:tblGrid>
                <a:gridCol w="2878200"/>
                <a:gridCol w="1198440"/>
                <a:gridCol w="1200240"/>
                <a:gridCol w="1119240"/>
                <a:gridCol w="1198440"/>
                <a:gridCol w="1119240"/>
              </a:tblGrid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Нормативно-правовая баз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5" name=""/>
          <p:cNvGraphicFramePr/>
          <p:nvPr/>
        </p:nvGraphicFramePr>
        <p:xfrm>
          <a:off x="144360" y="2133720"/>
          <a:ext cx="8675640" cy="1261800"/>
        </p:xfrm>
        <a:graphic>
          <a:graphicData uri="http://schemas.openxmlformats.org/drawingml/2006/table">
            <a:tbl>
              <a:tblPr/>
              <a:tblGrid>
                <a:gridCol w="2865600"/>
                <a:gridCol w="1193760"/>
                <a:gridCol w="1195200"/>
                <a:gridCol w="1113120"/>
                <a:gridCol w="1193760"/>
                <a:gridCol w="1114200"/>
              </a:tblGrid>
              <a:tr h="12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ФГОС Д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6" name="AutoShape 129"/>
          <p:cNvSpPr/>
          <p:nvPr/>
        </p:nvSpPr>
        <p:spPr>
          <a:xfrm>
            <a:off x="4356000" y="189000"/>
            <a:ext cx="935280" cy="936360"/>
          </a:xfrm>
          <a:custGeom>
            <a:avLst/>
            <a:gdLst>
              <a:gd name="textAreaLeft" fmla="*/ 60480 w 935280"/>
              <a:gd name="textAreaRight" fmla="*/ 874800 w 935280"/>
              <a:gd name="textAreaTop" fmla="*/ 60480 h 936360"/>
              <a:gd name="textAreaBottom" fmla="*/ 875880 h 936360"/>
            </a:gdLst>
            <a:ahLst/>
            <a:rect l="textAreaLeft" t="textAreaTop" r="textAreaRight" b="textAreaBottom"/>
            <a:pathLst>
              <a:path w="21600" h="21625">
                <a:moveTo>
                  <a:pt x="0" y="0"/>
                </a:moveTo>
                <a:lnTo>
                  <a:pt x="21600" y="0"/>
                </a:lnTo>
                <a:lnTo>
                  <a:pt x="21600" y="21625"/>
                </a:lnTo>
                <a:lnTo>
                  <a:pt x="0" y="21625"/>
                </a:lnTo>
                <a:close/>
              </a:path>
              <a:path fill="lightenLess" w="21600" h="2162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5">
                <a:moveTo>
                  <a:pt x="21600" y="0"/>
                </a:moveTo>
                <a:lnTo>
                  <a:pt x="21600" y="21625"/>
                </a:lnTo>
                <a:lnTo>
                  <a:pt x="20200" y="20225"/>
                </a:lnTo>
                <a:lnTo>
                  <a:pt x="20200" y="1400"/>
                </a:lnTo>
                <a:close/>
              </a:path>
              <a:path fill="darkenLess" w="21600" h="21625">
                <a:moveTo>
                  <a:pt x="21600" y="21625"/>
                </a:moveTo>
                <a:lnTo>
                  <a:pt x="0" y="21625"/>
                </a:lnTo>
                <a:lnTo>
                  <a:pt x="1400" y="20225"/>
                </a:lnTo>
                <a:lnTo>
                  <a:pt x="20200" y="20225"/>
                </a:lnTo>
                <a:close/>
              </a:path>
              <a:path fill="lighten" w="21600" h="21625">
                <a:moveTo>
                  <a:pt x="0" y="2162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AutoShape 130"/>
          <p:cNvSpPr/>
          <p:nvPr/>
        </p:nvSpPr>
        <p:spPr>
          <a:xfrm>
            <a:off x="5508720" y="189000"/>
            <a:ext cx="934920" cy="93636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936360"/>
              <a:gd name="textAreaBottom" fmla="*/ 875880 h 936360"/>
            </a:gdLst>
            <a:ahLst/>
            <a:rect l="textAreaLeft" t="textAreaTop" r="textAreaRight" b="textAreaBottom"/>
            <a:pathLst>
              <a:path w="21600" h="21633">
                <a:moveTo>
                  <a:pt x="0" y="0"/>
                </a:moveTo>
                <a:lnTo>
                  <a:pt x="21600" y="0"/>
                </a:lnTo>
                <a:lnTo>
                  <a:pt x="21600" y="21633"/>
                </a:lnTo>
                <a:lnTo>
                  <a:pt x="0" y="21633"/>
                </a:lnTo>
                <a:close/>
              </a:path>
              <a:path fill="lightenLess" w="21600" h="216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3">
                <a:moveTo>
                  <a:pt x="21600" y="0"/>
                </a:moveTo>
                <a:lnTo>
                  <a:pt x="21600" y="21633"/>
                </a:lnTo>
                <a:lnTo>
                  <a:pt x="20200" y="20233"/>
                </a:lnTo>
                <a:lnTo>
                  <a:pt x="20200" y="1400"/>
                </a:lnTo>
                <a:close/>
              </a:path>
              <a:path fill="darkenLess" w="21600" h="21633">
                <a:moveTo>
                  <a:pt x="21600" y="21633"/>
                </a:moveTo>
                <a:lnTo>
                  <a:pt x="0" y="21633"/>
                </a:lnTo>
                <a:lnTo>
                  <a:pt x="1400" y="20233"/>
                </a:lnTo>
                <a:lnTo>
                  <a:pt x="20200" y="20233"/>
                </a:lnTo>
                <a:close/>
              </a:path>
              <a:path fill="lighten" w="21600" h="21633">
                <a:moveTo>
                  <a:pt x="0" y="216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AutoShape 131"/>
          <p:cNvSpPr/>
          <p:nvPr/>
        </p:nvSpPr>
        <p:spPr>
          <a:xfrm>
            <a:off x="7812000" y="179280"/>
            <a:ext cx="935280" cy="936720"/>
          </a:xfrm>
          <a:custGeom>
            <a:avLst/>
            <a:gdLst>
              <a:gd name="textAreaLeft" fmla="*/ 60480 w 935280"/>
              <a:gd name="textAreaRight" fmla="*/ 874800 w 93528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21600" h="21633">
                <a:moveTo>
                  <a:pt x="0" y="0"/>
                </a:moveTo>
                <a:lnTo>
                  <a:pt x="21600" y="0"/>
                </a:lnTo>
                <a:lnTo>
                  <a:pt x="21600" y="21633"/>
                </a:lnTo>
                <a:lnTo>
                  <a:pt x="0" y="21633"/>
                </a:lnTo>
                <a:close/>
              </a:path>
              <a:path fill="lightenLess" w="21600" h="216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3">
                <a:moveTo>
                  <a:pt x="21600" y="0"/>
                </a:moveTo>
                <a:lnTo>
                  <a:pt x="21600" y="21633"/>
                </a:lnTo>
                <a:lnTo>
                  <a:pt x="20200" y="20233"/>
                </a:lnTo>
                <a:lnTo>
                  <a:pt x="20200" y="1400"/>
                </a:lnTo>
                <a:close/>
              </a:path>
              <a:path fill="darkenLess" w="21600" h="21633">
                <a:moveTo>
                  <a:pt x="21600" y="21633"/>
                </a:moveTo>
                <a:lnTo>
                  <a:pt x="0" y="21633"/>
                </a:lnTo>
                <a:lnTo>
                  <a:pt x="1400" y="20233"/>
                </a:lnTo>
                <a:lnTo>
                  <a:pt x="20200" y="20233"/>
                </a:lnTo>
                <a:close/>
              </a:path>
              <a:path fill="lighten" w="21600" h="21633">
                <a:moveTo>
                  <a:pt x="0" y="216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132"/>
          <p:cNvSpPr/>
          <p:nvPr/>
        </p:nvSpPr>
        <p:spPr>
          <a:xfrm>
            <a:off x="6697800" y="187200"/>
            <a:ext cx="934920" cy="93672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21600" h="21642">
                <a:moveTo>
                  <a:pt x="0" y="0"/>
                </a:moveTo>
                <a:lnTo>
                  <a:pt x="21600" y="0"/>
                </a:lnTo>
                <a:lnTo>
                  <a:pt x="21600" y="21642"/>
                </a:lnTo>
                <a:lnTo>
                  <a:pt x="0" y="21642"/>
                </a:lnTo>
                <a:close/>
              </a:path>
              <a:path fill="lightenLess" w="21600" h="216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2">
                <a:moveTo>
                  <a:pt x="21600" y="0"/>
                </a:moveTo>
                <a:lnTo>
                  <a:pt x="21600" y="21642"/>
                </a:lnTo>
                <a:lnTo>
                  <a:pt x="20200" y="20242"/>
                </a:lnTo>
                <a:lnTo>
                  <a:pt x="20200" y="1400"/>
                </a:lnTo>
                <a:close/>
              </a:path>
              <a:path fill="darkenLess" w="21600" h="21642">
                <a:moveTo>
                  <a:pt x="21600" y="21642"/>
                </a:moveTo>
                <a:lnTo>
                  <a:pt x="0" y="21642"/>
                </a:lnTo>
                <a:lnTo>
                  <a:pt x="1400" y="20242"/>
                </a:lnTo>
                <a:lnTo>
                  <a:pt x="20200" y="20242"/>
                </a:lnTo>
                <a:close/>
              </a:path>
              <a:path fill="lighten" w="21600" h="21642">
                <a:moveTo>
                  <a:pt x="0" y="216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138"/>
          <p:cNvSpPr/>
          <p:nvPr/>
        </p:nvSpPr>
        <p:spPr>
          <a:xfrm>
            <a:off x="3059280" y="189000"/>
            <a:ext cx="1006200" cy="936360"/>
          </a:xfrm>
          <a:custGeom>
            <a:avLst/>
            <a:gdLst>
              <a:gd name="textAreaLeft" fmla="*/ 60480 w 1006200"/>
              <a:gd name="textAreaRight" fmla="*/ 945720 w 1006200"/>
              <a:gd name="textAreaTop" fmla="*/ 60480 h 936360"/>
              <a:gd name="textAreaBottom" fmla="*/ 875880 h 936360"/>
            </a:gdLst>
            <a:ahLst/>
            <a:rect l="textAreaLeft" t="textAreaTop" r="textAreaRight" b="textAreaBottom"/>
            <a:pathLst>
              <a:path w="23210" h="21600">
                <a:moveTo>
                  <a:pt x="0" y="0"/>
                </a:moveTo>
                <a:lnTo>
                  <a:pt x="23210" y="0"/>
                </a:lnTo>
                <a:lnTo>
                  <a:pt x="23210" y="21600"/>
                </a:lnTo>
                <a:lnTo>
                  <a:pt x="0" y="21600"/>
                </a:lnTo>
                <a:close/>
              </a:path>
              <a:path fill="lightenLess" w="23210" h="21600">
                <a:moveTo>
                  <a:pt x="0" y="0"/>
                </a:moveTo>
                <a:lnTo>
                  <a:pt x="23210" y="0"/>
                </a:lnTo>
                <a:lnTo>
                  <a:pt x="21811" y="1400"/>
                </a:lnTo>
                <a:lnTo>
                  <a:pt x="1400" y="1400"/>
                </a:lnTo>
                <a:close/>
              </a:path>
              <a:path fill="darken" w="23210" h="21600">
                <a:moveTo>
                  <a:pt x="23210" y="0"/>
                </a:moveTo>
                <a:lnTo>
                  <a:pt x="23210" y="21600"/>
                </a:lnTo>
                <a:lnTo>
                  <a:pt x="21811" y="20200"/>
                </a:lnTo>
                <a:lnTo>
                  <a:pt x="21811" y="1400"/>
                </a:lnTo>
                <a:close/>
              </a:path>
              <a:path fill="darkenLess" w="23210" h="21600">
                <a:moveTo>
                  <a:pt x="23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11" y="20200"/>
                </a:lnTo>
                <a:close/>
              </a:path>
              <a:path fill="lighten" w="23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176"/>
          <p:cNvSpPr/>
          <p:nvPr/>
        </p:nvSpPr>
        <p:spPr>
          <a:xfrm>
            <a:off x="3132000" y="1197000"/>
            <a:ext cx="935280" cy="863640"/>
          </a:xfrm>
          <a:custGeom>
            <a:avLst/>
            <a:gdLst>
              <a:gd name="textAreaLeft" fmla="*/ 55800 w 935280"/>
              <a:gd name="textAreaRight" fmla="*/ 879480 w 93528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391" h="21600">
                <a:moveTo>
                  <a:pt x="0" y="0"/>
                </a:moveTo>
                <a:lnTo>
                  <a:pt x="23391" y="0"/>
                </a:lnTo>
                <a:lnTo>
                  <a:pt x="23391" y="21600"/>
                </a:lnTo>
                <a:lnTo>
                  <a:pt x="0" y="21600"/>
                </a:lnTo>
                <a:close/>
              </a:path>
              <a:path fill="lightenLess" w="23391" h="21600">
                <a:moveTo>
                  <a:pt x="0" y="0"/>
                </a:moveTo>
                <a:lnTo>
                  <a:pt x="23391" y="0"/>
                </a:lnTo>
                <a:lnTo>
                  <a:pt x="21991" y="1400"/>
                </a:lnTo>
                <a:lnTo>
                  <a:pt x="1400" y="1400"/>
                </a:lnTo>
                <a:close/>
              </a:path>
              <a:path fill="darken" w="23391" h="21600">
                <a:moveTo>
                  <a:pt x="23391" y="0"/>
                </a:moveTo>
                <a:lnTo>
                  <a:pt x="23391" y="21600"/>
                </a:lnTo>
                <a:lnTo>
                  <a:pt x="21991" y="20200"/>
                </a:lnTo>
                <a:lnTo>
                  <a:pt x="21991" y="1400"/>
                </a:lnTo>
                <a:close/>
              </a:path>
              <a:path fill="darkenLess" w="23391" h="21600">
                <a:moveTo>
                  <a:pt x="233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91" y="20200"/>
                </a:lnTo>
                <a:close/>
              </a:path>
              <a:path fill="lighten" w="233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177"/>
          <p:cNvSpPr/>
          <p:nvPr/>
        </p:nvSpPr>
        <p:spPr>
          <a:xfrm>
            <a:off x="4284720" y="1197000"/>
            <a:ext cx="1077840" cy="865080"/>
          </a:xfrm>
          <a:custGeom>
            <a:avLst/>
            <a:gdLst>
              <a:gd name="textAreaLeft" fmla="*/ 55800 w 1077840"/>
              <a:gd name="textAreaRight" fmla="*/ 1022040 w 107784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6910" h="21600">
                <a:moveTo>
                  <a:pt x="0" y="0"/>
                </a:moveTo>
                <a:lnTo>
                  <a:pt x="26910" y="0"/>
                </a:lnTo>
                <a:lnTo>
                  <a:pt x="26910" y="21600"/>
                </a:lnTo>
                <a:lnTo>
                  <a:pt x="0" y="21600"/>
                </a:lnTo>
                <a:close/>
              </a:path>
              <a:path fill="lightenLess" w="26910" h="21600">
                <a:moveTo>
                  <a:pt x="0" y="0"/>
                </a:moveTo>
                <a:lnTo>
                  <a:pt x="26910" y="0"/>
                </a:lnTo>
                <a:lnTo>
                  <a:pt x="25510" y="1400"/>
                </a:lnTo>
                <a:lnTo>
                  <a:pt x="1400" y="1400"/>
                </a:lnTo>
                <a:close/>
              </a:path>
              <a:path fill="darken" w="26910" h="21600">
                <a:moveTo>
                  <a:pt x="26910" y="0"/>
                </a:moveTo>
                <a:lnTo>
                  <a:pt x="26910" y="21600"/>
                </a:lnTo>
                <a:lnTo>
                  <a:pt x="25510" y="20200"/>
                </a:lnTo>
                <a:lnTo>
                  <a:pt x="25510" y="1400"/>
                </a:lnTo>
                <a:close/>
              </a:path>
              <a:path fill="darkenLess" w="26910" h="21600">
                <a:moveTo>
                  <a:pt x="269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0" y="20200"/>
                </a:lnTo>
                <a:close/>
              </a:path>
              <a:path fill="lighten" w="269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AutoShape 178"/>
          <p:cNvSpPr/>
          <p:nvPr/>
        </p:nvSpPr>
        <p:spPr>
          <a:xfrm>
            <a:off x="5508720" y="1197000"/>
            <a:ext cx="934920" cy="792000"/>
          </a:xfrm>
          <a:custGeom>
            <a:avLst/>
            <a:gdLst>
              <a:gd name="textAreaLeft" fmla="*/ 51120 w 934920"/>
              <a:gd name="textAreaRight" fmla="*/ 883800 w 9349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496" h="21600">
                <a:moveTo>
                  <a:pt x="0" y="0"/>
                </a:moveTo>
                <a:lnTo>
                  <a:pt x="25496" y="0"/>
                </a:lnTo>
                <a:lnTo>
                  <a:pt x="25496" y="21600"/>
                </a:lnTo>
                <a:lnTo>
                  <a:pt x="0" y="21600"/>
                </a:lnTo>
                <a:close/>
              </a:path>
              <a:path fill="lightenLess" w="25496" h="21600">
                <a:moveTo>
                  <a:pt x="0" y="0"/>
                </a:moveTo>
                <a:lnTo>
                  <a:pt x="25496" y="0"/>
                </a:lnTo>
                <a:lnTo>
                  <a:pt x="24096" y="1400"/>
                </a:lnTo>
                <a:lnTo>
                  <a:pt x="1400" y="1400"/>
                </a:lnTo>
                <a:close/>
              </a:path>
              <a:path fill="darken" w="25496" h="21600">
                <a:moveTo>
                  <a:pt x="25496" y="0"/>
                </a:moveTo>
                <a:lnTo>
                  <a:pt x="25496" y="21600"/>
                </a:lnTo>
                <a:lnTo>
                  <a:pt x="24096" y="20200"/>
                </a:lnTo>
                <a:lnTo>
                  <a:pt x="24096" y="1400"/>
                </a:lnTo>
                <a:close/>
              </a:path>
              <a:path fill="darkenLess" w="25496" h="21600">
                <a:moveTo>
                  <a:pt x="254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96" y="20200"/>
                </a:lnTo>
                <a:close/>
              </a:path>
              <a:path fill="lighten" w="254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179"/>
          <p:cNvSpPr/>
          <p:nvPr/>
        </p:nvSpPr>
        <p:spPr>
          <a:xfrm>
            <a:off x="6732720" y="1197000"/>
            <a:ext cx="863640" cy="86364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AutoShape 180"/>
          <p:cNvSpPr/>
          <p:nvPr/>
        </p:nvSpPr>
        <p:spPr>
          <a:xfrm>
            <a:off x="7812000" y="1197000"/>
            <a:ext cx="935280" cy="863640"/>
          </a:xfrm>
          <a:custGeom>
            <a:avLst/>
            <a:gdLst>
              <a:gd name="textAreaLeft" fmla="*/ 55800 w 935280"/>
              <a:gd name="textAreaRight" fmla="*/ 879480 w 93528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391" h="21600">
                <a:moveTo>
                  <a:pt x="0" y="0"/>
                </a:moveTo>
                <a:lnTo>
                  <a:pt x="23391" y="0"/>
                </a:lnTo>
                <a:lnTo>
                  <a:pt x="23391" y="21600"/>
                </a:lnTo>
                <a:lnTo>
                  <a:pt x="0" y="21600"/>
                </a:lnTo>
                <a:close/>
              </a:path>
              <a:path fill="lightenLess" w="23391" h="21600">
                <a:moveTo>
                  <a:pt x="0" y="0"/>
                </a:moveTo>
                <a:lnTo>
                  <a:pt x="23391" y="0"/>
                </a:lnTo>
                <a:lnTo>
                  <a:pt x="21991" y="1400"/>
                </a:lnTo>
                <a:lnTo>
                  <a:pt x="1400" y="1400"/>
                </a:lnTo>
                <a:close/>
              </a:path>
              <a:path fill="darken" w="23391" h="21600">
                <a:moveTo>
                  <a:pt x="23391" y="0"/>
                </a:moveTo>
                <a:lnTo>
                  <a:pt x="23391" y="21600"/>
                </a:lnTo>
                <a:lnTo>
                  <a:pt x="21991" y="20200"/>
                </a:lnTo>
                <a:lnTo>
                  <a:pt x="21991" y="1400"/>
                </a:lnTo>
                <a:close/>
              </a:path>
              <a:path fill="darkenLess" w="23391" h="21600">
                <a:moveTo>
                  <a:pt x="233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91" y="20200"/>
                </a:lnTo>
                <a:close/>
              </a:path>
              <a:path fill="lighten" w="233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AutoShape 57"/>
          <p:cNvSpPr/>
          <p:nvPr/>
        </p:nvSpPr>
        <p:spPr>
          <a:xfrm>
            <a:off x="5508720" y="2276640"/>
            <a:ext cx="934920" cy="100800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88">
                <a:moveTo>
                  <a:pt x="0" y="0"/>
                </a:moveTo>
                <a:lnTo>
                  <a:pt x="21600" y="0"/>
                </a:lnTo>
                <a:lnTo>
                  <a:pt x="21600" y="23288"/>
                </a:lnTo>
                <a:lnTo>
                  <a:pt x="0" y="23288"/>
                </a:lnTo>
                <a:close/>
              </a:path>
              <a:path fill="lightenLess" w="21600" h="232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88">
                <a:moveTo>
                  <a:pt x="21600" y="0"/>
                </a:moveTo>
                <a:lnTo>
                  <a:pt x="21600" y="23288"/>
                </a:lnTo>
                <a:lnTo>
                  <a:pt x="20200" y="21888"/>
                </a:lnTo>
                <a:lnTo>
                  <a:pt x="20200" y="1400"/>
                </a:lnTo>
                <a:close/>
              </a:path>
              <a:path fill="darkenLess" w="21600" h="23288">
                <a:moveTo>
                  <a:pt x="21600" y="23288"/>
                </a:moveTo>
                <a:lnTo>
                  <a:pt x="0" y="23288"/>
                </a:lnTo>
                <a:lnTo>
                  <a:pt x="1400" y="21888"/>
                </a:lnTo>
                <a:lnTo>
                  <a:pt x="20200" y="21888"/>
                </a:lnTo>
                <a:close/>
              </a:path>
              <a:path fill="lighten" w="21600" h="23288">
                <a:moveTo>
                  <a:pt x="0" y="232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8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AutoShape 58"/>
          <p:cNvSpPr/>
          <p:nvPr/>
        </p:nvSpPr>
        <p:spPr>
          <a:xfrm>
            <a:off x="6588000" y="2205000"/>
            <a:ext cx="935280" cy="1079640"/>
          </a:xfrm>
          <a:custGeom>
            <a:avLst/>
            <a:gdLst>
              <a:gd name="textAreaLeft" fmla="*/ 60480 w 935280"/>
              <a:gd name="textAreaRight" fmla="*/ 874800 w 935280"/>
              <a:gd name="textAreaTop" fmla="*/ 60480 h 1079640"/>
              <a:gd name="textAreaBottom" fmla="*/ 1019160 h 1079640"/>
            </a:gdLst>
            <a:ahLst/>
            <a:rect l="textAreaLeft" t="textAreaTop" r="textAreaRight" b="textAreaBottom"/>
            <a:pathLst>
              <a:path w="21600" h="24933">
                <a:moveTo>
                  <a:pt x="0" y="0"/>
                </a:moveTo>
                <a:lnTo>
                  <a:pt x="21600" y="0"/>
                </a:lnTo>
                <a:lnTo>
                  <a:pt x="21600" y="24933"/>
                </a:lnTo>
                <a:lnTo>
                  <a:pt x="0" y="24933"/>
                </a:lnTo>
                <a:close/>
              </a:path>
              <a:path fill="lightenLess" w="21600" h="249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33">
                <a:moveTo>
                  <a:pt x="21600" y="0"/>
                </a:moveTo>
                <a:lnTo>
                  <a:pt x="21600" y="24933"/>
                </a:lnTo>
                <a:lnTo>
                  <a:pt x="20200" y="23533"/>
                </a:lnTo>
                <a:lnTo>
                  <a:pt x="20200" y="1400"/>
                </a:lnTo>
                <a:close/>
              </a:path>
              <a:path fill="darkenLess" w="21600" h="24933">
                <a:moveTo>
                  <a:pt x="21600" y="24933"/>
                </a:moveTo>
                <a:lnTo>
                  <a:pt x="0" y="24933"/>
                </a:lnTo>
                <a:lnTo>
                  <a:pt x="1400" y="23533"/>
                </a:lnTo>
                <a:lnTo>
                  <a:pt x="20200" y="23533"/>
                </a:lnTo>
                <a:close/>
              </a:path>
              <a:path fill="lighten" w="21600" h="24933">
                <a:moveTo>
                  <a:pt x="0" y="249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3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AutoShape 59"/>
          <p:cNvSpPr/>
          <p:nvPr/>
        </p:nvSpPr>
        <p:spPr>
          <a:xfrm>
            <a:off x="7812000" y="2205000"/>
            <a:ext cx="935280" cy="1081080"/>
          </a:xfrm>
          <a:custGeom>
            <a:avLst/>
            <a:gdLst>
              <a:gd name="textAreaLeft" fmla="*/ 60480 w 935280"/>
              <a:gd name="textAreaRight" fmla="*/ 874800 w 935280"/>
              <a:gd name="textAreaTop" fmla="*/ 60480 h 1081080"/>
              <a:gd name="textAreaBottom" fmla="*/ 1020600 h 1081080"/>
            </a:gdLst>
            <a:ahLst/>
            <a:rect l="textAreaLeft" t="textAreaTop" r="textAreaRight" b="textAreaBottom"/>
            <a:pathLst>
              <a:path w="21600" h="24966">
                <a:moveTo>
                  <a:pt x="0" y="0"/>
                </a:moveTo>
                <a:lnTo>
                  <a:pt x="21600" y="0"/>
                </a:lnTo>
                <a:lnTo>
                  <a:pt x="21600" y="24966"/>
                </a:lnTo>
                <a:lnTo>
                  <a:pt x="0" y="24966"/>
                </a:lnTo>
                <a:close/>
              </a:path>
              <a:path fill="lightenLess" w="21600" h="249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66">
                <a:moveTo>
                  <a:pt x="21600" y="0"/>
                </a:moveTo>
                <a:lnTo>
                  <a:pt x="21600" y="24966"/>
                </a:lnTo>
                <a:lnTo>
                  <a:pt x="20200" y="23566"/>
                </a:lnTo>
                <a:lnTo>
                  <a:pt x="20200" y="1400"/>
                </a:lnTo>
                <a:close/>
              </a:path>
              <a:path fill="darkenLess" w="21600" h="24966">
                <a:moveTo>
                  <a:pt x="21600" y="24966"/>
                </a:moveTo>
                <a:lnTo>
                  <a:pt x="0" y="24966"/>
                </a:lnTo>
                <a:lnTo>
                  <a:pt x="1400" y="23566"/>
                </a:lnTo>
                <a:lnTo>
                  <a:pt x="20200" y="23566"/>
                </a:lnTo>
                <a:close/>
              </a:path>
              <a:path fill="lighten" w="21600" h="24966">
                <a:moveTo>
                  <a:pt x="0" y="249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6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AutoShape 64"/>
          <p:cNvSpPr/>
          <p:nvPr/>
        </p:nvSpPr>
        <p:spPr>
          <a:xfrm>
            <a:off x="4356000" y="2276640"/>
            <a:ext cx="935280" cy="1008000"/>
          </a:xfrm>
          <a:custGeom>
            <a:avLst/>
            <a:gdLst>
              <a:gd name="textAreaLeft" fmla="*/ 60480 w 935280"/>
              <a:gd name="textAreaRight" fmla="*/ 874800 w 93528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79">
                <a:moveTo>
                  <a:pt x="0" y="0"/>
                </a:moveTo>
                <a:lnTo>
                  <a:pt x="21600" y="0"/>
                </a:lnTo>
                <a:lnTo>
                  <a:pt x="21600" y="23279"/>
                </a:lnTo>
                <a:lnTo>
                  <a:pt x="0" y="23279"/>
                </a:lnTo>
                <a:close/>
              </a:path>
              <a:path fill="lightenLess" w="21600" h="2327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79">
                <a:moveTo>
                  <a:pt x="21600" y="0"/>
                </a:moveTo>
                <a:lnTo>
                  <a:pt x="21600" y="23279"/>
                </a:lnTo>
                <a:lnTo>
                  <a:pt x="20200" y="21879"/>
                </a:lnTo>
                <a:lnTo>
                  <a:pt x="20200" y="1400"/>
                </a:lnTo>
                <a:close/>
              </a:path>
              <a:path fill="darkenLess" w="21600" h="23279">
                <a:moveTo>
                  <a:pt x="21600" y="23279"/>
                </a:moveTo>
                <a:lnTo>
                  <a:pt x="0" y="23279"/>
                </a:lnTo>
                <a:lnTo>
                  <a:pt x="1400" y="21879"/>
                </a:lnTo>
                <a:lnTo>
                  <a:pt x="20200" y="21879"/>
                </a:lnTo>
                <a:close/>
              </a:path>
              <a:path fill="lighten" w="21600" h="23279">
                <a:moveTo>
                  <a:pt x="0" y="2327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7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AutoShape 135"/>
          <p:cNvSpPr/>
          <p:nvPr/>
        </p:nvSpPr>
        <p:spPr>
          <a:xfrm>
            <a:off x="3132000" y="2205000"/>
            <a:ext cx="935280" cy="1081080"/>
          </a:xfrm>
          <a:custGeom>
            <a:avLst/>
            <a:gdLst>
              <a:gd name="textAreaLeft" fmla="*/ 60480 w 935280"/>
              <a:gd name="textAreaRight" fmla="*/ 874800 w 935280"/>
              <a:gd name="textAreaTop" fmla="*/ 60480 h 1081080"/>
              <a:gd name="textAreaBottom" fmla="*/ 1020600 h 1081080"/>
            </a:gdLst>
            <a:ahLst/>
            <a:rect l="textAreaLeft" t="textAreaTop" r="textAreaRight" b="textAreaBottom"/>
            <a:pathLst>
              <a:path w="21600" h="24966">
                <a:moveTo>
                  <a:pt x="0" y="0"/>
                </a:moveTo>
                <a:lnTo>
                  <a:pt x="21600" y="0"/>
                </a:lnTo>
                <a:lnTo>
                  <a:pt x="21600" y="24966"/>
                </a:lnTo>
                <a:lnTo>
                  <a:pt x="0" y="24966"/>
                </a:lnTo>
                <a:close/>
              </a:path>
              <a:path fill="lightenLess" w="21600" h="249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66">
                <a:moveTo>
                  <a:pt x="21600" y="0"/>
                </a:moveTo>
                <a:lnTo>
                  <a:pt x="21600" y="24966"/>
                </a:lnTo>
                <a:lnTo>
                  <a:pt x="20200" y="23566"/>
                </a:lnTo>
                <a:lnTo>
                  <a:pt x="20200" y="1400"/>
                </a:lnTo>
                <a:close/>
              </a:path>
              <a:path fill="darkenLess" w="21600" h="24966">
                <a:moveTo>
                  <a:pt x="21600" y="24966"/>
                </a:moveTo>
                <a:lnTo>
                  <a:pt x="0" y="24966"/>
                </a:lnTo>
                <a:lnTo>
                  <a:pt x="1400" y="23566"/>
                </a:lnTo>
                <a:lnTo>
                  <a:pt x="20200" y="23566"/>
                </a:lnTo>
                <a:close/>
              </a:path>
              <a:path fill="lighten" w="21600" h="24966">
                <a:moveTo>
                  <a:pt x="0" y="249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6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92"/>
          <p:cNvSpPr/>
          <p:nvPr/>
        </p:nvSpPr>
        <p:spPr>
          <a:xfrm>
            <a:off x="612720" y="3860640"/>
            <a:ext cx="73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Bookman Old Style"/>
              </a:rPr>
              <a:t>3 тур   </a:t>
            </a:r>
            <a:r>
              <a:rPr b="1" lang="ru-RU" sz="4400" spc="-1" strike="noStrike">
                <a:solidFill>
                  <a:srgbClr val="008000"/>
                </a:solidFill>
                <a:latin typeface="Bookman Old Style"/>
              </a:rPr>
              <a:t>«Блиц - турнир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1"/>
          <p:cNvSpPr/>
          <p:nvPr/>
        </p:nvSpPr>
        <p:spPr>
          <a:xfrm>
            <a:off x="250920" y="544500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евиз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«Ищем, думаем, дерзаем, на вопросы Что? Когда? отвечаем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39280" y="333000"/>
            <a:ext cx="748044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Нормативно-правовая база 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5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Picture 8" descr="PD1"/>
          <p:cNvPicPr/>
          <p:nvPr/>
        </p:nvPicPr>
        <p:blipFill>
          <a:blip r:embed="rId1"/>
          <a:stretch/>
        </p:blipFill>
        <p:spPr>
          <a:xfrm>
            <a:off x="250920" y="4076640"/>
            <a:ext cx="2563560" cy="2781360"/>
          </a:xfrm>
          <a:prstGeom prst="rect">
            <a:avLst/>
          </a:prstGeom>
          <a:ln w="0">
            <a:noFill/>
          </a:ln>
        </p:spPr>
      </p:pic>
      <p:sp>
        <p:nvSpPr>
          <p:cNvPr id="716" name="Rectangle 10"/>
          <p:cNvSpPr/>
          <p:nvPr/>
        </p:nvSpPr>
        <p:spPr>
          <a:xfrm>
            <a:off x="1258920" y="1639080"/>
            <a:ext cx="7129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Когда был утвержден Приказ Минобрнауки России от «Об утверждении федерального государственного образовательного стандарта дошкольного образов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17.10.2013 №1155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AutoShape 5">
            <a:hlinkClick r:id="rId1" action="ppaction://hlinksldjump"/>
          </p:cNvPr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Picture 6" descr="PD1"/>
          <p:cNvPicPr/>
          <p:nvPr/>
        </p:nvPicPr>
        <p:blipFill>
          <a:blip r:embed="rId2"/>
          <a:stretch/>
        </p:blipFill>
        <p:spPr>
          <a:xfrm>
            <a:off x="250920" y="3645000"/>
            <a:ext cx="296208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1T15:31:11Z</dcterms:created>
  <dc:creator>Русина</dc:creator>
  <dc:description/>
  <dc:language>en-US</dc:language>
  <cp:lastModifiedBy>UZER</cp:lastModifiedBy>
  <dcterms:modified xsi:type="dcterms:W3CDTF">2018-04-09T14:13:14Z</dcterms:modified>
  <cp:revision>99</cp:revision>
  <dc:subject/>
  <dc:title>Слайд 1</dc:title>
</cp:coreProperties>
</file>