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gif" ContentType="image/gif"/>
  <Override PartName="/ppt/media/image20.wmf" ContentType="image/x-wmf"/>
  <Override PartName="/ppt/media/image6.gif" ContentType="image/gif"/>
  <Override PartName="/ppt/media/image9.png" ContentType="image/png"/>
  <Override PartName="/ppt/media/image5.gif" ContentType="image/gif"/>
  <Override PartName="/ppt/media/image8.png" ContentType="image/png"/>
  <Override PartName="/ppt/media/image13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gif" ContentType="image/gif"/>
  <Override PartName="/ppt/media/image10.png" ContentType="image/png"/>
  <Override PartName="/ppt/media/image2.gif" ContentType="image/gif"/>
  <Override PartName="/ppt/media/image11.png" ContentType="image/png"/>
  <Override PartName="/ppt/media/image3.gif" ContentType="image/gif"/>
  <Override PartName="/ppt/media/image12.png" ContentType="image/png"/>
  <Override PartName="/ppt/media/image15.wmf" ContentType="image/x-wm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05D5-3655-43AD-ACAF-D1FAA784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844C-03E5-4072-8DAB-00A85B49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CF76-63EC-4C96-A5E8-A03F2FA9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5775-068D-4C8C-A0BE-832051C5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BB52-B577-470F-9AD9-4CB341A4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2F68-09B5-4C4C-9337-8B8FF1C5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5312-B789-4F14-8A04-594EED61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1BF9-3B86-4144-8C1B-01AF9CDE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3A6B-793D-4AB7-A775-00D9AFFF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8C29-8FF5-4375-9A35-7C232124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F61E-6F11-41FF-9BC6-F0AA55EB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641B-7069-404D-8CB9-300EE977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D409-26E2-4C95-94DC-6D749B4C1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27640" y="4524480"/>
            <a:ext cx="2916360" cy="2333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812000" y="1557360"/>
            <a:ext cx="1158840" cy="1557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1871640" cy="1636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203640" y="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284720" y="5373720"/>
            <a:ext cx="1050840" cy="1484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0" y="4051440"/>
            <a:ext cx="3095640" cy="280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 flipH="1">
            <a:off x="6012000" y="260280"/>
            <a:ext cx="1800000" cy="1508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24000" y="2997360"/>
            <a:ext cx="856908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ие  животные и их  детёныши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08360" y="620640"/>
            <a:ext cx="5232600" cy="3313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492360" y="3787920"/>
            <a:ext cx="3418200" cy="3070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1280" y="2276640"/>
            <a:ext cx="338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а лугу телёнок скаче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«Му-у-у» – кричи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о он не плаче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ать-коровушку зовёт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олоком поит она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 телёнка, и т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189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р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0072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л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692360" y="57164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692360" y="573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07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5857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227640" y="3211560"/>
            <a:ext cx="2738520" cy="3646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5486400" cy="4800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87280" y="5229360"/>
            <a:ext cx="52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Выгнул шейку жеребёнок –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ильной лошади ребёнок,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Только на копытца встал,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Вслед за мамой побеж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4762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ош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2349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ереб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419720" y="6219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664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292720" y="0"/>
            <a:ext cx="3635280" cy="4292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4292640"/>
            <a:ext cx="4181400" cy="2819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9640" y="98100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осмотри, играют в прятки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Шаловливые котятки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ритаилась у окошка,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Тихо-тихо мама-кошка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Учит деточек играть: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Мячик по полу катают,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Мышкой мяч воображают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То подбросят, то поймаю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403280" y="6237360"/>
            <a:ext cx="612720" cy="620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04000" y="260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580536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т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8155080" y="55008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037E-007 C 0.08229 0.00023 0.48247 -0.01644 0.68003 0.00486 C 0.68507 0.01204 0.68455 0.02407 0.67743 0.02824 C 0.66441 0.03565 0.6526 0.03241 0.6375 0.03333 C 0.6217 0.0375 0.6059 0.04236 0.58993 0.04491 C 0.40365 0.04375 0.19931 0.14514 0.03125 0.03819 C 0.02101 0.03171 0.03351 0.03773 0.02378 0.03333 C 0.02049 0.02893 0.01563 0.02222 0.01128 0.01991 C 0.00399 0.01574 0.00799 0.0206 0.00503 0.01667 E">
                                      <p:cBhvr>
                                        <p:cTn id="26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1318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8400" cy="3994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407664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ви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486900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грязнули-свинк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пине щетинка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мордашке пятачок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зади тонкий хвост-крюч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076720" y="3500280"/>
            <a:ext cx="3886200" cy="3200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219640" y="3213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рос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419720" y="61484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21576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4956120" cy="4039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315200" y="4481640"/>
            <a:ext cx="1828800" cy="2376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700360" y="54936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зочке прыгучей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зорной, бодуче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равится украдко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ть капусту с гря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003640" y="5445000"/>
            <a:ext cx="1327320" cy="1211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551640" y="386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злё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419720" y="5572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607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4:04:05Z</dcterms:created>
  <dc:creator>Admin</dc:creator>
  <dc:description/>
  <dc:language>en-US</dc:language>
  <cp:lastModifiedBy>Пользователь Windows</cp:lastModifiedBy>
  <dcterms:modified xsi:type="dcterms:W3CDTF">2018-04-09T12:21:57Z</dcterms:modified>
  <cp:revision>6</cp:revision>
  <dc:subject/>
  <dc:title>Слайд 1</dc:title>
</cp:coreProperties>
</file>