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20.wmf" ContentType="image/x-wm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15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D09-2029-4A03-B90C-F00DB2FE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7F4-2611-4DEA-A66C-92720E7C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A06-735B-452B-A0D1-301AD7F9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AF4-60E0-4D31-B9DC-EB9AEB5F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891-00EF-4AD7-9ED3-278EADB1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9F2-1735-47ED-A588-4A7F7BB1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808-E21F-43B0-A49A-00C4D0F3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BCE-CE1D-4C41-AED2-D809CD88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C83-4347-4A47-864E-E40F8430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8B7-413F-455E-B5D3-17497CB2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582-6DD5-40F9-B7E1-D14D9DD0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52B-E74B-4941-8D46-5C1D20B6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0A78-D4B0-439B-A816-16530D97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27640" y="4524480"/>
            <a:ext cx="2916360" cy="2333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12000" y="1557360"/>
            <a:ext cx="1158840" cy="1557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3640" y="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84720" y="5373720"/>
            <a:ext cx="1050840" cy="148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4051440"/>
            <a:ext cx="3095640" cy="280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flipH="1">
            <a:off x="6012000" y="26028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" y="2997360"/>
            <a:ext cx="856908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  животные и их  детёныш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232600" cy="331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92360" y="3787920"/>
            <a:ext cx="3418200" cy="3070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227664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 лугу телёнок ск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Му-у-у» – кричи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он не пл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ь-коровушку зовёт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локом поит он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телёнка, и т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л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692360" y="5716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69236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7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85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27640" y="3211560"/>
            <a:ext cx="2738520" cy="364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548640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87280" y="522936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ыгнул шейку жеребёнок –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ильной лошади ребёнок,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олько на копытца встал,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след за мамой побеж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23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419720" y="6219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664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635280" cy="429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418140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98100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смотри, играют в прятки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Шаловливые котятки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ритаилась у окошка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ихо-тихо мама-кошка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чит деточек играть: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ячик по полу катают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ышкой мяч воображают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о подбросят, то пойм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03280" y="6237360"/>
            <a:ext cx="612720" cy="620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5805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155080" y="5500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C 0.08229 0.00023 0.48247 -0.01644 0.68003 0.00486 C 0.68507 0.01204 0.68455 0.02407 0.67743 0.02824 C 0.66441 0.03565 0.6526 0.03241 0.6375 0.03333 C 0.6217 0.0375 0.6059 0.04236 0.58993 0.04491 C 0.40365 0.04375 0.19931 0.14514 0.03125 0.03819 C 0.02101 0.03171 0.03351 0.03773 0.02378 0.03333 C 0.02049 0.02893 0.01563 0.02222 0.01128 0.01991 C 0.00399 0.01574 0.00799 0.0206 0.00503 0.01667 E">
                                      <p:cBhvr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131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399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рязнули-свин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пине щетинк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ордашке пятачок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зади тонкий хвост-крю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19640" y="32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ос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419720" y="61484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157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956120" cy="4039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15200" y="4481640"/>
            <a:ext cx="1828800" cy="2376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00360" y="549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зочке прыгуче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зорной, бодуче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равится украдко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капусту с гря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003640" y="5445000"/>
            <a:ext cx="1327320" cy="1211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551640" y="38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19720" y="5572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607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04:05Z</dcterms:created>
  <dc:creator>Admin</dc:creator>
  <dc:description/>
  <dc:language>en-US</dc:language>
  <cp:lastModifiedBy>Пользователь Windows</cp:lastModifiedBy>
  <dcterms:modified xsi:type="dcterms:W3CDTF">2018-04-09T12:21:57Z</dcterms:modified>
  <cp:revision>6</cp:revision>
  <dc:subject/>
  <dc:title>Слайд 1</dc:title>
</cp:coreProperties>
</file>