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1C06-28C4-4930-905D-260F594DBB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33EF-BCA7-4A22-BF93-4715612E13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321-DC36-4805-8C28-732ED636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72C-517D-4225-B840-9FF525D1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FBB-6DB9-4481-9650-FFA148C8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4D8-2E33-4F97-A6AA-A67CDDFD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3AD9-43AA-4AF6-8BC6-4A19FC10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B738-6D57-454D-A4BB-3BDC6F38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37F2-CB77-435B-BC8B-AA9A1617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E326-50E3-4A41-90CC-96070CB5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101F-EB43-4539-BBBA-FB500D4B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D43C-38AD-48FC-AF2F-1B2E989F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2FE3-143C-4775-8E74-B73A314C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3AD-8DC9-49D3-9002-5D56FC76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7FE9-61EF-4A50-ADB7-43574743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5BEE-DFE6-4320-BE0C-8DD5C83E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530D-F958-4F94-90A8-C725226E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BE2A-AA49-409D-B315-066A57EF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E311-595E-4C8F-AD3C-947E9010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198-6A77-4907-BD9E-FA1E377E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498-FE6C-4FC4-8812-E82B0052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9D2-7B56-4297-9B6D-467056B7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5B0-436B-44F0-9E17-5385533A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68E-D95E-40B4-B10B-1F85ACCD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EEB-7D7C-4784-A13E-7840E9ED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66E-B141-4592-B9D1-5D379556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AD4C-272F-425A-9DEA-7F74D4E04D6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A316-039C-4CF4-8B8D-C94E75F6AF3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22280"/>
            <a:ext cx="7864560" cy="1944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504960" y="3809520"/>
            <a:ext cx="43434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4821"/>
                </a:solidFill>
                <a:latin typeface="Monotype Corsiva"/>
              </a:rPr>
              <a:t>Для России наш город – частица,</a:t>
            </a:r>
            <a:br>
              <a:rPr sz="1800"/>
            </a:br>
            <a:r>
              <a:rPr b="1" i="1" lang="ru-RU" sz="1800" spc="-1" strike="noStrike">
                <a:solidFill>
                  <a:srgbClr val="004821"/>
                </a:solidFill>
                <a:latin typeface="Monotype Corsiva"/>
              </a:rPr>
              <a:t>А для нас он – родительский дом. </a:t>
            </a:r>
            <a:br>
              <a:rPr sz="1800"/>
            </a:br>
            <a:r>
              <a:rPr b="1" i="1" lang="ru-RU" sz="1800" spc="-1" strike="noStrike">
                <a:solidFill>
                  <a:srgbClr val="004821"/>
                </a:solidFill>
                <a:latin typeface="Monotype Corsiva"/>
              </a:rPr>
              <a:t>И мы рады, что можем гордиться</a:t>
            </a:r>
            <a:br>
              <a:rPr sz="1800"/>
            </a:br>
            <a:r>
              <a:rPr b="1" i="1" lang="ru-RU" sz="1800" spc="-1" strike="noStrike">
                <a:solidFill>
                  <a:srgbClr val="004821"/>
                </a:solidFill>
                <a:latin typeface="Monotype Corsiva"/>
              </a:rPr>
              <a:t>Малой Родиной, где мы живем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3886200" y="53341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iriam"/>
              </a:rPr>
              <a:t>Авторы: Воспитатели: Пожарская Г.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iriam"/>
              </a:rPr>
              <a:t>Баулина С. 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В посёлке находится станция Красный узел, вторая по величине станция в Республике Мордовия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6" name="Содержимое 3" descr="станция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4821"/>
                </a:solidFill>
                <a:latin typeface="Monotype Corsiva"/>
              </a:rPr>
              <a:t>Современными достопримечательностями поселка, пожалуй можно назвать </a:t>
            </a:r>
            <a:br>
              <a:rPr sz="2200"/>
            </a:br>
            <a:r>
              <a:rPr b="1" lang="ru-RU" sz="2200" spc="-1" strike="noStrike">
                <a:solidFill>
                  <a:srgbClr val="004821"/>
                </a:solidFill>
                <a:latin typeface="Monotype Corsiva"/>
              </a:rPr>
              <a:t>Дворец спорта  района.</a:t>
            </a:r>
            <a:br>
              <a:rPr sz="2200"/>
            </a:br>
            <a:r>
              <a:rPr b="1" lang="ru-RU" sz="2200" spc="-1" strike="noStrike">
                <a:solidFill>
                  <a:srgbClr val="004821"/>
                </a:solidFill>
                <a:latin typeface="Monotype Corsiva"/>
              </a:rPr>
              <a:t>Здесь учащиеся занимаются различными видами спорта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8" name="Содержимое 3" descr="фок.jpg"/>
          <p:cNvPicPr/>
          <p:nvPr/>
        </p:nvPicPr>
        <p:blipFill>
          <a:blip r:embed="rId1"/>
          <a:stretch/>
        </p:blipFill>
        <p:spPr>
          <a:xfrm>
            <a:off x="1003320" y="1935000"/>
            <a:ext cx="713736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В 2010 году в Ромоданово был открыт Ледовый дворец. Здесь проводятся различные турниры. Для всех желающих в Ледовом дворце доступно массовое катание на коньках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0" name="Рисунок 7" descr="ледовый.jpg"/>
          <p:cNvPicPr/>
          <p:nvPr/>
        </p:nvPicPr>
        <p:blipFill>
          <a:blip r:embed="rId1"/>
          <a:stretch/>
        </p:blipFill>
        <p:spPr>
          <a:xfrm>
            <a:off x="609480" y="1828800"/>
            <a:ext cx="7635960" cy="4600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9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В поселке Ромоданово находятся три общеобразовательные школы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2" name="Содержимое 7" descr="шк 2.jpg"/>
          <p:cNvPicPr/>
          <p:nvPr/>
        </p:nvPicPr>
        <p:blipFill>
          <a:blip r:embed="rId1"/>
          <a:stretch/>
        </p:blipFill>
        <p:spPr>
          <a:xfrm>
            <a:off x="4724280" y="1371600"/>
            <a:ext cx="3505320" cy="25480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шк 3.jpg"/>
          <p:cNvPicPr/>
          <p:nvPr/>
        </p:nvPicPr>
        <p:blipFill>
          <a:blip r:embed="rId2"/>
          <a:stretch/>
        </p:blipFill>
        <p:spPr>
          <a:xfrm>
            <a:off x="2666880" y="3962520"/>
            <a:ext cx="3587760" cy="26287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image.jpg"/>
          <p:cNvPicPr/>
          <p:nvPr/>
        </p:nvPicPr>
        <p:blipFill>
          <a:blip r:embed="rId3"/>
          <a:stretch/>
        </p:blipFill>
        <p:spPr>
          <a:xfrm>
            <a:off x="685800" y="1371600"/>
            <a:ext cx="398952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821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Поселок Ромоданово расположен на реке Инсар. Название поселка Ромоданово произошло от фамилии князей </a:t>
            </a:r>
            <a:r>
              <a:rPr b="1" i="1" lang="ru-RU" sz="2400" spc="-1" strike="noStrike">
                <a:solidFill>
                  <a:srgbClr val="004821"/>
                </a:solidFill>
                <a:latin typeface="Monotype Corsiva"/>
              </a:rPr>
              <a:t>Ромодановских</a:t>
            </a: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 - владельцев села. В Ромоданово живет почти 9 тысяч человек.</a:t>
            </a:r>
            <a:br>
              <a:rPr sz="45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6" name="Содержимое 3" descr="стела.jpg"/>
          <p:cNvPicPr/>
          <p:nvPr/>
        </p:nvPicPr>
        <p:blipFill>
          <a:blip r:embed="rId1"/>
          <a:stretch/>
        </p:blipFill>
        <p:spPr>
          <a:xfrm>
            <a:off x="996840" y="1935000"/>
            <a:ext cx="715032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821"/>
                </a:solidFill>
                <a:latin typeface="Monotype Corsiva"/>
              </a:rPr>
              <a:t>Что такое достопримечательности 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остопримеча́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 — место, вещь или объект, заслуживающие особого внимания, знаменитые или замечательные чем-либо, например, являющиеся историческим наследием, художественной ценностью. Достопримечательностями также могут быть места странных и необъяснимых явлений, места компактного проживания определённой этнической группы населения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4821"/>
                </a:solidFill>
                <a:latin typeface="Monotype Corsiva"/>
              </a:rPr>
              <a:t>В нашем поселке Ромоданово есть свои достопримечательности, к ним относят :</a:t>
            </a:r>
            <a:br>
              <a:rPr sz="2200"/>
            </a:br>
            <a:r>
              <a:rPr b="1" lang="ru-RU" sz="2200" spc="-1" strike="noStrike">
                <a:solidFill>
                  <a:srgbClr val="004821"/>
                </a:solidFill>
                <a:latin typeface="Monotype Corsiva"/>
              </a:rPr>
              <a:t> Аллея славы  Героев  советского союза, </a:t>
            </a:r>
            <a:br>
              <a:rPr sz="2200"/>
            </a:br>
            <a:r>
              <a:rPr b="1" lang="ru-RU" sz="2200" spc="-1" strike="noStrike">
                <a:solidFill>
                  <a:srgbClr val="004821"/>
                </a:solidFill>
                <a:latin typeface="Monotype Corsiva"/>
              </a:rPr>
              <a:t>на которой установлены бюсты выдающихся людей поселка Ромоданово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0" name="Содержимое 3" descr="аллея.jpg"/>
          <p:cNvPicPr/>
          <p:nvPr/>
        </p:nvPicPr>
        <p:blipFill>
          <a:blip r:embed="rId1"/>
          <a:stretch/>
        </p:blipFill>
        <p:spPr>
          <a:xfrm>
            <a:off x="2190600" y="254484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821"/>
                </a:solidFill>
                <a:latin typeface="Monotype Corsiva"/>
              </a:rPr>
              <a:t>Памятник Великой Победе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2" name="Picture 2" descr="C:\Users\Admin\Desktop\презентация\image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821"/>
                </a:solidFill>
                <a:latin typeface="Monotype Corsiva"/>
              </a:rPr>
              <a:t>Памятник Ленину В.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4" name="Содержимое 3" descr="romodanovo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4821"/>
                </a:solidFill>
                <a:latin typeface="Monotype Corsiva"/>
              </a:rPr>
              <a:t>Одним из мест ,которое сохранило частицу истории нашего поселка является Ромодановский </a:t>
            </a:r>
            <a:br>
              <a:rPr sz="2900"/>
            </a:br>
            <a:r>
              <a:rPr b="1" lang="ru-RU" sz="2900" spc="-1" strike="noStrike">
                <a:solidFill>
                  <a:srgbClr val="004821"/>
                </a:solidFill>
                <a:latin typeface="Monotype Corsiva"/>
              </a:rPr>
              <a:t>историко- краеведческий музей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8960" y="22096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" name="Picture 2" descr="C:\Users\Admin\Desktop\презентация\image (8).jpg"/>
          <p:cNvPicPr/>
          <p:nvPr/>
        </p:nvPicPr>
        <p:blipFill>
          <a:blip r:embed="rId1"/>
          <a:stretch/>
        </p:blipFill>
        <p:spPr>
          <a:xfrm>
            <a:off x="1523880" y="2209680"/>
            <a:ext cx="6400800" cy="4189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Парк культуры и отдыха им. В. П. Филатова находится в центре поселка Ромоданово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9" name="Содержимое 3" descr="97647815.jpg"/>
          <p:cNvPicPr/>
          <p:nvPr/>
        </p:nvPicPr>
        <p:blipFill>
          <a:blip r:embed="rId1"/>
          <a:stretch/>
        </p:blipFill>
        <p:spPr>
          <a:xfrm>
            <a:off x="609480" y="1447920"/>
            <a:ext cx="388620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памятник.jpg"/>
          <p:cNvPicPr/>
          <p:nvPr/>
        </p:nvPicPr>
        <p:blipFill>
          <a:blip r:embed="rId2"/>
          <a:stretch/>
        </p:blipFill>
        <p:spPr>
          <a:xfrm>
            <a:off x="4648320" y="1447920"/>
            <a:ext cx="3465360" cy="2547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v-parke.jpg"/>
          <p:cNvPicPr/>
          <p:nvPr/>
        </p:nvPicPr>
        <p:blipFill>
          <a:blip r:embed="rId3"/>
          <a:stretch/>
        </p:blipFill>
        <p:spPr>
          <a:xfrm>
            <a:off x="609480" y="4038480"/>
            <a:ext cx="391644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парк.jpg"/>
          <p:cNvPicPr/>
          <p:nvPr/>
        </p:nvPicPr>
        <p:blipFill>
          <a:blip r:embed="rId4"/>
          <a:stretch/>
        </p:blipFill>
        <p:spPr>
          <a:xfrm>
            <a:off x="4724280" y="4038480"/>
            <a:ext cx="3376800" cy="2533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Церковь Казанской Иконы Божией Матери </a:t>
            </a:r>
            <a:br>
              <a:rPr sz="2400"/>
            </a:b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можно назвать одной из красивейших в Мордовии. 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4" name="Содержимое 3" descr="храм.jpg"/>
          <p:cNvPicPr/>
          <p:nvPr/>
        </p:nvPicPr>
        <p:blipFill>
          <a:blip r:embed="rId1"/>
          <a:stretch/>
        </p:blipFill>
        <p:spPr>
          <a:xfrm>
            <a:off x="1590840" y="1935000"/>
            <a:ext cx="596232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1T17:59:20Z</dcterms:created>
  <dc:creator>Админ</dc:creator>
  <dc:description/>
  <dc:language>en-US</dc:language>
  <cp:lastModifiedBy>Админ</cp:lastModifiedBy>
  <dcterms:modified xsi:type="dcterms:W3CDTF">2018-03-19T07:09:28Z</dcterms:modified>
  <cp:revision>38</cp:revision>
  <dc:subject/>
  <dc:title>Слайд 1</dc:title>
</cp:coreProperties>
</file>