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17.png" ContentType="image/pn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png" ContentType="image/png"/>
  <Override PartName="/ppt/media/image10.jpeg" ContentType="image/jpeg"/>
  <Override PartName="/ppt/media/image8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22D2-33AE-4E60-93CD-FBE12C359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A1D1-EC83-4D58-A8CA-E469A5F8F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B52C-8608-43EE-88E1-20F224DB9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9009-3EED-4810-A333-A5B3F548A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6507-5B8D-448F-9C9D-90943AA23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F246-84E3-432E-AACD-1777C495D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EC93-44AA-48D5-A5E9-1DFF77A5A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046C-4A76-4B05-8D6F-D5D44AFE4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E93A-4714-47B0-897A-FAD9E2961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8D30-0EE6-4942-BD53-42CA5C72A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7C91-2CF5-4939-B0FB-7EF23775A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3D25-48B2-46C9-8ED2-E8C282BD2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fff66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64E3C-07A8-493E-96B9-5D37C75492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fff66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2305080"/>
          </a:xfrm>
          <a:prstGeom prst="rect">
            <a:avLst/>
          </a:prstGeom>
          <a:blipFill rotWithShape="0">
            <a:blip r:embed="rId1">
              <a:alphaModFix amt="72000"/>
            </a:blip>
            <a:tile tx="0" ty="0" sx="100000" sy="100000" algn="ctr"/>
          </a:blipFill>
          <a:ln w="127080">
            <a:solidFill>
              <a:srgbClr val="ff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Парик из ниток своими рукам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3212640"/>
            <a:ext cx="8137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Arial"/>
              </a:rPr>
              <a:t>Мастер-класс по изготовлению париков для любой роли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Выполнила Морозкина Ольг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инструктор по физической культуре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МДОУ «Детский  сад № 103» г. Саранск, Р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fff66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Примерно через час-полтора парик без челки гот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799160" y="1628640"/>
            <a:ext cx="3725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fff66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8920" y="-360"/>
            <a:ext cx="447516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Не пройдет и часа, как таким же образом будет выполнена челка. </a:t>
            </a:r>
            <a:br>
              <a:rPr sz="3000"/>
            </a:b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И вот наше чудо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79280" y="2332080"/>
            <a:ext cx="3786120" cy="45259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219640" y="189000"/>
            <a:ext cx="3384720" cy="45259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219640" y="4869000"/>
            <a:ext cx="345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 Моделью служит сын, за неимением дочки    =)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fff66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А это  парики  в  действии:</a:t>
            </a:r>
            <a:br>
              <a:rPr sz="4000"/>
            </a:b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домовенок  Кузя  и  Баба-Яг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378080" y="1600200"/>
            <a:ext cx="6387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fff66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1125360"/>
            <a:ext cx="777240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700" spc="-1" strike="noStrike">
                <a:solidFill>
                  <a:srgbClr val="d60093"/>
                </a:solidFill>
                <a:latin typeface="Arial"/>
              </a:rPr>
              <a:t>Спасибо </a:t>
            </a:r>
            <a:br>
              <a:rPr sz="7700"/>
            </a:br>
            <a:r>
              <a:rPr b="1" i="1" lang="en-US" sz="7700" spc="-1" strike="noStrike">
                <a:solidFill>
                  <a:srgbClr val="d60093"/>
                </a:solidFill>
                <a:latin typeface="Arial"/>
              </a:rPr>
              <a:t>за </a:t>
            </a:r>
            <a:br>
              <a:rPr sz="7700"/>
            </a:br>
            <a:r>
              <a:rPr b="1" i="1" lang="en-US" sz="7700" spc="-1" strike="noStrike">
                <a:solidFill>
                  <a:srgbClr val="d60093"/>
                </a:solidFill>
                <a:latin typeface="Arial"/>
              </a:rPr>
              <a:t>внимание!!!</a:t>
            </a:r>
            <a:endParaRPr b="0" lang="en-US" sz="7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fff66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Часто бывает, что в детском саду или в школе приходится играть самые разнообразные роли.  Чтобы образ получился интересным, эффектным и самобытным, ему нужна красиво оформленная голо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Парики очень выручаю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Но, к сожалению, их именно такого типа, как хочется, в магазинах н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Приходится выдумывать самим. Причем кроме индивидуальности и неповторимости, такие парики отличает их долговечность. Ведь купленные дешевые искусственные волосы очень быстро  спутываются и теряют ви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fff66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 что внизу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нова парика - в идеале легкая вязаная шапочка, подходящая по цвету будущим волоса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о бывает, что надо срочно, а ничего подходящего ну никак не находится, поэтому к этому парику мне пришлось связать шапочку самой их того, что было под руко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fff66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26716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На скорую руку совсем без расчета   узора   я  связала полушапочку   крючком  из цепочки воздушных петел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71640" y="206064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580000" y="33336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fff66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7280" y="260280"/>
            <a:ext cx="5076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Вот такая          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        шапочка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             получилас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3585960" cy="4525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508720" y="2133720"/>
            <a:ext cx="3281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fff66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560" y="692280"/>
            <a:ext cx="500364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500" spc="-1" strike="noStrike">
                <a:solidFill>
                  <a:srgbClr val="000000"/>
                </a:solidFill>
                <a:latin typeface="Arial"/>
              </a:rPr>
              <a:t>Для этого парика я выбрала меланжевую пряжу, она интересней смотрится, хотя сама нить тонковата.</a:t>
            </a:r>
            <a:br>
              <a:rPr sz="3500"/>
            </a:br>
            <a:r>
              <a:rPr b="0" i="1" lang="en-US" sz="3500" spc="-1" strike="noStrike">
                <a:solidFill>
                  <a:srgbClr val="000000"/>
                </a:solidFill>
                <a:latin typeface="Arial"/>
              </a:rPr>
              <a:t>Парик лучше выходит из толстых ниток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64000" y="1890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fff66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Выбираем подходящую по длине форму и наматываем нить. Для челки форма берется поменьше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55640" y="206064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148360" y="206064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fff66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51280" y="-360"/>
            <a:ext cx="48355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500" spc="-1" strike="noStrike">
                <a:solidFill>
                  <a:srgbClr val="000000"/>
                </a:solidFill>
                <a:latin typeface="Arial"/>
              </a:rPr>
              <a:t>Разрезаем нашу будущую шевелюру. </a:t>
            </a:r>
            <a:br>
              <a:rPr sz="3500"/>
            </a:br>
            <a:r>
              <a:rPr b="0" i="1" lang="en-US" sz="3500" spc="-1" strike="noStrike">
                <a:solidFill>
                  <a:srgbClr val="000000"/>
                </a:solidFill>
                <a:latin typeface="Arial"/>
              </a:rPr>
              <a:t>Вот она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580000" y="213372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fff66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4869000"/>
            <a:ext cx="82296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Теперь с помощью крючка обычной петлей  без узла закрепляем по одной ниточке на нашу шапочку ряд за рядом. </a:t>
            </a:r>
            <a:br>
              <a:rPr sz="3000"/>
            </a:b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Оставляем место для челк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148360" y="26028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5T15:51:28Z</dcterms:created>
  <dc:creator>Ольга</dc:creator>
  <dc:description/>
  <dc:language>en-US</dc:language>
  <cp:lastModifiedBy>Ольга</cp:lastModifiedBy>
  <dcterms:modified xsi:type="dcterms:W3CDTF">2018-03-03T07:17:28Z</dcterms:modified>
  <cp:revision>14</cp:revision>
  <dc:subject/>
  <dc:title>Слайд 1</dc:title>
</cp:coreProperties>
</file>