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9A9-A9E9-4304-BD01-5F060BC6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0D1-ABFA-487E-B6FB-7B1402F0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545-6943-4691-92AD-F1FCFE91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A18-86B1-47CE-AEF0-26DAF945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5C9-2138-4316-981C-15F5A71F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BEE-23BD-4AF3-B2D6-1192A82F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9E8-109D-4B16-BF34-01A74942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7FB-88A0-4E3F-80D3-6A0E527D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EC3-0A74-4B95-A9C2-2246DA4E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45E-85F2-4C43-921D-528E599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229-5D34-46D1-ACD5-029317F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FA6-B553-4ABF-BA1C-5C90B13B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6980-C900-4F40-93B0-072DDB753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305080"/>
          </a:xfrm>
          <a:prstGeom prst="rect">
            <a:avLst/>
          </a:prstGeom>
          <a:blipFill rotWithShape="0">
            <a:blip r:embed="rId1">
              <a:alphaModFix amt="72000"/>
            </a:blip>
            <a:tile tx="0" ty="0" sx="100000" sy="100000" algn="ctr"/>
          </a:blipFill>
          <a:ln w="12708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арик из ниток своими ру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212640"/>
            <a:ext cx="8137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Мастер-класс по изготовлению париков для любой рол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полнила Морозкина Оль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ДОУ «Детский  сад № 103» г. Саранск, 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но через час-полтора парик без челки го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99160" y="1628640"/>
            <a:ext cx="372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475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е пройдет и часа, как таким же образом будет выполнена челка. 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И вот наше чудо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2332080"/>
            <a:ext cx="378612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38472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19640" y="486900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 Моделью служит сын, за неимением дочки    =)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это  парики  в  действии: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домовенок  Кузя  и  Баба-Я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8080" y="1600200"/>
            <a:ext cx="638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700" spc="-1" strike="noStrike">
                <a:solidFill>
                  <a:srgbClr val="d60093"/>
                </a:solidFill>
                <a:latin typeface="Arial"/>
              </a:rPr>
              <a:t>Спасибо </a:t>
            </a:r>
            <a:br>
              <a:rPr sz="7700"/>
            </a:br>
            <a:r>
              <a:rPr b="1" i="1" lang="en-US" sz="7700" spc="-1" strike="noStrike">
                <a:solidFill>
                  <a:srgbClr val="d60093"/>
                </a:solidFill>
                <a:latin typeface="Arial"/>
              </a:rPr>
              <a:t>за </a:t>
            </a:r>
            <a:br>
              <a:rPr sz="7700"/>
            </a:br>
            <a:r>
              <a:rPr b="1" i="1" lang="en-US" sz="7700" spc="-1" strike="noStrike">
                <a:solidFill>
                  <a:srgbClr val="d60093"/>
                </a:solidFill>
                <a:latin typeface="Arial"/>
              </a:rPr>
              <a:t>внимание!!!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асто бывает, что в детском саду или в школе приходится играть самые разнообразные роли.  Чтобы образ получился интересным, эффектным и самобытным, ему нужна красиво оформленная го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арики очень выруч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о, к сожалению, их именно такого типа, как хочется, в магазинах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иходится выдумывать самим. Причем кроме индивидуальности и неповторимости, такие парики отличает их долговечность. Ведь купленные дешевые искусственные волосы очень быстро  спутываются и теряют в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что вниз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 парика - в идеале легкая вязаная шапочка, подходящая по цвету будущим воло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бывает, что надо срочно, а ничего подходящего ну никак не находится, поэтому к этому парику мне пришлось связать шапочку самой их того, что было под ру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а скорую руку совсем без расчета   узора   я  связала полушапочку   крючком  из цепочки воздушных пе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80000" y="33336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7280" y="260280"/>
            <a:ext cx="5076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от такая         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шапочка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 получила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58596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3281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5003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Для этого парика я выбрала меланжевую пряжу, она интересней смотрится, хотя сама нить тонковата.</a:t>
            </a:r>
            <a:br>
              <a:rPr sz="3500"/>
            </a:b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Парик лучше выходит из толстых нит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Выбираем подходящую по длине форму и наматываем нить. Для челки форма берется поменьш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83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Разрезаем нашу будущую шевелюру. </a:t>
            </a:r>
            <a:br>
              <a:rPr sz="3500"/>
            </a:b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Вот он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80000" y="213372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Теперь с помощью крючка обычной петлей  без узла закрепляем по одной ниточке на нашу шапочку ряд за рядом.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ставляем место для чел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5:51:28Z</dcterms:created>
  <dc:creator>Ольга</dc:creator>
  <dc:description/>
  <dc:language>en-US</dc:language>
  <cp:lastModifiedBy>Ольга</cp:lastModifiedBy>
  <dcterms:modified xsi:type="dcterms:W3CDTF">2018-03-03T07:17:28Z</dcterms:modified>
  <cp:revision>14</cp:revision>
  <dc:subject/>
  <dc:title>Слайд 1</dc:title>
</cp:coreProperties>
</file>