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AFF-102A-401E-B1FE-A5CEE661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8F4-B7E3-4D3D-B83D-96683E9E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A6C-CA5C-434E-82E6-94B155E3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AEA-6037-43B7-A939-966F8835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E52A-4A0E-4E77-A348-643AA8DD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B410-E7C0-4600-927A-7901A7B9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47FD-7F94-45BA-A2BE-4973664C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1677-A0EA-4E04-826B-B38711A7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8322-C042-40CB-AB17-C839DA03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CBF9-1E1B-4925-80AB-EA51ADA2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D4DF-F94D-4F03-813F-1D7D306D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23C-29AD-4AD3-85E4-2EB7DF9D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CE38-21A6-43BF-A1AE-CD4B8B59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3673-A24F-47DD-9EC3-49FAB168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A015-B7BA-4CEC-9E62-6A39DC8F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4851-E9A6-49D5-9965-A0B7AC26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1309-7D57-49E9-9B4F-761C73FA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4FDA2-E829-4E8B-BD54-29CD427D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02F77-06B5-4BC1-8591-BF2C4D07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E016F-FF19-4190-99A3-2A145F8B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1A1B0-ECE7-459F-8716-CA97014B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339B-2107-4AB6-817F-00ED55D9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E7F-A1D7-4FC5-9BD0-83ACC81C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9317A-F313-4A86-9620-8E8D4C03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E61E-A1ED-4045-8D59-E0445EE3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5AB96-1CF1-4314-B42E-07920149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9F687-14B8-406E-922C-6DF09502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F43C-DF37-48AC-88C8-C77EC3D3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167C8-F89F-4935-A9E6-4ABFF25F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919B6-2A07-4A52-ACE4-7A07E7A4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6D109-3957-43E6-A4E5-7F4BF5FA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F5227-8283-4D1E-ACBB-43C40BD0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B5F08-A611-4549-BE39-A1B58745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DE3-992A-4E3C-A917-26A9522B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EC59B-1F3F-4915-8661-063E0551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7DF59-B54C-42C2-B890-4A525D00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BA36C-45BB-473F-B234-00170323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3E923-FB51-4BE5-9068-5F5E2994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B7E7D-F7F1-4FC6-B4D4-AD0C45A9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D82DC-A8DC-48C6-8CEA-B1FF4C94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3CBD0-6BD0-4E08-A6DB-D2F350D8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BB2FB-F747-4C60-8F1A-0D3849C2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E9779-1B99-46AF-9A28-D6E91381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65CC4-4ABB-4B62-92DD-BF8BF274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D4B-BA45-4629-872C-FC0A9776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2177E-E10A-4CC9-ABC0-4CEE5CD7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2D0A9-CB75-4807-99DB-803CD645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68659-69C0-4E8F-A846-E3FFF43F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E65B6-169A-4972-B2F3-682AF438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2864D-DA88-48AB-B3A7-6A061EBD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91980-5D02-4F3F-B835-5D60DA28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9D40A-2DB7-4F20-8036-783DF591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218A6-3126-4FB7-9382-BBAFA68A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19F36-A9CC-456C-B632-BF2B0CD8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DEBB9-7A21-41C3-A1B0-133942F9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559-4E34-4E10-A516-4742E245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74C60-392B-4024-97DE-0C430825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CA3DD-E651-4C0D-B6C1-0EF32B7C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B4700-F8A0-405D-B07D-3BCA97FC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E5ABA-B523-41EF-92D7-EA563073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3AAF7-0FDA-4A28-87AD-DE8B7AA7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89FDD-E78E-4568-AA53-233ADA07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9DBD4-982F-47BD-90D9-1C1E16E2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D9EC5-4D01-4DB5-BD80-4D8D9434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0CBA0-AC0F-4EF0-B8DA-ACC271A0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CD632-2D5D-43B8-8109-35842D7F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AA5-952C-4750-B8ED-5AA56CA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C7CF9-7D30-410C-A32E-8B93202C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6F1D7-B476-4CB7-B169-8C83D08B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2662C-CC84-49C5-A99F-AA539FBE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A22D7-0FCB-42C2-8C38-E46A7C95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CA5FB-DD54-440F-9A92-D54E6670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F7F31-C9FF-4389-BF9B-89074DFE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17495-DCCB-42D2-841D-FBF1EA63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0DB63-13BB-4880-9614-80E94F58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FE36D-D2E8-4C6D-B827-E8D9ABFF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FCE69-9FCA-4768-9A21-218D74E6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E75-C6A0-44B5-8C87-B58B5A79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A69EB-1998-4505-8E08-DFBBEE29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0C6F8-BAB7-42B7-B411-893C2D0B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C9B59-5940-4DCF-9E8C-A637E26E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EB3C7-4882-4243-A5A9-AC5A96BD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80059-03B8-4181-AA6E-FF491036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F6F-9D60-48CE-B5CF-8C2568A6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9113-52B4-4253-A1E6-72E55ECCEC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2907-3165-4B61-BC6C-C4CF90B2A7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3E4B-CA57-4A91-965C-BFCC4936EB0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17F5-A14B-45EE-8047-3ACF8D68F5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64E9-BF89-4BE7-8CE7-72F7D30688D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0E0D-EE67-4B27-93AA-1A523149147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8032-1D6B-4BC2-875B-61EB2D904A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Содержимое 5" descr="п.jpg"/>
          <p:cNvPicPr/>
          <p:nvPr/>
        </p:nvPicPr>
        <p:blipFill>
          <a:blip r:embed="rId1"/>
          <a:stretch/>
        </p:blipFill>
        <p:spPr>
          <a:xfrm>
            <a:off x="1000080" y="571680"/>
            <a:ext cx="8001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Corbel"/>
              </a:rPr>
              <a:t>Мария Магдалина у императора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0" name="Содержимое 3" descr="Mariya.jpg"/>
          <p:cNvPicPr/>
          <p:nvPr/>
        </p:nvPicPr>
        <p:blipFill>
          <a:blip r:embed="rId1"/>
          <a:stretch/>
        </p:blipFill>
        <p:spPr>
          <a:xfrm>
            <a:off x="2143080" y="1881360"/>
            <a:ext cx="6215040" cy="447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64372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крапенк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писан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91000"/>
          </a:bodyPr>
          <a:p>
            <a:pPr marL="57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крашен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Содержимое 8" descr="пис.jpg"/>
          <p:cNvPicPr/>
          <p:nvPr/>
        </p:nvPicPr>
        <p:blipFill>
          <a:blip r:embed="rId1"/>
          <a:stretch/>
        </p:blipFill>
        <p:spPr>
          <a:xfrm>
            <a:off x="428760" y="1071720"/>
            <a:ext cx="3614760" cy="2428560"/>
          </a:xfrm>
          <a:prstGeom prst="rect">
            <a:avLst/>
          </a:prstGeom>
          <a:ln w="38160">
            <a:solidFill>
              <a:srgbClr val="004200"/>
            </a:solidFill>
            <a:prstDash val="dash"/>
            <a:miter/>
          </a:ln>
        </p:spPr>
      </p:pic>
      <p:pic>
        <p:nvPicPr>
          <p:cNvPr id="325" name="Содержимое 9" descr="крашенки.jpg"/>
          <p:cNvPicPr/>
          <p:nvPr/>
        </p:nvPicPr>
        <p:blipFill>
          <a:blip r:embed="rId2"/>
          <a:stretch/>
        </p:blipFill>
        <p:spPr>
          <a:xfrm>
            <a:off x="4714920" y="1143000"/>
            <a:ext cx="3786120" cy="2428920"/>
          </a:xfrm>
          <a:prstGeom prst="rect">
            <a:avLst/>
          </a:prstGeom>
          <a:ln w="38160">
            <a:solidFill>
              <a:srgbClr val="004200"/>
            </a:solidFill>
            <a:prstDash val="dash"/>
            <a:miter/>
          </a:ln>
        </p:spPr>
      </p:pic>
      <p:pic>
        <p:nvPicPr>
          <p:cNvPr id="326" name="Рисунок 10" descr="крапинки.jpg"/>
          <p:cNvPicPr/>
          <p:nvPr/>
        </p:nvPicPr>
        <p:blipFill>
          <a:blip r:embed="rId3"/>
          <a:stretch/>
        </p:blipFill>
        <p:spPr>
          <a:xfrm>
            <a:off x="2786040" y="3714840"/>
            <a:ext cx="3714840" cy="2071440"/>
          </a:xfrm>
          <a:prstGeom prst="rect">
            <a:avLst/>
          </a:prstGeom>
          <a:ln w="38160">
            <a:solidFill>
              <a:srgbClr val="0042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Содержимое 6" descr="писанки.jpg"/>
          <p:cNvPicPr/>
          <p:nvPr/>
        </p:nvPicPr>
        <p:blipFill>
          <a:blip r:embed="rId1"/>
          <a:stretch/>
        </p:blipFill>
        <p:spPr>
          <a:xfrm>
            <a:off x="3000240" y="1857240"/>
            <a:ext cx="3429000" cy="2357640"/>
          </a:xfrm>
          <a:prstGeom prst="rect">
            <a:avLst/>
          </a:prstGeom>
          <a:ln w="38160">
            <a:solidFill>
              <a:srgbClr val="004200"/>
            </a:solidFill>
            <a:prstDash val="dash"/>
            <a:miter/>
          </a:ln>
        </p:spPr>
      </p:pic>
      <p:pic>
        <p:nvPicPr>
          <p:cNvPr id="328" name="Содержимое 7" descr="с пауком.jpg"/>
          <p:cNvPicPr/>
          <p:nvPr/>
        </p:nvPicPr>
        <p:blipFill>
          <a:blip r:embed="rId2"/>
          <a:stretch/>
        </p:blipFill>
        <p:spPr>
          <a:xfrm>
            <a:off x="142920" y="142920"/>
            <a:ext cx="3286080" cy="2286000"/>
          </a:xfrm>
          <a:prstGeom prst="rect">
            <a:avLst/>
          </a:prstGeom>
          <a:ln w="38160">
            <a:solidFill>
              <a:srgbClr val="004200"/>
            </a:solidFill>
            <a:prstDash val="dash"/>
            <a:miter/>
          </a:ln>
        </p:spPr>
      </p:pic>
      <p:pic>
        <p:nvPicPr>
          <p:cNvPr id="329" name="Рисунок 8" descr="звезда.jpg"/>
          <p:cNvPicPr/>
          <p:nvPr/>
        </p:nvPicPr>
        <p:blipFill>
          <a:blip r:embed="rId3"/>
          <a:stretch/>
        </p:blipFill>
        <p:spPr>
          <a:xfrm>
            <a:off x="6215040" y="3286080"/>
            <a:ext cx="2714760" cy="3429000"/>
          </a:xfrm>
          <a:prstGeom prst="rect">
            <a:avLst/>
          </a:prstGeom>
          <a:ln w="38160">
            <a:solidFill>
              <a:srgbClr val="0042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80722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Corbel"/>
              </a:rPr>
              <a:t>Пасхальный декупаж.</a:t>
            </a:r>
            <a:br>
              <a:rPr sz="3900"/>
            </a:br>
            <a:br>
              <a:rPr sz="39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Декупаж от французского «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decouper</a:t>
            </a: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»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- </a:t>
            </a: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«вырезать».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Без названия.jpg"/>
          <p:cNvPicPr/>
          <p:nvPr/>
        </p:nvPicPr>
        <p:blipFill>
          <a:blip r:embed="rId1"/>
          <a:stretch/>
        </p:blipFill>
        <p:spPr>
          <a:xfrm>
            <a:off x="2000160" y="2143080"/>
            <a:ext cx="6000840" cy="4143600"/>
          </a:xfrm>
          <a:prstGeom prst="rect">
            <a:avLst/>
          </a:prstGeom>
          <a:ln w="38160">
            <a:solidFill>
              <a:srgbClr val="0042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одержимое 5" descr="поздр..jpg"/>
          <p:cNvPicPr/>
          <p:nvPr/>
        </p:nvPicPr>
        <p:blipFill>
          <a:blip r:embed="rId1"/>
          <a:stretch/>
        </p:blipFill>
        <p:spPr>
          <a:xfrm>
            <a:off x="1285920" y="142920"/>
            <a:ext cx="75722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in</cp:lastModifiedBy>
  <dcterms:modified xsi:type="dcterms:W3CDTF">2017-04-10T16:45:05Z</dcterms:modified>
  <cp:revision>60</cp:revision>
  <dc:subject/>
  <dc:title>Слайд 1</dc:title>
</cp:coreProperties>
</file>