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CEF-DB86-4C1E-A921-2D9C554C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DCA-FEA2-4503-9250-7DC3DA89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7C6-4C23-40DA-B7E5-BB3A1112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F559-F58C-4A74-B3BB-86F5396E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573F-C94A-4A03-9204-58031444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661D-4F13-4208-BCB8-23E562D0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1897-21F8-459E-8018-0307BFCE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B1C9-0F6D-43EA-9D44-482D3E1A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F639-ABC1-421D-A691-39932578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6B04-3781-4807-979C-F30563CF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6442-DE55-4DD6-AFD1-5A6A2F32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759-71C0-47ED-9BC8-67EA7EC8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BB2A-D614-4526-A94A-FEE8DE7E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BD8A-4706-4945-BC58-816CC493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780F-FA35-4057-8996-35EE42C5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AA72-DE97-4B74-BC15-C6B9AE1C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25A8-51C6-49EC-A517-79C21811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72389-D9A8-4599-A68A-1593CEB5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EA2F6-7315-4D94-9A6C-FAAC2148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6FAB9-3972-4794-B497-1287C14D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80C80-7A9B-4FD8-9652-14BD191F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7452A-A20C-48FE-8AC1-8FC46391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CD0-53F3-420B-B019-0C6AFFA1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04405-84A1-46A7-AC17-C1422360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4DC90-D003-41D1-936F-5EC3AAA6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51C36-7D88-4AB1-9C01-3DEF4959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12A8D-FC0F-4565-B9E4-CDADC86C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A9FDA-EB1F-46FA-A9C7-AE3DA00F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97CA0-F40F-4058-AF58-961D610E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F9EBA-D9A7-498A-A411-CF096FA1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0A174-77B8-42B6-82C9-2418AC87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B900E-D5E3-4970-89D7-A1429C20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79010-9841-4015-8D6D-0714037E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EE23-6DB5-413A-B7B0-AF4B8B6B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03780-5094-4A8D-BB9B-2025B76A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7E803-9739-48C4-91BE-A9143E39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9EA2A-4CE2-4EF3-B6C2-F9965EAA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0BE0D-D320-49B1-BA0A-296D9321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6AE40-BCA4-4C3C-9714-86595D58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BA38B-9C9B-4398-A92E-1E9D0D14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765ED-2DBF-41F8-AE23-06A92607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6E9CF-0676-404B-AA68-48C9D8FE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D1C7F-F305-40BB-B145-875CB08E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321D2-B507-4AD7-A8C2-21066EB0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B4C0-B290-4F9B-A1A8-BFEA063C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8EBC4-49D5-4562-A5A0-01335FC0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08902-6E0C-4685-92DF-6D0FEA72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0F4A2-0855-473B-A0E7-A59F5E93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C3928-2EC3-4A87-B310-21356324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33080-28B8-4AF5-B38F-B6C9BA6D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B9139-CBFE-41C8-BA7D-1B3F5A8F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2645C-C0CA-420B-99D2-F10EA4F5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83695-A46B-47E0-96F8-6E2E6884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C395D-FDE7-4274-8399-03CE0C45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8A1E6-2604-494F-9AF1-30E1F07A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32C-47B3-412C-ABCD-4AEB8999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F3B7B-1E3E-4086-8D36-D8C0F24F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06AE3-52FF-44B7-AE2C-CF15DD96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BAFC9-DBBF-4297-98E9-7AF4D497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188DA-B58C-4C4F-9744-5343DF57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B6AE5-A6E6-4A2B-9570-D5A9DC70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072BB-BE74-437F-AE87-57B727BF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26AD4-DC1E-47B7-B822-1B6B65D2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F1691-5B0B-4D0A-9FCD-B45BD4F5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D0B9A-F023-4E19-ADF2-1C773F99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6BBCC-376E-4A29-9BE5-870E8EAE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CE1-9693-40DB-8C5D-F57333BD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DE7A7-4A47-4F65-A60D-C4024AA8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8DDD0-CAAE-45A3-864C-5030F8D5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70935-CEB9-4F25-816F-8B001E0D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AD66A-D985-4A9C-81A5-14B178EB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99A40-4382-4EA4-BCDB-FAC6E5F5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5D4FF-36BB-4C31-850A-31DA04EF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12A9A-3559-45A1-896C-C4F1B201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1AAC9-A644-45B6-BC67-D397F803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4EFF2-8F5E-434C-AC3B-CAD7B42F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6831E-C32C-4E43-8C19-51E81D33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DEB9-5C83-431D-9F2B-BA52E5BB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9818F-4BC5-44E8-9A20-D6382F6A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C9D2F-E1F3-4E5D-BC3E-3B85D15A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DD094-9D5F-440E-A5E0-36408436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8B6D5-FB30-4D71-B697-96E6133F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08095-8E28-4AF0-9B15-B98FF357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EDE-BC54-41E3-8CA3-B7EE2DF0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C417-433A-4E50-B698-0996DC64EDF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D1BF-EE37-43CA-812C-5FA1B9F0B4D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D1B5-F84E-440D-85CD-73448AF147B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AA9D-48CA-4521-8CD9-3570C50598E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86BA-A2BC-453F-B452-8DBE61A69A8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8F3C-D78F-4046-8D61-C1144BCE9D3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07A5-8B96-4486-9AF4-295E833DD32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Содержимое 5" descr="п.jpg"/>
          <p:cNvPicPr/>
          <p:nvPr/>
        </p:nvPicPr>
        <p:blipFill>
          <a:blip r:embed="rId1"/>
          <a:stretch/>
        </p:blipFill>
        <p:spPr>
          <a:xfrm>
            <a:off x="1000080" y="571680"/>
            <a:ext cx="8001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Corbel"/>
              </a:rPr>
              <a:t>Мария Магдалина у императора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0" name="Содержимое 3" descr="Mariya.jpg"/>
          <p:cNvPicPr/>
          <p:nvPr/>
        </p:nvPicPr>
        <p:blipFill>
          <a:blip r:embed="rId1"/>
          <a:stretch/>
        </p:blipFill>
        <p:spPr>
          <a:xfrm>
            <a:off x="2143080" y="1881360"/>
            <a:ext cx="6215040" cy="447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64372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крапенк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писан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91000"/>
          </a:bodyPr>
          <a:p>
            <a:pPr marL="576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крашен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Содержимое 8" descr="пис.jpg"/>
          <p:cNvPicPr/>
          <p:nvPr/>
        </p:nvPicPr>
        <p:blipFill>
          <a:blip r:embed="rId1"/>
          <a:stretch/>
        </p:blipFill>
        <p:spPr>
          <a:xfrm>
            <a:off x="428760" y="1071720"/>
            <a:ext cx="3614760" cy="2428560"/>
          </a:xfrm>
          <a:prstGeom prst="rect">
            <a:avLst/>
          </a:prstGeom>
          <a:ln w="38160">
            <a:solidFill>
              <a:srgbClr val="004200"/>
            </a:solidFill>
            <a:prstDash val="dash"/>
            <a:miter/>
          </a:ln>
        </p:spPr>
      </p:pic>
      <p:pic>
        <p:nvPicPr>
          <p:cNvPr id="325" name="Содержимое 9" descr="крашенки.jpg"/>
          <p:cNvPicPr/>
          <p:nvPr/>
        </p:nvPicPr>
        <p:blipFill>
          <a:blip r:embed="rId2"/>
          <a:stretch/>
        </p:blipFill>
        <p:spPr>
          <a:xfrm>
            <a:off x="4714920" y="1143000"/>
            <a:ext cx="3786120" cy="2428920"/>
          </a:xfrm>
          <a:prstGeom prst="rect">
            <a:avLst/>
          </a:prstGeom>
          <a:ln w="38160">
            <a:solidFill>
              <a:srgbClr val="004200"/>
            </a:solidFill>
            <a:prstDash val="dash"/>
            <a:miter/>
          </a:ln>
        </p:spPr>
      </p:pic>
      <p:pic>
        <p:nvPicPr>
          <p:cNvPr id="326" name="Рисунок 10" descr="крапинки.jpg"/>
          <p:cNvPicPr/>
          <p:nvPr/>
        </p:nvPicPr>
        <p:blipFill>
          <a:blip r:embed="rId3"/>
          <a:stretch/>
        </p:blipFill>
        <p:spPr>
          <a:xfrm>
            <a:off x="2786040" y="3714840"/>
            <a:ext cx="3714840" cy="2071440"/>
          </a:xfrm>
          <a:prstGeom prst="rect">
            <a:avLst/>
          </a:prstGeom>
          <a:ln w="38160">
            <a:solidFill>
              <a:srgbClr val="0042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Содержимое 6" descr="писанки.jpg"/>
          <p:cNvPicPr/>
          <p:nvPr/>
        </p:nvPicPr>
        <p:blipFill>
          <a:blip r:embed="rId1"/>
          <a:stretch/>
        </p:blipFill>
        <p:spPr>
          <a:xfrm>
            <a:off x="3000240" y="1857240"/>
            <a:ext cx="3429000" cy="2357640"/>
          </a:xfrm>
          <a:prstGeom prst="rect">
            <a:avLst/>
          </a:prstGeom>
          <a:ln w="38160">
            <a:solidFill>
              <a:srgbClr val="004200"/>
            </a:solidFill>
            <a:prstDash val="dash"/>
            <a:miter/>
          </a:ln>
        </p:spPr>
      </p:pic>
      <p:pic>
        <p:nvPicPr>
          <p:cNvPr id="328" name="Содержимое 7" descr="с пауком.jpg"/>
          <p:cNvPicPr/>
          <p:nvPr/>
        </p:nvPicPr>
        <p:blipFill>
          <a:blip r:embed="rId2"/>
          <a:stretch/>
        </p:blipFill>
        <p:spPr>
          <a:xfrm>
            <a:off x="142920" y="142920"/>
            <a:ext cx="3286080" cy="2286000"/>
          </a:xfrm>
          <a:prstGeom prst="rect">
            <a:avLst/>
          </a:prstGeom>
          <a:ln w="38160">
            <a:solidFill>
              <a:srgbClr val="004200"/>
            </a:solidFill>
            <a:prstDash val="dash"/>
            <a:miter/>
          </a:ln>
        </p:spPr>
      </p:pic>
      <p:pic>
        <p:nvPicPr>
          <p:cNvPr id="329" name="Рисунок 8" descr="звезда.jpg"/>
          <p:cNvPicPr/>
          <p:nvPr/>
        </p:nvPicPr>
        <p:blipFill>
          <a:blip r:embed="rId3"/>
          <a:stretch/>
        </p:blipFill>
        <p:spPr>
          <a:xfrm>
            <a:off x="6215040" y="3286080"/>
            <a:ext cx="2714760" cy="3429000"/>
          </a:xfrm>
          <a:prstGeom prst="rect">
            <a:avLst/>
          </a:prstGeom>
          <a:ln w="38160">
            <a:solidFill>
              <a:srgbClr val="0042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80722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Corbel"/>
              </a:rPr>
              <a:t>Пасхальный декупаж.</a:t>
            </a:r>
            <a:br>
              <a:rPr sz="3900"/>
            </a:br>
            <a:br>
              <a:rPr sz="39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Декупаж от французского «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decouper</a:t>
            </a: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»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- </a:t>
            </a: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«вырезать».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3" descr="Без названия.jpg"/>
          <p:cNvPicPr/>
          <p:nvPr/>
        </p:nvPicPr>
        <p:blipFill>
          <a:blip r:embed="rId1"/>
          <a:stretch/>
        </p:blipFill>
        <p:spPr>
          <a:xfrm>
            <a:off x="2000160" y="2143080"/>
            <a:ext cx="6000840" cy="4143600"/>
          </a:xfrm>
          <a:prstGeom prst="rect">
            <a:avLst/>
          </a:prstGeom>
          <a:ln w="38160">
            <a:solidFill>
              <a:srgbClr val="0042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Содержимое 5" descr="поздр..jpg"/>
          <p:cNvPicPr/>
          <p:nvPr/>
        </p:nvPicPr>
        <p:blipFill>
          <a:blip r:embed="rId1"/>
          <a:stretch/>
        </p:blipFill>
        <p:spPr>
          <a:xfrm>
            <a:off x="1285920" y="142920"/>
            <a:ext cx="75722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Admin</cp:lastModifiedBy>
  <dcterms:modified xsi:type="dcterms:W3CDTF">2017-04-10T16:45:05Z</dcterms:modified>
  <cp:revision>60</cp:revision>
  <dc:subject/>
  <dc:title>Слайд 1</dc:title>
</cp:coreProperties>
</file>