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D04D-AFBA-4EC4-9EFB-C11805DB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9C8-52B2-44D6-B8E7-853D3259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C299-3FE8-4856-8A34-33360767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8567-5873-4797-96C2-38E44A1B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C072-62A3-4AB9-B6BA-362AC00B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C141-DE50-4B69-B394-D5272969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A550-1F74-4516-8F5A-F6DEEE6D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F30F-E086-4B41-9A23-075CEB54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AF0B-9CD9-487F-ADDD-27B53F73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23CB-D3F3-4371-8A88-AE4030F5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308B-BCB7-4CF3-98C3-D27B7068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06FB-931A-4968-AA6A-D8A1381A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1470-DE83-409F-B03A-E5EBB66A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60CC-C427-42AD-B83B-E5F02CB6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D4AE-1242-4111-BBB2-8CB10A7E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1358-2495-4229-A942-AC7998C4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E469-56B9-4893-8EF1-16970EA0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9F986-AD3E-4FBB-B37E-FA64BE98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30BD1-7C10-4181-9539-C2D2FD6C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837EC-A9C5-4313-B8A7-A201CE5A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67ED6-8A39-402C-A02A-8AA34238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BD939-29EC-4C23-907B-36C12D3E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938D-99C7-486C-AF09-09348595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3B31F-758E-4ECD-8465-D7FB4F05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7012D-0AED-43EA-85C6-FC8EE8E2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A0E7A-F3B8-4F17-BD16-A401770A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D3943-5CE3-4EB5-804C-27162DD8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F3F1F-DDB2-47C9-AD3E-3185A939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9A554-1A30-467C-A785-064C7F91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4E081-9CF8-4EAD-8C43-E8CAC436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22BE8-E07B-4A0C-9753-D76D960A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87150-3C96-4771-971A-159D1A59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5AA9C-8CA8-434E-B3D0-B7962C0F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559-ED81-46CC-9534-839DDF95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EE330-42AE-4273-ADBA-EEDECC85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6399C-7262-4D7B-94AE-8E80F284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42435-57A9-4413-91FC-A8557BE7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489BA-0161-4421-85EE-F419CF33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59D66-C01A-4BB2-AAE0-798E0705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50EE0-5A25-4144-8955-8C627937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9EDBF-2E45-4F90-9B97-AB42868D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DD104-F05D-4982-B367-18832DB8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11684-68E2-485E-BE87-9244C809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31EBF2-0E84-473A-A00E-FAADC643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BC3-36BA-467C-9125-7C12A110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25A877-9854-4905-A0BA-F974F5BE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F88C5A-0362-418D-9BFB-88B5BB28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975166-41BB-4AE3-8769-3DE9DC48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E38194-B0F8-4F05-9648-D5ABA0F2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CE2DCB-17CD-4B5A-9F09-A43A34FE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265C60-4512-4857-94B7-8EA53CCF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E4287-1DA1-47DF-87CD-4D0E688B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3A4F7F-D85F-4DD1-8B84-CDF72275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E3A2EA-8C21-4272-85A3-82883F2E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7744A3-F0D4-4213-A0B7-F2BCB98D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3C5-167C-48EC-AE47-B291F5AA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15965-91C0-495A-9449-FF5F304B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C13AC-1739-4998-AF9D-46F95A02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2AEFB-268D-4B54-8636-E27B6EA6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7CAE3-E3A0-4E2F-B4F2-B8D5BBB3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48DBC-D7AA-454B-B402-B8231247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52B45-B497-467B-BE3A-ECE1609E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34A93-F170-4F75-AC88-BD3083A5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36563-6738-4A99-AC15-0F9A3803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324B8-1D66-45BF-808F-7CCE61F5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EE997-03F5-42EF-B39B-69920DB1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E88-2E1D-4BCC-A369-B99CF686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653F0-C224-460B-89E5-DDB0C1D9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DC8CC-CC1F-48EB-8F2E-2C7D8733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73417-0C0D-4347-B5CC-E23A2770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100D-C56C-4937-B3E7-1688D05C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3A56-AC1D-4891-A729-3BD86BB3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79797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5EC8D7-EA71-48F8-BCAC-4D97B2307A8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79797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726B29-41BB-4F75-9016-0866B3D82F0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79797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FC68E4-142C-4CC6-9E76-DC200104DD3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79797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CCBF1D-2ACC-4C85-8A46-FD6D025549C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69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4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088CFD4-FD86-4AFA-B891-5DAA3407623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5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6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dt" idx="16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7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8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B7479A4-567D-4C2D-BD5F-18542C70585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stirringtrip.com/cities/tyumenq.html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6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a7c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240" cy="493992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олнце</a:t>
            </a:r>
            <a:br>
              <a:rPr sz="4800"/>
            </a:b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Солнце-это огромный, пылающий …………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Солнце-это ближайшая к Земле ……………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Оно создаёт нам (время суток) …………….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По размерам Солнце………….., чем Земля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Нам Солнце кажется маленьким кружочком,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отому что находиться ……….от Земли.</a:t>
            </a:r>
            <a:br>
              <a:rPr sz="2800"/>
            </a:b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http://stirringtrip.com/img/dost-600/observatorija-2.jpg"/>
          <p:cNvPicPr/>
          <p:nvPr/>
        </p:nvPicPr>
        <p:blipFill>
          <a:blip r:embed="rId1"/>
          <a:stretch/>
        </p:blipFill>
        <p:spPr>
          <a:xfrm>
            <a:off x="357120" y="1143000"/>
            <a:ext cx="3772080" cy="2214360"/>
          </a:xfrm>
          <a:prstGeom prst="rect">
            <a:avLst/>
          </a:prstGeom>
          <a:ln w="0">
            <a:noFill/>
          </a:ln>
        </p:spPr>
      </p:pic>
      <p:sp>
        <p:nvSpPr>
          <p:cNvPr id="286" name="Прямоугольник 2"/>
          <p:cNvSpPr/>
          <p:nvPr/>
        </p:nvSpPr>
        <p:spPr>
          <a:xfrm>
            <a:off x="2286000" y="285840"/>
            <a:ext cx="45716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бсерва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в Тю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http://z79.d.sdska.ru/2-z79-d70f0eee-ec81-4bdf-8fdc-d7f412de40bd.jpg"/>
          <p:cNvPicPr/>
          <p:nvPr/>
        </p:nvPicPr>
        <p:blipFill>
          <a:blip r:embed="rId3"/>
          <a:stretch/>
        </p:blipFill>
        <p:spPr>
          <a:xfrm>
            <a:off x="2571840" y="3857760"/>
            <a:ext cx="3750120" cy="24998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http://pics.nashgorod.ru/imgfiles/newnews_imgs/2017/07/30/bf2c5e14d16301905f3c7d3305d783b8.jpg"/>
          <p:cNvPicPr/>
          <p:nvPr/>
        </p:nvPicPr>
        <p:blipFill>
          <a:blip r:embed="rId4"/>
          <a:stretch/>
        </p:blipFill>
        <p:spPr>
          <a:xfrm>
            <a:off x="4643280" y="1143000"/>
            <a:ext cx="3642840" cy="22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R:\Чувилина Валентина Анатольевна\рисунки\ANCAQI1JHOCAE80G82CAZEHEJVCA3T9X49CAX38WCQCA8UKRIPCAZ3506WCADS2WWWCAN1N9KUCA7AT0UFCAMN6Q31CA3Y55GUCA1X2G6VCAUXJJ7NCAJIWSJFCA2WDBL5CAO4VUGXCAABJW93CARRRD5S.jpg"/>
          <p:cNvPicPr/>
          <p:nvPr/>
        </p:nvPicPr>
        <p:blipFill>
          <a:blip r:embed="rId1"/>
          <a:stretch/>
        </p:blipFill>
        <p:spPr>
          <a:xfrm>
            <a:off x="285840" y="3214800"/>
            <a:ext cx="2642760" cy="3357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R:\Чувилина Валентина Анатольевна\луна\crop0002.jpg"/>
          <p:cNvPicPr/>
          <p:nvPr/>
        </p:nvPicPr>
        <p:blipFill>
          <a:blip r:embed="rId2"/>
          <a:stretch/>
        </p:blipFill>
        <p:spPr>
          <a:xfrm>
            <a:off x="3143160" y="3143160"/>
            <a:ext cx="5285880" cy="3428640"/>
          </a:xfrm>
          <a:prstGeom prst="rect">
            <a:avLst/>
          </a:prstGeom>
          <a:ln w="0">
            <a:noFill/>
          </a:ln>
        </p:spPr>
      </p:pic>
      <p:sp>
        <p:nvSpPr>
          <p:cNvPr id="291" name="TextBox 3"/>
          <p:cNvSpPr/>
          <p:nvPr/>
        </p:nvSpPr>
        <p:spPr>
          <a:xfrm>
            <a:off x="676080" y="142920"/>
            <a:ext cx="77173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Что мы видим на поверхности Лу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глядя в телескоп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5"/>
          <p:cNvSpPr/>
          <p:nvPr/>
        </p:nvSpPr>
        <p:spPr>
          <a:xfrm>
            <a:off x="142920" y="1214280"/>
            <a:ext cx="86011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Луне тёмные и светлые пят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ветлые пятна - это лунные моря, но в 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т воды. Тёмные пятна – это ровные учас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Луне видны лунные кратеры. Они образовались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даров метеоритов – камней, упавших из космо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40000">
              <a:srgbClr val="cc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755280" y="142920"/>
            <a:ext cx="7301160" cy="51624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Несколько советов, улетающим на Лу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-111600" y="785880"/>
            <a:ext cx="9547920" cy="4753080"/>
          </a:xfrm>
          <a:prstGeom prst="rect">
            <a:avLst/>
          </a:prstGeom>
          <a:gradFill rotWithShape="0">
            <a:gsLst>
              <a:gs pos="40000">
                <a:srgbClr val="ffff9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ебе захотелось попрыгать, учти, что подпрыгнешь в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6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 выш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на Земле ,и падать будешь гораздо медленнее. Сила тяжести на Лу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з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. Будешь прогуливаться – смотри под ноги. Вся поверхность усе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камнями, которые падают из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296c04"/>
                </a:solidFill>
                <a:latin typeface="Arial"/>
              </a:rPr>
              <a:t>Не забудь взять часы с календарём. На Луне один наш день дл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2 </a:t>
            </a:r>
            <a:r>
              <a:rPr b="1" lang="ru-RU" sz="1800" spc="-1" strike="noStrike">
                <a:solidFill>
                  <a:srgbClr val="296c04"/>
                </a:solidFill>
                <a:latin typeface="Arial"/>
              </a:rPr>
              <a:t>наших нед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4. </a:t>
            </a:r>
            <a:r>
              <a:rPr b="1" lang="ru-RU" sz="1800" spc="-1" strike="noStrike">
                <a:solidFill>
                  <a:srgbClr val="991f7f"/>
                </a:solidFill>
                <a:latin typeface="Arial"/>
              </a:rPr>
              <a:t>Зонтик тебе не пригодиться: дождей на Луне не бывает. Там вооб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991f7f"/>
                </a:solidFill>
                <a:latin typeface="Arial"/>
              </a:rPr>
              <a:t>нет воды, нет облаков, туманов и радуги. Дожди только метеоритны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991f7f"/>
                </a:solidFill>
                <a:latin typeface="Arial"/>
              </a:rPr>
              <a:t>каме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. Не забудь, что разговаривать сможешь только при помо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Радиопередатчиков. Звуков на Луне нет. Это из-за того, что нет атмосф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6.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думай, как ты будешь дышать? Ведь на Луне нет возд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7.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одумай, как тебе одеться, так как днём  поверхность Луны нагре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д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+130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градусов, а ночью охлаждается до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-170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граду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R:\Чувилина Валентина Анатольевна\луна\crop0004.jpg"/>
          <p:cNvPicPr/>
          <p:nvPr/>
        </p:nvPicPr>
        <p:blipFill>
          <a:blip r:embed="rId1"/>
          <a:stretch/>
        </p:blipFill>
        <p:spPr>
          <a:xfrm>
            <a:off x="428760" y="5143680"/>
            <a:ext cx="7643520" cy="171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3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1"/>
          <p:cNvSpPr/>
          <p:nvPr/>
        </p:nvSpPr>
        <p:spPr>
          <a:xfrm>
            <a:off x="967320" y="714240"/>
            <a:ext cx="7497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ee6612"/>
                </a:solidFill>
                <a:latin typeface="Arial"/>
              </a:rPr>
              <a:t>Луна-это спутник Зем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ee6612"/>
                </a:solidFill>
                <a:latin typeface="Arial"/>
              </a:rPr>
              <a:t>Сравни размеры Земли и Лу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R:\Чувилина Валентина Анатольевна\рисунки\Земля илуна.jpg"/>
          <p:cNvPicPr/>
          <p:nvPr/>
        </p:nvPicPr>
        <p:blipFill>
          <a:blip r:embed="rId1"/>
          <a:stretch/>
        </p:blipFill>
        <p:spPr>
          <a:xfrm>
            <a:off x="2143080" y="2000160"/>
            <a:ext cx="4285800" cy="33573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3"/>
          <p:cNvSpPr/>
          <p:nvPr/>
        </p:nvSpPr>
        <p:spPr>
          <a:xfrm>
            <a:off x="956880" y="5429160"/>
            <a:ext cx="76273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ee6612"/>
                </a:solidFill>
                <a:latin typeface="Arial"/>
              </a:rPr>
              <a:t>Луна движется вокруг Земли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ee6612"/>
                </a:solidFill>
                <a:latin typeface="Arial"/>
              </a:rPr>
              <a:t>обходит её кругом один раз в меся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072280" cy="92844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 cap="small">
                <a:solidFill>
                  <a:srgbClr val="cc0066"/>
                </a:solidFill>
                <a:latin typeface="Arial"/>
              </a:rPr>
              <a:t>Приглашаем вас совершить необычное     путешествие на Луну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00" name="Picture 2" descr="R:\Чувилина Валентина Анатольевна\рисунки\lun-01.jpg"/>
          <p:cNvPicPr/>
          <p:nvPr/>
        </p:nvPicPr>
        <p:blipFill>
          <a:blip r:embed="rId1"/>
          <a:stretch/>
        </p:blipFill>
        <p:spPr>
          <a:xfrm>
            <a:off x="928800" y="1428840"/>
            <a:ext cx="6500520" cy="4357440"/>
          </a:xfrm>
          <a:prstGeom prst="rect">
            <a:avLst/>
          </a:prstGeom>
          <a:ln w="0">
            <a:noFill/>
          </a:ln>
        </p:spPr>
      </p:pic>
      <p:sp>
        <p:nvSpPr>
          <p:cNvPr id="301" name="TextBox 4"/>
          <p:cNvSpPr/>
          <p:nvPr/>
        </p:nvSpPr>
        <p:spPr>
          <a:xfrm>
            <a:off x="744480" y="6215040"/>
            <a:ext cx="6827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Вас ждёт Луна и молодой меся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240" cy="59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вёзды:</a:t>
            </a:r>
            <a:br>
              <a:rPr sz="44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Звёзды- это огромные пылающие ………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Они кажутся нам маленькими точками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тому что находятся очень ………….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Звёзд на небе очень много, и люди объединили их в …………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На небе можно увидеть большой ковш- это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звездие ……….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2" descr="http://info-4all.ru/images/3ddb2e954cfe7b5e2e9992f030e36179.jpg"/>
          <p:cNvPicPr/>
          <p:nvPr/>
        </p:nvPicPr>
        <p:blipFill>
          <a:blip r:embed="rId1"/>
          <a:stretch/>
        </p:blipFill>
        <p:spPr>
          <a:xfrm>
            <a:off x="3000240" y="401760"/>
            <a:ext cx="2785680" cy="62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071800" y="500040"/>
            <a:ext cx="5714640" cy="27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до мною апельсин Ночью ясною виси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 ведь это же она!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пельсинная…..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2" descr="R:\Чувилина Валентина Анатольевна\рисунки\круглая.jpg"/>
          <p:cNvPicPr/>
          <p:nvPr/>
        </p:nvPicPr>
        <p:blipFill>
          <a:blip r:embed="rId1"/>
          <a:stretch/>
        </p:blipFill>
        <p:spPr>
          <a:xfrm>
            <a:off x="642960" y="3500280"/>
            <a:ext cx="3500280" cy="2714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R:\Чувилина Валентина Анатольевна\рисунки\долька.jpg"/>
          <p:cNvPicPr/>
          <p:nvPr/>
        </p:nvPicPr>
        <p:blipFill>
          <a:blip r:embed="rId2"/>
          <a:stretch/>
        </p:blipFill>
        <p:spPr>
          <a:xfrm>
            <a:off x="4857840" y="3500280"/>
            <a:ext cx="32014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a12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чему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Луна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ывает разной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R:\Чувилина Валентина Анатольевна\рисунки\Луна вовсех своих обличиях.jpg"/>
          <p:cNvPicPr/>
          <p:nvPr/>
        </p:nvPicPr>
        <p:blipFill>
          <a:blip r:embed="rId1"/>
          <a:stretch/>
        </p:blipFill>
        <p:spPr>
          <a:xfrm>
            <a:off x="2214720" y="2071800"/>
            <a:ext cx="39286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R:\Чувилина Валентина Анатольевна\рисунки\JMCAHPIID9CAUTKO83CARWYECPCAMQMS05CAAG9Y36CAG6IJL5CAF2M55ECAZRX049CA7K5AMPCA6CCPPLCAWKJ3FWCAYRHH1TCA34HK4ZCAFP8DRUCAZ79ANGCAT7A5VTCAPDGBH9CAFQRR8RCAQ4RR4R.jpg"/>
          <p:cNvPicPr/>
          <p:nvPr/>
        </p:nvPicPr>
        <p:blipFill>
          <a:blip r:embed="rId1"/>
          <a:stretch/>
        </p:blipFill>
        <p:spPr>
          <a:xfrm>
            <a:off x="785880" y="642960"/>
            <a:ext cx="2142720" cy="1807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R:\Чувилина Валентина Анатольевна\рисунки\WQCASXMLVJCAHOARWTCACQMWOUCA4OPW3HCAXD39YDCASM7QUCCAZRS2IHCANLRA0QCAWXC70XCA3BCOT6CAFSAU8WCA82J0WOCA3U8S7OCA7WLYFCCAIOVHRBCAXC5KQLCAITL30ZCAPS2URTCAXQA9NS.jpg"/>
          <p:cNvPicPr/>
          <p:nvPr/>
        </p:nvPicPr>
        <p:blipFill>
          <a:blip r:embed="rId2"/>
          <a:stretch/>
        </p:blipFill>
        <p:spPr>
          <a:xfrm>
            <a:off x="857160" y="2714760"/>
            <a:ext cx="2071440" cy="16426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R:\Чувилина Валентина Анатольевна\рисунки\круглая.jpg"/>
          <p:cNvPicPr/>
          <p:nvPr/>
        </p:nvPicPr>
        <p:blipFill>
          <a:blip r:embed="rId3"/>
          <a:stretch/>
        </p:blipFill>
        <p:spPr>
          <a:xfrm>
            <a:off x="785880" y="4572000"/>
            <a:ext cx="2142720" cy="17856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4"/>
          <p:cNvSpPr/>
          <p:nvPr/>
        </p:nvSpPr>
        <p:spPr>
          <a:xfrm>
            <a:off x="3588840" y="1357200"/>
            <a:ext cx="2956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астущая Лу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3600000" y="3143160"/>
            <a:ext cx="518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уна убывает-такое быв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6"/>
          <p:cNvSpPr/>
          <p:nvPr/>
        </p:nvSpPr>
        <p:spPr>
          <a:xfrm>
            <a:off x="3656880" y="5214960"/>
            <a:ext cx="2547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лная Лу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240" cy="157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 cap="small">
                <a:solidFill>
                  <a:srgbClr val="cc0099"/>
                </a:solidFill>
                <a:latin typeface="Arial"/>
              </a:rPr>
              <a:t>Почему у Месяца нет платья?</a:t>
            </a:r>
            <a:br>
              <a:rPr sz="3200"/>
            </a:br>
            <a:r>
              <a:rPr b="1" lang="ru-RU" sz="2400" spc="-1" strike="noStrike" cap="small">
                <a:solidFill>
                  <a:srgbClr val="cc0099"/>
                </a:solidFill>
                <a:latin typeface="Arial"/>
              </a:rPr>
              <a:t>(Сербская сказка)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5" name="Picture 2" descr="R:\Чувилина Валентина Анатольевна\рисунки\Игрушка.jpg"/>
          <p:cNvPicPr/>
          <p:nvPr/>
        </p:nvPicPr>
        <p:blipFill>
          <a:blip r:embed="rId1"/>
          <a:stretch/>
        </p:blipFill>
        <p:spPr>
          <a:xfrm>
            <a:off x="6786720" y="571320"/>
            <a:ext cx="1071360" cy="15714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R:\Чувилина Валентина Анатольевна\рисунки\Луна.jpg"/>
          <p:cNvPicPr/>
          <p:nvPr/>
        </p:nvPicPr>
        <p:blipFill>
          <a:blip r:embed="rId2"/>
          <a:stretch/>
        </p:blipFill>
        <p:spPr>
          <a:xfrm>
            <a:off x="500040" y="3000240"/>
            <a:ext cx="1999800" cy="24285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R:\Чувилина Валентина Анатольевна\рисунки\WQCASXMLVJCAHOARWTCACQMWOUCA4OPW3HCAXD39YDCASM7QUCCAZRS2IHCANLRA0QCAWXC70XCA3BCOT6CAFSAU8WCA82J0WOCA3U8S7OCA7WLYFCCAIOVHRBCAXC5KQLCAITL30ZCAPS2URTCAXQA9NS.jpg"/>
          <p:cNvPicPr/>
          <p:nvPr/>
        </p:nvPicPr>
        <p:blipFill>
          <a:blip r:embed="rId3"/>
          <a:stretch/>
        </p:blipFill>
        <p:spPr>
          <a:xfrm>
            <a:off x="3071880" y="3143160"/>
            <a:ext cx="1928520" cy="20714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R:\Чувилина Валентина Анатольевна\рисунки\ZHCAGN6L1LCAAVLIKICAAB6SCLCA10RF2PCANTQ679CA8QNSG9CAPNA7JSCA68SN7SCAMT068LCAX17ESECA39PICGCA8M9T42CAZPGOHKCA6ANGEQCA6VDBSYCA89ZIZ1CACI6GD0CAI46ADCCAKI80MH.jpg"/>
          <p:cNvPicPr/>
          <p:nvPr/>
        </p:nvPicPr>
        <p:blipFill>
          <a:blip r:embed="rId4"/>
          <a:stretch/>
        </p:blipFill>
        <p:spPr>
          <a:xfrm>
            <a:off x="5857920" y="3143160"/>
            <a:ext cx="1999800" cy="19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7467120" cy="928440"/>
          </a:xfrm>
          <a:prstGeom prst="rect">
            <a:avLst/>
          </a:prstGeom>
          <a:gradFill rotWithShape="0">
            <a:gsLst>
              <a:gs pos="0">
                <a:srgbClr val="ffe8e2"/>
              </a:gs>
              <a:gs pos="100000">
                <a:srgbClr val="ccffff"/>
              </a:gs>
            </a:gsLst>
            <a:lin ang="8100000"/>
          </a:gra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 cap="small">
                <a:solidFill>
                  <a:srgbClr val="ff0000"/>
                </a:solidFill>
                <a:latin typeface="Arial"/>
              </a:rPr>
              <a:t>Секрет Луны. Как она светит?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80" name="Picture 2" descr="R:\Чувилина Валентина Анатольевна\луна\crop0001.jpg"/>
          <p:cNvPicPr/>
          <p:nvPr/>
        </p:nvPicPr>
        <p:blipFill>
          <a:blip r:embed="rId1"/>
          <a:stretch/>
        </p:blipFill>
        <p:spPr>
          <a:xfrm>
            <a:off x="785880" y="1928880"/>
            <a:ext cx="7071840" cy="4285800"/>
          </a:xfrm>
          <a:prstGeom prst="rect">
            <a:avLst/>
          </a:prstGeom>
          <a:ln w="0">
            <a:noFill/>
          </a:ln>
        </p:spPr>
      </p:pic>
      <p:sp>
        <p:nvSpPr>
          <p:cNvPr id="281" name="TextBox 4"/>
          <p:cNvSpPr/>
          <p:nvPr/>
        </p:nvSpPr>
        <p:spPr>
          <a:xfrm>
            <a:off x="4000320" y="4929120"/>
            <a:ext cx="46634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уна сама не испускает света,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к зеркало, отражает свет Сол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R:\Чувилина Валентина Анатольевна\луна\crop0003.jpg"/>
          <p:cNvPicPr/>
          <p:nvPr/>
        </p:nvPicPr>
        <p:blipFill>
          <a:blip r:embed="rId1"/>
          <a:stretch/>
        </p:blipFill>
        <p:spPr>
          <a:xfrm>
            <a:off x="357120" y="500040"/>
            <a:ext cx="5786280" cy="3428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R:\Чувилина Валентина Анатольевна\рисунки\B7CA6XOKPYCAGBCZN9CA3O7HBVCAG4DPVSCA5I3WS1CAG1NHXLCA0907KYCA9A1FEVCA0OKHCRCAQ8ZUQNCAPW2PGICAMA0TJHCAKBWOWGCASM1LYECA1E6CBWCAS0X2VICA7PHMK6CA5IU7ZGCA8DZUJZ.jpg"/>
          <p:cNvPicPr/>
          <p:nvPr/>
        </p:nvPicPr>
        <p:blipFill>
          <a:blip r:embed="rId2"/>
          <a:stretch/>
        </p:blipFill>
        <p:spPr>
          <a:xfrm>
            <a:off x="642960" y="4071960"/>
            <a:ext cx="3785760" cy="2571480"/>
          </a:xfrm>
          <a:prstGeom prst="rect">
            <a:avLst/>
          </a:prstGeom>
          <a:ln w="0">
            <a:noFill/>
          </a:ln>
        </p:spPr>
      </p:pic>
      <p:sp>
        <p:nvSpPr>
          <p:cNvPr id="284" name="TextBox 3"/>
          <p:cNvSpPr/>
          <p:nvPr/>
        </p:nvSpPr>
        <p:spPr>
          <a:xfrm>
            <a:off x="4796280" y="5072040"/>
            <a:ext cx="2139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ес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  <Words>328</Words>
  <Paragraphs>43</Paragraphs>
  <Company>LIKT590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3:15:44Z</dcterms:created>
  <dc:creator>Чувилина</dc:creator>
  <dc:description/>
  <dc:language>en-US</dc:language>
  <cp:lastModifiedBy>Admin</cp:lastModifiedBy>
  <dcterms:modified xsi:type="dcterms:W3CDTF">2018-03-15T15:32:32Z</dcterms:modified>
  <cp:revision>76</cp:revision>
  <dc:subject/>
  <dc:title>Почему Солнце светит днём, звёзды- ночью, а на Луне не ж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