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3BC-78C5-4CCE-8AEE-0B2ADB47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18A-BC77-49FF-A309-5799CF1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788-7575-42F1-A880-030EE0F7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0FC-3CD0-4536-8B00-5DFEF2E7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2612-9C0B-4A2B-9BD7-D0814BD5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7EAB-DDD7-430A-996E-DF2D2F19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7AC8-EDB4-458E-B3B4-6FACE5D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1A53-2221-4C9D-A207-DBBC1511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924-E114-4F93-9EAF-8DF89AD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3587-743D-45D4-BB17-0082205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CDAA-0F91-4352-BDFA-862404F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FBF-3C30-4DDF-A11D-613085E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C281-0C4E-4351-8142-5A2E520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21F1-0435-4DE6-8ADA-8DF54D5C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3F1A-C57E-401E-8B3F-EFE03D46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33BA-D7AE-4AB9-A900-F944CC6B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1080-1F40-448B-B988-7BAC5771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D577-8078-4D7E-A417-52616578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D24A-2F1F-4444-8DE3-89384236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F0A09-4CCB-4238-973B-8E9D62FB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79EA-657D-4990-BE45-342A2032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0A07-7BFE-422E-B307-05E360B5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B72-0215-4193-B434-74A8042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FA53-C0ED-4ECA-BA8A-301FB4B1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FF0D-545E-48D9-B012-23ACE89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18E6-5F64-412E-A94C-FDE4674F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6640-3C4A-4316-9797-A836C59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6D5F-8DE3-4B07-B11B-47F6B733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8180-314F-45D2-80EF-818E640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23F7-FF19-407F-8326-FB03237F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E5BB-A23E-42E6-A4EC-8E774E03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81A7-04EB-405D-872F-1328E414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D702-8CE5-43BF-95BD-814837FC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EE1-0F5C-4A22-8D6A-2561CDE6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335E-93FF-467E-A4D0-6C9A172D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13D7-3B99-4D3F-8C12-7A282555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6ECF-4500-4326-B918-AEE7E0D5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9BD2-94FC-4AA0-AC7A-E9A540E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EC700-2621-4D2B-81F8-1904F39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5416-A4AA-40DA-8EE3-F414E769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4CDE-897F-4625-B739-D8E2B00B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D10C-4EF1-4BEB-AD82-4A94E453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E17C-BCD5-4629-9DF9-BB98B852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53AD0-E7DA-4DAF-A2E6-1F7B23C7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82B-8F7D-4E19-B828-9EF5289F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C3DB4-1678-442C-A315-E287BCA2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C8099D-22EA-44A1-980D-F91A8FC3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80B84-AF68-4DA6-90D0-CF534DD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DDD4E-63CA-428D-81A9-E0EA1A2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258F8-DC66-443C-AB65-BE41651E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23A0C-0E93-4213-B7E3-E465257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AE61-9985-42EF-9D5D-224FFD5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6A6CF-E24B-4EC2-BAAF-C28AAAC9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2CFFD-919F-43F8-A6DA-D2EB420C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73F16-04E6-4958-9C9C-795B362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79D-DB7F-46BE-8116-9F80008B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E0387-3A2C-48EF-9374-673471F1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264A-2963-4582-8EE4-4BDFB149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4E100-9C77-4B7A-BC74-B14BEBBE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20CD2-DB11-44F2-AEDF-6A035279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A2FC-2F6B-49E3-BAE3-252B4795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2C60-AA13-4712-8C92-1E5EEEF0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276F-01D6-49C0-B2A6-A6E2BD82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3F75-956A-41CB-B6B9-0A4495C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A457-560F-48D7-865A-BAAB6DD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81AE-FFB6-4B8D-8B94-5C0AF3ED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DAC-9B95-4070-B9E6-0209397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8C21D-4331-4626-A394-7457C1F0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3F0F7-C025-4AF2-A411-C2748202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04DB-BAF3-4126-B0B9-FB7FC4ED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5C0-C17F-4E6E-8C29-7AD9961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28E-FE16-47A6-8046-46BEFBF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B748BE-16A3-4DB1-AA31-61701AE5C56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E17F43-195F-442C-A027-FC3C7943121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8B8593-FD92-4947-A34A-99A1CB44073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7F8DC0-3AC7-4D77-8CDF-1227BF55687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9903606-E6B9-4439-A95C-E773FA09A7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6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dt" idx="16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7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0FA5D5-0672-4228-9E26-569C726A30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tirringtrip.com/cities/tyumenq.htm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7c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493992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лнце</a:t>
            </a:r>
            <a:br>
              <a:rPr sz="4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олнце-это огромный, пылающий …………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Солнце-это ближайшая к Земле ……………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Оно создаёт нам (время суток) …………….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По размерам Солнце………….., чем Земля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Нам Солнце кажется маленьким кружочком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тому что находиться ……….от Земли.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ttp://stirringtrip.com/img/dost-600/observatorija-2.jpg"/>
          <p:cNvPicPr/>
          <p:nvPr/>
        </p:nvPicPr>
        <p:blipFill>
          <a:blip r:embed="rId1"/>
          <a:stretch/>
        </p:blipFill>
        <p:spPr>
          <a:xfrm>
            <a:off x="357120" y="1143000"/>
            <a:ext cx="3772080" cy="221436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2"/>
          <p:cNvSpPr/>
          <p:nvPr/>
        </p:nvSpPr>
        <p:spPr>
          <a:xfrm>
            <a:off x="2286000" y="285840"/>
            <a:ext cx="4571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бсерв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в Тю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http://z79.d.sdska.ru/2-z79-d70f0eee-ec81-4bdf-8fdc-d7f412de40bd.jpg"/>
          <p:cNvPicPr/>
          <p:nvPr/>
        </p:nvPicPr>
        <p:blipFill>
          <a:blip r:embed="rId3"/>
          <a:stretch/>
        </p:blipFill>
        <p:spPr>
          <a:xfrm>
            <a:off x="2571840" y="3857760"/>
            <a:ext cx="3750120" cy="2499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http://pics.nashgorod.ru/imgfiles/newnews_imgs/2017/07/30/bf2c5e14d16301905f3c7d3305d783b8.jpg"/>
          <p:cNvPicPr/>
          <p:nvPr/>
        </p:nvPicPr>
        <p:blipFill>
          <a:blip r:embed="rId4"/>
          <a:stretch/>
        </p:blipFill>
        <p:spPr>
          <a:xfrm>
            <a:off x="4643280" y="1143000"/>
            <a:ext cx="3642840" cy="22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R:\Чувилина Валентина Анатольевна\рисунки\ANCAQI1JHOCAE80G82CAZEHEJVCA3T9X49CAX38WCQCA8UKRIPCAZ3506WCADS2WWWCAN1N9KUCA7AT0UFCAMN6Q31CA3Y55GUCA1X2G6VCAUXJJ7NCAJIWSJFCA2WDBL5CAO4VUGXCAABJW93CARRRD5S.jpg"/>
          <p:cNvPicPr/>
          <p:nvPr/>
        </p:nvPicPr>
        <p:blipFill>
          <a:blip r:embed="rId1"/>
          <a:stretch/>
        </p:blipFill>
        <p:spPr>
          <a:xfrm>
            <a:off x="285840" y="3214800"/>
            <a:ext cx="2642760" cy="335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R:\Чувилина Валентина Анатольевна\луна\crop0002.jpg"/>
          <p:cNvPicPr/>
          <p:nvPr/>
        </p:nvPicPr>
        <p:blipFill>
          <a:blip r:embed="rId2"/>
          <a:stretch/>
        </p:blipFill>
        <p:spPr>
          <a:xfrm>
            <a:off x="3143160" y="3143160"/>
            <a:ext cx="5285880" cy="34286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3"/>
          <p:cNvSpPr/>
          <p:nvPr/>
        </p:nvSpPr>
        <p:spPr>
          <a:xfrm>
            <a:off x="676080" y="142920"/>
            <a:ext cx="771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Что мы видим на поверхности Лу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лядя в телеско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142920" y="1214280"/>
            <a:ext cx="8601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Луне тёмные и светлые пят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ветлые пятна - это лунные моря, но в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т воды. Тёмные пятна – это ровные уча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Луне видны лунные кратеры. Они образовали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даров метеоритов – камней, упавших из косм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40000">
              <a:srgbClr val="ccfff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755280" y="142920"/>
            <a:ext cx="7301160" cy="516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есколько советов, улетающим на Лу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-111600" y="785880"/>
            <a:ext cx="9547920" cy="4753080"/>
          </a:xfrm>
          <a:prstGeom prst="rect">
            <a:avLst/>
          </a:prstGeom>
          <a:gradFill rotWithShape="0">
            <a:gsLst>
              <a:gs pos="40000">
                <a:srgbClr val="ffff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ебе захотелось попрыгать, учти, что подпрыгнешь в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6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выш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на Земле ,и падать будешь гораздо медленнее. Сила тяжести на Л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. Будешь прогуливаться – смотри под ноги. Вся поверхность усе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камнями, которые падают из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296c04"/>
                </a:solidFill>
                <a:latin typeface="Arial"/>
              </a:rPr>
              <a:t>Не забудь взять часы с календарём. На Луне один наш день дл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296c04"/>
                </a:solidFill>
                <a:latin typeface="Arial"/>
              </a:rPr>
              <a:t>наших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Зонтик тебе не пригодиться: дождей на Луне не бывает. Там вооб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нет воды, нет облаков, туманов и радуги. Дожди только метеоритны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991f7f"/>
                </a:solidFill>
                <a:latin typeface="Arial"/>
              </a:rPr>
              <a:t>ка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 Не забудь, что разговаривать сможешь только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Радиопередатчиков. Звуков на Луне нет. Это из-за того, что нет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умай, как ты будешь дышать? Ведь на Луне нет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7.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думай, как тебе одеться, так как днём  поверхность Луны нагре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130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градусов, а ночью охлаждается до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-170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R:\Чувилина Валентина Анатольевна\луна\crop0004.jpg"/>
          <p:cNvPicPr/>
          <p:nvPr/>
        </p:nvPicPr>
        <p:blipFill>
          <a:blip r:embed="rId1"/>
          <a:stretch/>
        </p:blipFill>
        <p:spPr>
          <a:xfrm>
            <a:off x="428760" y="5143680"/>
            <a:ext cx="7643520" cy="17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967320" y="714240"/>
            <a:ext cx="7497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e6612"/>
                </a:solidFill>
                <a:latin typeface="Arial"/>
              </a:rPr>
              <a:t>Луна-это спутник Зем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e6612"/>
                </a:solidFill>
                <a:latin typeface="Arial"/>
              </a:rPr>
              <a:t>Сравни размеры Земли и Лу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R:\Чувилина Валентина Анатольевна\рисунки\Земля илуна.jpg"/>
          <p:cNvPicPr/>
          <p:nvPr/>
        </p:nvPicPr>
        <p:blipFill>
          <a:blip r:embed="rId1"/>
          <a:stretch/>
        </p:blipFill>
        <p:spPr>
          <a:xfrm>
            <a:off x="2143080" y="2000160"/>
            <a:ext cx="4285800" cy="335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>
            <a:off x="956880" y="5429160"/>
            <a:ext cx="762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ee6612"/>
                </a:solidFill>
                <a:latin typeface="Arial"/>
              </a:rPr>
              <a:t>Луна движется вокруг Земл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ee6612"/>
                </a:solidFill>
                <a:latin typeface="Arial"/>
              </a:rPr>
              <a:t>обходит её кругом один раз в мес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072280" cy="9284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cc0066"/>
                </a:solidFill>
                <a:latin typeface="Arial"/>
              </a:rPr>
              <a:t>Приглашаем вас совершить необычное     путешествие на Луну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0" name="Picture 2" descr="R:\Чувилина Валентина Анатольевна\рисунки\lun-01.jpg"/>
          <p:cNvPicPr/>
          <p:nvPr/>
        </p:nvPicPr>
        <p:blipFill>
          <a:blip r:embed="rId1"/>
          <a:stretch/>
        </p:blipFill>
        <p:spPr>
          <a:xfrm>
            <a:off x="928800" y="1428840"/>
            <a:ext cx="6500520" cy="43574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744480" y="6215040"/>
            <a:ext cx="682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Вас ждёт Луна и молодой мес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59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вёзды: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вёзды- это огромные пылающие ……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ни кажутся нам маленькими точкам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ому что находятся очень …………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вёзд на небе очень много, и люди объединили их в …………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На небе можно увидеть большой ковш- эт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звездие ………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http://info-4all.ru/images/3ddb2e954cfe7b5e2e9992f030e36179.jpg"/>
          <p:cNvPicPr/>
          <p:nvPr/>
        </p:nvPicPr>
        <p:blipFill>
          <a:blip r:embed="rId1"/>
          <a:stretch/>
        </p:blipFill>
        <p:spPr>
          <a:xfrm>
            <a:off x="3000240" y="401760"/>
            <a:ext cx="2785680" cy="62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71800" y="500040"/>
            <a:ext cx="5714640" cy="27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мною апельсин Ночью ясною вис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ведь это же она!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ельсинная….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R:\Чувилина Валентина Анатольевна\рисунки\круглая.jpg"/>
          <p:cNvPicPr/>
          <p:nvPr/>
        </p:nvPicPr>
        <p:blipFill>
          <a:blip r:embed="rId1"/>
          <a:stretch/>
        </p:blipFill>
        <p:spPr>
          <a:xfrm>
            <a:off x="642960" y="3500280"/>
            <a:ext cx="3500280" cy="2714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R:\Чувилина Валентина Анатольевна\рисунки\долька.jpg"/>
          <p:cNvPicPr/>
          <p:nvPr/>
        </p:nvPicPr>
        <p:blipFill>
          <a:blip r:embed="rId2"/>
          <a:stretch/>
        </p:blipFill>
        <p:spPr>
          <a:xfrm>
            <a:off x="4857840" y="3500280"/>
            <a:ext cx="32014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a12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чему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Лун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ывает разной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R:\Чувилина Валентина Анатольевна\рисунки\Луна вовсех своих обличиях.jpg"/>
          <p:cNvPicPr/>
          <p:nvPr/>
        </p:nvPicPr>
        <p:blipFill>
          <a:blip r:embed="rId1"/>
          <a:stretch/>
        </p:blipFill>
        <p:spPr>
          <a:xfrm>
            <a:off x="2214720" y="2071800"/>
            <a:ext cx="3928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R:\Чувилина Валентина Анатольевна\рисунки\JMCAHPIID9CAUTKO83CARWYECPCAMQMS05CAAG9Y36CAG6IJL5CAF2M55ECAZRX049CA7K5AMPCA6CCPPLCAWKJ3FWCAYRHH1TCA34HK4ZCAFP8DRUCAZ79ANGCAT7A5VTCAPDGBH9CAFQRR8RCAQ4RR4R.jpg"/>
          <p:cNvPicPr/>
          <p:nvPr/>
        </p:nvPicPr>
        <p:blipFill>
          <a:blip r:embed="rId1"/>
          <a:stretch/>
        </p:blipFill>
        <p:spPr>
          <a:xfrm>
            <a:off x="785880" y="642960"/>
            <a:ext cx="2142720" cy="1807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R:\Чувилина Валентина Анатольевна\рисунки\WQCASXMLVJCAHOARWTCACQMWOUCA4OPW3HCAXD39YDCASM7QUCCAZRS2IHCANLRA0QCAWXC70XCA3BCOT6CAFSAU8WCA82J0WOCA3U8S7OCA7WLYFCCAIOVHRBCAXC5KQLCAITL30ZCAPS2URTCAXQA9NS.jpg"/>
          <p:cNvPicPr/>
          <p:nvPr/>
        </p:nvPicPr>
        <p:blipFill>
          <a:blip r:embed="rId2"/>
          <a:stretch/>
        </p:blipFill>
        <p:spPr>
          <a:xfrm>
            <a:off x="857160" y="2714760"/>
            <a:ext cx="2071440" cy="1642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R:\Чувилина Валентина Анатольевна\рисунки\круглая.jpg"/>
          <p:cNvPicPr/>
          <p:nvPr/>
        </p:nvPicPr>
        <p:blipFill>
          <a:blip r:embed="rId3"/>
          <a:stretch/>
        </p:blipFill>
        <p:spPr>
          <a:xfrm>
            <a:off x="785880" y="4572000"/>
            <a:ext cx="2142720" cy="17856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3588840" y="1357200"/>
            <a:ext cx="2956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тущая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600000" y="3143160"/>
            <a:ext cx="518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уна убывает-такое б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3656880" y="5214960"/>
            <a:ext cx="254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ная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240" cy="157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cc0099"/>
                </a:solidFill>
                <a:latin typeface="Arial"/>
              </a:rPr>
              <a:t>Почему у Месяца нет платья?</a:t>
            </a:r>
            <a:br>
              <a:rPr sz="3200"/>
            </a:br>
            <a:r>
              <a:rPr b="1" lang="ru-RU" sz="2400" spc="-1" strike="noStrike" cap="small">
                <a:solidFill>
                  <a:srgbClr val="cc0099"/>
                </a:solidFill>
                <a:latin typeface="Arial"/>
              </a:rPr>
              <a:t>(Сербская сказка)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5" name="Picture 2" descr="R:\Чувилина Валентина Анатольевна\рисунки\Игрушка.jpg"/>
          <p:cNvPicPr/>
          <p:nvPr/>
        </p:nvPicPr>
        <p:blipFill>
          <a:blip r:embed="rId1"/>
          <a:stretch/>
        </p:blipFill>
        <p:spPr>
          <a:xfrm>
            <a:off x="6786720" y="571320"/>
            <a:ext cx="1071360" cy="1571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R:\Чувилина Валентина Анатольевна\рисунки\Луна.jpg"/>
          <p:cNvPicPr/>
          <p:nvPr/>
        </p:nvPicPr>
        <p:blipFill>
          <a:blip r:embed="rId2"/>
          <a:stretch/>
        </p:blipFill>
        <p:spPr>
          <a:xfrm>
            <a:off x="500040" y="3000240"/>
            <a:ext cx="1999800" cy="2428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R:\Чувилина Валентина Анатольевна\рисунки\WQCASXMLVJCAHOARWTCACQMWOUCA4OPW3HCAXD39YDCASM7QUCCAZRS2IHCANLRA0QCAWXC70XCA3BCOT6CAFSAU8WCA82J0WOCA3U8S7OCA7WLYFCCAIOVHRBCAXC5KQLCAITL30ZCAPS2URTCAXQA9NS.jpg"/>
          <p:cNvPicPr/>
          <p:nvPr/>
        </p:nvPicPr>
        <p:blipFill>
          <a:blip r:embed="rId3"/>
          <a:stretch/>
        </p:blipFill>
        <p:spPr>
          <a:xfrm>
            <a:off x="3071880" y="3143160"/>
            <a:ext cx="1928520" cy="2071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R:\Чувилина Валентина Анатольевна\рисунки\ZHCAGN6L1LCAAVLIKICAAB6SCLCA10RF2PCANTQ679CA8QNSG9CAPNA7JSCA68SN7SCAMT068LCAX17ESECA39PICGCA8M9T42CAZPGOHKCA6ANGEQCA6VDBSYCA89ZIZ1CACI6GD0CAI46ADCCAKI80MH.jpg"/>
          <p:cNvPicPr/>
          <p:nvPr/>
        </p:nvPicPr>
        <p:blipFill>
          <a:blip r:embed="rId4"/>
          <a:stretch/>
        </p:blipFill>
        <p:spPr>
          <a:xfrm>
            <a:off x="5857920" y="3143160"/>
            <a:ext cx="1999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467120" cy="928440"/>
          </a:xfrm>
          <a:prstGeom prst="rect">
            <a:avLst/>
          </a:prstGeom>
          <a:gradFill rotWithShape="0">
            <a:gsLst>
              <a:gs pos="0">
                <a:srgbClr val="ffe8e2"/>
              </a:gs>
              <a:gs pos="100000">
                <a:srgbClr val="ccffff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ff0000"/>
                </a:solidFill>
                <a:latin typeface="Arial"/>
              </a:rPr>
              <a:t>Секрет Луны. Как она светит?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0" name="Picture 2" descr="R:\Чувилина Валентина Анатольевна\луна\crop0001.jpg"/>
          <p:cNvPicPr/>
          <p:nvPr/>
        </p:nvPicPr>
        <p:blipFill>
          <a:blip r:embed="rId1"/>
          <a:stretch/>
        </p:blipFill>
        <p:spPr>
          <a:xfrm>
            <a:off x="785880" y="1928880"/>
            <a:ext cx="7071840" cy="42858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4000320" y="4929120"/>
            <a:ext cx="46634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уна сама не испускает света,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зеркало, отражает све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R:\Чувилина Валентина Анатольевна\луна\crop0003.jpg"/>
          <p:cNvPicPr/>
          <p:nvPr/>
        </p:nvPicPr>
        <p:blipFill>
          <a:blip r:embed="rId1"/>
          <a:stretch/>
        </p:blipFill>
        <p:spPr>
          <a:xfrm>
            <a:off x="357120" y="500040"/>
            <a:ext cx="5786280" cy="3428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R:\Чувилина Валентина Анатольевна\рисунки\B7CA6XOKPYCAGBCZN9CA3O7HBVCAG4DPVSCA5I3WS1CAG1NHXLCA0907KYCA9A1FEVCA0OKHCRCAQ8ZUQNCAPW2PGICAMA0TJHCAKBWOWGCASM1LYECA1E6CBWCAS0X2VICA7PHMK6CA5IU7ZGCA8DZUJZ.jpg"/>
          <p:cNvPicPr/>
          <p:nvPr/>
        </p:nvPicPr>
        <p:blipFill>
          <a:blip r:embed="rId2"/>
          <a:stretch/>
        </p:blipFill>
        <p:spPr>
          <a:xfrm>
            <a:off x="642960" y="4071960"/>
            <a:ext cx="3785760" cy="257148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4796280" y="5072040"/>
            <a:ext cx="213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  <Words>328</Words>
  <Paragraphs>43</Paragraphs>
  <Company>LIKT590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3:15:44Z</dcterms:created>
  <dc:creator>Чувилина</dc:creator>
  <dc:description/>
  <dc:language>en-US</dc:language>
  <cp:lastModifiedBy>Admin</cp:lastModifiedBy>
  <dcterms:modified xsi:type="dcterms:W3CDTF">2018-03-15T15:32:32Z</dcterms:modified>
  <cp:revision>76</cp:revision>
  <dc:subject/>
  <dc:title>Почему Солнце светит днём, звёзды- ночью, а на Луне не ж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