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2803-D691-4CA7-8FE0-DDFED454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79C6-7CC8-4C68-BD51-EE223722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A1D4-A8A5-4675-9A1A-1545BD9B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00AF1-73AC-4F70-9FC3-B4A981B4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C4E3-94B6-4B59-9D6C-0D72FD8E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DC69-E16E-46BC-BC6F-BB9E198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B185-0F4D-47D9-96D8-B28DF92F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0FD8-E137-4A8C-9C98-6EDF4411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753E-3B5A-4865-AC15-3B1D794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4664-A110-4F4C-9ECC-5B757890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6DF-D933-44B9-ABAD-5CF4C125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1F33-3B88-4023-8870-FA3F1DC4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24B9-58AC-48E2-BFDA-54F834A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8CC2-C21E-468D-87AC-0AC6322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EF84-0414-472A-9FBC-D5E8EFCA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B567-C164-4DBC-B8CA-0810605F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6B69-7104-483B-A150-564E0EFA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2353-E315-46C8-BD64-427CFAC6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0685-25D3-46CB-BE11-3F34524F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EE69-CC6F-4D64-8436-86D50BC5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9273-10AD-49BF-A655-F2249E2B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3995-3B08-4D14-BDCF-D8493D75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7E75-6044-4CF4-AFC5-AC8BAC89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E947-E805-42B0-9F8D-CD6F5E2A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46F4-31A7-4D54-8311-EF788AC0D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623F-B9AA-4AC9-8246-7661F9FADA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23800" y="4508640"/>
            <a:ext cx="63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итч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«О котах и хвостах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2" descr="C:\Users\Maks\Desktop\кот и хвост.jpg"/>
          <p:cNvPicPr/>
          <p:nvPr/>
        </p:nvPicPr>
        <p:blipFill>
          <a:blip r:embed="rId1"/>
          <a:stretch/>
        </p:blipFill>
        <p:spPr>
          <a:xfrm>
            <a:off x="826920" y="1484280"/>
            <a:ext cx="7729560" cy="3168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539640" y="2142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зентацию подготови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опатина Л.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Косой глаз волка не боится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Эй, косой глаз, ты и волка не боишься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757600" y="836640"/>
            <a:ext cx="375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Сравни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1071720" y="21420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м  нам   при  общен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ожет   обращени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людям, звёздам или птицам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но  смело  обратить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лько,  друг,  не забывай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пятые  расставля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3" descr="j0343297"/>
          <p:cNvPicPr/>
          <p:nvPr/>
        </p:nvPicPr>
        <p:blipFill>
          <a:blip r:embed="rId1"/>
          <a:stretch/>
        </p:blipFill>
        <p:spPr>
          <a:xfrm>
            <a:off x="285840" y="3714840"/>
            <a:ext cx="2357280" cy="2571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0cb2c0928637"/>
          <p:cNvPicPr/>
          <p:nvPr/>
        </p:nvPicPr>
        <p:blipFill>
          <a:blip r:embed="rId1"/>
          <a:stretch/>
        </p:blipFill>
        <p:spPr>
          <a:xfrm>
            <a:off x="250920" y="1197000"/>
            <a:ext cx="8643960" cy="5413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fdfe9"/>
                </a:solidFill>
                <a:latin typeface="Garamond"/>
              </a:rPr>
              <a:t>Спасибо за работу на уроке!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1571760" y="361440"/>
            <a:ext cx="624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Рисунок 199" descr="1.jpg"/>
          <p:cNvPicPr/>
          <p:nvPr/>
        </p:nvPicPr>
        <p:blipFill>
          <a:blip r:embed="rId1"/>
          <a:srcRect l="0" t="24494" r="5326" b="2613"/>
          <a:stretch/>
        </p:blipFill>
        <p:spPr>
          <a:xfrm>
            <a:off x="500040" y="1214280"/>
            <a:ext cx="8286840" cy="5286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00"/>
          <p:cNvSpPr/>
          <p:nvPr/>
        </p:nvSpPr>
        <p:spPr>
          <a:xfrm>
            <a:off x="755640" y="33336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Garamond"/>
              </a:rPr>
              <a:t>КРОССВОР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Box 201"/>
          <p:cNvSpPr/>
          <p:nvPr/>
        </p:nvSpPr>
        <p:spPr>
          <a:xfrm>
            <a:off x="1357200" y="157176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Д   О  П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Л  Н  Е  Н  И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Box 202"/>
          <p:cNvSpPr/>
          <p:nvPr/>
        </p:nvSpPr>
        <p:spPr>
          <a:xfrm>
            <a:off x="2286000" y="214308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О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Б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С   Т   О  Я  Т  Е  Л  Ь   С  Т  В  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Box 203"/>
          <p:cNvSpPr/>
          <p:nvPr/>
        </p:nvSpPr>
        <p:spPr>
          <a:xfrm>
            <a:off x="928800" y="257184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О  Д  Н  О 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 О  Д  Н Ы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Box 204"/>
          <p:cNvSpPr/>
          <p:nvPr/>
        </p:nvSpPr>
        <p:spPr>
          <a:xfrm>
            <a:off x="1857240" y="31431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С  К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 З   У  Е  М О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Box 205"/>
          <p:cNvSpPr/>
          <p:nvPr/>
        </p:nvSpPr>
        <p:spPr>
          <a:xfrm>
            <a:off x="928800" y="36432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О   Б  О  Б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Щ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А Ю Щ Е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Box 206"/>
          <p:cNvSpPr/>
          <p:nvPr/>
        </p:nvSpPr>
        <p:spPr>
          <a:xfrm>
            <a:off x="1357200" y="4143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О  П  Р 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Д   Е  Л  Е  Н  И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Box 208"/>
          <p:cNvSpPr/>
          <p:nvPr/>
        </p:nvSpPr>
        <p:spPr>
          <a:xfrm>
            <a:off x="1857240" y="46432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П  У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К  Т  У   А  Ц  И  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Box 209"/>
          <p:cNvSpPr/>
          <p:nvPr/>
        </p:nvSpPr>
        <p:spPr>
          <a:xfrm>
            <a:off x="2214720" y="514368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С 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Н  Т  А   К  С  И  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Box 210"/>
          <p:cNvSpPr/>
          <p:nvPr/>
        </p:nvSpPr>
        <p:spPr>
          <a:xfrm>
            <a:off x="928800" y="56437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П  О  Д  Л  </a:t>
            </a:r>
            <a:r>
              <a:rPr b="1" lang="ru-RU" sz="2800" spc="-1" strike="noStrike">
                <a:solidFill>
                  <a:srgbClr val="3974ae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13131b"/>
                </a:solidFill>
                <a:latin typeface="Times New Roman"/>
                <a:ea typeface="Times New Roman"/>
              </a:rPr>
              <a:t>  Ж  А Щ  Е  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5400" spc="-1" strike="noStrike" u="sng">
                <a:solidFill>
                  <a:srgbClr val="ffff00"/>
                </a:solidFill>
                <a:uFillTx/>
                <a:latin typeface="Garamond"/>
              </a:rPr>
              <a:t>Тема урока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Garamond"/>
              </a:rPr>
              <a:t>Обращение. Знаки препинания в предложении с обращением.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060560" y="765000"/>
            <a:ext cx="7127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Garamond"/>
              </a:rPr>
              <a:t>Цель урока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Научиться находить обращения в предложении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правильно расставлять знаки препинания при обращении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j0440424.gif"/>
          <p:cNvPicPr/>
          <p:nvPr/>
        </p:nvPicPr>
        <p:blipFill>
          <a:blip r:embed="rId1"/>
          <a:stretch/>
        </p:blipFill>
        <p:spPr>
          <a:xfrm>
            <a:off x="179280" y="189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826920" y="692280"/>
            <a:ext cx="814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скажи нам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щение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ты значишь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скрываешь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с тобою поступать, чтоб нам грамотными стать?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"/>
          <p:cNvPicPr/>
          <p:nvPr/>
        </p:nvPicPr>
        <p:blipFill>
          <a:blip r:embed="rId1"/>
          <a:stretch/>
        </p:blipFill>
        <p:spPr>
          <a:xfrm>
            <a:off x="7719840" y="3176640"/>
            <a:ext cx="1424160" cy="194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nlit-435"/>
          <p:cNvPicPr/>
          <p:nvPr/>
        </p:nvPicPr>
        <p:blipFill>
          <a:blip r:embed="rId2"/>
          <a:stretch/>
        </p:blipFill>
        <p:spPr>
          <a:xfrm>
            <a:off x="250920" y="4653000"/>
            <a:ext cx="1468440" cy="198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pushkin_skazki-zkd_large"/>
          <p:cNvPicPr/>
          <p:nvPr/>
        </p:nvPicPr>
        <p:blipFill>
          <a:blip r:embed="rId3"/>
          <a:stretch/>
        </p:blipFill>
        <p:spPr>
          <a:xfrm>
            <a:off x="0" y="25560"/>
            <a:ext cx="1343160" cy="1773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915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Garamond"/>
              </a:rPr>
              <a:t>  </a:t>
            </a: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Зачем ты, Балда, к нам                  залез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Ветер, ветер! Ты могуч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Свет мой, зеркальце, скажи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           </a:t>
            </a: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Бог с тобою, золотая рыбка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6" descr="8"/>
          <p:cNvPicPr/>
          <p:nvPr/>
        </p:nvPicPr>
        <p:blipFill>
          <a:blip r:embed="rId4"/>
          <a:stretch/>
        </p:blipFill>
        <p:spPr>
          <a:xfrm>
            <a:off x="7804080" y="0"/>
            <a:ext cx="1339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50920" y="11592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Зачем ты, Балда, к нам залез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К человеку, сущ. в им.пад.,                 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Ветер, ветер! Ты могуч, ты гоняешь стаи ту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К природе, сущ. в им.пад.,              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Свет мой, зеркальце, скажи да всю правду долож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К предмету, сущ. в им.пад.,              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aramond"/>
              </a:rPr>
              <a:t>Бог с тобою, золотая рыбк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К животному, прилаг. + сущ. в им.пад.,               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867280" y="765000"/>
            <a:ext cx="914400" cy="2890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О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796000" y="2565360"/>
            <a:ext cx="914400" cy="2872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!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796000" y="4365720"/>
            <a:ext cx="914400" cy="2872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о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443640" y="5661000"/>
            <a:ext cx="914400" cy="2872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бращение – это слово (или сочетание слов), называющее того, к кому обращаются с речью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бращение всегда имеет форму именительного падежа и выражается существительны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6"/>
          <p:cNvSpPr/>
          <p:nvPr/>
        </p:nvSpPr>
        <p:spPr>
          <a:xfrm rot="13462200">
            <a:off x="3222360" y="3962160"/>
            <a:ext cx="477720" cy="780840"/>
          </a:xfrm>
          <a:prstGeom prst="upArrow">
            <a:avLst>
              <a:gd name="adj1" fmla="val 50000"/>
              <a:gd name="adj2" fmla="val 2824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7"/>
          <p:cNvSpPr/>
          <p:nvPr/>
        </p:nvSpPr>
        <p:spPr>
          <a:xfrm rot="8797200">
            <a:off x="4998600" y="3997440"/>
            <a:ext cx="411120" cy="830160"/>
          </a:xfrm>
          <a:prstGeom prst="upArrow">
            <a:avLst>
              <a:gd name="adj1" fmla="val 50000"/>
              <a:gd name="adj2" fmla="val 2754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4397400" y="2338560"/>
            <a:ext cx="293760" cy="1444320"/>
          </a:xfrm>
          <a:prstGeom prst="upArrow">
            <a:avLst>
              <a:gd name="adj1" fmla="val 50000"/>
              <a:gd name="adj2" fmla="val 37353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4"/>
          <p:cNvSpPr/>
          <p:nvPr/>
        </p:nvSpPr>
        <p:spPr>
          <a:xfrm rot="19367400">
            <a:off x="3090960" y="1512360"/>
            <a:ext cx="433440" cy="2381400"/>
          </a:xfrm>
          <a:prstGeom prst="upArrow">
            <a:avLst>
              <a:gd name="adj1" fmla="val 50000"/>
              <a:gd name="adj2" fmla="val 137355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15"/>
          <p:cNvSpPr/>
          <p:nvPr/>
        </p:nvSpPr>
        <p:spPr>
          <a:xfrm rot="1618200">
            <a:off x="5814720" y="1609200"/>
            <a:ext cx="433440" cy="2325960"/>
          </a:xfrm>
          <a:prstGeom prst="upArrow">
            <a:avLst>
              <a:gd name="adj1" fmla="val 50000"/>
              <a:gd name="adj2" fmla="val 13415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79280" y="260280"/>
            <a:ext cx="3276720" cy="1449360"/>
          </a:xfrm>
          <a:prstGeom prst="flowChartConnector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зывает тог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 кому обращаю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речь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708280" y="2565360"/>
            <a:ext cx="3670200" cy="1584360"/>
          </a:xfrm>
          <a:prstGeom prst="flowChartConnector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015720" y="3090960"/>
            <a:ext cx="28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818320" y="144360"/>
            <a:ext cx="3240000" cy="1441440"/>
          </a:xfrm>
          <a:prstGeom prst="flowChartConnector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яв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леном предлож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3089160" y="938160"/>
            <a:ext cx="3203640" cy="14004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жет передава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ношение говорящ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0" y="2565360"/>
            <a:ext cx="3146400" cy="129528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лово ил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четание сл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5688000" y="2637000"/>
            <a:ext cx="3456000" cy="15840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тонацион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4594320" y="4708440"/>
            <a:ext cx="3456000" cy="158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жет находить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начале, в середи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в конц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лож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25440" y="4456080"/>
            <a:ext cx="3456000" cy="158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пятым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восклицательны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к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13"/>
          <p:cNvSpPr/>
          <p:nvPr/>
        </p:nvSpPr>
        <p:spPr>
          <a:xfrm rot="18054600">
            <a:off x="2717280" y="3277080"/>
            <a:ext cx="433080" cy="647640"/>
          </a:xfrm>
          <a:prstGeom prst="upArrow">
            <a:avLst>
              <a:gd name="adj1" fmla="val 50000"/>
              <a:gd name="adj2" fmla="val 37386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18"/>
          <p:cNvSpPr/>
          <p:nvPr/>
        </p:nvSpPr>
        <p:spPr>
          <a:xfrm rot="3593400">
            <a:off x="5617800" y="337356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1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1:48:13Z</dcterms:created>
  <dc:creator>Андрей</dc:creator>
  <dc:description/>
  <dc:language>en-US</dc:language>
  <cp:lastModifiedBy>Maks</cp:lastModifiedBy>
  <dcterms:modified xsi:type="dcterms:W3CDTF">2018-03-15T15:35:35Z</dcterms:modified>
  <cp:revision>25</cp:revision>
  <dc:subject/>
  <dc:title>Слайд 1</dc:title>
</cp:coreProperties>
</file>