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4FAD-58FA-4AE1-82A7-518EB0B8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1832-E2A7-4896-B951-4B6578FF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AD0A-5229-431D-98E0-ACD310BA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7FCD-60D8-4D28-A1E4-630C927A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EE41-953D-4D32-8A5C-39516BB4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387F-57DA-4DCB-856D-54171705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784D-E4F4-4DE9-BBE7-308029B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2247-3AD4-4CDB-9A63-974E691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894-ECE9-4669-89F7-31BD9A3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DCC-FA35-4685-825B-23F26F2B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7440-33F8-4E41-B290-05C295C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12B1-CE33-43BC-B67E-080B3E5E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983-AAD2-468F-9E99-72A030FE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D2C-FAEB-4A04-9494-FCC55A7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723C-E896-47FB-808A-0F4172B8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CE9E-2A80-4841-8FF7-A4BC5A5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17E9-5297-41E0-BD93-9F422C22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BD3C-87D8-4313-AD26-60C8738F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77A0-41E3-42AF-AA11-F923B4C5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0366-6C4C-4058-B69D-1E8B740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8B06-CC0C-4C56-9C57-B05760A3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B010-4CAD-47F7-AFD5-D4D01B0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FFC3-904D-4E23-9ED1-549BE30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9F25-937E-4F67-A700-53E85BB2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A61A-CC89-4AFA-ABA9-2D1A2E0A2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3AC9-19D4-4C01-AB1F-AF0F885485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23800" y="4508640"/>
            <a:ext cx="63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итч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«О котах и хвостах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" descr="C:\Users\Maks\Desktop\кот и хвост.jpg"/>
          <p:cNvPicPr/>
          <p:nvPr/>
        </p:nvPicPr>
        <p:blipFill>
          <a:blip r:embed="rId1"/>
          <a:stretch/>
        </p:blipFill>
        <p:spPr>
          <a:xfrm>
            <a:off x="826920" y="1484280"/>
            <a:ext cx="7729560" cy="3168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539640" y="2142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зентацию подготови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опатина Л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Косой глаз волка не боится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Эй, косой глаз, ты и волка не боишься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757600" y="836640"/>
            <a:ext cx="375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Сравн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071720" y="21420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м  нам   при  общен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жет   обращен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людям, звёздам или птицам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но  смело  обратить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лько,  друг,  не забывай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ятые  расставля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3" descr="j0343297"/>
          <p:cNvPicPr/>
          <p:nvPr/>
        </p:nvPicPr>
        <p:blipFill>
          <a:blip r:embed="rId1"/>
          <a:stretch/>
        </p:blipFill>
        <p:spPr>
          <a:xfrm>
            <a:off x="285840" y="3714840"/>
            <a:ext cx="2357280" cy="2571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0cb2c0928637"/>
          <p:cNvPicPr/>
          <p:nvPr/>
        </p:nvPicPr>
        <p:blipFill>
          <a:blip r:embed="rId1"/>
          <a:stretch/>
        </p:blipFill>
        <p:spPr>
          <a:xfrm>
            <a:off x="250920" y="1197000"/>
            <a:ext cx="8643960" cy="5413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fdfe9"/>
                </a:solidFill>
                <a:latin typeface="Garamond"/>
              </a:rPr>
              <a:t>Спасибо за работу на уроке!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1571760" y="361440"/>
            <a:ext cx="624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Рисунок 199" descr="1.jpg"/>
          <p:cNvPicPr/>
          <p:nvPr/>
        </p:nvPicPr>
        <p:blipFill>
          <a:blip r:embed="rId1"/>
          <a:srcRect l="0" t="24494" r="5326" b="2613"/>
          <a:stretch/>
        </p:blipFill>
        <p:spPr>
          <a:xfrm>
            <a:off x="500040" y="1214280"/>
            <a:ext cx="8286840" cy="5286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0"/>
          <p:cNvSpPr/>
          <p:nvPr/>
        </p:nvSpPr>
        <p:spPr>
          <a:xfrm>
            <a:off x="755640" y="3333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aramond"/>
              </a:rPr>
              <a:t>КРОССВОР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Box 201"/>
          <p:cNvSpPr/>
          <p:nvPr/>
        </p:nvSpPr>
        <p:spPr>
          <a:xfrm>
            <a:off x="1357200" y="15717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Д   О  П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Л  Н  Е  Н  И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Box 202"/>
          <p:cNvSpPr/>
          <p:nvPr/>
        </p:nvSpPr>
        <p:spPr>
          <a:xfrm>
            <a:off x="2286000" y="214308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Б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С   Т   О  Я  Т  Е  Л  Ь   С  Т  В  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Box 203"/>
          <p:cNvSpPr/>
          <p:nvPr/>
        </p:nvSpPr>
        <p:spPr>
          <a:xfrm>
            <a:off x="928800" y="257184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Д  Н  О 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 О  Д  Н Ы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Box 204"/>
          <p:cNvSpPr/>
          <p:nvPr/>
        </p:nvSpPr>
        <p:spPr>
          <a:xfrm>
            <a:off x="1857240" y="3143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С  К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 З   У  Е  М О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Box 205"/>
          <p:cNvSpPr/>
          <p:nvPr/>
        </p:nvSpPr>
        <p:spPr>
          <a:xfrm>
            <a:off x="928800" y="36432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 Б  О  Б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Щ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А Ю Щ Е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Box 206"/>
          <p:cNvSpPr/>
          <p:nvPr/>
        </p:nvSpPr>
        <p:spPr>
          <a:xfrm>
            <a:off x="1357200" y="4143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П  Р 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Д   Е  Л  Е  Н  И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Box 208"/>
          <p:cNvSpPr/>
          <p:nvPr/>
        </p:nvSpPr>
        <p:spPr>
          <a:xfrm>
            <a:off x="1857240" y="46432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П  У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К  Т  У   А  Ц  И  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Box 209"/>
          <p:cNvSpPr/>
          <p:nvPr/>
        </p:nvSpPr>
        <p:spPr>
          <a:xfrm>
            <a:off x="2214720" y="514368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С 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Н  Т  А   К  С  И  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210"/>
          <p:cNvSpPr/>
          <p:nvPr/>
        </p:nvSpPr>
        <p:spPr>
          <a:xfrm>
            <a:off x="928800" y="56437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П  О  Д  Л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Ж  А Щ  Е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5400" spc="-1" strike="noStrike" u="sng">
                <a:solidFill>
                  <a:srgbClr val="ffff00"/>
                </a:solidFill>
                <a:uFillTx/>
                <a:latin typeface="Garamond"/>
              </a:rPr>
              <a:t>Тема урока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Обращение. Знаки препинания в предложении с обращением.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060560" y="765000"/>
            <a:ext cx="712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Garamond"/>
              </a:rPr>
              <a:t>Цель урока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Научиться находить обращения в предложении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правильно расставлять знаки препинания при обращении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j0440424.gif"/>
          <p:cNvPicPr/>
          <p:nvPr/>
        </p:nvPicPr>
        <p:blipFill>
          <a:blip r:embed="rId1"/>
          <a:stretch/>
        </p:blipFill>
        <p:spPr>
          <a:xfrm>
            <a:off x="179280" y="18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826920" y="692280"/>
            <a:ext cx="814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скажи нам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щение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ты значиш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скрываешь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с тобою поступать, чтоб нам грамотными стать?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"/>
          <p:cNvPicPr/>
          <p:nvPr/>
        </p:nvPicPr>
        <p:blipFill>
          <a:blip r:embed="rId1"/>
          <a:stretch/>
        </p:blipFill>
        <p:spPr>
          <a:xfrm>
            <a:off x="7719840" y="3176640"/>
            <a:ext cx="1424160" cy="194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nlit-435"/>
          <p:cNvPicPr/>
          <p:nvPr/>
        </p:nvPicPr>
        <p:blipFill>
          <a:blip r:embed="rId2"/>
          <a:stretch/>
        </p:blipFill>
        <p:spPr>
          <a:xfrm>
            <a:off x="250920" y="4653000"/>
            <a:ext cx="1468440" cy="198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ushkin_skazki-zkd_large"/>
          <p:cNvPicPr/>
          <p:nvPr/>
        </p:nvPicPr>
        <p:blipFill>
          <a:blip r:embed="rId3"/>
          <a:stretch/>
        </p:blipFill>
        <p:spPr>
          <a:xfrm>
            <a:off x="0" y="25560"/>
            <a:ext cx="1343160" cy="1773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915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Garamond"/>
              </a:rPr>
              <a:t>  </a:t>
            </a: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Зачем ты, Балда, к нам                  залез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Ветер, ветер! Ты могуч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Свет мой, зеркальце, скажи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Бог с тобою, золотая рыбка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8"/>
          <p:cNvPicPr/>
          <p:nvPr/>
        </p:nvPicPr>
        <p:blipFill>
          <a:blip r:embed="rId4"/>
          <a:stretch/>
        </p:blipFill>
        <p:spPr>
          <a:xfrm>
            <a:off x="7804080" y="0"/>
            <a:ext cx="1339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50920" y="11592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Зачем ты, Балда, к нам залез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человеку, сущ. в им.пад.,                 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Ветер, ветер! Ты могуч, ты гоняешь стаи ту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природе, сущ. в им.пад.,              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Свет мой, зеркальце, скажи да всю правду долож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предмету, сущ. в им.пад.,              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Бог с тобою, золотая рыбк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животному, прилаг. + сущ. в им.пад.,              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867280" y="765000"/>
            <a:ext cx="914400" cy="2890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796000" y="2565360"/>
            <a:ext cx="91440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!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796000" y="4365720"/>
            <a:ext cx="91440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443640" y="5661000"/>
            <a:ext cx="91440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бращение – это слово (или сочетание слов), называющее того, к кому обращаются с речью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бращение всегда имеет форму именительного падежа и выражается существительны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6"/>
          <p:cNvSpPr/>
          <p:nvPr/>
        </p:nvSpPr>
        <p:spPr>
          <a:xfrm rot="13462200">
            <a:off x="3222360" y="3962160"/>
            <a:ext cx="477720" cy="780840"/>
          </a:xfrm>
          <a:prstGeom prst="upArrow">
            <a:avLst>
              <a:gd name="adj1" fmla="val 50000"/>
              <a:gd name="adj2" fmla="val 2824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7"/>
          <p:cNvSpPr/>
          <p:nvPr/>
        </p:nvSpPr>
        <p:spPr>
          <a:xfrm rot="8797200">
            <a:off x="4998600" y="3997440"/>
            <a:ext cx="411120" cy="830160"/>
          </a:xfrm>
          <a:prstGeom prst="upArrow">
            <a:avLst>
              <a:gd name="adj1" fmla="val 50000"/>
              <a:gd name="adj2" fmla="val 2754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4397400" y="2338560"/>
            <a:ext cx="293760" cy="1444320"/>
          </a:xfrm>
          <a:prstGeom prst="upArrow">
            <a:avLst>
              <a:gd name="adj1" fmla="val 50000"/>
              <a:gd name="adj2" fmla="val 3735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4"/>
          <p:cNvSpPr/>
          <p:nvPr/>
        </p:nvSpPr>
        <p:spPr>
          <a:xfrm rot="19367400">
            <a:off x="3090960" y="1512360"/>
            <a:ext cx="433440" cy="2381400"/>
          </a:xfrm>
          <a:prstGeom prst="upArrow">
            <a:avLst>
              <a:gd name="adj1" fmla="val 50000"/>
              <a:gd name="adj2" fmla="val 137355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5"/>
          <p:cNvSpPr/>
          <p:nvPr/>
        </p:nvSpPr>
        <p:spPr>
          <a:xfrm rot="1618200">
            <a:off x="5814720" y="1609200"/>
            <a:ext cx="433440" cy="2325960"/>
          </a:xfrm>
          <a:prstGeom prst="upArrow">
            <a:avLst>
              <a:gd name="adj1" fmla="val 50000"/>
              <a:gd name="adj2" fmla="val 13415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79280" y="260280"/>
            <a:ext cx="3276720" cy="144936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зывает тог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 кому обращаю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реч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708280" y="2565360"/>
            <a:ext cx="3670200" cy="1584360"/>
          </a:xfrm>
          <a:prstGeom prst="flowChartConnector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15720" y="309096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818320" y="144360"/>
            <a:ext cx="3240000" cy="144144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яв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леном предлож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089160" y="938160"/>
            <a:ext cx="3203640" cy="14004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ет передав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ошение говорящ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0" y="2565360"/>
            <a:ext cx="3146400" cy="129528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лово и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четание сл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5688000" y="2637000"/>
            <a:ext cx="3456000" cy="15840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онацион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4594320" y="4708440"/>
            <a:ext cx="3456000" cy="158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ет находить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ачале, в середи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в конц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25440" y="4456080"/>
            <a:ext cx="3456000" cy="158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пяты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восклицательны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13"/>
          <p:cNvSpPr/>
          <p:nvPr/>
        </p:nvSpPr>
        <p:spPr>
          <a:xfrm rot="18054600">
            <a:off x="2717280" y="3277080"/>
            <a:ext cx="433080" cy="647640"/>
          </a:xfrm>
          <a:prstGeom prst="upArrow">
            <a:avLst>
              <a:gd name="adj1" fmla="val 50000"/>
              <a:gd name="adj2" fmla="val 3738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8"/>
          <p:cNvSpPr/>
          <p:nvPr/>
        </p:nvSpPr>
        <p:spPr>
          <a:xfrm rot="3593400">
            <a:off x="5617800" y="33735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1:48:13Z</dcterms:created>
  <dc:creator>Андрей</dc:creator>
  <dc:description/>
  <dc:language>en-US</dc:language>
  <cp:lastModifiedBy>Maks</cp:lastModifiedBy>
  <dcterms:modified xsi:type="dcterms:W3CDTF">2018-03-15T15:35:35Z</dcterms:modified>
  <cp:revision>25</cp:revision>
  <dc:subject/>
  <dc:title>Слайд 1</dc:title>
</cp:coreProperties>
</file>