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75E6-04B9-4AF6-8C9D-5506CC092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D6A6-2955-49D5-84B9-82194146AD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96A-A041-427E-9BC9-0B7AA2F7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CD6-BE27-4F10-A491-410AA436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E3EFE-2DC2-4706-98BA-68128AD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CD443-050E-445D-99E3-389E7858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68F46-933A-4021-A3D8-1AAA27A0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284C9-CBA2-4E0C-8DC6-1A13C21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E8734-1FD7-42E6-A773-FCA8D27E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2CD5-2BF1-4832-A3D3-4F310B6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396E8-6D22-4A19-92B0-4970F2A9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0395F-1D13-414B-A271-9C12BD05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B41E8-9C1F-4BA3-AA4E-3AED4CEC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4C107-D804-49A4-BEBD-3B3A0002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C31-94D6-4281-A042-F71AA3A1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F1B56-51FD-4A3D-B59C-D221476F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3A0EF-0639-4052-8892-47F4B34E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25E70-382D-4C21-A351-DA98F69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1CD61-A8D9-4D27-A0C9-C0D2891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5760-259E-47AE-ACA4-6C10B4F5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B7F9F-64A5-48B6-85D4-B940C977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94ADA-D545-4FDF-85BA-3D1B64F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BD507-FE8D-4BE7-9B66-1B3C8AF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07E5B-DFFA-496A-814D-AA5BF830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E1F5A-7F11-44BB-A225-2BC95D21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ADD-C21F-4BF6-8B09-4BDD5E49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FA8FF-6AE4-42B6-96F3-356C4446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E1AE-3269-4A8D-9C12-7E9AFB54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47C5C-7FE1-4521-B44C-43158C87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846E0-55AA-41DB-8B08-630799F4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76C17-A71E-4DA3-A800-B4150412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6F4CF-37D7-4C57-BB60-8C4ED20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CA27A-0038-41D0-801A-135308E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1D614-344D-409F-8D08-036A9E6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A5AA0-859F-4C1E-88DB-4615C80A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959AC-95E2-4423-B818-2DAF15E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6B56-B20B-4EB0-8077-24B001FD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2F3DD-3FF6-4D52-8935-9767FF9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D484B-F586-4126-A4FB-EC95F509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6893F-09C5-42AC-8256-BC079823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DA576-4E47-46D9-9AB6-C0029E3F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A8FD7-F129-4C43-9D9C-884430CA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6C04D-4A95-4EF4-86D0-2A9FDE27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2898F-2055-4792-9A19-90DEA80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B0C71-9A72-4DD4-BDE8-D109DC1E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35369-2EB6-444A-8A8F-FBA4DEDD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A6564-526A-4CF8-B83F-0701F5F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AA65-755E-4074-8E1D-59AA411A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07DAA-7DE7-4FF8-8C8A-8C49E40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21C39-8D00-4034-AFD0-7E87E87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E09D8-CC9E-4D8A-834F-E97CC284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AB7FB-A519-4C54-A61E-840142E8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49F15-216A-4976-880E-301401AF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2E2E7-4EF1-4B03-8A88-ED30B729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607D8-81CC-498E-A6CC-E8B29487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4F2EA-04B9-439A-8C90-C8666FBC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2DCED-467B-48CC-8E80-CD8F89CB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87A7E-868D-46C6-A60D-BD65E04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DA4B-0632-4E14-B1E3-6BF109CE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C27F6-79A0-4BFF-8BEA-713AC3E8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16D0B-6EDD-41B4-BEBA-73FA761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18206-0884-4361-91C2-BAE4B330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8CF36-F418-46EC-9E5A-47FEC4D8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C56F0-868C-49BC-9027-165F079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EB71B-1D19-4C20-82F0-DC995A72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292F8-2381-4F0D-8362-E20B456C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9CDB8-86C4-40CE-9EF6-A1697DAA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A8FC3-F0B8-483B-9748-31DAC17E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B3FA1-89EA-4B80-A861-53D7002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59FA-7A08-4DC3-9485-6EAF10C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8C756-3A12-48AC-A47C-966E5FC3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DFDE0-210A-473A-968E-2908B42E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E2259-BC80-474D-99D3-813F6EC2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C1151-2436-4BB7-81FE-3478193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3E126-D7FF-4ACB-B7C5-73A7CEA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8A764-C2AE-4FA0-AD6B-9252602F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3B0F3-AF91-4AFB-9DA1-D2BBC95D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43E41-A6AB-4BD0-B770-58A63349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CEA01-7A0C-410E-9CD1-57EBE741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DA849-D807-49B7-8DBB-E64F7DAC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36FD-509C-4673-9266-94B08A04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1CFB4-97DB-423B-951A-0D70B041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D5C4E-3EC3-41D5-9AB7-0FEC765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ED525-463C-4D82-AF7A-E34E6D5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0B8B2-C53A-4FF7-99FC-81CDECDA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4E03A-D789-4FA4-9162-FC7762F6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61D24-8A04-49EB-B49C-9610FB3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60E86-2EA1-4515-8FAA-1575F95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C88E6-47FB-4EA5-A86B-A11FE437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7479F-6CFB-4175-91B9-23701A9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AADE5-EE47-4C7D-B4FE-25165AB9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5093-4291-464C-84B5-FA9DF12C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B04B2-1585-47C4-9BF4-DF2A4E19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E6AD0-3618-49D1-AA2A-158B5726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0366C-55BE-4141-B914-6C35FA0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D987D-8365-4BEC-B17D-352F61D9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F5001-5566-47E7-9CDD-8FDB1B49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9645F-22F6-4AA3-9A95-889E2A0D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894C2-DEEC-45E1-AF7F-2F1BFC2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22D76-64E7-4701-A88D-3621773C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21C6B-2172-4BFD-8241-6E1C143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01086-3C52-4C0B-B161-18B31719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A02C-D9A2-48AD-A6BF-02FAF56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0CE49-9516-4482-A545-6FDE6CCD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79115-0DE5-4EEA-B41F-FBCCB0FF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136B8-D64B-4B0A-BC28-96A02F3A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4DD73-23D6-47C5-8BA6-BF61A7DD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DD97F-9D0C-4718-867B-40B19C3E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E3BA6-D4AC-4DDE-B382-50AC55A0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3E221-CF8F-4864-959A-36797D8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73C22-7909-48E2-A4C9-5294DCD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4C73C-20F3-469E-B199-29E7E2A4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2BC7E-B55C-4460-98A9-200CDAB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466-81AA-4AD1-9032-8C2ACB78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DC34-A059-43C3-8969-018B782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F0337-02E5-472C-B6C6-AB92A77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05692-E198-4E4C-A3DE-82831C0A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660E1-9048-4A98-86EF-DB56EEE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BAB29-7922-4E5F-BDC5-4936996A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E1388-F941-4715-87BC-A17AFFC5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18924-CF0F-4CD0-A43A-795A49DA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F6D44-6B57-4E2B-88F8-F622839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DCBE6-F8A3-4E12-A8F6-78AE7731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72210-BE51-497A-A222-05B7383A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7A946-3F5D-4452-892F-536D1565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3A50-C1E4-406A-946A-9D72910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5ACB7-368A-419A-995C-7829D688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E1F5F-1601-4ACB-8C2E-CDFBB7C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088F1-7419-4990-B1D5-A334CA0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FE7BF-6D59-4C2B-BD5A-C18B588C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FCA91-AAF2-49DB-8F55-44D306C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C5E1E-9D81-4653-89BA-C436643C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47A7B-705B-4BBE-9C9F-24406776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1EFD-C3D1-421C-A8F3-010BEE60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0A2F-C06C-4DAA-B4BA-D68AB2A0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FE87-00DA-4218-9BDB-F4EDAE9E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A4D0-00FA-4F07-994D-83EDA7E2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320B-9F5B-4D51-B299-35CDED51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8C14-2DCE-4454-9A64-C6917DDD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D5E9-150C-43D1-9C50-DC0BE368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B729-4D62-4906-B8A5-B73D7D36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3F6-1531-424E-9E70-0F44DB16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5CFD-E800-46DD-A078-1671BDC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CC80-46D8-4B74-96EF-FB93F63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9942-47FE-4784-A436-C8BEE38A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5C6D-3F5F-4F36-AB87-9B06C09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4238-76B2-4E84-B8E5-8F5FB5A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547F-BEDE-4A6F-AE85-3E5FB6CF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7929-771B-4813-BF89-0B376C0A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EC75-782F-4D6D-A878-04EF8CFF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87E4-2D1E-4643-8430-2AA404CB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DC4D-5D36-4B5F-BA19-3C9C5A34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493-0B51-47CB-A78B-91A2996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B3EF-05F5-4223-80A8-AE4CF73B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00DA-8207-48CC-B62F-7B42E444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3D09-0801-4FF8-9F1F-7A75CB3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E3B99-DFB4-4F11-80A8-603609B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5043-E79C-4F99-B9C8-39C7708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62B5-28C9-4FE3-B1A3-E73A60E4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B53CB-FB4B-4BAB-965C-478BEEDF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A7DD-A69A-4D51-A0ED-A34A219D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44D2-00B2-405A-8C03-F221346A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333A3-9828-43B1-8818-5F0F1A2E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238-820E-40F4-84F8-F86A6914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6F962-71ED-4C72-AF28-729BE2F4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C783-DA2F-44E1-8A5A-B058ADB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C9C05-C405-4D0C-98E0-6DA300E7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1080-DDEE-4B94-B6BD-E79F92C8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5CB2-7460-4817-B6B9-6F0C536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3935-257E-41F3-A9E2-263A250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C35AD-0D3B-4828-AA73-BA99152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2913-1FEC-484D-8B7A-D022CB63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6B7A4-B890-4D8A-9F13-ED911BD5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BD16-3E0A-402F-80F7-95D12074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0E6-E672-416E-ACFF-54A58491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366E8-CDD6-443D-AE14-4D5F2122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E75D9-84DB-4EDF-9C93-6825D2E6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AC0A4-811D-4FC3-B557-9C7B5E56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76D0E-DC25-4DD6-BDAB-B1982DE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DB54F-E722-455B-A72A-2E74FDD1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BEDE-947D-48F1-A0F7-AF52261C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8682-F035-4671-B905-2CE77C5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0A13-14ED-48BB-A018-6C72826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E353D-336C-4D45-80BE-1D2E1CF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384C5-D8CC-4E40-90DD-6173EC5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0F1-4A51-452A-A2E7-5DCA2C23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3890E-2C6E-4C37-96A7-829FEAD0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687F-F939-468F-8E3D-D985CF90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BAC37-BFDE-452F-BB14-5BA64361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C4DF-C451-46F5-8E17-57A441F5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77205-6959-4C3A-A576-73104154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9242-2824-47CE-951D-678B399C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4526-CE3B-4533-A559-D24A548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5FF3-FDAD-46D5-95CC-60E64930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550C-3F3B-4566-B157-D08E935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DCADD-DE7C-43CB-B4CF-30616863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C50-518C-4DF1-B6BC-5481F424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46340-0D88-48D0-9879-590F188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E39A-D279-4263-90BD-0156E0C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C83E-FD5F-422A-B7A9-0D211276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129CF-A889-4F94-919B-A6ACD9AB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36E2-29E2-4734-8965-945FC099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5552A2-299F-4639-977B-4A271490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0D57D8-5FFC-4633-8BA7-51C306E3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087BC-3AB9-4304-8E61-C3FC2C2E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03218-CCCF-4435-9A11-9F085B49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2DAB18-1E85-4A61-8A08-7B8EDB7C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8C2-1BAD-47AE-906C-34838E6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82271-74F9-438C-9C64-307BAFED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09C62-70ED-41C2-BA2A-88EA5E8C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991A6-4EF1-46CE-8C90-2D927E67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95D248-0789-402D-A88B-61DB3B3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9AF8F-8DBB-4D66-A074-CA1BDF7E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05215B-DE97-4F97-817D-E68E09ED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EF4A7-E808-4625-9459-284FDBC7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31532-E9CE-4B72-956C-9CFFF662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55E93-DB31-4775-819A-85D2481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3A2AB-FB7F-420E-80A4-632CCAEA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D9D-D312-455A-8F5D-E8C10744336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FC9C-9487-4391-A16B-4FCB5F598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ECC-B360-4F55-A1A9-BD4546EC119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8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B78-6A32-4F9E-AD49-95E256DACB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66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4E1-63C3-4E72-9993-093AF73D36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73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3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4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745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7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8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9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01C9-0FE7-4DB5-BE6A-F53AC48798B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93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4F7E-3DCF-45EF-9E31-FF16AA14F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4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4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4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B72E-ADCF-4561-AB05-15620B14B9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9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9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2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08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909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0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1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91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91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1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91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92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8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939" name="Group 3"/>
            <p:cNvGrpSpPr/>
            <p:nvPr/>
          </p:nvGrpSpPr>
          <p:grpSpPr>
            <a:xfrm>
              <a:off x="5407920" y="62280"/>
              <a:ext cx="3622680" cy="6130440"/>
              <a:chOff x="5407920" y="62280"/>
              <a:chExt cx="3622680" cy="6130440"/>
            </a:xfrm>
          </p:grpSpPr>
          <p:sp>
            <p:nvSpPr>
              <p:cNvPr id="940" name="Freeform 4"/>
              <p:cNvSpPr/>
              <p:nvPr/>
            </p:nvSpPr>
            <p:spPr>
              <a:xfrm flipV="1" rot="11970000">
                <a:off x="6581160" y="347400"/>
                <a:ext cx="2116800" cy="23547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1" name="Freeform 5"/>
              <p:cNvSpPr/>
              <p:nvPr/>
            </p:nvSpPr>
            <p:spPr>
              <a:xfrm flipV="1" rot="11970000">
                <a:off x="7421400" y="1958760"/>
                <a:ext cx="906840" cy="84168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2" name="Freeform 6"/>
              <p:cNvSpPr/>
              <p:nvPr/>
            </p:nvSpPr>
            <p:spPr>
              <a:xfrm flipV="1" rot="11970000">
                <a:off x="6824160" y="259020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3" name="Freeform 7"/>
              <p:cNvSpPr/>
              <p:nvPr/>
            </p:nvSpPr>
            <p:spPr>
              <a:xfrm flipV="1" rot="11970000">
                <a:off x="7251480" y="675360"/>
                <a:ext cx="388800" cy="55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4" name="Freeform 8"/>
              <p:cNvSpPr/>
              <p:nvPr/>
            </p:nvSpPr>
            <p:spPr>
              <a:xfrm flipV="1" rot="11970000">
                <a:off x="7149960" y="2648880"/>
                <a:ext cx="163440" cy="3308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-36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5" name="Freeform 9"/>
              <p:cNvSpPr/>
              <p:nvPr/>
            </p:nvSpPr>
            <p:spPr>
              <a:xfrm flipV="1" rot="11970000">
                <a:off x="713556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6" name="Freeform 10"/>
              <p:cNvSpPr/>
              <p:nvPr/>
            </p:nvSpPr>
            <p:spPr>
              <a:xfrm flipV="1" rot="11970000">
                <a:off x="5937840" y="2932920"/>
                <a:ext cx="523800" cy="32652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5200"/>
                  <a:gd name="textAreaBottom" fmla="*/ 3265920 h 32652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4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53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4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5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6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57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958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9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0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61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962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3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4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65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6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7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8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6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7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7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7435-2E74-47F0-A5C9-E614CAF37E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3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218F-6A0D-4070-8CF9-AD09247FA3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93E2-B3AE-4EA7-BCC0-4F7145E11C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7D8C-3856-4B36-869F-3F97258ED5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ACF5-7A1F-484F-92D6-85B1A636E7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7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2EC4-B01E-4A7E-816C-F2B802BD2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2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6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FE8-0F95-4345-8540-7F71C93483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0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0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2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31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8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319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32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2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3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3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44B7-BCBA-488D-8FCB-2A18E707F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3A3A-8882-4717-809A-4D3A4130B8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2b54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AF8-FF4F-45DE-BD4B-315A62B18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1258920" y="476280"/>
            <a:ext cx="7200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</a:rPr>
              <a:t>14.01.1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ru-RU" sz="4800" spc="-1" strike="noStrike">
                <a:solidFill>
                  <a:srgbClr val="002060"/>
                </a:solidFill>
                <a:latin typeface="Times New Roman"/>
              </a:rPr>
              <a:t>Решение задач по тем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</a:rPr>
              <a:t>«Признаки параллельности прямых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По данным рисунка найдите угол 1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95" name="Группа 78"/>
          <p:cNvGrpSpPr/>
          <p:nvPr/>
        </p:nvGrpSpPr>
        <p:grpSpPr>
          <a:xfrm>
            <a:off x="1052640" y="1953720"/>
            <a:ext cx="6688080" cy="3778920"/>
            <a:chOff x="1052640" y="1953720"/>
            <a:chExt cx="6688080" cy="3778920"/>
          </a:xfrm>
        </p:grpSpPr>
        <p:sp>
          <p:nvSpPr>
            <p:cNvPr id="1296" name="Прямоугольник 79"/>
            <p:cNvSpPr/>
            <p:nvPr/>
          </p:nvSpPr>
          <p:spPr>
            <a:xfrm>
              <a:off x="1052640" y="2006280"/>
              <a:ext cx="6688080" cy="372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7" name="Прямая соединительная линия 80"/>
            <p:cNvSpPr/>
            <p:nvPr/>
          </p:nvSpPr>
          <p:spPr>
            <a:xfrm flipV="1">
              <a:off x="1208160" y="3254400"/>
              <a:ext cx="640080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8" name="Прямая соединительная линия 81"/>
            <p:cNvSpPr/>
            <p:nvPr/>
          </p:nvSpPr>
          <p:spPr>
            <a:xfrm flipV="1">
              <a:off x="1906560" y="2006280"/>
              <a:ext cx="3011400" cy="341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Прямоугольник 82"/>
            <p:cNvSpPr/>
            <p:nvPr/>
          </p:nvSpPr>
          <p:spPr>
            <a:xfrm>
              <a:off x="1055520" y="275724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Прямоугольник 83"/>
            <p:cNvSpPr/>
            <p:nvPr/>
          </p:nvSpPr>
          <p:spPr>
            <a:xfrm>
              <a:off x="1208160" y="4052880"/>
              <a:ext cx="6397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Прямоугольник 84"/>
            <p:cNvSpPr/>
            <p:nvPr/>
          </p:nvSpPr>
          <p:spPr>
            <a:xfrm>
              <a:off x="5062680" y="2746080"/>
              <a:ext cx="745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2" name="Прямая соединительная линия 85"/>
            <p:cNvSpPr/>
            <p:nvPr/>
          </p:nvSpPr>
          <p:spPr>
            <a:xfrm flipV="1">
              <a:off x="1208160" y="4589280"/>
              <a:ext cx="640080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3" name="Прямая соединительная линия 88"/>
            <p:cNvSpPr/>
            <p:nvPr/>
          </p:nvSpPr>
          <p:spPr>
            <a:xfrm flipH="1" flipV="1">
              <a:off x="4917960" y="1953720"/>
              <a:ext cx="2475000" cy="372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4" name="Прямоугольник 91"/>
            <p:cNvSpPr/>
            <p:nvPr/>
          </p:nvSpPr>
          <p:spPr>
            <a:xfrm>
              <a:off x="1343160" y="485964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5" name="Прямоугольник 92"/>
            <p:cNvSpPr/>
            <p:nvPr/>
          </p:nvSpPr>
          <p:spPr>
            <a:xfrm>
              <a:off x="6994800" y="488484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6" name="Прямоугольник 95"/>
            <p:cNvSpPr/>
            <p:nvPr/>
          </p:nvSpPr>
          <p:spPr>
            <a:xfrm>
              <a:off x="5926320" y="411336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7" name="Прямоугольник 96"/>
            <p:cNvSpPr/>
            <p:nvPr/>
          </p:nvSpPr>
          <p:spPr>
            <a:xfrm>
              <a:off x="2114640" y="411336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Объект 2"/>
              <p:cNvSpPr txBox="1"/>
              <p:nvPr/>
            </p:nvSpPr>
            <p:spPr>
              <a:xfrm>
                <a:off x="6732720" y="5661000"/>
                <a:ext cx="193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Объект 5"/>
              <p:cNvSpPr txBox="1"/>
              <p:nvPr/>
            </p:nvSpPr>
            <p:spPr>
              <a:xfrm>
                <a:off x="2638440" y="4695840"/>
                <a:ext cx="638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Объект 23"/>
              <p:cNvSpPr txBox="1"/>
              <p:nvPr/>
            </p:nvSpPr>
            <p:spPr>
              <a:xfrm>
                <a:off x="2814480" y="3351240"/>
                <a:ext cx="50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Объект 24"/>
              <p:cNvSpPr txBox="1"/>
              <p:nvPr/>
            </p:nvSpPr>
            <p:spPr>
              <a:xfrm>
                <a:off x="6719760" y="4041720"/>
                <a:ext cx="611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88640" y="115560"/>
            <a:ext cx="81630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) Найдите градусную меру каждого угла, изображенного на чертеж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4" name="Прямоугольник 34"/>
          <p:cNvSpPr/>
          <p:nvPr/>
        </p:nvSpPr>
        <p:spPr>
          <a:xfrm>
            <a:off x="1353960" y="3344760"/>
            <a:ext cx="43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5" name="Группа 3"/>
          <p:cNvGrpSpPr/>
          <p:nvPr/>
        </p:nvGrpSpPr>
        <p:grpSpPr>
          <a:xfrm>
            <a:off x="250920" y="2133720"/>
            <a:ext cx="3951360" cy="2874960"/>
            <a:chOff x="250920" y="2133720"/>
            <a:chExt cx="3951360" cy="2874960"/>
          </a:xfrm>
        </p:grpSpPr>
        <p:grpSp>
          <p:nvGrpSpPr>
            <p:cNvPr id="1316" name="Группа 2"/>
            <p:cNvGrpSpPr/>
            <p:nvPr/>
          </p:nvGrpSpPr>
          <p:grpSpPr>
            <a:xfrm>
              <a:off x="250920" y="2133720"/>
              <a:ext cx="3951360" cy="2874960"/>
              <a:chOff x="250920" y="2133720"/>
              <a:chExt cx="3951360" cy="2874960"/>
            </a:xfrm>
          </p:grpSpPr>
          <p:sp>
            <p:nvSpPr>
              <p:cNvPr id="1317" name="Прямоугольник 15"/>
              <p:cNvSpPr/>
              <p:nvPr/>
            </p:nvSpPr>
            <p:spPr>
              <a:xfrm>
                <a:off x="250920" y="2133720"/>
                <a:ext cx="3951360" cy="287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8" name="Прямая соединительная линия 16"/>
              <p:cNvSpPr/>
              <p:nvPr/>
            </p:nvSpPr>
            <p:spPr>
              <a:xfrm flipV="1">
                <a:off x="271440" y="3582720"/>
                <a:ext cx="37800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9" name="Прямая соединительная линия 17"/>
              <p:cNvSpPr/>
              <p:nvPr/>
            </p:nvSpPr>
            <p:spPr>
              <a:xfrm flipV="1">
                <a:off x="790560" y="2235240"/>
                <a:ext cx="936720" cy="252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0" name="Прямоугольник 18"/>
              <p:cNvSpPr/>
              <p:nvPr/>
            </p:nvSpPr>
            <p:spPr>
              <a:xfrm>
                <a:off x="1071720" y="2181240"/>
                <a:ext cx="4395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1" name="Прямоугольник 19"/>
              <p:cNvSpPr/>
              <p:nvPr/>
            </p:nvSpPr>
            <p:spPr>
              <a:xfrm>
                <a:off x="2546640" y="2224080"/>
                <a:ext cx="3776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2" name="Прямоугольник 20"/>
              <p:cNvSpPr/>
              <p:nvPr/>
            </p:nvSpPr>
            <p:spPr>
              <a:xfrm>
                <a:off x="2924280" y="3121200"/>
                <a:ext cx="4395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3" name="Прямая соединительная линия 24"/>
              <p:cNvSpPr/>
              <p:nvPr/>
            </p:nvSpPr>
            <p:spPr>
              <a:xfrm flipH="1" flipV="1">
                <a:off x="3057840" y="2179440"/>
                <a:ext cx="660240" cy="260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4" name="Прямоугольник 25"/>
              <p:cNvSpPr/>
              <p:nvPr/>
            </p:nvSpPr>
            <p:spPr>
              <a:xfrm>
                <a:off x="250920" y="3089160"/>
                <a:ext cx="4413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32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5" name="Прямоугольник 27"/>
              <p:cNvSpPr/>
              <p:nvPr/>
            </p:nvSpPr>
            <p:spPr>
              <a:xfrm>
                <a:off x="3057840" y="3556080"/>
                <a:ext cx="4413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6" name="Прямоугольник 28"/>
              <p:cNvSpPr/>
              <p:nvPr/>
            </p:nvSpPr>
            <p:spPr>
              <a:xfrm>
                <a:off x="762120" y="3556080"/>
                <a:ext cx="4413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7" name="Прямоугольник 36"/>
              <p:cNvSpPr/>
              <p:nvPr/>
            </p:nvSpPr>
            <p:spPr>
              <a:xfrm>
                <a:off x="834840" y="3124440"/>
                <a:ext cx="4395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8" name="Прямоугольник 37"/>
              <p:cNvSpPr/>
              <p:nvPr/>
            </p:nvSpPr>
            <p:spPr>
              <a:xfrm>
                <a:off x="1131840" y="3552840"/>
                <a:ext cx="4395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9" name="Прямоугольник 38"/>
              <p:cNvSpPr/>
              <p:nvPr/>
            </p:nvSpPr>
            <p:spPr>
              <a:xfrm>
                <a:off x="3435480" y="3552840"/>
                <a:ext cx="4413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0" name="Object 38"/>
                  <p:cNvSpPr txBox="1"/>
                  <p:nvPr/>
                </p:nvSpPr>
                <p:spPr>
                  <a:xfrm>
                    <a:off x="1444680" y="3300120"/>
                    <a:ext cx="241200" cy="20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31" name="Object 24"/>
                <p:cNvSpPr txBox="1"/>
                <p:nvPr/>
              </p:nvSpPr>
              <p:spPr>
                <a:xfrm>
                  <a:off x="3472200" y="3293640"/>
                  <a:ext cx="30456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2" name="Группа 4"/>
          <p:cNvGrpSpPr/>
          <p:nvPr/>
        </p:nvGrpSpPr>
        <p:grpSpPr>
          <a:xfrm>
            <a:off x="4572000" y="2133720"/>
            <a:ext cx="3970440" cy="2873160"/>
            <a:chOff x="4572000" y="2133720"/>
            <a:chExt cx="3970440" cy="2873160"/>
          </a:xfrm>
        </p:grpSpPr>
        <p:sp>
          <p:nvSpPr>
            <p:cNvPr id="1333" name="Прямоугольник 40"/>
            <p:cNvSpPr/>
            <p:nvPr/>
          </p:nvSpPr>
          <p:spPr>
            <a:xfrm>
              <a:off x="4592520" y="2133720"/>
              <a:ext cx="3949920" cy="287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4" name="Прямая соединительная линия 41"/>
            <p:cNvSpPr/>
            <p:nvPr/>
          </p:nvSpPr>
          <p:spPr>
            <a:xfrm flipV="1">
              <a:off x="4592520" y="3489120"/>
              <a:ext cx="378000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5" name="Прямая соединительная линия 42"/>
            <p:cNvSpPr/>
            <p:nvPr/>
          </p:nvSpPr>
          <p:spPr>
            <a:xfrm flipV="1">
              <a:off x="5111640" y="2215800"/>
              <a:ext cx="936720" cy="25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6" name="Прямоугольник 43"/>
            <p:cNvSpPr/>
            <p:nvPr/>
          </p:nvSpPr>
          <p:spPr>
            <a:xfrm>
              <a:off x="5392800" y="2143080"/>
              <a:ext cx="4395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7" name="Прямоугольник 44"/>
            <p:cNvSpPr/>
            <p:nvPr/>
          </p:nvSpPr>
          <p:spPr>
            <a:xfrm>
              <a:off x="7434360" y="2185920"/>
              <a:ext cx="3776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Прямоугольник 45"/>
            <p:cNvSpPr/>
            <p:nvPr/>
          </p:nvSpPr>
          <p:spPr>
            <a:xfrm>
              <a:off x="7243920" y="308304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Прямая соединительная линия 48"/>
            <p:cNvSpPr/>
            <p:nvPr/>
          </p:nvSpPr>
          <p:spPr>
            <a:xfrm flipV="1">
              <a:off x="7020000" y="2254320"/>
              <a:ext cx="985680" cy="25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Прямоугольник 49"/>
            <p:cNvSpPr/>
            <p:nvPr/>
          </p:nvSpPr>
          <p:spPr>
            <a:xfrm>
              <a:off x="4572000" y="3051000"/>
              <a:ext cx="4395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1" name="Прямоугольник 50"/>
            <p:cNvSpPr/>
            <p:nvPr/>
          </p:nvSpPr>
          <p:spPr>
            <a:xfrm>
              <a:off x="7012080" y="3443400"/>
              <a:ext cx="43956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2" name="Прямоугольник 51"/>
            <p:cNvSpPr/>
            <p:nvPr/>
          </p:nvSpPr>
          <p:spPr>
            <a:xfrm>
              <a:off x="5083200" y="351792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3" name="Прямоугольник 52"/>
            <p:cNvSpPr/>
            <p:nvPr/>
          </p:nvSpPr>
          <p:spPr>
            <a:xfrm>
              <a:off x="5580000" y="308448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4" name="Прямоугольник 53"/>
            <p:cNvSpPr/>
            <p:nvPr/>
          </p:nvSpPr>
          <p:spPr>
            <a:xfrm>
              <a:off x="5451480" y="351468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5" name="Прямоугольник 54"/>
            <p:cNvSpPr/>
            <p:nvPr/>
          </p:nvSpPr>
          <p:spPr>
            <a:xfrm>
              <a:off x="7444080" y="3443400"/>
              <a:ext cx="44136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6" name="Объект 56"/>
                <p:cNvSpPr txBox="1"/>
                <p:nvPr/>
              </p:nvSpPr>
              <p:spPr>
                <a:xfrm>
                  <a:off x="5204520" y="3220200"/>
                  <a:ext cx="30456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7" name="Объект 57"/>
                <p:cNvSpPr txBox="1"/>
                <p:nvPr/>
              </p:nvSpPr>
              <p:spPr>
                <a:xfrm>
                  <a:off x="7764480" y="3198960"/>
                  <a:ext cx="2412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8" name="Объект 1"/>
              <p:cNvSpPr txBox="1"/>
              <p:nvPr/>
            </p:nvSpPr>
            <p:spPr>
              <a:xfrm>
                <a:off x="108000" y="5157720"/>
                <a:ext cx="8889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9" name="Объект 39"/>
              <p:cNvSpPr txBox="1"/>
              <p:nvPr/>
            </p:nvSpPr>
            <p:spPr>
              <a:xfrm>
                <a:off x="111240" y="5877000"/>
                <a:ext cx="8924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4720" y="216000"/>
            <a:ext cx="8244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60c"/>
                </a:solidFill>
                <a:latin typeface="Times New Roman"/>
                <a:ea typeface="Times New Roman"/>
              </a:rPr>
              <a:t>По рисунку выберите верные утверждения: если утверждения верны делаем данные действия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351" name="Группа 5"/>
          <p:cNvGrpSpPr/>
          <p:nvPr/>
        </p:nvGrpSpPr>
        <p:grpSpPr>
          <a:xfrm>
            <a:off x="-36360" y="1890720"/>
            <a:ext cx="4424040" cy="3338640"/>
            <a:chOff x="-36360" y="1890720"/>
            <a:chExt cx="4424040" cy="3338640"/>
          </a:xfrm>
        </p:grpSpPr>
        <p:sp>
          <p:nvSpPr>
            <p:cNvPr id="1352" name="Прямоугольник 6"/>
            <p:cNvSpPr/>
            <p:nvPr/>
          </p:nvSpPr>
          <p:spPr>
            <a:xfrm>
              <a:off x="-36360" y="2050920"/>
              <a:ext cx="4424040" cy="317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56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Прямая соединительная линия 7"/>
            <p:cNvSpPr/>
            <p:nvPr/>
          </p:nvSpPr>
          <p:spPr>
            <a:xfrm flipV="1">
              <a:off x="324000" y="2274480"/>
              <a:ext cx="3659040" cy="91260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Прямая соединительная линия 8"/>
            <p:cNvSpPr/>
            <p:nvPr/>
          </p:nvSpPr>
          <p:spPr>
            <a:xfrm flipH="1" flipV="1">
              <a:off x="1087200" y="2274480"/>
              <a:ext cx="2260440" cy="249732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Прямоугольник 9"/>
            <p:cNvSpPr/>
            <p:nvPr/>
          </p:nvSpPr>
          <p:spPr>
            <a:xfrm>
              <a:off x="250920" y="26114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Прямоугольник 10"/>
            <p:cNvSpPr/>
            <p:nvPr/>
          </p:nvSpPr>
          <p:spPr>
            <a:xfrm>
              <a:off x="539640" y="4267440"/>
              <a:ext cx="421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Прямоугольник 11"/>
            <p:cNvSpPr/>
            <p:nvPr/>
          </p:nvSpPr>
          <p:spPr>
            <a:xfrm>
              <a:off x="1116000" y="189072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Прямая соединительная линия 12"/>
            <p:cNvSpPr/>
            <p:nvPr/>
          </p:nvSpPr>
          <p:spPr>
            <a:xfrm flipV="1">
              <a:off x="668160" y="2635200"/>
              <a:ext cx="3614760" cy="227520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9" name="Прямоугольник 13"/>
            <p:cNvSpPr/>
            <p:nvPr/>
          </p:nvSpPr>
          <p:spPr>
            <a:xfrm>
              <a:off x="1441440" y="23954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0" name="Прямоугольник 14"/>
            <p:cNvSpPr/>
            <p:nvPr/>
          </p:nvSpPr>
          <p:spPr>
            <a:xfrm>
              <a:off x="982800" y="249084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1" name="Прямоугольник 15"/>
            <p:cNvSpPr/>
            <p:nvPr/>
          </p:nvSpPr>
          <p:spPr>
            <a:xfrm>
              <a:off x="1270080" y="281772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2" name="Прямоугольник 16"/>
            <p:cNvSpPr/>
            <p:nvPr/>
          </p:nvSpPr>
          <p:spPr>
            <a:xfrm>
              <a:off x="1763640" y="26924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3" name="Прямоугольник 17"/>
            <p:cNvSpPr/>
            <p:nvPr/>
          </p:nvSpPr>
          <p:spPr>
            <a:xfrm>
              <a:off x="1917720" y="350676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Прямоугольник 18"/>
            <p:cNvSpPr/>
            <p:nvPr/>
          </p:nvSpPr>
          <p:spPr>
            <a:xfrm>
              <a:off x="2152800" y="37958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Прямоугольник 19"/>
            <p:cNvSpPr/>
            <p:nvPr/>
          </p:nvSpPr>
          <p:spPr>
            <a:xfrm>
              <a:off x="2228760" y="327348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Прямоугольник 20"/>
            <p:cNvSpPr/>
            <p:nvPr/>
          </p:nvSpPr>
          <p:spPr>
            <a:xfrm>
              <a:off x="2556000" y="355608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7" name="Объект 2"/>
              <p:cNvSpPr txBox="1"/>
              <p:nvPr/>
            </p:nvSpPr>
            <p:spPr>
              <a:xfrm>
                <a:off x="4464000" y="1773360"/>
                <a:ext cx="46450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Rectangle 24"/>
          <p:cNvSpPr/>
          <p:nvPr/>
        </p:nvSpPr>
        <p:spPr>
          <a:xfrm>
            <a:off x="-3960" y="16668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Объект 24"/>
              <p:cNvSpPr txBox="1"/>
              <p:nvPr/>
            </p:nvSpPr>
            <p:spPr>
              <a:xfrm>
                <a:off x="4356000" y="2349360"/>
                <a:ext cx="4697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дносторонни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Объект 25"/>
              <p:cNvSpPr txBox="1"/>
              <p:nvPr/>
            </p:nvSpPr>
            <p:spPr>
              <a:xfrm>
                <a:off x="4341960" y="2881440"/>
                <a:ext cx="48020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7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оответственны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Объект 26"/>
              <p:cNvSpPr txBox="1"/>
              <p:nvPr/>
            </p:nvSpPr>
            <p:spPr>
              <a:xfrm>
                <a:off x="3924360" y="6200640"/>
                <a:ext cx="52020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ж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дносторонни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Объект 27"/>
              <p:cNvSpPr txBox="1"/>
              <p:nvPr/>
            </p:nvSpPr>
            <p:spPr>
              <a:xfrm>
                <a:off x="4371840" y="3324240"/>
                <a:ext cx="50482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5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акрес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лежащи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Объект 28"/>
              <p:cNvSpPr txBox="1"/>
              <p:nvPr/>
            </p:nvSpPr>
            <p:spPr>
              <a:xfrm>
                <a:off x="4444920" y="5021280"/>
                <a:ext cx="43322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акрес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лежащи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Объект 29"/>
              <p:cNvSpPr txBox="1"/>
              <p:nvPr/>
            </p:nvSpPr>
            <p:spPr>
              <a:xfrm>
                <a:off x="4443480" y="4471920"/>
                <a:ext cx="3900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жны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93728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1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77" name="Группа 12"/>
          <p:cNvGrpSpPr/>
          <p:nvPr/>
        </p:nvGrpSpPr>
        <p:grpSpPr>
          <a:xfrm>
            <a:off x="2541600" y="1932120"/>
            <a:ext cx="4046400" cy="2792160"/>
            <a:chOff x="2541600" y="1932120"/>
            <a:chExt cx="4046400" cy="2792160"/>
          </a:xfrm>
        </p:grpSpPr>
        <p:sp>
          <p:nvSpPr>
            <p:cNvPr id="1378" name="Прямоугольник 17"/>
            <p:cNvSpPr/>
            <p:nvPr/>
          </p:nvSpPr>
          <p:spPr>
            <a:xfrm>
              <a:off x="2541600" y="1932120"/>
              <a:ext cx="4046400" cy="279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Прямая соединительная линия 18"/>
            <p:cNvSpPr/>
            <p:nvPr/>
          </p:nvSpPr>
          <p:spPr>
            <a:xfrm>
              <a:off x="2982600" y="2932200"/>
              <a:ext cx="304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0" name="Прямая соединительная линия 19"/>
            <p:cNvSpPr/>
            <p:nvPr/>
          </p:nvSpPr>
          <p:spPr>
            <a:xfrm flipV="1">
              <a:off x="3368520" y="2057400"/>
              <a:ext cx="1822320" cy="255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1" name="Прямоугольник 20"/>
            <p:cNvSpPr/>
            <p:nvPr/>
          </p:nvSpPr>
          <p:spPr>
            <a:xfrm>
              <a:off x="2914560" y="2467080"/>
              <a:ext cx="450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2" name="Прямоугольник 21"/>
            <p:cNvSpPr/>
            <p:nvPr/>
          </p:nvSpPr>
          <p:spPr>
            <a:xfrm>
              <a:off x="2982600" y="3424320"/>
              <a:ext cx="385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3" name="Прямоугольник 22"/>
            <p:cNvSpPr/>
            <p:nvPr/>
          </p:nvSpPr>
          <p:spPr>
            <a:xfrm>
              <a:off x="4600440" y="1932120"/>
              <a:ext cx="452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4" name="Прямая соединительная линия 23"/>
            <p:cNvSpPr/>
            <p:nvPr/>
          </p:nvSpPr>
          <p:spPr>
            <a:xfrm>
              <a:off x="3006720" y="3932280"/>
              <a:ext cx="30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5" name="Прямоугольник 24"/>
            <p:cNvSpPr/>
            <p:nvPr/>
          </p:nvSpPr>
          <p:spPr>
            <a:xfrm>
              <a:off x="3935160" y="3559320"/>
              <a:ext cx="4521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6" name="Прямоугольник 25"/>
            <p:cNvSpPr/>
            <p:nvPr/>
          </p:nvSpPr>
          <p:spPr>
            <a:xfrm>
              <a:off x="4005000" y="2905200"/>
              <a:ext cx="452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7" name="Прямоугольник 27"/>
            <p:cNvSpPr/>
            <p:nvPr/>
          </p:nvSpPr>
          <p:spPr>
            <a:xfrm>
              <a:off x="2576520" y="2001960"/>
              <a:ext cx="449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8" name="Прямоугольник 28"/>
            <p:cNvSpPr/>
            <p:nvPr/>
          </p:nvSpPr>
          <p:spPr>
            <a:xfrm>
              <a:off x="4165560" y="2525760"/>
              <a:ext cx="4521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9" name="Прямоугольник 29"/>
            <p:cNvSpPr/>
            <p:nvPr/>
          </p:nvSpPr>
          <p:spPr>
            <a:xfrm>
              <a:off x="4457520" y="2905200"/>
              <a:ext cx="450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0" name="Прямоугольник 30"/>
            <p:cNvSpPr/>
            <p:nvPr/>
          </p:nvSpPr>
          <p:spPr>
            <a:xfrm>
              <a:off x="4710240" y="2548080"/>
              <a:ext cx="4507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Прямоугольник 31"/>
            <p:cNvSpPr/>
            <p:nvPr/>
          </p:nvSpPr>
          <p:spPr>
            <a:xfrm>
              <a:off x="3517920" y="3554280"/>
              <a:ext cx="452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92" name="Объект 1"/>
              <p:cNvSpPr txBox="1"/>
              <p:nvPr/>
            </p:nvSpPr>
            <p:spPr>
              <a:xfrm>
                <a:off x="368280" y="4797360"/>
                <a:ext cx="2332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Объект 33"/>
              <p:cNvSpPr txBox="1"/>
              <p:nvPr/>
            </p:nvSpPr>
            <p:spPr>
              <a:xfrm>
                <a:off x="6078600" y="4724280"/>
                <a:ext cx="24541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4" name="Группа 3"/>
          <p:cNvGrpSpPr/>
          <p:nvPr/>
        </p:nvGrpSpPr>
        <p:grpSpPr>
          <a:xfrm>
            <a:off x="1905120" y="6272280"/>
            <a:ext cx="5330880" cy="541440"/>
            <a:chOff x="1905120" y="6272280"/>
            <a:chExt cx="5330880" cy="541440"/>
          </a:xfrm>
        </p:grpSpPr>
        <mc:AlternateContent>
          <mc:Choice xmlns:a14="http://schemas.microsoft.com/office/drawing/2010/main" Requires="a14">
            <p:sp>
              <p:nvSpPr>
                <p:cNvPr id="1395" name="Объект 2"/>
                <p:cNvSpPr txBox="1"/>
                <p:nvPr/>
              </p:nvSpPr>
              <p:spPr>
                <a:xfrm>
                  <a:off x="1905120" y="6272280"/>
                  <a:ext cx="180828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Найдит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6" name="Объект 35"/>
                <p:cNvSpPr txBox="1"/>
                <p:nvPr/>
              </p:nvSpPr>
              <p:spPr>
                <a:xfrm>
                  <a:off x="3824640" y="6369480"/>
                  <a:ext cx="212724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стальны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7" name="Объект 36"/>
                <p:cNvSpPr txBox="1"/>
                <p:nvPr/>
              </p:nvSpPr>
              <p:spPr>
                <a:xfrm>
                  <a:off x="6172560" y="6343560"/>
                  <a:ext cx="106344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углы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Заголовок 3"/>
          <p:cNvSpPr/>
          <p:nvPr/>
        </p:nvSpPr>
        <p:spPr>
          <a:xfrm>
            <a:off x="150840" y="404640"/>
            <a:ext cx="88138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1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9" name="Группа 2"/>
          <p:cNvGrpSpPr/>
          <p:nvPr/>
        </p:nvGrpSpPr>
        <p:grpSpPr>
          <a:xfrm>
            <a:off x="115920" y="1700280"/>
            <a:ext cx="4137120" cy="3000240"/>
            <a:chOff x="115920" y="1700280"/>
            <a:chExt cx="4137120" cy="3000240"/>
          </a:xfrm>
        </p:grpSpPr>
        <p:sp>
          <p:nvSpPr>
            <p:cNvPr id="1400" name="Прямоугольник 7"/>
            <p:cNvSpPr/>
            <p:nvPr/>
          </p:nvSpPr>
          <p:spPr>
            <a:xfrm>
              <a:off x="115920" y="1700280"/>
              <a:ext cx="4137120" cy="3000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1" name="Прямая соединительная линия 8"/>
            <p:cNvSpPr/>
            <p:nvPr/>
          </p:nvSpPr>
          <p:spPr>
            <a:xfrm>
              <a:off x="566640" y="28004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2" name="Прямая соединительная линия 9"/>
            <p:cNvSpPr/>
            <p:nvPr/>
          </p:nvSpPr>
          <p:spPr>
            <a:xfrm flipV="1">
              <a:off x="961920" y="1859040"/>
              <a:ext cx="1862280" cy="275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3" name="Прямоугольник 10"/>
            <p:cNvSpPr/>
            <p:nvPr/>
          </p:nvSpPr>
          <p:spPr>
            <a:xfrm>
              <a:off x="496800" y="230004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4" name="Прямоугольник 11"/>
            <p:cNvSpPr/>
            <p:nvPr/>
          </p:nvSpPr>
          <p:spPr>
            <a:xfrm>
              <a:off x="566640" y="3327480"/>
              <a:ext cx="395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Прямоугольник 12"/>
            <p:cNvSpPr/>
            <p:nvPr/>
          </p:nvSpPr>
          <p:spPr>
            <a:xfrm>
              <a:off x="2220840" y="172548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Прямая соединительная линия 13"/>
            <p:cNvSpPr/>
            <p:nvPr/>
          </p:nvSpPr>
          <p:spPr>
            <a:xfrm>
              <a:off x="592200" y="38750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Прямоугольник 15"/>
            <p:cNvSpPr/>
            <p:nvPr/>
          </p:nvSpPr>
          <p:spPr>
            <a:xfrm>
              <a:off x="1612800" y="2770200"/>
              <a:ext cx="461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8" name="Прямоугольник 16"/>
            <p:cNvSpPr/>
            <p:nvPr/>
          </p:nvSpPr>
          <p:spPr>
            <a:xfrm>
              <a:off x="150840" y="1800000"/>
              <a:ext cx="460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9" name="Прямоугольник 20"/>
            <p:cNvSpPr/>
            <p:nvPr/>
          </p:nvSpPr>
          <p:spPr>
            <a:xfrm>
              <a:off x="900000" y="3838680"/>
              <a:ext cx="460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0" name="Группа 25"/>
          <p:cNvGrpSpPr/>
          <p:nvPr/>
        </p:nvGrpSpPr>
        <p:grpSpPr>
          <a:xfrm>
            <a:off x="4572000" y="1700280"/>
            <a:ext cx="4137120" cy="3000240"/>
            <a:chOff x="4572000" y="1700280"/>
            <a:chExt cx="4137120" cy="3000240"/>
          </a:xfrm>
        </p:grpSpPr>
        <p:sp>
          <p:nvSpPr>
            <p:cNvPr id="1411" name="Прямоугольник 26"/>
            <p:cNvSpPr/>
            <p:nvPr/>
          </p:nvSpPr>
          <p:spPr>
            <a:xfrm>
              <a:off x="4572000" y="1700280"/>
              <a:ext cx="4137120" cy="3000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2" name="Прямая соединительная линия 27"/>
            <p:cNvSpPr/>
            <p:nvPr/>
          </p:nvSpPr>
          <p:spPr>
            <a:xfrm>
              <a:off x="5022720" y="28004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3" name="Прямая соединительная линия 28"/>
            <p:cNvSpPr/>
            <p:nvPr/>
          </p:nvSpPr>
          <p:spPr>
            <a:xfrm flipV="1">
              <a:off x="5418000" y="1859040"/>
              <a:ext cx="1862280" cy="275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4" name="Прямоугольник 29"/>
            <p:cNvSpPr/>
            <p:nvPr/>
          </p:nvSpPr>
          <p:spPr>
            <a:xfrm>
              <a:off x="4952880" y="230004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5" name="Прямоугольник 30"/>
            <p:cNvSpPr/>
            <p:nvPr/>
          </p:nvSpPr>
          <p:spPr>
            <a:xfrm>
              <a:off x="5022720" y="3327480"/>
              <a:ext cx="395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6" name="Прямоугольник 31"/>
            <p:cNvSpPr/>
            <p:nvPr/>
          </p:nvSpPr>
          <p:spPr>
            <a:xfrm>
              <a:off x="6676920" y="172548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7" name="Прямая соединительная линия 32"/>
            <p:cNvSpPr/>
            <p:nvPr/>
          </p:nvSpPr>
          <p:spPr>
            <a:xfrm>
              <a:off x="5048280" y="38750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8" name="Прямоугольник 33"/>
            <p:cNvSpPr/>
            <p:nvPr/>
          </p:nvSpPr>
          <p:spPr>
            <a:xfrm>
              <a:off x="6789960" y="234612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Прямоугольник 34"/>
            <p:cNvSpPr/>
            <p:nvPr/>
          </p:nvSpPr>
          <p:spPr>
            <a:xfrm>
              <a:off x="4606920" y="1800000"/>
              <a:ext cx="460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Прямоугольник 35"/>
            <p:cNvSpPr/>
            <p:nvPr/>
          </p:nvSpPr>
          <p:spPr>
            <a:xfrm>
              <a:off x="5580000" y="3478320"/>
              <a:ext cx="461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1" name="Объект 1"/>
              <p:cNvSpPr txBox="1"/>
              <p:nvPr/>
            </p:nvSpPr>
            <p:spPr>
              <a:xfrm>
                <a:off x="3065400" y="5877000"/>
                <a:ext cx="3282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казать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Объект 2"/>
              <p:cNvSpPr txBox="1"/>
              <p:nvPr/>
            </p:nvSpPr>
            <p:spPr>
              <a:xfrm>
                <a:off x="331920" y="5013360"/>
                <a:ext cx="38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но</m:t>
                    </m:r>
                    <m:r>
                      <m:t xml:space="preserve">: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Объект 36"/>
              <p:cNvSpPr txBox="1"/>
              <p:nvPr/>
            </p:nvSpPr>
            <p:spPr>
              <a:xfrm>
                <a:off x="4500720" y="4941720"/>
                <a:ext cx="4730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но</m:t>
                    </m:r>
                    <m:r>
                      <m:t xml:space="preserve">: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Заголовок 3"/>
          <p:cNvSpPr/>
          <p:nvPr/>
        </p:nvSpPr>
        <p:spPr>
          <a:xfrm>
            <a:off x="971640" y="333360"/>
            <a:ext cx="7792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1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5" name="Группа 34"/>
          <p:cNvGrpSpPr/>
          <p:nvPr/>
        </p:nvGrpSpPr>
        <p:grpSpPr>
          <a:xfrm>
            <a:off x="82440" y="1671480"/>
            <a:ext cx="4137120" cy="3052800"/>
            <a:chOff x="82440" y="1671480"/>
            <a:chExt cx="4137120" cy="3052800"/>
          </a:xfrm>
        </p:grpSpPr>
        <p:grpSp>
          <p:nvGrpSpPr>
            <p:cNvPr id="1426" name="Группа 4"/>
            <p:cNvGrpSpPr/>
            <p:nvPr/>
          </p:nvGrpSpPr>
          <p:grpSpPr>
            <a:xfrm>
              <a:off x="82440" y="1671480"/>
              <a:ext cx="4137120" cy="3052800"/>
              <a:chOff x="82440" y="1671480"/>
              <a:chExt cx="4137120" cy="3052800"/>
            </a:xfrm>
          </p:grpSpPr>
          <p:sp>
            <p:nvSpPr>
              <p:cNvPr id="1427" name="Прямоугольник 5"/>
              <p:cNvSpPr/>
              <p:nvPr/>
            </p:nvSpPr>
            <p:spPr>
              <a:xfrm>
                <a:off x="82440" y="1726920"/>
                <a:ext cx="4137120" cy="2997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8" name="Прямая соединительная линия 6"/>
              <p:cNvSpPr/>
              <p:nvPr/>
            </p:nvSpPr>
            <p:spPr>
              <a:xfrm>
                <a:off x="566640" y="253512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9" name="Прямая соединительная линия 7"/>
              <p:cNvSpPr/>
              <p:nvPr/>
            </p:nvSpPr>
            <p:spPr>
              <a:xfrm flipV="1">
                <a:off x="961920" y="1758600"/>
                <a:ext cx="1863720" cy="274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0" name="Прямоугольник 8"/>
              <p:cNvSpPr/>
              <p:nvPr/>
            </p:nvSpPr>
            <p:spPr>
              <a:xfrm>
                <a:off x="2124000" y="167148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1" name="Прямоугольник 9"/>
              <p:cNvSpPr/>
              <p:nvPr/>
            </p:nvSpPr>
            <p:spPr>
              <a:xfrm>
                <a:off x="3326040" y="2771640"/>
                <a:ext cx="395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2" name="Прямоугольник 10"/>
              <p:cNvSpPr/>
              <p:nvPr/>
            </p:nvSpPr>
            <p:spPr>
              <a:xfrm>
                <a:off x="3214800" y="35827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3" name="Прямая соединительная линия 11"/>
              <p:cNvSpPr/>
              <p:nvPr/>
            </p:nvSpPr>
            <p:spPr>
              <a:xfrm>
                <a:off x="539640" y="411804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4" name="Прямоугольник 14"/>
              <p:cNvSpPr/>
              <p:nvPr/>
            </p:nvSpPr>
            <p:spPr>
              <a:xfrm>
                <a:off x="150480" y="16981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1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5" name="Прямоугольник 15"/>
              <p:cNvSpPr/>
              <p:nvPr/>
            </p:nvSpPr>
            <p:spPr>
              <a:xfrm>
                <a:off x="2382840" y="212544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6" name="Прямоугольник 18"/>
              <p:cNvSpPr/>
              <p:nvPr/>
            </p:nvSpPr>
            <p:spPr>
              <a:xfrm>
                <a:off x="884160" y="3665520"/>
                <a:ext cx="46188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7" name="Прямоугольник 21"/>
              <p:cNvSpPr/>
              <p:nvPr/>
            </p:nvSpPr>
            <p:spPr>
              <a:xfrm>
                <a:off x="2095560" y="27716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38" name="Прямая соединительная линия 20"/>
            <p:cNvSpPr/>
            <p:nvPr/>
          </p:nvSpPr>
          <p:spPr>
            <a:xfrm>
              <a:off x="612720" y="3254400"/>
              <a:ext cx="310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9" name="Группа 35"/>
          <p:cNvGrpSpPr/>
          <p:nvPr/>
        </p:nvGrpSpPr>
        <p:grpSpPr>
          <a:xfrm>
            <a:off x="4716360" y="1700280"/>
            <a:ext cx="4137120" cy="3052800"/>
            <a:chOff x="4716360" y="1700280"/>
            <a:chExt cx="4137120" cy="3052800"/>
          </a:xfrm>
        </p:grpSpPr>
        <p:grpSp>
          <p:nvGrpSpPr>
            <p:cNvPr id="1440" name="Группа 36"/>
            <p:cNvGrpSpPr/>
            <p:nvPr/>
          </p:nvGrpSpPr>
          <p:grpSpPr>
            <a:xfrm>
              <a:off x="4716360" y="1700280"/>
              <a:ext cx="4137120" cy="3052800"/>
              <a:chOff x="4716360" y="1700280"/>
              <a:chExt cx="4137120" cy="3052800"/>
            </a:xfrm>
          </p:grpSpPr>
          <p:sp>
            <p:nvSpPr>
              <p:cNvPr id="1441" name="Прямоугольник 38"/>
              <p:cNvSpPr/>
              <p:nvPr/>
            </p:nvSpPr>
            <p:spPr>
              <a:xfrm>
                <a:off x="4716360" y="1755720"/>
                <a:ext cx="4137120" cy="2997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2" name="Прямая соединительная линия 39"/>
              <p:cNvSpPr/>
              <p:nvPr/>
            </p:nvSpPr>
            <p:spPr>
              <a:xfrm>
                <a:off x="5200560" y="256392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3" name="Прямая соединительная линия 40"/>
              <p:cNvSpPr/>
              <p:nvPr/>
            </p:nvSpPr>
            <p:spPr>
              <a:xfrm flipV="1">
                <a:off x="5595840" y="1787400"/>
                <a:ext cx="1863720" cy="274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4" name="Прямоугольник 41"/>
              <p:cNvSpPr/>
              <p:nvPr/>
            </p:nvSpPr>
            <p:spPr>
              <a:xfrm>
                <a:off x="6757920" y="170028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5" name="Прямоугольник 42"/>
              <p:cNvSpPr/>
              <p:nvPr/>
            </p:nvSpPr>
            <p:spPr>
              <a:xfrm>
                <a:off x="7959960" y="2800440"/>
                <a:ext cx="395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6" name="Прямоугольник 43"/>
              <p:cNvSpPr/>
              <p:nvPr/>
            </p:nvSpPr>
            <p:spPr>
              <a:xfrm>
                <a:off x="7848720" y="36115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7" name="Прямая соединительная линия 44"/>
              <p:cNvSpPr/>
              <p:nvPr/>
            </p:nvSpPr>
            <p:spPr>
              <a:xfrm>
                <a:off x="5173560" y="414684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8" name="Прямоугольник 45"/>
              <p:cNvSpPr/>
              <p:nvPr/>
            </p:nvSpPr>
            <p:spPr>
              <a:xfrm>
                <a:off x="4784400" y="17269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1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9" name="Прямоугольник 46"/>
              <p:cNvSpPr/>
              <p:nvPr/>
            </p:nvSpPr>
            <p:spPr>
              <a:xfrm>
                <a:off x="6605640" y="21542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0" name="Прямоугольник 47"/>
              <p:cNvSpPr/>
              <p:nvPr/>
            </p:nvSpPr>
            <p:spPr>
              <a:xfrm>
                <a:off x="5999040" y="372276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1" name="Прямоугольник 48"/>
              <p:cNvSpPr/>
              <p:nvPr/>
            </p:nvSpPr>
            <p:spPr>
              <a:xfrm>
                <a:off x="6729480" y="28004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2" name="Прямая соединительная линия 37"/>
            <p:cNvSpPr/>
            <p:nvPr/>
          </p:nvSpPr>
          <p:spPr>
            <a:xfrm>
              <a:off x="5246640" y="3283200"/>
              <a:ext cx="310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53" name="Объект 1"/>
              <p:cNvSpPr txBox="1"/>
              <p:nvPr/>
            </p:nvSpPr>
            <p:spPr>
              <a:xfrm>
                <a:off x="2948040" y="6026040"/>
                <a:ext cx="3362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казать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Объект 2"/>
              <p:cNvSpPr txBox="1"/>
              <p:nvPr/>
            </p:nvSpPr>
            <p:spPr>
              <a:xfrm>
                <a:off x="324000" y="4869000"/>
                <a:ext cx="3384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Объект 3"/>
              <p:cNvSpPr txBox="1"/>
              <p:nvPr/>
            </p:nvSpPr>
            <p:spPr>
              <a:xfrm>
                <a:off x="4449600" y="4749840"/>
                <a:ext cx="4730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6" name="Прямоугольник 33"/>
          <p:cNvSpPr/>
          <p:nvPr/>
        </p:nvSpPr>
        <p:spPr>
          <a:xfrm>
            <a:off x="7812000" y="1844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Прямоугольник 34"/>
          <p:cNvSpPr/>
          <p:nvPr/>
        </p:nvSpPr>
        <p:spPr>
          <a:xfrm>
            <a:off x="3132000" y="191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8aa"/>
            </a:gs>
            <a:gs pos="100000">
              <a:srgbClr val="2b54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Прямоугольник 1"/>
          <p:cNvSpPr/>
          <p:nvPr/>
        </p:nvSpPr>
        <p:spPr>
          <a:xfrm>
            <a:off x="611280" y="692280"/>
            <a:ext cx="8064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1933"/>
                </a:solidFill>
                <a:latin typeface="Trebuchet MS"/>
              </a:rPr>
              <a:t>Домашнее задание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1933"/>
                </a:solidFill>
                <a:latin typeface="Trebuchet MS"/>
              </a:rPr>
              <a:t>Выучить теорию п.24 – п.26.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1933"/>
                </a:solidFill>
                <a:latin typeface="Trebuchet MS"/>
              </a:rPr>
              <a:t>Вопросы 1-6 на стр.68.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1933"/>
                </a:solidFill>
                <a:latin typeface="Trebuchet MS"/>
              </a:rPr>
              <a:t>Решить № 192, № 193, №196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ное расположение прямых на плоскост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4" name="Группа 6"/>
          <p:cNvGrpSpPr/>
          <p:nvPr/>
        </p:nvGrpSpPr>
        <p:grpSpPr>
          <a:xfrm>
            <a:off x="684360" y="1627200"/>
            <a:ext cx="3743280" cy="2378160"/>
            <a:chOff x="684360" y="1627200"/>
            <a:chExt cx="3743280" cy="2378160"/>
          </a:xfrm>
        </p:grpSpPr>
        <p:sp>
          <p:nvSpPr>
            <p:cNvPr id="1095" name="Прямоугольник 7"/>
            <p:cNvSpPr/>
            <p:nvPr/>
          </p:nvSpPr>
          <p:spPr>
            <a:xfrm>
              <a:off x="684360" y="1627200"/>
              <a:ext cx="3743280" cy="2378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6" name="Прямая соединительная линия 8"/>
            <p:cNvSpPr/>
            <p:nvPr/>
          </p:nvSpPr>
          <p:spPr>
            <a:xfrm>
              <a:off x="865080" y="2023920"/>
              <a:ext cx="266400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Прямая соединительная линия 9"/>
            <p:cNvSpPr/>
            <p:nvPr/>
          </p:nvSpPr>
          <p:spPr>
            <a:xfrm flipV="1">
              <a:off x="900000" y="2239920"/>
              <a:ext cx="29527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8" name="Прямоугольник 10"/>
            <p:cNvSpPr/>
            <p:nvPr/>
          </p:nvSpPr>
          <p:spPr>
            <a:xfrm>
              <a:off x="684360" y="198756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9" name="Прямоугольник 11"/>
            <p:cNvSpPr/>
            <p:nvPr/>
          </p:nvSpPr>
          <p:spPr>
            <a:xfrm>
              <a:off x="1836720" y="285264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Прямоугольник 12"/>
            <p:cNvSpPr/>
            <p:nvPr/>
          </p:nvSpPr>
          <p:spPr>
            <a:xfrm>
              <a:off x="3492720" y="223848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1" name="Группа 13"/>
          <p:cNvGrpSpPr/>
          <p:nvPr/>
        </p:nvGrpSpPr>
        <p:grpSpPr>
          <a:xfrm>
            <a:off x="5003640" y="1627200"/>
            <a:ext cx="3745080" cy="2378160"/>
            <a:chOff x="5003640" y="1627200"/>
            <a:chExt cx="3745080" cy="2378160"/>
          </a:xfrm>
        </p:grpSpPr>
        <p:sp>
          <p:nvSpPr>
            <p:cNvPr id="1102" name="Прямоугольник 14"/>
            <p:cNvSpPr/>
            <p:nvPr/>
          </p:nvSpPr>
          <p:spPr>
            <a:xfrm>
              <a:off x="5003640" y="1627200"/>
              <a:ext cx="3745080" cy="2378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3" name="Прямая соединительная линия 15"/>
            <p:cNvSpPr/>
            <p:nvPr/>
          </p:nvSpPr>
          <p:spPr>
            <a:xfrm flipV="1">
              <a:off x="5074920" y="1750680"/>
              <a:ext cx="2953080" cy="12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4" name="Прямая соединительная линия 16"/>
            <p:cNvSpPr/>
            <p:nvPr/>
          </p:nvSpPr>
          <p:spPr>
            <a:xfrm flipV="1">
              <a:off x="5508360" y="2543040"/>
              <a:ext cx="295308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5" name="Прямоугольник 17"/>
            <p:cNvSpPr/>
            <p:nvPr/>
          </p:nvSpPr>
          <p:spPr>
            <a:xfrm>
              <a:off x="5003640" y="213192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Прямоугольник 18"/>
            <p:cNvSpPr/>
            <p:nvPr/>
          </p:nvSpPr>
          <p:spPr>
            <a:xfrm>
              <a:off x="5327280" y="292428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7" name="Группа 19"/>
          <p:cNvGrpSpPr/>
          <p:nvPr/>
        </p:nvGrpSpPr>
        <p:grpSpPr>
          <a:xfrm>
            <a:off x="2627280" y="4292640"/>
            <a:ext cx="3745080" cy="2378160"/>
            <a:chOff x="2627280" y="4292640"/>
            <a:chExt cx="3745080" cy="2378160"/>
          </a:xfrm>
        </p:grpSpPr>
        <p:sp>
          <p:nvSpPr>
            <p:cNvPr id="1108" name="Прямоугольник 20"/>
            <p:cNvSpPr/>
            <p:nvPr/>
          </p:nvSpPr>
          <p:spPr>
            <a:xfrm>
              <a:off x="2627280" y="4292640"/>
              <a:ext cx="3745080" cy="2378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Прямая соединительная линия 21"/>
            <p:cNvSpPr/>
            <p:nvPr/>
          </p:nvSpPr>
          <p:spPr>
            <a:xfrm>
              <a:off x="3081240" y="5089680"/>
              <a:ext cx="2964240" cy="9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Прямоугольник 22"/>
            <p:cNvSpPr/>
            <p:nvPr/>
          </p:nvSpPr>
          <p:spPr>
            <a:xfrm>
              <a:off x="3152520" y="462096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Прямоугольник 23"/>
            <p:cNvSpPr/>
            <p:nvPr/>
          </p:nvSpPr>
          <p:spPr>
            <a:xfrm>
              <a:off x="2865240" y="4981680"/>
              <a:ext cx="647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Группа 3"/>
          <p:cNvGrpSpPr/>
          <p:nvPr/>
        </p:nvGrpSpPr>
        <p:grpSpPr>
          <a:xfrm>
            <a:off x="1403280" y="836640"/>
            <a:ext cx="6840720" cy="4824360"/>
            <a:chOff x="1403280" y="836640"/>
            <a:chExt cx="6840720" cy="4824360"/>
          </a:xfrm>
        </p:grpSpPr>
        <p:sp>
          <p:nvSpPr>
            <p:cNvPr id="1113" name="Прямоугольник 4"/>
            <p:cNvSpPr/>
            <p:nvPr/>
          </p:nvSpPr>
          <p:spPr>
            <a:xfrm>
              <a:off x="1403280" y="836640"/>
              <a:ext cx="6840720" cy="482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Прямая соединительная линия 5"/>
            <p:cNvSpPr/>
            <p:nvPr/>
          </p:nvSpPr>
          <p:spPr>
            <a:xfrm flipV="1">
              <a:off x="1771560" y="1231920"/>
              <a:ext cx="5393160" cy="244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Прямая соединительная линия 6"/>
            <p:cNvSpPr/>
            <p:nvPr/>
          </p:nvSpPr>
          <p:spPr>
            <a:xfrm flipV="1">
              <a:off x="2195280" y="1915920"/>
              <a:ext cx="5401080" cy="24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Прямоугольник 7"/>
            <p:cNvSpPr/>
            <p:nvPr/>
          </p:nvSpPr>
          <p:spPr>
            <a:xfrm>
              <a:off x="1403280" y="2635200"/>
              <a:ext cx="92052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Прямоугольник 8"/>
            <p:cNvSpPr/>
            <p:nvPr/>
          </p:nvSpPr>
          <p:spPr>
            <a:xfrm>
              <a:off x="1995120" y="4219560"/>
              <a:ext cx="92052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18" name="Рисунок 16" descr=""/>
          <p:cNvPicPr/>
          <p:nvPr/>
        </p:nvPicPr>
        <p:blipFill>
          <a:blip r:embed="rId1"/>
          <a:stretch/>
        </p:blipFill>
        <p:spPr>
          <a:xfrm>
            <a:off x="5919840" y="4827600"/>
            <a:ext cx="3432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можно сказать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 прямых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0" name="Группа 35"/>
          <p:cNvGrpSpPr/>
          <p:nvPr/>
        </p:nvGrpSpPr>
        <p:grpSpPr>
          <a:xfrm>
            <a:off x="1371600" y="2060640"/>
            <a:ext cx="7772400" cy="4078080"/>
            <a:chOff x="1371600" y="2060640"/>
            <a:chExt cx="7772400" cy="4078080"/>
          </a:xfrm>
        </p:grpSpPr>
        <p:grpSp>
          <p:nvGrpSpPr>
            <p:cNvPr id="1121" name="Группа 36"/>
            <p:cNvGrpSpPr/>
            <p:nvPr/>
          </p:nvGrpSpPr>
          <p:grpSpPr>
            <a:xfrm>
              <a:off x="1371600" y="2060640"/>
              <a:ext cx="7772400" cy="4078080"/>
              <a:chOff x="1371600" y="2060640"/>
              <a:chExt cx="7772400" cy="4078080"/>
            </a:xfrm>
          </p:grpSpPr>
          <p:sp>
            <p:nvSpPr>
              <p:cNvPr id="1122" name="Прямоугольник 6"/>
              <p:cNvSpPr/>
              <p:nvPr/>
            </p:nvSpPr>
            <p:spPr>
              <a:xfrm>
                <a:off x="1371600" y="2098440"/>
                <a:ext cx="7772400" cy="4040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3" name="Прямая соединительная линия 7"/>
              <p:cNvSpPr/>
              <p:nvPr/>
            </p:nvSpPr>
            <p:spPr>
              <a:xfrm>
                <a:off x="2280960" y="3187800"/>
                <a:ext cx="584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4" name="Прямоугольник 10"/>
              <p:cNvSpPr/>
              <p:nvPr/>
            </p:nvSpPr>
            <p:spPr>
              <a:xfrm>
                <a:off x="7464600" y="3506760"/>
                <a:ext cx="74268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e0e0e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5" name="Прямоугольник 11"/>
              <p:cNvSpPr/>
              <p:nvPr/>
            </p:nvSpPr>
            <p:spPr>
              <a:xfrm>
                <a:off x="7256520" y="4600440"/>
                <a:ext cx="86652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e0e0e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6" name="Прямая соединительная линия 12"/>
              <p:cNvSpPr/>
              <p:nvPr/>
            </p:nvSpPr>
            <p:spPr>
              <a:xfrm>
                <a:off x="2230200" y="5321160"/>
                <a:ext cx="58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Прямоугольник 13"/>
              <p:cNvSpPr/>
              <p:nvPr/>
            </p:nvSpPr>
            <p:spPr>
              <a:xfrm>
                <a:off x="1500120" y="2060640"/>
                <a:ext cx="2423880" cy="86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777777"/>
                    </a:solidFill>
                    <a:latin typeface="Times New Roman"/>
                    <a:ea typeface="Times New Roman"/>
                  </a:rPr>
                  <a:t>a‖b,  b‖c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8" name="Прямая соединительная линия 5"/>
            <p:cNvSpPr/>
            <p:nvPr/>
          </p:nvSpPr>
          <p:spPr>
            <a:xfrm>
              <a:off x="2367000" y="4157640"/>
              <a:ext cx="584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9" name="Прямоугольник 21"/>
          <p:cNvSpPr/>
          <p:nvPr/>
        </p:nvSpPr>
        <p:spPr>
          <a:xfrm flipH="1">
            <a:off x="7380360" y="2492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e0e0e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Группа 2"/>
          <p:cNvGrpSpPr/>
          <p:nvPr/>
        </p:nvGrpSpPr>
        <p:grpSpPr>
          <a:xfrm>
            <a:off x="971640" y="836640"/>
            <a:ext cx="6842160" cy="4824360"/>
            <a:chOff x="971640" y="836640"/>
            <a:chExt cx="6842160" cy="4824360"/>
          </a:xfrm>
        </p:grpSpPr>
        <p:sp>
          <p:nvSpPr>
            <p:cNvPr id="1131" name="Прямоугольник 6"/>
            <p:cNvSpPr/>
            <p:nvPr/>
          </p:nvSpPr>
          <p:spPr>
            <a:xfrm>
              <a:off x="971640" y="836640"/>
              <a:ext cx="6842160" cy="482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Прямая соединительная линия 7"/>
            <p:cNvSpPr/>
            <p:nvPr/>
          </p:nvSpPr>
          <p:spPr>
            <a:xfrm>
              <a:off x="1839960" y="2565360"/>
              <a:ext cx="514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3" name="Прямая соединительная линия 8"/>
            <p:cNvSpPr/>
            <p:nvPr/>
          </p:nvSpPr>
          <p:spPr>
            <a:xfrm flipV="1">
              <a:off x="3929040" y="1093680"/>
              <a:ext cx="0" cy="442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Прямоугольник 9"/>
            <p:cNvSpPr/>
            <p:nvPr/>
          </p:nvSpPr>
          <p:spPr>
            <a:xfrm>
              <a:off x="1725480" y="1762200"/>
              <a:ext cx="761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5" name="Прямоугольник 10"/>
            <p:cNvSpPr/>
            <p:nvPr/>
          </p:nvSpPr>
          <p:spPr>
            <a:xfrm>
              <a:off x="1839960" y="3573360"/>
              <a:ext cx="653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6" name="Прямоугольник 16"/>
            <p:cNvSpPr/>
            <p:nvPr/>
          </p:nvSpPr>
          <p:spPr>
            <a:xfrm>
              <a:off x="3886200" y="836640"/>
              <a:ext cx="761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7" name="Прямая соединительная линия 14"/>
            <p:cNvSpPr/>
            <p:nvPr/>
          </p:nvSpPr>
          <p:spPr>
            <a:xfrm>
              <a:off x="1882800" y="4292640"/>
              <a:ext cx="514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Прямоугольник 1"/>
            <p:cNvSpPr/>
            <p:nvPr/>
          </p:nvSpPr>
          <p:spPr>
            <a:xfrm>
              <a:off x="3936960" y="2276280"/>
              <a:ext cx="31248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Прямоугольник 11"/>
            <p:cNvSpPr/>
            <p:nvPr/>
          </p:nvSpPr>
          <p:spPr>
            <a:xfrm>
              <a:off x="3935520" y="4014720"/>
              <a:ext cx="31248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Группа 6"/>
          <p:cNvGrpSpPr/>
          <p:nvPr/>
        </p:nvGrpSpPr>
        <p:grpSpPr>
          <a:xfrm>
            <a:off x="2556000" y="3711600"/>
            <a:ext cx="4181400" cy="3102120"/>
            <a:chOff x="2556000" y="3711600"/>
            <a:chExt cx="4181400" cy="3102120"/>
          </a:xfrm>
        </p:grpSpPr>
        <p:grpSp>
          <p:nvGrpSpPr>
            <p:cNvPr id="1141" name="Группа 65"/>
            <p:cNvGrpSpPr/>
            <p:nvPr/>
          </p:nvGrpSpPr>
          <p:grpSpPr>
            <a:xfrm>
              <a:off x="2556000" y="3711600"/>
              <a:ext cx="4181400" cy="3102120"/>
              <a:chOff x="2556000" y="3711600"/>
              <a:chExt cx="4181400" cy="3102120"/>
            </a:xfrm>
          </p:grpSpPr>
          <p:sp>
            <p:nvSpPr>
              <p:cNvPr id="1142" name="Прямоугольник 70"/>
              <p:cNvSpPr/>
              <p:nvPr/>
            </p:nvSpPr>
            <p:spPr>
              <a:xfrm>
                <a:off x="2556000" y="3711600"/>
                <a:ext cx="4181400" cy="31021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3" name="Прямая соединительная линия 71"/>
              <p:cNvSpPr/>
              <p:nvPr/>
            </p:nvSpPr>
            <p:spPr>
              <a:xfrm>
                <a:off x="3085920" y="4822920"/>
                <a:ext cx="314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4" name="Прямая соединительная линия 72"/>
              <p:cNvSpPr/>
              <p:nvPr/>
            </p:nvSpPr>
            <p:spPr>
              <a:xfrm flipV="1">
                <a:off x="3486240" y="3849120"/>
                <a:ext cx="1882800" cy="284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5" name="Прямоугольник 73"/>
              <p:cNvSpPr/>
              <p:nvPr/>
            </p:nvSpPr>
            <p:spPr>
              <a:xfrm>
                <a:off x="3016080" y="430668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6" name="Прямоугольник 74"/>
              <p:cNvSpPr/>
              <p:nvPr/>
            </p:nvSpPr>
            <p:spPr>
              <a:xfrm>
                <a:off x="3085920" y="5367600"/>
                <a:ext cx="3999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7" name="Прямоугольник 75"/>
              <p:cNvSpPr/>
              <p:nvPr/>
            </p:nvSpPr>
            <p:spPr>
              <a:xfrm>
                <a:off x="4757760" y="371160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8" name="Прямая соединительная линия 76"/>
              <p:cNvSpPr/>
              <p:nvPr/>
            </p:nvSpPr>
            <p:spPr>
              <a:xfrm>
                <a:off x="3112920" y="5934240"/>
                <a:ext cx="314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9" name="Прямоугольник 77"/>
              <p:cNvSpPr/>
              <p:nvPr/>
            </p:nvSpPr>
            <p:spPr>
              <a:xfrm>
                <a:off x="4071960" y="5519880"/>
                <a:ext cx="466560" cy="4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0" name="Прямоугольник 78"/>
              <p:cNvSpPr/>
              <p:nvPr/>
            </p:nvSpPr>
            <p:spPr>
              <a:xfrm>
                <a:off x="4532400" y="482760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1" name="Прямоугольник 80"/>
              <p:cNvSpPr/>
              <p:nvPr/>
            </p:nvSpPr>
            <p:spPr>
              <a:xfrm>
                <a:off x="2646360" y="379872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3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52" name="Объект 2"/>
                <p:cNvSpPr txBox="1"/>
                <p:nvPr/>
              </p:nvSpPr>
              <p:spPr>
                <a:xfrm>
                  <a:off x="4108680" y="6202440"/>
                  <a:ext cx="21258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3" name="Группа 4"/>
          <p:cNvGrpSpPr/>
          <p:nvPr/>
        </p:nvGrpSpPr>
        <p:grpSpPr>
          <a:xfrm>
            <a:off x="363600" y="573120"/>
            <a:ext cx="4137120" cy="3048120"/>
            <a:chOff x="363600" y="573120"/>
            <a:chExt cx="4137120" cy="3048120"/>
          </a:xfrm>
        </p:grpSpPr>
        <p:grpSp>
          <p:nvGrpSpPr>
            <p:cNvPr id="1154" name="Группа 4"/>
            <p:cNvGrpSpPr/>
            <p:nvPr/>
          </p:nvGrpSpPr>
          <p:grpSpPr>
            <a:xfrm>
              <a:off x="363600" y="573120"/>
              <a:ext cx="4137120" cy="3048120"/>
              <a:chOff x="363600" y="573120"/>
              <a:chExt cx="4137120" cy="3048120"/>
            </a:xfrm>
          </p:grpSpPr>
          <p:sp>
            <p:nvSpPr>
              <p:cNvPr id="1155" name="Прямоугольник 13"/>
              <p:cNvSpPr/>
              <p:nvPr/>
            </p:nvSpPr>
            <p:spPr>
              <a:xfrm>
                <a:off x="363600" y="620640"/>
                <a:ext cx="4137120" cy="3000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6" name="Прямая соединительная линия 14"/>
              <p:cNvSpPr/>
              <p:nvPr/>
            </p:nvSpPr>
            <p:spPr>
              <a:xfrm>
                <a:off x="846000" y="1647720"/>
                <a:ext cx="310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7" name="Прямая соединительная линия 15"/>
              <p:cNvSpPr/>
              <p:nvPr/>
            </p:nvSpPr>
            <p:spPr>
              <a:xfrm flipV="1">
                <a:off x="1241280" y="707760"/>
                <a:ext cx="1862280" cy="274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8" name="Прямоугольник 16"/>
              <p:cNvSpPr/>
              <p:nvPr/>
            </p:nvSpPr>
            <p:spPr>
              <a:xfrm>
                <a:off x="776160" y="11491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9" name="Прямоугольник 17"/>
              <p:cNvSpPr/>
              <p:nvPr/>
            </p:nvSpPr>
            <p:spPr>
              <a:xfrm>
                <a:off x="846000" y="2175120"/>
                <a:ext cx="395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0" name="Прямоугольник 18"/>
              <p:cNvSpPr/>
              <p:nvPr/>
            </p:nvSpPr>
            <p:spPr>
              <a:xfrm>
                <a:off x="2500560" y="57312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1" name="Прямая соединительная линия 19"/>
              <p:cNvSpPr/>
              <p:nvPr/>
            </p:nvSpPr>
            <p:spPr>
              <a:xfrm>
                <a:off x="871560" y="272268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2" name="Прямоугольник 23"/>
              <p:cNvSpPr/>
              <p:nvPr/>
            </p:nvSpPr>
            <p:spPr>
              <a:xfrm>
                <a:off x="1820880" y="2320920"/>
                <a:ext cx="4618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3" name="Прямоугольник 24"/>
              <p:cNvSpPr/>
              <p:nvPr/>
            </p:nvSpPr>
            <p:spPr>
              <a:xfrm>
                <a:off x="1820880" y="161928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4" name="Прямоугольник 62"/>
              <p:cNvSpPr/>
              <p:nvPr/>
            </p:nvSpPr>
            <p:spPr>
              <a:xfrm>
                <a:off x="430200" y="6476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65" name="Объект 3"/>
                <p:cNvSpPr txBox="1"/>
                <p:nvPr/>
              </p:nvSpPr>
              <p:spPr>
                <a:xfrm>
                  <a:off x="2462400" y="2910600"/>
                  <a:ext cx="12463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6" name="Группа 5"/>
          <p:cNvGrpSpPr/>
          <p:nvPr/>
        </p:nvGrpSpPr>
        <p:grpSpPr>
          <a:xfrm>
            <a:off x="4859280" y="582480"/>
            <a:ext cx="4032360" cy="2990880"/>
            <a:chOff x="4859280" y="582480"/>
            <a:chExt cx="4032360" cy="2990880"/>
          </a:xfrm>
        </p:grpSpPr>
        <p:grpSp>
          <p:nvGrpSpPr>
            <p:cNvPr id="1167" name="Группа 47"/>
            <p:cNvGrpSpPr/>
            <p:nvPr/>
          </p:nvGrpSpPr>
          <p:grpSpPr>
            <a:xfrm>
              <a:off x="4859280" y="582480"/>
              <a:ext cx="4032360" cy="2990880"/>
              <a:chOff x="4859280" y="582480"/>
              <a:chExt cx="4032360" cy="2990880"/>
            </a:xfrm>
          </p:grpSpPr>
          <p:sp>
            <p:nvSpPr>
              <p:cNvPr id="1168" name="Прямоугольник 52"/>
              <p:cNvSpPr/>
              <p:nvPr/>
            </p:nvSpPr>
            <p:spPr>
              <a:xfrm>
                <a:off x="4859280" y="582480"/>
                <a:ext cx="4032360" cy="299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9" name="Прямая соединительная линия 53"/>
              <p:cNvSpPr/>
              <p:nvPr/>
            </p:nvSpPr>
            <p:spPr>
              <a:xfrm>
                <a:off x="5370480" y="1653840"/>
                <a:ext cx="303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0" name="Прямая соединительная линия 54"/>
              <p:cNvSpPr/>
              <p:nvPr/>
            </p:nvSpPr>
            <p:spPr>
              <a:xfrm flipV="1">
                <a:off x="5756040" y="715680"/>
                <a:ext cx="1816200" cy="274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1" name="Прямоугольник 55"/>
              <p:cNvSpPr/>
              <p:nvPr/>
            </p:nvSpPr>
            <p:spPr>
              <a:xfrm>
                <a:off x="5303520" y="1155600"/>
                <a:ext cx="449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2" name="Прямоугольник 56"/>
              <p:cNvSpPr/>
              <p:nvPr/>
            </p:nvSpPr>
            <p:spPr>
              <a:xfrm>
                <a:off x="5370480" y="2179440"/>
                <a:ext cx="38556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3" name="Прямоугольник 57"/>
              <p:cNvSpPr/>
              <p:nvPr/>
            </p:nvSpPr>
            <p:spPr>
              <a:xfrm>
                <a:off x="6983280" y="582480"/>
                <a:ext cx="44928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4" name="Прямая соединительная линия 58"/>
              <p:cNvSpPr/>
              <p:nvPr/>
            </p:nvSpPr>
            <p:spPr>
              <a:xfrm>
                <a:off x="5395680" y="2725560"/>
                <a:ext cx="303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5" name="Прямоугольник 59"/>
              <p:cNvSpPr/>
              <p:nvPr/>
            </p:nvSpPr>
            <p:spPr>
              <a:xfrm>
                <a:off x="6321240" y="2325600"/>
                <a:ext cx="44928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6" name="Прямоугольник 60"/>
              <p:cNvSpPr/>
              <p:nvPr/>
            </p:nvSpPr>
            <p:spPr>
              <a:xfrm>
                <a:off x="7012080" y="1236600"/>
                <a:ext cx="45072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7" name="Прямоугольник 63"/>
              <p:cNvSpPr/>
              <p:nvPr/>
            </p:nvSpPr>
            <p:spPr>
              <a:xfrm>
                <a:off x="4946400" y="666360"/>
                <a:ext cx="449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78" name="Объект 42"/>
                <p:cNvSpPr txBox="1"/>
                <p:nvPr/>
              </p:nvSpPr>
              <p:spPr>
                <a:xfrm>
                  <a:off x="7012080" y="2925000"/>
                  <a:ext cx="12463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2"/>
          <p:cNvSpPr/>
          <p:nvPr/>
        </p:nvSpPr>
        <p:spPr>
          <a:xfrm>
            <a:off x="179280" y="0"/>
            <a:ext cx="8820360" cy="5763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ожно сказать о прямых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Rectangle 2"/>
          <p:cNvSpPr/>
          <p:nvPr/>
        </p:nvSpPr>
        <p:spPr>
          <a:xfrm>
            <a:off x="3924360" y="990720"/>
            <a:ext cx="4895640" cy="15015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Rectangle 2"/>
          <p:cNvSpPr/>
          <p:nvPr/>
        </p:nvSpPr>
        <p:spPr>
          <a:xfrm>
            <a:off x="3924360" y="2935440"/>
            <a:ext cx="4895640" cy="15015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Прямоугольник 35"/>
          <p:cNvSpPr/>
          <p:nvPr/>
        </p:nvSpPr>
        <p:spPr>
          <a:xfrm>
            <a:off x="2038320" y="1674720"/>
            <a:ext cx="639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3" name="Группа 3"/>
          <p:cNvGrpSpPr/>
          <p:nvPr/>
        </p:nvGrpSpPr>
        <p:grpSpPr>
          <a:xfrm>
            <a:off x="4427640" y="765000"/>
            <a:ext cx="3744720" cy="2303640"/>
            <a:chOff x="4427640" y="765000"/>
            <a:chExt cx="3744720" cy="2303640"/>
          </a:xfrm>
        </p:grpSpPr>
        <p:sp>
          <p:nvSpPr>
            <p:cNvPr id="1184" name="Прямоугольник 7"/>
            <p:cNvSpPr/>
            <p:nvPr/>
          </p:nvSpPr>
          <p:spPr>
            <a:xfrm>
              <a:off x="4427640" y="765000"/>
              <a:ext cx="3744720" cy="230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5" name="Прямая соединительная линия 8"/>
            <p:cNvSpPr/>
            <p:nvPr/>
          </p:nvSpPr>
          <p:spPr>
            <a:xfrm>
              <a:off x="4903560" y="1638000"/>
              <a:ext cx="28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6" name="Прямая соединительная линия 9"/>
            <p:cNvSpPr/>
            <p:nvPr/>
          </p:nvSpPr>
          <p:spPr>
            <a:xfrm flipV="1">
              <a:off x="5261040" y="915840"/>
              <a:ext cx="1685880" cy="211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7" name="Прямоугольник 10"/>
            <p:cNvSpPr/>
            <p:nvPr/>
          </p:nvSpPr>
          <p:spPr>
            <a:xfrm>
              <a:off x="4862520" y="1149120"/>
              <a:ext cx="4190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8" name="Прямоугольник 11"/>
            <p:cNvSpPr/>
            <p:nvPr/>
          </p:nvSpPr>
          <p:spPr>
            <a:xfrm>
              <a:off x="4932360" y="2089080"/>
              <a:ext cx="3553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9" name="Прямоугольник 12"/>
            <p:cNvSpPr/>
            <p:nvPr/>
          </p:nvSpPr>
          <p:spPr>
            <a:xfrm>
              <a:off x="6319800" y="812520"/>
              <a:ext cx="417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0" name="Прямая соединительная линия 13"/>
            <p:cNvSpPr/>
            <p:nvPr/>
          </p:nvSpPr>
          <p:spPr>
            <a:xfrm>
              <a:off x="4925880" y="2462400"/>
              <a:ext cx="28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1" name="Объект 2"/>
                <p:cNvSpPr txBox="1"/>
                <p:nvPr/>
              </p:nvSpPr>
              <p:spPr>
                <a:xfrm>
                  <a:off x="6084000" y="2128320"/>
                  <a:ext cx="303120" cy="27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2" name="Объект 39"/>
                <p:cNvSpPr txBox="1"/>
                <p:nvPr/>
              </p:nvSpPr>
              <p:spPr>
                <a:xfrm>
                  <a:off x="6389640" y="1698480"/>
                  <a:ext cx="37980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3" name="Группа 5"/>
          <p:cNvGrpSpPr/>
          <p:nvPr/>
        </p:nvGrpSpPr>
        <p:grpSpPr>
          <a:xfrm>
            <a:off x="216000" y="2603520"/>
            <a:ext cx="3348000" cy="1833480"/>
            <a:chOff x="216000" y="2603520"/>
            <a:chExt cx="3348000" cy="1833480"/>
          </a:xfrm>
        </p:grpSpPr>
        <p:sp>
          <p:nvSpPr>
            <p:cNvPr id="1194" name="Прямоугольник 17"/>
            <p:cNvSpPr/>
            <p:nvPr/>
          </p:nvSpPr>
          <p:spPr>
            <a:xfrm>
              <a:off x="216000" y="2603520"/>
              <a:ext cx="3348000" cy="183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Прямая соединительная линия 18"/>
            <p:cNvSpPr/>
            <p:nvPr/>
          </p:nvSpPr>
          <p:spPr>
            <a:xfrm flipV="1">
              <a:off x="695160" y="2814120"/>
              <a:ext cx="1320840" cy="14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Прямая соединительная линия 19"/>
            <p:cNvSpPr/>
            <p:nvPr/>
          </p:nvSpPr>
          <p:spPr>
            <a:xfrm flipV="1">
              <a:off x="1587600" y="2685960"/>
              <a:ext cx="1508040" cy="167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Прямоугольник 20"/>
            <p:cNvSpPr/>
            <p:nvPr/>
          </p:nvSpPr>
          <p:spPr>
            <a:xfrm>
              <a:off x="1419120" y="2700360"/>
              <a:ext cx="372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Прямоугольник 21"/>
            <p:cNvSpPr/>
            <p:nvPr/>
          </p:nvSpPr>
          <p:spPr>
            <a:xfrm>
              <a:off x="2524320" y="2733480"/>
              <a:ext cx="318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Прямоугольник 22"/>
            <p:cNvSpPr/>
            <p:nvPr/>
          </p:nvSpPr>
          <p:spPr>
            <a:xfrm>
              <a:off x="2811600" y="3533760"/>
              <a:ext cx="372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0" name="Прямая соединительная линия 23"/>
            <p:cNvSpPr/>
            <p:nvPr/>
          </p:nvSpPr>
          <p:spPr>
            <a:xfrm>
              <a:off x="662040" y="3605040"/>
              <a:ext cx="251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1" name="Объект 40"/>
                <p:cNvSpPr txBox="1"/>
                <p:nvPr/>
              </p:nvSpPr>
              <p:spPr>
                <a:xfrm>
                  <a:off x="1608120" y="3327480"/>
                  <a:ext cx="2728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2" name="Объект 41"/>
                <p:cNvSpPr txBox="1"/>
                <p:nvPr/>
              </p:nvSpPr>
              <p:spPr>
                <a:xfrm>
                  <a:off x="2581560" y="3323520"/>
                  <a:ext cx="2728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3" name="Группа 26"/>
          <p:cNvGrpSpPr/>
          <p:nvPr/>
        </p:nvGrpSpPr>
        <p:grpSpPr>
          <a:xfrm>
            <a:off x="4211640" y="4653000"/>
            <a:ext cx="3349800" cy="1833480"/>
            <a:chOff x="4211640" y="4653000"/>
            <a:chExt cx="3349800" cy="1833480"/>
          </a:xfrm>
        </p:grpSpPr>
        <p:sp>
          <p:nvSpPr>
            <p:cNvPr id="1204" name="Прямоугольник 44"/>
            <p:cNvSpPr/>
            <p:nvPr/>
          </p:nvSpPr>
          <p:spPr>
            <a:xfrm>
              <a:off x="4211640" y="4653000"/>
              <a:ext cx="3349800" cy="183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5" name="Прямая соединительная линия 45"/>
            <p:cNvSpPr/>
            <p:nvPr/>
          </p:nvSpPr>
          <p:spPr>
            <a:xfrm flipV="1">
              <a:off x="4690800" y="4863600"/>
              <a:ext cx="1320840" cy="14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6" name="Прямая соединительная линия 46"/>
            <p:cNvSpPr/>
            <p:nvPr/>
          </p:nvSpPr>
          <p:spPr>
            <a:xfrm flipV="1">
              <a:off x="5585040" y="4735440"/>
              <a:ext cx="1508040" cy="167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7" name="Прямоугольник 47"/>
            <p:cNvSpPr/>
            <p:nvPr/>
          </p:nvSpPr>
          <p:spPr>
            <a:xfrm>
              <a:off x="5415120" y="4749840"/>
              <a:ext cx="3744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Прямоугольник 48"/>
            <p:cNvSpPr/>
            <p:nvPr/>
          </p:nvSpPr>
          <p:spPr>
            <a:xfrm>
              <a:off x="6521760" y="4782960"/>
              <a:ext cx="318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Прямоугольник 49"/>
            <p:cNvSpPr/>
            <p:nvPr/>
          </p:nvSpPr>
          <p:spPr>
            <a:xfrm>
              <a:off x="6809040" y="5583240"/>
              <a:ext cx="372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Прямая соединительная линия 50"/>
            <p:cNvSpPr/>
            <p:nvPr/>
          </p:nvSpPr>
          <p:spPr>
            <a:xfrm>
              <a:off x="4657680" y="5654520"/>
              <a:ext cx="251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1" name="Объект 53"/>
                <p:cNvSpPr txBox="1"/>
                <p:nvPr/>
              </p:nvSpPr>
              <p:spPr>
                <a:xfrm>
                  <a:off x="5003640" y="5351400"/>
                  <a:ext cx="34128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2" name="Объект 54"/>
                <p:cNvSpPr txBox="1"/>
                <p:nvPr/>
              </p:nvSpPr>
              <p:spPr>
                <a:xfrm>
                  <a:off x="5977440" y="5380560"/>
                  <a:ext cx="34128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5" descr="C:\Documents and Settings\Admin\Мои документы\Мои рисунки\весёлые картинки\BS01718_.WMF"/>
          <p:cNvPicPr/>
          <p:nvPr/>
        </p:nvPicPr>
        <p:blipFill>
          <a:blip r:embed="rId1"/>
          <a:stretch/>
        </p:blipFill>
        <p:spPr>
          <a:xfrm>
            <a:off x="-201600" y="4170240"/>
            <a:ext cx="3535200" cy="2949840"/>
          </a:xfrm>
          <a:prstGeom prst="rect">
            <a:avLst/>
          </a:prstGeom>
          <a:ln w="0">
            <a:noFill/>
          </a:ln>
        </p:spPr>
      </p:pic>
      <p:grpSp>
        <p:nvGrpSpPr>
          <p:cNvPr id="1214" name="Группа 1"/>
          <p:cNvGrpSpPr/>
          <p:nvPr/>
        </p:nvGrpSpPr>
        <p:grpSpPr>
          <a:xfrm>
            <a:off x="147600" y="1484280"/>
            <a:ext cx="4424400" cy="3336840"/>
            <a:chOff x="147600" y="1484280"/>
            <a:chExt cx="4424400" cy="3336840"/>
          </a:xfrm>
        </p:grpSpPr>
        <p:sp>
          <p:nvSpPr>
            <p:cNvPr id="1215" name="Прямоугольник 39"/>
            <p:cNvSpPr/>
            <p:nvPr/>
          </p:nvSpPr>
          <p:spPr>
            <a:xfrm>
              <a:off x="147600" y="1644480"/>
              <a:ext cx="4424400" cy="3176640"/>
            </a:xfrm>
            <a:prstGeom prst="rect">
              <a:avLst/>
            </a:prstGeom>
            <a:solidFill>
              <a:srgbClr val="ffff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6" name="Прямая соединительная линия 40"/>
            <p:cNvSpPr/>
            <p:nvPr/>
          </p:nvSpPr>
          <p:spPr>
            <a:xfrm flipV="1">
              <a:off x="403200" y="1868040"/>
              <a:ext cx="3659400" cy="9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7" name="Прямая соединительная линия 41"/>
            <p:cNvSpPr/>
            <p:nvPr/>
          </p:nvSpPr>
          <p:spPr>
            <a:xfrm flipH="1" flipV="1">
              <a:off x="1166760" y="1868400"/>
              <a:ext cx="2260800" cy="24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8" name="Прямоугольник 42"/>
            <p:cNvSpPr/>
            <p:nvPr/>
          </p:nvSpPr>
          <p:spPr>
            <a:xfrm>
              <a:off x="330120" y="22032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9" name="Прямоугольник 43"/>
            <p:cNvSpPr/>
            <p:nvPr/>
          </p:nvSpPr>
          <p:spPr>
            <a:xfrm>
              <a:off x="618840" y="3859200"/>
              <a:ext cx="42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0" name="Прямоугольник 44"/>
            <p:cNvSpPr/>
            <p:nvPr/>
          </p:nvSpPr>
          <p:spPr>
            <a:xfrm>
              <a:off x="1195200" y="148428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Прямая соединительная линия 45"/>
            <p:cNvSpPr/>
            <p:nvPr/>
          </p:nvSpPr>
          <p:spPr>
            <a:xfrm flipV="1">
              <a:off x="747720" y="2228400"/>
              <a:ext cx="3614760" cy="227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Прямоугольник 61"/>
            <p:cNvSpPr/>
            <p:nvPr/>
          </p:nvSpPr>
          <p:spPr>
            <a:xfrm>
              <a:off x="1520640" y="19872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Прямоугольник 62"/>
            <p:cNvSpPr/>
            <p:nvPr/>
          </p:nvSpPr>
          <p:spPr>
            <a:xfrm>
              <a:off x="1062000" y="208440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4" name="Прямоугольник 63"/>
            <p:cNvSpPr/>
            <p:nvPr/>
          </p:nvSpPr>
          <p:spPr>
            <a:xfrm>
              <a:off x="1349280" y="241128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5" name="Прямоугольник 64"/>
            <p:cNvSpPr/>
            <p:nvPr/>
          </p:nvSpPr>
          <p:spPr>
            <a:xfrm>
              <a:off x="1843200" y="22860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6" name="Прямоугольник 65"/>
            <p:cNvSpPr/>
            <p:nvPr/>
          </p:nvSpPr>
          <p:spPr>
            <a:xfrm>
              <a:off x="1996920" y="310032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7" name="Прямоугольник 66"/>
            <p:cNvSpPr/>
            <p:nvPr/>
          </p:nvSpPr>
          <p:spPr>
            <a:xfrm>
              <a:off x="2232000" y="33876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8" name="Прямоугольник 67"/>
            <p:cNvSpPr/>
            <p:nvPr/>
          </p:nvSpPr>
          <p:spPr>
            <a:xfrm>
              <a:off x="2308320" y="28670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9" name="Прямоугольник 68"/>
            <p:cNvSpPr/>
            <p:nvPr/>
          </p:nvSpPr>
          <p:spPr>
            <a:xfrm>
              <a:off x="2635200" y="31496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30" name="Rectangle 2"/>
          <p:cNvSpPr/>
          <p:nvPr/>
        </p:nvSpPr>
        <p:spPr>
          <a:xfrm>
            <a:off x="34920" y="115920"/>
            <a:ext cx="9001080" cy="1297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Выберите верные утверждения: Прямые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араллельны если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Объект 4"/>
              <p:cNvSpPr txBox="1"/>
              <p:nvPr/>
            </p:nvSpPr>
            <p:spPr>
              <a:xfrm>
                <a:off x="5230800" y="2033640"/>
                <a:ext cx="2465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8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Объект 10"/>
              <p:cNvSpPr txBox="1"/>
              <p:nvPr/>
            </p:nvSpPr>
            <p:spPr>
              <a:xfrm>
                <a:off x="5246640" y="1600200"/>
                <a:ext cx="1814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Объект 49"/>
              <p:cNvSpPr txBox="1"/>
              <p:nvPr/>
            </p:nvSpPr>
            <p:spPr>
              <a:xfrm>
                <a:off x="5200560" y="2567160"/>
                <a:ext cx="1881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Объект 50"/>
              <p:cNvSpPr txBox="1"/>
              <p:nvPr/>
            </p:nvSpPr>
            <p:spPr>
              <a:xfrm>
                <a:off x="5205240" y="3068640"/>
                <a:ext cx="2436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Объект 51"/>
              <p:cNvSpPr txBox="1"/>
              <p:nvPr/>
            </p:nvSpPr>
            <p:spPr>
              <a:xfrm>
                <a:off x="5203800" y="3645000"/>
                <a:ext cx="1847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Объект 52"/>
              <p:cNvSpPr txBox="1"/>
              <p:nvPr/>
            </p:nvSpPr>
            <p:spPr>
              <a:xfrm>
                <a:off x="5200560" y="4149720"/>
                <a:ext cx="1847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Объект 53"/>
              <p:cNvSpPr txBox="1"/>
              <p:nvPr/>
            </p:nvSpPr>
            <p:spPr>
              <a:xfrm>
                <a:off x="5207040" y="4653000"/>
                <a:ext cx="2577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ж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7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Объект 54"/>
              <p:cNvSpPr txBox="1"/>
              <p:nvPr/>
            </p:nvSpPr>
            <p:spPr>
              <a:xfrm>
                <a:off x="5219640" y="5213520"/>
                <a:ext cx="2408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34920" y="115920"/>
            <a:ext cx="9001080" cy="1297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араллельны ли прямые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Почему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2" name="Рисунок 3" descr=""/>
          <p:cNvPicPr/>
          <p:nvPr/>
        </p:nvPicPr>
        <p:blipFill>
          <a:blip r:embed="rId1"/>
          <a:stretch/>
        </p:blipFill>
        <p:spPr>
          <a:xfrm>
            <a:off x="5572080" y="4379760"/>
            <a:ext cx="2960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243" name="Группа 3"/>
          <p:cNvGrpSpPr/>
          <p:nvPr/>
        </p:nvGrpSpPr>
        <p:grpSpPr>
          <a:xfrm>
            <a:off x="760320" y="1701720"/>
            <a:ext cx="3451320" cy="2303640"/>
            <a:chOff x="760320" y="1701720"/>
            <a:chExt cx="3451320" cy="2303640"/>
          </a:xfrm>
        </p:grpSpPr>
        <p:grpSp>
          <p:nvGrpSpPr>
            <p:cNvPr id="1244" name="Группа 48"/>
            <p:cNvGrpSpPr/>
            <p:nvPr/>
          </p:nvGrpSpPr>
          <p:grpSpPr>
            <a:xfrm>
              <a:off x="760320" y="1701720"/>
              <a:ext cx="3451320" cy="2303640"/>
              <a:chOff x="760320" y="1701720"/>
              <a:chExt cx="3451320" cy="2303640"/>
            </a:xfrm>
          </p:grpSpPr>
          <p:grpSp>
            <p:nvGrpSpPr>
              <p:cNvPr id="1245" name="Группа 38"/>
              <p:cNvGrpSpPr/>
              <p:nvPr/>
            </p:nvGrpSpPr>
            <p:grpSpPr>
              <a:xfrm>
                <a:off x="760320" y="1701720"/>
                <a:ext cx="3451320" cy="2303640"/>
                <a:chOff x="760320" y="1701720"/>
                <a:chExt cx="3451320" cy="2303640"/>
              </a:xfrm>
            </p:grpSpPr>
            <p:sp>
              <p:nvSpPr>
                <p:cNvPr id="1246" name="Прямоугольник 13"/>
                <p:cNvSpPr/>
                <p:nvPr/>
              </p:nvSpPr>
              <p:spPr>
                <a:xfrm>
                  <a:off x="760320" y="1701720"/>
                  <a:ext cx="3451320" cy="2303640"/>
                </a:xfrm>
                <a:prstGeom prst="rect">
                  <a:avLst/>
                </a:prstGeom>
                <a:solidFill>
                  <a:srgbClr val="ffffe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7" name="Прямая соединительная линия 14"/>
                <p:cNvSpPr/>
                <p:nvPr/>
              </p:nvSpPr>
              <p:spPr>
                <a:xfrm>
                  <a:off x="1198440" y="2527200"/>
                  <a:ext cx="2594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8" name="Прямая соединительная линия 15"/>
                <p:cNvSpPr/>
                <p:nvPr/>
              </p:nvSpPr>
              <p:spPr>
                <a:xfrm flipV="1">
                  <a:off x="1528560" y="1804680"/>
                  <a:ext cx="1552680" cy="211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9" name="Прямоугольник 16"/>
                <p:cNvSpPr/>
                <p:nvPr/>
              </p:nvSpPr>
              <p:spPr>
                <a:xfrm>
                  <a:off x="1161720" y="2039760"/>
                  <a:ext cx="3841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0" name="Прямоугольник 17"/>
                <p:cNvSpPr/>
                <p:nvPr/>
              </p:nvSpPr>
              <p:spPr>
                <a:xfrm>
                  <a:off x="1198440" y="2881440"/>
                  <a:ext cx="3301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1" name="Прямоугольник 18"/>
                <p:cNvSpPr/>
                <p:nvPr/>
              </p:nvSpPr>
              <p:spPr>
                <a:xfrm>
                  <a:off x="2503440" y="1701720"/>
                  <a:ext cx="3855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2" name="Прямая соединительная линия 19"/>
                <p:cNvSpPr/>
                <p:nvPr/>
              </p:nvSpPr>
              <p:spPr>
                <a:xfrm>
                  <a:off x="1218960" y="3353040"/>
                  <a:ext cx="2595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3" name="Прямоугольник 20"/>
                <p:cNvSpPr/>
                <p:nvPr/>
              </p:nvSpPr>
              <p:spPr>
                <a:xfrm>
                  <a:off x="2541600" y="3510000"/>
                  <a:ext cx="5396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)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Прямоугольник 21"/>
                <p:cNvSpPr/>
                <p:nvPr/>
              </p:nvSpPr>
              <p:spPr>
                <a:xfrm>
                  <a:off x="2695680" y="2563920"/>
                  <a:ext cx="3841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5" name="Дуга 12"/>
              <p:cNvSpPr/>
              <p:nvPr/>
            </p:nvSpPr>
            <p:spPr>
              <a:xfrm rot="1655400">
                <a:off x="1860120" y="3021120"/>
                <a:ext cx="458640" cy="506520"/>
              </a:xfrm>
              <a:custGeom>
                <a:avLst/>
                <a:gdLst>
                  <a:gd name="textAreaLeft" fmla="*/ 229320 w 458640"/>
                  <a:gd name="textAreaRight" fmla="*/ 459000 w 458640"/>
                  <a:gd name="textAreaTop" fmla="*/ 0 h 506520"/>
                  <a:gd name="textAreaBottom" fmla="*/ 253440 h 506520"/>
                </a:gdLst>
                <a:ahLst/>
                <a:rect l="textAreaLeft" t="textAreaTop" r="textAreaRight" b="textAreaBottom"/>
                <a:pathLst>
                  <a:path stroke="0" w="445117" h="403193">
                    <a:moveTo>
                      <a:pt x="222559" y="0"/>
                    </a:moveTo>
                    <a:lnTo>
                      <a:pt x="222559" y="0"/>
                    </a:lnTo>
                    <a:arcTo wR="222559" hR="201597" stAng="-5400000" swAng="5400015"/>
                    <a:lnTo>
                      <a:pt x="222559" y="201597"/>
                    </a:lnTo>
                    <a:close/>
                  </a:path>
                  <a:path fill="none" w="445117" h="403193">
                    <a:moveTo>
                      <a:pt x="222559" y="0"/>
                    </a:moveTo>
                    <a:lnTo>
                      <a:pt x="222559" y="0"/>
                    </a:lnTo>
                    <a:arcTo wR="222559" hR="201597" stAng="-5400000" swAng="5400015"/>
                  </a:path>
                </a:pathLst>
              </a:custGeom>
              <a:noFill/>
              <a:ln w="19080">
                <a:solidFill>
                  <a:srgbClr val="0006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6" name="Дуга 7"/>
            <p:cNvSpPr/>
            <p:nvPr/>
          </p:nvSpPr>
          <p:spPr>
            <a:xfrm rot="1655400">
              <a:off x="1787040" y="3067200"/>
              <a:ext cx="457200" cy="506520"/>
            </a:xfrm>
            <a:custGeom>
              <a:avLst/>
              <a:gdLst>
                <a:gd name="textAreaLeft" fmla="*/ 228600 w 457200"/>
                <a:gd name="textAreaRight" fmla="*/ 457560 w 457200"/>
                <a:gd name="textAreaTop" fmla="*/ 0 h 506520"/>
                <a:gd name="textAreaBottom" fmla="*/ 253440 h 506520"/>
              </a:gdLst>
              <a:ahLst/>
              <a:rect l="textAreaLeft" t="textAreaTop" r="textAreaRight" b="textAreaBottom"/>
              <a:pathLst>
                <a:path stroke="0" w="457200" h="506413">
                  <a:moveTo>
                    <a:pt x="228600" y="0"/>
                  </a:moveTo>
                  <a:lnTo>
                    <a:pt x="228600" y="0"/>
                  </a:lnTo>
                  <a:arcTo wR="228600" hR="253207" stAng="-5400000" swAng="5400015"/>
                  <a:lnTo>
                    <a:pt x="228600" y="253207"/>
                  </a:lnTo>
                  <a:close/>
                </a:path>
                <a:path fill="none" w="457200" h="506413">
                  <a:moveTo>
                    <a:pt x="228600" y="0"/>
                  </a:moveTo>
                  <a:lnTo>
                    <a:pt x="228600" y="0"/>
                  </a:lnTo>
                  <a:arcTo wR="228600" hR="253207" stAng="-5400000" swAng="5400015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7" name="Дуга 8"/>
            <p:cNvSpPr/>
            <p:nvPr/>
          </p:nvSpPr>
          <p:spPr>
            <a:xfrm rot="7099800">
              <a:off x="2304360" y="2237760"/>
              <a:ext cx="557280" cy="417240"/>
            </a:xfrm>
            <a:custGeom>
              <a:avLst/>
              <a:gdLst>
                <a:gd name="textAreaLeft" fmla="*/ 278640 w 557280"/>
                <a:gd name="textAreaRight" fmla="*/ 557640 w 557280"/>
                <a:gd name="textAreaTop" fmla="*/ 0 h 417240"/>
                <a:gd name="textAreaBottom" fmla="*/ 208800 h 417240"/>
              </a:gdLst>
              <a:ahLst/>
              <a:rect l="textAreaLeft" t="textAreaTop" r="textAreaRight" b="textAreaBottom"/>
              <a:pathLst>
                <a:path stroke="0" w="557213" h="417513">
                  <a:moveTo>
                    <a:pt x="278607" y="0"/>
                  </a:moveTo>
                  <a:lnTo>
                    <a:pt x="278607" y="0"/>
                  </a:lnTo>
                  <a:arcTo wR="278607" hR="208757" stAng="-5400000" swAng="5400012"/>
                  <a:lnTo>
                    <a:pt x="278607" y="208757"/>
                  </a:lnTo>
                  <a:close/>
                </a:path>
                <a:path fill="none" w="557213" h="417513">
                  <a:moveTo>
                    <a:pt x="278607" y="0"/>
                  </a:moveTo>
                  <a:lnTo>
                    <a:pt x="278607" y="0"/>
                  </a:lnTo>
                  <a:arcTo wR="278607" hR="208757" stAng="-5400000" swAng="5400012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8" name="Объект 2"/>
                <p:cNvSpPr txBox="1"/>
                <p:nvPr/>
              </p:nvSpPr>
              <p:spPr>
                <a:xfrm>
                  <a:off x="2720520" y="2610720"/>
                  <a:ext cx="3175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9" name="Объект 52"/>
                <p:cNvSpPr txBox="1"/>
                <p:nvPr/>
              </p:nvSpPr>
              <p:spPr>
                <a:xfrm>
                  <a:off x="2376360" y="304812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0" name="Группа 5"/>
          <p:cNvGrpSpPr/>
          <p:nvPr/>
        </p:nvGrpSpPr>
        <p:grpSpPr>
          <a:xfrm>
            <a:off x="5003640" y="1557360"/>
            <a:ext cx="3635640" cy="2521080"/>
            <a:chOff x="5003640" y="1557360"/>
            <a:chExt cx="3635640" cy="2521080"/>
          </a:xfrm>
        </p:grpSpPr>
        <p:grpSp>
          <p:nvGrpSpPr>
            <p:cNvPr id="1261" name="Группа 55"/>
            <p:cNvGrpSpPr/>
            <p:nvPr/>
          </p:nvGrpSpPr>
          <p:grpSpPr>
            <a:xfrm>
              <a:off x="5003640" y="1557360"/>
              <a:ext cx="3635640" cy="2521080"/>
              <a:chOff x="5003640" y="1557360"/>
              <a:chExt cx="3635640" cy="2521080"/>
            </a:xfrm>
          </p:grpSpPr>
          <p:grpSp>
            <p:nvGrpSpPr>
              <p:cNvPr id="1262" name="Группа 58"/>
              <p:cNvGrpSpPr/>
              <p:nvPr/>
            </p:nvGrpSpPr>
            <p:grpSpPr>
              <a:xfrm>
                <a:off x="5003640" y="1557360"/>
                <a:ext cx="3635640" cy="2521080"/>
                <a:chOff x="5003640" y="1557360"/>
                <a:chExt cx="3635640" cy="2521080"/>
              </a:xfrm>
            </p:grpSpPr>
            <p:sp>
              <p:nvSpPr>
                <p:cNvPr id="1263" name="Прямоугольник 30"/>
                <p:cNvSpPr/>
                <p:nvPr/>
              </p:nvSpPr>
              <p:spPr>
                <a:xfrm>
                  <a:off x="5003640" y="1699920"/>
                  <a:ext cx="3635640" cy="2294280"/>
                </a:xfrm>
                <a:prstGeom prst="rect">
                  <a:avLst/>
                </a:prstGeom>
                <a:solidFill>
                  <a:srgbClr val="ffffe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4" name="Прямая соединительная линия 31"/>
                <p:cNvSpPr/>
                <p:nvPr/>
              </p:nvSpPr>
              <p:spPr>
                <a:xfrm>
                  <a:off x="5290920" y="2457360"/>
                  <a:ext cx="2732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5" name="Прямая соединительная линия 32"/>
                <p:cNvSpPr/>
                <p:nvPr/>
              </p:nvSpPr>
              <p:spPr>
                <a:xfrm flipH="1" flipV="1">
                  <a:off x="6068880" y="1871640"/>
                  <a:ext cx="1820880" cy="184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6" name="Прямоугольник 33"/>
                <p:cNvSpPr/>
                <p:nvPr/>
              </p:nvSpPr>
              <p:spPr>
                <a:xfrm>
                  <a:off x="5130360" y="1973160"/>
                  <a:ext cx="40464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Прямоугольник 34"/>
                <p:cNvSpPr/>
                <p:nvPr/>
              </p:nvSpPr>
              <p:spPr>
                <a:xfrm>
                  <a:off x="5425920" y="2809800"/>
                  <a:ext cx="34740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Прямоугольник 35"/>
                <p:cNvSpPr/>
                <p:nvPr/>
              </p:nvSpPr>
              <p:spPr>
                <a:xfrm>
                  <a:off x="6040440" y="1557360"/>
                  <a:ext cx="65412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9" name="Прямая соединительная линия 36"/>
                <p:cNvSpPr/>
                <p:nvPr/>
              </p:nvSpPr>
              <p:spPr>
                <a:xfrm>
                  <a:off x="5364000" y="3262320"/>
                  <a:ext cx="2733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0" name="Прямоугольник 37"/>
                <p:cNvSpPr/>
                <p:nvPr/>
              </p:nvSpPr>
              <p:spPr>
                <a:xfrm>
                  <a:off x="5887800" y="3268800"/>
                  <a:ext cx="109044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б</a:t>
                  </a: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1" name="Дуга 29"/>
              <p:cNvSpPr/>
              <p:nvPr/>
            </p:nvSpPr>
            <p:spPr>
              <a:xfrm rot="15432000">
                <a:off x="6231960" y="2255400"/>
                <a:ext cx="555480" cy="438120"/>
              </a:xfrm>
              <a:custGeom>
                <a:avLst/>
                <a:gdLst>
                  <a:gd name="textAreaLeft" fmla="*/ 277920 w 555480"/>
                  <a:gd name="textAreaRight" fmla="*/ 555840 w 555480"/>
                  <a:gd name="textAreaTop" fmla="*/ 0 h 438120"/>
                  <a:gd name="textAreaBottom" fmla="*/ 219240 h 438120"/>
                </a:gdLst>
                <a:ahLst/>
                <a:rect l="textAreaLeft" t="textAreaTop" r="textAreaRight" b="textAreaBottom"/>
                <a:pathLst>
                  <a:path stroke="0" w="444382" h="403561">
                    <a:moveTo>
                      <a:pt x="222191" y="0"/>
                    </a:moveTo>
                    <a:lnTo>
                      <a:pt x="222191" y="0"/>
                    </a:lnTo>
                    <a:arcTo wR="222191" hR="201781" stAng="-5400000" swAng="5400015"/>
                    <a:lnTo>
                      <a:pt x="222191" y="201781"/>
                    </a:lnTo>
                    <a:close/>
                  </a:path>
                  <a:path fill="none" w="444382" h="403561">
                    <a:moveTo>
                      <a:pt x="222191" y="0"/>
                    </a:moveTo>
                    <a:lnTo>
                      <a:pt x="222191" y="0"/>
                    </a:lnTo>
                    <a:arcTo wR="222191" hR="201781" stAng="-5400000" swAng="5400015"/>
                  </a:path>
                </a:pathLst>
              </a:custGeom>
              <a:noFill/>
              <a:ln w="19080">
                <a:solidFill>
                  <a:srgbClr val="0006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2" name="Дуга 24"/>
            <p:cNvSpPr/>
            <p:nvPr/>
          </p:nvSpPr>
          <p:spPr>
            <a:xfrm rot="15585000">
              <a:off x="6131160" y="2225880"/>
              <a:ext cx="555480" cy="439560"/>
            </a:xfrm>
            <a:custGeom>
              <a:avLst/>
              <a:gdLst>
                <a:gd name="textAreaLeft" fmla="*/ 277920 w 555480"/>
                <a:gd name="textAreaRight" fmla="*/ 555840 w 555480"/>
                <a:gd name="textAreaTop" fmla="*/ 0 h 439560"/>
                <a:gd name="textAreaBottom" fmla="*/ 219960 h 439560"/>
              </a:gdLst>
              <a:ahLst/>
              <a:rect l="textAreaLeft" t="textAreaTop" r="textAreaRight" b="textAreaBottom"/>
              <a:pathLst>
                <a:path stroke="0" w="555625" h="439737">
                  <a:moveTo>
                    <a:pt x="277813" y="0"/>
                  </a:moveTo>
                  <a:lnTo>
                    <a:pt x="277813" y="0"/>
                  </a:lnTo>
                  <a:arcTo wR="277813" hR="219869" stAng="-5400000" swAng="5400012"/>
                  <a:lnTo>
                    <a:pt x="277813" y="219869"/>
                  </a:lnTo>
                  <a:close/>
                </a:path>
                <a:path fill="none" w="555625" h="439737">
                  <a:moveTo>
                    <a:pt x="277813" y="0"/>
                  </a:moveTo>
                  <a:lnTo>
                    <a:pt x="277813" y="0"/>
                  </a:lnTo>
                  <a:arcTo wR="277813" hR="219869" stAng="-5400000" swAng="5400012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Дуга 25"/>
            <p:cNvSpPr/>
            <p:nvPr/>
          </p:nvSpPr>
          <p:spPr>
            <a:xfrm rot="20577000">
              <a:off x="7228080" y="3073320"/>
              <a:ext cx="361800" cy="506160"/>
            </a:xfrm>
            <a:custGeom>
              <a:avLst/>
              <a:gdLst>
                <a:gd name="textAreaLeft" fmla="*/ 181080 w 361800"/>
                <a:gd name="textAreaRight" fmla="*/ 362160 w 361800"/>
                <a:gd name="textAreaTop" fmla="*/ 0 h 506160"/>
                <a:gd name="textAreaBottom" fmla="*/ 253080 h 506160"/>
              </a:gdLst>
              <a:ahLst/>
              <a:rect l="textAreaLeft" t="textAreaTop" r="textAreaRight" b="textAreaBottom"/>
              <a:pathLst>
                <a:path stroke="0" w="361950" h="506413">
                  <a:moveTo>
                    <a:pt x="180975" y="0"/>
                  </a:moveTo>
                  <a:lnTo>
                    <a:pt x="180975" y="0"/>
                  </a:lnTo>
                  <a:arcTo wR="180975" hR="253207" stAng="-5400000" swAng="5400000"/>
                  <a:lnTo>
                    <a:pt x="180975" y="253207"/>
                  </a:lnTo>
                  <a:close/>
                </a:path>
                <a:path fill="none" w="361950" h="506413">
                  <a:moveTo>
                    <a:pt x="180975" y="0"/>
                  </a:moveTo>
                  <a:lnTo>
                    <a:pt x="180975" y="0"/>
                  </a:lnTo>
                  <a:arcTo wR="180975" hR="253207" stAng="-5400000" swAng="5400000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4" name="Объект 58"/>
                <p:cNvSpPr txBox="1"/>
                <p:nvPr/>
              </p:nvSpPr>
              <p:spPr>
                <a:xfrm>
                  <a:off x="5887800" y="211752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5" name="Объект 69"/>
                <p:cNvSpPr txBox="1"/>
                <p:nvPr/>
              </p:nvSpPr>
              <p:spPr>
                <a:xfrm>
                  <a:off x="7602480" y="2966760"/>
                  <a:ext cx="3175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6" name="Группа 38"/>
          <p:cNvGrpSpPr/>
          <p:nvPr/>
        </p:nvGrpSpPr>
        <p:grpSpPr>
          <a:xfrm>
            <a:off x="861840" y="4292640"/>
            <a:ext cx="3349800" cy="2232000"/>
            <a:chOff x="861840" y="4292640"/>
            <a:chExt cx="3349800" cy="2232000"/>
          </a:xfrm>
        </p:grpSpPr>
        <p:grpSp>
          <p:nvGrpSpPr>
            <p:cNvPr id="1277" name="Группа 113"/>
            <p:cNvGrpSpPr/>
            <p:nvPr/>
          </p:nvGrpSpPr>
          <p:grpSpPr>
            <a:xfrm>
              <a:off x="861840" y="4292640"/>
              <a:ext cx="3349800" cy="2232000"/>
              <a:chOff x="861840" y="4292640"/>
              <a:chExt cx="3349800" cy="2232000"/>
            </a:xfrm>
          </p:grpSpPr>
          <p:grpSp>
            <p:nvGrpSpPr>
              <p:cNvPr id="1278" name="Группа 116"/>
              <p:cNvGrpSpPr/>
              <p:nvPr/>
            </p:nvGrpSpPr>
            <p:grpSpPr>
              <a:xfrm>
                <a:off x="861840" y="4292640"/>
                <a:ext cx="3349800" cy="2232000"/>
                <a:chOff x="861840" y="4292640"/>
                <a:chExt cx="3349800" cy="2232000"/>
              </a:xfrm>
            </p:grpSpPr>
            <p:sp>
              <p:nvSpPr>
                <p:cNvPr id="1279" name="Прямоугольник 45"/>
                <p:cNvSpPr/>
                <p:nvPr/>
              </p:nvSpPr>
              <p:spPr>
                <a:xfrm>
                  <a:off x="861840" y="4292640"/>
                  <a:ext cx="3349800" cy="2232000"/>
                </a:xfrm>
                <a:prstGeom prst="rect">
                  <a:avLst/>
                </a:prstGeom>
                <a:solidFill>
                  <a:srgbClr val="ffffe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Прямая соединительная линия 46"/>
                <p:cNvSpPr/>
                <p:nvPr/>
              </p:nvSpPr>
              <p:spPr>
                <a:xfrm>
                  <a:off x="1287000" y="5092560"/>
                  <a:ext cx="2517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Прямая соединительная линия 47"/>
                <p:cNvSpPr/>
                <p:nvPr/>
              </p:nvSpPr>
              <p:spPr>
                <a:xfrm flipV="1">
                  <a:off x="1606320" y="4392360"/>
                  <a:ext cx="1508040" cy="204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Прямая соединительная линия 48"/>
                <p:cNvSpPr/>
                <p:nvPr/>
              </p:nvSpPr>
              <p:spPr>
                <a:xfrm>
                  <a:off x="1307880" y="5891400"/>
                  <a:ext cx="2517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Прямоугольник 49"/>
                <p:cNvSpPr/>
                <p:nvPr/>
              </p:nvSpPr>
              <p:spPr>
                <a:xfrm>
                  <a:off x="1252080" y="4619520"/>
                  <a:ext cx="37296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Прямоугольник 50"/>
                <p:cNvSpPr/>
                <p:nvPr/>
              </p:nvSpPr>
              <p:spPr>
                <a:xfrm>
                  <a:off x="1287000" y="5435640"/>
                  <a:ext cx="31896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Прямоугольник 51"/>
                <p:cNvSpPr/>
                <p:nvPr/>
              </p:nvSpPr>
              <p:spPr>
                <a:xfrm>
                  <a:off x="2554200" y="4292640"/>
                  <a:ext cx="37296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Прямоугольник 52"/>
                <p:cNvSpPr/>
                <p:nvPr/>
              </p:nvSpPr>
              <p:spPr>
                <a:xfrm>
                  <a:off x="2225520" y="6096240"/>
                  <a:ext cx="112248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в)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7" name="Дуга 44"/>
              <p:cNvSpPr/>
              <p:nvPr/>
            </p:nvSpPr>
            <p:spPr>
              <a:xfrm rot="1655400">
                <a:off x="2607840" y="4754160"/>
                <a:ext cx="333360" cy="492120"/>
              </a:xfrm>
              <a:custGeom>
                <a:avLst/>
                <a:gdLst>
                  <a:gd name="textAreaLeft" fmla="*/ 166680 w 333360"/>
                  <a:gd name="textAreaRight" fmla="*/ 333720 w 333360"/>
                  <a:gd name="textAreaTop" fmla="*/ 0 h 492120"/>
                  <a:gd name="textAreaBottom" fmla="*/ 246240 h 492120"/>
                </a:gdLst>
                <a:ahLst/>
                <a:rect l="textAreaLeft" t="textAreaTop" r="textAreaRight" b="textAreaBottom"/>
                <a:pathLst>
                  <a:path stroke="0" w="333252" h="404359">
                    <a:moveTo>
                      <a:pt x="166626" y="0"/>
                    </a:moveTo>
                    <a:lnTo>
                      <a:pt x="166626" y="0"/>
                    </a:lnTo>
                    <a:arcTo wR="166626" hR="202180" stAng="-5400000" swAng="5400000"/>
                    <a:lnTo>
                      <a:pt x="166626" y="202180"/>
                    </a:lnTo>
                    <a:close/>
                  </a:path>
                  <a:path fill="none" w="333252" h="404359">
                    <a:moveTo>
                      <a:pt x="166626" y="0"/>
                    </a:moveTo>
                    <a:lnTo>
                      <a:pt x="166626" y="0"/>
                    </a:lnTo>
                    <a:arcTo wR="166626" hR="202180" stAng="-5400000" swAng="5400000"/>
                  </a:path>
                </a:pathLst>
              </a:custGeom>
              <a:noFill/>
              <a:ln w="19080">
                <a:solidFill>
                  <a:srgbClr val="0006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8" name="Объект 54"/>
                <p:cNvSpPr txBox="1"/>
                <p:nvPr/>
              </p:nvSpPr>
              <p:spPr>
                <a:xfrm>
                  <a:off x="3052080" y="473652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9" name="Объект 55"/>
                <p:cNvSpPr txBox="1"/>
                <p:nvPr/>
              </p:nvSpPr>
              <p:spPr>
                <a:xfrm>
                  <a:off x="1395720" y="604584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90" name="Дуга 42"/>
            <p:cNvSpPr/>
            <p:nvPr/>
          </p:nvSpPr>
          <p:spPr>
            <a:xfrm rot="11137200">
              <a:off x="1648800" y="5701680"/>
              <a:ext cx="444240" cy="492120"/>
            </a:xfrm>
            <a:custGeom>
              <a:avLst/>
              <a:gdLst>
                <a:gd name="textAreaLeft" fmla="*/ 222120 w 444240"/>
                <a:gd name="textAreaRight" fmla="*/ 444600 w 444240"/>
                <a:gd name="textAreaTop" fmla="*/ 0 h 492120"/>
                <a:gd name="textAreaBottom" fmla="*/ 246240 h 492120"/>
              </a:gdLst>
              <a:ahLst/>
              <a:rect l="textAreaLeft" t="textAreaTop" r="textAreaRight" b="textAreaBottom"/>
              <a:pathLst>
                <a:path stroke="0" w="444500" h="492125">
                  <a:moveTo>
                    <a:pt x="222250" y="0"/>
                  </a:moveTo>
                  <a:lnTo>
                    <a:pt x="222250" y="0"/>
                  </a:lnTo>
                  <a:arcTo wR="222250" hR="246063" stAng="-5400000" swAng="5400015"/>
                  <a:lnTo>
                    <a:pt x="222250" y="246063"/>
                  </a:lnTo>
                  <a:close/>
                </a:path>
                <a:path fill="none" w="444500" h="492125">
                  <a:moveTo>
                    <a:pt x="222250" y="0"/>
                  </a:moveTo>
                  <a:lnTo>
                    <a:pt x="222250" y="0"/>
                  </a:lnTo>
                  <a:arcTo wR="222250" hR="246063" stAng="-5400000" swAng="5400015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1" name="Прямоугольник 1"/>
          <p:cNvSpPr/>
          <p:nvPr/>
        </p:nvSpPr>
        <p:spPr>
          <a:xfrm>
            <a:off x="3592440" y="61563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Прямоугольник 53"/>
          <p:cNvSpPr/>
          <p:nvPr/>
        </p:nvSpPr>
        <p:spPr>
          <a:xfrm>
            <a:off x="3592440" y="36212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Прямоугольник 54"/>
          <p:cNvSpPr/>
          <p:nvPr/>
        </p:nvSpPr>
        <p:spPr>
          <a:xfrm>
            <a:off x="8020080" y="3635280"/>
            <a:ext cx="6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9:08:50Z</dcterms:created>
  <dc:creator>Customer</dc:creator>
  <dc:description/>
  <dc:language>en-US</dc:language>
  <cp:lastModifiedBy>RePack by SPecialiST</cp:lastModifiedBy>
  <dcterms:modified xsi:type="dcterms:W3CDTF">2018-04-09T15:46:34Z</dcterms:modified>
  <cp:revision>98</cp:revision>
  <dc:subject/>
  <dc:title>01.02.13 Признак параллельности прямых</dc:title>
</cp:coreProperties>
</file>