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3217-B520-4FF5-B8DC-9C2DF27C38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6BEA-E5B4-40B6-8456-5FA48C535D5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7DE6-119E-49D7-8C5E-331AD469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AA1A-A8AE-46DC-8CD4-A5625D25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65280-4463-42BD-97BA-45ED591C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466BA-2E3C-4FEB-A080-AD874F4E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C7183-9C86-4499-B81F-1705CED8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4C549-1E57-4013-BA5F-6BA0B888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137EA-03DD-4509-93D0-E6AB8FA0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A9148-E7EC-4AA0-8381-62C40AD0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59A28-C8A4-4B46-B1D4-B8ECB4D3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F9A3A-7653-43BF-8582-57547FCA5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15251-0C46-43FC-A3E7-FAF740BE5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980113-797F-4048-A9E4-6AC5427D5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BE91-17F5-4E56-8535-D04BB9DCB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B8009-FBDB-4C73-BB6B-5AB2ED96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7B712-7176-4CAA-92C8-57389DD0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C5FE0-F2DA-4355-8322-BB97D532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0580CC-C9D9-4861-930E-51CCDA31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6F362-D5A1-48AE-A351-9D34D033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1FA0C-1146-4AB3-868D-5DA27474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8C16D-0AE4-4664-A4D3-A5E5EA34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59684-3DBF-4478-ABFA-F22441C8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0C4B6-717A-4FA9-BF44-05E1C18A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89F66-D448-439C-BE57-EB682BA89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E33D-62CE-4884-84FC-6FDAD3749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C9F53-EEE9-4746-96F0-3F5F7898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A5528-3733-4568-B4B8-AB62E85C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A6900-6B53-4401-A616-2FABD260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3F2B4-7017-4A05-8727-2DA76C80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E3733-B106-4CDD-B7F2-AD816C11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BEAF5-E328-49A6-B7FC-AF1E1C22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A5B63-C81B-43FD-8651-0011357C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77FB2-D29E-443B-B533-DB601FB9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6AAE7-8E5E-468E-BC94-83040126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F5510-D4D8-4E4D-901B-1D8BF840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4534-E8A9-4494-B221-22F010B44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8EB09-62CB-4EF6-8681-2CE351F7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2D7EA-C0FB-4E1A-A7DF-8F4030CF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C2A1B-6211-4969-B632-09C2A4331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B82F6-0855-48C3-B132-3F69A9111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B53A93-AF25-4FD5-A68D-55356E36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6584D-C555-4F21-AAFA-B0B3E84A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09FFF-1AF2-4852-8A8D-C8400238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E52A53-CDC0-4929-BFF6-087C3984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98C912-0247-4C05-AA13-CC6C7011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4B8191-8C29-4EAB-A671-33B3DC25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594D-2D87-4199-8D88-938ECEA4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A393A0-F640-4E48-BDED-7409B8B2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B68ABE-B68A-417F-8332-03906905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FEB150-5FAC-4D96-B0DE-96D9A347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84673C-1B60-4CE9-BF21-D1005B296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144E61-C05F-402E-9ED9-BC7C90B04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F99116-9772-4CD1-9F3D-1A4711A3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AC1574-C476-4BDF-9060-7711A41D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ED8022-F115-4A95-9CCF-9144591B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FFC839-5094-457E-A3D8-406B0747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CF1894-44E0-418F-B56C-37F8A3CA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03D8-1996-488A-AA45-015CCB1C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6A0E59-5C70-411A-B2C6-14FC1FCF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94B432-79BF-4A34-B2B1-62944CBA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83902E-1A57-455D-9F19-30583F66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64A93C-671A-48E4-BACC-D7A520C4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496679-D252-4ABC-9448-1FBF8F4D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2B0966-14CB-47E7-9C0D-4229A6F91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2B177F-3B3D-4BFB-A829-2B60BAD62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62C79B-9477-434F-8458-30333F4F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E4AE1F-38ED-4AB7-B365-7FFA6A32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38EE8D-E5A0-4A51-BB9A-2AE3BDB1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3730-413C-4A88-940F-30B195A0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889F93-DCE8-438A-9203-6CD170C7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879C82-C3F9-44A9-87B0-E4D52C96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D2522E-5A36-4F96-8880-5EB0C7AB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0F59E4-0F23-4DB4-BB8B-A980BE0D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5A8128-210F-4919-8AC2-6D291EA0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3EB8A4-E164-40DB-A22C-F733A601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C74FA9-3CDC-41AF-AA0F-0FCB950B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844C36-6342-4DF0-9E23-79A307F5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7CB776-0AC7-466B-8617-CE521D12E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D89FDA-7238-4E0A-974A-65A05822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7A39-530F-45FF-BEE4-D3522F8B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98F65A-CAF8-4A0E-9AFD-5C5E5942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C4D73B-88C6-4119-B89C-2E5F3AEC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030478-0E2A-4FF7-BA67-5AA9126F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194B51-5BAD-4BD8-8367-85ED81BA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3D115C-D627-4A3D-98FC-A0906438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44DB7E-A1B0-46D0-AC6F-2522AFD0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ED7DA2-69BD-4DA3-AABE-D9215C88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092C9F-B5CF-4E32-9348-9B58A2ED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ACA705-A880-4106-8808-F4085192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4E9760-E46C-48D4-AEDC-65E3A9E8A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A457-EF35-4393-BD75-0332E5F9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6C2D77-E323-499F-93E3-488EBBA03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6A79EB-3E98-4AB8-8769-6A0AE5F9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741F55-712A-433A-BD1A-B192458B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7A6194-37EA-4D1A-9877-62A4E5A6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A0B9F4-5C67-467D-AC85-1AC7AABD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81BB8F-24AF-4470-B823-29DE7C1E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B911D6-D8AB-4463-8F2C-9F4D7A48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C87B85-7A2A-4A88-870D-831F181F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A99F05-155D-438D-8E02-22CF9CAB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78164C-44B0-4220-BD3A-E9208FA1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DEED-D655-4C4F-AC20-B58CC2C6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25CB94-ECDD-49C4-814E-843050E7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FA0003-CE49-413D-BD90-B02B1101C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658C73-708A-4FF5-9517-9DC68128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9CBEEF-C4A0-46C6-91F1-7AAB58519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9CF82C-D993-448A-9960-A84B6F3D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007722-BBF1-48DE-B1F9-5EDA9206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74D547-DC3A-46D4-988D-BDAE5418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C8E0FA-B7D2-42F8-8751-E88BC79A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9804B1-F3A6-4A41-A795-FA7EE32A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57D671-2F2D-4B7F-84FC-3C3EE9C5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CC28-94C2-4DF1-9E0E-BD2AE712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6720-63BC-4CB3-933B-F985D700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AD7DEB-2B5A-4B8F-84B8-F2AEACCE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CEDD58-2204-44A0-97F5-FBC8C0AB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784A0C-7B95-43BE-85FD-5FA65B27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C21D4B-A169-4584-AC41-D5B44120C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DD9725-C7AC-4419-853C-F36EFA19F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FF417A-CB7A-4AD5-B2C8-96069D04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CD70B6-D846-453A-B779-1CC316FC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0E7FDD-5740-416B-BF37-1A93CB16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D64B27-9191-4CD4-99EF-D0D49DDE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3A4734-207B-4C08-A972-A98B37CE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D50B-6343-4D4C-92FF-FF8D6832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B3A2E1-1920-4A0F-AC13-2D59312B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350AA4-6E44-4D8A-86D6-F6659FD7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8244D8-49C4-470F-B88A-80809248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A30549-C5B0-4DF6-808B-FED244F1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3F9F12-AE53-454C-8117-80D24C16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76A861-D87B-4B7C-88A7-205E8E58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CD8412-7BCA-4B0A-969C-DB97EE76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70A0-FD13-40C2-A137-FEA540A9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A58E-1A96-4F6B-BB1D-ABCD9FC36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3FEE-F6B7-4D8A-8197-B2978DBB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CF6CD-5568-4E87-B82A-F6616887A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1176C-E7DC-4C52-9068-E802AAED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18481-6CD4-489D-A17A-FCDE0789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68B30-4C66-4905-9F77-53D50EA5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2ACB3-9FF0-4F34-B78C-7797C75C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0892-07CD-49FD-94B8-8F828ADD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1C565-46C7-4D60-B36E-F73062A5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4CF5F-7043-49C1-A2A4-BD1B2B7F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16B8D-771B-4365-8EF4-7A73CBD5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9F14C-67B1-44A5-BC34-B110FA47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7B5F3-32DB-49F9-B68C-00E5D5FB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A3ABF-A58E-44F9-889F-FD8A0C480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4273C-80DC-4EFC-B9F2-984909994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85482-1705-4F88-BB7E-6B0094E0C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0CA75-B193-40DC-8B87-B40D6D0B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1F53B-BDE1-4DC1-B3B3-FDD5481B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5452-5005-47AF-A163-818BE917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85F51-1A7B-40DD-B9FE-98F11219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8A8D4-5F7C-4FB7-8767-4325E799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A696D-E233-4452-9225-33059804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9595C-03E6-4BDC-83EF-6F1FF338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9E318-DD4D-4E1C-A998-ED2E0892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C73E5-E7E9-4F8D-9D94-B96AB369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BA7DF-E103-4659-825D-64C28A06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2A77B-2769-4C9A-AD01-DE6B4C41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E31FA-470C-48B7-882A-AFE85BFC6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98288-DF7D-41A3-8345-56EA1834E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00C8-1765-42E5-9605-6ABB120F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563E1-A9F7-4877-B267-78A7D3D6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44AB3-78A5-4CAD-A73D-8A26BDE6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4550F-B5E2-4E77-95B8-DB70F471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68DDD-D2F5-44A1-8F01-6B8CF930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62DC2-D935-493D-86A9-E0700A34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A9048-1B3F-4355-BBFF-D8577000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20782-0CA3-4121-864A-DD2E182D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303FE-C7F0-4C69-B094-CE2EDAE5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56442-57BF-4327-837C-A8DB4C09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AD6CA-3FD0-45E8-9C43-91DA2BA85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C5C1-033B-45DA-962B-7BB28DDC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55855-F267-494A-BA9F-4F8642027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BB737-F688-4DFD-9741-C33C0626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9777D-BA26-4829-B0FE-172A20A4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FBEDC-8914-4C4F-9E35-8ABA6313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9D59E-3034-4FE9-A1FF-0A40E61F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E958D-DECC-4ECF-B951-EF4403C6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E9390-37B3-4290-B680-3186BA29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735D7-90D1-43C0-9B53-C5544761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0F6AF-843B-4588-80B1-3DEEC5AC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00C4D-98A2-439F-A994-6EBC11F8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9350-4C70-4279-86E4-70A3B87F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847AF-8766-4199-93FE-893156B7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397C1-AA87-4014-BC73-41EDFDC74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F4D10-E859-42A0-991B-7BE0CF177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FFB2B-5A08-4F62-987E-F6C23C02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CE373-E493-4CFA-B8D6-F9F79068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2C178-26E0-4AC4-9D79-54AB88BD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01741-E1E2-4392-A591-A8A0B9C5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2115B-820E-4DB1-8C63-A31A54F3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78054-CB38-4B0F-8DD2-C5298F11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477AF-CE4A-4D73-A157-BC3B8F8C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B261-7990-45E1-861B-0C238C74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3669D-46F8-4FC3-9F4F-4501469D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34EF1-21D5-4D66-80B1-4E653FC0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6AAC1-7EE8-4325-8FCD-1C6D4EF8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B8AA5-4D26-4F4C-A309-6F1F1510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9BB49-793D-4F71-9C97-4766B913F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8F9B38-AF79-40A1-B898-9C4FBF2E4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6AFB49-C9F6-4AFD-A7CA-8B685EC0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B07906-B020-4A54-9777-5A6CE5B4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00C312-6019-4992-B404-1304E232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075B00-27E4-4F44-80CB-1B6BC918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8E2D-0F12-4BE8-A27A-BBA21B69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5C8DE1-F586-49FB-8496-59AEF77D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E028FD-B963-4E13-B89E-D63DCF68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061A52-D07E-47CB-8800-578C28F8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C97D0C-FEB9-42F2-8927-EFB7BDD6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17F3F7-F1FF-4CD2-B7CB-9B27C9C3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868CC2-6312-4CA8-8742-CC978B7CD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BC42EB-DD7F-4ACF-AE52-6A8A3D8BE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676A9-B63B-4467-A498-BA09B4A78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95348-E50C-4263-AC9E-B3038062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5E47E-CEC5-444B-B852-B76A0557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3aa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9FDB-C8F3-4237-B600-D7B6FCCE14C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3aa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1DD0-C1E5-4BF6-99D1-70CA7A219C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3aa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3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3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33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5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3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3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6E0D-0A98-4F9A-B79B-BDA119EE0380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3aa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4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85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6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7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4EA0-9839-40ED-9190-28914DEB678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3aa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3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3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7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8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5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6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7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8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9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1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62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6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66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95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20F3-69AE-4F93-B60E-4C002D5F95C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3aa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7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738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9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0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1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2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43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44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745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6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7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8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9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0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0B6F-06BD-41DE-BFDA-BEC7051D1061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3aa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793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4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95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43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44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45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B147-26B9-4CD0-AB58-FD4501A97D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3aa4c"/>
            </a:gs>
            <a:gs pos="100000">
              <a:srgbClr val="ffff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9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840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41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42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3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844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5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46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47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848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9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50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51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852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53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 type="dt" idx="4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 type="ftr" idx="4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 type="sldNum" idx="4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2D47-08F4-4138-B7E8-10D931E375B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3aa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5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96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97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98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9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0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01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02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903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4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5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6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7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08" name="Group 15"/>
              <p:cNvGrpSpPr/>
              <p:nvPr/>
            </p:nvGrpSpPr>
            <p:grpSpPr>
              <a:xfrm>
                <a:off x="852840" y="4053960"/>
                <a:ext cx="1833120" cy="1664640"/>
                <a:chOff x="852840" y="4053960"/>
                <a:chExt cx="1833120" cy="1664640"/>
              </a:xfrm>
            </p:grpSpPr>
            <p:sp>
              <p:nvSpPr>
                <p:cNvPr id="909" name="Freeform 16"/>
                <p:cNvSpPr/>
                <p:nvPr/>
              </p:nvSpPr>
              <p:spPr>
                <a:xfrm flipH="1" rot="7102800">
                  <a:off x="1267200" y="3941280"/>
                  <a:ext cx="476280" cy="1226880"/>
                </a:xfrm>
                <a:custGeom>
                  <a:avLst/>
                  <a:gdLst>
                    <a:gd name="textAreaLeft" fmla="*/ -360 w 476280"/>
                    <a:gd name="textAreaRight" fmla="*/ 476280 w 476280"/>
                    <a:gd name="textAreaTop" fmla="*/ 0 h 1226880"/>
                    <a:gd name="textAreaBottom" fmla="*/ 1227240 h 122688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10" name="Freeform 17"/>
                <p:cNvSpPr/>
                <p:nvPr/>
              </p:nvSpPr>
              <p:spPr>
                <a:xfrm flipH="1" rot="7102800">
                  <a:off x="2342880" y="4977000"/>
                  <a:ext cx="110160" cy="503640"/>
                </a:xfrm>
                <a:custGeom>
                  <a:avLst/>
                  <a:gdLst>
                    <a:gd name="textAreaLeft" fmla="*/ 360 w 110160"/>
                    <a:gd name="textAreaRight" fmla="*/ 110880 w 110160"/>
                    <a:gd name="textAreaTop" fmla="*/ 0 h 503640"/>
                    <a:gd name="textAreaBottom" fmla="*/ 504000 h 50364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11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custGeom>
                  <a:avLst/>
                  <a:gdLst>
                    <a:gd name="textAreaLeft" fmla="*/ -360 w 199800"/>
                    <a:gd name="textAreaRight" fmla="*/ 199800 w 19980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912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913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4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5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16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917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8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9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20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921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2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3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24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5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6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7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8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9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0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1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2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3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4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5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6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7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38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939" name="Group 3"/>
            <p:cNvGrpSpPr/>
            <p:nvPr/>
          </p:nvGrpSpPr>
          <p:grpSpPr>
            <a:xfrm>
              <a:off x="5407920" y="62280"/>
              <a:ext cx="3622680" cy="6130440"/>
              <a:chOff x="5407920" y="62280"/>
              <a:chExt cx="3622680" cy="6130440"/>
            </a:xfrm>
          </p:grpSpPr>
          <p:sp>
            <p:nvSpPr>
              <p:cNvPr id="940" name="Freeform 4"/>
              <p:cNvSpPr/>
              <p:nvPr/>
            </p:nvSpPr>
            <p:spPr>
              <a:xfrm flipV="1" rot="11970000">
                <a:off x="6581160" y="347400"/>
                <a:ext cx="2116800" cy="2354760"/>
              </a:xfrm>
              <a:custGeom>
                <a:avLst/>
                <a:gdLst>
                  <a:gd name="textAreaLeft" fmla="*/ 0 w 2116800"/>
                  <a:gd name="textAreaRight" fmla="*/ 2117160 w 2116800"/>
                  <a:gd name="textAreaTop" fmla="*/ -360 h 2354760"/>
                  <a:gd name="textAreaBottom" fmla="*/ 2354760 h 23547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1" name="Freeform 5"/>
              <p:cNvSpPr/>
              <p:nvPr/>
            </p:nvSpPr>
            <p:spPr>
              <a:xfrm flipV="1" rot="11970000">
                <a:off x="7421400" y="1958760"/>
                <a:ext cx="906840" cy="841680"/>
              </a:xfrm>
              <a:custGeom>
                <a:avLst/>
                <a:gdLst>
                  <a:gd name="textAreaLeft" fmla="*/ 0 w 906840"/>
                  <a:gd name="textAreaRight" fmla="*/ 907200 w 906840"/>
                  <a:gd name="textAreaTop" fmla="*/ 360 h 841680"/>
                  <a:gd name="textAreaBottom" fmla="*/ 842400 h 84168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2" name="Freeform 6"/>
              <p:cNvSpPr/>
              <p:nvPr/>
            </p:nvSpPr>
            <p:spPr>
              <a:xfrm flipV="1" rot="11970000">
                <a:off x="6824160" y="2590200"/>
                <a:ext cx="439920" cy="39456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360 h 394560"/>
                  <a:gd name="textAreaBottom" fmla="*/ 395280 h 39456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3" name="Freeform 7"/>
              <p:cNvSpPr/>
              <p:nvPr/>
            </p:nvSpPr>
            <p:spPr>
              <a:xfrm flipV="1" rot="11970000">
                <a:off x="7251480" y="675360"/>
                <a:ext cx="388800" cy="55044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0440"/>
                  <a:gd name="textAreaBottom" fmla="*/ 550440 h 55044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4" name="Freeform 8"/>
              <p:cNvSpPr/>
              <p:nvPr/>
            </p:nvSpPr>
            <p:spPr>
              <a:xfrm flipV="1" rot="11970000">
                <a:off x="7149960" y="2648880"/>
                <a:ext cx="163440" cy="33084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-360 h 330840"/>
                  <a:gd name="textAreaBottom" fmla="*/ 330840 h 33084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5" name="Freeform 9"/>
              <p:cNvSpPr/>
              <p:nvPr/>
            </p:nvSpPr>
            <p:spPr>
              <a:xfrm flipV="1" rot="11970000">
                <a:off x="7135560" y="1244160"/>
                <a:ext cx="190440" cy="14256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6" name="Freeform 10"/>
              <p:cNvSpPr/>
              <p:nvPr/>
            </p:nvSpPr>
            <p:spPr>
              <a:xfrm flipV="1" rot="11970000">
                <a:off x="5937840" y="2932920"/>
                <a:ext cx="523800" cy="326520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360 h 3265200"/>
                  <a:gd name="textAreaBottom" fmla="*/ 3265920 h 326520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47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8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9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0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1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2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53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54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5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6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57" name="Group 21"/>
            <p:cNvGrpSpPr/>
            <p:nvPr/>
          </p:nvGrpSpPr>
          <p:grpSpPr>
            <a:xfrm>
              <a:off x="5646600" y="305640"/>
              <a:ext cx="888120" cy="826200"/>
              <a:chOff x="5646600" y="305640"/>
              <a:chExt cx="888120" cy="826200"/>
            </a:xfrm>
          </p:grpSpPr>
          <p:sp>
            <p:nvSpPr>
              <p:cNvPr id="958" name="Freeform 22"/>
              <p:cNvSpPr/>
              <p:nvPr/>
            </p:nvSpPr>
            <p:spPr>
              <a:xfrm rot="14908200">
                <a:off x="5758560" y="802800"/>
                <a:ext cx="176040" cy="36144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9" name="Freeform 23"/>
              <p:cNvSpPr/>
              <p:nvPr/>
            </p:nvSpPr>
            <p:spPr>
              <a:xfrm rot="14908200">
                <a:off x="5707080" y="478800"/>
                <a:ext cx="301320" cy="30024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60" name="Freeform 24"/>
              <p:cNvSpPr/>
              <p:nvPr/>
            </p:nvSpPr>
            <p:spPr>
              <a:xfrm rot="14908200">
                <a:off x="6248520" y="403920"/>
                <a:ext cx="315000" cy="152640"/>
              </a:xfrm>
              <a:custGeom>
                <a:avLst/>
                <a:gdLst>
                  <a:gd name="textAreaLeft" fmla="*/ 0 w 315000"/>
                  <a:gd name="textAreaRight" fmla="*/ 315360 w 3150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61" name="Group 25"/>
            <p:cNvGrpSpPr/>
            <p:nvPr/>
          </p:nvGrpSpPr>
          <p:grpSpPr>
            <a:xfrm>
              <a:off x="954000" y="5282640"/>
              <a:ext cx="1062360" cy="840600"/>
              <a:chOff x="954000" y="5282640"/>
              <a:chExt cx="1062360" cy="840600"/>
            </a:xfrm>
          </p:grpSpPr>
          <p:sp>
            <p:nvSpPr>
              <p:cNvPr id="962" name="Freeform 26"/>
              <p:cNvSpPr/>
              <p:nvPr/>
            </p:nvSpPr>
            <p:spPr>
              <a:xfrm rot="8524800">
                <a:off x="1698120" y="5546520"/>
                <a:ext cx="251640" cy="30276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63" name="Freeform 27"/>
              <p:cNvSpPr/>
              <p:nvPr/>
            </p:nvSpPr>
            <p:spPr>
              <a:xfrm rot="8524800">
                <a:off x="1185480" y="5765760"/>
                <a:ext cx="430560" cy="251640"/>
              </a:xfrm>
              <a:custGeom>
                <a:avLst/>
                <a:gdLst>
                  <a:gd name="textAreaLeft" fmla="*/ 0 w 430560"/>
                  <a:gd name="textAreaRight" fmla="*/ 430920 w 4305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64" name="Freeform 28"/>
              <p:cNvSpPr/>
              <p:nvPr/>
            </p:nvSpPr>
            <p:spPr>
              <a:xfrm rot="8524800">
                <a:off x="945720" y="5407200"/>
                <a:ext cx="450000" cy="12816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65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966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67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720"/>
                  <a:gd name="textAreaBottom" fmla="*/ 442080 h 4417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68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69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970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71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72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73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5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6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7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8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9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C043-815A-4F68-8CD6-4FF1D02F34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3aa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2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3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3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3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3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8956-89A9-4D94-9D62-2C8AC2B1209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3aa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C94E-3A64-46D0-BF55-7605BFB72BE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3aa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EA11-01BD-4602-945A-5FDD98A0DDE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0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3aa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2256-DC9A-4554-837F-D96E12E9D5D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73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3aa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2094-C1E1-48CB-8CB4-BC8C48EA49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220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3aa4c"/>
            </a:gs>
            <a:gs pos="100000">
              <a:srgbClr val="ffff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5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6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2C7C-0142-4296-8898-B172D9BBAE5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3aa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306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07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08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9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0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11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12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313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4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5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6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7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18" name="Group 15"/>
              <p:cNvGrpSpPr/>
              <p:nvPr/>
            </p:nvGrpSpPr>
            <p:grpSpPr>
              <a:xfrm>
                <a:off x="852840" y="4053960"/>
                <a:ext cx="1833120" cy="1664640"/>
                <a:chOff x="852840" y="4053960"/>
                <a:chExt cx="1833120" cy="1664640"/>
              </a:xfrm>
            </p:grpSpPr>
            <p:sp>
              <p:nvSpPr>
                <p:cNvPr id="319" name="Freeform 16"/>
                <p:cNvSpPr/>
                <p:nvPr/>
              </p:nvSpPr>
              <p:spPr>
                <a:xfrm flipH="1" rot="7102800">
                  <a:off x="1267200" y="3941280"/>
                  <a:ext cx="476280" cy="1226880"/>
                </a:xfrm>
                <a:custGeom>
                  <a:avLst/>
                  <a:gdLst>
                    <a:gd name="textAreaLeft" fmla="*/ -360 w 476280"/>
                    <a:gd name="textAreaRight" fmla="*/ 476280 w 476280"/>
                    <a:gd name="textAreaTop" fmla="*/ 0 h 1226880"/>
                    <a:gd name="textAreaBottom" fmla="*/ 1227240 h 122688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0" name="Freeform 17"/>
                <p:cNvSpPr/>
                <p:nvPr/>
              </p:nvSpPr>
              <p:spPr>
                <a:xfrm flipH="1" rot="7102800">
                  <a:off x="2342880" y="4977000"/>
                  <a:ext cx="110160" cy="503640"/>
                </a:xfrm>
                <a:custGeom>
                  <a:avLst/>
                  <a:gdLst>
                    <a:gd name="textAreaLeft" fmla="*/ 360 w 110160"/>
                    <a:gd name="textAreaRight" fmla="*/ 110880 w 110160"/>
                    <a:gd name="textAreaTop" fmla="*/ 0 h 503640"/>
                    <a:gd name="textAreaBottom" fmla="*/ 504000 h 50364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1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custGeom>
                  <a:avLst/>
                  <a:gdLst>
                    <a:gd name="textAreaLeft" fmla="*/ -360 w 199800"/>
                    <a:gd name="textAreaRight" fmla="*/ 199800 w 19980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22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323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5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26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327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8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9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30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331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2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3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34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5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6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8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9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0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1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2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4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C333-E180-4E08-A88F-5C035AB89F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3aa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DC28-C168-40BB-9DDD-7830BB1D620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9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3aa4c"/>
            </a:gs>
            <a:gs pos="100000">
              <a:srgbClr val="2b54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C1A3-8BA5-4614-839B-D4B87D11B2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2"/>
          <p:cNvSpPr/>
          <p:nvPr/>
        </p:nvSpPr>
        <p:spPr>
          <a:xfrm>
            <a:off x="1258920" y="476280"/>
            <a:ext cx="72007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2060"/>
                </a:solidFill>
                <a:latin typeface="Times New Roman"/>
              </a:rPr>
              <a:t>14.01.16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i="1" lang="ru-RU" sz="4800" spc="-1" strike="noStrike">
                <a:solidFill>
                  <a:srgbClr val="002060"/>
                </a:solidFill>
                <a:latin typeface="Times New Roman"/>
              </a:rPr>
              <a:t>Решение задач по тем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2060"/>
                </a:solidFill>
                <a:latin typeface="Times New Roman"/>
              </a:rPr>
              <a:t>«Признаки параллельности прямых»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) По данным рисунка найдите угол 1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grpSp>
        <p:nvGrpSpPr>
          <p:cNvPr id="1295" name="Группа 78"/>
          <p:cNvGrpSpPr/>
          <p:nvPr/>
        </p:nvGrpSpPr>
        <p:grpSpPr>
          <a:xfrm>
            <a:off x="1052640" y="1953720"/>
            <a:ext cx="6688080" cy="3778920"/>
            <a:chOff x="1052640" y="1953720"/>
            <a:chExt cx="6688080" cy="3778920"/>
          </a:xfrm>
        </p:grpSpPr>
        <p:sp>
          <p:nvSpPr>
            <p:cNvPr id="1296" name="Прямоугольник 79"/>
            <p:cNvSpPr/>
            <p:nvPr/>
          </p:nvSpPr>
          <p:spPr>
            <a:xfrm>
              <a:off x="1052640" y="2006280"/>
              <a:ext cx="6688080" cy="372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7" name="Прямая соединительная линия 80"/>
            <p:cNvSpPr/>
            <p:nvPr/>
          </p:nvSpPr>
          <p:spPr>
            <a:xfrm flipV="1">
              <a:off x="1208160" y="3254400"/>
              <a:ext cx="6400800" cy="5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8" name="Прямая соединительная линия 81"/>
            <p:cNvSpPr/>
            <p:nvPr/>
          </p:nvSpPr>
          <p:spPr>
            <a:xfrm flipV="1">
              <a:off x="1906560" y="2006280"/>
              <a:ext cx="3011400" cy="341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9" name="Прямоугольник 82"/>
            <p:cNvSpPr/>
            <p:nvPr/>
          </p:nvSpPr>
          <p:spPr>
            <a:xfrm>
              <a:off x="1055520" y="2757240"/>
              <a:ext cx="74592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0" name="Прямоугольник 83"/>
            <p:cNvSpPr/>
            <p:nvPr/>
          </p:nvSpPr>
          <p:spPr>
            <a:xfrm>
              <a:off x="1208160" y="4052880"/>
              <a:ext cx="63972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1" name="Прямоугольник 84"/>
            <p:cNvSpPr/>
            <p:nvPr/>
          </p:nvSpPr>
          <p:spPr>
            <a:xfrm>
              <a:off x="5062680" y="2746080"/>
              <a:ext cx="745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2" name="Прямая соединительная линия 85"/>
            <p:cNvSpPr/>
            <p:nvPr/>
          </p:nvSpPr>
          <p:spPr>
            <a:xfrm flipV="1">
              <a:off x="1208160" y="4589280"/>
              <a:ext cx="6400800" cy="2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3" name="Прямая соединительная линия 88"/>
            <p:cNvSpPr/>
            <p:nvPr/>
          </p:nvSpPr>
          <p:spPr>
            <a:xfrm flipH="1" flipV="1">
              <a:off x="4917960" y="1953720"/>
              <a:ext cx="2475000" cy="372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4" name="Прямоугольник 91"/>
            <p:cNvSpPr/>
            <p:nvPr/>
          </p:nvSpPr>
          <p:spPr>
            <a:xfrm>
              <a:off x="1343160" y="4859640"/>
              <a:ext cx="74592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5" name="Прямоугольник 92"/>
            <p:cNvSpPr/>
            <p:nvPr/>
          </p:nvSpPr>
          <p:spPr>
            <a:xfrm>
              <a:off x="6994800" y="4884840"/>
              <a:ext cx="74592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6" name="Прямоугольник 95"/>
            <p:cNvSpPr/>
            <p:nvPr/>
          </p:nvSpPr>
          <p:spPr>
            <a:xfrm>
              <a:off x="5926320" y="4113360"/>
              <a:ext cx="74592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7" name="Прямоугольник 96"/>
            <p:cNvSpPr/>
            <p:nvPr/>
          </p:nvSpPr>
          <p:spPr>
            <a:xfrm>
              <a:off x="2114640" y="4113360"/>
              <a:ext cx="74592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0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9" name="Объект 2"/>
              <p:cNvSpPr txBox="1"/>
              <p:nvPr/>
            </p:nvSpPr>
            <p:spPr>
              <a:xfrm>
                <a:off x="6732720" y="5661000"/>
                <a:ext cx="19335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0" name="Объект 5"/>
              <p:cNvSpPr txBox="1"/>
              <p:nvPr/>
            </p:nvSpPr>
            <p:spPr>
              <a:xfrm>
                <a:off x="2638440" y="4695840"/>
                <a:ext cx="6382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Объект 23"/>
              <p:cNvSpPr txBox="1"/>
              <p:nvPr/>
            </p:nvSpPr>
            <p:spPr>
              <a:xfrm>
                <a:off x="2814480" y="3351240"/>
                <a:ext cx="505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Объект 24"/>
              <p:cNvSpPr txBox="1"/>
              <p:nvPr/>
            </p:nvSpPr>
            <p:spPr>
              <a:xfrm>
                <a:off x="6719760" y="4041720"/>
                <a:ext cx="6112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088640" y="115560"/>
            <a:ext cx="816300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3) Найдите градусную меру каждого угла, изображенного на чертеж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4" name="Прямоугольник 34"/>
          <p:cNvSpPr/>
          <p:nvPr/>
        </p:nvSpPr>
        <p:spPr>
          <a:xfrm>
            <a:off x="1353960" y="3344760"/>
            <a:ext cx="4399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15" name="Группа 3"/>
          <p:cNvGrpSpPr/>
          <p:nvPr/>
        </p:nvGrpSpPr>
        <p:grpSpPr>
          <a:xfrm>
            <a:off x="250920" y="2133720"/>
            <a:ext cx="3951360" cy="2874960"/>
            <a:chOff x="250920" y="2133720"/>
            <a:chExt cx="3951360" cy="2874960"/>
          </a:xfrm>
        </p:grpSpPr>
        <p:grpSp>
          <p:nvGrpSpPr>
            <p:cNvPr id="1316" name="Группа 2"/>
            <p:cNvGrpSpPr/>
            <p:nvPr/>
          </p:nvGrpSpPr>
          <p:grpSpPr>
            <a:xfrm>
              <a:off x="250920" y="2133720"/>
              <a:ext cx="3951360" cy="2874960"/>
              <a:chOff x="250920" y="2133720"/>
              <a:chExt cx="3951360" cy="2874960"/>
            </a:xfrm>
          </p:grpSpPr>
          <p:sp>
            <p:nvSpPr>
              <p:cNvPr id="1317" name="Прямоугольник 15"/>
              <p:cNvSpPr/>
              <p:nvPr/>
            </p:nvSpPr>
            <p:spPr>
              <a:xfrm>
                <a:off x="250920" y="2133720"/>
                <a:ext cx="3951360" cy="28749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8" name="Прямая соединительная линия 16"/>
              <p:cNvSpPr/>
              <p:nvPr/>
            </p:nvSpPr>
            <p:spPr>
              <a:xfrm flipV="1">
                <a:off x="271440" y="3582720"/>
                <a:ext cx="3780000" cy="44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9" name="Прямая соединительная линия 17"/>
              <p:cNvSpPr/>
              <p:nvPr/>
            </p:nvSpPr>
            <p:spPr>
              <a:xfrm flipV="1">
                <a:off x="790560" y="2235240"/>
                <a:ext cx="936720" cy="252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0" name="Прямоугольник 18"/>
              <p:cNvSpPr/>
              <p:nvPr/>
            </p:nvSpPr>
            <p:spPr>
              <a:xfrm>
                <a:off x="1071720" y="2181240"/>
                <a:ext cx="43956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60c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1" name="Прямоугольник 19"/>
              <p:cNvSpPr/>
              <p:nvPr/>
            </p:nvSpPr>
            <p:spPr>
              <a:xfrm>
                <a:off x="2546640" y="2224080"/>
                <a:ext cx="37764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60c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2" name="Прямоугольник 20"/>
              <p:cNvSpPr/>
              <p:nvPr/>
            </p:nvSpPr>
            <p:spPr>
              <a:xfrm>
                <a:off x="2924280" y="3121200"/>
                <a:ext cx="43956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60c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3" name="Прямая соединительная линия 24"/>
              <p:cNvSpPr/>
              <p:nvPr/>
            </p:nvSpPr>
            <p:spPr>
              <a:xfrm flipH="1" flipV="1">
                <a:off x="3057840" y="2179440"/>
                <a:ext cx="660240" cy="260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4" name="Прямоугольник 25"/>
              <p:cNvSpPr/>
              <p:nvPr/>
            </p:nvSpPr>
            <p:spPr>
              <a:xfrm>
                <a:off x="250920" y="3089160"/>
                <a:ext cx="44136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3200" spc="-1" strike="noStrike">
                    <a:solidFill>
                      <a:srgbClr val="00060c"/>
                    </a:solidFill>
                    <a:latin typeface="Times New Roman"/>
                    <a:ea typeface="Times New Roman"/>
                  </a:rPr>
                  <a:t>с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5" name="Прямоугольник 27"/>
              <p:cNvSpPr/>
              <p:nvPr/>
            </p:nvSpPr>
            <p:spPr>
              <a:xfrm>
                <a:off x="3057840" y="3556080"/>
                <a:ext cx="441360" cy="43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60c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6" name="Прямоугольник 28"/>
              <p:cNvSpPr/>
              <p:nvPr/>
            </p:nvSpPr>
            <p:spPr>
              <a:xfrm>
                <a:off x="762120" y="3556080"/>
                <a:ext cx="441360" cy="43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000" spc="-1" strike="noStrike">
                    <a:solidFill>
                      <a:srgbClr val="00060c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7" name="Прямоугольник 36"/>
              <p:cNvSpPr/>
              <p:nvPr/>
            </p:nvSpPr>
            <p:spPr>
              <a:xfrm>
                <a:off x="834840" y="3124440"/>
                <a:ext cx="43956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000" spc="-1" strike="noStrike">
                    <a:solidFill>
                      <a:srgbClr val="00060c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8" name="Прямоугольник 37"/>
              <p:cNvSpPr/>
              <p:nvPr/>
            </p:nvSpPr>
            <p:spPr>
              <a:xfrm>
                <a:off x="1131840" y="3552840"/>
                <a:ext cx="439560" cy="43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60c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9" name="Прямоугольник 38"/>
              <p:cNvSpPr/>
              <p:nvPr/>
            </p:nvSpPr>
            <p:spPr>
              <a:xfrm>
                <a:off x="3435480" y="3552840"/>
                <a:ext cx="441360" cy="43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60c"/>
                    </a:solidFill>
                    <a:latin typeface="Times New Roman"/>
                    <a:ea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30" name="Object 38"/>
                  <p:cNvSpPr txBox="1"/>
                  <p:nvPr/>
                </p:nvSpPr>
                <p:spPr>
                  <a:xfrm>
                    <a:off x="1444680" y="3300120"/>
                    <a:ext cx="241200" cy="203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331" name="Object 24"/>
                <p:cNvSpPr txBox="1"/>
                <p:nvPr/>
              </p:nvSpPr>
              <p:spPr>
                <a:xfrm>
                  <a:off x="3472200" y="3293640"/>
                  <a:ext cx="30456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32" name="Группа 4"/>
          <p:cNvGrpSpPr/>
          <p:nvPr/>
        </p:nvGrpSpPr>
        <p:grpSpPr>
          <a:xfrm>
            <a:off x="4572000" y="2133720"/>
            <a:ext cx="3970440" cy="2873160"/>
            <a:chOff x="4572000" y="2133720"/>
            <a:chExt cx="3970440" cy="2873160"/>
          </a:xfrm>
        </p:grpSpPr>
        <p:sp>
          <p:nvSpPr>
            <p:cNvPr id="1333" name="Прямоугольник 40"/>
            <p:cNvSpPr/>
            <p:nvPr/>
          </p:nvSpPr>
          <p:spPr>
            <a:xfrm>
              <a:off x="4592520" y="2133720"/>
              <a:ext cx="3949920" cy="2873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4" name="Прямая соединительная линия 41"/>
            <p:cNvSpPr/>
            <p:nvPr/>
          </p:nvSpPr>
          <p:spPr>
            <a:xfrm flipV="1">
              <a:off x="4592520" y="3489120"/>
              <a:ext cx="3780000" cy="4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5" name="Прямая соединительная линия 42"/>
            <p:cNvSpPr/>
            <p:nvPr/>
          </p:nvSpPr>
          <p:spPr>
            <a:xfrm flipV="1">
              <a:off x="5111640" y="2215800"/>
              <a:ext cx="936720" cy="2523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6" name="Прямоугольник 43"/>
            <p:cNvSpPr/>
            <p:nvPr/>
          </p:nvSpPr>
          <p:spPr>
            <a:xfrm>
              <a:off x="5392800" y="2143080"/>
              <a:ext cx="43956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7" name="Прямоугольник 44"/>
            <p:cNvSpPr/>
            <p:nvPr/>
          </p:nvSpPr>
          <p:spPr>
            <a:xfrm>
              <a:off x="7434360" y="2185920"/>
              <a:ext cx="37764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8" name="Прямоугольник 45"/>
            <p:cNvSpPr/>
            <p:nvPr/>
          </p:nvSpPr>
          <p:spPr>
            <a:xfrm>
              <a:off x="7243920" y="3083040"/>
              <a:ext cx="44136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9" name="Прямая соединительная линия 48"/>
            <p:cNvSpPr/>
            <p:nvPr/>
          </p:nvSpPr>
          <p:spPr>
            <a:xfrm flipV="1">
              <a:off x="7020000" y="2254320"/>
              <a:ext cx="985680" cy="255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0" name="Прямоугольник 49"/>
            <p:cNvSpPr/>
            <p:nvPr/>
          </p:nvSpPr>
          <p:spPr>
            <a:xfrm>
              <a:off x="4572000" y="3051000"/>
              <a:ext cx="43956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1" name="Прямоугольник 50"/>
            <p:cNvSpPr/>
            <p:nvPr/>
          </p:nvSpPr>
          <p:spPr>
            <a:xfrm>
              <a:off x="7012080" y="3443400"/>
              <a:ext cx="43956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2" name="Прямоугольник 51"/>
            <p:cNvSpPr/>
            <p:nvPr/>
          </p:nvSpPr>
          <p:spPr>
            <a:xfrm>
              <a:off x="5083200" y="3517920"/>
              <a:ext cx="44136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3" name="Прямоугольник 52"/>
            <p:cNvSpPr/>
            <p:nvPr/>
          </p:nvSpPr>
          <p:spPr>
            <a:xfrm>
              <a:off x="5580000" y="3084480"/>
              <a:ext cx="44136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4" name="Прямоугольник 53"/>
            <p:cNvSpPr/>
            <p:nvPr/>
          </p:nvSpPr>
          <p:spPr>
            <a:xfrm>
              <a:off x="5451480" y="3514680"/>
              <a:ext cx="44136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5" name="Прямоугольник 54"/>
            <p:cNvSpPr/>
            <p:nvPr/>
          </p:nvSpPr>
          <p:spPr>
            <a:xfrm>
              <a:off x="7444080" y="3443400"/>
              <a:ext cx="44136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6" name="Объект 56"/>
                <p:cNvSpPr txBox="1"/>
                <p:nvPr/>
              </p:nvSpPr>
              <p:spPr>
                <a:xfrm>
                  <a:off x="5204520" y="3220200"/>
                  <a:ext cx="30456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47" name="Объект 57"/>
                <p:cNvSpPr txBox="1"/>
                <p:nvPr/>
              </p:nvSpPr>
              <p:spPr>
                <a:xfrm>
                  <a:off x="7764480" y="3198960"/>
                  <a:ext cx="24120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48" name="Объект 1"/>
              <p:cNvSpPr txBox="1"/>
              <p:nvPr/>
            </p:nvSpPr>
            <p:spPr>
              <a:xfrm>
                <a:off x="108000" y="5157720"/>
                <a:ext cx="88898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3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1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5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6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9" name="Объект 39"/>
              <p:cNvSpPr txBox="1"/>
              <p:nvPr/>
            </p:nvSpPr>
            <p:spPr>
              <a:xfrm>
                <a:off x="111240" y="5877000"/>
                <a:ext cx="89247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3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5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6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4720" y="216000"/>
            <a:ext cx="8244000" cy="15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60c"/>
                </a:solidFill>
                <a:latin typeface="Times New Roman"/>
                <a:ea typeface="Times New Roman"/>
              </a:rPr>
              <a:t>По рисунку выберите верные утверждения: если утверждения верны делаем данные действия.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grpSp>
        <p:nvGrpSpPr>
          <p:cNvPr id="1351" name="Группа 5"/>
          <p:cNvGrpSpPr/>
          <p:nvPr/>
        </p:nvGrpSpPr>
        <p:grpSpPr>
          <a:xfrm>
            <a:off x="-36360" y="1890720"/>
            <a:ext cx="4424040" cy="3338640"/>
            <a:chOff x="-36360" y="1890720"/>
            <a:chExt cx="4424040" cy="3338640"/>
          </a:xfrm>
        </p:grpSpPr>
        <p:sp>
          <p:nvSpPr>
            <p:cNvPr id="1352" name="Прямоугольник 6"/>
            <p:cNvSpPr/>
            <p:nvPr/>
          </p:nvSpPr>
          <p:spPr>
            <a:xfrm>
              <a:off x="-36360" y="2050920"/>
              <a:ext cx="4424040" cy="3178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56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3" name="Прямая соединительная линия 7"/>
            <p:cNvSpPr/>
            <p:nvPr/>
          </p:nvSpPr>
          <p:spPr>
            <a:xfrm flipV="1">
              <a:off x="324000" y="2274480"/>
              <a:ext cx="3659040" cy="91260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4" name="Прямая соединительная линия 8"/>
            <p:cNvSpPr/>
            <p:nvPr/>
          </p:nvSpPr>
          <p:spPr>
            <a:xfrm flipH="1" flipV="1">
              <a:off x="1087200" y="2274480"/>
              <a:ext cx="2260440" cy="249732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5" name="Прямоугольник 9"/>
            <p:cNvSpPr/>
            <p:nvPr/>
          </p:nvSpPr>
          <p:spPr>
            <a:xfrm>
              <a:off x="250920" y="2611440"/>
              <a:ext cx="4935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6" name="Прямоугольник 10"/>
            <p:cNvSpPr/>
            <p:nvPr/>
          </p:nvSpPr>
          <p:spPr>
            <a:xfrm>
              <a:off x="539640" y="4267440"/>
              <a:ext cx="42192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b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7" name="Прямоугольник 11"/>
            <p:cNvSpPr/>
            <p:nvPr/>
          </p:nvSpPr>
          <p:spPr>
            <a:xfrm>
              <a:off x="1116000" y="1890720"/>
              <a:ext cx="49212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4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с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8" name="Прямая соединительная линия 12"/>
            <p:cNvSpPr/>
            <p:nvPr/>
          </p:nvSpPr>
          <p:spPr>
            <a:xfrm flipV="1">
              <a:off x="668160" y="2635200"/>
              <a:ext cx="3614760" cy="227520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9" name="Прямоугольник 13"/>
            <p:cNvSpPr/>
            <p:nvPr/>
          </p:nvSpPr>
          <p:spPr>
            <a:xfrm>
              <a:off x="1441440" y="2395440"/>
              <a:ext cx="4935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0" name="Прямоугольник 14"/>
            <p:cNvSpPr/>
            <p:nvPr/>
          </p:nvSpPr>
          <p:spPr>
            <a:xfrm>
              <a:off x="982800" y="2490840"/>
              <a:ext cx="49212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1" name="Прямоугольник 15"/>
            <p:cNvSpPr/>
            <p:nvPr/>
          </p:nvSpPr>
          <p:spPr>
            <a:xfrm>
              <a:off x="1270080" y="2817720"/>
              <a:ext cx="4935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2" name="Прямоугольник 16"/>
            <p:cNvSpPr/>
            <p:nvPr/>
          </p:nvSpPr>
          <p:spPr>
            <a:xfrm>
              <a:off x="1763640" y="2692440"/>
              <a:ext cx="4935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3" name="Прямоугольник 17"/>
            <p:cNvSpPr/>
            <p:nvPr/>
          </p:nvSpPr>
          <p:spPr>
            <a:xfrm>
              <a:off x="1917720" y="3506760"/>
              <a:ext cx="4935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4" name="Прямоугольник 18"/>
            <p:cNvSpPr/>
            <p:nvPr/>
          </p:nvSpPr>
          <p:spPr>
            <a:xfrm>
              <a:off x="2152800" y="3795840"/>
              <a:ext cx="4935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5" name="Прямоугольник 19"/>
            <p:cNvSpPr/>
            <p:nvPr/>
          </p:nvSpPr>
          <p:spPr>
            <a:xfrm>
              <a:off x="2228760" y="3273480"/>
              <a:ext cx="4935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6" name="Прямоугольник 20"/>
            <p:cNvSpPr/>
            <p:nvPr/>
          </p:nvSpPr>
          <p:spPr>
            <a:xfrm>
              <a:off x="2556000" y="3556080"/>
              <a:ext cx="4935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67" name="Объект 2"/>
              <p:cNvSpPr txBox="1"/>
              <p:nvPr/>
            </p:nvSpPr>
            <p:spPr>
              <a:xfrm>
                <a:off x="4464000" y="1773360"/>
                <a:ext cx="464508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и</m:t>
                    </m:r>
                    <m:r>
                      <m:t xml:space="preserve">∠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вертикальны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8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9" name="Rectangle 24"/>
          <p:cNvSpPr/>
          <p:nvPr/>
        </p:nvSpPr>
        <p:spPr>
          <a:xfrm>
            <a:off x="-3960" y="166680"/>
            <a:ext cx="27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 Math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0" name="Объект 24"/>
              <p:cNvSpPr txBox="1"/>
              <p:nvPr/>
            </p:nvSpPr>
            <p:spPr>
              <a:xfrm>
                <a:off x="4356000" y="2349360"/>
                <a:ext cx="46976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∠</m:t>
                    </m:r>
                    <m:r>
                      <m:t xml:space="preserve">5</m:t>
                    </m:r>
                    <m:r>
                      <m:t xml:space="preserve">и</m:t>
                    </m:r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односторонни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1" name="Объект 25"/>
              <p:cNvSpPr txBox="1"/>
              <p:nvPr/>
            </p:nvSpPr>
            <p:spPr>
              <a:xfrm>
                <a:off x="4341960" y="2881440"/>
                <a:ext cx="48020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∠</m:t>
                    </m:r>
                    <m:r>
                      <m:t xml:space="preserve">7</m:t>
                    </m:r>
                    <m:r>
                      <m:t xml:space="preserve">и</m:t>
                    </m:r>
                    <m:r>
                      <m:t xml:space="preserve">∠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соответственны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2" name="Объект 26"/>
              <p:cNvSpPr txBox="1"/>
              <p:nvPr/>
            </p:nvSpPr>
            <p:spPr>
              <a:xfrm>
                <a:off x="3924360" y="6200640"/>
                <a:ext cx="52020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ж</m:t>
                    </m:r>
                    <m:r>
                      <m:t xml:space="preserve">)</m:t>
                    </m:r>
                    <m:r>
                      <m:t xml:space="preserve">∠</m:t>
                    </m:r>
                    <m:r>
                      <m:t xml:space="preserve">3</m:t>
                    </m:r>
                    <m:r>
                      <m:t xml:space="preserve">и</m:t>
                    </m:r>
                    <m:r>
                      <m:t xml:space="preserve">∠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односторонни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3" name="Объект 27"/>
              <p:cNvSpPr txBox="1"/>
              <p:nvPr/>
            </p:nvSpPr>
            <p:spPr>
              <a:xfrm>
                <a:off x="4371840" y="3324240"/>
                <a:ext cx="504828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∠</m:t>
                        </m:r>
                        <m:r>
                          <m:t xml:space="preserve">5</m:t>
                        </m:r>
                        <m:r>
                          <m:t xml:space="preserve">и</m:t>
                        </m:r>
                        <m:r>
                          <m:t xml:space="preserve">∠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акрест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лежащие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4" name="Объект 28"/>
              <p:cNvSpPr txBox="1"/>
              <p:nvPr/>
            </p:nvSpPr>
            <p:spPr>
              <a:xfrm>
                <a:off x="4444920" y="5021280"/>
                <a:ext cx="43322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е</m:t>
                        </m:r>
                        <m:r>
                          <m:t xml:space="preserve">)</m:t>
                        </m:r>
                        <m:r>
                          <m:t xml:space="preserve">∠</m:t>
                        </m:r>
                        <m:r>
                          <m:t xml:space="preserve">7</m:t>
                        </m:r>
                        <m:r>
                          <m:t xml:space="preserve">и</m:t>
                        </m:r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акрест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лежащие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5" name="Объект 29"/>
              <p:cNvSpPr txBox="1"/>
              <p:nvPr/>
            </p:nvSpPr>
            <p:spPr>
              <a:xfrm>
                <a:off x="4443480" y="4471920"/>
                <a:ext cx="39006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д</m:t>
                    </m:r>
                    <m:r>
                      <m:t xml:space="preserve">)</m:t>
                    </m:r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и</m:t>
                    </m:r>
                    <m:r>
                      <m:t xml:space="preserve">∠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смежные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971640" y="115560"/>
            <a:ext cx="793728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амостоятельная работа</a:t>
            </a:r>
            <a:br>
              <a:rPr sz="4400"/>
            </a:br>
            <a:r>
              <a:rPr b="0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риант 1</a:t>
            </a:r>
            <a:r>
              <a:rPr b="0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риант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77" name="Группа 12"/>
          <p:cNvGrpSpPr/>
          <p:nvPr/>
        </p:nvGrpSpPr>
        <p:grpSpPr>
          <a:xfrm>
            <a:off x="2541600" y="1932120"/>
            <a:ext cx="4046400" cy="2792160"/>
            <a:chOff x="2541600" y="1932120"/>
            <a:chExt cx="4046400" cy="2792160"/>
          </a:xfrm>
        </p:grpSpPr>
        <p:sp>
          <p:nvSpPr>
            <p:cNvPr id="1378" name="Прямоугольник 17"/>
            <p:cNvSpPr/>
            <p:nvPr/>
          </p:nvSpPr>
          <p:spPr>
            <a:xfrm>
              <a:off x="2541600" y="1932120"/>
              <a:ext cx="4046400" cy="279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9" name="Прямая соединительная линия 18"/>
            <p:cNvSpPr/>
            <p:nvPr/>
          </p:nvSpPr>
          <p:spPr>
            <a:xfrm>
              <a:off x="2982600" y="2932200"/>
              <a:ext cx="304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0" name="Прямая соединительная линия 19"/>
            <p:cNvSpPr/>
            <p:nvPr/>
          </p:nvSpPr>
          <p:spPr>
            <a:xfrm flipV="1">
              <a:off x="3368520" y="2057400"/>
              <a:ext cx="1822320" cy="255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1" name="Прямоугольник 20"/>
            <p:cNvSpPr/>
            <p:nvPr/>
          </p:nvSpPr>
          <p:spPr>
            <a:xfrm>
              <a:off x="2914560" y="2467080"/>
              <a:ext cx="45072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e0e0e"/>
                  </a:solidFill>
                  <a:latin typeface="Times New Roman"/>
                  <a:ea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2" name="Прямоугольник 21"/>
            <p:cNvSpPr/>
            <p:nvPr/>
          </p:nvSpPr>
          <p:spPr>
            <a:xfrm>
              <a:off x="2982600" y="3424320"/>
              <a:ext cx="3855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e0e0e"/>
                  </a:solidFill>
                  <a:latin typeface="Times New Roman"/>
                  <a:ea typeface="Times New Roman"/>
                </a:rPr>
                <a:t>b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3" name="Прямоугольник 22"/>
            <p:cNvSpPr/>
            <p:nvPr/>
          </p:nvSpPr>
          <p:spPr>
            <a:xfrm>
              <a:off x="4600440" y="1932120"/>
              <a:ext cx="4521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e0e0e"/>
                  </a:solidFill>
                  <a:latin typeface="Times New Roman"/>
                  <a:ea typeface="Times New Roman"/>
                </a:rPr>
                <a:t>c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4" name="Прямая соединительная линия 23"/>
            <p:cNvSpPr/>
            <p:nvPr/>
          </p:nvSpPr>
          <p:spPr>
            <a:xfrm>
              <a:off x="3006720" y="3932280"/>
              <a:ext cx="304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5" name="Прямоугольник 24"/>
            <p:cNvSpPr/>
            <p:nvPr/>
          </p:nvSpPr>
          <p:spPr>
            <a:xfrm>
              <a:off x="3935160" y="3559320"/>
              <a:ext cx="45216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777777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6" name="Прямоугольник 25"/>
            <p:cNvSpPr/>
            <p:nvPr/>
          </p:nvSpPr>
          <p:spPr>
            <a:xfrm>
              <a:off x="4005000" y="2905200"/>
              <a:ext cx="4521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777777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7" name="Прямоугольник 27"/>
            <p:cNvSpPr/>
            <p:nvPr/>
          </p:nvSpPr>
          <p:spPr>
            <a:xfrm>
              <a:off x="2576520" y="2001960"/>
              <a:ext cx="4492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777777"/>
                  </a:solidFill>
                  <a:latin typeface="Times New Roman"/>
                  <a:ea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8" name="Прямоугольник 28"/>
            <p:cNvSpPr/>
            <p:nvPr/>
          </p:nvSpPr>
          <p:spPr>
            <a:xfrm>
              <a:off x="4165560" y="2525760"/>
              <a:ext cx="45216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777777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9" name="Прямоугольник 29"/>
            <p:cNvSpPr/>
            <p:nvPr/>
          </p:nvSpPr>
          <p:spPr>
            <a:xfrm>
              <a:off x="4457520" y="2905200"/>
              <a:ext cx="45072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777777"/>
                  </a:solidFill>
                  <a:latin typeface="Times New Roman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0" name="Прямоугольник 30"/>
            <p:cNvSpPr/>
            <p:nvPr/>
          </p:nvSpPr>
          <p:spPr>
            <a:xfrm>
              <a:off x="4710240" y="2548080"/>
              <a:ext cx="45072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777777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1" name="Прямоугольник 31"/>
            <p:cNvSpPr/>
            <p:nvPr/>
          </p:nvSpPr>
          <p:spPr>
            <a:xfrm>
              <a:off x="3517920" y="3554280"/>
              <a:ext cx="4521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777777"/>
                  </a:solidFill>
                  <a:latin typeface="Times New Roman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92" name="Объект 1"/>
              <p:cNvSpPr txBox="1"/>
              <p:nvPr/>
            </p:nvSpPr>
            <p:spPr>
              <a:xfrm>
                <a:off x="368280" y="4797360"/>
                <a:ext cx="23320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b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3" name="Объект 33"/>
              <p:cNvSpPr txBox="1"/>
              <p:nvPr/>
            </p:nvSpPr>
            <p:spPr>
              <a:xfrm>
                <a:off x="6078600" y="4724280"/>
                <a:ext cx="245412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b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4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94" name="Группа 3"/>
          <p:cNvGrpSpPr/>
          <p:nvPr/>
        </p:nvGrpSpPr>
        <p:grpSpPr>
          <a:xfrm>
            <a:off x="1905120" y="6272280"/>
            <a:ext cx="5330880" cy="541440"/>
            <a:chOff x="1905120" y="6272280"/>
            <a:chExt cx="5330880" cy="541440"/>
          </a:xfrm>
        </p:grpSpPr>
        <mc:AlternateContent>
          <mc:Choice xmlns:a14="http://schemas.microsoft.com/office/drawing/2010/main" Requires="a14">
            <p:sp>
              <p:nvSpPr>
                <p:cNvPr id="1395" name="Объект 2"/>
                <p:cNvSpPr txBox="1"/>
                <p:nvPr/>
              </p:nvSpPr>
              <p:spPr>
                <a:xfrm>
                  <a:off x="1905120" y="6272280"/>
                  <a:ext cx="1808280" cy="50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Найдите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96" name="Объект 35"/>
                <p:cNvSpPr txBox="1"/>
                <p:nvPr/>
              </p:nvSpPr>
              <p:spPr>
                <a:xfrm>
                  <a:off x="3824640" y="6369480"/>
                  <a:ext cx="2127240" cy="3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остальные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97" name="Объект 36"/>
                <p:cNvSpPr txBox="1"/>
                <p:nvPr/>
              </p:nvSpPr>
              <p:spPr>
                <a:xfrm>
                  <a:off x="6172560" y="6343560"/>
                  <a:ext cx="1063440" cy="47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углы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Заголовок 3"/>
          <p:cNvSpPr/>
          <p:nvPr/>
        </p:nvSpPr>
        <p:spPr>
          <a:xfrm>
            <a:off x="150840" y="404640"/>
            <a:ext cx="881388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амостоятельная работа</a:t>
            </a:r>
            <a:br>
              <a:rPr sz="4400"/>
            </a:br>
            <a:r>
              <a:rPr b="0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риант 1</a:t>
            </a:r>
            <a:r>
              <a:rPr b="0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риант 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99" name="Группа 2"/>
          <p:cNvGrpSpPr/>
          <p:nvPr/>
        </p:nvGrpSpPr>
        <p:grpSpPr>
          <a:xfrm>
            <a:off x="115920" y="1700280"/>
            <a:ext cx="4137120" cy="3000240"/>
            <a:chOff x="115920" y="1700280"/>
            <a:chExt cx="4137120" cy="3000240"/>
          </a:xfrm>
        </p:grpSpPr>
        <p:sp>
          <p:nvSpPr>
            <p:cNvPr id="1400" name="Прямоугольник 7"/>
            <p:cNvSpPr/>
            <p:nvPr/>
          </p:nvSpPr>
          <p:spPr>
            <a:xfrm>
              <a:off x="115920" y="1700280"/>
              <a:ext cx="4137120" cy="3000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1" name="Прямая соединительная линия 8"/>
            <p:cNvSpPr/>
            <p:nvPr/>
          </p:nvSpPr>
          <p:spPr>
            <a:xfrm>
              <a:off x="566640" y="2800440"/>
              <a:ext cx="311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2" name="Прямая соединительная линия 9"/>
            <p:cNvSpPr/>
            <p:nvPr/>
          </p:nvSpPr>
          <p:spPr>
            <a:xfrm flipV="1">
              <a:off x="961920" y="1859040"/>
              <a:ext cx="1862280" cy="275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3" name="Прямоугольник 10"/>
            <p:cNvSpPr/>
            <p:nvPr/>
          </p:nvSpPr>
          <p:spPr>
            <a:xfrm>
              <a:off x="496800" y="2300040"/>
              <a:ext cx="4618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0003f"/>
                  </a:solidFill>
                  <a:latin typeface="Times New Roman"/>
                  <a:ea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4" name="Прямоугольник 11"/>
            <p:cNvSpPr/>
            <p:nvPr/>
          </p:nvSpPr>
          <p:spPr>
            <a:xfrm>
              <a:off x="566640" y="3327480"/>
              <a:ext cx="3952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0003f"/>
                  </a:solidFill>
                  <a:latin typeface="Times New Roman"/>
                  <a:ea typeface="Times New Roman"/>
                </a:rPr>
                <a:t>b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5" name="Прямоугольник 12"/>
            <p:cNvSpPr/>
            <p:nvPr/>
          </p:nvSpPr>
          <p:spPr>
            <a:xfrm>
              <a:off x="2220840" y="1725480"/>
              <a:ext cx="4618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0003f"/>
                  </a:solidFill>
                  <a:latin typeface="Times New Roman"/>
                  <a:ea typeface="Times New Roman"/>
                </a:rPr>
                <a:t>c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6" name="Прямая соединительная линия 13"/>
            <p:cNvSpPr/>
            <p:nvPr/>
          </p:nvSpPr>
          <p:spPr>
            <a:xfrm>
              <a:off x="592200" y="3875040"/>
              <a:ext cx="311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7" name="Прямоугольник 15"/>
            <p:cNvSpPr/>
            <p:nvPr/>
          </p:nvSpPr>
          <p:spPr>
            <a:xfrm>
              <a:off x="1612800" y="2770200"/>
              <a:ext cx="461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1818ff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8" name="Прямоугольник 16"/>
            <p:cNvSpPr/>
            <p:nvPr/>
          </p:nvSpPr>
          <p:spPr>
            <a:xfrm>
              <a:off x="150840" y="1800000"/>
              <a:ext cx="4600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818ff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en-US" sz="2400" spc="-1" strike="noStrike">
                  <a:solidFill>
                    <a:srgbClr val="1818ff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9" name="Прямоугольник 20"/>
            <p:cNvSpPr/>
            <p:nvPr/>
          </p:nvSpPr>
          <p:spPr>
            <a:xfrm>
              <a:off x="900000" y="3838680"/>
              <a:ext cx="4600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1818ff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10" name="Группа 25"/>
          <p:cNvGrpSpPr/>
          <p:nvPr/>
        </p:nvGrpSpPr>
        <p:grpSpPr>
          <a:xfrm>
            <a:off x="4572000" y="1700280"/>
            <a:ext cx="4137120" cy="3000240"/>
            <a:chOff x="4572000" y="1700280"/>
            <a:chExt cx="4137120" cy="3000240"/>
          </a:xfrm>
        </p:grpSpPr>
        <p:sp>
          <p:nvSpPr>
            <p:cNvPr id="1411" name="Прямоугольник 26"/>
            <p:cNvSpPr/>
            <p:nvPr/>
          </p:nvSpPr>
          <p:spPr>
            <a:xfrm>
              <a:off x="4572000" y="1700280"/>
              <a:ext cx="4137120" cy="3000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2" name="Прямая соединительная линия 27"/>
            <p:cNvSpPr/>
            <p:nvPr/>
          </p:nvSpPr>
          <p:spPr>
            <a:xfrm>
              <a:off x="5022720" y="2800440"/>
              <a:ext cx="311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3" name="Прямая соединительная линия 28"/>
            <p:cNvSpPr/>
            <p:nvPr/>
          </p:nvSpPr>
          <p:spPr>
            <a:xfrm flipV="1">
              <a:off x="5418000" y="1859040"/>
              <a:ext cx="1862280" cy="275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4" name="Прямоугольник 29"/>
            <p:cNvSpPr/>
            <p:nvPr/>
          </p:nvSpPr>
          <p:spPr>
            <a:xfrm>
              <a:off x="4952880" y="2300040"/>
              <a:ext cx="4618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0003f"/>
                  </a:solidFill>
                  <a:latin typeface="Times New Roman"/>
                  <a:ea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5" name="Прямоугольник 30"/>
            <p:cNvSpPr/>
            <p:nvPr/>
          </p:nvSpPr>
          <p:spPr>
            <a:xfrm>
              <a:off x="5022720" y="3327480"/>
              <a:ext cx="3952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0003f"/>
                  </a:solidFill>
                  <a:latin typeface="Times New Roman"/>
                  <a:ea typeface="Times New Roman"/>
                </a:rPr>
                <a:t>b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6" name="Прямоугольник 31"/>
            <p:cNvSpPr/>
            <p:nvPr/>
          </p:nvSpPr>
          <p:spPr>
            <a:xfrm>
              <a:off x="6676920" y="1725480"/>
              <a:ext cx="4618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0003f"/>
                  </a:solidFill>
                  <a:latin typeface="Times New Roman"/>
                  <a:ea typeface="Times New Roman"/>
                </a:rPr>
                <a:t>c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7" name="Прямая соединительная линия 32"/>
            <p:cNvSpPr/>
            <p:nvPr/>
          </p:nvSpPr>
          <p:spPr>
            <a:xfrm>
              <a:off x="5048280" y="3875040"/>
              <a:ext cx="311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8" name="Прямоугольник 33"/>
            <p:cNvSpPr/>
            <p:nvPr/>
          </p:nvSpPr>
          <p:spPr>
            <a:xfrm>
              <a:off x="6789960" y="2346120"/>
              <a:ext cx="4618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1818ff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9" name="Прямоугольник 34"/>
            <p:cNvSpPr/>
            <p:nvPr/>
          </p:nvSpPr>
          <p:spPr>
            <a:xfrm>
              <a:off x="4606920" y="1800000"/>
              <a:ext cx="4600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818ff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en-US" sz="2400" spc="-1" strike="noStrike">
                  <a:solidFill>
                    <a:srgbClr val="1818ff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0" name="Прямоугольник 35"/>
            <p:cNvSpPr/>
            <p:nvPr/>
          </p:nvSpPr>
          <p:spPr>
            <a:xfrm>
              <a:off x="5580000" y="3478320"/>
              <a:ext cx="461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1818ff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21" name="Объект 1"/>
              <p:cNvSpPr txBox="1"/>
              <p:nvPr/>
            </p:nvSpPr>
            <p:spPr>
              <a:xfrm>
                <a:off x="3065400" y="5877000"/>
                <a:ext cx="32828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оказать</m:t>
                    </m:r>
                    <m:r>
                      <m:t xml:space="preserve">: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2" name="Объект 2"/>
              <p:cNvSpPr txBox="1"/>
              <p:nvPr/>
            </p:nvSpPr>
            <p:spPr>
              <a:xfrm>
                <a:off x="331920" y="5013360"/>
                <a:ext cx="3808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ано</m:t>
                    </m:r>
                    <m:r>
                      <m:t xml:space="preserve">:</m:t>
                    </m:r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3" name="Объект 36"/>
              <p:cNvSpPr txBox="1"/>
              <p:nvPr/>
            </p:nvSpPr>
            <p:spPr>
              <a:xfrm>
                <a:off x="4500720" y="4941720"/>
                <a:ext cx="47307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ано</m:t>
                    </m:r>
                    <m:r>
                      <m:t xml:space="preserve">:</m:t>
                    </m:r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Заголовок 3"/>
          <p:cNvSpPr/>
          <p:nvPr/>
        </p:nvSpPr>
        <p:spPr>
          <a:xfrm>
            <a:off x="971640" y="333360"/>
            <a:ext cx="7792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амостоятельная работа</a:t>
            </a:r>
            <a:br>
              <a:rPr sz="4400"/>
            </a:br>
            <a:r>
              <a:rPr b="0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риант 1</a:t>
            </a:r>
            <a:r>
              <a:rPr b="0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риант 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25" name="Группа 34"/>
          <p:cNvGrpSpPr/>
          <p:nvPr/>
        </p:nvGrpSpPr>
        <p:grpSpPr>
          <a:xfrm>
            <a:off x="82440" y="1671480"/>
            <a:ext cx="4137120" cy="3052800"/>
            <a:chOff x="82440" y="1671480"/>
            <a:chExt cx="4137120" cy="3052800"/>
          </a:xfrm>
        </p:grpSpPr>
        <p:grpSp>
          <p:nvGrpSpPr>
            <p:cNvPr id="1426" name="Группа 4"/>
            <p:cNvGrpSpPr/>
            <p:nvPr/>
          </p:nvGrpSpPr>
          <p:grpSpPr>
            <a:xfrm>
              <a:off x="82440" y="1671480"/>
              <a:ext cx="4137120" cy="3052800"/>
              <a:chOff x="82440" y="1671480"/>
              <a:chExt cx="4137120" cy="3052800"/>
            </a:xfrm>
          </p:grpSpPr>
          <p:sp>
            <p:nvSpPr>
              <p:cNvPr id="1427" name="Прямоугольник 5"/>
              <p:cNvSpPr/>
              <p:nvPr/>
            </p:nvSpPr>
            <p:spPr>
              <a:xfrm>
                <a:off x="82440" y="1726920"/>
                <a:ext cx="4137120" cy="2997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8" name="Прямая соединительная линия 6"/>
              <p:cNvSpPr/>
              <p:nvPr/>
            </p:nvSpPr>
            <p:spPr>
              <a:xfrm>
                <a:off x="566640" y="2535120"/>
                <a:ext cx="3110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9" name="Прямая соединительная линия 7"/>
              <p:cNvSpPr/>
              <p:nvPr/>
            </p:nvSpPr>
            <p:spPr>
              <a:xfrm flipV="1">
                <a:off x="961920" y="1758600"/>
                <a:ext cx="1863720" cy="274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0" name="Прямоугольник 8"/>
              <p:cNvSpPr/>
              <p:nvPr/>
            </p:nvSpPr>
            <p:spPr>
              <a:xfrm>
                <a:off x="2124000" y="1671480"/>
                <a:ext cx="46188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00003f"/>
                    </a:solidFill>
                    <a:latin typeface="Times New Roman"/>
                    <a:ea typeface="Times New Roman"/>
                  </a:rPr>
                  <a:t>d</a:t>
                </a:r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1" name="Прямоугольник 9"/>
              <p:cNvSpPr/>
              <p:nvPr/>
            </p:nvSpPr>
            <p:spPr>
              <a:xfrm>
                <a:off x="3326040" y="2771640"/>
                <a:ext cx="39528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00003f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2" name="Прямоугольник 10"/>
              <p:cNvSpPr/>
              <p:nvPr/>
            </p:nvSpPr>
            <p:spPr>
              <a:xfrm>
                <a:off x="3214800" y="3582720"/>
                <a:ext cx="46188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00003f"/>
                    </a:solidFill>
                    <a:latin typeface="Times New Roman"/>
                    <a:ea typeface="Times New Roman"/>
                  </a:rPr>
                  <a:t>c</a:t>
                </a:r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3" name="Прямая соединительная линия 11"/>
              <p:cNvSpPr/>
              <p:nvPr/>
            </p:nvSpPr>
            <p:spPr>
              <a:xfrm>
                <a:off x="539640" y="4118040"/>
                <a:ext cx="3110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4" name="Прямоугольник 14"/>
              <p:cNvSpPr/>
              <p:nvPr/>
            </p:nvSpPr>
            <p:spPr>
              <a:xfrm>
                <a:off x="150480" y="1698120"/>
                <a:ext cx="46188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1818ff"/>
                    </a:solidFill>
                    <a:latin typeface="Times New Roman"/>
                    <a:ea typeface="Times New Roman"/>
                  </a:rPr>
                  <a:t>3</a:t>
                </a:r>
                <a:r>
                  <a:rPr b="1" i="1" lang="en-US" sz="2400" spc="-1" strike="noStrike">
                    <a:solidFill>
                      <a:srgbClr val="1818ff"/>
                    </a:solidFill>
                    <a:latin typeface="Times New Roman"/>
                    <a:ea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5" name="Прямоугольник 15"/>
              <p:cNvSpPr/>
              <p:nvPr/>
            </p:nvSpPr>
            <p:spPr>
              <a:xfrm>
                <a:off x="2382840" y="2125440"/>
                <a:ext cx="46188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1818ff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6" name="Прямоугольник 18"/>
              <p:cNvSpPr/>
              <p:nvPr/>
            </p:nvSpPr>
            <p:spPr>
              <a:xfrm>
                <a:off x="884160" y="3665520"/>
                <a:ext cx="461880" cy="45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1818ff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7" name="Прямоугольник 21"/>
              <p:cNvSpPr/>
              <p:nvPr/>
            </p:nvSpPr>
            <p:spPr>
              <a:xfrm>
                <a:off x="2095560" y="2771640"/>
                <a:ext cx="46008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1818ff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38" name="Прямая соединительная линия 20"/>
            <p:cNvSpPr/>
            <p:nvPr/>
          </p:nvSpPr>
          <p:spPr>
            <a:xfrm>
              <a:off x="612720" y="3254400"/>
              <a:ext cx="310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39" name="Группа 35"/>
          <p:cNvGrpSpPr/>
          <p:nvPr/>
        </p:nvGrpSpPr>
        <p:grpSpPr>
          <a:xfrm>
            <a:off x="4716360" y="1700280"/>
            <a:ext cx="4137120" cy="3052800"/>
            <a:chOff x="4716360" y="1700280"/>
            <a:chExt cx="4137120" cy="3052800"/>
          </a:xfrm>
        </p:grpSpPr>
        <p:grpSp>
          <p:nvGrpSpPr>
            <p:cNvPr id="1440" name="Группа 36"/>
            <p:cNvGrpSpPr/>
            <p:nvPr/>
          </p:nvGrpSpPr>
          <p:grpSpPr>
            <a:xfrm>
              <a:off x="4716360" y="1700280"/>
              <a:ext cx="4137120" cy="3052800"/>
              <a:chOff x="4716360" y="1700280"/>
              <a:chExt cx="4137120" cy="3052800"/>
            </a:xfrm>
          </p:grpSpPr>
          <p:sp>
            <p:nvSpPr>
              <p:cNvPr id="1441" name="Прямоугольник 38"/>
              <p:cNvSpPr/>
              <p:nvPr/>
            </p:nvSpPr>
            <p:spPr>
              <a:xfrm>
                <a:off x="4716360" y="1755720"/>
                <a:ext cx="4137120" cy="2997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2" name="Прямая соединительная линия 39"/>
              <p:cNvSpPr/>
              <p:nvPr/>
            </p:nvSpPr>
            <p:spPr>
              <a:xfrm>
                <a:off x="5200560" y="2563920"/>
                <a:ext cx="3110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3" name="Прямая соединительная линия 40"/>
              <p:cNvSpPr/>
              <p:nvPr/>
            </p:nvSpPr>
            <p:spPr>
              <a:xfrm flipV="1">
                <a:off x="5595840" y="1787400"/>
                <a:ext cx="1863720" cy="274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4" name="Прямоугольник 41"/>
              <p:cNvSpPr/>
              <p:nvPr/>
            </p:nvSpPr>
            <p:spPr>
              <a:xfrm>
                <a:off x="6757920" y="1700280"/>
                <a:ext cx="46188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00003f"/>
                    </a:solidFill>
                    <a:latin typeface="Times New Roman"/>
                    <a:ea typeface="Times New Roman"/>
                  </a:rPr>
                  <a:t>d</a:t>
                </a:r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5" name="Прямоугольник 42"/>
              <p:cNvSpPr/>
              <p:nvPr/>
            </p:nvSpPr>
            <p:spPr>
              <a:xfrm>
                <a:off x="7959960" y="2800440"/>
                <a:ext cx="39528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00003f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6" name="Прямоугольник 43"/>
              <p:cNvSpPr/>
              <p:nvPr/>
            </p:nvSpPr>
            <p:spPr>
              <a:xfrm>
                <a:off x="7848720" y="3611520"/>
                <a:ext cx="46188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00003f"/>
                    </a:solidFill>
                    <a:latin typeface="Times New Roman"/>
                    <a:ea typeface="Times New Roman"/>
                  </a:rPr>
                  <a:t>c</a:t>
                </a:r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7" name="Прямая соединительная линия 44"/>
              <p:cNvSpPr/>
              <p:nvPr/>
            </p:nvSpPr>
            <p:spPr>
              <a:xfrm>
                <a:off x="5173560" y="4146840"/>
                <a:ext cx="3110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8" name="Прямоугольник 45"/>
              <p:cNvSpPr/>
              <p:nvPr/>
            </p:nvSpPr>
            <p:spPr>
              <a:xfrm>
                <a:off x="4784400" y="1726920"/>
                <a:ext cx="46188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1818ff"/>
                    </a:solidFill>
                    <a:latin typeface="Times New Roman"/>
                    <a:ea typeface="Times New Roman"/>
                  </a:rPr>
                  <a:t>3</a:t>
                </a:r>
                <a:r>
                  <a:rPr b="1" i="1" lang="en-US" sz="2400" spc="-1" strike="noStrike">
                    <a:solidFill>
                      <a:srgbClr val="1818ff"/>
                    </a:solidFill>
                    <a:latin typeface="Times New Roman"/>
                    <a:ea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9" name="Прямоугольник 46"/>
              <p:cNvSpPr/>
              <p:nvPr/>
            </p:nvSpPr>
            <p:spPr>
              <a:xfrm>
                <a:off x="6605640" y="2154240"/>
                <a:ext cx="46008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1818ff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0" name="Прямоугольник 47"/>
              <p:cNvSpPr/>
              <p:nvPr/>
            </p:nvSpPr>
            <p:spPr>
              <a:xfrm>
                <a:off x="5999040" y="3722760"/>
                <a:ext cx="46188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1818ff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1" name="Прямоугольник 48"/>
              <p:cNvSpPr/>
              <p:nvPr/>
            </p:nvSpPr>
            <p:spPr>
              <a:xfrm>
                <a:off x="6729480" y="2800440"/>
                <a:ext cx="46008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1818ff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52" name="Прямая соединительная линия 37"/>
            <p:cNvSpPr/>
            <p:nvPr/>
          </p:nvSpPr>
          <p:spPr>
            <a:xfrm>
              <a:off x="5246640" y="3283200"/>
              <a:ext cx="310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53" name="Объект 1"/>
              <p:cNvSpPr txBox="1"/>
              <p:nvPr/>
            </p:nvSpPr>
            <p:spPr>
              <a:xfrm>
                <a:off x="2948040" y="6026040"/>
                <a:ext cx="33624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оказать</m:t>
                    </m:r>
                    <m:r>
                      <m:t xml:space="preserve">: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Объект 2"/>
              <p:cNvSpPr txBox="1"/>
              <p:nvPr/>
            </p:nvSpPr>
            <p:spPr>
              <a:xfrm>
                <a:off x="324000" y="4869000"/>
                <a:ext cx="338436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Объект 3"/>
              <p:cNvSpPr txBox="1"/>
              <p:nvPr/>
            </p:nvSpPr>
            <p:spPr>
              <a:xfrm>
                <a:off x="4449600" y="4749840"/>
                <a:ext cx="47307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56" name="Прямоугольник 33"/>
          <p:cNvSpPr/>
          <p:nvPr/>
        </p:nvSpPr>
        <p:spPr>
          <a:xfrm>
            <a:off x="7812000" y="184464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3f"/>
                </a:solidFill>
                <a:latin typeface="Times New Roman"/>
                <a:ea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7" name="Прямоугольник 34"/>
          <p:cNvSpPr/>
          <p:nvPr/>
        </p:nvSpPr>
        <p:spPr>
          <a:xfrm>
            <a:off x="3132000" y="191628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3f"/>
                </a:solidFill>
                <a:latin typeface="Times New Roman"/>
                <a:ea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e8aa"/>
            </a:gs>
            <a:gs pos="100000">
              <a:srgbClr val="2b54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Прямоугольник 1"/>
          <p:cNvSpPr/>
          <p:nvPr/>
        </p:nvSpPr>
        <p:spPr>
          <a:xfrm>
            <a:off x="611280" y="692280"/>
            <a:ext cx="806436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1933"/>
                </a:solidFill>
                <a:latin typeface="Trebuchet MS"/>
              </a:rPr>
              <a:t>Домашнее задание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001933"/>
                </a:solidFill>
                <a:latin typeface="Trebuchet MS"/>
              </a:rPr>
              <a:t>Выучить теорию п.24 – п.26. 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001933"/>
                </a:solidFill>
                <a:latin typeface="Trebuchet MS"/>
              </a:rPr>
              <a:t>Вопросы 1-6 на стр.68. 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001933"/>
                </a:solidFill>
                <a:latin typeface="Trebuchet MS"/>
              </a:rPr>
              <a:t>Решить № 192, № 193, №196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2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заимное расположение прямых на плоскост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94" name="Группа 6"/>
          <p:cNvGrpSpPr/>
          <p:nvPr/>
        </p:nvGrpSpPr>
        <p:grpSpPr>
          <a:xfrm>
            <a:off x="684360" y="1627200"/>
            <a:ext cx="3743280" cy="2378160"/>
            <a:chOff x="684360" y="1627200"/>
            <a:chExt cx="3743280" cy="2378160"/>
          </a:xfrm>
        </p:grpSpPr>
        <p:sp>
          <p:nvSpPr>
            <p:cNvPr id="1095" name="Прямоугольник 7"/>
            <p:cNvSpPr/>
            <p:nvPr/>
          </p:nvSpPr>
          <p:spPr>
            <a:xfrm>
              <a:off x="684360" y="1627200"/>
              <a:ext cx="3743280" cy="2378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6" name="Прямая соединительная линия 8"/>
            <p:cNvSpPr/>
            <p:nvPr/>
          </p:nvSpPr>
          <p:spPr>
            <a:xfrm>
              <a:off x="865080" y="2023920"/>
              <a:ext cx="2664000" cy="158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7" name="Прямая соединительная линия 9"/>
            <p:cNvSpPr/>
            <p:nvPr/>
          </p:nvSpPr>
          <p:spPr>
            <a:xfrm flipV="1">
              <a:off x="900000" y="2239920"/>
              <a:ext cx="2952720" cy="115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8" name="Прямоугольник 10"/>
            <p:cNvSpPr/>
            <p:nvPr/>
          </p:nvSpPr>
          <p:spPr>
            <a:xfrm>
              <a:off x="684360" y="1987560"/>
              <a:ext cx="647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333300"/>
                  </a:solidFill>
                  <a:latin typeface="Times New Roman"/>
                  <a:ea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9" name="Прямоугольник 11"/>
            <p:cNvSpPr/>
            <p:nvPr/>
          </p:nvSpPr>
          <p:spPr>
            <a:xfrm>
              <a:off x="1836720" y="2852640"/>
              <a:ext cx="647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333300"/>
                  </a:solidFill>
                  <a:latin typeface="Times New Roman"/>
                  <a:ea typeface="Times New Roman"/>
                </a:rPr>
                <a:t>O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0" name="Прямоугольник 12"/>
            <p:cNvSpPr/>
            <p:nvPr/>
          </p:nvSpPr>
          <p:spPr>
            <a:xfrm>
              <a:off x="3492720" y="2238480"/>
              <a:ext cx="647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333300"/>
                  </a:solidFill>
                  <a:latin typeface="Times New Roman"/>
                  <a:ea typeface="Times New Roman"/>
                </a:rPr>
                <a:t>b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01" name="Группа 13"/>
          <p:cNvGrpSpPr/>
          <p:nvPr/>
        </p:nvGrpSpPr>
        <p:grpSpPr>
          <a:xfrm>
            <a:off x="5003640" y="1627200"/>
            <a:ext cx="3745080" cy="2378160"/>
            <a:chOff x="5003640" y="1627200"/>
            <a:chExt cx="3745080" cy="2378160"/>
          </a:xfrm>
        </p:grpSpPr>
        <p:sp>
          <p:nvSpPr>
            <p:cNvPr id="1102" name="Прямоугольник 14"/>
            <p:cNvSpPr/>
            <p:nvPr/>
          </p:nvSpPr>
          <p:spPr>
            <a:xfrm>
              <a:off x="5003640" y="1627200"/>
              <a:ext cx="3745080" cy="2378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3" name="Прямая соединительная линия 15"/>
            <p:cNvSpPr/>
            <p:nvPr/>
          </p:nvSpPr>
          <p:spPr>
            <a:xfrm flipV="1">
              <a:off x="5074920" y="1750680"/>
              <a:ext cx="2953080" cy="1203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4" name="Прямая соединительная линия 16"/>
            <p:cNvSpPr/>
            <p:nvPr/>
          </p:nvSpPr>
          <p:spPr>
            <a:xfrm flipV="1">
              <a:off x="5508360" y="2543040"/>
              <a:ext cx="2953080" cy="115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5" name="Прямоугольник 17"/>
            <p:cNvSpPr/>
            <p:nvPr/>
          </p:nvSpPr>
          <p:spPr>
            <a:xfrm>
              <a:off x="5003640" y="2131920"/>
              <a:ext cx="647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333300"/>
                  </a:solidFill>
                  <a:latin typeface="Times New Roman"/>
                  <a:ea typeface="Times New Roman"/>
                </a:rPr>
                <a:t>c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6" name="Прямоугольник 18"/>
            <p:cNvSpPr/>
            <p:nvPr/>
          </p:nvSpPr>
          <p:spPr>
            <a:xfrm>
              <a:off x="5327280" y="2924280"/>
              <a:ext cx="647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333300"/>
                  </a:solidFill>
                  <a:latin typeface="Times New Roman"/>
                  <a:ea typeface="Times New Roman"/>
                </a:rPr>
                <a:t>d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07" name="Группа 19"/>
          <p:cNvGrpSpPr/>
          <p:nvPr/>
        </p:nvGrpSpPr>
        <p:grpSpPr>
          <a:xfrm>
            <a:off x="2627280" y="4292640"/>
            <a:ext cx="3745080" cy="2378160"/>
            <a:chOff x="2627280" y="4292640"/>
            <a:chExt cx="3745080" cy="2378160"/>
          </a:xfrm>
        </p:grpSpPr>
        <p:sp>
          <p:nvSpPr>
            <p:cNvPr id="1108" name="Прямоугольник 20"/>
            <p:cNvSpPr/>
            <p:nvPr/>
          </p:nvSpPr>
          <p:spPr>
            <a:xfrm>
              <a:off x="2627280" y="4292640"/>
              <a:ext cx="3745080" cy="2378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9" name="Прямая соединительная линия 21"/>
            <p:cNvSpPr/>
            <p:nvPr/>
          </p:nvSpPr>
          <p:spPr>
            <a:xfrm>
              <a:off x="3081240" y="5089680"/>
              <a:ext cx="2964240" cy="90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0" name="Прямоугольник 22"/>
            <p:cNvSpPr/>
            <p:nvPr/>
          </p:nvSpPr>
          <p:spPr>
            <a:xfrm>
              <a:off x="3152520" y="4620960"/>
              <a:ext cx="647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3333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1" name="Прямоугольник 23"/>
            <p:cNvSpPr/>
            <p:nvPr/>
          </p:nvSpPr>
          <p:spPr>
            <a:xfrm>
              <a:off x="2865240" y="4981680"/>
              <a:ext cx="64764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333300"/>
                  </a:solidFill>
                  <a:latin typeface="Times New Roman"/>
                  <a:ea typeface="Times New Roman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2" name="Группа 3"/>
          <p:cNvGrpSpPr/>
          <p:nvPr/>
        </p:nvGrpSpPr>
        <p:grpSpPr>
          <a:xfrm>
            <a:off x="1403280" y="836640"/>
            <a:ext cx="6840720" cy="4824360"/>
            <a:chOff x="1403280" y="836640"/>
            <a:chExt cx="6840720" cy="4824360"/>
          </a:xfrm>
        </p:grpSpPr>
        <p:sp>
          <p:nvSpPr>
            <p:cNvPr id="1113" name="Прямоугольник 4"/>
            <p:cNvSpPr/>
            <p:nvPr/>
          </p:nvSpPr>
          <p:spPr>
            <a:xfrm>
              <a:off x="1403280" y="836640"/>
              <a:ext cx="6840720" cy="4824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4" name="Прямая соединительная линия 5"/>
            <p:cNvSpPr/>
            <p:nvPr/>
          </p:nvSpPr>
          <p:spPr>
            <a:xfrm flipV="1">
              <a:off x="1771560" y="1231920"/>
              <a:ext cx="5393160" cy="244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5" name="Прямая соединительная линия 6"/>
            <p:cNvSpPr/>
            <p:nvPr/>
          </p:nvSpPr>
          <p:spPr>
            <a:xfrm flipV="1">
              <a:off x="2195280" y="1915920"/>
              <a:ext cx="5401080" cy="244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6" name="Прямоугольник 7"/>
            <p:cNvSpPr/>
            <p:nvPr/>
          </p:nvSpPr>
          <p:spPr>
            <a:xfrm>
              <a:off x="1403280" y="2635200"/>
              <a:ext cx="920520" cy="9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400" spc="-1" strike="noStrike">
                  <a:solidFill>
                    <a:srgbClr val="0e0e0e"/>
                  </a:solidFill>
                  <a:latin typeface="Times New Roman"/>
                  <a:ea typeface="Times New Roman"/>
                </a:rPr>
                <a:t>а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7" name="Прямоугольник 8"/>
            <p:cNvSpPr/>
            <p:nvPr/>
          </p:nvSpPr>
          <p:spPr>
            <a:xfrm>
              <a:off x="1995120" y="4219560"/>
              <a:ext cx="920520" cy="9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e0e0e"/>
                  </a:solidFill>
                  <a:latin typeface="Times New Roman"/>
                  <a:ea typeface="Times New Roman"/>
                </a:rPr>
                <a:t>b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118" name="Рисунок 16" descr=""/>
          <p:cNvPicPr/>
          <p:nvPr/>
        </p:nvPicPr>
        <p:blipFill>
          <a:blip r:embed="rId1"/>
          <a:stretch/>
        </p:blipFill>
        <p:spPr>
          <a:xfrm>
            <a:off x="5919840" y="4827600"/>
            <a:ext cx="343224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Что можно сказать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 прямых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20" name="Группа 35"/>
          <p:cNvGrpSpPr/>
          <p:nvPr/>
        </p:nvGrpSpPr>
        <p:grpSpPr>
          <a:xfrm>
            <a:off x="1371600" y="2060640"/>
            <a:ext cx="7772400" cy="4078080"/>
            <a:chOff x="1371600" y="2060640"/>
            <a:chExt cx="7772400" cy="4078080"/>
          </a:xfrm>
        </p:grpSpPr>
        <p:grpSp>
          <p:nvGrpSpPr>
            <p:cNvPr id="1121" name="Группа 36"/>
            <p:cNvGrpSpPr/>
            <p:nvPr/>
          </p:nvGrpSpPr>
          <p:grpSpPr>
            <a:xfrm>
              <a:off x="1371600" y="2060640"/>
              <a:ext cx="7772400" cy="4078080"/>
              <a:chOff x="1371600" y="2060640"/>
              <a:chExt cx="7772400" cy="4078080"/>
            </a:xfrm>
          </p:grpSpPr>
          <p:sp>
            <p:nvSpPr>
              <p:cNvPr id="1122" name="Прямоугольник 6"/>
              <p:cNvSpPr/>
              <p:nvPr/>
            </p:nvSpPr>
            <p:spPr>
              <a:xfrm>
                <a:off x="1371600" y="2098440"/>
                <a:ext cx="7772400" cy="40402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3" name="Прямая соединительная линия 7"/>
              <p:cNvSpPr/>
              <p:nvPr/>
            </p:nvSpPr>
            <p:spPr>
              <a:xfrm>
                <a:off x="2280960" y="3187800"/>
                <a:ext cx="5842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4" name="Прямоугольник 10"/>
              <p:cNvSpPr/>
              <p:nvPr/>
            </p:nvSpPr>
            <p:spPr>
              <a:xfrm>
                <a:off x="7464600" y="3506760"/>
                <a:ext cx="742680" cy="61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0e0e0e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5" name="Прямоугольник 11"/>
              <p:cNvSpPr/>
              <p:nvPr/>
            </p:nvSpPr>
            <p:spPr>
              <a:xfrm>
                <a:off x="7256520" y="4600440"/>
                <a:ext cx="866520" cy="61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0e0e0e"/>
                    </a:solidFill>
                    <a:latin typeface="Times New Roman"/>
                    <a:ea typeface="Times New Roman"/>
                  </a:rPr>
                  <a:t>c</a:t>
                </a:r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6" name="Прямая соединительная линия 12"/>
              <p:cNvSpPr/>
              <p:nvPr/>
            </p:nvSpPr>
            <p:spPr>
              <a:xfrm>
                <a:off x="2230200" y="5321160"/>
                <a:ext cx="584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7" name="Прямоугольник 13"/>
              <p:cNvSpPr/>
              <p:nvPr/>
            </p:nvSpPr>
            <p:spPr>
              <a:xfrm>
                <a:off x="1500120" y="2060640"/>
                <a:ext cx="2423880" cy="86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777777"/>
                    </a:solidFill>
                    <a:latin typeface="Times New Roman"/>
                    <a:ea typeface="Times New Roman"/>
                  </a:rPr>
                  <a:t>a‖b,  b‖c</a:t>
                </a:r>
                <a:endParaRPr b="0" lang="en-US" sz="4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28" name="Прямая соединительная линия 5"/>
            <p:cNvSpPr/>
            <p:nvPr/>
          </p:nvSpPr>
          <p:spPr>
            <a:xfrm>
              <a:off x="2367000" y="4157640"/>
              <a:ext cx="584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29" name="Прямоугольник 21"/>
          <p:cNvSpPr/>
          <p:nvPr/>
        </p:nvSpPr>
        <p:spPr>
          <a:xfrm flipH="1">
            <a:off x="7380360" y="24922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e0e0e"/>
                </a:solidFill>
                <a:latin typeface="Times New Roman"/>
                <a:ea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0" name="Группа 2"/>
          <p:cNvGrpSpPr/>
          <p:nvPr/>
        </p:nvGrpSpPr>
        <p:grpSpPr>
          <a:xfrm>
            <a:off x="971640" y="836640"/>
            <a:ext cx="6842160" cy="4824360"/>
            <a:chOff x="971640" y="836640"/>
            <a:chExt cx="6842160" cy="4824360"/>
          </a:xfrm>
        </p:grpSpPr>
        <p:sp>
          <p:nvSpPr>
            <p:cNvPr id="1131" name="Прямоугольник 6"/>
            <p:cNvSpPr/>
            <p:nvPr/>
          </p:nvSpPr>
          <p:spPr>
            <a:xfrm>
              <a:off x="971640" y="836640"/>
              <a:ext cx="6842160" cy="4824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2" name="Прямая соединительная линия 7"/>
            <p:cNvSpPr/>
            <p:nvPr/>
          </p:nvSpPr>
          <p:spPr>
            <a:xfrm>
              <a:off x="1839960" y="2565360"/>
              <a:ext cx="5141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3" name="Прямая соединительная линия 8"/>
            <p:cNvSpPr/>
            <p:nvPr/>
          </p:nvSpPr>
          <p:spPr>
            <a:xfrm flipV="1">
              <a:off x="3929040" y="1093680"/>
              <a:ext cx="0" cy="4422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4" name="Прямоугольник 9"/>
            <p:cNvSpPr/>
            <p:nvPr/>
          </p:nvSpPr>
          <p:spPr>
            <a:xfrm>
              <a:off x="1725480" y="1762200"/>
              <a:ext cx="76176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404040"/>
                  </a:solidFill>
                  <a:latin typeface="Times New Roman"/>
                  <a:ea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5" name="Прямоугольник 10"/>
            <p:cNvSpPr/>
            <p:nvPr/>
          </p:nvSpPr>
          <p:spPr>
            <a:xfrm>
              <a:off x="1839960" y="3573360"/>
              <a:ext cx="65376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404040"/>
                  </a:solidFill>
                  <a:latin typeface="Times New Roman"/>
                  <a:ea typeface="Times New Roman"/>
                </a:rPr>
                <a:t>c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6" name="Прямоугольник 16"/>
            <p:cNvSpPr/>
            <p:nvPr/>
          </p:nvSpPr>
          <p:spPr>
            <a:xfrm>
              <a:off x="3886200" y="836640"/>
              <a:ext cx="76176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404040"/>
                  </a:solidFill>
                  <a:latin typeface="Times New Roman"/>
                  <a:ea typeface="Times New Roman"/>
                </a:rPr>
                <a:t>f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7" name="Прямая соединительная линия 14"/>
            <p:cNvSpPr/>
            <p:nvPr/>
          </p:nvSpPr>
          <p:spPr>
            <a:xfrm>
              <a:off x="1882800" y="4292640"/>
              <a:ext cx="5141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8" name="Прямоугольник 1"/>
            <p:cNvSpPr/>
            <p:nvPr/>
          </p:nvSpPr>
          <p:spPr>
            <a:xfrm>
              <a:off x="3936960" y="2276280"/>
              <a:ext cx="312480" cy="28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9" name="Прямоугольник 11"/>
            <p:cNvSpPr/>
            <p:nvPr/>
          </p:nvSpPr>
          <p:spPr>
            <a:xfrm>
              <a:off x="3935520" y="4014720"/>
              <a:ext cx="312480" cy="28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Группа 6"/>
          <p:cNvGrpSpPr/>
          <p:nvPr/>
        </p:nvGrpSpPr>
        <p:grpSpPr>
          <a:xfrm>
            <a:off x="2556000" y="3711600"/>
            <a:ext cx="4181400" cy="3102120"/>
            <a:chOff x="2556000" y="3711600"/>
            <a:chExt cx="4181400" cy="3102120"/>
          </a:xfrm>
        </p:grpSpPr>
        <p:grpSp>
          <p:nvGrpSpPr>
            <p:cNvPr id="1141" name="Группа 65"/>
            <p:cNvGrpSpPr/>
            <p:nvPr/>
          </p:nvGrpSpPr>
          <p:grpSpPr>
            <a:xfrm>
              <a:off x="2556000" y="3711600"/>
              <a:ext cx="4181400" cy="3102120"/>
              <a:chOff x="2556000" y="3711600"/>
              <a:chExt cx="4181400" cy="3102120"/>
            </a:xfrm>
          </p:grpSpPr>
          <p:sp>
            <p:nvSpPr>
              <p:cNvPr id="1142" name="Прямоугольник 70"/>
              <p:cNvSpPr/>
              <p:nvPr/>
            </p:nvSpPr>
            <p:spPr>
              <a:xfrm>
                <a:off x="2556000" y="3711600"/>
                <a:ext cx="4181400" cy="31021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3" name="Прямая соединительная линия 71"/>
              <p:cNvSpPr/>
              <p:nvPr/>
            </p:nvSpPr>
            <p:spPr>
              <a:xfrm>
                <a:off x="3085920" y="4822920"/>
                <a:ext cx="314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4" name="Прямая соединительная линия 72"/>
              <p:cNvSpPr/>
              <p:nvPr/>
            </p:nvSpPr>
            <p:spPr>
              <a:xfrm flipV="1">
                <a:off x="3486240" y="3849120"/>
                <a:ext cx="1882800" cy="2843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5" name="Прямоугольник 73"/>
              <p:cNvSpPr/>
              <p:nvPr/>
            </p:nvSpPr>
            <p:spPr>
              <a:xfrm>
                <a:off x="3016080" y="4306680"/>
                <a:ext cx="466560" cy="4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33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6" name="Прямоугольник 74"/>
              <p:cNvSpPr/>
              <p:nvPr/>
            </p:nvSpPr>
            <p:spPr>
              <a:xfrm>
                <a:off x="3085920" y="5367600"/>
                <a:ext cx="399960" cy="4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33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7" name="Прямоугольник 75"/>
              <p:cNvSpPr/>
              <p:nvPr/>
            </p:nvSpPr>
            <p:spPr>
              <a:xfrm>
                <a:off x="4757760" y="3711600"/>
                <a:ext cx="466560" cy="4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330000"/>
                    </a:solidFill>
                    <a:latin typeface="Times New Roman"/>
                    <a:ea typeface="Times New Roman"/>
                  </a:rPr>
                  <a:t>c</a:t>
                </a:r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8" name="Прямая соединительная линия 76"/>
              <p:cNvSpPr/>
              <p:nvPr/>
            </p:nvSpPr>
            <p:spPr>
              <a:xfrm>
                <a:off x="3112920" y="5934240"/>
                <a:ext cx="3141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9" name="Прямоугольник 77"/>
              <p:cNvSpPr/>
              <p:nvPr/>
            </p:nvSpPr>
            <p:spPr>
              <a:xfrm>
                <a:off x="4071960" y="5519880"/>
                <a:ext cx="466560" cy="46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a0a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0" name="Прямоугольник 78"/>
              <p:cNvSpPr/>
              <p:nvPr/>
            </p:nvSpPr>
            <p:spPr>
              <a:xfrm>
                <a:off x="4532400" y="4827600"/>
                <a:ext cx="466560" cy="4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a0a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1" name="Прямоугольник 80"/>
              <p:cNvSpPr/>
              <p:nvPr/>
            </p:nvSpPr>
            <p:spPr>
              <a:xfrm>
                <a:off x="2646360" y="3798720"/>
                <a:ext cx="466560" cy="4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a0a"/>
                    </a:solidFill>
                    <a:latin typeface="Times New Roman"/>
                    <a:ea typeface="Times New Roman"/>
                  </a:rPr>
                  <a:t>3)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52" name="Объект 2"/>
                <p:cNvSpPr txBox="1"/>
                <p:nvPr/>
              </p:nvSpPr>
              <p:spPr>
                <a:xfrm>
                  <a:off x="4108680" y="6202440"/>
                  <a:ext cx="2125800" cy="46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+∠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8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53" name="Группа 4"/>
          <p:cNvGrpSpPr/>
          <p:nvPr/>
        </p:nvGrpSpPr>
        <p:grpSpPr>
          <a:xfrm>
            <a:off x="363600" y="573120"/>
            <a:ext cx="4137120" cy="3048120"/>
            <a:chOff x="363600" y="573120"/>
            <a:chExt cx="4137120" cy="3048120"/>
          </a:xfrm>
        </p:grpSpPr>
        <p:grpSp>
          <p:nvGrpSpPr>
            <p:cNvPr id="1154" name="Группа 4"/>
            <p:cNvGrpSpPr/>
            <p:nvPr/>
          </p:nvGrpSpPr>
          <p:grpSpPr>
            <a:xfrm>
              <a:off x="363600" y="573120"/>
              <a:ext cx="4137120" cy="3048120"/>
              <a:chOff x="363600" y="573120"/>
              <a:chExt cx="4137120" cy="3048120"/>
            </a:xfrm>
          </p:grpSpPr>
          <p:sp>
            <p:nvSpPr>
              <p:cNvPr id="1155" name="Прямоугольник 13"/>
              <p:cNvSpPr/>
              <p:nvPr/>
            </p:nvSpPr>
            <p:spPr>
              <a:xfrm>
                <a:off x="363600" y="620640"/>
                <a:ext cx="4137120" cy="3000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6" name="Прямая соединительная линия 14"/>
              <p:cNvSpPr/>
              <p:nvPr/>
            </p:nvSpPr>
            <p:spPr>
              <a:xfrm>
                <a:off x="846000" y="1647720"/>
                <a:ext cx="310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7" name="Прямая соединительная линия 15"/>
              <p:cNvSpPr/>
              <p:nvPr/>
            </p:nvSpPr>
            <p:spPr>
              <a:xfrm flipV="1">
                <a:off x="1241280" y="707760"/>
                <a:ext cx="1862280" cy="2749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8" name="Прямоугольник 16"/>
              <p:cNvSpPr/>
              <p:nvPr/>
            </p:nvSpPr>
            <p:spPr>
              <a:xfrm>
                <a:off x="776160" y="1149120"/>
                <a:ext cx="46188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33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9" name="Прямоугольник 17"/>
              <p:cNvSpPr/>
              <p:nvPr/>
            </p:nvSpPr>
            <p:spPr>
              <a:xfrm>
                <a:off x="846000" y="2175120"/>
                <a:ext cx="39528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33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0" name="Прямоугольник 18"/>
              <p:cNvSpPr/>
              <p:nvPr/>
            </p:nvSpPr>
            <p:spPr>
              <a:xfrm>
                <a:off x="2500560" y="573120"/>
                <a:ext cx="46008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330000"/>
                    </a:solidFill>
                    <a:latin typeface="Times New Roman"/>
                    <a:ea typeface="Times New Roman"/>
                  </a:rPr>
                  <a:t>c</a:t>
                </a:r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1" name="Прямая соединительная линия 19"/>
              <p:cNvSpPr/>
              <p:nvPr/>
            </p:nvSpPr>
            <p:spPr>
              <a:xfrm>
                <a:off x="871560" y="2722680"/>
                <a:ext cx="3110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2" name="Прямоугольник 23"/>
              <p:cNvSpPr/>
              <p:nvPr/>
            </p:nvSpPr>
            <p:spPr>
              <a:xfrm>
                <a:off x="1820880" y="2320920"/>
                <a:ext cx="46188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a0a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3" name="Прямоугольник 24"/>
              <p:cNvSpPr/>
              <p:nvPr/>
            </p:nvSpPr>
            <p:spPr>
              <a:xfrm>
                <a:off x="1820880" y="1619280"/>
                <a:ext cx="46188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a0a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4" name="Прямоугольник 62"/>
              <p:cNvSpPr/>
              <p:nvPr/>
            </p:nvSpPr>
            <p:spPr>
              <a:xfrm>
                <a:off x="430200" y="647640"/>
                <a:ext cx="46008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a0a"/>
                    </a:solidFill>
                    <a:latin typeface="Times New Roman"/>
                    <a:ea typeface="Times New Roman"/>
                  </a:rPr>
                  <a:t>1)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65" name="Объект 3"/>
                <p:cNvSpPr txBox="1"/>
                <p:nvPr/>
              </p:nvSpPr>
              <p:spPr>
                <a:xfrm>
                  <a:off x="2462400" y="2910600"/>
                  <a:ext cx="124632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66" name="Группа 5"/>
          <p:cNvGrpSpPr/>
          <p:nvPr/>
        </p:nvGrpSpPr>
        <p:grpSpPr>
          <a:xfrm>
            <a:off x="4859280" y="582480"/>
            <a:ext cx="4032360" cy="2990880"/>
            <a:chOff x="4859280" y="582480"/>
            <a:chExt cx="4032360" cy="2990880"/>
          </a:xfrm>
        </p:grpSpPr>
        <p:grpSp>
          <p:nvGrpSpPr>
            <p:cNvPr id="1167" name="Группа 47"/>
            <p:cNvGrpSpPr/>
            <p:nvPr/>
          </p:nvGrpSpPr>
          <p:grpSpPr>
            <a:xfrm>
              <a:off x="4859280" y="582480"/>
              <a:ext cx="4032360" cy="2990880"/>
              <a:chOff x="4859280" y="582480"/>
              <a:chExt cx="4032360" cy="2990880"/>
            </a:xfrm>
          </p:grpSpPr>
          <p:sp>
            <p:nvSpPr>
              <p:cNvPr id="1168" name="Прямоугольник 52"/>
              <p:cNvSpPr/>
              <p:nvPr/>
            </p:nvSpPr>
            <p:spPr>
              <a:xfrm>
                <a:off x="4859280" y="582480"/>
                <a:ext cx="4032360" cy="299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9" name="Прямая соединительная линия 53"/>
              <p:cNvSpPr/>
              <p:nvPr/>
            </p:nvSpPr>
            <p:spPr>
              <a:xfrm>
                <a:off x="5370480" y="1653840"/>
                <a:ext cx="3030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0" name="Прямая соединительная линия 54"/>
              <p:cNvSpPr/>
              <p:nvPr/>
            </p:nvSpPr>
            <p:spPr>
              <a:xfrm flipV="1">
                <a:off x="5756040" y="715680"/>
                <a:ext cx="1816200" cy="274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1" name="Прямоугольник 55"/>
              <p:cNvSpPr/>
              <p:nvPr/>
            </p:nvSpPr>
            <p:spPr>
              <a:xfrm>
                <a:off x="5303520" y="1155600"/>
                <a:ext cx="44928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33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2" name="Прямоугольник 56"/>
              <p:cNvSpPr/>
              <p:nvPr/>
            </p:nvSpPr>
            <p:spPr>
              <a:xfrm>
                <a:off x="5370480" y="2179440"/>
                <a:ext cx="385560" cy="45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33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3" name="Прямоугольник 57"/>
              <p:cNvSpPr/>
              <p:nvPr/>
            </p:nvSpPr>
            <p:spPr>
              <a:xfrm>
                <a:off x="6983280" y="582480"/>
                <a:ext cx="449280" cy="45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330000"/>
                    </a:solidFill>
                    <a:latin typeface="Times New Roman"/>
                    <a:ea typeface="Times New Roman"/>
                  </a:rPr>
                  <a:t>c</a:t>
                </a:r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4" name="Прямая соединительная линия 58"/>
              <p:cNvSpPr/>
              <p:nvPr/>
            </p:nvSpPr>
            <p:spPr>
              <a:xfrm>
                <a:off x="5395680" y="2725560"/>
                <a:ext cx="3030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5" name="Прямоугольник 59"/>
              <p:cNvSpPr/>
              <p:nvPr/>
            </p:nvSpPr>
            <p:spPr>
              <a:xfrm>
                <a:off x="6321240" y="2325600"/>
                <a:ext cx="449280" cy="45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a0a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6" name="Прямоугольник 60"/>
              <p:cNvSpPr/>
              <p:nvPr/>
            </p:nvSpPr>
            <p:spPr>
              <a:xfrm>
                <a:off x="7012080" y="1236600"/>
                <a:ext cx="450720" cy="45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a0a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7" name="Прямоугольник 63"/>
              <p:cNvSpPr/>
              <p:nvPr/>
            </p:nvSpPr>
            <p:spPr>
              <a:xfrm>
                <a:off x="4946400" y="666360"/>
                <a:ext cx="44928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a0a"/>
                    </a:solidFill>
                    <a:latin typeface="Times New Roman"/>
                    <a:ea typeface="Times New Roman"/>
                  </a:rPr>
                  <a:t>2)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78" name="Объект 42"/>
                <p:cNvSpPr txBox="1"/>
                <p:nvPr/>
              </p:nvSpPr>
              <p:spPr>
                <a:xfrm>
                  <a:off x="7012080" y="2925000"/>
                  <a:ext cx="124632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2"/>
          <p:cNvSpPr/>
          <p:nvPr/>
        </p:nvSpPr>
        <p:spPr>
          <a:xfrm>
            <a:off x="179280" y="0"/>
            <a:ext cx="8820360" cy="57636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можно сказать о прямых 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и 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Rectangle 2"/>
          <p:cNvSpPr/>
          <p:nvPr/>
        </p:nvSpPr>
        <p:spPr>
          <a:xfrm>
            <a:off x="3924360" y="990720"/>
            <a:ext cx="4895640" cy="150156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1" name="Rectangle 2"/>
          <p:cNvSpPr/>
          <p:nvPr/>
        </p:nvSpPr>
        <p:spPr>
          <a:xfrm>
            <a:off x="3924360" y="2935440"/>
            <a:ext cx="4895640" cy="150156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Прямоугольник 35"/>
          <p:cNvSpPr/>
          <p:nvPr/>
        </p:nvSpPr>
        <p:spPr>
          <a:xfrm>
            <a:off x="2038320" y="1674720"/>
            <a:ext cx="6397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83" name="Группа 3"/>
          <p:cNvGrpSpPr/>
          <p:nvPr/>
        </p:nvGrpSpPr>
        <p:grpSpPr>
          <a:xfrm>
            <a:off x="4427640" y="765000"/>
            <a:ext cx="3744720" cy="2303640"/>
            <a:chOff x="4427640" y="765000"/>
            <a:chExt cx="3744720" cy="2303640"/>
          </a:xfrm>
        </p:grpSpPr>
        <p:sp>
          <p:nvSpPr>
            <p:cNvPr id="1184" name="Прямоугольник 7"/>
            <p:cNvSpPr/>
            <p:nvPr/>
          </p:nvSpPr>
          <p:spPr>
            <a:xfrm>
              <a:off x="4427640" y="765000"/>
              <a:ext cx="3744720" cy="2303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5" name="Прямая соединительная линия 8"/>
            <p:cNvSpPr/>
            <p:nvPr/>
          </p:nvSpPr>
          <p:spPr>
            <a:xfrm>
              <a:off x="4903560" y="1638000"/>
              <a:ext cx="2814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6" name="Прямая соединительная линия 9"/>
            <p:cNvSpPr/>
            <p:nvPr/>
          </p:nvSpPr>
          <p:spPr>
            <a:xfrm flipV="1">
              <a:off x="5261040" y="915840"/>
              <a:ext cx="1685880" cy="211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7" name="Прямоугольник 10"/>
            <p:cNvSpPr/>
            <p:nvPr/>
          </p:nvSpPr>
          <p:spPr>
            <a:xfrm>
              <a:off x="4862520" y="1149120"/>
              <a:ext cx="41904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8" name="Прямоугольник 11"/>
            <p:cNvSpPr/>
            <p:nvPr/>
          </p:nvSpPr>
          <p:spPr>
            <a:xfrm>
              <a:off x="4932360" y="2089080"/>
              <a:ext cx="35532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9" name="Прямоугольник 12"/>
            <p:cNvSpPr/>
            <p:nvPr/>
          </p:nvSpPr>
          <p:spPr>
            <a:xfrm>
              <a:off x="6319800" y="812520"/>
              <a:ext cx="41724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0" name="Прямая соединительная линия 13"/>
            <p:cNvSpPr/>
            <p:nvPr/>
          </p:nvSpPr>
          <p:spPr>
            <a:xfrm>
              <a:off x="4925880" y="2462400"/>
              <a:ext cx="2814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1" name="Объект 2"/>
                <p:cNvSpPr txBox="1"/>
                <p:nvPr/>
              </p:nvSpPr>
              <p:spPr>
                <a:xfrm>
                  <a:off x="6084000" y="2128320"/>
                  <a:ext cx="303120" cy="27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92" name="Объект 39"/>
                <p:cNvSpPr txBox="1"/>
                <p:nvPr/>
              </p:nvSpPr>
              <p:spPr>
                <a:xfrm>
                  <a:off x="6389640" y="1698480"/>
                  <a:ext cx="379800" cy="2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3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93" name="Группа 5"/>
          <p:cNvGrpSpPr/>
          <p:nvPr/>
        </p:nvGrpSpPr>
        <p:grpSpPr>
          <a:xfrm>
            <a:off x="216000" y="2603520"/>
            <a:ext cx="3348000" cy="1833480"/>
            <a:chOff x="216000" y="2603520"/>
            <a:chExt cx="3348000" cy="1833480"/>
          </a:xfrm>
        </p:grpSpPr>
        <p:sp>
          <p:nvSpPr>
            <p:cNvPr id="1194" name="Прямоугольник 17"/>
            <p:cNvSpPr/>
            <p:nvPr/>
          </p:nvSpPr>
          <p:spPr>
            <a:xfrm>
              <a:off x="216000" y="2603520"/>
              <a:ext cx="3348000" cy="1833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5" name="Прямая соединительная линия 18"/>
            <p:cNvSpPr/>
            <p:nvPr/>
          </p:nvSpPr>
          <p:spPr>
            <a:xfrm flipV="1">
              <a:off x="695160" y="2814120"/>
              <a:ext cx="1320840" cy="145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6" name="Прямая соединительная линия 19"/>
            <p:cNvSpPr/>
            <p:nvPr/>
          </p:nvSpPr>
          <p:spPr>
            <a:xfrm flipV="1">
              <a:off x="1587600" y="2685960"/>
              <a:ext cx="1508040" cy="167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7" name="Прямоугольник 20"/>
            <p:cNvSpPr/>
            <p:nvPr/>
          </p:nvSpPr>
          <p:spPr>
            <a:xfrm>
              <a:off x="1419120" y="2700360"/>
              <a:ext cx="37296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8" name="Прямоугольник 21"/>
            <p:cNvSpPr/>
            <p:nvPr/>
          </p:nvSpPr>
          <p:spPr>
            <a:xfrm>
              <a:off x="2524320" y="2733480"/>
              <a:ext cx="31896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9" name="Прямоугольник 22"/>
            <p:cNvSpPr/>
            <p:nvPr/>
          </p:nvSpPr>
          <p:spPr>
            <a:xfrm>
              <a:off x="2811600" y="3533760"/>
              <a:ext cx="3729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0" name="Прямая соединительная линия 23"/>
            <p:cNvSpPr/>
            <p:nvPr/>
          </p:nvSpPr>
          <p:spPr>
            <a:xfrm>
              <a:off x="662040" y="3605040"/>
              <a:ext cx="2516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1" name="Объект 40"/>
                <p:cNvSpPr txBox="1"/>
                <p:nvPr/>
              </p:nvSpPr>
              <p:spPr>
                <a:xfrm>
                  <a:off x="1608120" y="3327480"/>
                  <a:ext cx="27288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45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2" name="Объект 41"/>
                <p:cNvSpPr txBox="1"/>
                <p:nvPr/>
              </p:nvSpPr>
              <p:spPr>
                <a:xfrm>
                  <a:off x="2581560" y="3323520"/>
                  <a:ext cx="27288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45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03" name="Группа 26"/>
          <p:cNvGrpSpPr/>
          <p:nvPr/>
        </p:nvGrpSpPr>
        <p:grpSpPr>
          <a:xfrm>
            <a:off x="4211640" y="4653000"/>
            <a:ext cx="3349800" cy="1833480"/>
            <a:chOff x="4211640" y="4653000"/>
            <a:chExt cx="3349800" cy="1833480"/>
          </a:xfrm>
        </p:grpSpPr>
        <p:sp>
          <p:nvSpPr>
            <p:cNvPr id="1204" name="Прямоугольник 44"/>
            <p:cNvSpPr/>
            <p:nvPr/>
          </p:nvSpPr>
          <p:spPr>
            <a:xfrm>
              <a:off x="4211640" y="4653000"/>
              <a:ext cx="3349800" cy="1833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5" name="Прямая соединительная линия 45"/>
            <p:cNvSpPr/>
            <p:nvPr/>
          </p:nvSpPr>
          <p:spPr>
            <a:xfrm flipV="1">
              <a:off x="4690800" y="4863600"/>
              <a:ext cx="1320840" cy="145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6" name="Прямая соединительная линия 46"/>
            <p:cNvSpPr/>
            <p:nvPr/>
          </p:nvSpPr>
          <p:spPr>
            <a:xfrm flipV="1">
              <a:off x="5585040" y="4735440"/>
              <a:ext cx="1508040" cy="167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7" name="Прямоугольник 47"/>
            <p:cNvSpPr/>
            <p:nvPr/>
          </p:nvSpPr>
          <p:spPr>
            <a:xfrm>
              <a:off x="5415120" y="4749840"/>
              <a:ext cx="3744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8" name="Прямоугольник 48"/>
            <p:cNvSpPr/>
            <p:nvPr/>
          </p:nvSpPr>
          <p:spPr>
            <a:xfrm>
              <a:off x="6521760" y="4782960"/>
              <a:ext cx="31896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9" name="Прямоугольник 49"/>
            <p:cNvSpPr/>
            <p:nvPr/>
          </p:nvSpPr>
          <p:spPr>
            <a:xfrm>
              <a:off x="6809040" y="5583240"/>
              <a:ext cx="3729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60c"/>
                  </a:solidFill>
                  <a:latin typeface="Times New Roman"/>
                  <a:ea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0" name="Прямая соединительная линия 50"/>
            <p:cNvSpPr/>
            <p:nvPr/>
          </p:nvSpPr>
          <p:spPr>
            <a:xfrm>
              <a:off x="4657680" y="5654520"/>
              <a:ext cx="251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1" name="Объект 53"/>
                <p:cNvSpPr txBox="1"/>
                <p:nvPr/>
              </p:nvSpPr>
              <p:spPr>
                <a:xfrm>
                  <a:off x="5003640" y="5351400"/>
                  <a:ext cx="341280" cy="21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5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2" name="Объект 54"/>
                <p:cNvSpPr txBox="1"/>
                <p:nvPr/>
              </p:nvSpPr>
              <p:spPr>
                <a:xfrm>
                  <a:off x="5977440" y="5380560"/>
                  <a:ext cx="341280" cy="21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5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3" name="Picture 5" descr="C:\Documents and Settings\Admin\Мои документы\Мои рисунки\весёлые картинки\BS01718_.WMF"/>
          <p:cNvPicPr/>
          <p:nvPr/>
        </p:nvPicPr>
        <p:blipFill>
          <a:blip r:embed="rId1"/>
          <a:stretch/>
        </p:blipFill>
        <p:spPr>
          <a:xfrm>
            <a:off x="-201600" y="4170240"/>
            <a:ext cx="3535200" cy="2949840"/>
          </a:xfrm>
          <a:prstGeom prst="rect">
            <a:avLst/>
          </a:prstGeom>
          <a:ln w="0">
            <a:noFill/>
          </a:ln>
        </p:spPr>
      </p:pic>
      <p:grpSp>
        <p:nvGrpSpPr>
          <p:cNvPr id="1214" name="Группа 1"/>
          <p:cNvGrpSpPr/>
          <p:nvPr/>
        </p:nvGrpSpPr>
        <p:grpSpPr>
          <a:xfrm>
            <a:off x="147600" y="1484280"/>
            <a:ext cx="4424400" cy="3336840"/>
            <a:chOff x="147600" y="1484280"/>
            <a:chExt cx="4424400" cy="3336840"/>
          </a:xfrm>
        </p:grpSpPr>
        <p:sp>
          <p:nvSpPr>
            <p:cNvPr id="1215" name="Прямоугольник 39"/>
            <p:cNvSpPr/>
            <p:nvPr/>
          </p:nvSpPr>
          <p:spPr>
            <a:xfrm>
              <a:off x="147600" y="1644480"/>
              <a:ext cx="4424400" cy="3176640"/>
            </a:xfrm>
            <a:prstGeom prst="rect">
              <a:avLst/>
            </a:prstGeom>
            <a:solidFill>
              <a:srgbClr val="ffffe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6" name="Прямая соединительная линия 40"/>
            <p:cNvSpPr/>
            <p:nvPr/>
          </p:nvSpPr>
          <p:spPr>
            <a:xfrm flipV="1">
              <a:off x="403200" y="1868040"/>
              <a:ext cx="3659400" cy="9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7" name="Прямая соединительная линия 41"/>
            <p:cNvSpPr/>
            <p:nvPr/>
          </p:nvSpPr>
          <p:spPr>
            <a:xfrm flipH="1" flipV="1">
              <a:off x="1166760" y="1868400"/>
              <a:ext cx="2260800" cy="249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8" name="Прямоугольник 42"/>
            <p:cNvSpPr/>
            <p:nvPr/>
          </p:nvSpPr>
          <p:spPr>
            <a:xfrm>
              <a:off x="330120" y="2203200"/>
              <a:ext cx="4935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190019"/>
                  </a:solidFill>
                  <a:latin typeface="Times New Roman"/>
                  <a:ea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9" name="Прямоугольник 43"/>
            <p:cNvSpPr/>
            <p:nvPr/>
          </p:nvSpPr>
          <p:spPr>
            <a:xfrm>
              <a:off x="618840" y="3859200"/>
              <a:ext cx="42228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190019"/>
                  </a:solidFill>
                  <a:latin typeface="Times New Roman"/>
                  <a:ea typeface="Times New Roman"/>
                </a:rPr>
                <a:t>b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0" name="Прямоугольник 44"/>
            <p:cNvSpPr/>
            <p:nvPr/>
          </p:nvSpPr>
          <p:spPr>
            <a:xfrm>
              <a:off x="1195200" y="1484280"/>
              <a:ext cx="49212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400" spc="-1" strike="noStrike">
                  <a:solidFill>
                    <a:srgbClr val="190019"/>
                  </a:solidFill>
                  <a:latin typeface="Times New Roman"/>
                  <a:ea typeface="Times New Roman"/>
                </a:rPr>
                <a:t>с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1" name="Прямая соединительная линия 45"/>
            <p:cNvSpPr/>
            <p:nvPr/>
          </p:nvSpPr>
          <p:spPr>
            <a:xfrm flipV="1">
              <a:off x="747720" y="2228400"/>
              <a:ext cx="3614760" cy="227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2" name="Прямоугольник 61"/>
            <p:cNvSpPr/>
            <p:nvPr/>
          </p:nvSpPr>
          <p:spPr>
            <a:xfrm>
              <a:off x="1520640" y="1987200"/>
              <a:ext cx="4935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190019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3" name="Прямоугольник 62"/>
            <p:cNvSpPr/>
            <p:nvPr/>
          </p:nvSpPr>
          <p:spPr>
            <a:xfrm>
              <a:off x="1062000" y="2084400"/>
              <a:ext cx="49212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90019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4" name="Прямоугольник 63"/>
            <p:cNvSpPr/>
            <p:nvPr/>
          </p:nvSpPr>
          <p:spPr>
            <a:xfrm>
              <a:off x="1349280" y="2411280"/>
              <a:ext cx="4935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190019"/>
                  </a:solidFill>
                  <a:latin typeface="Times New Roman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5" name="Прямоугольник 64"/>
            <p:cNvSpPr/>
            <p:nvPr/>
          </p:nvSpPr>
          <p:spPr>
            <a:xfrm>
              <a:off x="1843200" y="2286000"/>
              <a:ext cx="4935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90019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6" name="Прямоугольник 65"/>
            <p:cNvSpPr/>
            <p:nvPr/>
          </p:nvSpPr>
          <p:spPr>
            <a:xfrm>
              <a:off x="1996920" y="3100320"/>
              <a:ext cx="4935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190019"/>
                  </a:solidFill>
                  <a:latin typeface="Times New Roman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7" name="Прямоугольник 66"/>
            <p:cNvSpPr/>
            <p:nvPr/>
          </p:nvSpPr>
          <p:spPr>
            <a:xfrm>
              <a:off x="2232000" y="3387600"/>
              <a:ext cx="4935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90019"/>
                  </a:solidFill>
                  <a:latin typeface="Times New Roman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8" name="Прямоугольник 67"/>
            <p:cNvSpPr/>
            <p:nvPr/>
          </p:nvSpPr>
          <p:spPr>
            <a:xfrm>
              <a:off x="2308320" y="2867040"/>
              <a:ext cx="4935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190019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9" name="Прямоугольник 68"/>
            <p:cNvSpPr/>
            <p:nvPr/>
          </p:nvSpPr>
          <p:spPr>
            <a:xfrm>
              <a:off x="2635200" y="3149640"/>
              <a:ext cx="4935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90019"/>
                  </a:solidFill>
                  <a:latin typeface="Times New Roman"/>
                  <a:ea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30" name="Rectangle 2"/>
          <p:cNvSpPr/>
          <p:nvPr/>
        </p:nvSpPr>
        <p:spPr>
          <a:xfrm>
            <a:off x="34920" y="115920"/>
            <a:ext cx="9001080" cy="12970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) Выберите верные утверждения: Прямые </a:t>
            </a:r>
            <a:r>
              <a:rPr b="1" i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и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параллельны если 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1" name="Объект 4"/>
              <p:cNvSpPr txBox="1"/>
              <p:nvPr/>
            </p:nvSpPr>
            <p:spPr>
              <a:xfrm>
                <a:off x="5230800" y="2033640"/>
                <a:ext cx="24652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∠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8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32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3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4" name="Объект 10"/>
              <p:cNvSpPr txBox="1"/>
              <p:nvPr/>
            </p:nvSpPr>
            <p:spPr>
              <a:xfrm>
                <a:off x="5246640" y="1600200"/>
                <a:ext cx="18144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5" name="Объект 49"/>
              <p:cNvSpPr txBox="1"/>
              <p:nvPr/>
            </p:nvSpPr>
            <p:spPr>
              <a:xfrm>
                <a:off x="5200560" y="2567160"/>
                <a:ext cx="18813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∠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Объект 50"/>
              <p:cNvSpPr txBox="1"/>
              <p:nvPr/>
            </p:nvSpPr>
            <p:spPr>
              <a:xfrm>
                <a:off x="5205240" y="3068640"/>
                <a:ext cx="24368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r>
                      <m:t xml:space="preserve">∠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3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7" name="Объект 51"/>
              <p:cNvSpPr txBox="1"/>
              <p:nvPr/>
            </p:nvSpPr>
            <p:spPr>
              <a:xfrm>
                <a:off x="5203800" y="3645000"/>
                <a:ext cx="18478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д</m:t>
                    </m:r>
                    <m:r>
                      <m:t xml:space="preserve">)</m:t>
                    </m:r>
                    <m:r>
                      <m:t xml:space="preserve">∠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8" name="Объект 52"/>
              <p:cNvSpPr txBox="1"/>
              <p:nvPr/>
            </p:nvSpPr>
            <p:spPr>
              <a:xfrm>
                <a:off x="5200560" y="4149720"/>
                <a:ext cx="18478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)</m:t>
                    </m:r>
                    <m:r>
                      <m:t xml:space="preserve">∠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9" name="Объект 53"/>
              <p:cNvSpPr txBox="1"/>
              <p:nvPr/>
            </p:nvSpPr>
            <p:spPr>
              <a:xfrm>
                <a:off x="5207040" y="4653000"/>
                <a:ext cx="25779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ж</m:t>
                    </m:r>
                    <m:r>
                      <m:t xml:space="preserve">)</m:t>
                    </m:r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7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0" name="Объект 54"/>
              <p:cNvSpPr txBox="1"/>
              <p:nvPr/>
            </p:nvSpPr>
            <p:spPr>
              <a:xfrm>
                <a:off x="5219640" y="5213520"/>
                <a:ext cx="24084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з</m:t>
                    </m:r>
                    <m:r>
                      <m:t xml:space="preserve">)</m:t>
                    </m:r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4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2"/>
          <p:cNvSpPr/>
          <p:nvPr/>
        </p:nvSpPr>
        <p:spPr>
          <a:xfrm>
            <a:off x="34920" y="115920"/>
            <a:ext cx="9001080" cy="12970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араллельны ли прямые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Почему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2" name="Рисунок 3" descr=""/>
          <p:cNvPicPr/>
          <p:nvPr/>
        </p:nvPicPr>
        <p:blipFill>
          <a:blip r:embed="rId1"/>
          <a:stretch/>
        </p:blipFill>
        <p:spPr>
          <a:xfrm>
            <a:off x="5572080" y="4379760"/>
            <a:ext cx="29606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1243" name="Группа 3"/>
          <p:cNvGrpSpPr/>
          <p:nvPr/>
        </p:nvGrpSpPr>
        <p:grpSpPr>
          <a:xfrm>
            <a:off x="760320" y="1701720"/>
            <a:ext cx="3451320" cy="2303640"/>
            <a:chOff x="760320" y="1701720"/>
            <a:chExt cx="3451320" cy="2303640"/>
          </a:xfrm>
        </p:grpSpPr>
        <p:grpSp>
          <p:nvGrpSpPr>
            <p:cNvPr id="1244" name="Группа 48"/>
            <p:cNvGrpSpPr/>
            <p:nvPr/>
          </p:nvGrpSpPr>
          <p:grpSpPr>
            <a:xfrm>
              <a:off x="760320" y="1701720"/>
              <a:ext cx="3451320" cy="2303640"/>
              <a:chOff x="760320" y="1701720"/>
              <a:chExt cx="3451320" cy="2303640"/>
            </a:xfrm>
          </p:grpSpPr>
          <p:grpSp>
            <p:nvGrpSpPr>
              <p:cNvPr id="1245" name="Группа 38"/>
              <p:cNvGrpSpPr/>
              <p:nvPr/>
            </p:nvGrpSpPr>
            <p:grpSpPr>
              <a:xfrm>
                <a:off x="760320" y="1701720"/>
                <a:ext cx="3451320" cy="2303640"/>
                <a:chOff x="760320" y="1701720"/>
                <a:chExt cx="3451320" cy="2303640"/>
              </a:xfrm>
            </p:grpSpPr>
            <p:sp>
              <p:nvSpPr>
                <p:cNvPr id="1246" name="Прямоугольник 13"/>
                <p:cNvSpPr/>
                <p:nvPr/>
              </p:nvSpPr>
              <p:spPr>
                <a:xfrm>
                  <a:off x="760320" y="1701720"/>
                  <a:ext cx="3451320" cy="2303640"/>
                </a:xfrm>
                <a:prstGeom prst="rect">
                  <a:avLst/>
                </a:prstGeom>
                <a:solidFill>
                  <a:srgbClr val="ffffe1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47" name="Прямая соединительная линия 14"/>
                <p:cNvSpPr/>
                <p:nvPr/>
              </p:nvSpPr>
              <p:spPr>
                <a:xfrm>
                  <a:off x="1198440" y="2527200"/>
                  <a:ext cx="2594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48" name="Прямая соединительная линия 15"/>
                <p:cNvSpPr/>
                <p:nvPr/>
              </p:nvSpPr>
              <p:spPr>
                <a:xfrm flipV="1">
                  <a:off x="1528560" y="1804680"/>
                  <a:ext cx="1552680" cy="2111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49" name="Прямоугольник 16"/>
                <p:cNvSpPr/>
                <p:nvPr/>
              </p:nvSpPr>
              <p:spPr>
                <a:xfrm>
                  <a:off x="1161720" y="2039760"/>
                  <a:ext cx="3841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60c"/>
                      </a:solidFill>
                      <a:latin typeface="Times New Roman"/>
                      <a:ea typeface="Times New Roman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50" name="Прямоугольник 17"/>
                <p:cNvSpPr/>
                <p:nvPr/>
              </p:nvSpPr>
              <p:spPr>
                <a:xfrm>
                  <a:off x="1198440" y="2881440"/>
                  <a:ext cx="330120" cy="3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60c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3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51" name="Прямоугольник 18"/>
                <p:cNvSpPr/>
                <p:nvPr/>
              </p:nvSpPr>
              <p:spPr>
                <a:xfrm>
                  <a:off x="2503440" y="1701720"/>
                  <a:ext cx="38556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3200" spc="-1" strike="noStrike">
                      <a:solidFill>
                        <a:srgbClr val="00060c"/>
                      </a:solidFill>
                      <a:latin typeface="Times New Roman"/>
                      <a:ea typeface="Times New Roman"/>
                    </a:rPr>
                    <a:t>с</a:t>
                  </a:r>
                  <a:endParaRPr b="0" lang="en-US" sz="3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52" name="Прямая соединительная линия 19"/>
                <p:cNvSpPr/>
                <p:nvPr/>
              </p:nvSpPr>
              <p:spPr>
                <a:xfrm>
                  <a:off x="1218960" y="3353040"/>
                  <a:ext cx="2595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53" name="Прямоугольник 20"/>
                <p:cNvSpPr/>
                <p:nvPr/>
              </p:nvSpPr>
              <p:spPr>
                <a:xfrm>
                  <a:off x="2541600" y="3510000"/>
                  <a:ext cx="5396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60c"/>
                      </a:solidFill>
                      <a:latin typeface="Times New Roman"/>
                      <a:ea typeface="Times New Roman"/>
                    </a:rPr>
                    <a:t>a)</a:t>
                  </a:r>
                  <a:endParaRPr b="0" lang="en-US" sz="3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54" name="Прямоугольник 21"/>
                <p:cNvSpPr/>
                <p:nvPr/>
              </p:nvSpPr>
              <p:spPr>
                <a:xfrm>
                  <a:off x="2695680" y="2563920"/>
                  <a:ext cx="3841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55" name="Дуга 12"/>
              <p:cNvSpPr/>
              <p:nvPr/>
            </p:nvSpPr>
            <p:spPr>
              <a:xfrm rot="1655400">
                <a:off x="1860120" y="3021120"/>
                <a:ext cx="458640" cy="506520"/>
              </a:xfrm>
              <a:custGeom>
                <a:avLst/>
                <a:gdLst>
                  <a:gd name="textAreaLeft" fmla="*/ 229320 w 458640"/>
                  <a:gd name="textAreaRight" fmla="*/ 459000 w 458640"/>
                  <a:gd name="textAreaTop" fmla="*/ 0 h 506520"/>
                  <a:gd name="textAreaBottom" fmla="*/ 253440 h 506520"/>
                </a:gdLst>
                <a:ahLst/>
                <a:rect l="textAreaLeft" t="textAreaTop" r="textAreaRight" b="textAreaBottom"/>
                <a:pathLst>
                  <a:path stroke="0" w="445117" h="403193">
                    <a:moveTo>
                      <a:pt x="222559" y="0"/>
                    </a:moveTo>
                    <a:lnTo>
                      <a:pt x="222559" y="0"/>
                    </a:lnTo>
                    <a:arcTo wR="222559" hR="201597" stAng="-5400000" swAng="5400015"/>
                    <a:lnTo>
                      <a:pt x="222559" y="201597"/>
                    </a:lnTo>
                    <a:close/>
                  </a:path>
                  <a:path fill="none" w="445117" h="403193">
                    <a:moveTo>
                      <a:pt x="222559" y="0"/>
                    </a:moveTo>
                    <a:lnTo>
                      <a:pt x="222559" y="0"/>
                    </a:lnTo>
                    <a:arcTo wR="222559" hR="201597" stAng="-5400000" swAng="5400015"/>
                  </a:path>
                </a:pathLst>
              </a:custGeom>
              <a:noFill/>
              <a:ln w="19080">
                <a:solidFill>
                  <a:srgbClr val="00060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56" name="Дуга 7"/>
            <p:cNvSpPr/>
            <p:nvPr/>
          </p:nvSpPr>
          <p:spPr>
            <a:xfrm rot="1655400">
              <a:off x="1787040" y="3067200"/>
              <a:ext cx="457200" cy="506520"/>
            </a:xfrm>
            <a:custGeom>
              <a:avLst/>
              <a:gdLst>
                <a:gd name="textAreaLeft" fmla="*/ 228600 w 457200"/>
                <a:gd name="textAreaRight" fmla="*/ 457560 w 457200"/>
                <a:gd name="textAreaTop" fmla="*/ 0 h 506520"/>
                <a:gd name="textAreaBottom" fmla="*/ 253440 h 506520"/>
              </a:gdLst>
              <a:ahLst/>
              <a:rect l="textAreaLeft" t="textAreaTop" r="textAreaRight" b="textAreaBottom"/>
              <a:pathLst>
                <a:path stroke="0" w="457200" h="506413">
                  <a:moveTo>
                    <a:pt x="228600" y="0"/>
                  </a:moveTo>
                  <a:lnTo>
                    <a:pt x="228600" y="0"/>
                  </a:lnTo>
                  <a:arcTo wR="228600" hR="253207" stAng="-5400000" swAng="5400015"/>
                  <a:lnTo>
                    <a:pt x="228600" y="253207"/>
                  </a:lnTo>
                  <a:close/>
                </a:path>
                <a:path fill="none" w="457200" h="506413">
                  <a:moveTo>
                    <a:pt x="228600" y="0"/>
                  </a:moveTo>
                  <a:lnTo>
                    <a:pt x="228600" y="0"/>
                  </a:lnTo>
                  <a:arcTo wR="228600" hR="253207" stAng="-5400000" swAng="5400015"/>
                </a:path>
              </a:pathLst>
            </a:custGeom>
            <a:noFill/>
            <a:ln w="19080">
              <a:solidFill>
                <a:srgbClr val="00060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7" name="Дуга 8"/>
            <p:cNvSpPr/>
            <p:nvPr/>
          </p:nvSpPr>
          <p:spPr>
            <a:xfrm rot="7099800">
              <a:off x="2304360" y="2237760"/>
              <a:ext cx="557280" cy="417240"/>
            </a:xfrm>
            <a:custGeom>
              <a:avLst/>
              <a:gdLst>
                <a:gd name="textAreaLeft" fmla="*/ 278640 w 557280"/>
                <a:gd name="textAreaRight" fmla="*/ 557640 w 557280"/>
                <a:gd name="textAreaTop" fmla="*/ 0 h 417240"/>
                <a:gd name="textAreaBottom" fmla="*/ 208800 h 417240"/>
              </a:gdLst>
              <a:ahLst/>
              <a:rect l="textAreaLeft" t="textAreaTop" r="textAreaRight" b="textAreaBottom"/>
              <a:pathLst>
                <a:path stroke="0" w="557213" h="417513">
                  <a:moveTo>
                    <a:pt x="278607" y="0"/>
                  </a:moveTo>
                  <a:lnTo>
                    <a:pt x="278607" y="0"/>
                  </a:lnTo>
                  <a:arcTo wR="278607" hR="208757" stAng="-5400000" swAng="5400012"/>
                  <a:lnTo>
                    <a:pt x="278607" y="208757"/>
                  </a:lnTo>
                  <a:close/>
                </a:path>
                <a:path fill="none" w="557213" h="417513">
                  <a:moveTo>
                    <a:pt x="278607" y="0"/>
                  </a:moveTo>
                  <a:lnTo>
                    <a:pt x="278607" y="0"/>
                  </a:lnTo>
                  <a:arcTo wR="278607" hR="208757" stAng="-5400000" swAng="5400012"/>
                </a:path>
              </a:pathLst>
            </a:custGeom>
            <a:noFill/>
            <a:ln w="19080">
              <a:solidFill>
                <a:srgbClr val="00060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8" name="Объект 2"/>
                <p:cNvSpPr txBox="1"/>
                <p:nvPr/>
              </p:nvSpPr>
              <p:spPr>
                <a:xfrm>
                  <a:off x="2720520" y="2610720"/>
                  <a:ext cx="31752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1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59" name="Объект 52"/>
                <p:cNvSpPr txBox="1"/>
                <p:nvPr/>
              </p:nvSpPr>
              <p:spPr>
                <a:xfrm>
                  <a:off x="2376360" y="3048120"/>
                  <a:ext cx="25380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7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60" name="Группа 5"/>
          <p:cNvGrpSpPr/>
          <p:nvPr/>
        </p:nvGrpSpPr>
        <p:grpSpPr>
          <a:xfrm>
            <a:off x="5003640" y="1557360"/>
            <a:ext cx="3635640" cy="2521080"/>
            <a:chOff x="5003640" y="1557360"/>
            <a:chExt cx="3635640" cy="2521080"/>
          </a:xfrm>
        </p:grpSpPr>
        <p:grpSp>
          <p:nvGrpSpPr>
            <p:cNvPr id="1261" name="Группа 55"/>
            <p:cNvGrpSpPr/>
            <p:nvPr/>
          </p:nvGrpSpPr>
          <p:grpSpPr>
            <a:xfrm>
              <a:off x="5003640" y="1557360"/>
              <a:ext cx="3635640" cy="2521080"/>
              <a:chOff x="5003640" y="1557360"/>
              <a:chExt cx="3635640" cy="2521080"/>
            </a:xfrm>
          </p:grpSpPr>
          <p:grpSp>
            <p:nvGrpSpPr>
              <p:cNvPr id="1262" name="Группа 58"/>
              <p:cNvGrpSpPr/>
              <p:nvPr/>
            </p:nvGrpSpPr>
            <p:grpSpPr>
              <a:xfrm>
                <a:off x="5003640" y="1557360"/>
                <a:ext cx="3635640" cy="2521080"/>
                <a:chOff x="5003640" y="1557360"/>
                <a:chExt cx="3635640" cy="2521080"/>
              </a:xfrm>
            </p:grpSpPr>
            <p:sp>
              <p:nvSpPr>
                <p:cNvPr id="1263" name="Прямоугольник 30"/>
                <p:cNvSpPr/>
                <p:nvPr/>
              </p:nvSpPr>
              <p:spPr>
                <a:xfrm>
                  <a:off x="5003640" y="1699920"/>
                  <a:ext cx="3635640" cy="2294280"/>
                </a:xfrm>
                <a:prstGeom prst="rect">
                  <a:avLst/>
                </a:prstGeom>
                <a:solidFill>
                  <a:srgbClr val="ffffe1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64" name="Прямая соединительная линия 31"/>
                <p:cNvSpPr/>
                <p:nvPr/>
              </p:nvSpPr>
              <p:spPr>
                <a:xfrm>
                  <a:off x="5290920" y="2457360"/>
                  <a:ext cx="2732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65" name="Прямая соединительная линия 32"/>
                <p:cNvSpPr/>
                <p:nvPr/>
              </p:nvSpPr>
              <p:spPr>
                <a:xfrm flipH="1" flipV="1">
                  <a:off x="6068880" y="1871640"/>
                  <a:ext cx="1820880" cy="184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66" name="Прямоугольник 33"/>
                <p:cNvSpPr/>
                <p:nvPr/>
              </p:nvSpPr>
              <p:spPr>
                <a:xfrm>
                  <a:off x="5130360" y="1973160"/>
                  <a:ext cx="404640" cy="3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60c"/>
                      </a:solidFill>
                      <a:latin typeface="Times New Roman"/>
                      <a:ea typeface="Times New Roman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67" name="Прямоугольник 34"/>
                <p:cNvSpPr/>
                <p:nvPr/>
              </p:nvSpPr>
              <p:spPr>
                <a:xfrm>
                  <a:off x="5425920" y="2809800"/>
                  <a:ext cx="347400" cy="3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60c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3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68" name="Прямоугольник 35"/>
                <p:cNvSpPr/>
                <p:nvPr/>
              </p:nvSpPr>
              <p:spPr>
                <a:xfrm>
                  <a:off x="6040440" y="1557360"/>
                  <a:ext cx="654120" cy="46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3200" spc="-1" strike="noStrike">
                      <a:solidFill>
                        <a:srgbClr val="00060c"/>
                      </a:solidFill>
                      <a:latin typeface="Times New Roman"/>
                      <a:ea typeface="Times New Roman"/>
                    </a:rPr>
                    <a:t>с</a:t>
                  </a:r>
                  <a:endParaRPr b="0" lang="en-US" sz="3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69" name="Прямая соединительная линия 36"/>
                <p:cNvSpPr/>
                <p:nvPr/>
              </p:nvSpPr>
              <p:spPr>
                <a:xfrm>
                  <a:off x="5364000" y="3262320"/>
                  <a:ext cx="2733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70" name="Прямоугольник 37"/>
                <p:cNvSpPr/>
                <p:nvPr/>
              </p:nvSpPr>
              <p:spPr>
                <a:xfrm>
                  <a:off x="5887800" y="3268800"/>
                  <a:ext cx="1090440" cy="80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3200" spc="-1" strike="noStrike">
                      <a:solidFill>
                        <a:srgbClr val="00060c"/>
                      </a:solidFill>
                      <a:latin typeface="Times New Roman"/>
                      <a:ea typeface="Times New Roman"/>
                    </a:rPr>
                    <a:t>б</a:t>
                  </a:r>
                  <a:r>
                    <a:rPr b="0" i="1" lang="en-US" sz="3200" spc="-1" strike="noStrike">
                      <a:solidFill>
                        <a:srgbClr val="00060c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3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71" name="Дуга 29"/>
              <p:cNvSpPr/>
              <p:nvPr/>
            </p:nvSpPr>
            <p:spPr>
              <a:xfrm rot="15432000">
                <a:off x="6231960" y="2255400"/>
                <a:ext cx="555480" cy="438120"/>
              </a:xfrm>
              <a:custGeom>
                <a:avLst/>
                <a:gdLst>
                  <a:gd name="textAreaLeft" fmla="*/ 277920 w 555480"/>
                  <a:gd name="textAreaRight" fmla="*/ 555840 w 555480"/>
                  <a:gd name="textAreaTop" fmla="*/ 0 h 438120"/>
                  <a:gd name="textAreaBottom" fmla="*/ 219240 h 438120"/>
                </a:gdLst>
                <a:ahLst/>
                <a:rect l="textAreaLeft" t="textAreaTop" r="textAreaRight" b="textAreaBottom"/>
                <a:pathLst>
                  <a:path stroke="0" w="444382" h="403561">
                    <a:moveTo>
                      <a:pt x="222191" y="0"/>
                    </a:moveTo>
                    <a:lnTo>
                      <a:pt x="222191" y="0"/>
                    </a:lnTo>
                    <a:arcTo wR="222191" hR="201781" stAng="-5400000" swAng="5400015"/>
                    <a:lnTo>
                      <a:pt x="222191" y="201781"/>
                    </a:lnTo>
                    <a:close/>
                  </a:path>
                  <a:path fill="none" w="444382" h="403561">
                    <a:moveTo>
                      <a:pt x="222191" y="0"/>
                    </a:moveTo>
                    <a:lnTo>
                      <a:pt x="222191" y="0"/>
                    </a:lnTo>
                    <a:arcTo wR="222191" hR="201781" stAng="-5400000" swAng="5400015"/>
                  </a:path>
                </a:pathLst>
              </a:custGeom>
              <a:noFill/>
              <a:ln w="19080">
                <a:solidFill>
                  <a:srgbClr val="00060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72" name="Дуга 24"/>
            <p:cNvSpPr/>
            <p:nvPr/>
          </p:nvSpPr>
          <p:spPr>
            <a:xfrm rot="15585000">
              <a:off x="6131160" y="2225880"/>
              <a:ext cx="555480" cy="439560"/>
            </a:xfrm>
            <a:custGeom>
              <a:avLst/>
              <a:gdLst>
                <a:gd name="textAreaLeft" fmla="*/ 277920 w 555480"/>
                <a:gd name="textAreaRight" fmla="*/ 555840 w 555480"/>
                <a:gd name="textAreaTop" fmla="*/ 0 h 439560"/>
                <a:gd name="textAreaBottom" fmla="*/ 219960 h 439560"/>
              </a:gdLst>
              <a:ahLst/>
              <a:rect l="textAreaLeft" t="textAreaTop" r="textAreaRight" b="textAreaBottom"/>
              <a:pathLst>
                <a:path stroke="0" w="555625" h="439737">
                  <a:moveTo>
                    <a:pt x="277813" y="0"/>
                  </a:moveTo>
                  <a:lnTo>
                    <a:pt x="277813" y="0"/>
                  </a:lnTo>
                  <a:arcTo wR="277813" hR="219869" stAng="-5400000" swAng="5400012"/>
                  <a:lnTo>
                    <a:pt x="277813" y="219869"/>
                  </a:lnTo>
                  <a:close/>
                </a:path>
                <a:path fill="none" w="555625" h="439737">
                  <a:moveTo>
                    <a:pt x="277813" y="0"/>
                  </a:moveTo>
                  <a:lnTo>
                    <a:pt x="277813" y="0"/>
                  </a:lnTo>
                  <a:arcTo wR="277813" hR="219869" stAng="-5400000" swAng="5400012"/>
                </a:path>
              </a:pathLst>
            </a:custGeom>
            <a:noFill/>
            <a:ln w="19080">
              <a:solidFill>
                <a:srgbClr val="00060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3" name="Дуга 25"/>
            <p:cNvSpPr/>
            <p:nvPr/>
          </p:nvSpPr>
          <p:spPr>
            <a:xfrm rot="20577000">
              <a:off x="7228080" y="3073320"/>
              <a:ext cx="361800" cy="506160"/>
            </a:xfrm>
            <a:custGeom>
              <a:avLst/>
              <a:gdLst>
                <a:gd name="textAreaLeft" fmla="*/ 181080 w 361800"/>
                <a:gd name="textAreaRight" fmla="*/ 362160 w 361800"/>
                <a:gd name="textAreaTop" fmla="*/ 0 h 506160"/>
                <a:gd name="textAreaBottom" fmla="*/ 253080 h 506160"/>
              </a:gdLst>
              <a:ahLst/>
              <a:rect l="textAreaLeft" t="textAreaTop" r="textAreaRight" b="textAreaBottom"/>
              <a:pathLst>
                <a:path stroke="0" w="361950" h="506413">
                  <a:moveTo>
                    <a:pt x="180975" y="0"/>
                  </a:moveTo>
                  <a:lnTo>
                    <a:pt x="180975" y="0"/>
                  </a:lnTo>
                  <a:arcTo wR="180975" hR="253207" stAng="-5400000" swAng="5400000"/>
                  <a:lnTo>
                    <a:pt x="180975" y="253207"/>
                  </a:lnTo>
                  <a:close/>
                </a:path>
                <a:path fill="none" w="361950" h="506413">
                  <a:moveTo>
                    <a:pt x="180975" y="0"/>
                  </a:moveTo>
                  <a:lnTo>
                    <a:pt x="180975" y="0"/>
                  </a:lnTo>
                  <a:arcTo wR="180975" hR="253207" stAng="-5400000" swAng="5400000"/>
                </a:path>
              </a:pathLst>
            </a:custGeom>
            <a:noFill/>
            <a:ln w="19080">
              <a:solidFill>
                <a:srgbClr val="00060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4" name="Объект 58"/>
                <p:cNvSpPr txBox="1"/>
                <p:nvPr/>
              </p:nvSpPr>
              <p:spPr>
                <a:xfrm>
                  <a:off x="5887800" y="2117520"/>
                  <a:ext cx="25380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65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5" name="Объект 69"/>
                <p:cNvSpPr txBox="1"/>
                <p:nvPr/>
              </p:nvSpPr>
              <p:spPr>
                <a:xfrm>
                  <a:off x="7602480" y="2966760"/>
                  <a:ext cx="31752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25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76" name="Группа 38"/>
          <p:cNvGrpSpPr/>
          <p:nvPr/>
        </p:nvGrpSpPr>
        <p:grpSpPr>
          <a:xfrm>
            <a:off x="861840" y="4292640"/>
            <a:ext cx="3349800" cy="2232000"/>
            <a:chOff x="861840" y="4292640"/>
            <a:chExt cx="3349800" cy="2232000"/>
          </a:xfrm>
        </p:grpSpPr>
        <p:grpSp>
          <p:nvGrpSpPr>
            <p:cNvPr id="1277" name="Группа 113"/>
            <p:cNvGrpSpPr/>
            <p:nvPr/>
          </p:nvGrpSpPr>
          <p:grpSpPr>
            <a:xfrm>
              <a:off x="861840" y="4292640"/>
              <a:ext cx="3349800" cy="2232000"/>
              <a:chOff x="861840" y="4292640"/>
              <a:chExt cx="3349800" cy="2232000"/>
            </a:xfrm>
          </p:grpSpPr>
          <p:grpSp>
            <p:nvGrpSpPr>
              <p:cNvPr id="1278" name="Группа 116"/>
              <p:cNvGrpSpPr/>
              <p:nvPr/>
            </p:nvGrpSpPr>
            <p:grpSpPr>
              <a:xfrm>
                <a:off x="861840" y="4292640"/>
                <a:ext cx="3349800" cy="2232000"/>
                <a:chOff x="861840" y="4292640"/>
                <a:chExt cx="3349800" cy="2232000"/>
              </a:xfrm>
            </p:grpSpPr>
            <p:sp>
              <p:nvSpPr>
                <p:cNvPr id="1279" name="Прямоугольник 45"/>
                <p:cNvSpPr/>
                <p:nvPr/>
              </p:nvSpPr>
              <p:spPr>
                <a:xfrm>
                  <a:off x="861840" y="4292640"/>
                  <a:ext cx="3349800" cy="2232000"/>
                </a:xfrm>
                <a:prstGeom prst="rect">
                  <a:avLst/>
                </a:prstGeom>
                <a:solidFill>
                  <a:srgbClr val="ffffe1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0" name="Прямая соединительная линия 46"/>
                <p:cNvSpPr/>
                <p:nvPr/>
              </p:nvSpPr>
              <p:spPr>
                <a:xfrm>
                  <a:off x="1287000" y="5092560"/>
                  <a:ext cx="2517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1" name="Прямая соединительная линия 47"/>
                <p:cNvSpPr/>
                <p:nvPr/>
              </p:nvSpPr>
              <p:spPr>
                <a:xfrm flipV="1">
                  <a:off x="1606320" y="4392360"/>
                  <a:ext cx="1508040" cy="2046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2" name="Прямая соединительная линия 48"/>
                <p:cNvSpPr/>
                <p:nvPr/>
              </p:nvSpPr>
              <p:spPr>
                <a:xfrm>
                  <a:off x="1307880" y="5891400"/>
                  <a:ext cx="2517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3" name="Прямоугольник 49"/>
                <p:cNvSpPr/>
                <p:nvPr/>
              </p:nvSpPr>
              <p:spPr>
                <a:xfrm>
                  <a:off x="1252080" y="4619520"/>
                  <a:ext cx="372960" cy="33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60c"/>
                      </a:solidFill>
                      <a:latin typeface="Times New Roman"/>
                      <a:ea typeface="Times New Roman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4" name="Прямоугольник 50"/>
                <p:cNvSpPr/>
                <p:nvPr/>
              </p:nvSpPr>
              <p:spPr>
                <a:xfrm>
                  <a:off x="1287000" y="5435640"/>
                  <a:ext cx="318960" cy="33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60c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3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5" name="Прямоугольник 51"/>
                <p:cNvSpPr/>
                <p:nvPr/>
              </p:nvSpPr>
              <p:spPr>
                <a:xfrm>
                  <a:off x="2554200" y="4292640"/>
                  <a:ext cx="372960" cy="33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3200" spc="-1" strike="noStrike">
                      <a:solidFill>
                        <a:srgbClr val="00060c"/>
                      </a:solidFill>
                      <a:latin typeface="Times New Roman"/>
                      <a:ea typeface="Times New Roman"/>
                    </a:rPr>
                    <a:t>с</a:t>
                  </a:r>
                  <a:endParaRPr b="0" lang="en-US" sz="3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6" name="Прямоугольник 52"/>
                <p:cNvSpPr/>
                <p:nvPr/>
              </p:nvSpPr>
              <p:spPr>
                <a:xfrm>
                  <a:off x="2225520" y="6096240"/>
                  <a:ext cx="1122480" cy="33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3200" spc="-1" strike="noStrike">
                      <a:solidFill>
                        <a:srgbClr val="00060c"/>
                      </a:solidFill>
                      <a:latin typeface="Times New Roman"/>
                      <a:ea typeface="Times New Roman"/>
                    </a:rPr>
                    <a:t>в)</a:t>
                  </a:r>
                  <a:endParaRPr b="0" lang="en-US" sz="3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87" name="Дуга 44"/>
              <p:cNvSpPr/>
              <p:nvPr/>
            </p:nvSpPr>
            <p:spPr>
              <a:xfrm rot="1655400">
                <a:off x="2607840" y="4754160"/>
                <a:ext cx="333360" cy="492120"/>
              </a:xfrm>
              <a:custGeom>
                <a:avLst/>
                <a:gdLst>
                  <a:gd name="textAreaLeft" fmla="*/ 166680 w 333360"/>
                  <a:gd name="textAreaRight" fmla="*/ 333720 w 333360"/>
                  <a:gd name="textAreaTop" fmla="*/ 0 h 492120"/>
                  <a:gd name="textAreaBottom" fmla="*/ 246240 h 492120"/>
                </a:gdLst>
                <a:ahLst/>
                <a:rect l="textAreaLeft" t="textAreaTop" r="textAreaRight" b="textAreaBottom"/>
                <a:pathLst>
                  <a:path stroke="0" w="333252" h="404359">
                    <a:moveTo>
                      <a:pt x="166626" y="0"/>
                    </a:moveTo>
                    <a:lnTo>
                      <a:pt x="166626" y="0"/>
                    </a:lnTo>
                    <a:arcTo wR="166626" hR="202180" stAng="-5400000" swAng="5400000"/>
                    <a:lnTo>
                      <a:pt x="166626" y="202180"/>
                    </a:lnTo>
                    <a:close/>
                  </a:path>
                  <a:path fill="none" w="333252" h="404359">
                    <a:moveTo>
                      <a:pt x="166626" y="0"/>
                    </a:moveTo>
                    <a:lnTo>
                      <a:pt x="166626" y="0"/>
                    </a:lnTo>
                    <a:arcTo wR="166626" hR="202180" stAng="-5400000" swAng="5400000"/>
                  </a:path>
                </a:pathLst>
              </a:custGeom>
              <a:noFill/>
              <a:ln w="19080">
                <a:solidFill>
                  <a:srgbClr val="00060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88" name="Объект 54"/>
                <p:cNvSpPr txBox="1"/>
                <p:nvPr/>
              </p:nvSpPr>
              <p:spPr>
                <a:xfrm>
                  <a:off x="3052080" y="4736520"/>
                  <a:ext cx="25380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89" name="Объект 55"/>
                <p:cNvSpPr txBox="1"/>
                <p:nvPr/>
              </p:nvSpPr>
              <p:spPr>
                <a:xfrm>
                  <a:off x="1395720" y="6045840"/>
                  <a:ext cx="25380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290" name="Дуга 42"/>
            <p:cNvSpPr/>
            <p:nvPr/>
          </p:nvSpPr>
          <p:spPr>
            <a:xfrm rot="11137200">
              <a:off x="1648800" y="5701680"/>
              <a:ext cx="444240" cy="492120"/>
            </a:xfrm>
            <a:custGeom>
              <a:avLst/>
              <a:gdLst>
                <a:gd name="textAreaLeft" fmla="*/ 222120 w 444240"/>
                <a:gd name="textAreaRight" fmla="*/ 444600 w 444240"/>
                <a:gd name="textAreaTop" fmla="*/ 0 h 492120"/>
                <a:gd name="textAreaBottom" fmla="*/ 246240 h 492120"/>
              </a:gdLst>
              <a:ahLst/>
              <a:rect l="textAreaLeft" t="textAreaTop" r="textAreaRight" b="textAreaBottom"/>
              <a:pathLst>
                <a:path stroke="0" w="444500" h="492125">
                  <a:moveTo>
                    <a:pt x="222250" y="0"/>
                  </a:moveTo>
                  <a:lnTo>
                    <a:pt x="222250" y="0"/>
                  </a:lnTo>
                  <a:arcTo wR="222250" hR="246063" stAng="-5400000" swAng="5400015"/>
                  <a:lnTo>
                    <a:pt x="222250" y="246063"/>
                  </a:lnTo>
                  <a:close/>
                </a:path>
                <a:path fill="none" w="444500" h="492125">
                  <a:moveTo>
                    <a:pt x="222250" y="0"/>
                  </a:moveTo>
                  <a:lnTo>
                    <a:pt x="222250" y="0"/>
                  </a:lnTo>
                  <a:arcTo wR="222250" hR="246063" stAng="-5400000" swAng="5400015"/>
                </a:path>
              </a:pathLst>
            </a:custGeom>
            <a:noFill/>
            <a:ln w="19080">
              <a:solidFill>
                <a:srgbClr val="00060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91" name="Прямоугольник 1"/>
          <p:cNvSpPr/>
          <p:nvPr/>
        </p:nvSpPr>
        <p:spPr>
          <a:xfrm>
            <a:off x="3592440" y="6156360"/>
            <a:ext cx="6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Verdana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2" name="Прямоугольник 53"/>
          <p:cNvSpPr/>
          <p:nvPr/>
        </p:nvSpPr>
        <p:spPr>
          <a:xfrm>
            <a:off x="3592440" y="3621240"/>
            <a:ext cx="6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Verdana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Прямоугольник 54"/>
          <p:cNvSpPr/>
          <p:nvPr/>
        </p:nvSpPr>
        <p:spPr>
          <a:xfrm>
            <a:off x="8020080" y="3635280"/>
            <a:ext cx="6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Verdana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7T09:08:50Z</dcterms:created>
  <dc:creator>Customer</dc:creator>
  <dc:description/>
  <dc:language>en-US</dc:language>
  <cp:lastModifiedBy>RePack by SPecialiST</cp:lastModifiedBy>
  <dcterms:modified xsi:type="dcterms:W3CDTF">2018-04-09T15:46:34Z</dcterms:modified>
  <cp:revision>98</cp:revision>
  <dc:subject/>
  <dc:title>01.02.13 Признак параллельности прямых</dc:title>
</cp:coreProperties>
</file>