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5AF0-DA75-4FB5-81FE-25145DCD0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FE48-82E7-4264-9E95-EB20EDDB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DD35-3749-42D4-8443-EBC81F14E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4142-2875-43DF-8DC9-38B08E5B1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11DC2-182A-4DFD-A840-3E1E303EF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BF1B2-575C-4DA3-880C-049EB385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0D07-48A6-44D3-97F8-CCDC1D14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9F87-6E30-42B0-BEBE-AB1E3A0F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9ADA-57E6-4A97-B88E-95C9F5E8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920F-881B-403D-BAA5-93519D3D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8617-F4BE-409D-B03B-198198AA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A84B-BC01-47B1-96A3-295F6890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8261-F121-4B3B-8EE2-55181842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9D32-88EE-46D5-9751-33B21314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55D40-F15D-49CC-B69B-860E4EE4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DF51-9F2E-4427-A621-E8C4A1AC9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8642-C5E2-49BB-B763-7B672CCB2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22E9-0C2B-426E-A28E-B4DB2BD9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2143-77F9-4091-962D-A02E3B360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2A5A-8C85-4D72-9C65-4C49F195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5FAF-2705-4491-BD3C-9F32031D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BDB6-E83C-42B1-86C9-609C9B41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1D57-0C68-46DB-88DD-B2EA25E2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E454-3A62-4311-BA0F-89DED1B2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B1E1-B360-472A-8DBB-E3613FB822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1774-0C85-4E83-A622-F866987C5F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4200" y="2071800"/>
            <a:ext cx="8521920" cy="24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b2409"/>
                </a:solidFill>
                <a:latin typeface="Cambria"/>
                <a:ea typeface="Arial Unicode MS"/>
              </a:rPr>
              <a:t>  </a:t>
            </a:r>
            <a:r>
              <a:rPr b="1" lang="ru-RU" sz="6000" spc="-1" strike="noStrike">
                <a:solidFill>
                  <a:srgbClr val="1b2409"/>
                </a:solidFill>
                <a:latin typeface="Cambria"/>
                <a:ea typeface="Arial Unicode MS"/>
              </a:rPr>
              <a:t>Речевая готовность</a:t>
            </a:r>
            <a:br>
              <a:rPr sz="6000"/>
            </a:br>
            <a:r>
              <a:rPr b="1" lang="ru-RU" sz="6000" spc="-1" strike="noStrike">
                <a:solidFill>
                  <a:srgbClr val="1b2409"/>
                </a:solidFill>
                <a:latin typeface="Cambria"/>
                <a:ea typeface="Arial Unicode MS"/>
              </a:rPr>
              <a:t> к школ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4" descr=""/>
          <p:cNvPicPr/>
          <p:nvPr/>
        </p:nvPicPr>
        <p:blipFill>
          <a:blip r:embed="rId1"/>
          <a:stretch/>
        </p:blipFill>
        <p:spPr>
          <a:xfrm>
            <a:off x="5724360" y="0"/>
            <a:ext cx="2592720" cy="2276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87280" y="620280"/>
            <a:ext cx="7056720" cy="335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b2409"/>
                </a:solidFill>
                <a:latin typeface="Cambria"/>
              </a:rPr>
              <a:t>Умеет составлять предложения, распространять их, определять количество</a:t>
            </a:r>
            <a:br>
              <a:rPr sz="4400"/>
            </a:br>
            <a:r>
              <a:rPr b="1" lang="ru-RU" sz="4400" spc="-1" strike="noStrike">
                <a:solidFill>
                  <a:srgbClr val="1b2409"/>
                </a:solidFill>
                <a:latin typeface="Cambria"/>
              </a:rPr>
              <a:t>слов в предложен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691920"/>
            <a:ext cx="707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b2409"/>
                </a:solidFill>
                <a:latin typeface="Cambria"/>
              </a:rPr>
              <a:t>Развита слухо-речевая памя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26920" y="3213000"/>
            <a:ext cx="750096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808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Cambria"/>
              </a:rPr>
              <a:t>Запоминает предложение из 7-8 слов после двукратного предъя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8229600" cy="265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b2409"/>
                </a:solidFill>
                <a:latin typeface="Cambria"/>
              </a:rPr>
              <a:t>Словарный запас должен быть шире обиходно-бытовой темати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55640" y="2636640"/>
            <a:ext cx="8244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1b240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b2409"/>
                </a:solidFill>
                <a:latin typeface="Cambria"/>
              </a:rPr>
              <a:t>Адекватно пользуется всеми частями реч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1b240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b2409"/>
                </a:solidFill>
                <a:latin typeface="Cambria"/>
              </a:rPr>
              <a:t>Владеет тематическим словарём, обобщающими словами, названиями частей предме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1b240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b2409"/>
                </a:solidFill>
                <a:latin typeface="Cambria"/>
              </a:rPr>
              <a:t>Знает слова-синонимы, антонимы, числительные «первый», «второй», «третий» и т. 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6920" y="6919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b2409"/>
                </a:solidFill>
                <a:latin typeface="Cambria"/>
              </a:rPr>
              <a:t>Усвоен грамматический строй язы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26920" y="2565360"/>
            <a:ext cx="806616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1b240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b2409"/>
                </a:solidFill>
                <a:latin typeface="Cambria"/>
              </a:rPr>
              <a:t>Речь правильная, без аграмматизмов (правильное согласование частей речи, использование предлогов, притяжательных прилагательных, родов, множественного числа, уменьшительно-ласкательных суффиксо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15640" y="691920"/>
            <a:ext cx="72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b2409"/>
                </a:solidFill>
                <a:latin typeface="Cambria"/>
              </a:rPr>
              <a:t>Достаточный уровень развития связной реч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55280" y="1988640"/>
            <a:ext cx="8388360" cy="34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1b240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b2409"/>
                </a:solidFill>
                <a:latin typeface="Cambria"/>
              </a:rPr>
              <a:t>Может логично и последовательно передать содержание сказки, рассказ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1b240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b2409"/>
                </a:solidFill>
                <a:latin typeface="Cambria"/>
              </a:rPr>
              <a:t>Может самостоятельно составить рассказ по серии сюжетных картин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1b240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b2409"/>
                </a:solidFill>
                <a:latin typeface="Cambria"/>
              </a:rPr>
              <a:t>Не нарушает причинно-следственные и временные отношения, не выпускает существенные дет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1b240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b2409"/>
                </a:solidFill>
                <a:latin typeface="Cambria"/>
              </a:rPr>
              <a:t>В речи использует сложные предло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49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Помимо этог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26920" y="2421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Достаточная общая осведомлён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Ориентация в пространстве и на листе бума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Достаточно развитая мелкая мотори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4" descr="x_5111af82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4000680" y="1428840"/>
            <a:ext cx="4036680" cy="2690640"/>
          </a:xfrm>
          <a:prstGeom prst="rect">
            <a:avLst/>
          </a:prstGeom>
          <a:ln w="38160">
            <a:solidFill>
              <a:srgbClr val="475f18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25992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b2409"/>
                </a:solidFill>
                <a:latin typeface="Cambria"/>
              </a:rPr>
              <a:t>Разговаривайте с ребёнк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Содержимое 3" descr="1341163864430627_b.jpg"/>
          <p:cNvPicPr/>
          <p:nvPr/>
        </p:nvPicPr>
        <p:blipFill>
          <a:blip r:embed="rId2"/>
          <a:stretch/>
        </p:blipFill>
        <p:spPr>
          <a:xfrm>
            <a:off x="1000080" y="3643200"/>
            <a:ext cx="3963960" cy="2592360"/>
          </a:xfrm>
          <a:prstGeom prst="rect">
            <a:avLst/>
          </a:prstGeom>
          <a:ln w="38160">
            <a:solidFill>
              <a:srgbClr val="475f18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14720" y="-143280"/>
            <a:ext cx="5214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b2409"/>
                </a:solidFill>
                <a:latin typeface="Cambria"/>
              </a:rPr>
              <a:t>Играйте с деть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Объект 3" descr=""/>
          <p:cNvPicPr/>
          <p:nvPr/>
        </p:nvPicPr>
        <p:blipFill>
          <a:blip r:embed="rId1"/>
          <a:stretch/>
        </p:blipFill>
        <p:spPr>
          <a:xfrm>
            <a:off x="571680" y="1071720"/>
            <a:ext cx="4214520" cy="2671560"/>
          </a:xfrm>
          <a:prstGeom prst="rect">
            <a:avLst/>
          </a:prstGeom>
          <a:ln w="38160">
            <a:solidFill>
              <a:srgbClr val="475f18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6" name="Рисунок 4" descr="008-20081231-150846.jpg"/>
          <p:cNvPicPr/>
          <p:nvPr/>
        </p:nvPicPr>
        <p:blipFill>
          <a:blip r:embed="rId2"/>
          <a:stretch/>
        </p:blipFill>
        <p:spPr>
          <a:xfrm>
            <a:off x="5786280" y="1428840"/>
            <a:ext cx="2897280" cy="3571920"/>
          </a:xfrm>
          <a:prstGeom prst="rect">
            <a:avLst/>
          </a:prstGeom>
          <a:ln w="38160">
            <a:solidFill>
              <a:srgbClr val="475f18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7" name="Рисунок 5" descr="299776_0.jpg"/>
          <p:cNvPicPr/>
          <p:nvPr/>
        </p:nvPicPr>
        <p:blipFill>
          <a:blip r:embed="rId3"/>
          <a:stretch/>
        </p:blipFill>
        <p:spPr>
          <a:xfrm>
            <a:off x="1428840" y="3929040"/>
            <a:ext cx="4143240" cy="2760840"/>
          </a:xfrm>
          <a:prstGeom prst="rect">
            <a:avLst/>
          </a:prstGeom>
          <a:ln w="38160">
            <a:solidFill>
              <a:srgbClr val="475f18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4" descr=""/>
          <p:cNvPicPr/>
          <p:nvPr/>
        </p:nvPicPr>
        <p:blipFill>
          <a:blip r:embed="rId1"/>
          <a:stretch/>
        </p:blipFill>
        <p:spPr>
          <a:xfrm>
            <a:off x="4214880" y="3975120"/>
            <a:ext cx="4435560" cy="2666880"/>
          </a:xfrm>
          <a:prstGeom prst="rect">
            <a:avLst/>
          </a:prstGeom>
          <a:ln w="38160">
            <a:solidFill>
              <a:srgbClr val="475f18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9" name="Рисунок 8" descr="_1DSC_0953.jpg"/>
          <p:cNvPicPr/>
          <p:nvPr/>
        </p:nvPicPr>
        <p:blipFill>
          <a:blip r:embed="rId2"/>
          <a:stretch/>
        </p:blipFill>
        <p:spPr>
          <a:xfrm>
            <a:off x="395280" y="3997440"/>
            <a:ext cx="3240000" cy="2644560"/>
          </a:xfrm>
          <a:prstGeom prst="rect">
            <a:avLst/>
          </a:prstGeom>
          <a:ln w="38160">
            <a:solidFill>
              <a:srgbClr val="475f18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0" name="Объект 7" descr=""/>
          <p:cNvPicPr/>
          <p:nvPr/>
        </p:nvPicPr>
        <p:blipFill>
          <a:blip r:embed="rId3"/>
          <a:stretch/>
        </p:blipFill>
        <p:spPr>
          <a:xfrm>
            <a:off x="755640" y="1031760"/>
            <a:ext cx="4326120" cy="2627280"/>
          </a:xfrm>
          <a:prstGeom prst="rect">
            <a:avLst/>
          </a:prstGeom>
          <a:ln w="38160">
            <a:solidFill>
              <a:srgbClr val="475f18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46040" y="-100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b2409"/>
                </a:solidFill>
                <a:latin typeface="Cambria"/>
              </a:rPr>
              <a:t>Развивайте мелкую мотори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5" descr=""/>
          <p:cNvPicPr/>
          <p:nvPr/>
        </p:nvPicPr>
        <p:blipFill>
          <a:blip r:embed="rId4"/>
          <a:stretch/>
        </p:blipFill>
        <p:spPr>
          <a:xfrm>
            <a:off x="5435640" y="1031760"/>
            <a:ext cx="3554280" cy="2357640"/>
          </a:xfrm>
          <a:prstGeom prst="rect">
            <a:avLst/>
          </a:prstGeom>
          <a:ln w="38160">
            <a:solidFill>
              <a:srgbClr val="475f18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8" descr=""/>
          <p:cNvPicPr/>
          <p:nvPr/>
        </p:nvPicPr>
        <p:blipFill>
          <a:blip r:embed="rId1"/>
          <a:stretch/>
        </p:blipFill>
        <p:spPr>
          <a:xfrm>
            <a:off x="857160" y="3500280"/>
            <a:ext cx="4303800" cy="2795760"/>
          </a:xfrm>
          <a:prstGeom prst="rect">
            <a:avLst/>
          </a:prstGeom>
          <a:ln w="38160">
            <a:solidFill>
              <a:srgbClr val="475f18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4" name="Рисунок 3" descr="otnosheniya-s-detmi.jpg"/>
          <p:cNvPicPr/>
          <p:nvPr/>
        </p:nvPicPr>
        <p:blipFill>
          <a:blip r:embed="rId2"/>
          <a:stretch/>
        </p:blipFill>
        <p:spPr>
          <a:xfrm>
            <a:off x="4071960" y="1428840"/>
            <a:ext cx="4286160" cy="2857320"/>
          </a:xfrm>
          <a:prstGeom prst="rect">
            <a:avLst/>
          </a:prstGeom>
          <a:ln w="38160">
            <a:solidFill>
              <a:srgbClr val="475f18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39640" y="25992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Читайте ребён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58560" y="2349000"/>
            <a:ext cx="8785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b2409"/>
                </a:solidFill>
                <a:latin typeface="Cambria"/>
              </a:rPr>
              <a:t>Быть готовым к школе – не значит уметь читать, писать и счит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b2409"/>
                </a:solidFill>
                <a:latin typeface="Cambria"/>
              </a:rPr>
              <a:t>Быть готовым к школе – значит быть готовым всему этому науч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b2409"/>
                </a:solidFill>
                <a:latin typeface="Cambria"/>
              </a:rPr>
              <a:t>Венгер Л.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3" descr=""/>
          <p:cNvPicPr/>
          <p:nvPr/>
        </p:nvPicPr>
        <p:blipFill>
          <a:blip r:embed="rId1"/>
          <a:stretch/>
        </p:blipFill>
        <p:spPr>
          <a:xfrm>
            <a:off x="3240" y="5051520"/>
            <a:ext cx="2209680" cy="1676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68800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b2409"/>
                </a:solidFill>
                <a:latin typeface="Cambria"/>
              </a:rPr>
              <a:t>Будьте терпеливы, снисходительны и осторож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Объект 3" descr=""/>
          <p:cNvPicPr/>
          <p:nvPr/>
        </p:nvPicPr>
        <p:blipFill>
          <a:blip r:embed="rId1"/>
          <a:stretch/>
        </p:blipFill>
        <p:spPr>
          <a:xfrm>
            <a:off x="395280" y="3191040"/>
            <a:ext cx="4805280" cy="2917800"/>
          </a:xfrm>
          <a:prstGeom prst="rect">
            <a:avLst/>
          </a:prstGeom>
          <a:ln w="38160">
            <a:solidFill>
              <a:srgbClr val="475f18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8" name="Рисунок 9" descr="1535429-mother-and-the-son-embrace-and-look-against-each-other.jpg"/>
          <p:cNvPicPr/>
          <p:nvPr/>
        </p:nvPicPr>
        <p:blipFill>
          <a:blip r:embed="rId2"/>
          <a:srcRect l="0" t="8731" r="0" b="0"/>
          <a:stretch/>
        </p:blipFill>
        <p:spPr>
          <a:xfrm>
            <a:off x="5402160" y="1916280"/>
            <a:ext cx="3470400" cy="4209840"/>
          </a:xfrm>
          <a:prstGeom prst="rect">
            <a:avLst/>
          </a:prstGeom>
          <a:ln w="38160">
            <a:solidFill>
              <a:srgbClr val="475f18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b2409"/>
                </a:solidFill>
                <a:latin typeface="Cambria"/>
              </a:rPr>
              <a:t>Радуйтесь успехам ребё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Объект 3" descr=""/>
          <p:cNvPicPr/>
          <p:nvPr/>
        </p:nvPicPr>
        <p:blipFill>
          <a:blip r:embed="rId1"/>
          <a:stretch/>
        </p:blipFill>
        <p:spPr>
          <a:xfrm>
            <a:off x="771480" y="1600200"/>
            <a:ext cx="7601040" cy="4525920"/>
          </a:xfrm>
          <a:prstGeom prst="rect">
            <a:avLst/>
          </a:prstGeom>
          <a:ln w="38160">
            <a:solidFill>
              <a:srgbClr val="475f18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4280" y="285480"/>
            <a:ext cx="761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b2409"/>
                </a:solidFill>
                <a:latin typeface="Cambria"/>
              </a:rPr>
              <a:t>Обратитесь к специалис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4" descr="2012-10-03_14-56-04_9197698025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643040" y="1643040"/>
            <a:ext cx="6416640" cy="4411800"/>
          </a:xfrm>
          <a:prstGeom prst="rect">
            <a:avLst/>
          </a:prstGeom>
          <a:ln w="38160">
            <a:solidFill>
              <a:srgbClr val="475f18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71280" y="836640"/>
            <a:ext cx="446436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b2409"/>
                </a:solidFill>
                <a:latin typeface="Cambria"/>
              </a:rPr>
              <a:t>Спасибо </a:t>
            </a:r>
            <a:br>
              <a:rPr sz="6000"/>
            </a:br>
            <a:r>
              <a:rPr b="1" lang="ru-RU" sz="6000" spc="-1" strike="noStrike">
                <a:solidFill>
                  <a:srgbClr val="1b2409"/>
                </a:solidFill>
                <a:latin typeface="Cambria"/>
              </a:rPr>
              <a:t>за </a:t>
            </a:r>
            <a:br>
              <a:rPr sz="6000"/>
            </a:br>
            <a:r>
              <a:rPr b="1" lang="ru-RU" sz="6000" spc="-1" strike="noStrike">
                <a:solidFill>
                  <a:srgbClr val="1b2409"/>
                </a:solidFill>
                <a:latin typeface="Cambria"/>
              </a:rPr>
              <a:t>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11" descr=""/>
          <p:cNvPicPr/>
          <p:nvPr/>
        </p:nvPicPr>
        <p:blipFill>
          <a:blip r:embed="rId1"/>
          <a:stretch/>
        </p:blipFill>
        <p:spPr>
          <a:xfrm>
            <a:off x="142920" y="142920"/>
            <a:ext cx="3389400" cy="67150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12" descr=""/>
          <p:cNvPicPr/>
          <p:nvPr/>
        </p:nvPicPr>
        <p:blipFill>
          <a:blip r:embed="rId2"/>
          <a:stretch/>
        </p:blipFill>
        <p:spPr>
          <a:xfrm>
            <a:off x="6523200" y="-7920"/>
            <a:ext cx="26208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11280" y="1628280"/>
            <a:ext cx="822960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b2409"/>
                </a:solidFill>
                <a:latin typeface="Cambria"/>
              </a:rPr>
              <a:t>Речь</a:t>
            </a:r>
            <a:r>
              <a:rPr b="1" lang="ru-RU" sz="4000" spc="-1" strike="noStrike">
                <a:solidFill>
                  <a:srgbClr val="1b2409"/>
                </a:solidFill>
                <a:latin typeface="Cambria"/>
              </a:rPr>
              <a:t> – это процесс общения, поэтому готовность или неготовность к обучению в школе во многом определяется уровнем речевого разви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-196920" y="4857840"/>
            <a:ext cx="2799000" cy="2268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b2409"/>
                </a:solidFill>
                <a:latin typeface="Cambria"/>
              </a:rPr>
              <a:t>Айсбер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4" descr="46288804_iceberg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285920" y="1143000"/>
            <a:ext cx="6989760" cy="4643280"/>
          </a:xfrm>
          <a:prstGeom prst="rect">
            <a:avLst/>
          </a:prstGeom>
          <a:ln w="38160">
            <a:solidFill>
              <a:srgbClr val="475f18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28480" y="-214560"/>
            <a:ext cx="70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b2409"/>
                </a:solidFill>
                <a:latin typeface="Cambria"/>
              </a:rPr>
              <a:t>Речь как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Схема 7" descr=""/>
          <p:cNvPicPr/>
          <p:nvPr/>
        </p:nvPicPr>
        <p:blipFill>
          <a:blip r:embed="rId1"/>
          <a:stretch/>
        </p:blipFill>
        <p:spPr>
          <a:xfrm>
            <a:off x="1006560" y="822240"/>
            <a:ext cx="7692840" cy="58834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735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33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b2409"/>
                </a:solidFill>
                <a:latin typeface="Cambria"/>
              </a:rPr>
              <a:t>     </a:t>
            </a:r>
            <a:r>
              <a:rPr b="1" lang="ru-RU" sz="4400" spc="-1" strike="noStrike">
                <a:solidFill>
                  <a:srgbClr val="1b2409"/>
                </a:solidFill>
                <a:latin typeface="Cambria"/>
              </a:rPr>
              <a:t>Звуковая сторона речи        усвоен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00000" y="3213000"/>
            <a:ext cx="78580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b240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b2409"/>
                </a:solidFill>
                <a:latin typeface="Cambria"/>
              </a:rPr>
              <a:t>Ребёнок правильно   выговаривает       все звуки, не заменяет и не искажает 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13744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27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b2409"/>
                </a:solidFill>
                <a:latin typeface="Cambria"/>
              </a:rPr>
              <a:t>     </a:t>
            </a:r>
            <a:r>
              <a:rPr b="1" lang="ru-RU" sz="4400" spc="-1" strike="noStrike">
                <a:solidFill>
                  <a:srgbClr val="1b2409"/>
                </a:solidFill>
                <a:latin typeface="Cambria"/>
              </a:rPr>
              <a:t>Правильно произносит слова сложной слоговой структуры</a:t>
            </a:r>
            <a:r>
              <a:rPr b="1" lang="ru-RU" sz="4000" spc="-1" strike="noStrike">
                <a:solidFill>
                  <a:srgbClr val="1b2409"/>
                </a:solidFill>
                <a:latin typeface="Cambr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899640" y="3213000"/>
            <a:ext cx="80010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Не «проглатывает» и не меняет местами слоги, не искажает слоговой состав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1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b2409"/>
                </a:solidFill>
                <a:latin typeface="Cambria"/>
              </a:rPr>
              <a:t>    </a:t>
            </a:r>
            <a:r>
              <a:rPr b="1" lang="ru-RU" sz="4400" spc="-1" strike="noStrike">
                <a:solidFill>
                  <a:srgbClr val="1b2409"/>
                </a:solidFill>
                <a:latin typeface="Cambria"/>
              </a:rPr>
              <a:t>Сформированы фонематические процесс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26920" y="3213000"/>
            <a:ext cx="8229600" cy="29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80808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Cambria"/>
              </a:rPr>
              <a:t>Различает сходные звуки по акустическому и артикуляционному сходству: свистящие-шипящие(с-ц,     с-ш,  з-ж…), звонкие-глухие (б-п, д-т …),  соноры (р-л, м-н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691920"/>
            <a:ext cx="7658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b2409"/>
                </a:solidFill>
                <a:latin typeface="Cambria"/>
              </a:rPr>
              <a:t>Проводит языковой анализ и синтез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26920" y="2924280"/>
            <a:ext cx="807264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Cambria"/>
              </a:rPr>
              <a:t>Может определить сколько звуков в слове, назвать 2-ой, 4-ый, 1-ый, последний  звук, «соседей» заданного зву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Cambria"/>
              </a:rPr>
              <a:t>Может определить количество слогов в одно-, 2-х, 3-х сложных слов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2T10:32:39Z</dcterms:created>
  <dc:creator>Елена</dc:creator>
  <dc:description/>
  <dc:language>en-US</dc:language>
  <cp:lastModifiedBy>Admin</cp:lastModifiedBy>
  <dcterms:modified xsi:type="dcterms:W3CDTF">2018-04-09T09:03:23Z</dcterms:modified>
  <cp:revision>64</cp:revision>
  <dc:subject/>
  <dc:title>Что нужно знать родителям  о речевой готовности  к обучению в школе</dc:title>
</cp:coreProperties>
</file>