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451-3CD0-4A63-889B-23D78976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623-DCD0-4971-877A-104B70D1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066-02EA-4FFA-9635-5217423A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757-BBC9-41B2-9713-D3D5B5EC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C381-F644-449B-8F04-39E08533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AE45-D02E-4433-8B88-E482021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EF7A-A3C4-43E1-92F0-E8929330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75E5-0366-4E3D-9C67-6181806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D861-33A6-499F-8C22-01BF76A1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A74-331F-43C3-815E-EF09B8C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AE0D-FA01-4E49-85D7-8898F76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203-88FD-4336-AE18-50DAEBC2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50AE-59F0-4CE0-BF82-A15BA0A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239F-A115-4DCA-8EF2-044C018F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2EE8-6114-4CBE-966A-A9D0FB27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8C85-4127-45CE-890B-EB986166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FFD9-2590-444A-AACC-5962FD75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A3D-54F8-4150-BA65-CB091704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6C3-C08F-4F64-AFBD-67727EB8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8A4-78C5-43A7-9C00-CE611839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876-62F6-4F3A-B0B6-64C7F098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D88-AF96-4858-B529-E41A463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539-053F-4E86-BC9E-79FB15A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E2C-615C-4B59-8D49-71C105A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73F3-FF56-4941-AC18-464F1C7AE6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8CF4-002D-46C0-A214-703D2AD19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852192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b2409"/>
                </a:solidFill>
                <a:latin typeface="Cambria"/>
                <a:ea typeface="Arial Unicode MS"/>
              </a:rPr>
              <a:t>  </a:t>
            </a:r>
            <a:r>
              <a:rPr b="1" lang="ru-RU" sz="6000" spc="-1" strike="noStrike">
                <a:solidFill>
                  <a:srgbClr val="1b2409"/>
                </a:solidFill>
                <a:latin typeface="Cambria"/>
                <a:ea typeface="Arial Unicode MS"/>
              </a:rPr>
              <a:t>Речевая готовность</a:t>
            </a:r>
            <a:br>
              <a:rPr sz="6000"/>
            </a:br>
            <a:r>
              <a:rPr b="1" lang="ru-RU" sz="6000" spc="-1" strike="noStrike">
                <a:solidFill>
                  <a:srgbClr val="1b2409"/>
                </a:solidFill>
                <a:latin typeface="Cambria"/>
                <a:ea typeface="Arial Unicode MS"/>
              </a:rPr>
              <a:t> к школ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"/>
          <p:cNvPicPr/>
          <p:nvPr/>
        </p:nvPicPr>
        <p:blipFill>
          <a:blip r:embed="rId1"/>
          <a:stretch/>
        </p:blipFill>
        <p:spPr>
          <a:xfrm>
            <a:off x="5724360" y="0"/>
            <a:ext cx="2592720" cy="2276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0567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Умеет составлять предложения, распространять их, определять количество</a:t>
            </a:r>
            <a:br>
              <a:rPr sz="4400"/>
            </a:b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слов в предложе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азвита слухо-речевая памя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3213000"/>
            <a:ext cx="7500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Cambria"/>
              </a:rPr>
              <a:t>Запоминает предложение из 7-8 слов после двукратного предъя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8229600" cy="26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Словарный запас должен быть шире обиходно-бытовой темат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55640" y="2636640"/>
            <a:ext cx="82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Адекватно пользуется всеми частями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Владеет тематическим словарём, обобщающими словами, названиями частей предм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Знает слова-синонимы, антонимы, числительные «первый», «второй», «третий»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Усвоен грамматический строй язы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6920" y="2565360"/>
            <a:ext cx="80661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Речь правильная, без аграмматизмов (правильное согласование частей речи, использование предлогов, притяжательных прилагательных, родов, множественного числа, уменьшительно-ласкательных суффик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Достаточный уровень развития связной ре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988640"/>
            <a:ext cx="838836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Может логично и последовательно передать содержание сказки, расск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Может самостоятельно составить рассказ по серии сюжетных карт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Не нарушает причинно-следственные и временные отношения, не выпускает существенные де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В речи использует сложные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омимо эт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2421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Достаточная общая осведомлё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Ориентация в пространстве и на листе бума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Достаточно развитая мелкая мотор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x_5111af8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000680" y="1428840"/>
            <a:ext cx="4036680" cy="269064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азговаривайте с ребё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3" descr="1341163864430627_b.jpg"/>
          <p:cNvPicPr/>
          <p:nvPr/>
        </p:nvPicPr>
        <p:blipFill>
          <a:blip r:embed="rId2"/>
          <a:stretch/>
        </p:blipFill>
        <p:spPr>
          <a:xfrm>
            <a:off x="1000080" y="3643200"/>
            <a:ext cx="3963960" cy="259236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14720" y="-14328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Играйте с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4214520" cy="267156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Рисунок 4" descr="008-20081231-150846.jpg"/>
          <p:cNvPicPr/>
          <p:nvPr/>
        </p:nvPicPr>
        <p:blipFill>
          <a:blip r:embed="rId2"/>
          <a:stretch/>
        </p:blipFill>
        <p:spPr>
          <a:xfrm>
            <a:off x="5786280" y="1428840"/>
            <a:ext cx="2897280" cy="357192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Рисунок 5" descr="299776_0.jpg"/>
          <p:cNvPicPr/>
          <p:nvPr/>
        </p:nvPicPr>
        <p:blipFill>
          <a:blip r:embed="rId3"/>
          <a:stretch/>
        </p:blipFill>
        <p:spPr>
          <a:xfrm>
            <a:off x="1428840" y="3929040"/>
            <a:ext cx="4143240" cy="276084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4214880" y="3975120"/>
            <a:ext cx="4435560" cy="266688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Рисунок 8" descr="_1DSC_0953.jpg"/>
          <p:cNvPicPr/>
          <p:nvPr/>
        </p:nvPicPr>
        <p:blipFill>
          <a:blip r:embed="rId2"/>
          <a:stretch/>
        </p:blipFill>
        <p:spPr>
          <a:xfrm>
            <a:off x="395280" y="3997440"/>
            <a:ext cx="3240000" cy="264456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Объект 7" descr=""/>
          <p:cNvPicPr/>
          <p:nvPr/>
        </p:nvPicPr>
        <p:blipFill>
          <a:blip r:embed="rId3"/>
          <a:stretch/>
        </p:blipFill>
        <p:spPr>
          <a:xfrm>
            <a:off x="755640" y="1031760"/>
            <a:ext cx="4326120" cy="262728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6040" y="-100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азвивайте мелкую мотор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5" descr=""/>
          <p:cNvPicPr/>
          <p:nvPr/>
        </p:nvPicPr>
        <p:blipFill>
          <a:blip r:embed="rId4"/>
          <a:stretch/>
        </p:blipFill>
        <p:spPr>
          <a:xfrm>
            <a:off x="5435640" y="1031760"/>
            <a:ext cx="3554280" cy="235764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8" descr=""/>
          <p:cNvPicPr/>
          <p:nvPr/>
        </p:nvPicPr>
        <p:blipFill>
          <a:blip r:embed="rId1"/>
          <a:stretch/>
        </p:blipFill>
        <p:spPr>
          <a:xfrm>
            <a:off x="857160" y="3500280"/>
            <a:ext cx="4303800" cy="279576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Рисунок 3" descr="otnosheniya-s-detmi.jpg"/>
          <p:cNvPicPr/>
          <p:nvPr/>
        </p:nvPicPr>
        <p:blipFill>
          <a:blip r:embed="rId2"/>
          <a:stretch/>
        </p:blipFill>
        <p:spPr>
          <a:xfrm>
            <a:off x="4071960" y="1428840"/>
            <a:ext cx="4286160" cy="285732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Читайте ребё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58560" y="2349000"/>
            <a:ext cx="8785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b2409"/>
                </a:solidFill>
                <a:latin typeface="Cambria"/>
              </a:rPr>
              <a:t>Быть готовым к школе – не значит уметь читать, писать и 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b2409"/>
                </a:solidFill>
                <a:latin typeface="Cambria"/>
              </a:rPr>
              <a:t>Быть готовым к школе – значит быть готовым всему этому на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b2409"/>
                </a:solidFill>
                <a:latin typeface="Cambria"/>
              </a:rPr>
              <a:t>Венгер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3240" y="5051520"/>
            <a:ext cx="220968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6880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Будьте терпеливы, снисходительны и осторож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395280" y="3191040"/>
            <a:ext cx="4805280" cy="291780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Рисунок 9" descr="1535429-mother-and-the-son-embrace-and-look-against-each-other.jpg"/>
          <p:cNvPicPr/>
          <p:nvPr/>
        </p:nvPicPr>
        <p:blipFill>
          <a:blip r:embed="rId2"/>
          <a:srcRect l="0" t="8731" r="0" b="0"/>
          <a:stretch/>
        </p:blipFill>
        <p:spPr>
          <a:xfrm>
            <a:off x="5402160" y="1916280"/>
            <a:ext cx="3470400" cy="420984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адуйтесь успехам реб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2592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6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Обратитесь к специали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2012-10-03_14-56-04_919769802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643040" y="1643040"/>
            <a:ext cx="6416640" cy="441180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71280" y="836640"/>
            <a:ext cx="446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b2409"/>
                </a:solidFill>
                <a:latin typeface="Cambria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1b2409"/>
                </a:solidFill>
                <a:latin typeface="Cambria"/>
              </a:rPr>
              <a:t>за </a:t>
            </a:r>
            <a:br>
              <a:rPr sz="6000"/>
            </a:br>
            <a:r>
              <a:rPr b="1" lang="ru-RU" sz="6000" spc="-1" strike="noStrike">
                <a:solidFill>
                  <a:srgbClr val="1b2409"/>
                </a:solidFill>
                <a:latin typeface="Cambria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3389400" cy="6715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2" descr=""/>
          <p:cNvPicPr/>
          <p:nvPr/>
        </p:nvPicPr>
        <p:blipFill>
          <a:blip r:embed="rId2"/>
          <a:stretch/>
        </p:blipFill>
        <p:spPr>
          <a:xfrm>
            <a:off x="6523200" y="-7920"/>
            <a:ext cx="26208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11280" y="16282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b2409"/>
                </a:solidFill>
                <a:latin typeface="Cambria"/>
              </a:rPr>
              <a:t>Речь</a:t>
            </a:r>
            <a:r>
              <a:rPr b="1" lang="ru-RU" sz="4000" spc="-1" strike="noStrike">
                <a:solidFill>
                  <a:srgbClr val="1b2409"/>
                </a:solidFill>
                <a:latin typeface="Cambria"/>
              </a:rPr>
              <a:t> – это процесс общения, поэтому готовность или неготовность к обучению в школе во многом определяется уровнем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196920" y="4857840"/>
            <a:ext cx="2799000" cy="2268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Айсбер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46288804_iceberg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85920" y="1143000"/>
            <a:ext cx="6989760" cy="464328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8480" y="-2145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ечь как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хема 7" descr=""/>
          <p:cNvPicPr/>
          <p:nvPr/>
        </p:nvPicPr>
        <p:blipFill>
          <a:blip r:embed="rId1"/>
          <a:stretch/>
        </p:blipFill>
        <p:spPr>
          <a:xfrm>
            <a:off x="1006560" y="822240"/>
            <a:ext cx="7692840" cy="5883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3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     </a:t>
            </a: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Звуковая сторона речи        усво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3213000"/>
            <a:ext cx="78580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Ребёнок правильно   выговаривает       все звуки, не заменяет и не искажае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137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7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     </a:t>
            </a: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Правильно произносит слова сложной слоговой структуры</a:t>
            </a:r>
            <a:r>
              <a:rPr b="1" lang="ru-RU" sz="4000" spc="-1" strike="noStrike">
                <a:solidFill>
                  <a:srgbClr val="1b2409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99640" y="3213000"/>
            <a:ext cx="80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е «проглатывает» и не меняет местами слоги, не искажает слоговой состав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1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    </a:t>
            </a: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Сформированы фонемат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26920" y="3213000"/>
            <a:ext cx="8229600" cy="29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Cambria"/>
              </a:rPr>
              <a:t>Различает сходные звуки по акустическому и артикуляционному сходству: свистящие-шипящие(с-ц,     с-ш,  з-ж…), звонкие-глухие (б-п, д-т …),  соноры (р-л, м-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Проводит языковой анализ и синт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26920" y="2924280"/>
            <a:ext cx="80726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Cambria"/>
              </a:rPr>
              <a:t>Может определить сколько звуков в слове, назвать 2-ой, 4-ый, 1-ый, последний  звук, «соседей» заданного зву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Cambria"/>
              </a:rPr>
              <a:t>Может определить количество слогов в одно-, 2-х, 3-х сложны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0:32:39Z</dcterms:created>
  <dc:creator>Елена</dc:creator>
  <dc:description/>
  <dc:language>en-US</dc:language>
  <cp:lastModifiedBy>Admin</cp:lastModifiedBy>
  <dcterms:modified xsi:type="dcterms:W3CDTF">2018-04-09T09:03:23Z</dcterms:modified>
  <cp:revision>64</cp:revision>
  <dc:subject/>
  <dc:title>Что нужно знать родителям  о речевой готовности  к обучению в школе</dc:title>
</cp:coreProperties>
</file>