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E42-0AEB-4A77-AAF8-73745032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091-3EAB-42E1-9F5C-BDC0959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3B0-6BEF-4793-8B1A-67B8137A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086-EDED-47B5-A5A4-497716B1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9AC-303E-4546-A152-B6E3440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A0C-BC9F-451E-B281-67AEE1F5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7DE-06C5-4BF2-A4CA-0533B2A9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78F-1E0E-4D20-8C42-9E491D1A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B1E-3176-4A1A-A401-4686D2B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5EA-1313-4BFD-82A2-DE55021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2EA-AA4B-4A27-A23D-AC528C0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2BC-BE49-408E-9981-796DED2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A890-E4B6-4230-8977-C9FB137AB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ормирование основ безопасности жизнедеятельности в доу через трудовое 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638320" y="5105160"/>
            <a:ext cx="3124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одских Кр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етод 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сравнения помогает детям выполнять задания на группировку и классификацию. Для того чтобы группировать, классифицировать предметы, явления, требуются умения анализировать, обобщать, выделять существенные признаки. Все это способствует осознанному усвоению материала и вызывает интерес к нем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&amp;Vcy; &amp;dcy;&amp;iecy;&amp;tcy;&amp;scy;&amp;kcy;&amp;ocy;&amp;mcy; &amp;scy;&amp;acy;&amp;dcy;&amp;ucy; &amp;Acy;&amp;ncy;&amp;acy;&amp;pcy;&amp;ycy; &amp;scy;&amp;ucy;&amp;dcy;&amp;icy;&amp;lcy;&amp;icy; &amp;ocy;&amp;gcy;&amp;ocy;&amp;ncy;&amp;softcy; &amp;Ncy;&amp;ocy;&amp;vcy;&amp;ocy;&amp;scy;&amp;tcy;&amp;icy; &amp;ncy;&amp;acy; &amp;Acy;&amp;ncy;&amp;acy;&amp;pcy;&amp;acy;.&amp;icy;&amp;ncy;&amp;fcy;&amp;ocy;"/>
          <p:cNvPicPr/>
          <p:nvPr/>
        </p:nvPicPr>
        <p:blipFill>
          <a:blip r:embed="rId2"/>
          <a:stretch/>
        </p:blipFill>
        <p:spPr>
          <a:xfrm>
            <a:off x="4724280" y="426708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ogon_drug_ili_vrag"/>
          <p:cNvPicPr/>
          <p:nvPr/>
        </p:nvPicPr>
        <p:blipFill>
          <a:blip r:embed="rId3"/>
          <a:stretch/>
        </p:blipFill>
        <p:spPr>
          <a:xfrm>
            <a:off x="4724280" y="1447920"/>
            <a:ext cx="3959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 моделирования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располагать предметы в пространстве, соотносить их, "читать" к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ситуаций дает ребенку практические умения применить полученные знания на деле и развивает мышление, воображение и готовит ребенка к умению выбраться из экстремальных ситуаций в жизни. Для развития воображения и творческого начала важно ставить детей в ситуацию поиска решения логических и практически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&amp;Vcy; &amp;dcy;&amp;iecy;&amp;tcy;&amp;scy;&amp;kcy;&amp;ocy;&amp;mcy; &amp;scy;&amp;acy;&amp;dcy;&amp;ucy; &amp;Acy;&amp;ncy;&amp;acy;&amp;pcy;&amp;ycy; &amp;dcy;&amp;iecy;&amp;tcy;&amp;icy; &amp;rcy;&amp;acy;&amp;scy;&amp;scy;&amp;kcy;&amp;acy;&amp;zcy;&amp;acy;&amp;lcy;&amp;icy; &amp;pcy;&amp;rcy;&amp;ocy; &amp;icy;&amp;gcy;&amp;rcy;&amp;ycy; &amp;scy; &amp;ocy;&amp;gcy;&amp;ncy;&amp;iecy;&amp;mcy; &amp;Ncy;&amp;ocy;&amp;vcy;&amp;ocy;&amp;scy;&amp;tcy;&amp;icy; &amp;ncy;&amp;acy; &amp;Acy;&amp;ncy;&amp;acy;&amp;pcy;&amp;acy;.&amp;icy;&amp;ncy;&amp;fcy;&amp;ocy;"/>
          <p:cNvPicPr/>
          <p:nvPr/>
        </p:nvPicPr>
        <p:blipFill>
          <a:blip r:embed="rId2"/>
          <a:stretch/>
        </p:blipFill>
        <p:spPr>
          <a:xfrm>
            <a:off x="380880" y="1676520"/>
            <a:ext cx="409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тод экспериментирования и опы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 и опыты. Дает ребенку возможность самостоятельно находить решение, подтверждение или опровержение собственных представлений.. Ценность этого метода в том, что он дает ребенку возможность самостоятельно находить решение, подтверждение или опровержение собстве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P1020232"/>
          <p:cNvPicPr/>
          <p:nvPr/>
        </p:nvPicPr>
        <p:blipFill>
          <a:blip r:embed="rId2"/>
          <a:stretch/>
        </p:blipFill>
        <p:spPr>
          <a:xfrm>
            <a:off x="4876920" y="1752480"/>
            <a:ext cx="3962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 игровых прие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приемы. Повышают качество усвоения познавательного материала и способствуют закреплению чувств. Одним из приемов может быть воображаемая ситуация: воображаемое путешествие к древним людям, встреча с воображаемыми героями и т. 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1030432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тод повт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дидактический принцип, без применения которого нельзя говорить о прочности усвоения знаний и воспитании чувств. Он может выступать как ведущий метод или методический приём. От детей требуется умение повторить то, что они усвоили. Повторение приводит к появлению обобщений, способствует самостоятельному формулированию выводов, повышает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P1030444"/>
          <p:cNvPicPr/>
          <p:nvPr/>
        </p:nvPicPr>
        <p:blipFill>
          <a:blip r:embed="rId2"/>
          <a:stretch/>
        </p:blipFill>
        <p:spPr>
          <a:xfrm>
            <a:off x="4724280" y="16765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й из основных методических инноваций явля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активные метод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лово «интерактив» пришло к нам из английского языка «interаct». «Inter» - это «взаимный», «act» - действовать. Интерактивное обучение - диалоговое обучение, в ходе которого осуществляется прямое взаимодействие ребенка и воспит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нтерактивного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здание комфортных условий обучения, при которых каждый чувствует свою успешность, свое интеллектуальное совершенство, что делает продуктивным сам воспитательно-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P1020223"/>
          <p:cNvPicPr/>
          <p:nvPr/>
        </p:nvPicPr>
        <p:blipFill>
          <a:blip r:embed="rId2"/>
          <a:stretch/>
        </p:blipFill>
        <p:spPr>
          <a:xfrm>
            <a:off x="4572000" y="1676520"/>
            <a:ext cx="4343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132084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ь интерактив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том, что  деятельность строится в условиях постоянного, активного взаимодействия всех участников. Интерактивное взаимодействие исключает доминирование одного участника процесса над другим. Во время такого общения дошкольники учатся общаться с другими людьми, логически мыслить, принимать обоснованные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интерактивные методы позволяют создавать среду, в котором теория и практика усваиваются одновременно, а это дает возможность воспитанникам формировать характер, развивать мировоззрение, логическое мышление, связную речь; формировать логическое мышление; выявлять и реализовать индивидуальные 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1020256"/>
          <p:cNvPicPr/>
          <p:nvPr/>
        </p:nvPicPr>
        <p:blipFill>
          <a:blip r:embed="rId2"/>
          <a:stretch/>
        </p:blipFill>
        <p:spPr>
          <a:xfrm>
            <a:off x="228600" y="18288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Незаконченное предлож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еред нами очаг возгорания в комнате, нам необходим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ля того чтобы цветок зацвел ну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ужно перейти бабушку на другую сторону дороги для этог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 улице к нам навстречу бежит собака мы поступим т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«Дерево решени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«Признаки труда в природе», решение рыхление почвы, уборка сорняков 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«Внимательного наблю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«Наблюдатели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йте комнату и найдите предметы требующие особого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воспитание является одной из важнейших сторон воспитания подрастающего поколения, обеспечение безопасности является важнейшей составляющей любого вид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знакомления с трудом взрослых у детей формируется положительное отношение к их труду, бережное отношение к его результатам, стремление оказывать взрослым посильную помощь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321708744_1"/>
          <p:cNvPicPr/>
          <p:nvPr/>
        </p:nvPicPr>
        <p:blipFill>
          <a:blip r:embed="rId2"/>
          <a:stretch/>
        </p:blipFill>
        <p:spPr>
          <a:xfrm>
            <a:off x="7226280" y="228600"/>
            <a:ext cx="1587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Автомастерская2.jpg"/>
          <p:cNvPicPr/>
          <p:nvPr/>
        </p:nvPicPr>
        <p:blipFill>
          <a:blip r:embed="rId2"/>
          <a:stretch/>
        </p:blipFill>
        <p:spPr>
          <a:xfrm>
            <a:off x="380880" y="457200"/>
            <a:ext cx="4019760" cy="6121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салон красоты1.jpg"/>
          <p:cNvPicPr/>
          <p:nvPr/>
        </p:nvPicPr>
        <p:blipFill>
          <a:blip r:embed="rId3"/>
          <a:stretch/>
        </p:blipFill>
        <p:spPr>
          <a:xfrm>
            <a:off x="4648320" y="53352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атино уронил ключ в воду, его надо достать, но прыгнув в воду, Буратино всплывает. Как ему помо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суждают: «Буратино сделан из дерева, а деревянные предметы в воде не тонут», « Дерево легче воды, поэтому Буратино не может нырнуть за ключом». В ходе рассуждений они демонстрируют  имеющиеся у них знания о свойствах дерева, а затем в силу своих творческих способностей  приходят к поиску ответа в данной проблемной задаче. «Можно искать ключ на дне магнитом на верёвочке, если ключ металлический», «Можно нырнуть на дно с аквалангом, как это делают водолаз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&amp;Mcy;&amp;ncy;&amp;iecy;&amp;mcy;&amp;ocy;&amp;tcy;&amp;acy;&amp;bcy;&amp;lcy;&amp;icy;&amp;tscy;&amp;acy; - &amp;pcy;&amp;rcy;&amp;acy;&amp;vcy;&amp;icy;&amp;lcy;&amp;acy; &amp;pcy;&amp;ocy;&amp;vcy;&amp;iecy;&amp;dcy;&amp;iecy;&amp;ncy;&amp;icy;&amp;yacy; &amp;vcy; &amp;dcy;&amp;iecy;&amp;tcy;&amp;scy;&amp;kcy;&amp;ocy;&amp;mcy; &amp;scy;&amp;acy;&amp;dcy;&amp;ucy; &amp;vcy; &amp;ucy;&amp;scy;&amp;lcy;&amp;ocy;&amp;vcy;&amp;icy;&amp;yacy;&amp;khcy; &amp;Fcy;&amp;Gcy;&amp;Tcy;"/>
          <p:cNvPicPr/>
          <p:nvPr/>
        </p:nvPicPr>
        <p:blipFill>
          <a:blip r:embed="rId2"/>
          <a:stretch/>
        </p:blipFill>
        <p:spPr>
          <a:xfrm>
            <a:off x="1295280" y="990720"/>
            <a:ext cx="7086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3594b40b6b934660903e8e78952800bd.jpg"/>
          <p:cNvPicPr/>
          <p:nvPr/>
        </p:nvPicPr>
        <p:blipFill>
          <a:blip r:embed="rId2"/>
          <a:stretch/>
        </p:blipFill>
        <p:spPr>
          <a:xfrm>
            <a:off x="990720" y="1419120"/>
            <a:ext cx="74674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b515dfb72fd9ae80a268b93e5ac250a3.gif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пражнение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жнение помогает сломать стереотипы, производить работу левой полушарием мозга, логическим, рациональным мышлением. Используется как 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дпись на карточках: ПКОНЖГАВ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ркните в этой строке четыре буквы, каждую вторую таким образом, чтобы, буквы которые остаются (без изменения своей последовательности), составляли бы хорошо знакомое слово. (ПОЖ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технологии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Технология МИНУ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форм обучения детей и родителей в детском саду 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е «Минутка» в детском саду». Почему «минутка»? Потому что родитель может ознакомиться с её содержанием, в то время когда ребёнок одевается, и поговорить на данную тему по дороге домой. А так как тема «минутки» совпадает с тем, о чём говорилось в группе, то данная информация закрепляется. В «минутках» обращается внимание ребенка на разные поучительные моменты бытовых или дорожных ситуаций. Родители совместно с детьми наблюдают за дорожным движением, поведением детей и взрослых на улице, дома, в гостях, учатся замечать и предвидеть скрытую опасность или ошибки в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ребенок учится правильно, поступать в той или иной ситуации, тренируя навык правильного поведения, доводя его до привы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м отрабатывается защитное поведение ребенка в случае насильственных действий. Чрезвычайно важно научить ребенка громко кричать, призывая на помощь и привлекая внимание окружающи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ачале педагог просит позвать на помощь, как это делал петушок в сказк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ет меня лиса за темные леса, За быстрые реки, за высокие горы... Кот и дрозд спасите меня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ыгрывается сценка, где один из детей изображает лису, а другой - петушка. При этом лиса старается насильно тащить петушка, а петушок кричит, призывает на помощ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457200" y="1166760"/>
            <a:ext cx="8305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трудовая деятельность требует особой осторожности от каждого из нас, закладывая основы безопасности мы формируем в детях установки дальнейшего поведения способного сохранить их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е воспитание - это совместная деятельность воспитателя и воспитанников, направленная на развитие общетрудовых умений и способностей, психологической готовности к труду, формирование ответственного отношения к труду и его продуктам, влияющий на сознательный выбор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5320" y="2284920"/>
            <a:ext cx="82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сследователи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. Лич и П. Статмэн в своих исследованиях отмечают, что преимущество дошкольников в обучении персональной безопасности состоит в трудовых поруч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родители уделяют большое внимание интеллектуальному и умственному развитию детей, подготовке их к обучению в школе и не задумываются о том, что в основе всех этих учебных умений лежат трудовые умения и навыки, которые не только воспитывают прилежание, целеустремлённость, самостоятельность, но помогают ребенку легче адаптироваться в социальном окру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ГОС (Д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о формированию позитивных установок к различным видам труда и творчества у детей дошкольного возраста отражены в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государственных образовательных стандартах дошкольного образ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«Социально-коммуникативное развит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.3.1 ФГОС ДО определены требования к условиям реализации основной образовательной программы дошкольного образования. Для успешного решения задач, предусмотренных программой по формированию у детей дошкольного возраста позитивных установок к различным видам труда и творчества, первостепенное значение имеет создание необходимых условий. Только при хорошей организации ребенок испытывает радость от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содержанию труд дел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-бытовой труд (общественная направлен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й и художественный 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р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жу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щий, совместный, коллектив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е воспитание дошкольников осуществляется с помощью ряда сред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й трудовой деятельност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я с трудом взросл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ненты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 дошкольников включает в себя компоненты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, цель, трудовые действия, планирование,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rka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знакомления детей с основами безопасности через трудов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Diagram 8"/>
          <p:cNvGrpSpPr/>
          <p:nvPr/>
        </p:nvGrpSpPr>
        <p:grpSpPr>
          <a:xfrm>
            <a:off x="1827360" y="1905840"/>
            <a:ext cx="5489280" cy="4795560"/>
            <a:chOff x="1827360" y="1905840"/>
            <a:chExt cx="5489280" cy="4795560"/>
          </a:xfrm>
        </p:grpSpPr>
        <p:sp>
          <p:nvSpPr>
            <p:cNvPr id="69" name="_s1028"/>
            <p:cNvSpPr/>
            <p:nvPr/>
          </p:nvSpPr>
          <p:spPr>
            <a:xfrm>
              <a:off x="3094200" y="1905840"/>
              <a:ext cx="2955600" cy="2605680"/>
            </a:xfrm>
            <a:custGeom>
              <a:avLst/>
              <a:gdLst>
                <a:gd name="textAreaLeft" fmla="*/ 0 w 2955600"/>
                <a:gd name="textAreaRight" fmla="*/ 2955960 w 2955600"/>
                <a:gd name="textAreaTop" fmla="*/ 0 h 2605680"/>
                <a:gd name="textAreaBottom" fmla="*/ 2606040 h 260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29"/>
            <p:cNvSpPr/>
            <p:nvPr/>
          </p:nvSpPr>
          <p:spPr>
            <a:xfrm rot="4320000">
              <a:off x="4205160" y="2329920"/>
              <a:ext cx="2606040" cy="295596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0"/>
            <p:cNvSpPr/>
            <p:nvPr/>
          </p:nvSpPr>
          <p:spPr>
            <a:xfrm rot="8640000">
              <a:off x="3672720" y="3475440"/>
              <a:ext cx="2955960" cy="260604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2606040"/>
                <a:gd name="textAreaBottom" fmla="*/ 2606400 h 26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1"/>
            <p:cNvSpPr/>
            <p:nvPr/>
          </p:nvSpPr>
          <p:spPr>
            <a:xfrm rot="12960000">
              <a:off x="2515680" y="3475440"/>
              <a:ext cx="2955960" cy="260604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2606040"/>
                <a:gd name="textAreaBottom" fmla="*/ 2606400 h 26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 rot="17280000">
              <a:off x="2332440" y="2330280"/>
              <a:ext cx="2606040" cy="295596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5330880" y="201636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итуац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>
              <a:off x="1922400" y="420264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вторени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5"/>
            <p:cNvSpPr/>
            <p:nvPr/>
          </p:nvSpPr>
          <p:spPr>
            <a:xfrm>
              <a:off x="2725560" y="201744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6"/>
            <p:cNvSpPr/>
            <p:nvPr/>
          </p:nvSpPr>
          <p:spPr>
            <a:xfrm>
              <a:off x="6137280" y="419976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гр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е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7"/>
            <p:cNvSpPr/>
            <p:nvPr/>
          </p:nvSpPr>
          <p:spPr>
            <a:xfrm>
              <a:off x="4030560" y="5550120"/>
              <a:ext cx="10875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ксперимент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опы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1:26:06Z</dcterms:created>
  <dc:creator>Кристина</dc:creator>
  <dc:description/>
  <dc:language>en-US</dc:language>
  <cp:lastModifiedBy>User</cp:lastModifiedBy>
  <dcterms:modified xsi:type="dcterms:W3CDTF">2015-12-02T19:42:0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