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59F-0081-41FC-AE4A-486AC628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D77-6EED-43D4-8145-9140B48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A57-216D-4CF8-9936-B59016D8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E7C-CAE7-456D-9B2C-12E02318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CE8-A0BE-43FF-9175-35D72789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F5C-F0B7-4D97-B19F-112653F6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B14-6CDC-4AD4-A672-EE4F5E01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CFD-06D7-4BAE-B5CC-98E9C48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FB8-9CAC-4FFB-9F97-E7DBC367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864-8F42-40FA-BC77-6D3E08D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E61-534B-4F36-8766-7C2677F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A5A-DEB1-4336-94B4-8783E2F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94D0-87EE-41FA-A67B-458A8EDFB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 марта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 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лассе 25 учеников,   40%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них девочки.   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            Сколько девочек в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лни 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1011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вычислять 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чал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нц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прочитал 138 страниц, что составляет 23 % числа всех страниц в книге. Сколько страниц в кни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риятие изготовило за квартал 500 насосов, из которых 60 % имели высшую категорию качества. Сколько насосов высшей категории качества изготовило предприя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 За 2 часа машина проехала - а км с одинаковой скоростью. Сколько км она проедет за 5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За 3 часа лодка  проплыл - а км. Сколько времени потратит лодка на b км, если она двигалась с одинаковой скор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Сначала машина проехала х  км, а потом -у км. Сколько часов потратит машина, если она едет со скоростью 60 км \ 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Один мотоциклист проехал х км за 5 ч,  второй мотоциклист это же расстояние проехал за 3 часа. У  какого мотоциклиста скорость больше и на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ербанк выплачивает 3% с суммы вклада по истечении  года. Сколько было начислено процентных денег на 4000 руб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20:27:40Z</dcterms:created>
  <dc:creator>1</dc:creator>
  <dc:description/>
  <dc:language>en-US</dc:language>
  <cp:lastModifiedBy>Ольга Балаганская</cp:lastModifiedBy>
  <dcterms:modified xsi:type="dcterms:W3CDTF">2018-04-05T01:18:09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