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324F-F384-40E1-BE7A-BB4F5BD3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B235-E2F7-41EB-B480-200A2162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355-834D-4E57-8BB9-CED59C66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C61-FD32-49B4-88F8-855DDFBB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DD0A-ADA6-4242-BEFE-0FC7FB78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71F3-9BFE-4DAE-B52E-8FCCDCAC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441C-6DDB-4B2C-8909-B1946E2C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0C7C-62AE-46A9-92EB-5EC05661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D10C-A273-4335-8FA5-B4D2A99C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7937-14CB-4A09-B4F4-41CFBE6E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E1C9-DB1A-4FAB-97D4-62AC972C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544-F5B0-4461-A8A8-E749804E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D3B0-B004-4C50-A4BE-C2715D011C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9 марта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ассная рабо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   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    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классе 25 учеников,   40%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них девочки.    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             Сколько девочек в класс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олни лист само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1011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ю вычислять про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начал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онц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к прочитал 138 страниц, что составляет 23 % числа всех страниц в книге. Сколько страниц в книг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риятие изготовило за квартал 500 насосов, из которых 60 % имели высшую категорию качества. Сколько насосов высшей категории качества изготовило предприят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 За 2 часа машина проехала - а км с одинаковой скоростью. Сколько км она проедет за 5 час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За 3 часа лодка  проплыл - а км. Сколько времени потратит лодка на b км, если она двигалась с одинаковой скорост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Сначала машина проехала х  км, а потом -у км. Сколько часов потратит машина, если она едет со скоростью 60 км \ ч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Один мотоциклист проехал х км за 5 ч,  второй мотоциклист это же расстояние проехал за 3 часа. У  какого мотоциклиста скорость больше и на скольк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ербанк выплачивает 3% с суммы вклада по истечении  года. Сколько было начислено процентных денег на 4000 руб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20:27:40Z</dcterms:created>
  <dc:creator>1</dc:creator>
  <dc:description/>
  <dc:language>en-US</dc:language>
  <cp:lastModifiedBy>Ольга Балаганская</cp:lastModifiedBy>
  <dcterms:modified xsi:type="dcterms:W3CDTF">2018-04-05T01:18:09Z</dcterms:modified>
  <cp:revision>4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