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6ECB-604B-47FA-B90D-47F764B1D3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D07C-709C-4B23-BDF2-C135A6AA59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47F2-95C8-4C99-AE3F-742BA63A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C01-64F9-4FA3-8E15-B1E00D54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359D-C00B-43ED-AEC7-9599E301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D65-2D4A-40E8-9EF8-F4EBE705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0D0C-2327-495B-8C0B-FD6804B6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9BBF-EB3C-44D7-A9AA-AD2A2CC5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35F8-11E7-4328-9CBD-390C6658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4C34-D07C-404C-991D-374DD5AF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D101-5B21-4441-8BD9-00E4C054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4B9A-357F-4F6F-8B3B-4F67C347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BAB8-92D8-4F2B-8EC8-A5C1EBA0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F697-45CF-4A02-8BCC-33662D13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683F-4E94-40D2-ADB5-3200F4A7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7DE6-67AF-4C46-9BBA-946390B2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182E-1B06-4E3D-90CA-85324519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F079-F350-4388-983E-73BCB278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155A-4A3D-4D87-B41D-C20E98D4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49031-2B00-42A5-A5BA-5AE063F5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6C348-83E8-4B43-82AF-14D953C8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54B04-8144-4ACA-B995-78F28832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C06C2-D8C8-46C1-B72F-B2F7209D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A6406-2AAF-45AB-92B7-07F6A17C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BEE6-8F47-43A1-BBA9-BDB87613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1322C-7105-4E45-A3E0-C7598ECE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DE454-5B58-49CC-B837-99E9782E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1311F-72FE-40A4-AF22-449796FF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78A0A-052E-4F29-A295-C94C9620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67C48-F1DE-416B-A9A4-7853E94F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59BE3-7760-40F2-BECB-085BFD7F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064F6-EDC6-40CD-B05E-B56CBDC8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C19FD-2715-485B-9D86-4F55ECD2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69E4A-1FFF-46CD-9403-AB900434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BBC38-501D-440C-AD69-50843F0F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99FE-B237-438B-8617-C11E2180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8B768-7BA8-4267-B3C5-83D2D3D6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DEEA8-D53D-44A7-A5CB-B1972983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8E1FC-BB13-4CDE-B4A3-5C940375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43F3F-BF21-4A99-9BC3-7BFD43CB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1BD32-C5DB-4E37-9C41-ADE0E345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67BE5-EA00-44D9-BCEC-F57A597C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DEBEC-F31F-435D-BC8D-82E1C3B5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877A7-8721-4090-8A6B-54A5E8C9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14D0B-25BB-4C04-8C33-4310790B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E7E5-62AA-4B14-B192-B50AD82B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8C22-8AE6-4FF8-9308-032BC0E1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792D-D558-418D-B939-922217DD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29E-988E-4636-AB69-BCEB4855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FBB9-B260-4E0D-9122-FC4D496F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5534-F682-473C-AEFA-6A2FBE9EFCBD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8FF8-1C52-4BC9-9FF9-F270C5AC7C82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C28D-4AF9-4F22-9699-720AE93CDC42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90FB-11D7-43B2-9FB9-2C18AE8A004F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Картинки по запросу Картинка мини -музее в детском саду"/>
          <p:cNvPicPr/>
          <p:nvPr/>
        </p:nvPicPr>
        <p:blipFill>
          <a:blip r:embed="rId1"/>
          <a:stretch/>
        </p:blipFill>
        <p:spPr>
          <a:xfrm>
            <a:off x="0" y="3019320"/>
            <a:ext cx="7143840" cy="383868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3"/>
          <p:cNvSpPr/>
          <p:nvPr/>
        </p:nvSpPr>
        <p:spPr>
          <a:xfrm>
            <a:off x="755640" y="1197000"/>
            <a:ext cx="5867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Corbel"/>
              </a:rPr>
              <a:t>Развитие познавательно-речевой активности детей дошкольного возраста. </a:t>
            </a: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Corbel"/>
              </a:rPr>
              <a:t>Речевое развитие детей с учетом специфики групп дошкольного отделения</a:t>
            </a:r>
            <a:r>
              <a:rPr b="1" lang="ru-RU" sz="2000" spc="-1" strike="noStrike">
                <a:solidFill>
                  <a:srgbClr val="00b0f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5"/>
          <p:cNvSpPr/>
          <p:nvPr/>
        </p:nvSpPr>
        <p:spPr>
          <a:xfrm>
            <a:off x="4211640" y="263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Учитель –дефектолог ГБОУ Школа № 933 Майборода Е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Группа 21"/>
          <p:cNvGrpSpPr/>
          <p:nvPr/>
        </p:nvGrpSpPr>
        <p:grpSpPr>
          <a:xfrm>
            <a:off x="1071720" y="785880"/>
            <a:ext cx="7278480" cy="4952880"/>
            <a:chOff x="1071720" y="785880"/>
            <a:chExt cx="7278480" cy="4952880"/>
          </a:xfrm>
        </p:grpSpPr>
        <p:sp>
          <p:nvSpPr>
            <p:cNvPr id="248" name="Скругленный прямоугольник 2"/>
            <p:cNvSpPr/>
            <p:nvPr/>
          </p:nvSpPr>
          <p:spPr>
            <a:xfrm>
              <a:off x="3508560" y="2577960"/>
              <a:ext cx="2404800" cy="13986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d0d0d"/>
                  </a:solidFill>
                  <a:latin typeface="Constantia"/>
                </a:rPr>
                <a:t>Методы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Прямая соединительная линия 4"/>
            <p:cNvSpPr/>
            <p:nvPr/>
          </p:nvSpPr>
          <p:spPr>
            <a:xfrm flipH="1" flipV="1">
              <a:off x="2852280" y="1572840"/>
              <a:ext cx="655560" cy="100476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Прямая соединительная линия 5"/>
            <p:cNvSpPr/>
            <p:nvPr/>
          </p:nvSpPr>
          <p:spPr>
            <a:xfrm flipH="1" flipV="1">
              <a:off x="5891040" y="3968280"/>
              <a:ext cx="655560" cy="100476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Прямая соединительная линия 6"/>
            <p:cNvSpPr/>
            <p:nvPr/>
          </p:nvSpPr>
          <p:spPr>
            <a:xfrm flipV="1">
              <a:off x="5891400" y="1564920"/>
              <a:ext cx="655560" cy="100476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Прямая соединительная линия 8"/>
            <p:cNvSpPr/>
            <p:nvPr/>
          </p:nvSpPr>
          <p:spPr>
            <a:xfrm flipH="1">
              <a:off x="2852640" y="4022640"/>
              <a:ext cx="731520" cy="89676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Прямая соединительная линия 12"/>
            <p:cNvSpPr/>
            <p:nvPr/>
          </p:nvSpPr>
          <p:spPr>
            <a:xfrm flipV="1">
              <a:off x="4711680" y="1688760"/>
              <a:ext cx="0" cy="8888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Прямая соединительная линия 13"/>
            <p:cNvSpPr/>
            <p:nvPr/>
          </p:nvSpPr>
          <p:spPr>
            <a:xfrm flipV="1">
              <a:off x="4711680" y="3976200"/>
              <a:ext cx="0" cy="8888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Скругленный прямоугольник 14"/>
            <p:cNvSpPr/>
            <p:nvPr/>
          </p:nvSpPr>
          <p:spPr>
            <a:xfrm>
              <a:off x="3808440" y="882720"/>
              <a:ext cx="1804680" cy="7650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d0d0d"/>
                  </a:solidFill>
                  <a:latin typeface="Constantia"/>
                </a:rPr>
                <a:t>Разговор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Скругленный прямоугольник 15"/>
            <p:cNvSpPr/>
            <p:nvPr/>
          </p:nvSpPr>
          <p:spPr>
            <a:xfrm>
              <a:off x="3863880" y="4903920"/>
              <a:ext cx="1803240" cy="7650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d0d0d"/>
                  </a:solidFill>
                  <a:latin typeface="Constantia"/>
                </a:rPr>
                <a:t>Игр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Скругленный прямоугольник 16"/>
            <p:cNvSpPr/>
            <p:nvPr/>
          </p:nvSpPr>
          <p:spPr>
            <a:xfrm>
              <a:off x="6546960" y="863640"/>
              <a:ext cx="1803240" cy="7650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d0d0d"/>
                  </a:solidFill>
                  <a:latin typeface="Constantia"/>
                </a:rPr>
                <a:t>Пересказ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Скругленный прямоугольник 17"/>
            <p:cNvSpPr/>
            <p:nvPr/>
          </p:nvSpPr>
          <p:spPr>
            <a:xfrm>
              <a:off x="1071720" y="785880"/>
              <a:ext cx="1803240" cy="7650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d0d0d"/>
                  </a:solidFill>
                  <a:latin typeface="Constantia"/>
                </a:rPr>
                <a:t>Имитаци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Скругленный прямоугольник 18"/>
            <p:cNvSpPr/>
            <p:nvPr/>
          </p:nvSpPr>
          <p:spPr>
            <a:xfrm>
              <a:off x="6546960" y="4973760"/>
              <a:ext cx="1803240" cy="7650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d0d0d"/>
                  </a:solidFill>
                  <a:latin typeface="Constantia"/>
                </a:rPr>
                <a:t>Рассказыван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Скругленный прямоугольник 19"/>
            <p:cNvSpPr/>
            <p:nvPr/>
          </p:nvSpPr>
          <p:spPr>
            <a:xfrm>
              <a:off x="1071720" y="4919760"/>
              <a:ext cx="1803240" cy="7650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d0d0d"/>
                  </a:solidFill>
                  <a:latin typeface="Constantia"/>
                </a:rPr>
                <a:t>Продуктивная деятельност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748560" cy="110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4617b"/>
                </a:solidFill>
                <a:latin typeface="Calibri"/>
              </a:rPr>
              <a:t>Пункт 3.3 глава 3 ФГОС ДО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7600" y="1870200"/>
            <a:ext cx="80694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Constantia"/>
              </a:rPr>
              <a:t>Развивающая предметно-пространственная среда должна быть содержательно-насыщенной, трансформируемой, полифункциональной, вариативной, доступной и безопасной. Насыщенность среды должна соответствовать возрастным возможностям детей и содержанию Программ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Схема 21" descr=""/>
          <p:cNvPicPr/>
          <p:nvPr/>
        </p:nvPicPr>
        <p:blipFill>
          <a:blip r:embed="rId1"/>
          <a:stretch/>
        </p:blipFill>
        <p:spPr>
          <a:xfrm>
            <a:off x="804960" y="158760"/>
            <a:ext cx="678492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Группа 9"/>
          <p:cNvGrpSpPr/>
          <p:nvPr/>
        </p:nvGrpSpPr>
        <p:grpSpPr>
          <a:xfrm>
            <a:off x="658800" y="549360"/>
            <a:ext cx="7945560" cy="5616360"/>
            <a:chOff x="658800" y="549360"/>
            <a:chExt cx="7945560" cy="5616360"/>
          </a:xfrm>
        </p:grpSpPr>
        <p:pic>
          <p:nvPicPr>
            <p:cNvPr id="208" name="Рисунок 1" descr=""/>
            <p:cNvPicPr/>
            <p:nvPr/>
          </p:nvPicPr>
          <p:blipFill>
            <a:blip r:embed="rId1"/>
            <a:stretch/>
          </p:blipFill>
          <p:spPr>
            <a:xfrm>
              <a:off x="658800" y="549360"/>
              <a:ext cx="7945560" cy="5616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09" name="Прямая со стрелкой 3"/>
            <p:cNvCxnSpPr/>
            <p:nvPr/>
          </p:nvCxnSpPr>
          <p:spPr>
            <a:xfrm>
              <a:off x="5670720" y="2359440"/>
              <a:ext cx="1362600" cy="1106640"/>
            </a:xfrm>
            <a:prstGeom prst="straightConnector1">
              <a:avLst/>
            </a:prstGeom>
            <a:ln w="9360">
              <a:solidFill>
                <a:srgbClr val="0b5395"/>
              </a:solidFill>
              <a:miter/>
              <a:tailEnd len="med" type="triangle" w="med"/>
            </a:ln>
          </p:spPr>
        </p:cxnSp>
        <p:cxnSp>
          <p:nvCxnSpPr>
            <p:cNvPr id="210" name="Прямая со стрелкой 5"/>
            <p:cNvCxnSpPr/>
            <p:nvPr/>
          </p:nvCxnSpPr>
          <p:spPr>
            <a:xfrm flipH="1">
              <a:off x="1360800" y="2489040"/>
              <a:ext cx="1264320" cy="976680"/>
            </a:xfrm>
            <a:prstGeom prst="straightConnector1">
              <a:avLst/>
            </a:prstGeom>
            <a:ln w="9360">
              <a:solidFill>
                <a:srgbClr val="0b5395"/>
              </a:solidFill>
              <a:miter/>
              <a:tailEnd len="med" type="triangle" w="med"/>
            </a:ln>
          </p:spPr>
        </p:cxnSp>
        <p:cxnSp>
          <p:nvCxnSpPr>
            <p:cNvPr id="211" name="Прямая со стрелкой 7"/>
            <p:cNvCxnSpPr/>
            <p:nvPr/>
          </p:nvCxnSpPr>
          <p:spPr>
            <a:xfrm>
              <a:off x="4307040" y="2359440"/>
              <a:ext cx="22680" cy="1106640"/>
            </a:xfrm>
            <a:prstGeom prst="straightConnector1">
              <a:avLst/>
            </a:prstGeom>
            <a:ln w="9360">
              <a:solidFill>
                <a:srgbClr val="0b5395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Объект 7" descr=""/>
          <p:cNvPicPr/>
          <p:nvPr/>
        </p:nvPicPr>
        <p:blipFill>
          <a:blip r:embed="rId1"/>
          <a:stretch/>
        </p:blipFill>
        <p:spPr>
          <a:xfrm>
            <a:off x="600120" y="1114560"/>
            <a:ext cx="80438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Объект 12"/>
          <p:cNvGraphicFramePr/>
          <p:nvPr/>
        </p:nvGraphicFramePr>
        <p:xfrm>
          <a:off x="428760" y="701640"/>
          <a:ext cx="8286480" cy="54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Объект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701640"/>
                    <a:ext cx="828648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Группа 11"/>
          <p:cNvGrpSpPr/>
          <p:nvPr/>
        </p:nvGrpSpPr>
        <p:grpSpPr>
          <a:xfrm>
            <a:off x="663480" y="1638360"/>
            <a:ext cx="7702560" cy="2797200"/>
            <a:chOff x="663480" y="1638360"/>
            <a:chExt cx="7702560" cy="2797200"/>
          </a:xfrm>
        </p:grpSpPr>
        <p:pic>
          <p:nvPicPr>
            <p:cNvPr id="216" name="Овал 3" descr=""/>
            <p:cNvPicPr/>
            <p:nvPr/>
          </p:nvPicPr>
          <p:blipFill>
            <a:blip r:embed="rId1"/>
            <a:stretch/>
          </p:blipFill>
          <p:spPr>
            <a:xfrm>
              <a:off x="3485880" y="1638360"/>
              <a:ext cx="1924200" cy="27972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7" name="Прямая со стрелкой 5"/>
            <p:cNvCxnSpPr/>
            <p:nvPr/>
          </p:nvCxnSpPr>
          <p:spPr>
            <a:xfrm>
              <a:off x="2672280" y="3160080"/>
              <a:ext cx="971280" cy="1080"/>
            </a:xfrm>
            <a:prstGeom prst="straightConnector1">
              <a:avLst/>
            </a:prstGeom>
            <a:ln w="9360">
              <a:solidFill>
                <a:srgbClr val="065093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Прямая со стрелкой 6"/>
            <p:cNvCxnSpPr/>
            <p:nvPr/>
          </p:nvCxnSpPr>
          <p:spPr>
            <a:xfrm>
              <a:off x="5389560" y="3374640"/>
              <a:ext cx="971280" cy="1080"/>
            </a:xfrm>
            <a:prstGeom prst="straightConnector1">
              <a:avLst/>
            </a:prstGeom>
            <a:ln w="9360">
              <a:solidFill>
                <a:srgbClr val="065093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219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663480" y="2239920"/>
              <a:ext cx="2003040" cy="184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363000" y="2239920"/>
              <a:ext cx="2003040" cy="1846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Группа 11"/>
          <p:cNvGrpSpPr/>
          <p:nvPr/>
        </p:nvGrpSpPr>
        <p:grpSpPr>
          <a:xfrm>
            <a:off x="250920" y="0"/>
            <a:ext cx="8569080" cy="6858000"/>
            <a:chOff x="250920" y="0"/>
            <a:chExt cx="8569080" cy="6858000"/>
          </a:xfrm>
        </p:grpSpPr>
        <p:pic>
          <p:nvPicPr>
            <p:cNvPr id="222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50920" y="0"/>
              <a:ext cx="8569080" cy="6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Прямоугольник 4"/>
            <p:cNvSpPr/>
            <p:nvPr/>
          </p:nvSpPr>
          <p:spPr>
            <a:xfrm>
              <a:off x="270000" y="708480"/>
              <a:ext cx="5512680" cy="67608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onstantia"/>
                </a:rPr>
                <a:t>Расширение кругозора, воспитание познавательных интересов и способностей дошкольнико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Прямоугольник 5"/>
            <p:cNvSpPr/>
            <p:nvPr/>
          </p:nvSpPr>
          <p:spPr>
            <a:xfrm>
              <a:off x="699840" y="2361600"/>
              <a:ext cx="6238080" cy="63468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onstantia"/>
                </a:rPr>
                <a:t>Развитие общих познавательных способностей дете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Прямоугольник 6"/>
            <p:cNvSpPr/>
            <p:nvPr/>
          </p:nvSpPr>
          <p:spPr>
            <a:xfrm>
              <a:off x="987480" y="3151440"/>
              <a:ext cx="6482880" cy="77724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onstantia"/>
                </a:rPr>
                <a:t>Формирование, развитие и обогащение словарного запаса дошкольника, составление описательных и творческих рассказов на основе увиденного и услышанного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Прямоугольник 7"/>
            <p:cNvSpPr/>
            <p:nvPr/>
          </p:nvSpPr>
          <p:spPr>
            <a:xfrm>
              <a:off x="1344600" y="4084200"/>
              <a:ext cx="6453000" cy="88488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onstantia"/>
                </a:rPr>
                <a:t>Обогащение эмоционально-чувственной сферы детей в процессе непосредственного общения с предметами, явлениями и людьм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Прямоугольник 8"/>
            <p:cNvSpPr/>
            <p:nvPr/>
          </p:nvSpPr>
          <p:spPr>
            <a:xfrm>
              <a:off x="1703160" y="5089680"/>
              <a:ext cx="6453000" cy="71856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onstantia"/>
                </a:rPr>
                <a:t>Формирование бережного отношения к окружающему миру, закрепление положительных эмоций и умение их проявлят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Прямоугольник 9"/>
            <p:cNvSpPr/>
            <p:nvPr/>
          </p:nvSpPr>
          <p:spPr>
            <a:xfrm>
              <a:off x="2062080" y="5960520"/>
              <a:ext cx="6701040" cy="89748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onstantia"/>
                </a:rPr>
                <a:t>Создание условий, способствующие выявлению и поддержанию интересов, проявлению самостоятельности познавательно-речевой деятельност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Прямоугольник 10"/>
            <p:cNvSpPr/>
            <p:nvPr/>
          </p:nvSpPr>
          <p:spPr>
            <a:xfrm>
              <a:off x="484920" y="1498680"/>
              <a:ext cx="5735520" cy="74700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onstantia"/>
                </a:rPr>
                <a:t>Овладение дошкольниками на начальном этапе навыками и методами поисковой, исследовательской деятельностью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Группа 14"/>
          <p:cNvGrpSpPr/>
          <p:nvPr/>
        </p:nvGrpSpPr>
        <p:grpSpPr>
          <a:xfrm>
            <a:off x="250920" y="404640"/>
            <a:ext cx="8208720" cy="5785200"/>
            <a:chOff x="250920" y="404640"/>
            <a:chExt cx="8208720" cy="5785200"/>
          </a:xfrm>
        </p:grpSpPr>
        <p:sp>
          <p:nvSpPr>
            <p:cNvPr id="231" name="Скругленный прямоугольник 3"/>
            <p:cNvSpPr/>
            <p:nvPr/>
          </p:nvSpPr>
          <p:spPr>
            <a:xfrm>
              <a:off x="250920" y="1916640"/>
              <a:ext cx="2880360" cy="28044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d0d0d"/>
                  </a:solidFill>
                  <a:latin typeface="Constantia"/>
                </a:rPr>
                <a:t>ПРИНЦИП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Стрелка вправо 4"/>
            <p:cNvSpPr/>
            <p:nvPr/>
          </p:nvSpPr>
          <p:spPr>
            <a:xfrm rot="19843200">
              <a:off x="2221560" y="1271160"/>
              <a:ext cx="1411560" cy="412560"/>
            </a:xfrm>
            <a:prstGeom prst="rightArrow">
              <a:avLst>
                <a:gd name="adj1" fmla="val 50000"/>
                <a:gd name="adj2" fmla="val 41406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Стрелка вправо 5"/>
            <p:cNvSpPr/>
            <p:nvPr/>
          </p:nvSpPr>
          <p:spPr>
            <a:xfrm rot="20631600">
              <a:off x="2660040" y="2031840"/>
              <a:ext cx="1411560" cy="436320"/>
            </a:xfrm>
            <a:prstGeom prst="rightArrow">
              <a:avLst>
                <a:gd name="adj1" fmla="val 50000"/>
                <a:gd name="adj2" fmla="val 41413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Стрелка вправо 6"/>
            <p:cNvSpPr/>
            <p:nvPr/>
          </p:nvSpPr>
          <p:spPr>
            <a:xfrm>
              <a:off x="3491280" y="2997000"/>
              <a:ext cx="1411560" cy="438120"/>
            </a:xfrm>
            <a:prstGeom prst="rightArrow">
              <a:avLst>
                <a:gd name="adj1" fmla="val 50000"/>
                <a:gd name="adj2" fmla="val 41392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Стрелка вправо 7"/>
            <p:cNvSpPr/>
            <p:nvPr/>
          </p:nvSpPr>
          <p:spPr>
            <a:xfrm rot="617400">
              <a:off x="2730240" y="4055400"/>
              <a:ext cx="1411560" cy="479160"/>
            </a:xfrm>
            <a:prstGeom prst="rightArrow">
              <a:avLst>
                <a:gd name="adj1" fmla="val 50000"/>
                <a:gd name="adj2" fmla="val 41406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Стрелка вправо 8"/>
            <p:cNvSpPr/>
            <p:nvPr/>
          </p:nvSpPr>
          <p:spPr>
            <a:xfrm rot="1483200">
              <a:off x="2213640" y="4948200"/>
              <a:ext cx="1549800" cy="512640"/>
            </a:xfrm>
            <a:prstGeom prst="rightArrow">
              <a:avLst>
                <a:gd name="adj1" fmla="val 50000"/>
                <a:gd name="adj2" fmla="val 41401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Овал 9"/>
            <p:cNvSpPr/>
            <p:nvPr/>
          </p:nvSpPr>
          <p:spPr>
            <a:xfrm>
              <a:off x="3627000" y="404640"/>
              <a:ext cx="3368160" cy="957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d0d0d"/>
                  </a:solidFill>
                  <a:latin typeface="Constantia"/>
                </a:rPr>
                <a:t>Интеграци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Овал 10"/>
            <p:cNvSpPr/>
            <p:nvPr/>
          </p:nvSpPr>
          <p:spPr>
            <a:xfrm>
              <a:off x="3985920" y="1596960"/>
              <a:ext cx="3009240" cy="9554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d0d0d"/>
                  </a:solidFill>
                  <a:latin typeface="Constantia"/>
                </a:rPr>
                <a:t>Партнерств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Овал 11"/>
            <p:cNvSpPr/>
            <p:nvPr/>
          </p:nvSpPr>
          <p:spPr>
            <a:xfrm>
              <a:off x="5219640" y="2709000"/>
              <a:ext cx="3009240" cy="957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d0d0d"/>
                  </a:solidFill>
                  <a:latin typeface="Constantia"/>
                </a:rPr>
                <a:t>Научност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Овал 12"/>
            <p:cNvSpPr/>
            <p:nvPr/>
          </p:nvSpPr>
          <p:spPr>
            <a:xfrm>
              <a:off x="3985920" y="3911760"/>
              <a:ext cx="4473720" cy="957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d0d0d"/>
                  </a:solidFill>
                  <a:latin typeface="Constantia"/>
                </a:rPr>
                <a:t>Природосообразност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Овал 13"/>
            <p:cNvSpPr/>
            <p:nvPr/>
          </p:nvSpPr>
          <p:spPr>
            <a:xfrm>
              <a:off x="3893760" y="5232600"/>
              <a:ext cx="4565880" cy="957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d0d0d"/>
                  </a:solidFill>
                  <a:latin typeface="Constantia"/>
                </a:rPr>
                <a:t>Деятельности и интерактивност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Группа 6"/>
          <p:cNvGrpSpPr/>
          <p:nvPr/>
        </p:nvGrpSpPr>
        <p:grpSpPr>
          <a:xfrm>
            <a:off x="460440" y="631800"/>
            <a:ext cx="8288280" cy="5749920"/>
            <a:chOff x="460440" y="631800"/>
            <a:chExt cx="8288280" cy="5749920"/>
          </a:xfrm>
        </p:grpSpPr>
        <p:sp>
          <p:nvSpPr>
            <p:cNvPr id="243" name="Равнобедренный треугольник 2"/>
            <p:cNvSpPr/>
            <p:nvPr/>
          </p:nvSpPr>
          <p:spPr>
            <a:xfrm>
              <a:off x="2771640" y="2679480"/>
              <a:ext cx="3524040" cy="2503440"/>
            </a:xfrm>
            <a:prstGeom prst="triangle">
              <a:avLst>
                <a:gd name="adj" fmla="val 50000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d0d0d"/>
                  </a:solidFill>
                  <a:latin typeface="Constantia"/>
                </a:rPr>
                <a:t>Приемы и техноло-ги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Овал 3"/>
            <p:cNvSpPr/>
            <p:nvPr/>
          </p:nvSpPr>
          <p:spPr>
            <a:xfrm>
              <a:off x="3338640" y="631800"/>
              <a:ext cx="2390760" cy="204768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d0d0d"/>
                  </a:solidFill>
                  <a:latin typeface="Constantia"/>
                </a:rPr>
                <a:t>Словесны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Овал 4"/>
            <p:cNvSpPr/>
            <p:nvPr/>
          </p:nvSpPr>
          <p:spPr>
            <a:xfrm>
              <a:off x="460440" y="4321080"/>
              <a:ext cx="2311200" cy="2046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d0d0d"/>
                  </a:solidFill>
                  <a:latin typeface="Constantia"/>
                </a:rPr>
                <a:t>Наглядны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Овал 5"/>
            <p:cNvSpPr/>
            <p:nvPr/>
          </p:nvSpPr>
          <p:spPr>
            <a:xfrm>
              <a:off x="6296040" y="4334040"/>
              <a:ext cx="2452680" cy="204768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d0d0d"/>
                  </a:solidFill>
                  <a:latin typeface="Constantia"/>
                </a:rPr>
                <a:t>Практически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09:26:57Z</dcterms:created>
  <dc:creator>TOSHIBA</dc:creator>
  <dc:description/>
  <dc:language>en-US</dc:language>
  <cp:lastModifiedBy>Елена</cp:lastModifiedBy>
  <dcterms:modified xsi:type="dcterms:W3CDTF">2018-04-06T13:49:53Z</dcterms:modified>
  <cp:revision>153</cp:revision>
  <dc:subject/>
  <dc:title>Презентация PowerPoint</dc:title>
</cp:coreProperties>
</file>