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6B1-3B36-461A-ADB5-DD06EC4E26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89E-C1F5-413C-A087-D952D4407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917-1206-45E1-B839-B262AA49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11B-09EB-4E16-A016-61F68958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329-F0AC-4928-AB5E-1373634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96C-FB71-41C5-A838-D27E926E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0D0-7B69-4378-A7C6-579581B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C50B-7677-4DF4-B5AA-5E8C81F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ECD-EBE4-4725-A3D7-DF5A499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F362-EC90-4EEF-BA98-E81AB8A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F03-C2E5-4FCB-AC6F-ED6A1F1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CEE6-591C-437A-9868-8F5AAB4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F00-A4E5-4AF1-9739-FB5A8C1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080-AEDE-4CC7-B629-76B9D022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68F1-EB12-4E3E-9FBF-7FF103A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79EB-E2AB-43DD-9571-85BCD49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37A-7673-4F0B-9577-9303615B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46CB-B23C-4B7B-B0A9-976B32E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9390-CD14-4734-BD7D-570E828C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31A1-2272-440F-8177-B0ABB902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E6AD-2147-43D3-8DC7-8FEB13BD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8C49-1C55-470E-8218-755D035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21DB-3202-410A-AD4E-BC31902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9DA5-9CB9-414D-A3E2-C9956534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992-31FF-4380-A67C-E2A260BF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58FD-A9B0-46E1-9464-7FA99E4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1E57-8F67-4FB3-BF3D-BC545CC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29AB-BC6A-4EBB-A8A4-84571F0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CB13-F45C-425D-A073-DB6B335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20D8-8565-4874-A205-C92F482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4E1B-0D77-477B-A81E-0C7F9949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F342-CAFD-44E2-BED7-04AAE41F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D33E-8CFC-49BE-9A60-C01F0DE9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7E93-83BD-4E6D-BCD2-D22ACC60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2065-25A8-4015-9997-E444E60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9FB-62EA-4D67-AD7E-38167D0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286F-C3B2-4460-BD0F-FAA23F99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88CD-DD12-4DA0-8DA3-1F8AD89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668D-2B58-4B0A-894F-4EFDE39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6F38-51A7-474F-8677-64ABFDE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9E2C-04C9-465D-AB20-E44A53D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9CBA-402F-48C4-9A3D-B5693DA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FD99-E4FB-40A6-9EE6-321D080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9CF3-E392-47A7-88AA-92A03046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C34C-F913-4B31-A8F2-D709AA51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01D-2797-404B-AD11-4899B720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711-307C-4B11-A05A-A8E565E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B44-ECD9-4EC7-8C4C-76D8A5E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052-FD0D-4D5D-B7AB-68229157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3B0-B24B-49C6-861D-B130C01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B657-99AE-4C84-B870-12E9FDD5C00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16A-D739-48DF-8537-75CDBA1617C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F614-CAF3-48A9-A2BC-5B4A190D799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EB4F-FEED-4B07-8145-A5E4BBC85C6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и по запросу Картинка мини -музее в детском саду"/>
          <p:cNvPicPr/>
          <p:nvPr/>
        </p:nvPicPr>
        <p:blipFill>
          <a:blip r:embed="rId1"/>
          <a:stretch/>
        </p:blipFill>
        <p:spPr>
          <a:xfrm>
            <a:off x="0" y="3019320"/>
            <a:ext cx="7143840" cy="3838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755640" y="1197000"/>
            <a:ext cx="58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rbel"/>
              </a:rPr>
              <a:t>Развитие познавательно-речевой активности детей дошкольного возраста. 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Corbel"/>
              </a:rPr>
              <a:t>Речевое развитие детей с учетом специфики групп дошкольного отделения</a:t>
            </a: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4211640" y="26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Учитель –дефектолог ГБОУ Школа № 933 Майборода Е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21"/>
          <p:cNvGrpSpPr/>
          <p:nvPr/>
        </p:nvGrpSpPr>
        <p:grpSpPr>
          <a:xfrm>
            <a:off x="1071720" y="785880"/>
            <a:ext cx="7278480" cy="4952880"/>
            <a:chOff x="1071720" y="785880"/>
            <a:chExt cx="7278480" cy="4952880"/>
          </a:xfrm>
        </p:grpSpPr>
        <p:sp>
          <p:nvSpPr>
            <p:cNvPr id="248" name="Скругленный прямоугольник 2"/>
            <p:cNvSpPr/>
            <p:nvPr/>
          </p:nvSpPr>
          <p:spPr>
            <a:xfrm>
              <a:off x="3508560" y="2577960"/>
              <a:ext cx="2404800" cy="13986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Constantia"/>
                </a:rPr>
                <a:t>Метод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Прямая соединительная линия 4"/>
            <p:cNvSpPr/>
            <p:nvPr/>
          </p:nvSpPr>
          <p:spPr>
            <a:xfrm flipH="1" flipV="1">
              <a:off x="2852280" y="157284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Прямая соединительная линия 5"/>
            <p:cNvSpPr/>
            <p:nvPr/>
          </p:nvSpPr>
          <p:spPr>
            <a:xfrm flipH="1" flipV="1">
              <a:off x="5891040" y="396828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Прямая соединительная линия 6"/>
            <p:cNvSpPr/>
            <p:nvPr/>
          </p:nvSpPr>
          <p:spPr>
            <a:xfrm flipV="1">
              <a:off x="5891400" y="156492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Прямая соединительная линия 8"/>
            <p:cNvSpPr/>
            <p:nvPr/>
          </p:nvSpPr>
          <p:spPr>
            <a:xfrm flipH="1">
              <a:off x="2852640" y="4022640"/>
              <a:ext cx="731520" cy="896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Прямая соединительная линия 12"/>
            <p:cNvSpPr/>
            <p:nvPr/>
          </p:nvSpPr>
          <p:spPr>
            <a:xfrm flipV="1">
              <a:off x="4711680" y="1688760"/>
              <a:ext cx="0" cy="8888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Прямая соединительная линия 13"/>
            <p:cNvSpPr/>
            <p:nvPr/>
          </p:nvSpPr>
          <p:spPr>
            <a:xfrm flipV="1">
              <a:off x="4711680" y="3976200"/>
              <a:ext cx="0" cy="8888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Скругленный прямоугольник 14"/>
            <p:cNvSpPr/>
            <p:nvPr/>
          </p:nvSpPr>
          <p:spPr>
            <a:xfrm>
              <a:off x="3808440" y="882720"/>
              <a:ext cx="180468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Разгово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Скругленный прямоугольник 15"/>
            <p:cNvSpPr/>
            <p:nvPr/>
          </p:nvSpPr>
          <p:spPr>
            <a:xfrm>
              <a:off x="3863880" y="490392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Иг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Скругленный прямоугольник 16"/>
            <p:cNvSpPr/>
            <p:nvPr/>
          </p:nvSpPr>
          <p:spPr>
            <a:xfrm>
              <a:off x="6546960" y="86364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Переска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Скругленный прямоугольник 17"/>
            <p:cNvSpPr/>
            <p:nvPr/>
          </p:nvSpPr>
          <p:spPr>
            <a:xfrm>
              <a:off x="1071720" y="78588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Имитац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Скругленный прямоугольник 18"/>
            <p:cNvSpPr/>
            <p:nvPr/>
          </p:nvSpPr>
          <p:spPr>
            <a:xfrm>
              <a:off x="6546960" y="497376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Рассказыва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Скругленный прямоугольник 19"/>
            <p:cNvSpPr/>
            <p:nvPr/>
          </p:nvSpPr>
          <p:spPr>
            <a:xfrm>
              <a:off x="1071720" y="491976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Продуктив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74856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Пункт 3.3 глава 3 ФГОС ДО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7600" y="1870200"/>
            <a:ext cx="8069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Constantia"/>
              </a:rPr>
              <a:t>Развивающая предметно-пространственная среда должна быть содержательно-насыщенной, трансформируемой, полифункциональной, вариативной, доступной и безопасной. Насыщенность среды должна соответствовать возрастным возможностям детей и содержанию Программ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Схема 21" descr=""/>
          <p:cNvPicPr/>
          <p:nvPr/>
        </p:nvPicPr>
        <p:blipFill>
          <a:blip r:embed="rId1"/>
          <a:stretch/>
        </p:blipFill>
        <p:spPr>
          <a:xfrm>
            <a:off x="804960" y="158760"/>
            <a:ext cx="678492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9"/>
          <p:cNvGrpSpPr/>
          <p:nvPr/>
        </p:nvGrpSpPr>
        <p:grpSpPr>
          <a:xfrm>
            <a:off x="658800" y="549360"/>
            <a:ext cx="7945560" cy="5616360"/>
            <a:chOff x="658800" y="549360"/>
            <a:chExt cx="7945560" cy="5616360"/>
          </a:xfrm>
        </p:grpSpPr>
        <p:pic>
          <p:nvPicPr>
            <p:cNvPr id="208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658800" y="549360"/>
              <a:ext cx="7945560" cy="561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Прямая со стрелкой 3"/>
            <p:cNvCxnSpPr/>
            <p:nvPr/>
          </p:nvCxnSpPr>
          <p:spPr>
            <a:xfrm>
              <a:off x="5670720" y="2359440"/>
              <a:ext cx="1362600" cy="110664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5"/>
            <p:cNvCxnSpPr/>
            <p:nvPr/>
          </p:nvCxnSpPr>
          <p:spPr>
            <a:xfrm flipH="1">
              <a:off x="1360800" y="2489040"/>
              <a:ext cx="1264320" cy="97668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7"/>
            <p:cNvCxnSpPr/>
            <p:nvPr/>
          </p:nvCxnSpPr>
          <p:spPr>
            <a:xfrm>
              <a:off x="4307040" y="2359440"/>
              <a:ext cx="22680" cy="110664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7" descr=""/>
          <p:cNvPicPr/>
          <p:nvPr/>
        </p:nvPicPr>
        <p:blipFill>
          <a:blip r:embed="rId1"/>
          <a:stretch/>
        </p:blipFill>
        <p:spPr>
          <a:xfrm>
            <a:off x="600120" y="1114560"/>
            <a:ext cx="8043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Объект 12"/>
          <p:cNvGraphicFramePr/>
          <p:nvPr/>
        </p:nvGraphicFramePr>
        <p:xfrm>
          <a:off x="428760" y="701640"/>
          <a:ext cx="828648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01640"/>
                    <a:ext cx="82864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11"/>
          <p:cNvGrpSpPr/>
          <p:nvPr/>
        </p:nvGrpSpPr>
        <p:grpSpPr>
          <a:xfrm>
            <a:off x="663480" y="1638360"/>
            <a:ext cx="7702560" cy="2797200"/>
            <a:chOff x="663480" y="1638360"/>
            <a:chExt cx="7702560" cy="2797200"/>
          </a:xfrm>
        </p:grpSpPr>
        <p:pic>
          <p:nvPicPr>
            <p:cNvPr id="216" name="Овал 3" descr=""/>
            <p:cNvPicPr/>
            <p:nvPr/>
          </p:nvPicPr>
          <p:blipFill>
            <a:blip r:embed="rId1"/>
            <a:stretch/>
          </p:blipFill>
          <p:spPr>
            <a:xfrm>
              <a:off x="3485880" y="1638360"/>
              <a:ext cx="1924200" cy="2797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Прямая со стрелкой 5"/>
            <p:cNvCxnSpPr/>
            <p:nvPr/>
          </p:nvCxnSpPr>
          <p:spPr>
            <a:xfrm>
              <a:off x="2672280" y="3160080"/>
              <a:ext cx="971280" cy="10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Прямая со стрелкой 6"/>
            <p:cNvCxnSpPr/>
            <p:nvPr/>
          </p:nvCxnSpPr>
          <p:spPr>
            <a:xfrm>
              <a:off x="5389560" y="3374640"/>
              <a:ext cx="971280" cy="10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1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663480" y="2239920"/>
              <a:ext cx="2003040" cy="18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363000" y="2239920"/>
              <a:ext cx="2003040" cy="184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Группа 11"/>
          <p:cNvGrpSpPr/>
          <p:nvPr/>
        </p:nvGrpSpPr>
        <p:grpSpPr>
          <a:xfrm>
            <a:off x="250920" y="0"/>
            <a:ext cx="8569080" cy="6858000"/>
            <a:chOff x="250920" y="0"/>
            <a:chExt cx="8569080" cy="6858000"/>
          </a:xfrm>
        </p:grpSpPr>
        <p:pic>
          <p:nvPicPr>
            <p:cNvPr id="22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50920" y="0"/>
              <a:ext cx="8569080" cy="6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Прямоугольник 4"/>
            <p:cNvSpPr/>
            <p:nvPr/>
          </p:nvSpPr>
          <p:spPr>
            <a:xfrm>
              <a:off x="270000" y="708480"/>
              <a:ext cx="5512680" cy="6760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Расширение кругозора, воспитание познавательных интересов и способностей дошкольник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Прямоугольник 5"/>
            <p:cNvSpPr/>
            <p:nvPr/>
          </p:nvSpPr>
          <p:spPr>
            <a:xfrm>
              <a:off x="699840" y="2361600"/>
              <a:ext cx="6238080" cy="634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Развитие общих познавательных способностей де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оугольник 6"/>
            <p:cNvSpPr/>
            <p:nvPr/>
          </p:nvSpPr>
          <p:spPr>
            <a:xfrm>
              <a:off x="987480" y="3151440"/>
              <a:ext cx="6482880" cy="7772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Формирование, развитие и обогащение словарного запаса дошкольника, составление описательных и творческих рассказов на основе увиденного и услышанного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рямоугольник 7"/>
            <p:cNvSpPr/>
            <p:nvPr/>
          </p:nvSpPr>
          <p:spPr>
            <a:xfrm>
              <a:off x="1344600" y="4084200"/>
              <a:ext cx="6453000" cy="8848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Обогащение эмоционально-чувственной сферы детей в процессе непосредственного общения с предметами, явлениями и людь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Прямоугольник 8"/>
            <p:cNvSpPr/>
            <p:nvPr/>
          </p:nvSpPr>
          <p:spPr>
            <a:xfrm>
              <a:off x="1703160" y="5089680"/>
              <a:ext cx="6453000" cy="71856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Формирование бережного отношения к окружающему миру, закрепление положительных эмоций и умение их проявля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Прямоугольник 9"/>
            <p:cNvSpPr/>
            <p:nvPr/>
          </p:nvSpPr>
          <p:spPr>
            <a:xfrm>
              <a:off x="2062080" y="5960520"/>
              <a:ext cx="6701040" cy="8974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Создание условий, способствующие выявлению и поддержанию интересов, проявлению самостоятельности познавательно-речев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Прямоугольник 10"/>
            <p:cNvSpPr/>
            <p:nvPr/>
          </p:nvSpPr>
          <p:spPr>
            <a:xfrm>
              <a:off x="484920" y="1498680"/>
              <a:ext cx="5735520" cy="74700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Овладение дошкольниками на начальном этапе навыками и методами поисковой, исследовательской деятельность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Группа 14"/>
          <p:cNvGrpSpPr/>
          <p:nvPr/>
        </p:nvGrpSpPr>
        <p:grpSpPr>
          <a:xfrm>
            <a:off x="250920" y="404640"/>
            <a:ext cx="8208720" cy="5785200"/>
            <a:chOff x="250920" y="404640"/>
            <a:chExt cx="8208720" cy="5785200"/>
          </a:xfrm>
        </p:grpSpPr>
        <p:sp>
          <p:nvSpPr>
            <p:cNvPr id="231" name="Скругленный прямоугольник 3"/>
            <p:cNvSpPr/>
            <p:nvPr/>
          </p:nvSpPr>
          <p:spPr>
            <a:xfrm>
              <a:off x="250920" y="1916640"/>
              <a:ext cx="2880360" cy="28044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d0d0d"/>
                  </a:solidFill>
                  <a:latin typeface="Constantia"/>
                </a:rPr>
                <a:t>ПРИНЦИП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Стрелка вправо 4"/>
            <p:cNvSpPr/>
            <p:nvPr/>
          </p:nvSpPr>
          <p:spPr>
            <a:xfrm rot="19843200">
              <a:off x="2221560" y="1271160"/>
              <a:ext cx="1411560" cy="412560"/>
            </a:xfrm>
            <a:prstGeom prst="rightArrow">
              <a:avLst>
                <a:gd name="adj1" fmla="val 50000"/>
                <a:gd name="adj2" fmla="val 41406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Стрелка вправо 5"/>
            <p:cNvSpPr/>
            <p:nvPr/>
          </p:nvSpPr>
          <p:spPr>
            <a:xfrm rot="20631600">
              <a:off x="2660040" y="2031840"/>
              <a:ext cx="1411560" cy="436320"/>
            </a:xfrm>
            <a:prstGeom prst="rightArrow">
              <a:avLst>
                <a:gd name="adj1" fmla="val 50000"/>
                <a:gd name="adj2" fmla="val 41413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Стрелка вправо 6"/>
            <p:cNvSpPr/>
            <p:nvPr/>
          </p:nvSpPr>
          <p:spPr>
            <a:xfrm>
              <a:off x="3491280" y="2997000"/>
              <a:ext cx="1411560" cy="438120"/>
            </a:xfrm>
            <a:prstGeom prst="rightArrow">
              <a:avLst>
                <a:gd name="adj1" fmla="val 50000"/>
                <a:gd name="adj2" fmla="val 41392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Стрелка вправо 7"/>
            <p:cNvSpPr/>
            <p:nvPr/>
          </p:nvSpPr>
          <p:spPr>
            <a:xfrm rot="617400">
              <a:off x="2730240" y="4055400"/>
              <a:ext cx="1411560" cy="479160"/>
            </a:xfrm>
            <a:prstGeom prst="rightArrow">
              <a:avLst>
                <a:gd name="adj1" fmla="val 50000"/>
                <a:gd name="adj2" fmla="val 41406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Стрелка вправо 8"/>
            <p:cNvSpPr/>
            <p:nvPr/>
          </p:nvSpPr>
          <p:spPr>
            <a:xfrm rot="1483200">
              <a:off x="2213640" y="4948200"/>
              <a:ext cx="1549800" cy="512640"/>
            </a:xfrm>
            <a:prstGeom prst="rightArrow">
              <a:avLst>
                <a:gd name="adj1" fmla="val 50000"/>
                <a:gd name="adj2" fmla="val 41401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Овал 9"/>
            <p:cNvSpPr/>
            <p:nvPr/>
          </p:nvSpPr>
          <p:spPr>
            <a:xfrm>
              <a:off x="3627000" y="404640"/>
              <a:ext cx="336816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Интегр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Овал 10"/>
            <p:cNvSpPr/>
            <p:nvPr/>
          </p:nvSpPr>
          <p:spPr>
            <a:xfrm>
              <a:off x="3985920" y="1596960"/>
              <a:ext cx="3009240" cy="9554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Партнер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Овал 11"/>
            <p:cNvSpPr/>
            <p:nvPr/>
          </p:nvSpPr>
          <p:spPr>
            <a:xfrm>
              <a:off x="5219640" y="2709000"/>
              <a:ext cx="300924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Науч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Овал 12"/>
            <p:cNvSpPr/>
            <p:nvPr/>
          </p:nvSpPr>
          <p:spPr>
            <a:xfrm>
              <a:off x="3985920" y="3911760"/>
              <a:ext cx="447372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Природосообраз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Овал 13"/>
            <p:cNvSpPr/>
            <p:nvPr/>
          </p:nvSpPr>
          <p:spPr>
            <a:xfrm>
              <a:off x="3893760" y="5232600"/>
              <a:ext cx="456588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Деятельности и интерактив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Группа 6"/>
          <p:cNvGrpSpPr/>
          <p:nvPr/>
        </p:nvGrpSpPr>
        <p:grpSpPr>
          <a:xfrm>
            <a:off x="460440" y="631800"/>
            <a:ext cx="8288280" cy="5749920"/>
            <a:chOff x="460440" y="631800"/>
            <a:chExt cx="8288280" cy="5749920"/>
          </a:xfrm>
        </p:grpSpPr>
        <p:sp>
          <p:nvSpPr>
            <p:cNvPr id="243" name="Равнобедренный треугольник 2"/>
            <p:cNvSpPr/>
            <p:nvPr/>
          </p:nvSpPr>
          <p:spPr>
            <a:xfrm>
              <a:off x="2771640" y="2679480"/>
              <a:ext cx="3524040" cy="2503440"/>
            </a:xfrm>
            <a:prstGeom prst="triangle">
              <a:avLst>
                <a:gd name="adj" fmla="val 50000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d0d0d"/>
                  </a:solidFill>
                  <a:latin typeface="Constantia"/>
                </a:rPr>
                <a:t>Приемы и техноло-г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Овал 3"/>
            <p:cNvSpPr/>
            <p:nvPr/>
          </p:nvSpPr>
          <p:spPr>
            <a:xfrm>
              <a:off x="3338640" y="631800"/>
              <a:ext cx="2390760" cy="20476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Словес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Овал 4"/>
            <p:cNvSpPr/>
            <p:nvPr/>
          </p:nvSpPr>
          <p:spPr>
            <a:xfrm>
              <a:off x="460440" y="4321080"/>
              <a:ext cx="2311200" cy="2046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Нагляд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Овал 5"/>
            <p:cNvSpPr/>
            <p:nvPr/>
          </p:nvSpPr>
          <p:spPr>
            <a:xfrm>
              <a:off x="6296040" y="4334040"/>
              <a:ext cx="2452680" cy="20476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Практическ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26:57Z</dcterms:created>
  <dc:creator>TOSHIBA</dc:creator>
  <dc:description/>
  <dc:language>en-US</dc:language>
  <cp:lastModifiedBy>Елена</cp:lastModifiedBy>
  <dcterms:modified xsi:type="dcterms:W3CDTF">2018-04-06T13:49:53Z</dcterms:modified>
  <cp:revision>153</cp:revision>
  <dc:subject/>
  <dc:title>Презентация PowerPoint</dc:title>
</cp:coreProperties>
</file>