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7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C05-9833-4083-8512-5468B900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CF5-691D-410F-8718-46EC6CA8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F7A-DB85-4BC1-AC10-308455C9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F86-8950-41A0-A0DB-6A83F6B5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30E5-9124-4D12-B20C-568EAF05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D0CF-6DC3-478A-A7D7-E094471F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A19-5827-463C-9CBF-818BA4B8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372-F3BF-4B49-93C6-9B2A3C3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616-87EE-4DED-A424-2259813A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803B-157D-4F99-9652-1FE23A6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EAA3-FC04-496F-8B2D-7CA545E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977-B35A-4FE0-AB46-D12CD93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9B9D-5B7D-4023-8140-5BF99F5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34A-6C28-4BFA-BB2E-1A50C03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FA43-CCDA-45C6-A9B9-112B764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78A-CE13-442A-9B52-9FE411AE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4FC-BED6-42D6-B49F-87E48933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3DF2-F4D4-455E-9B16-EF411E0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8B42-5536-4438-A89D-F9C68695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E58E-BB30-4161-A799-E5E5B814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4FCD-4FEE-4105-9426-B812E83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728E-DCD1-4838-8E3A-17F58744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FD3-CC9A-4CB4-9B58-06D173B6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88D0-1E70-4CC5-9DE9-9F81817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62D5-2C73-4242-A5F9-044B73A8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1EC8-C3AC-42F2-A05C-269189A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FC57-04DB-4B0F-A5FA-46C747F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E69E-BE33-40E5-BE0E-4104B58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ECD6-0AF3-4D1B-8719-541CFC19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9D18-F7A1-4951-8A3E-AFF732A8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8670-C9D0-40DB-9B34-3A57B058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E09C-C0B8-4ACD-AD00-ADA7ABA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0DEE-6F5A-4BF4-B847-800DE0C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F7A-00F2-4D47-A7BD-49352DD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691A-D66B-4E0F-BF2C-F792306D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7349-9133-4442-9B6B-0E52539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6CF5-AEDB-4054-BD8E-A0324BD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6CA8-A5E8-46BB-8B82-F9F8C09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78D6-5237-4112-8B10-C60CB75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2326-FA03-4087-8E34-13C675E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1D33-7F9D-43E5-ABAC-7A1153D6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87FA-D1DF-40C3-9CFF-788BA9FE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B292-DC39-40AA-9BA6-9B7B5C40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073-FD46-4F3D-A417-0C137A5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AD3-FB1D-479C-A6B9-D80CE73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26C-E855-4B61-AB9B-7F90F2D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CC0-9F0F-4696-9F33-093BCCA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111-8CC8-4E41-AC85-FA5BE6E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7A266-E610-4C3F-A892-D82EF56DCF3C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512BB-C49C-4315-851D-B2F8A9EC298E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ECCB7-231F-4EC9-BE61-1074EEC36516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89AE2-65CC-4EE7-8639-4123BFC97039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Проверка домашнего задания и актуализация знаний:</a:t>
            </a:r>
            <a:br>
              <a:rPr sz="3200"/>
            </a:br>
            <a:r>
              <a:rPr b="1" lang="ru-RU" sz="3200" spc="-1" strike="noStrike">
                <a:solidFill>
                  <a:srgbClr val="ebebeb"/>
                </a:solidFill>
                <a:latin typeface="Century Gothic"/>
              </a:rPr>
              <a:t>Сопоставьте изображение и название топологии сети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5" name="Picture 9" descr="Сетевая топология звезда"/>
          <p:cNvPicPr/>
          <p:nvPr/>
        </p:nvPicPr>
        <p:blipFill>
          <a:blip r:embed="rId1"/>
          <a:stretch/>
        </p:blipFill>
        <p:spPr>
          <a:xfrm>
            <a:off x="571680" y="1928880"/>
            <a:ext cx="3240000" cy="15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Сетевая топология кольцо"/>
          <p:cNvPicPr/>
          <p:nvPr/>
        </p:nvPicPr>
        <p:blipFill>
          <a:blip r:embed="rId2"/>
          <a:stretch/>
        </p:blipFill>
        <p:spPr>
          <a:xfrm>
            <a:off x="571680" y="3429000"/>
            <a:ext cx="324000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Сетевая топология шина"/>
          <p:cNvPicPr/>
          <p:nvPr/>
        </p:nvPicPr>
        <p:blipFill>
          <a:blip r:embed="rId3"/>
          <a:stretch/>
        </p:blipFill>
        <p:spPr>
          <a:xfrm>
            <a:off x="571680" y="5000760"/>
            <a:ext cx="3214440" cy="1714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144000" y="17859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15280" y="3500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144000" y="52149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806160" y="537372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ЗВЕЗД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590160" y="220500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ОЛЬЦО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6661800" y="37893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dd0cb"/>
                </a:solidFill>
                <a:latin typeface="Times New Roman"/>
              </a:rPr>
              <a:t>ШИН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3924360" y="2636640"/>
            <a:ext cx="2952720" cy="3097080"/>
          </a:xfrm>
          <a:prstGeom prst="line">
            <a:avLst/>
          </a:prstGeom>
          <a:ln w="38160">
            <a:solidFill>
              <a:srgbClr val="e6b7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Line 27"/>
          <p:cNvSpPr/>
          <p:nvPr/>
        </p:nvSpPr>
        <p:spPr>
          <a:xfrm flipH="1">
            <a:off x="3851280" y="2565360"/>
            <a:ext cx="2881440" cy="172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Line 28"/>
          <p:cNvSpPr/>
          <p:nvPr/>
        </p:nvSpPr>
        <p:spPr>
          <a:xfrm flipH="1">
            <a:off x="3851280" y="4149720"/>
            <a:ext cx="2881440" cy="1655640"/>
          </a:xfrm>
          <a:prstGeom prst="line">
            <a:avLst/>
          </a:prstGeom>
          <a:ln w="38160">
            <a:solidFill>
              <a:srgbClr val="9dd0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076480" cy="1952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-1080" y="2708280"/>
            <a:ext cx="45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a6312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ea6312"/>
                </a:solidFill>
                <a:latin typeface="Times New Roman"/>
              </a:rPr>
              <a:t>-страни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документ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щий гиперссыл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2076480" cy="1952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076480" cy="1952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2076480" cy="1952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5150520" y="2637000"/>
            <a:ext cx="37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a6312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ea6312"/>
                </a:solidFill>
                <a:latin typeface="Times New Roman"/>
              </a:rPr>
              <a:t>-сайт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тически объединённы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траниц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4" name="Picture 11" descr="компьютер"/>
          <p:cNvPicPr/>
          <p:nvPr/>
        </p:nvPicPr>
        <p:blipFill>
          <a:blip r:embed="rId5"/>
          <a:stretch/>
        </p:blipFill>
        <p:spPr>
          <a:xfrm>
            <a:off x="5076720" y="1125360"/>
            <a:ext cx="1366920" cy="1152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компьютер"/>
          <p:cNvPicPr/>
          <p:nvPr/>
        </p:nvPicPr>
        <p:blipFill>
          <a:blip r:embed="rId6"/>
          <a:stretch/>
        </p:blipFill>
        <p:spPr>
          <a:xfrm>
            <a:off x="2124000" y="981000"/>
            <a:ext cx="1224000" cy="13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компьютер"/>
          <p:cNvPicPr/>
          <p:nvPr/>
        </p:nvPicPr>
        <p:blipFill>
          <a:blip r:embed="rId7"/>
          <a:stretch/>
        </p:blipFill>
        <p:spPr>
          <a:xfrm>
            <a:off x="3635280" y="692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5"/>
          <p:cNvSpPr/>
          <p:nvPr/>
        </p:nvSpPr>
        <p:spPr>
          <a:xfrm>
            <a:off x="249840" y="2060640"/>
            <a:ext cx="86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Web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</a:rPr>
              <a:t>-серверы</a:t>
            </a:r>
            <a:r>
              <a:rPr b="1" i="1" lang="ru-RU" sz="18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веры Интернета, хранящ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траниц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2341080" y="1890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6b729"/>
                </a:solidFill>
                <a:latin typeface="Arial"/>
              </a:rPr>
              <a:t>Всемирная паутин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" descr="MCj0413138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0800" y="3789360"/>
            <a:ext cx="2665440" cy="2357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0293236"/>
          <p:cNvPicPr/>
          <p:nvPr/>
        </p:nvPicPr>
        <p:blipFill>
          <a:blip r:embed="rId3"/>
          <a:stretch/>
        </p:blipFill>
        <p:spPr>
          <a:xfrm>
            <a:off x="714240" y="3906720"/>
            <a:ext cx="2928960" cy="2286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1360" y="711360"/>
            <a:ext cx="6621480" cy="29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В качестве </a:t>
            </a:r>
            <a:r>
              <a:rPr b="0" lang="ru-RU" sz="3200" spc="-1" strike="noStrike" u="sng">
                <a:solidFill>
                  <a:srgbClr val="58c1ba"/>
                </a:solidFill>
                <a:uFillTx/>
                <a:latin typeface="Century Gothic"/>
                <a:hlinkClick r:id="rId4" action="ppaction://hlinksldjump"/>
              </a:rPr>
              <a:t>указателей ссылок </a:t>
            </a: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могут использоваться фрагменты текста или графические изображения.</a:t>
            </a:r>
            <a:br>
              <a:rPr sz="3600"/>
            </a:br>
            <a:r>
              <a:rPr b="0" lang="ru-RU" sz="2200" spc="-1" strike="noStrike">
                <a:solidFill>
                  <a:srgbClr val="ebebeb"/>
                </a:solidFill>
                <a:latin typeface="Century Gothic"/>
              </a:rPr>
              <a:t>Один из рисунков является указателем ссылки. Какой?</a:t>
            </a:r>
            <a:endParaRPr b="0" lang="en-US" sz="2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13880" y="3765240"/>
            <a:ext cx="47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3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072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9dd0cb"/>
                </a:solidFill>
                <a:uFillTx/>
                <a:latin typeface="Century Gothic"/>
              </a:rPr>
              <a:t>Адрес </a:t>
            </a:r>
            <a:r>
              <a:rPr b="1" lang="en-US" sz="2700" spc="-1" strike="noStrike" u="sng">
                <a:solidFill>
                  <a:srgbClr val="9dd0cb"/>
                </a:solidFill>
                <a:uFillTx/>
                <a:latin typeface="Century Gothic"/>
              </a:rPr>
              <a:t>Web</a:t>
            </a:r>
            <a:r>
              <a:rPr b="1" lang="ru-RU" sz="2700" spc="-1" strike="noStrike" u="sng">
                <a:solidFill>
                  <a:srgbClr val="9dd0cb"/>
                </a:solidFill>
                <a:uFillTx/>
                <a:latin typeface="Century Gothic"/>
              </a:rPr>
              <a:t>-страницы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 включает в себя </a:t>
            </a:r>
            <a:r>
              <a:rPr b="1" lang="ru-RU" sz="2700" spc="-1" strike="noStrike">
                <a:solidFill>
                  <a:srgbClr val="ebebeb"/>
                </a:solidFill>
                <a:latin typeface="Century Gothic"/>
              </a:rPr>
              <a:t>способ доступа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 к документу и </a:t>
            </a:r>
            <a:r>
              <a:rPr b="1" lang="ru-RU" sz="2700" spc="-1" strike="noStrike">
                <a:solidFill>
                  <a:srgbClr val="ebebeb"/>
                </a:solidFill>
                <a:latin typeface="Century Gothic"/>
              </a:rPr>
              <a:t>имя сервера Интернета</a:t>
            </a:r>
            <a:r>
              <a:rPr b="0" lang="ru-RU" sz="2700" spc="-1" strike="noStrike">
                <a:solidFill>
                  <a:srgbClr val="ebebeb"/>
                </a:solidFill>
                <a:latin typeface="Century Gothic"/>
              </a:rPr>
              <a:t>, на котором находится документ.</a:t>
            </a:r>
            <a:endParaRPr b="0" lang="en-US" sz="27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http://www.computer-museum.ru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684360" y="3141720"/>
            <a:ext cx="792000" cy="0"/>
          </a:xfrm>
          <a:prstGeom prst="line">
            <a:avLst/>
          </a:prstGeom>
          <a:ln w="57240">
            <a:solidFill>
              <a:srgbClr val="9dd0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16000" y="3141720"/>
            <a:ext cx="216000" cy="1511280"/>
          </a:xfrm>
          <a:prstGeom prst="line">
            <a:avLst/>
          </a:prstGeom>
          <a:ln w="57240">
            <a:solidFill>
              <a:srgbClr val="9dd0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160" y="4653000"/>
            <a:ext cx="32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dd0cb"/>
                </a:solidFill>
                <a:latin typeface="Times New Roman"/>
              </a:rPr>
              <a:t>Протоко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dd0cb"/>
                </a:solidFill>
                <a:latin typeface="Times New Roman"/>
              </a:rPr>
              <a:t>передачи гипер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124000" y="3141720"/>
            <a:ext cx="6048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5076720" y="3141720"/>
            <a:ext cx="647640" cy="1152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024880" y="457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мя сервера Интерне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Браузеры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– специальные программы для просмотра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Web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страниц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785080" cy="5950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250920" y="1125360"/>
            <a:ext cx="2808360" cy="2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77440" y="18900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Элементы окна браузера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nternet Explorer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Line 9"/>
          <p:cNvSpPr/>
          <p:nvPr/>
        </p:nvSpPr>
        <p:spPr>
          <a:xfrm flipV="1">
            <a:off x="1258920" y="691920"/>
            <a:ext cx="1512720" cy="43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702880" y="47628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ю окн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250920" y="1341360"/>
            <a:ext cx="2017440" cy="2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252720" y="24922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468360" y="1628640"/>
            <a:ext cx="7128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1116000" y="1628640"/>
            <a:ext cx="71280" cy="64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810000" y="22255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2124000" y="1557360"/>
            <a:ext cx="792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2753280" y="2009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м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1835280" y="1628640"/>
            <a:ext cx="72072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2394720" y="2585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нови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Line 25"/>
          <p:cNvSpPr/>
          <p:nvPr/>
        </p:nvSpPr>
        <p:spPr>
          <a:xfrm>
            <a:off x="1547640" y="1628640"/>
            <a:ext cx="360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1458000" y="28749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нови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250920" y="1628640"/>
            <a:ext cx="7416720" cy="2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3780000" y="1844640"/>
            <a:ext cx="360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3834360" y="30909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ресная стро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50920" y="1844640"/>
            <a:ext cx="8497800" cy="446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395280" y="3789360"/>
            <a:ext cx="831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бочая область, в которой просматриваются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страниц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87120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Century Gothic"/>
              </a:rPr>
              <a:t>Домашнее задание:</a:t>
            </a:r>
            <a:endParaRPr b="0" lang="en-US" sz="6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88520" y="256500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entury Gothic"/>
              </a:rPr>
              <a:t>1. ВЫУЧИТЬ ОСНОВНЫЕ ПОНЯТИЯ И ОПРЕДЕЛЕНИЯ, ЗАПИСАННЫЕ СЕГОДНЯ НА УРОК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entury Gothic"/>
              </a:rPr>
              <a:t>2. ИНДИВИДУАЛЬНОЕ ЗАДАНИЕ: ПОДГОТОВИТЬ СООБЩЕНИЕ ОБ ИСТОРИИ ИНТЕРНЕТА В РОССИИ, ИСПОЛЬЗУЯ МАТЕРИАЛЫ САЙТА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HTTP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://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WWW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.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NETHISTORY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Century Gothic"/>
              </a:rPr>
              <a:t>.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entury Gothic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1"/>
          <p:cNvSpPr/>
          <p:nvPr/>
        </p:nvSpPr>
        <p:spPr>
          <a:xfrm>
            <a:off x="6072120" y="4214880"/>
            <a:ext cx="2737080" cy="115092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928960" y="4214880"/>
            <a:ext cx="2808360" cy="115092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42920" y="4286160"/>
            <a:ext cx="2232000" cy="107964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928800" y="928800"/>
            <a:ext cx="67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верка домашнего задания и актуализация знани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Что такое Интернет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ИНТЕРНЕТ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16720" y="4357800"/>
            <a:ext cx="212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кальны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03840" y="4357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ы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072120" y="43578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поративные се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500040" y="2428560"/>
            <a:ext cx="20890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4214880" y="24285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Line 14"/>
          <p:cNvSpPr/>
          <p:nvPr/>
        </p:nvSpPr>
        <p:spPr>
          <a:xfrm flipH="1" flipV="1">
            <a:off x="5928840" y="242892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16" descr="с движением"/>
          <p:cNvPicPr/>
          <p:nvPr/>
        </p:nvPicPr>
        <p:blipFill>
          <a:blip r:embed="rId1"/>
          <a:stretch/>
        </p:blipFill>
        <p:spPr>
          <a:xfrm>
            <a:off x="7812000" y="62064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Проверка домашнего задания и актуализация знаний: </a:t>
            </a:r>
            <a:br>
              <a:rPr sz="8600"/>
            </a:b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Выберите из списка </a:t>
            </a:r>
            <a:r>
              <a:rPr b="0" lang="en-US" sz="3800" spc="-1" strike="noStrike">
                <a:solidFill>
                  <a:srgbClr val="ff0000"/>
                </a:solidFill>
                <a:latin typeface="Century Gothic"/>
              </a:rPr>
              <a:t>IP</a:t>
            </a:r>
            <a:r>
              <a:rPr b="0" lang="ru-RU" sz="3800" spc="-1" strike="noStrike">
                <a:solidFill>
                  <a:srgbClr val="ff0000"/>
                </a:solidFill>
                <a:latin typeface="Century Gothic"/>
              </a:rPr>
              <a:t>- адреса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11280" y="1916280"/>
            <a:ext cx="540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84.42.63.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www.yandex.r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192.168.3.1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75.44.45.1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entury Gothic"/>
              </a:rPr>
              <a:t>www.mail.r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10620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Тема урока:</a:t>
            </a: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Информационные ресурсы Интернета. Всемирная паутина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1" name="Picture 8" descr="www"/>
          <p:cNvPicPr/>
          <p:nvPr/>
        </p:nvPicPr>
        <p:blipFill>
          <a:blip r:embed="rId1"/>
          <a:stretch/>
        </p:blipFill>
        <p:spPr>
          <a:xfrm>
            <a:off x="395280" y="3573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Интернет2"/>
          <p:cNvPicPr/>
          <p:nvPr/>
        </p:nvPicPr>
        <p:blipFill>
          <a:blip r:embed="rId2"/>
          <a:stretch/>
        </p:blipFill>
        <p:spPr>
          <a:xfrm>
            <a:off x="3214800" y="300024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Интернет"/>
          <p:cNvPicPr/>
          <p:nvPr/>
        </p:nvPicPr>
        <p:blipFill>
          <a:blip r:embed="rId3"/>
          <a:stretch/>
        </p:blipFill>
        <p:spPr>
          <a:xfrm>
            <a:off x="6659640" y="3933720"/>
            <a:ext cx="1933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Century Gothic"/>
              </a:rPr>
              <a:t>Цель урок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84200" y="1504800"/>
            <a:ext cx="7696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знакомиться с гипертекстовой технологией Всемирной паутины, с работой сети Интернет. Изучить основные элементы окна браузера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ternet Explorer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.Научить загружать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страницу, переходить на другую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2050560" y="83664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семирная паутин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7" name="Picture 6" descr="с движением"/>
          <p:cNvPicPr/>
          <p:nvPr/>
        </p:nvPicPr>
        <p:blipFill>
          <a:blip r:embed="rId1"/>
          <a:stretch/>
        </p:blipFill>
        <p:spPr>
          <a:xfrm>
            <a:off x="7812000" y="620640"/>
            <a:ext cx="1081080" cy="100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2773800" y="19162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orld Wide We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8" descr="www"/>
          <p:cNvPicPr/>
          <p:nvPr/>
        </p:nvPicPr>
        <p:blipFill>
          <a:blip r:embed="rId2"/>
          <a:stretch/>
        </p:blipFill>
        <p:spPr>
          <a:xfrm>
            <a:off x="5148360" y="371628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9"/>
          <p:cNvSpPr/>
          <p:nvPr/>
        </p:nvSpPr>
        <p:spPr>
          <a:xfrm>
            <a:off x="397800" y="256536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WW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Picture 10" descr="Интернет"/>
          <p:cNvPicPr/>
          <p:nvPr/>
        </p:nvPicPr>
        <p:blipFill>
          <a:blip r:embed="rId3"/>
          <a:stretch/>
        </p:blipFill>
        <p:spPr>
          <a:xfrm>
            <a:off x="1332000" y="3716280"/>
            <a:ext cx="2592360" cy="2737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1"/>
          <p:cNvSpPr/>
          <p:nvPr/>
        </p:nvSpPr>
        <p:spPr>
          <a:xfrm>
            <a:off x="7309800" y="2637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92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925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92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92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328428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Century Gothic"/>
              </a:rPr>
              <a:t>World Wide Web</a:t>
            </a:r>
            <a:r>
              <a:rPr b="0" lang="ru-RU" sz="29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(сокращенно </a:t>
            </a:r>
            <a:r>
              <a:rPr b="1" lang="en-US" sz="2900" spc="-1" strike="noStrike">
                <a:solidFill>
                  <a:srgbClr val="ebebeb"/>
                </a:solidFill>
                <a:latin typeface="Century Gothic"/>
              </a:rPr>
              <a:t>WWW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 или </a:t>
            </a:r>
            <a:r>
              <a:rPr b="1" lang="en-US" sz="2900" spc="-1" strike="noStrike">
                <a:solidFill>
                  <a:srgbClr val="ebebeb"/>
                </a:solidFill>
                <a:latin typeface="Century Gothic"/>
              </a:rPr>
              <a:t>Web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),  </a:t>
            </a:r>
            <a:r>
              <a:rPr b="0" i="1" lang="ru-RU" sz="2900" spc="-1" strike="noStrike">
                <a:solidFill>
                  <a:srgbClr val="ebebeb"/>
                </a:solidFill>
                <a:latin typeface="Century Gothic"/>
              </a:rPr>
              <a:t>Всемирная паутина – 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самая популярная служба современного Интернета.</a:t>
            </a:r>
            <a:r>
              <a:rPr b="0" lang="ru-RU" sz="29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Представление информации в 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WWW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 основано на возможностях </a:t>
            </a:r>
            <a:r>
              <a:rPr b="1" lang="ru-RU" sz="2900" spc="-1" strike="noStrike" u="sng">
                <a:solidFill>
                  <a:srgbClr val="990000"/>
                </a:solidFill>
                <a:uFillTx/>
                <a:latin typeface="Century Gothic"/>
              </a:rPr>
              <a:t>гипертекстовых ссылок</a:t>
            </a:r>
            <a:r>
              <a:rPr b="1" lang="ru-RU" sz="2900" spc="-1" strike="noStrike">
                <a:solidFill>
                  <a:srgbClr val="1e5155"/>
                </a:solidFill>
                <a:latin typeface="Century Gothic"/>
              </a:rPr>
              <a:t>. </a:t>
            </a:r>
            <a:br>
              <a:rPr sz="2900"/>
            </a:b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00000" y="76500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orld Wide Web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Picture 6" descr="www"/>
          <p:cNvPicPr/>
          <p:nvPr/>
        </p:nvPicPr>
        <p:blipFill>
          <a:blip r:embed="rId1"/>
          <a:stretch/>
        </p:blipFill>
        <p:spPr>
          <a:xfrm>
            <a:off x="6877080" y="549360"/>
            <a:ext cx="1584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9680" y="1928880"/>
            <a:ext cx="785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990000"/>
                </a:solidFill>
                <a:uFillTx/>
                <a:latin typeface="Century Gothic"/>
              </a:rPr>
              <a:t>Гипертекст</a:t>
            </a:r>
            <a:r>
              <a:rPr b="0" lang="ru-RU" sz="2500" spc="-1" strike="noStrike">
                <a:solidFill>
                  <a:srgbClr val="ebebeb"/>
                </a:solidFill>
                <a:latin typeface="Century Gothic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Century Gothic"/>
              </a:rPr>
              <a:t>это текст, в котором содержатся ссылки на другие документы. Это позволяет легко и быстро переходить с одного документа на другой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entury Gothic"/>
              </a:rPr>
              <a:t>     Связанные ссылками документы могут быть разбросаны по всему земному шару.</a:t>
            </a:r>
            <a:br>
              <a:rPr sz="2500"/>
            </a:br>
            <a:endParaRPr b="0" lang="en-US" sz="25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49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Всемирная паутина</a:t>
            </a:r>
            <a:r>
              <a:rPr b="0" lang="ru-RU" sz="36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– это миллионы </a:t>
            </a:r>
            <a:r>
              <a:rPr b="0" lang="en-US" sz="3600" spc="-1" strike="noStrike">
                <a:solidFill>
                  <a:srgbClr val="ebebeb"/>
                </a:solidFill>
                <a:latin typeface="Century Gothic"/>
              </a:rPr>
              <a:t>Web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-серверов Интернета, содержащих миллиарды </a:t>
            </a:r>
            <a:r>
              <a:rPr b="0" lang="en-US" sz="3600" spc="-1" strike="noStrike">
                <a:solidFill>
                  <a:srgbClr val="ebebeb"/>
                </a:solidFill>
                <a:latin typeface="Century Gothic"/>
              </a:rPr>
              <a:t>Web-</a:t>
            </a: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траниц, в которых используется технология гипертекста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30:05Z</dcterms:created>
  <dc:creator>Пользователь</dc:creator>
  <dc:description/>
  <dc:language>en-US</dc:language>
  <cp:lastModifiedBy>Admin</cp:lastModifiedBy>
  <dcterms:modified xsi:type="dcterms:W3CDTF">2018-04-10T18:06:26Z</dcterms:modified>
  <cp:revision>79</cp:revision>
  <dc:subject/>
  <dc:title>Определите способ объединения компьютеров в сеть</dc:title>
</cp:coreProperties>
</file>