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7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570-338D-4D5D-9CD6-E3492BB3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3D3-E13A-4CC2-A3DD-92EF851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3E6-64D6-4875-A7A7-1BC1426D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856-34F2-42F8-9424-C8478112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7F5D-0429-4E0C-B99F-439D9357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8008-1983-4DEA-AF48-C0C4A12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AFC0-2A7E-4E45-967F-3339E3C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DE7F-EE54-4D0F-9915-C4646A1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8697-2DF5-4A53-80EC-36CF65B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747-8F2C-466B-B8D0-7C45788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B019-7C1C-4822-B855-FE83A171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F4B-8E90-43F1-9B62-F1D889F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3B2-442A-43B1-85CB-11169F9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3773-A5D1-4236-9EB6-BFDCE45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7B19-A6B7-463C-AD41-7C7E5C6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6A1F-61A7-471E-8495-D7BD560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0553-B4D8-4BA5-804B-6BB80935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F55E-EDE3-4023-A0DC-D4C326A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30AB-A4D2-47C1-8BD6-1038D64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F939-1747-4E0F-AC67-6861FA19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C686-0339-4CAA-92C1-3CC5F34E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8AFF-6D24-4318-8BC9-E4E171A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41B-DB3F-4FB4-9A0A-F1B16291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83BA-E568-421C-AB5D-13B7F328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D684-787D-4638-B30E-0A23226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47DB-F105-49D2-BBDA-396202C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8B68-0089-41FA-97CC-B24FCDC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9CB0-37A7-4280-8BB6-89B434DB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E87B-7744-4BF5-A3D4-7A93A4E7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9F45-A380-4DB6-A213-C3D5B5AA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CBE4-D86D-4819-A4C7-6B644B2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BDE1-BF51-4C6C-803D-6CD4926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56639-CEF3-4BB3-A254-6B2B21DB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489-74CB-40E4-8D2E-C77DAB9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AED7-2BF8-4D0D-8D19-1701FB1C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8876-EC53-46E9-8B9B-322A19C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FE71-47D0-40A4-9E75-52C856B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C675-283D-40A8-8591-60E79BE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CF1F-871D-4C3D-8456-50726305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B8CE-06A4-48E7-8F39-911E9C0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20C8-D662-4F13-9F6B-FACC6D2D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DF8E-344A-4310-9ECC-8A7B9A94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DB36-3E27-4FBA-BAD2-EF3C9D93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25A-B371-44B1-B832-F54FF2D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2EC-5948-4C51-BA69-81F99DC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5B5-85EE-4BA4-810C-06D4CBE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E13-B9F2-42A4-9A8C-C09AE1F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599-935A-412D-8854-DC343A8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2A2A3-7432-4ED2-8EFF-09C21329792B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A99D6-B062-42CB-B7F1-38DF9534BD7E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4FBEF-13A3-45D8-AC93-EBBE5A05619E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CF7F2-9C41-479D-B785-3FD1D7B749C0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Проверка домашнего задания и актуализация знаний:</a:t>
            </a:r>
            <a:br>
              <a:rPr sz="3200"/>
            </a:br>
            <a:r>
              <a:rPr b="1" lang="ru-RU" sz="3200" spc="-1" strike="noStrike">
                <a:solidFill>
                  <a:srgbClr val="ebebeb"/>
                </a:solidFill>
                <a:latin typeface="Century Gothic"/>
              </a:rPr>
              <a:t>Сопоставьте изображение и название топологии сети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35" name="Picture 9" descr="Сетевая топология звезда"/>
          <p:cNvPicPr/>
          <p:nvPr/>
        </p:nvPicPr>
        <p:blipFill>
          <a:blip r:embed="rId1"/>
          <a:stretch/>
        </p:blipFill>
        <p:spPr>
          <a:xfrm>
            <a:off x="571680" y="1928880"/>
            <a:ext cx="3240000" cy="15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Сетевая топология кольцо"/>
          <p:cNvPicPr/>
          <p:nvPr/>
        </p:nvPicPr>
        <p:blipFill>
          <a:blip r:embed="rId2"/>
          <a:stretch/>
        </p:blipFill>
        <p:spPr>
          <a:xfrm>
            <a:off x="571680" y="3429000"/>
            <a:ext cx="3240000" cy="165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Сетевая топология шина"/>
          <p:cNvPicPr/>
          <p:nvPr/>
        </p:nvPicPr>
        <p:blipFill>
          <a:blip r:embed="rId3"/>
          <a:stretch/>
        </p:blipFill>
        <p:spPr>
          <a:xfrm>
            <a:off x="571680" y="5000760"/>
            <a:ext cx="3214440" cy="1714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144000" y="17859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215280" y="3500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144000" y="52149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806160" y="537372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ЗВЕЗД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590160" y="220500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ОЛЬЦО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6661800" y="37893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dd0cb"/>
                </a:solidFill>
                <a:latin typeface="Times New Roman"/>
              </a:rPr>
              <a:t>ШИН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Line 26"/>
          <p:cNvSpPr/>
          <p:nvPr/>
        </p:nvSpPr>
        <p:spPr>
          <a:xfrm flipH="1" flipV="1">
            <a:off x="3924360" y="2636640"/>
            <a:ext cx="2952720" cy="3097080"/>
          </a:xfrm>
          <a:prstGeom prst="line">
            <a:avLst/>
          </a:prstGeom>
          <a:ln w="38160">
            <a:solidFill>
              <a:srgbClr val="e6b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Line 27"/>
          <p:cNvSpPr/>
          <p:nvPr/>
        </p:nvSpPr>
        <p:spPr>
          <a:xfrm flipH="1">
            <a:off x="3851280" y="2565360"/>
            <a:ext cx="2881440" cy="172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Line 28"/>
          <p:cNvSpPr/>
          <p:nvPr/>
        </p:nvSpPr>
        <p:spPr>
          <a:xfrm flipH="1">
            <a:off x="3851280" y="4149720"/>
            <a:ext cx="2881440" cy="1655640"/>
          </a:xfrm>
          <a:prstGeom prst="line">
            <a:avLst/>
          </a:prstGeom>
          <a:ln w="38160">
            <a:solidFill>
              <a:srgbClr val="9dd0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076480" cy="1952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-1080" y="2708280"/>
            <a:ext cx="45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a6312"/>
                </a:solidFill>
                <a:latin typeface="Times New Roman"/>
              </a:rPr>
              <a:t>Web</a:t>
            </a:r>
            <a:r>
              <a:rPr b="1" i="1" lang="ru-RU" sz="3200" spc="-1" strike="noStrike">
                <a:solidFill>
                  <a:srgbClr val="ea6312"/>
                </a:solidFill>
                <a:latin typeface="Times New Roman"/>
              </a:rPr>
              <a:t>-страни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документ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щий гиперссылк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2076480" cy="1952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076480" cy="1952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4"/>
          <a:stretch/>
        </p:blipFill>
        <p:spPr>
          <a:xfrm>
            <a:off x="6300720" y="4581360"/>
            <a:ext cx="2076480" cy="1952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5150520" y="2637000"/>
            <a:ext cx="37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a6312"/>
                </a:solidFill>
                <a:latin typeface="Times New Roman"/>
              </a:rPr>
              <a:t>Web</a:t>
            </a:r>
            <a:r>
              <a:rPr b="1" i="1" lang="ru-RU" sz="3200" spc="-1" strike="noStrike">
                <a:solidFill>
                  <a:srgbClr val="ea6312"/>
                </a:solidFill>
                <a:latin typeface="Times New Roman"/>
              </a:rPr>
              <a:t>-сайт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а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тически объединённы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траниц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4" name="Picture 11" descr="компьютер"/>
          <p:cNvPicPr/>
          <p:nvPr/>
        </p:nvPicPr>
        <p:blipFill>
          <a:blip r:embed="rId5"/>
          <a:stretch/>
        </p:blipFill>
        <p:spPr>
          <a:xfrm>
            <a:off x="5076720" y="1125360"/>
            <a:ext cx="1366920" cy="1152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компьютер"/>
          <p:cNvPicPr/>
          <p:nvPr/>
        </p:nvPicPr>
        <p:blipFill>
          <a:blip r:embed="rId6"/>
          <a:stretch/>
        </p:blipFill>
        <p:spPr>
          <a:xfrm>
            <a:off x="2124000" y="981000"/>
            <a:ext cx="1224000" cy="1366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компьютер"/>
          <p:cNvPicPr/>
          <p:nvPr/>
        </p:nvPicPr>
        <p:blipFill>
          <a:blip r:embed="rId7"/>
          <a:stretch/>
        </p:blipFill>
        <p:spPr>
          <a:xfrm>
            <a:off x="3635280" y="692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5"/>
          <p:cNvSpPr/>
          <p:nvPr/>
        </p:nvSpPr>
        <p:spPr>
          <a:xfrm>
            <a:off x="249840" y="2060640"/>
            <a:ext cx="86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Times New Roman"/>
              </a:rPr>
              <a:t>Web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</a:rPr>
              <a:t>-серверы</a:t>
            </a:r>
            <a:r>
              <a:rPr b="1" i="1" lang="ru-RU" sz="18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веры Интернета, хранящ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траниц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2341080" y="189000"/>
            <a:ext cx="43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6b729"/>
                </a:solidFill>
                <a:latin typeface="Arial"/>
              </a:rPr>
              <a:t>Всемирная паутин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6" descr="MCj0413138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0800" y="3789360"/>
            <a:ext cx="2665440" cy="2357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0293236"/>
          <p:cNvPicPr/>
          <p:nvPr/>
        </p:nvPicPr>
        <p:blipFill>
          <a:blip r:embed="rId3"/>
          <a:stretch/>
        </p:blipFill>
        <p:spPr>
          <a:xfrm>
            <a:off x="714240" y="3906720"/>
            <a:ext cx="2928960" cy="2286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1360" y="711360"/>
            <a:ext cx="6621480" cy="29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В качестве </a:t>
            </a:r>
            <a:r>
              <a:rPr b="0" lang="ru-RU" sz="3200" spc="-1" strike="noStrike" u="sng">
                <a:solidFill>
                  <a:srgbClr val="58c1ba"/>
                </a:solidFill>
                <a:uFillTx/>
                <a:latin typeface="Century Gothic"/>
                <a:hlinkClick r:id="rId4" action="ppaction://hlinksldjump"/>
              </a:rPr>
              <a:t>указателей ссылок </a:t>
            </a: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могут использоваться фрагменты текста или графические изображения.</a:t>
            </a:r>
            <a:br>
              <a:rPr sz="3600"/>
            </a:br>
            <a:r>
              <a:rPr b="0" lang="ru-RU" sz="2200" spc="-1" strike="noStrike">
                <a:solidFill>
                  <a:srgbClr val="ebebeb"/>
                </a:solidFill>
                <a:latin typeface="Century Gothic"/>
              </a:rPr>
              <a:t>Один из рисунков является указателем ссылки. Какой?</a:t>
            </a:r>
            <a:endParaRPr b="0" lang="en-US" sz="2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13880" y="3765240"/>
            <a:ext cx="47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3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072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 u="sng">
                <a:solidFill>
                  <a:srgbClr val="9dd0cb"/>
                </a:solidFill>
                <a:uFillTx/>
                <a:latin typeface="Century Gothic"/>
              </a:rPr>
              <a:t>Адрес </a:t>
            </a:r>
            <a:r>
              <a:rPr b="1" lang="en-US" sz="2700" spc="-1" strike="noStrike" u="sng">
                <a:solidFill>
                  <a:srgbClr val="9dd0cb"/>
                </a:solidFill>
                <a:uFillTx/>
                <a:latin typeface="Century Gothic"/>
              </a:rPr>
              <a:t>Web</a:t>
            </a:r>
            <a:r>
              <a:rPr b="1" lang="ru-RU" sz="2700" spc="-1" strike="noStrike" u="sng">
                <a:solidFill>
                  <a:srgbClr val="9dd0cb"/>
                </a:solidFill>
                <a:uFillTx/>
                <a:latin typeface="Century Gothic"/>
              </a:rPr>
              <a:t>-страницы</a:t>
            </a:r>
            <a:r>
              <a:rPr b="0" lang="ru-RU" sz="2700" spc="-1" strike="noStrike">
                <a:solidFill>
                  <a:srgbClr val="ebebeb"/>
                </a:solidFill>
                <a:latin typeface="Century Gothic"/>
              </a:rPr>
              <a:t> включает в себя </a:t>
            </a:r>
            <a:r>
              <a:rPr b="1" lang="ru-RU" sz="2700" spc="-1" strike="noStrike">
                <a:solidFill>
                  <a:srgbClr val="ebebeb"/>
                </a:solidFill>
                <a:latin typeface="Century Gothic"/>
              </a:rPr>
              <a:t>способ доступа</a:t>
            </a:r>
            <a:r>
              <a:rPr b="0" lang="ru-RU" sz="2700" spc="-1" strike="noStrike">
                <a:solidFill>
                  <a:srgbClr val="ebebeb"/>
                </a:solidFill>
                <a:latin typeface="Century Gothic"/>
              </a:rPr>
              <a:t> к документу и </a:t>
            </a:r>
            <a:r>
              <a:rPr b="1" lang="ru-RU" sz="2700" spc="-1" strike="noStrike">
                <a:solidFill>
                  <a:srgbClr val="ebebeb"/>
                </a:solidFill>
                <a:latin typeface="Century Gothic"/>
              </a:rPr>
              <a:t>имя сервера Интернета</a:t>
            </a:r>
            <a:r>
              <a:rPr b="0" lang="ru-RU" sz="2700" spc="-1" strike="noStrike">
                <a:solidFill>
                  <a:srgbClr val="ebebeb"/>
                </a:solidFill>
                <a:latin typeface="Century Gothic"/>
              </a:rPr>
              <a:t>, на котором находится документ.</a:t>
            </a:r>
            <a:endParaRPr b="0" lang="en-US" sz="27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242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http://www.computer-museum.ru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684360" y="3141720"/>
            <a:ext cx="792000" cy="0"/>
          </a:xfrm>
          <a:prstGeom prst="line">
            <a:avLst/>
          </a:prstGeom>
          <a:ln w="57240">
            <a:solidFill>
              <a:srgbClr val="9dd0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116000" y="3141720"/>
            <a:ext cx="216000" cy="1511280"/>
          </a:xfrm>
          <a:prstGeom prst="line">
            <a:avLst/>
          </a:prstGeom>
          <a:ln w="57240">
            <a:solidFill>
              <a:srgbClr val="9dd0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160" y="4653000"/>
            <a:ext cx="32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dd0cb"/>
                </a:solidFill>
                <a:latin typeface="Times New Roman"/>
              </a:rPr>
              <a:t>Протокол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dd0cb"/>
                </a:solidFill>
                <a:latin typeface="Times New Roman"/>
              </a:rPr>
              <a:t>передачи гипер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2124000" y="3141720"/>
            <a:ext cx="6048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5076720" y="3141720"/>
            <a:ext cx="647640" cy="1152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024880" y="457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мя сервера Интерне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Браузеры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– специальные программы для просмотра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Web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страниц.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8785080" cy="59500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250920" y="1125360"/>
            <a:ext cx="2808360" cy="2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77440" y="18900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Элементы окна браузера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nternet Explorer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Line 9"/>
          <p:cNvSpPr/>
          <p:nvPr/>
        </p:nvSpPr>
        <p:spPr>
          <a:xfrm flipV="1">
            <a:off x="1258920" y="691920"/>
            <a:ext cx="1512720" cy="43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702880" y="47628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ю окн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250920" y="1341360"/>
            <a:ext cx="2017440" cy="2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252720" y="24922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468360" y="1628640"/>
            <a:ext cx="7128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1116000" y="1628640"/>
            <a:ext cx="71280" cy="64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810000" y="22255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2124000" y="1557360"/>
            <a:ext cx="792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2753280" y="2009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м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1835280" y="1628640"/>
            <a:ext cx="72072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2394720" y="2585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новит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Line 25"/>
          <p:cNvSpPr/>
          <p:nvPr/>
        </p:nvSpPr>
        <p:spPr>
          <a:xfrm>
            <a:off x="1547640" y="1628640"/>
            <a:ext cx="3603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1458000" y="28749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новит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250920" y="1628640"/>
            <a:ext cx="7416720" cy="2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Line 28"/>
          <p:cNvSpPr/>
          <p:nvPr/>
        </p:nvSpPr>
        <p:spPr>
          <a:xfrm>
            <a:off x="3780000" y="1844640"/>
            <a:ext cx="3603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3834360" y="30909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ресная стро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50920" y="1844640"/>
            <a:ext cx="8497800" cy="4464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395280" y="3789360"/>
            <a:ext cx="831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абочая область, в которой просматриваются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страниц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125280"/>
            <a:ext cx="87120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Century Gothic"/>
              </a:rPr>
              <a:t>Домашнее задание:</a:t>
            </a:r>
            <a:endParaRPr b="0" lang="en-US" sz="6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88520" y="256500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entury Gothic"/>
              </a:rPr>
              <a:t>1. ВЫУЧИТЬ ОСНОВНЫЕ ПОНЯТИЯ И ОПРЕДЕЛЕНИЯ, ЗАПИСАННЫЕ СЕГОДНЯ НА УРОК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entury Gothic"/>
              </a:rPr>
              <a:t>2. ИНДИВИДУАЛЬНОЕ ЗАДАНИЕ: ПОДГОТОВИТЬ СООБЩЕНИЕ ОБ ИСТОРИИ ИНТЕРНЕТА В РОССИИ, ИСПОЛЬЗУЯ МАТЕРИАЛЫ САЙТА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HTTP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Century Gothic"/>
              </a:rPr>
              <a:t>://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WWW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Century Gothic"/>
              </a:rPr>
              <a:t>.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NETHISTORY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Century Gothic"/>
              </a:rPr>
              <a:t>.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1"/>
          <p:cNvSpPr/>
          <p:nvPr/>
        </p:nvSpPr>
        <p:spPr>
          <a:xfrm>
            <a:off x="6072120" y="4214880"/>
            <a:ext cx="2737080" cy="115092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928960" y="4214880"/>
            <a:ext cx="2808360" cy="115092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142920" y="4286160"/>
            <a:ext cx="2232000" cy="107964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928800" y="928800"/>
            <a:ext cx="67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верка домашнего задания и актуализация знаний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Что такое Интернет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ИНТЕРНЕТ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16720" y="4357800"/>
            <a:ext cx="212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кальны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003840" y="4357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гиональны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072120" y="43578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поративные се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500040" y="2428560"/>
            <a:ext cx="20890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4214880" y="24285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Line 14"/>
          <p:cNvSpPr/>
          <p:nvPr/>
        </p:nvSpPr>
        <p:spPr>
          <a:xfrm flipH="1" flipV="1">
            <a:off x="5928840" y="242892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16" descr="с движением"/>
          <p:cNvPicPr/>
          <p:nvPr/>
        </p:nvPicPr>
        <p:blipFill>
          <a:blip r:embed="rId1"/>
          <a:stretch/>
        </p:blipFill>
        <p:spPr>
          <a:xfrm>
            <a:off x="7812000" y="62064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ebeb"/>
                </a:solidFill>
                <a:latin typeface="Century Gothic"/>
              </a:rPr>
              <a:t>Проверка домашнего задания и актуализация знаний: </a:t>
            </a:r>
            <a:br>
              <a:rPr sz="8600"/>
            </a:b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Выберите из списка </a:t>
            </a:r>
            <a:r>
              <a:rPr b="0" lang="en-US" sz="3800" spc="-1" strike="noStrike">
                <a:solidFill>
                  <a:srgbClr val="ff0000"/>
                </a:solidFill>
                <a:latin typeface="Century Gothic"/>
              </a:rPr>
              <a:t>IP</a:t>
            </a:r>
            <a:r>
              <a:rPr b="0" lang="ru-RU" sz="3800" spc="-1" strike="noStrike">
                <a:solidFill>
                  <a:srgbClr val="ff0000"/>
                </a:solidFill>
                <a:latin typeface="Century Gothic"/>
              </a:rPr>
              <a:t>- адреса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11280" y="1916280"/>
            <a:ext cx="5400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84.42.63.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entury Gothic"/>
              </a:rPr>
              <a:t>www.yandex.r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entury Gothic"/>
              </a:rPr>
              <a:t>192.168.3.1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75.44.45.1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entury Gothic"/>
              </a:rPr>
              <a:t>www.mail.r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106200"/>
            <a:ext cx="8229600" cy="17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Тема урока:</a:t>
            </a:r>
            <a:br>
              <a:rPr sz="3600"/>
            </a:b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Информационные ресурсы Интернета. Всемирная паутина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61" name="Picture 8" descr="www"/>
          <p:cNvPicPr/>
          <p:nvPr/>
        </p:nvPicPr>
        <p:blipFill>
          <a:blip r:embed="rId1"/>
          <a:stretch/>
        </p:blipFill>
        <p:spPr>
          <a:xfrm>
            <a:off x="395280" y="3573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Интернет2"/>
          <p:cNvPicPr/>
          <p:nvPr/>
        </p:nvPicPr>
        <p:blipFill>
          <a:blip r:embed="rId2"/>
          <a:stretch/>
        </p:blipFill>
        <p:spPr>
          <a:xfrm>
            <a:off x="3214800" y="300024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Интернет"/>
          <p:cNvPicPr/>
          <p:nvPr/>
        </p:nvPicPr>
        <p:blipFill>
          <a:blip r:embed="rId3"/>
          <a:stretch/>
        </p:blipFill>
        <p:spPr>
          <a:xfrm>
            <a:off x="6659640" y="3933720"/>
            <a:ext cx="1933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Century Gothic"/>
              </a:rPr>
              <a:t>Цель урока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84200" y="1504800"/>
            <a:ext cx="7696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ознакомиться с гипертекстовой технологией Всемирной паутины, с работой сети Интернет. Изучить основные элементы окна браузера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ternet Explorer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.Научить загружать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страницу, переходить на другую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2050560" y="83664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семирная паутин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7" name="Picture 6" descr="с движением"/>
          <p:cNvPicPr/>
          <p:nvPr/>
        </p:nvPicPr>
        <p:blipFill>
          <a:blip r:embed="rId1"/>
          <a:stretch/>
        </p:blipFill>
        <p:spPr>
          <a:xfrm>
            <a:off x="7812000" y="620640"/>
            <a:ext cx="1081080" cy="100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2773800" y="19162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orld Wide We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Picture 8" descr="www"/>
          <p:cNvPicPr/>
          <p:nvPr/>
        </p:nvPicPr>
        <p:blipFill>
          <a:blip r:embed="rId2"/>
          <a:stretch/>
        </p:blipFill>
        <p:spPr>
          <a:xfrm>
            <a:off x="5148360" y="371628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9"/>
          <p:cNvSpPr/>
          <p:nvPr/>
        </p:nvSpPr>
        <p:spPr>
          <a:xfrm>
            <a:off x="397800" y="256536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WW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Picture 10" descr="Интернет"/>
          <p:cNvPicPr/>
          <p:nvPr/>
        </p:nvPicPr>
        <p:blipFill>
          <a:blip r:embed="rId3"/>
          <a:stretch/>
        </p:blipFill>
        <p:spPr>
          <a:xfrm>
            <a:off x="1332000" y="3716280"/>
            <a:ext cx="2592360" cy="2737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1"/>
          <p:cNvSpPr/>
          <p:nvPr/>
        </p:nvSpPr>
        <p:spPr>
          <a:xfrm>
            <a:off x="7309800" y="26370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92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925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92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92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328428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Century Gothic"/>
              </a:rPr>
              <a:t>World Wide Web</a:t>
            </a:r>
            <a:r>
              <a:rPr b="0" lang="ru-RU" sz="29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(сокращенно </a:t>
            </a:r>
            <a:r>
              <a:rPr b="1" lang="en-US" sz="2900" spc="-1" strike="noStrike">
                <a:solidFill>
                  <a:srgbClr val="ebebeb"/>
                </a:solidFill>
                <a:latin typeface="Century Gothic"/>
              </a:rPr>
              <a:t>WWW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 или </a:t>
            </a:r>
            <a:r>
              <a:rPr b="1" lang="en-US" sz="2900" spc="-1" strike="noStrike">
                <a:solidFill>
                  <a:srgbClr val="ebebeb"/>
                </a:solidFill>
                <a:latin typeface="Century Gothic"/>
              </a:rPr>
              <a:t>Web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),  </a:t>
            </a:r>
            <a:r>
              <a:rPr b="0" i="1" lang="ru-RU" sz="2900" spc="-1" strike="noStrike">
                <a:solidFill>
                  <a:srgbClr val="ebebeb"/>
                </a:solidFill>
                <a:latin typeface="Century Gothic"/>
              </a:rPr>
              <a:t>Всемирная паутина – 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самая популярная служба современного Интернета.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Представление информации в </a:t>
            </a:r>
            <a:r>
              <a:rPr b="0" lang="en-US" sz="2900" spc="-1" strike="noStrike">
                <a:solidFill>
                  <a:srgbClr val="ffffff"/>
                </a:solidFill>
                <a:latin typeface="Century Gothic"/>
              </a:rPr>
              <a:t>WWW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 основано на возможностях </a:t>
            </a:r>
            <a:r>
              <a:rPr b="1" lang="ru-RU" sz="2900" spc="-1" strike="noStrike" u="sng">
                <a:solidFill>
                  <a:srgbClr val="990000"/>
                </a:solidFill>
                <a:uFillTx/>
                <a:latin typeface="Century Gothic"/>
              </a:rPr>
              <a:t>гипертекстовых ссылок</a:t>
            </a:r>
            <a:r>
              <a:rPr b="1" lang="ru-RU" sz="2900" spc="-1" strike="noStrike">
                <a:solidFill>
                  <a:srgbClr val="1e5155"/>
                </a:solidFill>
                <a:latin typeface="Century Gothic"/>
              </a:rPr>
              <a:t>. </a:t>
            </a:r>
            <a:br>
              <a:rPr sz="2900"/>
            </a:b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00000" y="765000"/>
            <a:ext cx="56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orld Wide Web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Picture 6" descr="www"/>
          <p:cNvPicPr/>
          <p:nvPr/>
        </p:nvPicPr>
        <p:blipFill>
          <a:blip r:embed="rId1"/>
          <a:stretch/>
        </p:blipFill>
        <p:spPr>
          <a:xfrm>
            <a:off x="6877080" y="549360"/>
            <a:ext cx="1584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9680" y="1928880"/>
            <a:ext cx="785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990000"/>
                </a:solidFill>
                <a:uFillTx/>
                <a:latin typeface="Century Gothic"/>
              </a:rPr>
              <a:t>Гипертекст</a:t>
            </a:r>
            <a:r>
              <a:rPr b="0" lang="ru-RU" sz="2500" spc="-1" strike="noStrike">
                <a:solidFill>
                  <a:srgbClr val="ebebeb"/>
                </a:solidFill>
                <a:latin typeface="Century Gothic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Century Gothic"/>
              </a:rPr>
              <a:t>это текст, в котором содержатся ссылки на другие документы. Это позволяет легко и быстро переходить с одного документа на другой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entury Gothic"/>
              </a:rPr>
              <a:t>     Связанные ссылками документы могут быть разбросаны по всему земному шару.</a:t>
            </a:r>
            <a:br>
              <a:rPr sz="2500"/>
            </a:br>
            <a:endParaRPr b="0" lang="en-US" sz="25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49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Всемирная паутина</a:t>
            </a:r>
            <a:r>
              <a:rPr b="0" lang="ru-RU" sz="36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– это миллионы </a:t>
            </a:r>
            <a:r>
              <a:rPr b="0" lang="en-US" sz="3600" spc="-1" strike="noStrike">
                <a:solidFill>
                  <a:srgbClr val="ebebeb"/>
                </a:solidFill>
                <a:latin typeface="Century Gothic"/>
              </a:rPr>
              <a:t>Web</a:t>
            </a: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-серверов Интернета, содержащих миллиарды </a:t>
            </a:r>
            <a:r>
              <a:rPr b="0" lang="en-US" sz="3600" spc="-1" strike="noStrike">
                <a:solidFill>
                  <a:srgbClr val="ebebeb"/>
                </a:solidFill>
                <a:latin typeface="Century Gothic"/>
              </a:rPr>
              <a:t>Web-</a:t>
            </a: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траниц, в которых используется технология гипертекста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3:30:05Z</dcterms:created>
  <dc:creator>Пользователь</dc:creator>
  <dc:description/>
  <dc:language>en-US</dc:language>
  <cp:lastModifiedBy>Admin</cp:lastModifiedBy>
  <dcterms:modified xsi:type="dcterms:W3CDTF">2018-04-10T18:06:26Z</dcterms:modified>
  <cp:revision>79</cp:revision>
  <dc:subject/>
  <dc:title>Определите способ объединения компьютеров в сеть</dc:title>
</cp:coreProperties>
</file>