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B55-5664-494B-A36F-CE1C6EF8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B9A-F503-46C2-9FE2-82E35D04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D0C-D262-4262-B31E-852B72E2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CD7-D6D2-46A3-AD21-35F34552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AA0-60CB-4F09-B781-BDF2DA4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054-3914-430A-958F-968157C4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CEB-83B6-45DE-9716-A0AD8E95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2FC-A060-46D1-9E59-E9C37AF2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413-4C1C-4BA7-80F3-0683B74E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34D-32FF-4787-8E6F-A440671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E83-2280-4FDC-ACAC-6C2083C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F13-F1C3-46D3-97C0-41B1AF68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FD9C-2AAC-4A81-BDBC-A87FB2952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285920" y="360360"/>
            <a:ext cx="67914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79280" y="15699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Calibri"/>
              </a:rPr>
              <a:t>Я узнал/а  </a:t>
            </a:r>
            <a:r>
              <a:rPr b="1" i="1" lang="ru-RU" sz="2000" spc="-1" strike="noStrike">
                <a:solidFill>
                  <a:srgbClr val="6600cc"/>
                </a:solidFill>
                <a:latin typeface="Calibri"/>
              </a:rPr>
              <a:t>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Calibri"/>
              </a:rPr>
              <a:t>Ещё я хотел/а бы узнать</a:t>
            </a:r>
            <a:r>
              <a:rPr b="0" lang="ru-RU" sz="18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6600cc"/>
                </a:solidFill>
                <a:latin typeface="Calibri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250920" y="642960"/>
            <a:ext cx="8785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дьте  здоровы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76" name="Picture 2" descr="H:\Documents and Settings\Пользователь\Рабочий стол\Анимашки 2\doc08.gif"/>
          <p:cNvPicPr/>
          <p:nvPr/>
        </p:nvPicPr>
        <p:blipFill>
          <a:blip r:embed="rId2"/>
          <a:stretch/>
        </p:blipFill>
        <p:spPr>
          <a:xfrm>
            <a:off x="1143000" y="3643200"/>
            <a:ext cx="16668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H:\Documents and Settings\Пользователь\Рабочий стол\Анимашки 2\sport015.gif"/>
          <p:cNvPicPr/>
          <p:nvPr/>
        </p:nvPicPr>
        <p:blipFill>
          <a:blip r:embed="rId3"/>
          <a:stretch/>
        </p:blipFill>
        <p:spPr>
          <a:xfrm>
            <a:off x="4214880" y="4143240"/>
            <a:ext cx="1133280" cy="242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:\Documents and Settings\Пользователь\Рабочий стол\Анимашки 2\sport014.gif"/>
          <p:cNvPicPr/>
          <p:nvPr/>
        </p:nvPicPr>
        <p:blipFill>
          <a:blip r:embed="rId4"/>
          <a:stretch/>
        </p:blipFill>
        <p:spPr>
          <a:xfrm>
            <a:off x="7786800" y="4286160"/>
            <a:ext cx="1257120" cy="221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:\Documents and Settings\Пользователь\Рабочий стол\Анимашки1\6.gif"/>
          <p:cNvPicPr/>
          <p:nvPr/>
        </p:nvPicPr>
        <p:blipFill>
          <a:blip r:embed="rId5"/>
          <a:stretch/>
        </p:blipFill>
        <p:spPr>
          <a:xfrm>
            <a:off x="5786280" y="3557520"/>
            <a:ext cx="1643400" cy="294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:\Documents and Settings\Пользователь\Рабочий стол\Анимашки1\photo1560.gif"/>
          <p:cNvPicPr/>
          <p:nvPr/>
        </p:nvPicPr>
        <p:blipFill>
          <a:blip r:embed="rId6"/>
          <a:stretch/>
        </p:blipFill>
        <p:spPr>
          <a:xfrm>
            <a:off x="3214800" y="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900000" y="333360"/>
            <a:ext cx="7344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ё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ь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Line 13"/>
          <p:cNvSpPr/>
          <p:nvPr/>
        </p:nvSpPr>
        <p:spPr>
          <a:xfrm>
            <a:off x="5435640" y="3500280"/>
            <a:ext cx="1297080" cy="1513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 flipH="1">
            <a:off x="2556000" y="3573360"/>
            <a:ext cx="1079280" cy="1511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C:\Documents and Settings\галина\Рабочий стол\Анимашки 2\doc08.gif"/>
          <p:cNvPicPr/>
          <p:nvPr/>
        </p:nvPicPr>
        <p:blipFill>
          <a:blip r:embed="rId2"/>
          <a:stretch/>
        </p:blipFill>
        <p:spPr>
          <a:xfrm>
            <a:off x="571680" y="214200"/>
            <a:ext cx="1000080" cy="191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C:\Documents and Settings\галина\Рабочий стол\Анимашки 2\sport044.gif"/>
          <p:cNvPicPr/>
          <p:nvPr/>
        </p:nvPicPr>
        <p:blipFill>
          <a:blip r:embed="rId3"/>
          <a:stretch/>
        </p:blipFill>
        <p:spPr>
          <a:xfrm>
            <a:off x="7581960" y="298440"/>
            <a:ext cx="1062000" cy="1449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371520" y="4857840"/>
            <a:ext cx="41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0093"/>
                </a:solidFill>
                <a:latin typeface="Calibri"/>
              </a:rPr>
              <a:t>физическ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5361480" y="4842000"/>
            <a:ext cx="33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0093"/>
                </a:solidFill>
                <a:latin typeface="Calibri"/>
              </a:rPr>
              <a:t>духов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доровье - это когда ты чувствуешь себя                       , а не только когда ты не боле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1628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доровье зависит от многого, а также от принимаемых тобой решений и твоих                        .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50920" y="3357720"/>
            <a:ext cx="871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 тобы  расти и учиться, тебе надо заботиться о своём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2400" spc="-1" strike="noStrike">
                <a:solidFill>
                  <a:srgbClr val="33cc33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79280" y="5214960"/>
            <a:ext cx="86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лезные привычки и увлечения укрепляют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858348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6152400" y="395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екра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2719080" y="23572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ступ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7560360" y="3643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6363360" y="52149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сканирование0001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66320" y="714240"/>
            <a:ext cx="90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урить да пить – здоровью вред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195920" y="2301840"/>
            <a:ext cx="670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ино ремеслу не товарищ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891720" y="4002120"/>
            <a:ext cx="743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Здоровье даром не даё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За него бороться придё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Rectangle 2"/>
          <p:cNvGrpSpPr/>
          <p:nvPr/>
        </p:nvGrpSpPr>
        <p:grpSpPr>
          <a:xfrm>
            <a:off x="669960" y="914400"/>
            <a:ext cx="7804080" cy="2700360"/>
            <a:chOff x="669960" y="914400"/>
            <a:chExt cx="7804080" cy="2700360"/>
          </a:xfrm>
        </p:grpSpPr>
        <p:pic>
          <p:nvPicPr>
            <p:cNvPr id="63" name="Rectangle 2" descr=""/>
            <p:cNvPicPr/>
            <p:nvPr/>
          </p:nvPicPr>
          <p:blipFill>
            <a:blip r:embed="rId2"/>
            <a:stretch/>
          </p:blipFill>
          <p:spPr>
            <a:xfrm>
              <a:off x="669960" y="914400"/>
              <a:ext cx="780408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85800" y="928800"/>
              <a:ext cx="7772400" cy="26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7030a0"/>
                  </a:solidFill>
                  <a:latin typeface="Calibri"/>
                </a:rPr>
                <a:t>Влияние курения на организм человек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4" descr="96101"/>
          <p:cNvPicPr/>
          <p:nvPr/>
        </p:nvPicPr>
        <p:blipFill>
          <a:blip r:embed="rId3"/>
          <a:stretch/>
        </p:blipFill>
        <p:spPr>
          <a:xfrm>
            <a:off x="3429000" y="3929040"/>
            <a:ext cx="2143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На какие органы влияет табачный д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 Е Р Д Ц 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затрудняет доставку кислорода, учащает сердцеби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М О З Г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отравление, потеря памяти, рассея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Ж Е Л У Д О К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яз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Л Ё Г К И 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р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 Е Р В Н А Я  С И С Т Е М А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теря работоспособности, раздражитель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712b47c8d96ft"/>
          <p:cNvPicPr/>
          <p:nvPr/>
        </p:nvPicPr>
        <p:blipFill>
          <a:blip r:embed="rId2"/>
          <a:stretch/>
        </p:blipFill>
        <p:spPr>
          <a:xfrm>
            <a:off x="7215120" y="3500280"/>
            <a:ext cx="166392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71280"/>
            <a:ext cx="8218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Последствия куре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184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дежда и волосы курильщика плохо пахнут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Желтеет эмаль зубов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еняется цвет лица (серо – зелёный или жёлтый)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олосы теряют блеск, выпадают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огти на руках приобретают жёлтый оттенок, слоятся и ломаются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:\Documents and Settings\Пользователь\Мои документы\Заставки\VOL10\VOL48\VOL90\KOTIKI\post-13-1045487316.jpg"/>
          <p:cNvPicPr/>
          <p:nvPr/>
        </p:nvPicPr>
        <p:blipFill>
          <a:blip r:embed="rId2"/>
          <a:stretch/>
        </p:blipFill>
        <p:spPr>
          <a:xfrm>
            <a:off x="285840" y="3728880"/>
            <a:ext cx="4076640" cy="298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:\Documents and Settings\Пользователь\Мои документы\Заставки\VOL10\VOL48\VOL90\KOTIKI\15.JPG"/>
          <p:cNvPicPr/>
          <p:nvPr/>
        </p:nvPicPr>
        <p:blipFill>
          <a:blip r:embed="rId3"/>
          <a:stretch/>
        </p:blipFill>
        <p:spPr>
          <a:xfrm>
            <a:off x="4786200" y="3714840"/>
            <a:ext cx="4071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59425s011.edusite.ru/images/ku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2:49:33Z</dcterms:created>
  <dc:creator>Пользователь</dc:creator>
  <dc:description/>
  <dc:language>en-US</dc:language>
  <cp:lastModifiedBy>МАША</cp:lastModifiedBy>
  <dcterms:modified xsi:type="dcterms:W3CDTF">2015-10-03T20:35:03Z</dcterms:modified>
  <cp:revision>12</cp:revision>
  <dc:subject/>
  <dc:title>Слайд 1</dc:title>
</cp:coreProperties>
</file>