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6.wmf" ContentType="image/x-wmf"/>
  <Override PartName="/ppt/media/image7.wmf" ContentType="image/x-wmf"/>
  <Override PartName="/ppt/media/image8.png" ContentType="image/png"/>
  <Override PartName="/ppt/media/image11.jpeg" ContentType="image/jpeg"/>
  <Override PartName="/ppt/media/image9.png" ContentType="image/png"/>
  <Override PartName="/ppt/media/image10.wmf" ContentType="image/x-wmf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</p:sldMasterIdLst>
  <p:sldIdLst>
    <p:sldId id="256" r:id="rId52"/>
    <p:sldId id="257" r:id="rId53"/>
    <p:sldId id="258" r:id="rId54"/>
    <p:sldId id="259" r:id="rId55"/>
    <p:sldId id="260" r:id="rId56"/>
    <p:sldId id="261" r:id="rId57"/>
    <p:sldId id="262" r:id="rId58"/>
    <p:sldId id="263" r:id="rId59"/>
    <p:sldId id="264" r:id="rId60"/>
    <p:sldId id="265" r:id="rId61"/>
    <p:sldId id="266" r:id="rId62"/>
    <p:sldId id="267" r:id="rId63"/>
    <p:sldId id="268" r:id="rId64"/>
    <p:sldId id="269" r:id="rId65"/>
    <p:sldId id="270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" Target="slides/slide1.xml"/><Relationship Id="rId53" Type="http://schemas.openxmlformats.org/officeDocument/2006/relationships/slide" Target="slides/slide2.xml"/><Relationship Id="rId54" Type="http://schemas.openxmlformats.org/officeDocument/2006/relationships/slide" Target="slides/slide3.xml"/><Relationship Id="rId55" Type="http://schemas.openxmlformats.org/officeDocument/2006/relationships/slide" Target="slides/slide4.xml"/><Relationship Id="rId56" Type="http://schemas.openxmlformats.org/officeDocument/2006/relationships/slide" Target="slides/slide5.xml"/><Relationship Id="rId57" Type="http://schemas.openxmlformats.org/officeDocument/2006/relationships/slide" Target="slides/slide6.xml"/><Relationship Id="rId58" Type="http://schemas.openxmlformats.org/officeDocument/2006/relationships/slide" Target="slides/slide7.xml"/><Relationship Id="rId59" Type="http://schemas.openxmlformats.org/officeDocument/2006/relationships/slide" Target="slides/slide8.xml"/><Relationship Id="rId60" Type="http://schemas.openxmlformats.org/officeDocument/2006/relationships/slide" Target="slides/slide9.xml"/><Relationship Id="rId61" Type="http://schemas.openxmlformats.org/officeDocument/2006/relationships/slide" Target="slides/slide10.xml"/><Relationship Id="rId62" Type="http://schemas.openxmlformats.org/officeDocument/2006/relationships/slide" Target="slides/slide11.xml"/><Relationship Id="rId63" Type="http://schemas.openxmlformats.org/officeDocument/2006/relationships/slide" Target="slides/slide12.xml"/><Relationship Id="rId64" Type="http://schemas.openxmlformats.org/officeDocument/2006/relationships/slide" Target="slides/slide13.xml"/><Relationship Id="rId65" Type="http://schemas.openxmlformats.org/officeDocument/2006/relationships/slide" Target="slides/slide14.xml"/><Relationship Id="rId66" Type="http://schemas.openxmlformats.org/officeDocument/2006/relationships/slide" Target="slides/slide15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C494-D56B-4D0D-8F99-30A2A976B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2BA4-72EB-4A49-ACB8-65C47E97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A9D69E-0867-4EDF-8318-FDFA425D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B575B0-4B37-473D-9F93-4EC3AD4A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3EA33-A5D5-4735-B047-B39389BD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AE21A-23CA-4E77-917A-4ABC69ED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8F6BF0-D2E2-4D5C-AC4C-DBA3C724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67C9D-A44B-4E40-B1B9-4F2215F3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777812-EBA8-4A3A-8CC1-558A43C3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24A049-CE29-4470-B1B5-88526F7FF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7F5EDE-E0BB-46BE-8E3D-8B9851877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80CE96-C6A6-455F-8A11-7ED3E1A47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3323-9BDD-4FE8-ACA0-A00DD07CC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AAD0D0-41D2-4887-9196-A7185A05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ECE5DB-2F9A-4AEF-982C-DC35F278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032CC2-FC40-4112-BDC8-EA04A687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8B5EE6-0BEA-4BC8-947A-5405D875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05CFA0-CE1F-4395-8BDD-CCA111CB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A2BB70-85E4-4F77-8672-43F2419E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486198-F92F-45FD-A138-E7FEBDD0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AD86B3-4F8D-46B6-97DD-EF28D197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3601C3-FF1D-4EFF-B1E8-54C932CC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ADF7A4-160C-4CF3-89B2-C1D1F7835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2453-E7A8-4836-9E21-090410221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EE0BA8-3175-46AB-B49D-51A37D56E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E0F18F-7DB4-4014-A4C8-FB7E9CEFE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C1F11-87C9-4A5A-8EFF-30F6DBED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C75955-258B-4EBB-983B-B7A06E6E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1B82E2-71C3-43C3-A7BE-188E9E82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E543CC-B6ED-4941-9BE8-5FCB3BC2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7D32B0-DCEE-404E-AE81-2847C90C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8E2E8-DF5A-47BB-8035-E00D387C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3E5619-1053-49AD-900C-91AC39D3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56BE8B-EB9C-468F-A806-CED1EE53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B1FA8-B005-45F6-84D2-25991B254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701DC3-4C34-4182-B50D-7B5346EC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A4DAC-030A-4390-94F5-38D393933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EC0F7E-0CCC-405A-A764-D8C735D28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01B8C0-0E17-46ED-8B2F-7334F0637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0923D0-BD3F-42DA-A10F-113DFC8E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560D8A-31B1-4355-9068-75436BA6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293B15-2E42-4C6D-A6C6-9CC98878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18A628-DB15-4F66-8405-376E0F64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AAA315-CA3B-4E1C-8F3B-F27DC4CD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091D1E-19F6-46E0-95E4-72A9DD76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BC79D-DA6E-4459-B3F7-0BEF40A8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B2BE98-11CA-4B90-8F5A-D491A907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A9C60C-91DA-4488-902D-5426668C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6B69A9-C7A7-49EE-96E0-6895FF6E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4B7439-3AE5-4BDD-8BFD-5DAF5E63F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ED7798-90A6-4DC2-AE9D-DB7615A84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558905-7603-437D-8B1C-8216C5B33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C0A20A-2E0C-4F87-9716-A98697A2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049A6E-1BA6-4FD4-A727-D7578FEB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D9ECCD-62C7-4786-A12E-FBFD8315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E62C9E-2111-4481-9349-11A06F27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EF2EB-CAFF-4A33-A859-C60C54AD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D9F7FB-F92C-4885-9522-852D71E7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7E7FDA-C50A-478E-A7DA-00F212DC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9D0274-E93F-4D20-8A2F-340CF9D5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A6330D-649F-4F4A-AACC-B97D2BA5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4B2D24-7D7D-4E79-A91F-450F2CAF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14C077-BC84-4111-9B4F-D0A974ACF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EE7642-0530-496C-8CCA-205C5310C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DA2D06-AF5C-4BCD-806F-941CB3853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2AA887-6376-4673-95D7-B1026CFB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061227-2454-4CF0-8A7F-564AC08F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0E2D-5A15-465E-8C20-8449CB73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2F2BA3-8624-4490-A9D0-7C20B24D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B46DAD-9E95-4DFC-89BA-3815CDA0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6CA0DD-AC3D-42A0-8291-AEE302EF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99506C-BF3C-40AD-B9DE-C39B0579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39E4B4-3FB2-4AAB-8D07-FD23860D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E9EE63-BBFA-4A4C-80A3-7E6E4EB0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4EFE83-8998-4A90-B354-EB477F9F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DB671B-B79C-422D-A64A-F9E7815EE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8C74FE-2452-4B7B-B114-8DCD178D5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7AF6D7-5781-4C84-98E9-49D2995A4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E8C9-F7F5-41A2-BFC1-3C3D2ADB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B57BB2-DA9F-49DE-AB71-657C0863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182C85-E6E6-4177-8B22-AC562764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5E0B72-494E-4CAF-BEFC-8330F701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DCE7CA-A906-49B9-ABF1-72ED8DD5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B4B015-4890-47D6-B92A-FC19AD76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07F243-F0B4-4924-BB22-A483AB59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E83E2C-FC33-4AFE-8756-E1BADD7B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52C16D-4202-4FAB-B190-7E9DAB85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A06777-6393-451E-AB4A-92EB2DF1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1812B0-A37A-439E-81C1-B26539FF1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899E-26CD-47BE-BA64-7AFBF7DC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30F710-8E06-45D4-9813-C5F06764B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0FABCA-7921-40C8-90D7-0BD290D18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5A7211-3ED6-40AF-84E9-A273480C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E44294-7322-4317-8030-25665399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1FD034-2DC0-434F-B032-7031DF9F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6AE76A-C51D-46F7-AE01-79BDB41B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9438E7-AF29-4655-83AB-E55C680E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04A432-7C16-4245-9768-FC8E36D8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CBCC04-CA1D-4D86-999F-857880A2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19572B-9A11-4195-91DC-EB037A42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D0F2-6A06-4297-AC4A-80C49916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DF4790-E613-44B5-9DC3-C34111B5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193080-4732-42EF-A932-63EECCEB8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1DFADD-8844-41A8-90DC-7C0CFFF21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11E491-2B10-42CA-B768-3A58E52F6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4D8B51-A80C-4827-9B81-45C211AF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768C2E-65EA-4FC9-87B4-BB6E5C45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753F18-DF48-42CD-A158-6E306B2D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7699A5-CF67-4AD4-8384-1779BFF1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2065D4-B80B-408D-8F4B-3DA88E20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C4CA9E-8694-42B3-876A-76134B2A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0C5D-607C-466E-9AED-9E89F98B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9FCA-5663-4600-B5D8-DC69D372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BE3FE3-8EC6-49C2-9279-17B0EE61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C74D8C-7701-437F-A32C-6A49365D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7A7BD2-40A8-469B-AC78-DE526954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4EFB44-203F-4499-A446-CCCF4B7BD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DFCEEF-4253-4422-945E-158CE783A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DDB54E-E84E-4E53-ABB0-AD729ED43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EF516D-C2B9-460B-A73B-312A392D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99E389-8C63-4FE4-94F8-D9C1418E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B5F69D-AE48-4CA5-972D-A2963252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7A101F-23A1-43E5-B327-B3EBB1F9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0F63-BF3F-4257-8F5D-E073AF42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4F1C97-F4C3-412B-A027-483CEEB7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12AE08-237C-4431-97DC-6CAA0DA6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CD5C41-5010-4FC6-8A89-605C3E1F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384F9A-1F84-426D-A58D-86DAFA20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EBC67D-66FF-4432-9935-6AC7BBCE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FC93F3-F892-4E99-BC3D-971C0DA04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611F80-A2ED-456A-B144-5964D525B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05864B-F00C-4113-8FC3-EB0EE3FE0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E5766A-1FEF-4D35-93D3-F0F1180A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B5BEA5-34E3-4B5A-A6E9-6AB750ED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A430-B33C-4BDC-926F-B636FA09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B97352-A763-46BC-96AE-145BDDF1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EC8F0C-FB83-4196-B660-7F389787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3AC6A8-54A5-4BF9-BD19-B76E687F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14931A-0CC0-4E32-9F31-4FB37603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AF1896-6617-4A1E-AB09-186ADFDC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DC2F56-B572-4C5A-AE11-2650AE74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BC42B4-50BA-40DC-8BA7-2C8DB3DF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F4242B-BAD3-4852-95F7-C53D9BCEC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6ABE34-AC06-4111-BC77-58CB211F6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0D36D6-ECA1-460C-979B-67C3D15B6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6BE5-20B1-4B1D-8924-A6D930E14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677FB2-F153-4F8F-BC15-6C26002A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08C185-87CE-4CDC-BA27-F27326F6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9B866D-1BBD-4CEF-B59F-D898D22D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47836C-1F7B-40C1-9CCA-2C36A3A0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46B3D4-5DD5-4275-A0A9-6EDF924D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D0C273-1845-4810-8F13-39C831A7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AF3D81-A9AC-4C61-94B0-411C01E6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2E4410-B96D-4E7C-9496-52456F45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159EFA-D839-4083-ABB2-FF533F30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32D85C-56FC-4D10-827C-1B1462450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6199-778A-41E2-AC2C-990CCBAFA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D56349-834D-4E92-840E-B233BDF32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3E2D97-4142-4742-B699-96F224DC4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93E6D8-52EE-4123-8B47-41D4EF63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01C5E1-8C4C-4A73-AC47-5742F6FF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AF825C-9227-4D85-B2BA-7E2E53BF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D18785-DFB6-4F0E-A7AA-FBF93088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C8B36B-3603-4FF8-8D7A-101B2833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F93613-0EB1-4A54-89DF-52257163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6D4274-3F83-4381-820D-470C5978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099AED-C6E4-449D-A234-878B3B94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A3416-55CB-4E88-82DE-6A8FF4564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94B9A4-1CA7-4645-AEB5-C3038175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88C22A-9D43-4475-A9E8-1F3B02F79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97FDD4-02A8-4BD8-BE5C-E25426D57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E07E58-C46D-4C50-826C-1B778142C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6528C9-9A7E-4EB5-B788-F57899E7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9C4592-78EE-40B6-BF13-B4BACE8E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077309-55AD-4FD1-A844-A190939E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1AC0E3-A195-4188-9263-BCD83BF6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E3B746-CA03-4E25-92BC-83271365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30E940-B622-4ECA-B738-BF0B9E26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660B5-DE9D-4A33-8C3F-0738A980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9A2F37-987F-436A-95DF-7538350C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B2D281-CE8C-470F-91C7-FA38ACD7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77CB85-A969-4B39-8677-DFFF4155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1C9D55-12F5-4084-8E97-5C357A841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992B59-0D0C-46B1-B32C-EFAE68AB4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F65BB1-0219-479F-B593-91221A726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B8E50B-D4EB-46C6-8E92-08D8EA35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1DD5B7-076E-4AF3-96BE-74C0476B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6E926C-21F0-4F3E-9E95-A85E1805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D720A1-74C6-412F-A858-EBF427B3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7C323-D2F1-4AEC-B3C3-292E5C69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037790-6EB0-4401-B114-C78F3BF4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21A3CD-F063-406A-A794-26133F38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D41F21-042F-4471-9BF2-2EF52D2D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7B1AC3-5E70-4BCD-8F75-8F7C41BD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73F16F-E56B-4DFE-AC4D-F1B4834A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96A6DD-3DA5-4794-A1CB-BDC2B53E2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2D6DD7-3ACE-4387-9EAB-0C7A62EDC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B746D99-0C6C-4FCA-ACBC-2B34BB184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3BBE98D-C7CB-4C64-9CD6-209AEA10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881EE8-DADF-406D-9382-592A171B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CCEDE-31F5-41C4-B5FE-16D984D6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BE7D4C5-48B5-4F91-B1A3-F3948CBF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BE1CAD-20C8-4961-8509-9B5DEB14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AA32CB-D8DB-455A-9A97-869798EA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FB88108-92BD-4C33-91FC-17E21EA9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DC1270-C4D6-4D49-81D3-2147B7C2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A62432D-1AB7-4661-BCD3-5E257105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6744B1-DF98-4A1D-AD4F-CAD582F8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173504-0E91-4439-A6D9-880E9228F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5AA427-BC64-49F6-9855-E23DB6E38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C4AB80D-EA8E-41BF-93B1-C2D2219C9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E1C56-6EB8-4C78-B490-2667CC48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8ED4DEF-43DF-4C9F-BF80-2A5EA4ED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570E548-5D39-43B8-AD87-8AE3BC15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DE30CC7-F957-4872-93EF-CBEBBC3E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11AABE7-BF52-49AE-AFC6-C26A84E2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1A4F113-9B6C-4DA1-91DB-063C2901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BF623C3-F5CE-494C-8FBF-65F39DE5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F8C2544-AD30-4585-9D3E-C3653070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550F922-4157-4C70-92B6-43EF63B0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018EC84-BB85-45B5-BED7-8D562AEC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F5F5E37-D170-4398-8584-C31CC4584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7EAD-36F9-48F4-9E88-616F6264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3094F-4A36-4AE5-B412-3D39D628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D70AF4-4F22-4659-99C2-10F9CA75E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03526AA-8CB5-4057-B7C4-3EC225766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F62BC9D-3BBF-41F6-B62D-80E6C1E5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B439096-CCE1-4093-A261-5BFC59F1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8284786-ECCD-4FA2-A8C9-AAD3D37A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021BDE2-AC28-4F14-8F5F-0002C79BC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0185405-F035-4746-BCF4-33FF49B8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332887F-78C1-40E8-924D-150E5AFE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F07D1E7-4B77-4DE8-918F-5C1A4C48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7D0329E-262F-4B4D-857E-1B61A4E4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1BC90-084B-4B56-9806-BE058A2D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E373FC3-4C8E-406B-AE83-92CA49F4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7BB2281-7C60-4CCB-880E-342DADC7E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677E2FA-F177-42B1-A5E8-2E94599BA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EC1D5C4-F414-4E58-9873-AFB8CAF53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0F3B910-BC32-4CA2-998B-B53B235A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BCAF1A0-FC0D-4239-B8AA-112FC129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E7D0A5F-EAA0-46D0-8F08-58FC11D4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2575756-F9B6-4A6C-8C5C-AF567177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5B9617A-47C3-46FD-808F-4EA11D5B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66D89DC-950C-4FE3-B2B7-540ED724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81F8D-6AE0-4CA0-917F-F8342343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C65B66A-2222-40B6-B920-93CD2880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2C7413A-FC1E-408F-9B45-61049482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09CF36D-6D5D-4B4D-A59A-E5FE42AB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35E5CE6-7AB6-4514-A842-B4A9D4B16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B8F8980-2BF4-43AD-980E-D90DD695C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5045576-75F4-426D-98F7-BC05FC25B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D43EC11-DB1A-4119-9C54-1E0F0376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F9E431A-BC7A-46F4-9312-E27F9C13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22EB803-561B-4E53-803B-9FF3DEA6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FECD081-B606-462D-90D9-B86D2DC1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2C6EC-624D-46AC-AD1F-142AD04A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9173D36-E60F-435D-A73B-D8A31A1E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0E130D1-AD64-4F05-9B3C-0AAEA086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2DF584C-D8C3-4CA3-87EC-E54EAE4A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477CB02-DB5D-43E3-BC91-ECAF0294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088D77F-55AB-4052-AA17-4C9592F2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835CEC6-34CC-4458-9E6F-F102528CA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12916DB-5BD1-4881-9C31-BFABE6380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BC50BF9-07CB-4AD5-ABFA-5C22632CC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049F34B-9CB6-4476-B732-4E3A0074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AD12BF0-ABEE-48FE-8529-F79CD122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AE784-AA19-40A5-880C-1FF21BC2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CC1334C-0137-41FF-81C2-B1A54DBD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A17CCEC-C226-460D-B73D-B79FCC8B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624C75F-DE52-4425-BF21-C9096DD7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257FA03-39B2-4934-BB5F-4A2EE9B5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B565372-959C-41EC-B5EB-AEF5A805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0492380-6629-44F7-A8E9-D380F945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B7F3923-301D-4D85-AF73-442FC2F2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D02F58D-EA85-47F1-B1AF-44F183B8A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81D14FE-687A-41A3-83F4-5D51FD72F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80AD5EF-39C2-4B9F-91BB-598FAF396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EE388-8CDE-4C47-91B5-472975D9B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DBC014C-363C-4F0A-B755-5B419217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6EB4FFB-42BC-4F61-BA9F-BDD7BB75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A652867-6A36-4CC0-9FC1-E3A246B0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EADAC4E-C2F8-45D9-9C62-C05ECD3A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652B93D-EB96-4367-B495-140C01E2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59026C9-A30A-46E8-BC2A-B24F8F57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252591A-B0E8-4151-AB2B-927C9FCA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C321E3A-C362-4DC1-A1F0-95C14AD7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095B796-57C8-4070-A854-3F8723BD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FC81B57-AF68-4FD6-9DEA-8DF14E1BE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BFE08-F63F-4F31-A074-17B0AE59E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F2C58C7-1A0A-46BA-ADCD-310DC4BD9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F57DB7A-78C5-4D86-B9B3-06B1925FD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1C5CA33-C0CF-42D1-80B1-1C22469F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3CBC726-C812-43B2-B43B-9FB39636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F788FAD-0441-47C6-944E-4794DD1D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3E85897-6EE8-4865-9696-7A97170B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0D12BDE-0808-43DE-AA1F-105DD6F6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A82AF7C-E622-4433-9184-810A3A83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7A9FB57-4FF6-4148-8103-697C8FA8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BB9BEA8-2E1A-420D-A8E4-C1E7F7B6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F3682-3E0B-403D-ABB3-933B192FC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720F970-55E9-4197-9487-3EE4583C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40CF22D-F1A6-4EE8-9E37-FDB0716F0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7D74879-657C-47C3-BD8E-22D9DBADD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40FE2E9-52DA-4EC4-A8CC-9B61C6803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F6A5FB8-A169-4D2E-876E-D5E0C7D2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859A436-F2B4-4D46-BCEA-A4BBD553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E3E4D06-CF98-4833-9914-789E0376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F71EABE-169F-484E-B91A-8292E63E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28CFC6A-F5F6-4741-AC1D-777B3259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764EF89-7A3B-4085-9620-356CAD93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5C696-8771-4AE7-A685-432D9F6E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DA8FFCD-A8E9-41A1-8C09-ACDDF06B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1233A8D-F085-4442-9C4D-FA06505D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F72EACB-A39E-4833-8FF0-08E817E9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AD14101-F84A-4C46-8AA7-C4BA005C3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B06DCCB-87A0-4DC5-9F32-2FD909611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3AC339F-1F7C-42AA-84E6-80CD6582D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E246D14-C892-45DD-A452-95F7F01A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3CE3D30-329A-4672-A947-4EBC43E9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2859425-C96A-400E-9BA6-6A38D7B6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243930D-13E6-43F9-9E52-C948E928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134E5-FAF7-4B9C-B61C-717D3A31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B91908F-C1EF-4BB3-BFDD-3B66A223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89DA200-7899-42AE-8CFE-DCFED072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309FFCA-B7B6-4A3D-B2F6-CF38EEAD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4AAE1A3-E60A-4290-A8F0-90505D8B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7A2AF0D-3E9C-4EDE-92E6-A09C2F19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6B4C43B-D3E6-4EE7-B9EA-2D7448FEF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0D46DA9-A522-4C1E-BC4A-844BBE45F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2C84F1B-257C-45E4-9522-E9AA6288C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1EF0218-27F1-4DAF-ABCF-463A5B3C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6418CA7-8B45-4613-B80C-165A25C0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144B-304D-4819-9091-54198383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49690-11AA-486F-85DA-B94A28BA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3C27939-447D-4285-97BD-D20745BC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84C8640-B99F-4165-AEFB-3918B166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6F933CD-86F3-478F-9F85-FDE9984A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F05037A-87FC-4BDD-9B51-61A34F50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0369E6C-C70D-44BE-BFEF-73EEE420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4AAFC3E-C62D-4176-BD4A-E9751596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6B7DB60-C29A-46A1-A73E-487D0397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0951F08-E38D-4DB8-B5F6-6F8ACD825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13D4154-B9DC-422D-A6F9-EA58B9563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DD884EE-922F-4E5B-A043-11A3701DA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272FB-BC2B-4872-9319-D028D3B6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EC14DE6-EAB9-49D3-A4FC-B813BE50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BFEC123-E275-4C70-9BC5-257FCA6C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06E1474-2F55-4279-9A7B-6775CFD5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2D836D3-706B-4F78-B3CF-4E93447F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37A7215-5404-4BBD-9A50-3313C7A9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CDA6F49-07CC-4325-A850-3F999190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809BED2-4BD7-470C-860B-89651C97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6B37F62-5988-4849-9839-049B3C4C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C829C28-B4D2-4CAC-B222-56799B4B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964E4F5-4E4A-4A03-8D0F-3E18424F8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7854F-A47C-4C77-AC98-82C516DE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80EA36D-2AD4-4344-A5C2-5F4EFC528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ECAD1E9-C9C6-493E-A212-DA5696E82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0ED70C9-99E0-467A-AF6C-A4E6477D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038950C-A48D-4A09-BA36-36FF34D6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D24CC0B-BC1E-46FE-9B69-E08A6C17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A0FE4D5-9EE2-457D-A578-0DC2F87A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B02AFBE-C630-40BD-9C9B-B76E0249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50F2902-F2B0-46DB-83E3-138F5778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A260A0A-FC61-4D14-BAEF-FE50BF0D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43F3F7D-ABF2-4A4E-80CD-3E719EBE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5F815-F230-4AD5-A4DC-53CC6C87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B2AA510-4241-4C08-A971-D349B2FF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DD6E236-231C-477C-88BD-942B7138A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CAEAB57-B4D8-4E94-8FD0-A9BAB9BDC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0C9EC66-1971-40DE-B10F-3C22EB92D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1665214-3F67-45BB-A313-203DEFB0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1C1597B-BCFC-4516-8B13-10F090DD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DE9D763-8D28-4985-A350-227A4660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3087DFD-D5AA-4061-9A24-61D0C053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326165C-4133-4FD6-8CB4-EFD16AE9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BBAD834-EB9B-47A5-8685-F6B07FF9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473F1-07D4-4335-AB47-4895910F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DB0852B-9FA2-4EBA-812A-190672C2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C2796E5-F8FF-44BD-955F-DD679FE2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DCBA7A1-E975-4ED6-993D-40A47A26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23B0B6A-9238-43AF-8239-560312B68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73AE6C1-8E4E-473F-9EBA-65F784CB7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63DAF26-29FD-4137-B7BE-B10BF4809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35A9F5A-C1AA-4F1A-A231-7A580A86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72F749E-9362-405C-BB4B-3F57E500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54F044B-5083-44F4-AE8A-595A2032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B7E2443-9645-430D-B137-D36D9228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ED7F0-13CA-4476-9546-25342FFC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FE51FB4-E4D2-4A32-903F-F6D12014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C4A19A0-E7A2-43A7-8616-00648440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B16B6BE-5919-4B9F-9FEB-EC8CE4CB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5ED8F7A-5D9C-48EC-B649-26EED468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0E0D35D-0A7F-427F-8647-CBC38E43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E07B60E-46CB-4ABF-910D-4C6890A62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96F352E-FEE7-48C7-BFCB-0C40D06BC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1D9AA39-FF63-4E49-BEF4-070687D2E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72AE65B-BDAE-4F6A-8296-C9F8E22A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036786B-C264-4256-9EB6-3707C819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E3976-5CDC-47D4-9D11-4961299B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A8E4264-896F-47AA-832A-A34CD8C3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2F57FEF-5465-43F6-A343-96624A0D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B19FDBE-353D-414E-ACAF-9D7BAE42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18309A1-1962-4641-84CE-62F1F093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359B646-1A9E-48CE-9D65-95F8AEB6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DB1038B-8EE3-46EC-86AF-06113E7B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5AA8E97-3D4C-4490-AAB5-40DF8C88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720356D-5F8C-416A-A1D1-4E86EABC5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2466F3A-0C82-471B-9850-A53761DE7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0CB5070-091F-4DB4-9578-7E5C24868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111A8-109D-4542-A9C1-07D01123B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BE39FC1-087E-4A7C-BBA5-17F8C0EB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FA106C6-8218-4DA6-921C-00B205BF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4F693B5-F964-40FD-B74F-78B8DCC3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14B6ADE-9C5C-4E89-A81E-41EEF543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85C8D3B-A8A8-4284-91B7-A787F1DD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7B81CCE-55E9-4708-B368-9D5A1360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C401010-0DA3-403B-96E9-F73C5CA9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900D620-C1C2-400A-A2CE-4058EA64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98DB00E-569D-478A-B012-01FC2620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01C73F6-9943-4FB5-A3E1-FCA9B9166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8A5F5-13F3-4F2F-AA55-3D81D6D7B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DF2BA52-C618-4455-A064-2CA2D31E9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DBE111C-9435-4F89-B40D-AC6CA07DD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61D49F4-ACFA-4F96-84F0-6669E0EF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A5C3940-24B5-4916-9A47-8C9F13A5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AAE52E2-AFDA-4DA3-8E85-D5B3C7AF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659A09F-77D5-43DA-8863-80230254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5EFD203-B5AF-4CC1-8E3F-55D61364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DEAF27D-87C2-4E54-8BDC-F575AA35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7CECB40-4D42-4351-8B01-E2B10C9A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C4D1B08-D25B-42DF-83AA-CAD07DBB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93E3D-2C08-4604-B0E5-C47D619DC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DDC2A49-AD80-4D8D-BD7E-D5CEDDC7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428D241-5E42-4860-9E07-D43A4F9A1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2D1B175-7089-4D6F-89C8-10B2DBBEE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36412A0-429E-43B0-9137-E354AB2C1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F99D239-9BD7-49C3-B292-4F23D5A7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98F7C54-0824-42C2-87D7-BA102CC8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C4F93A2-7252-4D53-BD8D-E37751A3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125C2D4-DBFF-4FAF-92CB-191F0DA6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E60B990-9484-47AE-81EC-67CAC804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A3956C8-422A-49AA-AD4F-202FA4F4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993A-1722-4E62-91DC-E6F19409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27702-DA91-48BD-BD51-216EEB1A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44FED1E-FB56-499C-9370-0683FAD3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7885245-B6E5-4A6F-A93F-C40D09B2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7430ED5-6EA0-4EF4-A400-F74D794F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9A03A6E-8FD4-4AAB-8D9E-4570236F6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AA30195-2FAB-44E9-BCBB-800539B06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C4A722A-ED1B-4909-8A4D-67594A405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BF3A719-51AF-4DA5-AD97-A63F89FC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C6B1AC9-BC66-40AB-9F37-90C3958E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A4B3FD2-DC35-4238-94DB-D142942D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A8E5EC8-6D36-47F5-8F73-891E8E2C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02F37-EB09-41E7-9CF5-CC434927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CCF0092-9BB6-4F84-9F39-EA0C302A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6500F19-36FA-4BA1-8B18-0B17FD35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6DDA600-6963-495C-B1B8-A2BE5069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116DEB3-E498-4DE0-8F51-372E8B13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4151A3E-6BD8-421E-B88A-CCF59A87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C8E391C-3462-4984-992C-8AF7ECA83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14B8471-2A23-4FB0-88BB-53C33682B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71F596F-1485-42B3-94CE-FC566239D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188E8B5-2673-4DFF-8AA0-DA837824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2F8B215-C188-46B0-815C-468E6C02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18B37-3023-4FA0-963E-5BD78868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E3D21EC-769B-4D44-9771-2A42A989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E85DD79-BA63-42BE-A3E0-45698EC4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6CDF972-B5B9-4DB0-B067-3308C3F4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68C8792-7BC6-4733-8C7D-1C128E61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4F0CF2A-221F-47C0-A45B-B4F9F679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188B68E-9296-4257-B1B5-D4F4525E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80014CF-61DB-4728-9365-2D26268D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265CFFE-0412-451D-9BDE-91FBED7D0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2B8AF5F-0100-4873-88D4-778DF0629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A6C8F4D-71CD-44C5-A98D-11583A58E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6972C-19EF-446C-B578-93ABCD19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6B0772F-CE50-430E-AF87-B541D0B4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5CE4C94-A6B0-4D5D-BDB1-C0F3818B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8E167DE-F70F-4858-905D-F8FD9BD8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2003D5C-9DFB-4592-806E-C5B98FF3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EF6C9C2-31DF-4763-AABB-ECEDC5C1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FC5796A-3B62-47AC-860A-7F8B82BB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B01B05A-1176-4E22-91FF-D4369912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769D935-7ECF-450C-AAA3-5891DFB5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3F9E5E9-21E2-4803-9735-54DC22C4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6555725-C44E-4B88-9EB4-5B76EE73F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A9197-3C98-43E1-B9A3-15DBDFF6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F764CBF-D19A-4EBA-939B-2F50DD932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9DA41F2-1CC4-46A7-94F4-4D4119AA0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8742F04-8207-4DC9-8847-F1F87E33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8C6A42E-5093-4D79-9076-FE536C8E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F6BDB99-612F-4BCD-9D75-AEB5137A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CCE1658-C05E-419C-BB95-76A7A706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B8D5D5E-0ED5-4C58-A532-5057A347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132DE38-9275-4AEF-ABC3-779CC94C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7016403-896E-4FE5-A78D-821FCBF1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A6D84DD-9F64-4D4D-B779-2AB9EE1A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51EEA-0562-4816-9F77-A434C05B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C3FB9BF-DFD4-4953-AF98-AD28CDD2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62106FE-D355-496F-952B-BCBF6EEB8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557E5B3-7498-4D2F-8123-19E6FD543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C5CB527-14E1-4B3A-B240-89F28616F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152E5E4-E57B-464C-82D8-02017AE5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226CDCA-8BFA-4ED9-96A3-C918F72A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C644F41-92D4-43A7-AF04-92902A4D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1051DEE-1310-49BF-9292-39414D81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E42CC8B-012A-4498-BE71-6623193A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349B351-7640-40FD-BC40-512CB913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BC8D1-779A-4D49-8A4B-25A75D64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9623D28-9D63-4629-BB38-588F0955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6EE69AD-58C8-472D-92EF-B9857C9A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E83850D-553D-42BF-86B6-068C4260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E7E3968-D04E-44D3-9E5F-52E379AF3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CC063AE-7D42-4717-9CA3-E8E04EB9A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8081D75-4AAA-4350-A92D-A038F7AAB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101FCAB-F726-4002-8535-C01AA94E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B365946-3968-4D77-8293-3DAEE3EF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226103B-9F5A-44EF-92E4-3B7A166F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1DF994E-FD0F-4490-AFB4-DB37F3A7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BC65A-5545-427A-9B50-C29E0E1B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4CD82A8-6ADB-4D4F-AD23-9A070882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B00B2A7-D2AA-4CAE-8D7A-A0B7AA13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ECF3A5D-93CA-44B6-843E-FD6C0B0D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8821A90-A626-42B3-BED9-C770D7A1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79B042C-D106-4633-9D90-96E3340D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1C4CAE5-41A6-4C8E-89CE-8A17C88FE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FF2A4A6-05FE-4764-AD72-1684F74F5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F2AB12B-E399-4D7E-94F5-131410EAC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BE01446-6778-414E-9B18-1718FA26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CF08022-D033-4902-92EC-3BA5016A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2D3B4-4A08-49EC-AC3C-BA7CC9DB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AAB32EF-A312-46FE-8DEC-DE49F5FF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4025DC4-9262-4B2F-A6AD-0FFE8751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0CA0A84-93F5-46AA-9607-033C3B20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40BA129-48F1-4308-AEC2-DB05EAEC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B5007F1-3114-45F2-AD5E-BB2DB7EC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84B6294-AE99-41D0-AA0B-0B6EB874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F71C9F7-0E31-45EF-A2B9-80A9289D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CF09855-65FA-42AF-A017-2D8734EE2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FF2E4D1-C988-4E5D-8812-263DF8158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AD1561A-06DC-46E0-B262-7496AF16F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2DF6A-4929-4E10-8A6D-2230B6A12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793A5F6-D61C-43EC-9CEB-F67B8B17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5954677-61FA-494C-9643-BAFF3FCF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C30C2AD-D960-48BC-9E36-81081E72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7F5D6BD-AF31-4BB0-8748-40A1207E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AF85EDC-D407-4862-BC4D-4163C5CB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244EAE2-EFEF-4F2B-820E-EC25674A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907F912-EF5F-4836-A188-3C1F9072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42C7991-D882-4C2A-BA6F-18668C04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628699A-0129-4FCF-9FFF-B6C567F1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3893931-D0F5-48C9-843B-980FA0DAF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D4A9-B8D8-4CFC-86B1-7B314DA9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6AF2D-ADB8-4F70-BAF9-196EFC46A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41A846C-F32B-4DCD-96C9-2DA7FC014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4D538-F7D5-4B36-BDBB-375270F37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E612B-5FD3-46AA-A6FB-632C54E1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677EA-E293-46FF-8159-4CB5F2F3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EF740-7ABA-413B-8A6B-E797FC9B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3054A-AD71-44F1-A93F-C4B2C0D4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65387-64CF-4E4B-80FB-DAC7AECD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D0B61-7F6E-4A4A-99B8-404E2024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A963D-45EC-40C0-A990-7A12F060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2EC6E-9ADD-4F85-B7AC-F9FA0A34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1E42-3FF2-4C59-918E-2BDDE4DC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14BD8-54E1-4E09-9431-2ACE0811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7A451-02DB-4DBD-8482-69A73DD3A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97266-50DB-4D4F-98A4-662BB8217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BDE88-46DE-4B5F-A250-B2C990F90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ED85B-DF62-4FF9-9D4A-F37BE1D9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7EE24-0649-4D7E-A2ED-CE824795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5D3EE-31D8-449F-A59A-E2360929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88DA1-A1C1-4C41-B901-540385B7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E5C89-3C0C-4EBB-A254-C5192FD5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9F96F-9E83-4D6C-9180-8842AF92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ABCC-200D-4C62-8B1E-33700517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A9995-0121-4942-91F5-88241161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6421A-BE8D-4DB0-B4F0-53B38593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BDF49-AD0A-4D99-A2BB-ADF0C5EE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507C3-DBE5-4AEB-A620-152C2F281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47277-01D1-4C69-88F4-72AE392D0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DD765-66AF-46FF-85F6-165CBB178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C1065-C8CF-4A34-B446-43B22555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3C286-870E-4C99-8399-98FA1C8F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03998-501B-435D-9322-7D46C78B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B093B-AAC8-4762-A895-6B6DE1EC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1094-3B3C-41B5-A104-2C9D3B94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D1212-FE4C-47E6-9CA8-4C0D4D5D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DDA92-B671-42C8-BEA7-59FEF363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A7BBC-AFC1-4768-9DA8-97499113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3F6D6-4FC4-4A9E-B55E-8E0E0B71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253E8-2FCC-4DAB-A353-960A7A22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8FE35-DCE4-4035-AE50-E9A7C2B56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6809C-F2B8-454A-8C1D-5DB55A8EA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957C16-5BD6-4CB7-9D0C-465444ACE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0659DC-4AE5-42A1-A3A0-05DF623E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DA5FD0-F9D8-4A51-8D89-F47BB6E0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2C62-3FBA-448B-97FC-D9FA470645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28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29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4350-925B-442F-B651-6B77B75891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FDF9-890E-42E6-BA76-127B53CC82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3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3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8A19-90FF-4151-8B59-A4048536146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3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3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6F0D-AF67-45AD-A6BD-546CD0498C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4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4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4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2F4E-1E97-4FBD-BF91-AB12EC388C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dt" idx="4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ftr" idx="4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sldNum" idx="4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5ECC-1E75-4762-A984-382E224CEE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691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2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693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6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697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AB0F-70EB-4BCB-8D8C-CB6C517EF3F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9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0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81EF-6E2B-4BB4-BB0B-8D77746002C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52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53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5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E4C7-8B2C-405C-954E-3045146471A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67CB-E135-4460-8D0E-C109344B215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C49D-694D-4696-8302-77BE886DB15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8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9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6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9507-6968-4371-B277-234603BA669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6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6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6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3C26-4A35-4B88-88C2-184BE970978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6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6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15E9-3008-4E13-B4D8-47FD2B35B09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 type="dt" idx="6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 type="ftr" idx="6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 type="sldNum" idx="6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6949-9E7C-40D6-9039-428BD3667D4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 type="dt" idx="70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 type="ftr" idx="7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 type="sldNum" idx="7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2DE5-2173-434F-B0A5-0D949C82596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 type="dt" idx="7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 type="ftr" idx="7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 type="sldNum" idx="7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F377-56A7-4648-8BF0-DC8D4E31761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 type="dt" idx="76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 type="ftr" idx="77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 type="sldNum" idx="7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07EE-DC8C-4B78-9839-7775E699DF7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dt" idx="79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ftr" idx="80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 type="sldNum" idx="8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AABE-8025-4BC6-96E1-B2679D400D3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2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193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96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197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203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06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207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2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 type="dt" idx="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E98C-3747-4559-A0B3-3B4FCE48AB3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 type="dt" idx="8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 type="ftr" idx="8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PlaceHolder 5"/>
          <p:cNvSpPr>
            <a:spLocks noGrp="1"/>
          </p:cNvSpPr>
          <p:nvPr>
            <p:ph type="sldNum" idx="8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C0EC-25D7-473F-99A4-71B9184A477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295A-DDF1-4D60-8125-AFFD3E02543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3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5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136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13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8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139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 type="dt" idx="8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 type="ftr" idx="8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PlaceHolder 5"/>
          <p:cNvSpPr>
            <a:spLocks noGrp="1"/>
          </p:cNvSpPr>
          <p:nvPr>
            <p:ph type="sldNum" idx="9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4C63-B472-4D1C-A440-5B5FB45CF9E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 type="dt" idx="9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 type="ftr" idx="9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PlaceHolder 5"/>
          <p:cNvSpPr>
            <a:spLocks noGrp="1"/>
          </p:cNvSpPr>
          <p:nvPr>
            <p:ph type="sldNum" idx="9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AF9C-F2B3-431F-9234-6615AB6413A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 type="dt" idx="9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 type="ftr" idx="9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PlaceHolder 5"/>
          <p:cNvSpPr>
            <a:spLocks noGrp="1"/>
          </p:cNvSpPr>
          <p:nvPr>
            <p:ph type="sldNum" idx="9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2F6E-99D7-4B92-BCBD-5506FE21606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 type="dt" idx="9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 type="ftr" idx="9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 type="sldNum" idx="9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29AB-3211-46AB-BC6A-07D25DD0F2A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 type="dt" idx="10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 type="ftr" idx="10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PlaceHolder 5"/>
          <p:cNvSpPr>
            <a:spLocks noGrp="1"/>
          </p:cNvSpPr>
          <p:nvPr>
            <p:ph type="sldNum" idx="10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7B78-2773-4D02-A9DC-A765D542A08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 type="dt" idx="10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 type="ftr" idx="10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PlaceHolder 5"/>
          <p:cNvSpPr>
            <a:spLocks noGrp="1"/>
          </p:cNvSpPr>
          <p:nvPr>
            <p:ph type="sldNum" idx="10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A945-9148-4B16-B72E-6BE75094D6E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 type="dt" idx="10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 type="ftr" idx="10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6" name="PlaceHolder 5"/>
          <p:cNvSpPr>
            <a:spLocks noGrp="1"/>
          </p:cNvSpPr>
          <p:nvPr>
            <p:ph type="sldNum" idx="10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FFC0-88DF-4167-8298-3BB755D991D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 type="dt" idx="10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 type="ftr" idx="11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7" name="PlaceHolder 5"/>
          <p:cNvSpPr>
            <a:spLocks noGrp="1"/>
          </p:cNvSpPr>
          <p:nvPr>
            <p:ph type="sldNum" idx="11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B943-C363-43E8-9FD6-39A33939DE6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 type="dt" idx="11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 type="ftr" idx="11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PlaceHolder 5"/>
          <p:cNvSpPr>
            <a:spLocks noGrp="1"/>
          </p:cNvSpPr>
          <p:nvPr>
            <p:ph type="sldNum" idx="11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BF37-31AD-4F9B-9D7F-8449073F952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66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6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66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 type="dt" idx="11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 type="ftr" idx="11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PlaceHolder 5"/>
          <p:cNvSpPr>
            <a:spLocks noGrp="1"/>
          </p:cNvSpPr>
          <p:nvPr>
            <p:ph type="sldNum" idx="117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243D-8479-49D5-AE4F-CABCBBF5E02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85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86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89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0288-FC1D-4EC7-AD9A-C0F74DF6773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 type="dt" idx="11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 type="ftr" idx="11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PlaceHolder 5"/>
          <p:cNvSpPr>
            <a:spLocks noGrp="1"/>
          </p:cNvSpPr>
          <p:nvPr>
            <p:ph type="sldNum" idx="120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01C0-934B-4306-B8E4-A4FF3BFEDE3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 type="dt" idx="12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 type="ftr" idx="12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PlaceHolder 5"/>
          <p:cNvSpPr>
            <a:spLocks noGrp="1"/>
          </p:cNvSpPr>
          <p:nvPr>
            <p:ph type="sldNum" idx="12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03F2-5894-42E2-856C-4D67986A44F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 type="dt" idx="12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 type="ftr" idx="12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PlaceHolder 5"/>
          <p:cNvSpPr>
            <a:spLocks noGrp="1"/>
          </p:cNvSpPr>
          <p:nvPr>
            <p:ph type="sldNum" idx="12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C3E5-1F99-4C10-A7F5-4D26ACFAA55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 type="dt" idx="12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 type="ftr" idx="12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PlaceHolder 5"/>
          <p:cNvSpPr>
            <a:spLocks noGrp="1"/>
          </p:cNvSpPr>
          <p:nvPr>
            <p:ph type="sldNum" idx="12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A0FD-E342-4A50-AE4E-D07972A5121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 type="dt" idx="13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 type="ftr" idx="13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0" name="PlaceHolder 5"/>
          <p:cNvSpPr>
            <a:spLocks noGrp="1"/>
          </p:cNvSpPr>
          <p:nvPr>
            <p:ph type="sldNum" idx="13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658E-3934-4C6D-9D08-188D54DF1E5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 type="dt" idx="13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 type="ftr" idx="13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1" name="PlaceHolder 5"/>
          <p:cNvSpPr>
            <a:spLocks noGrp="1"/>
          </p:cNvSpPr>
          <p:nvPr>
            <p:ph type="sldNum" idx="13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2599-E6FA-407A-8C90-8E41E35DAF4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 type="dt" idx="13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 type="ftr" idx="13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2" name="PlaceHolder 5"/>
          <p:cNvSpPr>
            <a:spLocks noGrp="1"/>
          </p:cNvSpPr>
          <p:nvPr>
            <p:ph type="sldNum" idx="138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73CE-1E5A-4E6D-83FC-67DDF1442FF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1" name="PlaceHolder 3"/>
          <p:cNvSpPr>
            <a:spLocks noGrp="1"/>
          </p:cNvSpPr>
          <p:nvPr>
            <p:ph type="dt" idx="13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2" name="PlaceHolder 4"/>
          <p:cNvSpPr>
            <a:spLocks noGrp="1"/>
          </p:cNvSpPr>
          <p:nvPr>
            <p:ph type="ftr" idx="14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3" name="PlaceHolder 5"/>
          <p:cNvSpPr>
            <a:spLocks noGrp="1"/>
          </p:cNvSpPr>
          <p:nvPr>
            <p:ph type="sldNum" idx="14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CF9F-2392-4894-A6DD-CA4BEA077B8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 type="dt" idx="14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3" name="PlaceHolder 4"/>
          <p:cNvSpPr>
            <a:spLocks noGrp="1"/>
          </p:cNvSpPr>
          <p:nvPr>
            <p:ph type="ftr" idx="14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4" name="PlaceHolder 5"/>
          <p:cNvSpPr>
            <a:spLocks noGrp="1"/>
          </p:cNvSpPr>
          <p:nvPr>
            <p:ph type="sldNum" idx="144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FDB3-1D99-43BB-8BFE-175AB407D21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3" name="PlaceHolder 3"/>
          <p:cNvSpPr>
            <a:spLocks noGrp="1"/>
          </p:cNvSpPr>
          <p:nvPr>
            <p:ph type="dt" idx="14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4" name="PlaceHolder 4"/>
          <p:cNvSpPr>
            <a:spLocks noGrp="1"/>
          </p:cNvSpPr>
          <p:nvPr>
            <p:ph type="ftr" idx="14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5" name="PlaceHolder 5"/>
          <p:cNvSpPr>
            <a:spLocks noGrp="1"/>
          </p:cNvSpPr>
          <p:nvPr>
            <p:ph type="sldNum" idx="147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640F-B542-4675-B542-6E2579F5B89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33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E289-AA8D-4074-B723-B36DC3D9D74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4" name="PlaceHolder 3"/>
          <p:cNvSpPr>
            <a:spLocks noGrp="1"/>
          </p:cNvSpPr>
          <p:nvPr>
            <p:ph type="dt" idx="14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5" name="PlaceHolder 4"/>
          <p:cNvSpPr>
            <a:spLocks noGrp="1"/>
          </p:cNvSpPr>
          <p:nvPr>
            <p:ph type="ftr" idx="14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6" name="PlaceHolder 5"/>
          <p:cNvSpPr>
            <a:spLocks noGrp="1"/>
          </p:cNvSpPr>
          <p:nvPr>
            <p:ph type="sldNum" idx="150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2B1B-59B8-4E5B-BCF8-AF9C2D692D4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51FA-0CFF-4E5E-BD23-1CE2593F2A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69EA-5060-4F4F-9642-ECDF9EE68B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2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3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999C-809A-4383-BD4E-5979686A5D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73B0-DAA6-441F-BE2D-BCEB454D80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8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8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Rectangle 1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530C-2366-43C0-B570-EDF3018413B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 Black"/>
              </a:rPr>
              <a:t>Устный  счет.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165" name="Picture 7" descr=""/>
          <p:cNvPicPr/>
          <p:nvPr/>
        </p:nvPicPr>
        <p:blipFill>
          <a:blip r:embed="rId1"/>
          <a:stretch/>
        </p:blipFill>
        <p:spPr>
          <a:xfrm>
            <a:off x="3851280" y="2421000"/>
            <a:ext cx="23050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Номер слайда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47B7-681F-4085-A212-40F588B3A77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дани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334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строить незамкнутую самопересекающуюся ломаную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BCD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строить замкнутую самопересекающуюся ломаную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FKLM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38" name="Picture 7" descr="сканирование0007"/>
          <p:cNvPicPr/>
          <p:nvPr/>
        </p:nvPicPr>
        <p:blipFill>
          <a:blip r:embed="rId1"/>
          <a:stretch/>
        </p:blipFill>
        <p:spPr>
          <a:xfrm>
            <a:off x="7380360" y="260280"/>
            <a:ext cx="1014480" cy="161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2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2097-8B2E-48BF-B1E6-BA15D2880AF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лина ломаной – это сумма длин всех звеньев ломаной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1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4790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          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                            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                    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           C                                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                                    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lnSpc>
                <a:spcPct val="90000"/>
              </a:lnSpc>
              <a:spcBef>
                <a:spcPts val="700"/>
              </a:spcBef>
              <a:buClr>
                <a:srgbClr val="f70f1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йти длину ломаной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BCD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есл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В = 3 см, ВС = 4 см,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D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= 2 с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lnSpc>
                <a:spcPct val="90000"/>
              </a:lnSpc>
              <a:spcBef>
                <a:spcPts val="700"/>
              </a:spcBef>
              <a:buClr>
                <a:srgbClr val="f70f1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йти длину ломаной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есл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= 5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см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= 1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см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Е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 = 3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с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2" name="Line 4"/>
          <p:cNvSpPr/>
          <p:nvPr/>
        </p:nvSpPr>
        <p:spPr>
          <a:xfrm flipV="1">
            <a:off x="1258920" y="3357720"/>
            <a:ext cx="576360" cy="86328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3" name="Line 5"/>
          <p:cNvSpPr/>
          <p:nvPr/>
        </p:nvSpPr>
        <p:spPr>
          <a:xfrm>
            <a:off x="1835280" y="3357720"/>
            <a:ext cx="1368360" cy="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4" name="Line 6"/>
          <p:cNvSpPr/>
          <p:nvPr/>
        </p:nvSpPr>
        <p:spPr>
          <a:xfrm flipV="1">
            <a:off x="3203640" y="2637000"/>
            <a:ext cx="288720" cy="7207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5" name="Line 7"/>
          <p:cNvSpPr/>
          <p:nvPr/>
        </p:nvSpPr>
        <p:spPr>
          <a:xfrm flipV="1">
            <a:off x="5148360" y="2637000"/>
            <a:ext cx="2016000" cy="158400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6" name="Line 8"/>
          <p:cNvSpPr/>
          <p:nvPr/>
        </p:nvSpPr>
        <p:spPr>
          <a:xfrm flipH="1">
            <a:off x="7093080" y="2637000"/>
            <a:ext cx="71280" cy="1079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7" name="Line 9"/>
          <p:cNvSpPr/>
          <p:nvPr/>
        </p:nvSpPr>
        <p:spPr>
          <a:xfrm flipH="1" flipV="1">
            <a:off x="5651640" y="3357720"/>
            <a:ext cx="1441440" cy="35856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53" dur="500" fill="hold"/>
                                        <p:tgtEl>
                                          <p:spTgt spid="224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Номер слайда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100E-E74F-4601-8C98-1A92BE7C54A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9" name="Picture 2" descr="http://www.fastpad.ru/pic/map_hanteman_ao.gif"/>
          <p:cNvPicPr/>
          <p:nvPr/>
        </p:nvPicPr>
        <p:blipFill>
          <a:blip r:embed="rId1"/>
          <a:stretch/>
        </p:blipFill>
        <p:spPr>
          <a:xfrm>
            <a:off x="214200" y="0"/>
            <a:ext cx="871560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Номер слайда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3CA2-BEEF-41D2-AAC7-0674501A810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сходные данные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405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ылет – из г. Ханты - Мансийск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нечный пункт – г. Советски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озаправка – 1-я, 2-я группы в г. Ура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              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3-я, 4-я группы в г. Нягань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ак называется линия, по которой пройдет полет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то нужно найти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53" name="Picture 4" descr="47"/>
          <p:cNvPicPr/>
          <p:nvPr/>
        </p:nvPicPr>
        <p:blipFill>
          <a:blip r:embed="rId1"/>
          <a:stretch/>
        </p:blipFill>
        <p:spPr>
          <a:xfrm>
            <a:off x="5940360" y="620640"/>
            <a:ext cx="251928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4" name="Объект 5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842240" cy="5324400"/>
          </a:xfrm>
          <a:prstGeom prst="rect">
            <a:avLst/>
          </a:prstGeom>
          <a:ln w="0">
            <a:noFill/>
          </a:ln>
        </p:spPr>
      </p:pic>
      <p:sp>
        <p:nvSpPr>
          <p:cNvPr id="2255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B695-F52C-4E7D-86D2-6D335C419FB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9C9A-CBF4-421F-B643-3B01694F1A1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 Black"/>
              </a:rPr>
              <a:t>Домашнее  задание: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§</a:t>
            </a:r>
            <a:r>
              <a:rPr b="0" lang="ru-RU" sz="40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 6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выучить определение ломаной, её элементы и свойств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№ </a:t>
            </a:r>
            <a:r>
              <a:rPr b="0" lang="ru-RU" sz="40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106 (1)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115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5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98" fill="hold"/>
                                        <p:tgtEl>
                                          <p:spTgt spid="2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98" fill="hold"/>
                                        <p:tgtEl>
                                          <p:spTgt spid="2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98" fill="hold"/>
                                        <p:tgtEl>
                                          <p:spTgt spid="2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98" fill="hold"/>
                                        <p:tgtEl>
                                          <p:spTgt spid="2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Номер слайда 7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1864-C423-487C-B07C-9F3422B4B0C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7" name="PlaceHolder 1"/>
          <p:cNvSpPr>
            <a:spLocks noGrp="1"/>
          </p:cNvSpPr>
          <p:nvPr>
            <p:ph/>
          </p:nvPr>
        </p:nvSpPr>
        <p:spPr>
          <a:xfrm>
            <a:off x="971640" y="1699920"/>
            <a:ext cx="77040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тон                      Володя                          Серё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                   В                       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 = 300 м, ВС = 100 м, АС =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С = 170 м, АВ = 50 м, ВС =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ли длина отрезка АВ быть больше длины отрезка А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ли длина отрезка ВС быть больше длины отрезка А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Line 4"/>
          <p:cNvSpPr/>
          <p:nvPr/>
        </p:nvSpPr>
        <p:spPr>
          <a:xfrm>
            <a:off x="2843280" y="2637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 type="title"/>
          </p:nvPr>
        </p:nvSpPr>
        <p:spPr>
          <a:xfrm>
            <a:off x="900000" y="0"/>
            <a:ext cx="77724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170" name="Picture 7" descr="сканирование0007"/>
          <p:cNvPicPr/>
          <p:nvPr/>
        </p:nvPicPr>
        <p:blipFill>
          <a:blip r:embed="rId1"/>
          <a:stretch/>
        </p:blipFill>
        <p:spPr>
          <a:xfrm>
            <a:off x="7308720" y="189000"/>
            <a:ext cx="1014480" cy="1584360"/>
          </a:xfrm>
          <a:prstGeom prst="rect">
            <a:avLst/>
          </a:prstGeom>
          <a:ln w="0">
            <a:noFill/>
          </a:ln>
        </p:spPr>
      </p:pic>
      <p:sp>
        <p:nvSpPr>
          <p:cNvPr id="2171" name="Line 5"/>
          <p:cNvSpPr/>
          <p:nvPr/>
        </p:nvSpPr>
        <p:spPr>
          <a:xfrm>
            <a:off x="4716360" y="2637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2" name="Picture 9" descr="сканирование0008"/>
          <p:cNvPicPr/>
          <p:nvPr/>
        </p:nvPicPr>
        <p:blipFill>
          <a:blip r:embed="rId2"/>
          <a:stretch/>
        </p:blipFill>
        <p:spPr>
          <a:xfrm>
            <a:off x="3995640" y="0"/>
            <a:ext cx="1290600" cy="1557360"/>
          </a:xfrm>
          <a:prstGeom prst="rect">
            <a:avLst/>
          </a:prstGeom>
          <a:ln w="0">
            <a:noFill/>
          </a:ln>
        </p:spPr>
      </p:pic>
      <p:pic>
        <p:nvPicPr>
          <p:cNvPr id="2173" name="Picture 11" descr="сканирование0009"/>
          <p:cNvPicPr/>
          <p:nvPr/>
        </p:nvPicPr>
        <p:blipFill>
          <a:blip r:embed="rId3"/>
          <a:stretch/>
        </p:blipFill>
        <p:spPr>
          <a:xfrm>
            <a:off x="1116000" y="189000"/>
            <a:ext cx="1395360" cy="1439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2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2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2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Номер слайда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E7FD-147B-4BDA-B594-F35E775D812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Всегда ли мы движемся по прямой линии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176" name="Picture 4" descr="j0183328"/>
          <p:cNvPicPr/>
          <p:nvPr/>
        </p:nvPicPr>
        <p:blipFill>
          <a:blip r:embed="rId1"/>
          <a:stretch/>
        </p:blipFill>
        <p:spPr>
          <a:xfrm>
            <a:off x="1258920" y="2997360"/>
            <a:ext cx="1806480" cy="1814400"/>
          </a:xfrm>
          <a:prstGeom prst="rect">
            <a:avLst/>
          </a:prstGeom>
          <a:ln w="0">
            <a:noFill/>
          </a:ln>
        </p:spPr>
      </p:pic>
      <p:pic>
        <p:nvPicPr>
          <p:cNvPr id="2177" name="Picture 6" descr="j0233070"/>
          <p:cNvPicPr/>
          <p:nvPr/>
        </p:nvPicPr>
        <p:blipFill>
          <a:blip r:embed="rId2"/>
          <a:stretch/>
        </p:blipFill>
        <p:spPr>
          <a:xfrm>
            <a:off x="1403280" y="4437000"/>
            <a:ext cx="251136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46821E-006 L 0.57934 -0.40624 E">
                                      <p:cBhvr>
                                        <p:cTn id="60" dur="2000" fill="hold"/>
                                        <p:tgtEl>
                                          <p:spTgt spid="2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4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96532E-006 L 0.21163 1.96532E-006 C 0.30643 1.96532E-006 0.42327 -0.0985 0.42327 -0.17827 L 0.42327 -0.35653 E">
                                      <p:cBhvr>
                                        <p:cTn id="64" dur="2000" fill="hold"/>
                                        <p:tgtEl>
                                          <p:spTgt spid="2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62428E-006 L 0.55486 0.0044 E">
                                      <p:cBhvr>
                                        <p:cTn id="74" dur="2000" fill="hold"/>
                                        <p:tgtEl>
                                          <p:spTgt spid="2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781 -0.00624 C 0.12673 -0.00624 0.18281 0.06844 0.18281 0.16024 C 0.18281 0.25203 0.12673 0.32671 0.05781 0.32671 C -0.01111 0.32671 -0.06719 0.25203 -0.06719 0.16024 C -0.06719 0.06844 -0.01111 -0.00624 0.05781 -0.00624 Z">
                                      <p:cBhvr>
                                        <p:cTn id="78" dur="2000" fill="hold"/>
                                        <p:tgtEl>
                                          <p:spTgt spid="2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Номер слайда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22B7-27DC-4349-8300-C1E48CE82E2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28036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Тема урока:</a:t>
            </a:r>
            <a:br>
              <a:rPr sz="4400"/>
            </a:br>
            <a:br>
              <a:rPr sz="4400"/>
            </a:br>
            <a:r>
              <a:rPr b="1" lang="ru-RU" sz="6600" spc="-1" strike="noStrike">
                <a:solidFill>
                  <a:srgbClr val="ffff00"/>
                </a:solidFill>
                <a:latin typeface="Arial Black"/>
              </a:rPr>
              <a:t>Ломаная.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wedg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768"/>
                                        <p:tgtEl>
                                          <p:spTgt spid="2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768" fill="hold"/>
                                        <p:tgtEl>
                                          <p:spTgt spid="21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" dur="768" fill="hold"/>
                                        <p:tgtEl>
                                          <p:spTgt spid="2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" dur="768" fill="hold"/>
                                        <p:tgtEl>
                                          <p:spTgt spid="2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B800-1D01-4946-8AD6-1D1CC8162B7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Цель урок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Изучить ломаную, её элементы и свойства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2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550E-50B1-4706-B820-AC0253B606A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Задачи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Дать определение ломан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Изучить её элемен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Рассмотреть виды ломаных. Какие они бываю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Научиться находить длину ломан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2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2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EC24-EAA6-4D66-83C0-A2C7DC888388}" type="slidenum"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7" name="AutoShape 9"/>
          <p:cNvSpPr/>
          <p:nvPr/>
        </p:nvSpPr>
        <p:spPr>
          <a:xfrm>
            <a:off x="468360" y="1268280"/>
            <a:ext cx="2951280" cy="2087640"/>
          </a:xfrm>
          <a:prstGeom prst="cloudCallout">
            <a:avLst>
              <a:gd name="adj1" fmla="val -25472"/>
              <a:gd name="adj2" fmla="val 59657"/>
            </a:avLst>
          </a:prstGeom>
          <a:solidFill>
            <a:srgbClr val="31e3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48836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 данных рисунках представлены различные виды линий. Как бы вы их назвали? Выберите из данных линий ломаны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696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0" name="AutoShape 8"/>
          <p:cNvSpPr/>
          <p:nvPr/>
        </p:nvSpPr>
        <p:spPr>
          <a:xfrm>
            <a:off x="3995640" y="1197000"/>
            <a:ext cx="2951280" cy="2016000"/>
          </a:xfrm>
          <a:prstGeom prst="cloudCallout">
            <a:avLst>
              <a:gd name="adj1" fmla="val -45268"/>
              <a:gd name="adj2" fmla="val 66458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                   С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1" name="AutoShape 10"/>
          <p:cNvSpPr/>
          <p:nvPr/>
        </p:nvSpPr>
        <p:spPr>
          <a:xfrm>
            <a:off x="1619280" y="3573360"/>
            <a:ext cx="2448000" cy="20876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2" name="Freeform 11"/>
          <p:cNvSpPr/>
          <p:nvPr/>
        </p:nvSpPr>
        <p:spPr>
          <a:xfrm>
            <a:off x="1908000" y="4005360"/>
            <a:ext cx="1584360" cy="122400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907" h="605">
                <a:moveTo>
                  <a:pt x="907" y="0"/>
                </a:moveTo>
                <a:cubicBezTo>
                  <a:pt x="722" y="0"/>
                  <a:pt x="537" y="0"/>
                  <a:pt x="499" y="91"/>
                </a:cubicBezTo>
                <a:cubicBezTo>
                  <a:pt x="461" y="182"/>
                  <a:pt x="763" y="485"/>
                  <a:pt x="680" y="545"/>
                </a:cubicBezTo>
                <a:cubicBezTo>
                  <a:pt x="597" y="605"/>
                  <a:pt x="113" y="469"/>
                  <a:pt x="0" y="4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3" name="Line 12"/>
          <p:cNvSpPr/>
          <p:nvPr/>
        </p:nvSpPr>
        <p:spPr>
          <a:xfrm flipV="1">
            <a:off x="1258920" y="1916280"/>
            <a:ext cx="216000" cy="100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4" name="Line 13"/>
          <p:cNvSpPr/>
          <p:nvPr/>
        </p:nvSpPr>
        <p:spPr>
          <a:xfrm>
            <a:off x="1476360" y="1916280"/>
            <a:ext cx="1152720" cy="14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5" name="Line 14"/>
          <p:cNvSpPr/>
          <p:nvPr/>
        </p:nvSpPr>
        <p:spPr>
          <a:xfrm flipV="1">
            <a:off x="4643280" y="1773000"/>
            <a:ext cx="79236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6" name="Line 15"/>
          <p:cNvSpPr/>
          <p:nvPr/>
        </p:nvSpPr>
        <p:spPr>
          <a:xfrm>
            <a:off x="5435640" y="1773360"/>
            <a:ext cx="431640" cy="57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7" name="Line 16"/>
          <p:cNvSpPr/>
          <p:nvPr/>
        </p:nvSpPr>
        <p:spPr>
          <a:xfrm flipV="1">
            <a:off x="4643280" y="2349000"/>
            <a:ext cx="1224000" cy="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8" name="AutoShape 17"/>
          <p:cNvSpPr/>
          <p:nvPr/>
        </p:nvSpPr>
        <p:spPr>
          <a:xfrm>
            <a:off x="6877080" y="2060640"/>
            <a:ext cx="1871640" cy="1873080"/>
          </a:xfrm>
          <a:prstGeom prst="cloudCallout">
            <a:avLst>
              <a:gd name="adj1" fmla="val -4027"/>
              <a:gd name="adj2" fmla="val 45337"/>
            </a:avLst>
          </a:prstGeom>
          <a:solidFill>
            <a:srgbClr val="73ea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9" name="Oval 18"/>
          <p:cNvSpPr/>
          <p:nvPr/>
        </p:nvSpPr>
        <p:spPr>
          <a:xfrm>
            <a:off x="7380360" y="2637000"/>
            <a:ext cx="792000" cy="79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0" name="AutoShape 20"/>
          <p:cNvSpPr/>
          <p:nvPr/>
        </p:nvSpPr>
        <p:spPr>
          <a:xfrm>
            <a:off x="4572000" y="4005360"/>
            <a:ext cx="2808360" cy="2303280"/>
          </a:xfrm>
          <a:prstGeom prst="cloudCallout">
            <a:avLst>
              <a:gd name="adj1" fmla="val -26425"/>
              <a:gd name="adj2" fmla="val 48759"/>
            </a:avLst>
          </a:prstGeom>
          <a:solidFill>
            <a:srgbClr val="ed195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Line 21"/>
          <p:cNvSpPr/>
          <p:nvPr/>
        </p:nvSpPr>
        <p:spPr>
          <a:xfrm flipV="1">
            <a:off x="5292720" y="4508280"/>
            <a:ext cx="122400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2" name="Line 22"/>
          <p:cNvSpPr/>
          <p:nvPr/>
        </p:nvSpPr>
        <p:spPr>
          <a:xfrm>
            <a:off x="6516720" y="4508640"/>
            <a:ext cx="71280" cy="122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3" name="Line 23"/>
          <p:cNvSpPr/>
          <p:nvPr/>
        </p:nvSpPr>
        <p:spPr>
          <a:xfrm flipH="1" flipV="1">
            <a:off x="5292720" y="4581360"/>
            <a:ext cx="129528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7076-FEFE-4C0B-9014-00C6E714528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f2f224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Ломаная – это последовательное соединение нескольких отрезков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6" name="PlaceHolder 1"/>
          <p:cNvSpPr>
            <a:spLocks noGrp="1"/>
          </p:cNvSpPr>
          <p:nvPr>
            <p:ph/>
          </p:nvPr>
        </p:nvSpPr>
        <p:spPr>
          <a:xfrm>
            <a:off x="900000" y="2565000"/>
            <a:ext cx="7693200" cy="37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                                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                  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ВС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ломана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В, ВС, С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звенья ломано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, В, С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вершины ломано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7" name="Line 4"/>
          <p:cNvSpPr/>
          <p:nvPr/>
        </p:nvSpPr>
        <p:spPr>
          <a:xfrm flipV="1">
            <a:off x="2484360" y="2923920"/>
            <a:ext cx="1152720" cy="108108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8" name="Line 5"/>
          <p:cNvSpPr/>
          <p:nvPr/>
        </p:nvSpPr>
        <p:spPr>
          <a:xfrm>
            <a:off x="3635280" y="2924280"/>
            <a:ext cx="936720" cy="8650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9" name="Line 6"/>
          <p:cNvSpPr/>
          <p:nvPr/>
        </p:nvSpPr>
        <p:spPr>
          <a:xfrm flipV="1">
            <a:off x="4572000" y="3357360"/>
            <a:ext cx="1150920" cy="43164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768"/>
                                        <p:tgtEl>
                                          <p:spTgt spid="2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768" fill="hold"/>
                                        <p:tgtEl>
                                          <p:spTgt spid="22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" dur="768" fill="hold"/>
                                        <p:tgtEl>
                                          <p:spTgt spid="2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" dur="768" fill="hold"/>
                                        <p:tgtEl>
                                          <p:spTgt spid="2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2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CF75-A8C5-4CF6-BEF2-E44932274858}" type="slidenum"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687060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оманые бывают замкнутые, незамкнутые, самопересекающиес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9898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3" name="AutoShape 4"/>
          <p:cNvSpPr/>
          <p:nvPr/>
        </p:nvSpPr>
        <p:spPr>
          <a:xfrm>
            <a:off x="900000" y="1557360"/>
            <a:ext cx="2016360" cy="2016000"/>
          </a:xfrm>
          <a:prstGeom prst="verticalScrol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4" name="AutoShape 5"/>
          <p:cNvSpPr/>
          <p:nvPr/>
        </p:nvSpPr>
        <p:spPr>
          <a:xfrm>
            <a:off x="1332000" y="2060640"/>
            <a:ext cx="1106280" cy="1152360"/>
          </a:xfrm>
          <a:custGeom>
            <a:avLst/>
            <a:gdLst/>
            <a:ahLst/>
            <a:rect l="l" t="t" r="r" b="b"/>
            <a:pathLst>
              <a:path w="1106487" h="1152525">
                <a:moveTo>
                  <a:pt x="1" y="440224"/>
                </a:moveTo>
                <a:lnTo>
                  <a:pt x="422643" y="440227"/>
                </a:lnTo>
                <a:lnTo>
                  <a:pt x="553244" y="0"/>
                </a:lnTo>
                <a:lnTo>
                  <a:pt x="683844" y="440227"/>
                </a:lnTo>
                <a:lnTo>
                  <a:pt x="1106486" y="440224"/>
                </a:lnTo>
                <a:lnTo>
                  <a:pt x="764560" y="712297"/>
                </a:lnTo>
                <a:lnTo>
                  <a:pt x="895166" y="1152522"/>
                </a:lnTo>
                <a:lnTo>
                  <a:pt x="553244" y="880445"/>
                </a:lnTo>
                <a:lnTo>
                  <a:pt x="211321" y="1152522"/>
                </a:lnTo>
                <a:lnTo>
                  <a:pt x="341927" y="712297"/>
                </a:lnTo>
                <a:lnTo>
                  <a:pt x="1" y="44022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5" name="AutoShape 6"/>
          <p:cNvSpPr/>
          <p:nvPr/>
        </p:nvSpPr>
        <p:spPr>
          <a:xfrm>
            <a:off x="3276720" y="1557360"/>
            <a:ext cx="2160360" cy="1942920"/>
          </a:xfrm>
          <a:prstGeom prst="verticalScroll">
            <a:avLst>
              <a:gd name="adj" fmla="val 12500"/>
            </a:avLst>
          </a:prstGeom>
          <a:solidFill>
            <a:srgbClr val="73ea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AutoShape 7"/>
          <p:cNvSpPr/>
          <p:nvPr/>
        </p:nvSpPr>
        <p:spPr>
          <a:xfrm>
            <a:off x="5796000" y="1628640"/>
            <a:ext cx="2089080" cy="1871640"/>
          </a:xfrm>
          <a:prstGeom prst="verticalScroll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7" name="AutoShape 8"/>
          <p:cNvSpPr/>
          <p:nvPr/>
        </p:nvSpPr>
        <p:spPr>
          <a:xfrm>
            <a:off x="1908000" y="3860640"/>
            <a:ext cx="2087640" cy="2016360"/>
          </a:xfrm>
          <a:prstGeom prst="verticalScroll">
            <a:avLst>
              <a:gd name="adj" fmla="val 12500"/>
            </a:avLst>
          </a:prstGeom>
          <a:solidFill>
            <a:srgbClr val="35e93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8" name="AutoShape 10"/>
          <p:cNvSpPr/>
          <p:nvPr/>
        </p:nvSpPr>
        <p:spPr>
          <a:xfrm>
            <a:off x="4140360" y="3860640"/>
            <a:ext cx="2160360" cy="1944720"/>
          </a:xfrm>
          <a:prstGeom prst="verticalScroll">
            <a:avLst>
              <a:gd name="adj" fmla="val 125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9" name="AutoShape 11"/>
          <p:cNvSpPr/>
          <p:nvPr/>
        </p:nvSpPr>
        <p:spPr>
          <a:xfrm>
            <a:off x="6372360" y="3860640"/>
            <a:ext cx="2087280" cy="1944720"/>
          </a:xfrm>
          <a:prstGeom prst="verticalScroll">
            <a:avLst>
              <a:gd name="adj" fmla="val 12500"/>
            </a:avLst>
          </a:prstGeom>
          <a:solidFill>
            <a:srgbClr val="5867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0" name="AutoShape 12"/>
          <p:cNvSpPr/>
          <p:nvPr/>
        </p:nvSpPr>
        <p:spPr>
          <a:xfrm>
            <a:off x="6372360" y="220500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1" name="Line 13"/>
          <p:cNvSpPr/>
          <p:nvPr/>
        </p:nvSpPr>
        <p:spPr>
          <a:xfrm>
            <a:off x="3851280" y="2060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2" name="Line 14"/>
          <p:cNvSpPr/>
          <p:nvPr/>
        </p:nvSpPr>
        <p:spPr>
          <a:xfrm flipH="1">
            <a:off x="3924360" y="2060640"/>
            <a:ext cx="10792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3" name="Line 15"/>
          <p:cNvSpPr/>
          <p:nvPr/>
        </p:nvSpPr>
        <p:spPr>
          <a:xfrm>
            <a:off x="3924360" y="3068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4" name="Line 16"/>
          <p:cNvSpPr/>
          <p:nvPr/>
        </p:nvSpPr>
        <p:spPr>
          <a:xfrm>
            <a:off x="4572000" y="4292640"/>
            <a:ext cx="21600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5" name="Line 17"/>
          <p:cNvSpPr/>
          <p:nvPr/>
        </p:nvSpPr>
        <p:spPr>
          <a:xfrm flipV="1">
            <a:off x="4788000" y="4508640"/>
            <a:ext cx="28872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6" name="Line 18"/>
          <p:cNvSpPr/>
          <p:nvPr/>
        </p:nvSpPr>
        <p:spPr>
          <a:xfrm>
            <a:off x="5076720" y="4508640"/>
            <a:ext cx="2160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7" name="Line 19"/>
          <p:cNvSpPr/>
          <p:nvPr/>
        </p:nvSpPr>
        <p:spPr>
          <a:xfrm flipV="1">
            <a:off x="5292720" y="4220640"/>
            <a:ext cx="4316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8" name="Line 21"/>
          <p:cNvSpPr/>
          <p:nvPr/>
        </p:nvSpPr>
        <p:spPr>
          <a:xfrm flipV="1">
            <a:off x="2484360" y="4221000"/>
            <a:ext cx="50328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9" name="Line 22"/>
          <p:cNvSpPr/>
          <p:nvPr/>
        </p:nvSpPr>
        <p:spPr>
          <a:xfrm>
            <a:off x="2987640" y="4221000"/>
            <a:ext cx="216000" cy="13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0" name="Line 23"/>
          <p:cNvSpPr/>
          <p:nvPr/>
        </p:nvSpPr>
        <p:spPr>
          <a:xfrm flipH="1" flipV="1">
            <a:off x="2410920" y="4581000"/>
            <a:ext cx="79236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1" name="Line 24"/>
          <p:cNvSpPr/>
          <p:nvPr/>
        </p:nvSpPr>
        <p:spPr>
          <a:xfrm>
            <a:off x="2411280" y="4581360"/>
            <a:ext cx="122400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2" name="Line 25"/>
          <p:cNvSpPr/>
          <p:nvPr/>
        </p:nvSpPr>
        <p:spPr>
          <a:xfrm>
            <a:off x="7020000" y="4365720"/>
            <a:ext cx="93672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3" name="Line 26"/>
          <p:cNvSpPr/>
          <p:nvPr/>
        </p:nvSpPr>
        <p:spPr>
          <a:xfrm flipH="1">
            <a:off x="6948000" y="551664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4" name="Line 27"/>
          <p:cNvSpPr/>
          <p:nvPr/>
        </p:nvSpPr>
        <p:spPr>
          <a:xfrm flipV="1">
            <a:off x="6948360" y="4365360"/>
            <a:ext cx="86364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лина</dc:creator>
  <dc:description/>
  <dc:language>en-US</dc:language>
  <cp:lastModifiedBy>Денис</cp:lastModifiedBy>
  <dcterms:modified xsi:type="dcterms:W3CDTF">2018-04-10T12:38:52Z</dcterms:modified>
  <cp:revision>74</cp:revision>
  <dc:subject/>
  <dc:title>PowerPoint Presentation</dc:title>
</cp:coreProperties>
</file>