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0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7EC-0493-4C77-8F6B-20540628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92B-1D62-429C-AF1F-5BD65EC1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CC28C-6FA0-4EBE-9D71-8793616C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E17C5-4C22-4F9F-9B18-9337A2BA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67583-8C2A-4EA1-A999-02C37A15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CC96C-B6AE-49F7-8E13-7F53205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1B3C3-C839-4927-ACED-DDB2AF2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53A2E-0625-4D3B-AD4F-C0A7028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41AD1-FE08-4B6C-AFEC-B1024758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BFA32-D199-4583-AB65-96560FDC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F3A6B-6DC1-44A5-A15B-63192B16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2C7B8-E245-4BE8-9F7E-40567CEA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C70-9A2A-4550-A669-614BE360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FA0B0-6999-4FB9-B383-40552907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D0E99-033D-404A-B1D1-5F247E45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84A7F-9A84-488D-9D91-42671FCB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4F358-CD6D-4283-9E5E-3FC2B595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5B121-4B6B-4E64-B6DC-9E2E4BC0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5D555-8BC6-44C0-B884-5574FA43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25F8A-B095-4D99-885B-1F49D6BA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5AFD0-2381-4E26-AC75-238CB2B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84A0B-9103-4051-8200-15CD65C9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77FD2-3B40-43A4-8594-02D8041A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92A-4575-491D-8D47-CCCC850D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28D2C-7BC7-4AF3-982B-5ADEEDC6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70DB4-F58E-41D1-9DC1-41440997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EC78-0ADA-44C7-A7BC-4F9F5F8D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AA917-C9A3-41E5-9202-D9D900A8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B8869-047D-43F1-9B0A-DD6FD92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B45E8-7353-449D-A62E-ACFC14E1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E0CFA-BA32-40F8-9010-E6193CEB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ACDE7-E860-4CC2-8369-F047FDB2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5E718-C428-410B-9833-0B7584E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52F4A-97FD-48D4-B091-3183418B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A80D-78B5-4512-BA45-799D019A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19F66-DB49-44C4-A522-7E2EEED9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55463-4A91-4E68-8A3C-9722E141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77793-ED1D-437A-A072-69A533B4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688B5-58CE-49F9-BCE0-50BEFF76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CE684-12E3-4207-8067-EED68E30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49FEC-2C0F-4DD7-A02F-2C9D9F09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23D43-5A03-4690-80E3-BDD42712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4C72E-B04F-4053-9096-60BA80D4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AD6A2-22C1-441A-BD21-A974DCFB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31700-71FE-4B1D-ACB3-DE4AF006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ADB4-9173-40C4-83A9-728E8D64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B6ACD-6AD7-48F9-AB14-0508220A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92A4C-E15C-4F1B-9691-CA27405F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9E98D-47D7-4D8C-882D-1C0C4A2E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D0BCF-EFA0-4C37-9B64-FB415161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FE82A-6734-40F3-AD2E-92645331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D61B2-60DF-450A-B871-7ABE8C40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7714B-33A5-47C1-A36C-3EA7B1A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1198A-29C9-4930-8DE3-D221CA7D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EE43F-0277-4066-AC57-B2B52C40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7C867-69D7-49AC-9E9A-39A299FA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F7D7-A0FD-40B5-9B22-36A1C7F8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B59BF-6C6D-470B-A7A6-899F35F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9408F-603A-4EFB-AE9C-764E5B06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06E4E-2A84-4F25-90C5-C939C87A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E766F-D930-49F1-885B-6864996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32575-7483-4444-A6CB-2823B73E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C0749-2644-4B5B-8E2E-9E5F2D24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93B20-6692-4C68-8DC4-3493D6B6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6211F-3DE8-40AF-BEEA-A2F16123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7C43C-9501-4B2A-BD5A-69A8AD5B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984AF-7B24-4E2E-93A4-C2F19F58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A72D-E7B6-4CB5-8740-288F788E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C39EC-DBD3-4C41-808A-6DA95082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0AA56-CB5C-4AB8-A56C-6DD52C3C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5BF18-5314-4E83-834C-E68B3829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A9423-0F4E-4B73-B71A-3EB0028B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5580F-AAF0-433A-AC55-BD6F947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1E3D1-29B6-425E-9BD2-E9E9DC02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2CE68-1E7D-4C07-A44A-880BFADC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37923-894A-4C18-B6CD-09BC3864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AB148-4A52-4494-B947-536A7EF9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ECB693-7ABB-4632-9F55-AF3EDD16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0BF4-B84E-4B69-8C73-D7F85EC8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2B640-5D77-4B01-A0D3-B8FB0F9A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32289-16FD-43C9-90D3-960DCC1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6CF15-932E-4F16-999B-8857F30F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426DA-3B57-45BB-B837-31AE8DF0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CF6BF-16D2-4887-9F31-F96C445C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031BD-E6D5-4927-B684-C60FE1D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959D1-C877-4526-8C30-C9D12AC7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DF7FC-DBBD-44C4-BAAB-B70385E8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1DC97-06E1-4B3B-B032-210F3D5E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18E5F-7D0E-406F-BEFC-1B2254AC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D473-F783-4A88-9AB0-A08DF0E4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F6B6F-32D4-4272-9223-1417BFA7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ED283-C048-4616-91F2-28C45058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7C7EF-4C2A-4FD6-897A-7A0B9709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7C773-DC7E-4848-AFB9-2C7D0AA1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6E088-28C4-494C-9F53-E24DB41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E4E889-364C-46B0-911F-52DB694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097D3-7C39-436C-8E49-302E11F3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262F3-FC6B-4B7A-93B8-D7F0076F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10176-C49D-4DBD-BE14-5EFB992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3E13A-4394-4B8F-92D0-366C5B3D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DDAB-0D68-4E15-8079-AF8EDD8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89247-652B-4509-9982-70838EA8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407C2-4685-4118-AA66-AA2B839E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69EE2-B99E-4688-AB77-CC307802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E8C0C-42CD-4F6A-89BF-34C2F0A7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3FFC5-21E0-4F5B-B30A-7332ABA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7D544-C6A1-4BEB-A6B0-1E9DF150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6DAB8-620D-4662-9BE0-9F8A6AF6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D09F0-1569-4261-A49C-9EA9E4C3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43F0C-7557-43E5-A0A4-4871D28F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0CAA0-B102-4E8B-A469-613717F4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D8F-BFC7-4B62-A8CD-96FF6EC6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B590-6B59-4DC8-A213-D67C9970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C35C26-9041-43A9-9805-59436A6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87ABE-024B-4F8B-A076-2E38E396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D48A2-021E-4104-8292-F34902BE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5B8E6-E49E-4222-824F-91DC7B3A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EC40B-1F84-4358-93C4-33B72169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EA032-CB06-4B14-8526-9B39B78F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54931-0BE1-4572-A0BE-0B866552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BB03F-03B6-4334-9426-7ED82665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6CA71-4826-42ED-B534-3B07E5CA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3EC9A-567A-4890-A7B0-8B61E7AF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EF7C-1683-447F-B289-48B613C6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AC03E8-6C9D-41B4-9817-CD8E85E7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8C5AB-2DE0-4411-9243-B55BB9F1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157C9-8901-4089-83EB-D37774FD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DC6D8-B988-4F12-AB1D-C807853A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BF1CE-26ED-4A61-AADB-3DD5AB83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09D88-49C5-476F-BBEE-7CDDE1EA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FEB24E-C97E-4CC6-9CBF-7D8AE33E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28394C-2950-4548-B52C-425A5407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E7C4B-06C8-4CC1-B703-209843A0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93AE1-1B52-4327-9414-509A80C5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EBDF-CC96-4E30-ADC5-0F983AA5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5E610-C58D-4510-AB6D-2B52F2B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30978-7DC3-478A-82E5-0761A2B4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F8243-FF8D-4C53-8CC9-FBCE14D8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459F6-F1D7-4E4B-BD7F-1ADC56D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E3827-0993-4CEB-A8C4-CF7E6DD5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96689-F263-4F43-9861-2BB72E36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7E506-169B-467F-B9CD-4DFB2203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5B925-D805-489C-BBD6-88F2F61B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2D863B-1679-43A3-A6E6-5181DC5A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6D42EF-5F27-4EEF-8FDF-4E38AC9D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A49E-872A-46EC-BD71-35110D77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D5C6F-AD0A-4FC0-A613-923DA079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ADBF2-52E5-4356-863C-656A0CEA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E5CF1-E135-4DA9-8C6B-314B9FB7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F64C2-876F-4B6F-BB80-290958CB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94F36-2068-47ED-8EAE-14779CE3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8C4BD-976E-4E81-A45A-DD114267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96748-21BF-4691-B370-7321D09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E4577-4400-40B1-AE15-C8E64E3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161F7-DDC0-4E1B-AEDF-BEC89FD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F3F230-720B-40BF-9024-934BAFD4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3C2C-6F60-4B2E-AD37-ABF4D9C8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58FF1-86C4-4196-ABC4-E6F51AC4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AB5A10-A442-44F2-826A-920A34E0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C06C3C-6DD2-4845-B004-F24CC95C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BDE45-4A61-480F-B81A-5D7167B2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FAB90-7769-437D-A386-3FA1734C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D2AEF-491C-4938-BCBC-E310C93E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F98B8-1756-45D3-9725-087C6D3C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67AE02-F055-456C-A9EA-C996157C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BAD4DB-6F1C-4767-9233-2EFC113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B5D875-6272-43D9-B83D-7FE6B5D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8854-3D08-45AF-8C2B-0846EE24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E3F39B-4DCC-4119-B997-D7C45372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0B75C-C7A4-45F6-97EF-A8CDF43B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1525F-8F91-4578-9176-865743C8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F91DE1-75E3-48BC-BAD8-A0729273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155C2C-1B17-4A0A-AC99-1BF21F0F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176170-5C4A-43F6-BE94-A9D70AD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3DD3F-4BCD-4DF9-9825-7792F3A0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BE33A-BE12-4181-9032-2E88E62D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540C2A-A6BD-403C-AC35-2FD95168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05133D-75C4-41E2-BF9F-6FBD5D07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04E2-5508-4FA2-940A-677E986E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0ACFA6-02E8-45C8-AB9D-F365CB9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6725E0-12E4-4F9D-8E1F-4691FD23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538FBB-2272-4254-B5B8-AD602BF4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186C70-2E02-4E36-841A-8587D358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C0638E-1FF8-4510-B63E-368C151A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BEE7D-904A-411D-B92C-4899C1C7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BEE76-3159-462C-A0E2-E6B4AE78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B69053-FF5A-4F24-BF65-53E854D0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197947-C6F8-4888-AC21-4891DAC2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A4A549-0CEF-4FAE-B254-212F70BA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02FE-4EE9-401C-8102-A990E4A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A9F76F-2D95-4E18-B78C-242822BA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51E358-C47E-407D-8A05-2749694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5E69C3-54C1-4644-942F-8D13BEA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8413EF-225D-4D50-B00E-DAACB3B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E76F5B-26A2-4E11-8EDE-E4764655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77F881-9C7E-4B6E-84C3-1942E2B4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F0BCB-E959-4523-8A8A-F834F828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DEB437-2CD5-44BC-886A-92FC2B95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00FE1D-D787-4A40-9D08-C4D88CC0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BE9603-ADB7-4AFC-B7EF-C173351E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5C0C-952B-423E-BEEB-60F160E6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88D001-6A10-437B-968C-B5532371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C96AFF-E27B-4CF0-9A50-06A1CFA2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171A5D-04EC-4969-84A3-DF23EEFC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210CDB-C025-4047-BD6F-06E22E05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27ED57-8874-463A-AD94-D093712E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110589-5C6E-40F1-82DB-BA904B2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26B74C-0F26-4E5F-8803-A2FBDB4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0C5B22-BC26-4988-BF26-1BEA1142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B39BFA-9525-4207-A1BB-C872BA72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3D9474-D9F0-4ACC-A4FA-9F745176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A0261-C402-4A2B-A6F2-2B55D02B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D1393E-E1DF-445D-A3A5-06AE805B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979ACD-73AA-4545-8EE7-DFC323EF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268A68-556D-448B-B9C8-1C20645E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646D31-E9EA-4403-8247-E90E2C14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E3EBD8-CD12-4A20-8912-1A4FAFCD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9769C2-1A21-41FF-9765-14E91AF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78D02F-B06B-4AEC-9449-8250272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A6E2CA-FFCF-42B7-9DA5-B946436B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1DBCFE-48F1-46F3-8A00-E6D25143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C4A779-6EE7-44A6-A303-301ECD90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5E8-435E-4987-AA2C-3DA4FF6C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BC11-D447-4ADD-9B77-3656519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954144-20D6-434F-9F54-6DEF7939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D945E9-6AD9-4315-BEC9-8B40BA55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CF3ADA-C9C6-4D7A-84C1-2CD9A57F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C51EA9-1342-44AA-B5E6-52DB154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C62497-DC63-432A-9819-C5C30C18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CC31D2-E28F-4DCD-B2B8-CDBA4078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1A44E7-FC4C-4228-B0D3-4CECC924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57C244-5047-4FE8-8EF3-CB27EDA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58C344-20CD-458B-9A1B-6584C964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4FBBCE-48D9-40A1-B532-5A910C94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E288-363D-4690-8940-268A201A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747410-5E54-4415-839A-A36F092C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0A3025-9626-4F63-819A-F6A8093A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5C7025-4F34-4512-847F-6A09A98B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8CEA9F-81B5-4FED-AC97-47D8CCB0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784DFF-8FF9-4D31-8AEB-240BEC4B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90102A-4FE7-4DB9-8C09-5B80D46B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D032F8-330C-4BD0-A3DE-7ABA664D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A21EEE-E809-43A1-B353-DB452F8E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D2E895-818C-41EE-A786-6BD205C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183E78-D9D0-426A-AC1E-64E4648B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B447E-94D9-4427-93B1-F6D2E07D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4E061E-BC7E-4DB5-8F74-8D56D677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DD4B1A-6F04-4F5D-8CBA-1C0A098D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6DEF29-75DD-4C91-8A3F-B76C4AC4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41D86E-09DE-4464-9740-13A4241A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97A3E3-989D-4BF8-B01F-F0E132E7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B0F8FC-696B-4DE1-9B97-B17A5A55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390BE9-A3F0-4B1C-A16A-5DC75219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DD59EC-EE60-41B4-AB4E-8562207F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15681B-F9D1-48A6-B684-CF091A6C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2C8C52-BFBE-47E9-B74A-E842A80A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F5B1-D941-4BC2-A110-EA37DD6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AE91E3-C80C-4784-9D24-FB228642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0C032F-E332-4BC4-A1F7-F3CFD64D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C0FACC-3E0F-44EF-9F78-C0F7446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47E0A8-A1E5-4F6E-903A-2E1E4C65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416137-98AC-44CC-8433-56000695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C05899-117A-43EC-8FD5-CBA41677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043CC8-4E3F-47C7-9926-612C6465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CB5AD1-1BC4-4144-85A8-F4F6EC5C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AC9FA1-89B0-4BD3-9CEF-93F4A62A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4D26CF-993C-4CED-AEBA-53DB9B21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1E66-36FA-4AA8-A8F6-61487D59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385AA2-415C-460B-B9E8-C3AED553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5759D0-E96A-4EA5-9D3D-C4C4714C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286C91-E7F4-460A-B9EB-A6A536A1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69336A-C2D0-40AD-AA47-540D4C13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F83C9F-A13B-4011-9F46-5DC58F05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B9BF83-690E-484A-B54C-F6FA6C69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F962AA-5126-4AD3-BC32-9D543F8E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6D1F45-E82C-4E1B-A3F5-96844939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A90581-11DD-4B81-AAB1-51E6A465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049B62-A266-4A62-8BBF-3CFA17ED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BA28-7670-4485-B740-7C09C648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CDC751-DE85-4A7A-A386-58D225E6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DBEA55-949F-4A29-8F42-CFB139CB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038BE6-35FF-4EA0-BE5E-567691B5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2B88C5-FAA3-4B98-B32F-C2C3C3ED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04CCE1-D436-4D6A-9F8A-1BBF5CE8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7584E0-4C53-4B73-BC2F-62BFD9E3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B1B4A2-E4F1-498F-8573-C219D0A7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718E6B-3040-48C4-8D5E-A766787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DD811D-3D48-4959-9C15-3DDE48CE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B9E804-ED7E-4EDA-BCB6-652BD1DD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6ECE-7050-40CA-B573-42E39796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A4FC11-8A5F-421F-83FB-FF6F6780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94967A-8675-4B92-8EE2-91CFEBC0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83B147-FB66-43D3-9853-5972EEF5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7FA09E-70E4-408F-B096-F3DC7638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5B4EDB-A41D-4662-998B-4A8F7973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AC25CA-82A4-461E-96E7-AAE23A86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D57D1C-6C68-443C-9A11-9B6AE262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718F5C-15FA-4B76-8318-D53B5EE0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CB7F13-9881-439A-844E-2BC66FAD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EE9E7C-39DB-4307-9CF2-33C7C99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76B7-0EDF-4C21-8AC2-C787E099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1E8F4B-350A-4E13-B506-5C49403F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11F3F8-8E1E-4293-89B0-AAD79132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131AA9-6EC1-437B-BD6B-D5F9482F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3B4871-1B99-4506-B19F-C3C0234F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B88F8E-0D63-462B-9BD2-1FFD6A0E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EE0DC3-F556-44D8-9750-AD0F0A49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71D09B-38CC-4011-AF81-17ABB2A5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605B99-F38F-43EE-8E89-86ACEE5E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89D775-6605-4D01-B892-EA4897A3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AD6B82-CCA2-4CE9-8743-3E979BE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32D8-45B5-4D97-8067-EBD86343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7250BF-B21C-42D9-BE41-1902EF8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273EC8-18DE-42BC-88FD-9DDD9DF7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13D631-1623-4F5A-AD6E-7C31BED2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DBBE8A-C6F5-4FCB-9A68-08CBCC6E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77302C-32EF-4514-87DC-9E283326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E3F976-B778-4F34-9B5E-A07357BB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FFB20B-1FB6-4927-B7F6-E1E21F86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B8A030-EF38-4324-9F12-C894A7D9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446F42-CC99-40AF-BCFF-533A8B7B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EAE706-D044-4E26-B292-40CFA9ED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6413-1582-404A-9248-318206D1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970C6B-90B9-4063-895F-6683465B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51D355-C5A9-4190-8C3A-BAA6BC32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172A11-A3A0-4022-BD00-A170912A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BFC04A-2A9F-4CA9-8C63-67079A13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EDC58B-271B-4A62-A820-990E32E1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2D2AF7-02BE-478E-8CEE-C123C988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17855C-E4DC-49F1-BF43-EA0FB5ED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000AC8-2156-4BDD-8557-71ECFE66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715529-F768-4FBB-8676-23B40D73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CE2EAB-C307-41C4-AFEE-0F5F30B9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2A4-1704-418F-9B75-F94B52CB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8FE6-B0A6-4500-B146-A27E1511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430425-4EE9-45E0-8DA3-BFAD3DF3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AE9CD1-C64D-419A-A6CF-EB73AC0F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98E66E-6BC7-4787-8CA8-B5CB7458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5923FE-1A06-441E-9664-41C464A1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8E891D-283F-45BC-BD71-D799D91F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8863F9-7EA2-41F1-812D-879B437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9F00D2-DC96-43AE-AE29-EC1A8312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2664F2-57F0-421A-A4F4-7A37ADFC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E45624-896C-4EEE-BCA4-0EEE1686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FBCF05-50B5-4002-8CE4-80420ADF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A10B-8FFF-43ED-9322-AF7BD602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E2F027-0D50-4D4A-82D6-47AAF1C3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7DBBE8-5127-4064-81C8-6BF38987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0C14D9-6F8D-402C-BE01-A067473F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4B076A-32B1-42E7-812A-5D3EECE8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F7E9C5-5E78-472D-8AB2-7778558B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9CD476-9386-48FC-9C15-56549B7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1ED7E3-5346-4828-AD21-1D5ECC2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323B49-08F5-43F3-B5BB-5E7F8761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BCDEE0-5DE3-4BE5-83D4-08BCF6AD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98F788-BF7F-4EE1-A144-7DAA5351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BB13B-3674-4611-89F3-A92E4C25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158242-3492-4353-BA20-2B8538F2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CC3903-8A77-4023-BE07-D898BE74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8E7B97-C78B-4CE1-8125-112E59BB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C9D44A-4FDC-4D48-9DC6-D78E16BA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7C3481-1BBD-4B77-97BE-1D89B7C8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ED4138-D188-493A-8606-C93CAC82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047B9F-0082-4585-83E4-05C2C57D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0FDA08-761A-47FC-A183-61622261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628090-DCF9-41D7-9B1B-E1F2470B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BDCDDE-3BA5-436A-999C-6A5C9C2C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DE7A-E8A0-47E2-9851-4B63FB49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F4FB61-D812-4EB0-B52E-94DBEAB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D2ADDC-C750-4D56-9A7C-20068277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1CEDC7-9C84-4866-A0F0-29C45CE1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AAE9B5-1D18-4A39-96AC-3DDF9828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4AB5A6-26B6-40A1-9E2B-FD5A72F2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B744A4-3DEF-4A9B-9725-E5A9F443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A7AA12-9BCE-4331-979F-28560BAF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48865B-7FEB-4AFA-B3E4-48F4B5EA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26CE3B-EDB7-4483-AA73-179115A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A1CAE4-E248-4B95-9483-EE933B8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9B70-4B4A-427F-BBCD-2175C21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E1BCDB-0104-4377-8B20-F9604999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90E8E8-70BF-48F3-B3A9-33FDC5F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FE91D6-4FC7-4573-B6EB-6F4904A6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FCA03B-4E24-473E-9F70-10F5DC08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1C7B96-4620-400B-A0DC-A7A90BC1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669FA33-3F3C-40F0-98B1-3871847D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B306EE-3A73-4A24-BEF3-6ADBFA20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FA744B-02CE-41BC-AC54-1650F35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D44305-9C3F-4CA7-ACB1-340A98C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F6F04D-8BCA-48FE-94A2-3882804B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8FBF-5A9C-41EA-B11E-76939CD2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F8CDE5-80E1-4F54-A246-F3477169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6C53C5-52EE-4E0F-AD50-D7CB873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A272E6-1EA4-4100-AD65-89CACC8C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79E3E0-18E8-4811-B6FB-AA530F63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F2FC35-DA22-4651-97A3-C61BD15E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8E702E-AE0A-4194-9947-D4D6AABA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122492-94F1-4FFC-9785-B07DA8AC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301FFA-EDCD-4B23-AF64-9AB50184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A3689A-42A3-43B8-9E67-0C3E81BB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BD4CEB-12BE-4566-A818-6E8A55AB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00AA-73DB-47A2-B967-2AB4BD4C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EB3E1B-1345-400E-94BA-2580817F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D370F5-6FD7-41C0-B3BC-FFA7DB1B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540FAA-3643-4BAD-B32B-56B4C422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8D8C6B-2853-4CDD-935B-3DC94F8D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AAD681-B3EE-4882-AA46-4C7DC3ED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564E5F-DAE5-4FD2-8450-4AB00CA4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C1157D-89D9-4FCB-9699-B64EFD26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0F1F512-16D6-4E86-9FE6-255FD1FD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3EB27B4-6E6B-43E5-9ED9-7BBDD7A5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E5ABD7-7BFF-473E-9392-2F7CEB19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AD0A-87BC-4ADC-BBA8-A64DCCED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67180F-45DF-4B62-A488-41816B6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88136F-5EE5-4D9B-9FAA-9238E05A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E9822A-81E5-4EC7-AEA0-AF84BF3D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036353-7939-4928-89B1-072C8F05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29E503-4880-48BA-AFD2-6D7BB74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5566ED9-A91D-4E26-8757-1831AAF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E682F3-379C-416A-837A-56F99B3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004591-ECF7-41FB-93A0-1D07B325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D8ED13-4918-4364-B4E1-BFEE3257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52D8F7-E2DF-4A5F-AF5C-3AD5CADC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5D7A-862A-4BCF-8C35-3B07E157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1E900E-7112-436B-9EE7-88791BBC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1CEA73-4C57-45FD-9A63-315E12FD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FE47EE-A76A-49BE-9741-25C75753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D31EC8-CBFD-42B5-BD70-48ACB969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159C8D2-13D8-423F-B252-A29A8B91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DC9BE8-79D8-489B-A295-8046C137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E92EC7-3143-4124-8FA1-3BC2EF7E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A88725-086A-4ADA-AE88-6B457C71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60237C3-4807-4E5C-9487-0921721E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FFDD4A-4FA7-483B-A881-B8210715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9F39C-5D0A-4BF4-B090-F5107791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911B62-463A-4D38-BE38-638D3ECC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24C5A9-986B-40B9-9202-CAA22C5F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D8181C-63DF-4959-8D79-581D401C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8B49C12-EE2D-4D5A-8DF0-9F7184C5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81FF04-EC5B-487A-A609-EA4D294B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33B995A-5DCA-46F2-9F83-7E24529E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987895-45E7-49F3-8A57-110F2969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44B07A-8E2E-4DB0-803E-DE339AF0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B21672-1FFA-4098-9EEC-E2E33807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E342BA-E0D9-4D07-A694-5FCD979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A2A-F371-49D6-9EC1-7385CC8E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46F9-0D98-46CD-9075-8068C540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B05C0F-3137-4D57-8E84-C1C3388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909820-50D2-483C-B379-3F32C45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DC4D64-8BE1-4A18-8AFE-FDFC12E1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04E9C5-A7AD-4CFD-A09F-C068F482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97CCA0-A877-444E-9A78-CB8FA56B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D07250-A564-429B-92B5-0AEF5DF7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39E3E68-5F63-4AA5-8CD3-2DB1E9C6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92D138-E4C7-441C-9BC3-BAA3EBBE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4F2174-B184-4B97-AE71-EE29C4FC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13DC6EF-132D-4671-9590-D533465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DC9EA-4CC7-4B83-8EE9-FA32AF69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FB5DFF3-05E1-4784-9EA5-DD1D24C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5DB84A-F50B-4E2D-A376-1F77EEAF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FDB1E9-173C-4A0F-97DB-908CC65A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5D1C1E-EA79-43EC-B438-51243771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CFD587-4EAA-4E26-87B1-9BB909BF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C2B48D9-F4A9-42AF-B16B-8B3A2004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0529DA8-A5C0-4238-98EA-A73D84F6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15D539-804D-48F3-9774-948488C2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FADB98-36FE-45CC-9E9A-168D8D93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66FDA0-80AB-443D-AF38-49640150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9372-3DC9-4D95-A8E3-5CB8D551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7AAB4B-5581-429C-978A-25829D35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F44946-659E-4789-91B3-D532C6A6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267AE9-9C14-486C-AC18-79C8965D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43D155E-74D7-4539-83F6-FEA2841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D7BA65-CF26-49FD-B7EC-CD621103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CAD84B-9842-4CF6-B0C2-7359FA4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43981D-1FBF-4D77-8A8D-8F92E1C8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C5D0EF-2E6A-4754-936E-EE98CC9F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D8D58F-49E1-4E61-980B-800C927C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87DE894-2C5E-4FE0-A506-5873A9E0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4AD43-2C54-484D-B089-975A1AC7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A3405D-6AE2-477A-816C-7F1E3FDE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17B9F8-CBBE-4511-A1FB-E39A3D65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EFC5CC-B0D4-4C6D-8650-6E8BF747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7D7D1A-720A-467C-BE89-665936FE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05EB204-8F04-4672-841F-F708A6B5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3F62A1-2008-4D17-A66E-806261FE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18A4326-4410-4E26-A609-B4261DF2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6D8B9D8-F825-4852-8ADD-48EB7A2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72FDF61-60A7-476D-8B72-C8A5BC87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BB8CAE8-7277-42AA-AF83-CD075E0C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3D81E-5A53-40A9-A0B7-9E15A089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A70921-F3B2-4458-BED8-39B4EF29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FEC517-23C8-4F67-B045-10B4CF1E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C8CEAC-A3A7-434F-98BC-E9898529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783470-9C9F-4B0C-94EA-3DE651DB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F9E3CA3-2B4A-4EDE-9AB1-E6771894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F420D0-338A-4E46-9986-E7617B3F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28FEE4-23C2-4EBE-A60A-9894F060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F50E6D-B446-406A-86DD-F4D3AA02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394EA0-94B9-4F43-964C-EA0E6F1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07B7BA7-EC4A-4D71-A272-5B92013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5A78C-5240-4378-BF66-19379E16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328519-E6F5-45C5-A257-F42008A1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3DC419-2F2F-4A6F-B3F8-B6CEA915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3BAD0B1-012E-45A9-9A91-7D59FA7A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5FBAE4-4EA4-4F6D-99EA-5751758E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52B7A9-ED81-43A0-888B-A61CCDE9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B64B7D-B7C9-400E-A2A2-3B44DD5A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0E3444-9AA8-41DB-B687-40E9E91D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131905-A5CC-4D9F-BCEB-DB6635C6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6BDFBBB-7C6F-4FFC-876C-39C7842A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10E2D0-16E2-4F22-A6B9-6AF7EE11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39C28-C45E-4CD3-8C3D-C5663226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405C27-1B3C-4C7E-AB81-581680EA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89602A8-D9AF-496E-BA6A-4F3CD11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ECE16C0-DB60-432A-940B-28312CA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1EF2F6-496A-44E7-AFE0-52C20E73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26AD1EE-043C-457B-94CE-12D87CF1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EDF3E7-5EA5-43D8-82A1-D43079BF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932324C-8625-4A4D-84BB-3B7B9C40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C28C74-80D9-4759-ACDE-8EF792C2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4BB8BC-8395-430C-BD15-0202BA9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39814A-5921-4BCA-ACB1-C5C5A2E5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BB489-D109-4506-9F22-7A5819C2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8E80A70-7E4D-4EFB-BD25-644B0D52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DA02FF-CFC9-4F0F-9057-BCBF4BA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3A77E1B-5A47-49E3-859B-2761EE3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AD7ECF-AF00-4F72-A9B8-F621AFDA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BD091B-8B92-499C-9DF1-54B96D3F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6E3E89-D0CA-41C2-B2AF-918AE17A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378721-10B2-43F1-9110-9AFEF983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15A10A-127D-4765-A6F1-6D4096A8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7607C80-B344-422C-B35B-5CBB1643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D0F142-DBCE-42B9-8D0F-76319E2F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2887B-141C-486A-82C6-F8C40634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FD32F3E-7522-4154-8D19-8DE3249B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168FA2-BE4A-4FEB-8C71-C8A1E04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D2F7D85-8593-4F22-9261-69256103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427043-ED2D-4530-AB21-4EB22349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393211-666D-4671-B9EC-305D09D0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1025E8E-F387-4FD8-81B9-C2311A39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E51EF14-2521-464D-8608-65403C7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FDDA5BC-A6A7-4C41-8789-2E652A75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8BECF3-F761-4D10-BEC1-ADA6EED4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5F3A0DF-B3E3-4CBC-AA26-9C474B40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A8193-973B-4BD6-ACF5-B6F9917A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8C01EAA-50AF-4A4B-8B6B-E33C813A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334846-A59F-4856-8A94-555E49FE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4BC546-2D12-4CD9-86DA-4B94FD46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037A733-7004-4FE9-9A85-F79B26D6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3DED4F9-ECE3-4A6F-A559-CCB4137C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29C4A93-72E9-476C-B62B-20FED7E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B03AFE-E195-4DFC-9CD8-F8C394A9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54F188B-01F0-4585-8F21-256E2324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AFCF982-19D9-430E-A348-4D1295CA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13AB665-31FE-4C82-B15A-2B6E0219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3F2-80E2-4915-9CFE-5CA4123F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06ABD-C14F-4814-AA3D-5ECAF172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C40474-E5F1-40EF-8BF6-22FD3268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5F74-1DB9-4F0D-9804-2FE5EB61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B8078-0411-4E3F-B7CB-E96A93B3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6B568-981F-4EE5-9DE3-B007F9DA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B53BA-EA2B-4430-B6FA-8E61051D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48A95-F5AB-4FB7-9BCE-7DA821E9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B8897-405B-4D3C-8355-D69F2369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2C2C0-2030-4434-A83B-D37992A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A851F-AAE7-4562-A532-D32F512E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02D5A-48EF-4644-A637-64CA7861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B9A-8B57-46FC-A8A9-DE805C0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8505D-09E3-4507-B9AC-021C9822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E1BD6-8D9D-4022-B28F-B20FEF54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AB825-2F2D-4753-B913-74F8FD00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33438-54B4-4CEC-B7D4-E02957D9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602EE-82BE-42F1-AFD3-310FA047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DA4DB-7F07-4DAF-AC35-AF1C488F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28E18-D622-49AE-BFE9-9AA4C994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0CC48-E9D6-43C4-B6B7-B5D51A3B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89B4C-8F7C-4E80-82B2-ABD20618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52CC1-67DE-4334-B1D9-C1F147B1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0F6-4100-479A-AAB1-1D979DB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17017-2574-4F29-9AB9-B97E2E9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B8245-1444-42E8-90F3-BDC85DF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8A64-9AF1-4A6E-9774-20E3CB3A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6BBF-731C-441E-9886-CC92B993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86918-F48F-4BA8-B345-8DD6FCE6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5644D-05F6-48D0-851A-139759F4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BFD6B-2138-404D-8E14-27F1EFA8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AEEA7-9629-4B49-A326-FED908CD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C5AF9-936D-43AB-A1D9-FAD74623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8EF5F-27DF-4DD7-B211-41B69F3E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A4A-DB2B-42AB-ABAC-F23363CA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AB5C2-F252-444A-B3DC-1342EC99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31687-EC05-4491-976B-7D42217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B8E84-D72E-463A-B141-8B842209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A7408-ADFB-409E-866F-BA2B7F3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5AE2C-B719-4F5D-81A2-3DDAA2F1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A7072-4C91-48C3-A841-83667ED3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47744-0AF0-4ECD-983A-0E1726A6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E9BF7-9B22-4A39-9F90-0AAB829F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AD09D-0B7B-4DFD-B68C-352B17F0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41352-BA93-42E2-94FD-6691018E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FBED-B0EA-45A9-B2EC-4D76056F06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6571-1FF9-459F-ACDF-95851D821E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493-4CD4-4613-BB39-1E648CB0A9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56A1-9720-489B-ADEB-8DCCBCDBFD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0918-CBEA-4057-A95C-6B79E55CF1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CB73-32DF-4050-B1FA-DE41213117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110E-D132-45D3-802E-A673F3E12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F954-9B51-4075-9C5E-5A8AA1DB70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342C-DB2A-457E-BDAF-CDD67E723D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6E77-ACDD-4E55-95A1-96AA9C5E10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6753-7143-40A9-B2C2-7DA690AE39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436A-CFF3-46BB-82AB-FAC9556BC9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2752-3058-49FD-A811-DBB480F010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363F-9E0A-492E-9259-5418EA926F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6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6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F4B6-7999-4A0F-98AE-BDB90041CF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6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6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6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2580-BC45-4355-91BA-53168F81ED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3F93-DD9B-4701-959C-21EAF27979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7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227E-B1FB-4543-A386-B045B7043C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7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ADB3-D507-430E-BE8A-A082FEFAAA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7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4FAE-5C67-43CD-888E-83528C0CDB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9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03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20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4FDF-D6EF-4835-91FE-B3CEF38AED4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8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8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8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98B8-4D30-4823-8FF0-AC01842D44D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1ADD-C2D4-401E-A78B-92B8476DB2B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36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39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8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8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 type="sldNum" idx="9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B609-F20C-486C-8859-A3C93C9AE84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9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9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9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0947-F2DA-438C-A586-C7230AC0758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9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9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9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9A9D-4DFA-4976-A0FD-D50B09BCA32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9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9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9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4A4D-86E1-4E10-9C86-A1EE63704BD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 type="dt" idx="10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 type="ftr" idx="10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 type="sldNum" idx="10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12ED-9B81-498E-A120-DF1FCB448ED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10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10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10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1300-5A7E-48CE-9F0C-B89A30D9511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10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10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 type="sldNum" idx="10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3CF0-069A-45E1-AB0E-4C5DD5D2C62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 type="dt" idx="10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 type="ftr" idx="11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 type="sldNum" idx="11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B603-C40B-49AA-BEA8-CECF6512D4F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11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ftr" idx="11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 type="sldNum" idx="11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DA4B-2D2F-4350-B5C4-17BE064C93E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6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66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dt" idx="11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ftr" idx="1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 type="sldNum" idx="11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A9D-2837-4D80-BF63-7738A8F2C31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717D-093D-47F1-96F2-26970CB03CA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 type="sldNum" idx="12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36A6-B393-4C78-B692-361C1E81C6E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2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2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8D3C-F9BD-45BC-8B3F-4789EBEEC83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 type="dt" idx="12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 type="ftr" idx="12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 type="sldNum" idx="12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5109-32CF-45EB-AC6D-F13D1AC16A8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 type="sldNum" idx="12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E884-02AD-4A60-95E4-DAAA6EECCCB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dt" idx="13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 type="ftr" idx="13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 type="sldNum" idx="13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4591-43C4-46F0-A33D-7BF94CA11F1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3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3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3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B740-193B-439B-91F5-B597E817C84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 type="dt" idx="13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 type="ftr" idx="13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 type="sldNum" idx="13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C81-FB58-4EE1-AE01-E537CA2D5A7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 type="dt" idx="13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 type="ftr" idx="14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 type="sldNum" idx="14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538E-B636-4365-B89C-802D263EADB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4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4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4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7D47-6699-4F47-9F5C-F2E136F07FC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 type="dt" idx="14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 type="ftr" idx="14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 type="sldNum" idx="14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82AE-0333-4D9E-A744-E8BCCB9BB32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2ADA-FB42-4F71-B9B8-800A5EC577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 type="dt" idx="14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 type="ftr" idx="14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 type="sldNum" idx="15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B66-24F5-48DC-A3BE-17D976CCD88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579E-8BFA-46AF-8933-2DB6B752A3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60A9-C8DA-4B62-AE40-E412433471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B500-8B9A-4290-BDD4-CE1F0AD425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0C2F-9343-4793-80FA-AD769CB2A0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CC7E-70CE-4C07-99A1-270D0189C7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Устный  счет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5" name="Picture 7" descr=""/>
          <p:cNvPicPr/>
          <p:nvPr/>
        </p:nvPicPr>
        <p:blipFill>
          <a:blip r:embed="rId1"/>
          <a:stretch/>
        </p:blipFill>
        <p:spPr>
          <a:xfrm>
            <a:off x="3851280" y="2421000"/>
            <a:ext cx="23050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FB8A-4E36-4556-A096-4B22026B256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33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ить незамкнутую самопересекающуюся ломаную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ить замкнутую самопересекающуюся ломаную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KLM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8" name="Picture 7" descr="сканирование0007"/>
          <p:cNvPicPr/>
          <p:nvPr/>
        </p:nvPicPr>
        <p:blipFill>
          <a:blip r:embed="rId1"/>
          <a:stretch/>
        </p:blipFill>
        <p:spPr>
          <a:xfrm>
            <a:off x="7380360" y="260280"/>
            <a:ext cx="1014480" cy="16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290E-DA93-4344-BD8E-7DD608512BE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ина ломаной – это сумма длин всех звеньев ломаной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479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           C    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                                    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f70f1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ти длину ломаной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ес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 = 3 см, ВС = 4 см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= 2 с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f70f1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ти длину ломаной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ес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= 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= 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2" name="Line 4"/>
          <p:cNvSpPr/>
          <p:nvPr/>
        </p:nvSpPr>
        <p:spPr>
          <a:xfrm flipV="1">
            <a:off x="1258920" y="3357720"/>
            <a:ext cx="576360" cy="8632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Line 5"/>
          <p:cNvSpPr/>
          <p:nvPr/>
        </p:nvSpPr>
        <p:spPr>
          <a:xfrm>
            <a:off x="1835280" y="3357720"/>
            <a:ext cx="13683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Line 6"/>
          <p:cNvSpPr/>
          <p:nvPr/>
        </p:nvSpPr>
        <p:spPr>
          <a:xfrm flipV="1">
            <a:off x="3203640" y="2637000"/>
            <a:ext cx="288720" cy="7207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Line 7"/>
          <p:cNvSpPr/>
          <p:nvPr/>
        </p:nvSpPr>
        <p:spPr>
          <a:xfrm flipV="1">
            <a:off x="5148360" y="2637000"/>
            <a:ext cx="2016000" cy="1584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Line 8"/>
          <p:cNvSpPr/>
          <p:nvPr/>
        </p:nvSpPr>
        <p:spPr>
          <a:xfrm flipH="1">
            <a:off x="7093080" y="2637000"/>
            <a:ext cx="7128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Line 9"/>
          <p:cNvSpPr/>
          <p:nvPr/>
        </p:nvSpPr>
        <p:spPr>
          <a:xfrm flipH="1" flipV="1">
            <a:off x="5651640" y="3357720"/>
            <a:ext cx="1441440" cy="358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Номер слайда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1502-F21E-45FC-9145-9E4AFBDD59D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9" name="Picture 2" descr="http://www.fastpad.ru/pic/map_hanteman_ao.gif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0A5-3782-4D48-8352-AD80E359D78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ходные данны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лет – из г. Ханты - Мансийс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ечный пункт – г. Советск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заправка – 1-я, 2-я группы в г. Ура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-я, 4-я группы в г. Няган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называется линия, по которой пройдет поле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 нужно найт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3" name="Picture 4" descr="47"/>
          <p:cNvPicPr/>
          <p:nvPr/>
        </p:nvPicPr>
        <p:blipFill>
          <a:blip r:embed="rId1"/>
          <a:stretch/>
        </p:blipFill>
        <p:spPr>
          <a:xfrm>
            <a:off x="5940360" y="620640"/>
            <a:ext cx="25192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4" name="Объект 5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42240" cy="5324400"/>
          </a:xfrm>
          <a:prstGeom prst="rect">
            <a:avLst/>
          </a:prstGeom>
          <a:ln w="0">
            <a:noFill/>
          </a:ln>
        </p:spPr>
      </p:pic>
      <p:sp>
        <p:nvSpPr>
          <p:cNvPr id="225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F7B7-2F57-44E9-86E4-5FD8274D1BA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1D7E-DC44-47B2-B687-59058D4D9A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Домашнее  задание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6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выучить определение ломаной, её элементы и свой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№ </a:t>
            </a: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06 (1)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5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0198-0BD5-4F05-BD29-C80F64A36BA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04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                      Володя                          Серё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                  В                       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= 300 м, ВС = 100 м, АС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170 м, АВ = 50 м, ВС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длина отрезка АВ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длина отрезка ВС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Line 4"/>
          <p:cNvSpPr/>
          <p:nvPr/>
        </p:nvSpPr>
        <p:spPr>
          <a:xfrm>
            <a:off x="2843280" y="26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70" name="Picture 7" descr="сканирование0007"/>
          <p:cNvPicPr/>
          <p:nvPr/>
        </p:nvPicPr>
        <p:blipFill>
          <a:blip r:embed="rId1"/>
          <a:stretch/>
        </p:blipFill>
        <p:spPr>
          <a:xfrm>
            <a:off x="7308720" y="189000"/>
            <a:ext cx="1014480" cy="1584360"/>
          </a:xfrm>
          <a:prstGeom prst="rect">
            <a:avLst/>
          </a:prstGeom>
          <a:ln w="0">
            <a:noFill/>
          </a:ln>
        </p:spPr>
      </p:pic>
      <p:sp>
        <p:nvSpPr>
          <p:cNvPr id="2171" name="Line 5"/>
          <p:cNvSpPr/>
          <p:nvPr/>
        </p:nvSpPr>
        <p:spPr>
          <a:xfrm>
            <a:off x="4716360" y="26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2" name="Picture 9" descr="сканирование0008"/>
          <p:cNvPicPr/>
          <p:nvPr/>
        </p:nvPicPr>
        <p:blipFill>
          <a:blip r:embed="rId2"/>
          <a:stretch/>
        </p:blipFill>
        <p:spPr>
          <a:xfrm>
            <a:off x="3995640" y="0"/>
            <a:ext cx="1290600" cy="155736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11" descr="сканирование0009"/>
          <p:cNvPicPr/>
          <p:nvPr/>
        </p:nvPicPr>
        <p:blipFill>
          <a:blip r:embed="rId3"/>
          <a:stretch/>
        </p:blipFill>
        <p:spPr>
          <a:xfrm>
            <a:off x="1116000" y="189000"/>
            <a:ext cx="1395360" cy="143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A130-DEF4-4ECC-91FC-17B53FB2061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сегда ли мы движемся по прямой линии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76" name="Picture 4" descr="j0183328"/>
          <p:cNvPicPr/>
          <p:nvPr/>
        </p:nvPicPr>
        <p:blipFill>
          <a:blip r:embed="rId1"/>
          <a:stretch/>
        </p:blipFill>
        <p:spPr>
          <a:xfrm>
            <a:off x="1258920" y="299736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6" descr="j0233070"/>
          <p:cNvPicPr/>
          <p:nvPr/>
        </p:nvPicPr>
        <p:blipFill>
          <a:blip r:embed="rId2"/>
          <a:stretch/>
        </p:blipFill>
        <p:spPr>
          <a:xfrm>
            <a:off x="1403280" y="4437000"/>
            <a:ext cx="25113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46821E-006 L 0.57934 -0.40624 E">
                                      <p:cBhvr>
                                        <p:cTn id="60" dur="2000" fill="hold"/>
                                        <p:tgtEl>
                                          <p:spTgt spid="2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96532E-006 L 0.21163 1.96532E-006 C 0.30643 1.96532E-006 0.42327 -0.0985 0.42327 -0.17827 L 0.42327 -0.35653 E">
                                      <p:cBhvr>
                                        <p:cTn id="64" dur="2000" fill="hold"/>
                                        <p:tgtEl>
                                          <p:spTgt spid="2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62428E-006 L 0.55486 0.0044 E">
                                      <p:cBhvr>
                                        <p:cTn id="74" dur="2000" fill="hold"/>
                                        <p:tgtEl>
                                          <p:spTgt spid="2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81 -0.00624 C 0.12673 -0.00624 0.18281 0.06844 0.18281 0.16024 C 0.18281 0.25203 0.12673 0.32671 0.05781 0.32671 C -0.01111 0.32671 -0.06719 0.25203 -0.06719 0.16024 C -0.06719 0.06844 -0.01111 -0.00624 0.05781 -0.00624 Z">
                                      <p:cBhvr>
                                        <p:cTn id="78" dur="2000" fill="hold"/>
                                        <p:tgtEl>
                                          <p:spTgt spid="2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7293-8E6B-4247-9B2A-1C0048D754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ма урока:</a:t>
            </a:r>
            <a:br>
              <a:rPr sz="4400"/>
            </a:br>
            <a:br>
              <a:rPr sz="4400"/>
            </a:b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Ломаная.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2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5085-6FBB-4144-9D9D-EF7BB4A45D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Цель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Изучить ломаную, её элементы и свойств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96D0-4790-4D38-B729-74B9EFEA82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Дать определение лома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Изучить её элем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Рассмотреть виды ломаных. Какие они быва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Научиться находить длину лома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9302-06BE-40C3-BE22-ACB76A66684B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AutoShape 9"/>
          <p:cNvSpPr/>
          <p:nvPr/>
        </p:nvSpPr>
        <p:spPr>
          <a:xfrm>
            <a:off x="468360" y="1268280"/>
            <a:ext cx="2951280" cy="2087640"/>
          </a:xfrm>
          <a:prstGeom prst="cloudCallout">
            <a:avLst>
              <a:gd name="adj1" fmla="val -25472"/>
              <a:gd name="adj2" fmla="val 59657"/>
            </a:avLst>
          </a:prstGeom>
          <a:solidFill>
            <a:srgbClr val="31e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88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данных рисунках представлены различные виды линий. Как бы вы их назвали? Выберите из данных линий ломан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AutoShape 8"/>
          <p:cNvSpPr/>
          <p:nvPr/>
        </p:nvSpPr>
        <p:spPr>
          <a:xfrm>
            <a:off x="3995640" y="1197000"/>
            <a:ext cx="2951280" cy="2016000"/>
          </a:xfrm>
          <a:prstGeom prst="cloudCallout">
            <a:avLst>
              <a:gd name="adj1" fmla="val -45268"/>
              <a:gd name="adj2" fmla="val 6645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                   С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AutoShape 10"/>
          <p:cNvSpPr/>
          <p:nvPr/>
        </p:nvSpPr>
        <p:spPr>
          <a:xfrm>
            <a:off x="1619280" y="3573360"/>
            <a:ext cx="2448000" cy="2087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Freeform 11"/>
          <p:cNvSpPr/>
          <p:nvPr/>
        </p:nvSpPr>
        <p:spPr>
          <a:xfrm>
            <a:off x="1908000" y="4005360"/>
            <a:ext cx="1584360" cy="1224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907" h="605">
                <a:moveTo>
                  <a:pt x="907" y="0"/>
                </a:moveTo>
                <a:cubicBezTo>
                  <a:pt x="722" y="0"/>
                  <a:pt x="537" y="0"/>
                  <a:pt x="499" y="91"/>
                </a:cubicBezTo>
                <a:cubicBezTo>
                  <a:pt x="461" y="182"/>
                  <a:pt x="763" y="485"/>
                  <a:pt x="680" y="545"/>
                </a:cubicBezTo>
                <a:cubicBezTo>
                  <a:pt x="597" y="605"/>
                  <a:pt x="113" y="469"/>
                  <a:pt x="0" y="4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Line 12"/>
          <p:cNvSpPr/>
          <p:nvPr/>
        </p:nvSpPr>
        <p:spPr>
          <a:xfrm flipV="1">
            <a:off x="1258920" y="191628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Line 13"/>
          <p:cNvSpPr/>
          <p:nvPr/>
        </p:nvSpPr>
        <p:spPr>
          <a:xfrm>
            <a:off x="1476360" y="191628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Line 14"/>
          <p:cNvSpPr/>
          <p:nvPr/>
        </p:nvSpPr>
        <p:spPr>
          <a:xfrm flipV="1">
            <a:off x="4643280" y="1773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Line 15"/>
          <p:cNvSpPr/>
          <p:nvPr/>
        </p:nvSpPr>
        <p:spPr>
          <a:xfrm>
            <a:off x="5435640" y="1773360"/>
            <a:ext cx="43164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Line 16"/>
          <p:cNvSpPr/>
          <p:nvPr/>
        </p:nvSpPr>
        <p:spPr>
          <a:xfrm flipV="1">
            <a:off x="4643280" y="2349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AutoShape 17"/>
          <p:cNvSpPr/>
          <p:nvPr/>
        </p:nvSpPr>
        <p:spPr>
          <a:xfrm>
            <a:off x="6877080" y="2060640"/>
            <a:ext cx="1871640" cy="1873080"/>
          </a:xfrm>
          <a:prstGeom prst="cloudCallout">
            <a:avLst>
              <a:gd name="adj1" fmla="val -4027"/>
              <a:gd name="adj2" fmla="val 45337"/>
            </a:avLst>
          </a:prstGeom>
          <a:solidFill>
            <a:srgbClr val="73ea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Oval 18"/>
          <p:cNvSpPr/>
          <p:nvPr/>
        </p:nvSpPr>
        <p:spPr>
          <a:xfrm>
            <a:off x="7380360" y="2637000"/>
            <a:ext cx="79200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AutoShape 20"/>
          <p:cNvSpPr/>
          <p:nvPr/>
        </p:nvSpPr>
        <p:spPr>
          <a:xfrm>
            <a:off x="4572000" y="4005360"/>
            <a:ext cx="2808360" cy="2303280"/>
          </a:xfrm>
          <a:prstGeom prst="cloudCallout">
            <a:avLst>
              <a:gd name="adj1" fmla="val -26425"/>
              <a:gd name="adj2" fmla="val 48759"/>
            </a:avLst>
          </a:prstGeom>
          <a:solidFill>
            <a:srgbClr val="ed19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Line 21"/>
          <p:cNvSpPr/>
          <p:nvPr/>
        </p:nvSpPr>
        <p:spPr>
          <a:xfrm flipV="1">
            <a:off x="5292720" y="4508280"/>
            <a:ext cx="1224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Line 22"/>
          <p:cNvSpPr/>
          <p:nvPr/>
        </p:nvSpPr>
        <p:spPr>
          <a:xfrm>
            <a:off x="6516720" y="4508640"/>
            <a:ext cx="7128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Line 23"/>
          <p:cNvSpPr/>
          <p:nvPr/>
        </p:nvSpPr>
        <p:spPr>
          <a:xfrm flipH="1" flipV="1">
            <a:off x="5292720" y="458136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2653-3C0E-48F8-B309-B59968FD526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2f224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оманая – это последовательное соединение нескольких отрезко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                  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ломана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, ВС, 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звенья лома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, В, С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вершины лома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7" name="Line 4"/>
          <p:cNvSpPr/>
          <p:nvPr/>
        </p:nvSpPr>
        <p:spPr>
          <a:xfrm flipV="1">
            <a:off x="2484360" y="2923920"/>
            <a:ext cx="1152720" cy="10810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Line 5"/>
          <p:cNvSpPr/>
          <p:nvPr/>
        </p:nvSpPr>
        <p:spPr>
          <a:xfrm>
            <a:off x="3635280" y="2924280"/>
            <a:ext cx="93672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Line 6"/>
          <p:cNvSpPr/>
          <p:nvPr/>
        </p:nvSpPr>
        <p:spPr>
          <a:xfrm flipV="1">
            <a:off x="4572000" y="3357360"/>
            <a:ext cx="1150920" cy="431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68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68" fill="hold"/>
                                        <p:tgtEl>
                                          <p:spTgt spid="2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68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68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8F3D-54DD-4298-A7F5-918E167DE72E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оманые бывают замкнутые, незамкнутые, самопересекающие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989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AutoShape 4"/>
          <p:cNvSpPr/>
          <p:nvPr/>
        </p:nvSpPr>
        <p:spPr>
          <a:xfrm>
            <a:off x="900000" y="1557360"/>
            <a:ext cx="2016360" cy="2016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AutoShape 5"/>
          <p:cNvSpPr/>
          <p:nvPr/>
        </p:nvSpPr>
        <p:spPr>
          <a:xfrm>
            <a:off x="1332000" y="2060640"/>
            <a:ext cx="1106280" cy="1152360"/>
          </a:xfrm>
          <a:custGeom>
            <a:avLst/>
            <a:gdLst/>
            <a:ahLst/>
            <a:rect l="l" t="t" r="r" b="b"/>
            <a:pathLst>
              <a:path w="1106487" h="1152525">
                <a:moveTo>
                  <a:pt x="1" y="440224"/>
                </a:moveTo>
                <a:lnTo>
                  <a:pt x="422643" y="440227"/>
                </a:lnTo>
                <a:lnTo>
                  <a:pt x="553244" y="0"/>
                </a:lnTo>
                <a:lnTo>
                  <a:pt x="683844" y="440227"/>
                </a:lnTo>
                <a:lnTo>
                  <a:pt x="1106486" y="440224"/>
                </a:lnTo>
                <a:lnTo>
                  <a:pt x="764560" y="712297"/>
                </a:lnTo>
                <a:lnTo>
                  <a:pt x="895166" y="1152522"/>
                </a:lnTo>
                <a:lnTo>
                  <a:pt x="553244" y="880445"/>
                </a:lnTo>
                <a:lnTo>
                  <a:pt x="211321" y="1152522"/>
                </a:lnTo>
                <a:lnTo>
                  <a:pt x="341927" y="712297"/>
                </a:lnTo>
                <a:lnTo>
                  <a:pt x="1" y="44022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AutoShape 6"/>
          <p:cNvSpPr/>
          <p:nvPr/>
        </p:nvSpPr>
        <p:spPr>
          <a:xfrm>
            <a:off x="3276720" y="1557360"/>
            <a:ext cx="2160360" cy="1942920"/>
          </a:xfrm>
          <a:prstGeom prst="verticalScroll">
            <a:avLst>
              <a:gd name="adj" fmla="val 12500"/>
            </a:avLst>
          </a:prstGeom>
          <a:solidFill>
            <a:srgbClr val="73ea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AutoShape 7"/>
          <p:cNvSpPr/>
          <p:nvPr/>
        </p:nvSpPr>
        <p:spPr>
          <a:xfrm>
            <a:off x="5796000" y="1628640"/>
            <a:ext cx="2089080" cy="1871640"/>
          </a:xfrm>
          <a:prstGeom prst="vertic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AutoShape 8"/>
          <p:cNvSpPr/>
          <p:nvPr/>
        </p:nvSpPr>
        <p:spPr>
          <a:xfrm>
            <a:off x="1908000" y="3860640"/>
            <a:ext cx="2087640" cy="2016360"/>
          </a:xfrm>
          <a:prstGeom prst="verticalScroll">
            <a:avLst>
              <a:gd name="adj" fmla="val 12500"/>
            </a:avLst>
          </a:prstGeom>
          <a:solidFill>
            <a:srgbClr val="35e9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AutoShape 10"/>
          <p:cNvSpPr/>
          <p:nvPr/>
        </p:nvSpPr>
        <p:spPr>
          <a:xfrm>
            <a:off x="4140360" y="3860640"/>
            <a:ext cx="2160360" cy="1944720"/>
          </a:xfrm>
          <a:prstGeom prst="verticalScrol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AutoShape 11"/>
          <p:cNvSpPr/>
          <p:nvPr/>
        </p:nvSpPr>
        <p:spPr>
          <a:xfrm>
            <a:off x="6372360" y="3860640"/>
            <a:ext cx="2087280" cy="1944720"/>
          </a:xfrm>
          <a:prstGeom prst="verticalScroll">
            <a:avLst>
              <a:gd name="adj" fmla="val 12500"/>
            </a:avLst>
          </a:prstGeom>
          <a:solidFill>
            <a:srgbClr val="5867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AutoShape 12"/>
          <p:cNvSpPr/>
          <p:nvPr/>
        </p:nvSpPr>
        <p:spPr>
          <a:xfrm>
            <a:off x="6372360" y="220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Line 13"/>
          <p:cNvSpPr/>
          <p:nvPr/>
        </p:nvSpPr>
        <p:spPr>
          <a:xfrm>
            <a:off x="3851280" y="2060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Line 14"/>
          <p:cNvSpPr/>
          <p:nvPr/>
        </p:nvSpPr>
        <p:spPr>
          <a:xfrm flipH="1">
            <a:off x="3924360" y="2060640"/>
            <a:ext cx="107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Line 15"/>
          <p:cNvSpPr/>
          <p:nvPr/>
        </p:nvSpPr>
        <p:spPr>
          <a:xfrm>
            <a:off x="3924360" y="306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Line 16"/>
          <p:cNvSpPr/>
          <p:nvPr/>
        </p:nvSpPr>
        <p:spPr>
          <a:xfrm>
            <a:off x="4572000" y="429264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Line 17"/>
          <p:cNvSpPr/>
          <p:nvPr/>
        </p:nvSpPr>
        <p:spPr>
          <a:xfrm flipV="1">
            <a:off x="4788000" y="4508640"/>
            <a:ext cx="288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Line 18"/>
          <p:cNvSpPr/>
          <p:nvPr/>
        </p:nvSpPr>
        <p:spPr>
          <a:xfrm>
            <a:off x="5076720" y="450864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Line 19"/>
          <p:cNvSpPr/>
          <p:nvPr/>
        </p:nvSpPr>
        <p:spPr>
          <a:xfrm flipV="1">
            <a:off x="5292720" y="4220640"/>
            <a:ext cx="431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Line 21"/>
          <p:cNvSpPr/>
          <p:nvPr/>
        </p:nvSpPr>
        <p:spPr>
          <a:xfrm flipV="1">
            <a:off x="2484360" y="4221000"/>
            <a:ext cx="503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Line 22"/>
          <p:cNvSpPr/>
          <p:nvPr/>
        </p:nvSpPr>
        <p:spPr>
          <a:xfrm>
            <a:off x="2987640" y="4221000"/>
            <a:ext cx="216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Line 23"/>
          <p:cNvSpPr/>
          <p:nvPr/>
        </p:nvSpPr>
        <p:spPr>
          <a:xfrm flipH="1" flipV="1">
            <a:off x="2410920" y="4581000"/>
            <a:ext cx="792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Line 24"/>
          <p:cNvSpPr/>
          <p:nvPr/>
        </p:nvSpPr>
        <p:spPr>
          <a:xfrm>
            <a:off x="2411280" y="458136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Line 25"/>
          <p:cNvSpPr/>
          <p:nvPr/>
        </p:nvSpPr>
        <p:spPr>
          <a:xfrm>
            <a:off x="7020000" y="4365720"/>
            <a:ext cx="93672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Line 26"/>
          <p:cNvSpPr/>
          <p:nvPr/>
        </p:nvSpPr>
        <p:spPr>
          <a:xfrm flipH="1">
            <a:off x="6948000" y="5516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Line 27"/>
          <p:cNvSpPr/>
          <p:nvPr/>
        </p:nvSpPr>
        <p:spPr>
          <a:xfrm flipV="1">
            <a:off x="6948360" y="4365360"/>
            <a:ext cx="8636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лина</dc:creator>
  <dc:description/>
  <dc:language>en-US</dc:language>
  <cp:lastModifiedBy>Денис</cp:lastModifiedBy>
  <dcterms:modified xsi:type="dcterms:W3CDTF">2018-04-10T12:38:52Z</dcterms:modified>
  <cp:revision>74</cp:revision>
  <dc:subject/>
  <dc:title>PowerPoint Presentation</dc:title>
</cp:coreProperties>
</file>