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936-6589-4307-9CF9-C649B91F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21A-1557-424B-A8B0-5464EB92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714-CC4B-4535-BC00-AE0B9D69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CE1-2E9C-43D0-B77B-6E731919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F72F-CF46-4661-BFF1-0E863197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1476-24B8-4FF3-B02B-5918FDDF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0F74-8028-48A7-A486-A2DE502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1D4B-BAFD-437A-B471-858987AE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14E4-CF63-49EE-BADE-443EA68B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3A5B-9515-455A-ADE7-C58781A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17D-1574-46DC-99FF-FCF8902F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BF7-3D79-47AE-8876-6A48BDF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CA1-69F3-424A-BBF9-6E2B5983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282A-2789-4919-88D7-2934067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24B3-BD56-4B82-BD71-4332D2C5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B0CB-F910-4A40-9B7C-1650FA9A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B655-F519-490E-B52B-AEDBC3E6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656-9D93-4D22-9273-048BEBC0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484-38B1-4B05-B19F-844B47DF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CDE-E87F-4BA7-86FD-2D4A380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DCF-9FA1-4FB3-85C6-C2DB768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A06-5D6D-4A3D-A22C-06F3ED9B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E86-0FB6-417E-889C-2F8558E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146-613C-447A-BFE0-2D6012F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F5A5-7E4B-4523-ADAB-3B58190FE1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Freeform 6"/>
            <p:cNvSpPr/>
            <p:nvPr/>
          </p:nvSpPr>
          <p:spPr>
            <a:xfrm>
              <a:off x="442440" y="190800"/>
              <a:ext cx="1603440" cy="6930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432000" y="169920"/>
              <a:ext cx="595440" cy="12016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152280" y="190800"/>
              <a:ext cx="1363680" cy="6994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69640" y="442800"/>
              <a:ext cx="1787400" cy="1890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87000" y="190800"/>
              <a:ext cx="1492920" cy="847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08400" y="306360"/>
              <a:ext cx="829080" cy="6159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18560" y="421560"/>
              <a:ext cx="552960" cy="4233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29440" y="498600"/>
              <a:ext cx="331560" cy="2307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63960" y="782640"/>
              <a:ext cx="465480" cy="37044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363960" y="758520"/>
              <a:ext cx="244080" cy="54864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492920" y="190800"/>
              <a:ext cx="552600" cy="6544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65960" y="344880"/>
              <a:ext cx="1105560" cy="6544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31920" y="152280"/>
              <a:ext cx="939600" cy="6159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95400" y="614160"/>
              <a:ext cx="995040" cy="1152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Picture 21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22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Picture 24" descr="6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0" name="Freeform 3"/>
            <p:cNvSpPr/>
            <p:nvPr/>
          </p:nvSpPr>
          <p:spPr>
            <a:xfrm>
              <a:off x="341280" y="291240"/>
              <a:ext cx="2308680" cy="1126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326520" y="257040"/>
              <a:ext cx="857520" cy="19522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-76320" y="291240"/>
              <a:ext cx="1963800" cy="11361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92880" y="700560"/>
              <a:ext cx="2573640" cy="307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261720" y="291240"/>
              <a:ext cx="2149560" cy="13762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580320" y="478800"/>
              <a:ext cx="1194120" cy="10008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739440" y="666360"/>
              <a:ext cx="795960" cy="6879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898920" y="791640"/>
              <a:ext cx="477360" cy="37512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228600" y="1252800"/>
              <a:ext cx="669960" cy="6022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228600" y="1213920"/>
              <a:ext cx="351360" cy="8913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1854360" y="291240"/>
              <a:ext cx="795600" cy="1063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-56160" y="541440"/>
              <a:ext cx="1591920" cy="1063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182160" y="228600"/>
              <a:ext cx="1353240" cy="10008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6"/>
            <p:cNvSpPr/>
            <p:nvPr/>
          </p:nvSpPr>
          <p:spPr>
            <a:xfrm>
              <a:off x="1137600" y="979200"/>
              <a:ext cx="1432800" cy="1875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7" descr="18009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8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6" name="Picture 19" descr="4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0" descr="6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1" descr="123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2" descr="6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season_2"/>
          <p:cNvPicPr/>
          <p:nvPr/>
        </p:nvPicPr>
        <p:blipFill>
          <a:blip r:embed="rId8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78A-5865-4491-9618-D288FADCF2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идимые ни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еев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руппа связей показана на этой схем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пвып"/>
          <p:cNvPicPr/>
          <p:nvPr/>
        </p:nvPicPr>
        <p:blipFill>
          <a:blip r:embed="rId1"/>
          <a:stretch/>
        </p:blipFill>
        <p:spPr>
          <a:xfrm>
            <a:off x="900000" y="1773360"/>
            <a:ext cx="7534440" cy="4595760"/>
          </a:xfrm>
          <a:prstGeom prst="rect">
            <a:avLst/>
          </a:prstGeom>
          <a:ln w="0">
            <a:noFill/>
          </a:ln>
        </p:spPr>
      </p:pic>
      <p:sp>
        <p:nvSpPr>
          <p:cNvPr id="173" name="Oval 5"/>
          <p:cNvSpPr/>
          <p:nvPr/>
        </p:nvSpPr>
        <p:spPr>
          <a:xfrm>
            <a:off x="826920" y="476280"/>
            <a:ext cx="2664000" cy="1081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292720" y="476280"/>
            <a:ext cx="2664000" cy="108108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3492360" y="98100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руппа связей показана на этих рисунк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9"/>
          <p:cNvPicPr/>
          <p:nvPr/>
        </p:nvPicPr>
        <p:blipFill>
          <a:blip r:embed="rId1"/>
          <a:stretch/>
        </p:blipFill>
        <p:spPr>
          <a:xfrm>
            <a:off x="5076720" y="4292640"/>
            <a:ext cx="3527640" cy="229248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178" name="Picture 6" descr="18"/>
          <p:cNvPicPr/>
          <p:nvPr/>
        </p:nvPicPr>
        <p:blipFill>
          <a:blip r:embed="rId2"/>
          <a:stretch/>
        </p:blipFill>
        <p:spPr>
          <a:xfrm>
            <a:off x="1116000" y="2637000"/>
            <a:ext cx="2503440" cy="2997000"/>
          </a:xfrm>
          <a:prstGeom prst="rect">
            <a:avLst/>
          </a:prstGeom>
          <a:ln w="57240">
            <a:solidFill>
              <a:srgbClr val="ffaa01"/>
            </a:solidFill>
            <a:miter/>
          </a:ln>
        </p:spPr>
      </p:pic>
      <p:pic>
        <p:nvPicPr>
          <p:cNvPr id="179" name="Picture 8" descr="17"/>
          <p:cNvPicPr/>
          <p:nvPr/>
        </p:nvPicPr>
        <p:blipFill>
          <a:blip r:embed="rId3"/>
          <a:stretch/>
        </p:blipFill>
        <p:spPr>
          <a:xfrm>
            <a:off x="5076720" y="1700280"/>
            <a:ext cx="3475080" cy="23018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0" name="Oval 9"/>
          <p:cNvSpPr/>
          <p:nvPr/>
        </p:nvSpPr>
        <p:spPr>
          <a:xfrm>
            <a:off x="900000" y="33336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364000" y="33192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3564000" y="83664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руппа связей показа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21"/>
          <p:cNvPicPr/>
          <p:nvPr/>
        </p:nvPicPr>
        <p:blipFill>
          <a:blip r:embed="rId1"/>
          <a:stretch/>
        </p:blipFill>
        <p:spPr>
          <a:xfrm>
            <a:off x="468360" y="1700280"/>
            <a:ext cx="3048120" cy="4572000"/>
          </a:xfrm>
          <a:prstGeom prst="rect">
            <a:avLst/>
          </a:prstGeom>
          <a:ln w="57240">
            <a:solidFill>
              <a:srgbClr val="ffaa01"/>
            </a:solidFill>
            <a:miter/>
          </a:ln>
        </p:spPr>
      </p:pic>
      <p:pic>
        <p:nvPicPr>
          <p:cNvPr id="185" name="Picture 6" descr="20"/>
          <p:cNvPicPr/>
          <p:nvPr/>
        </p:nvPicPr>
        <p:blipFill>
          <a:blip r:embed="rId2"/>
          <a:stretch/>
        </p:blipFill>
        <p:spPr>
          <a:xfrm>
            <a:off x="4284720" y="4173480"/>
            <a:ext cx="3848040" cy="242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86" name="Picture 7" descr="23"/>
          <p:cNvPicPr/>
          <p:nvPr/>
        </p:nvPicPr>
        <p:blipFill>
          <a:blip r:embed="rId3"/>
          <a:stretch/>
        </p:blipFill>
        <p:spPr>
          <a:xfrm>
            <a:off x="4284720" y="1628640"/>
            <a:ext cx="3816360" cy="2327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87" name="Oval 8"/>
          <p:cNvSpPr/>
          <p:nvPr/>
        </p:nvSpPr>
        <p:spPr>
          <a:xfrm>
            <a:off x="900000" y="260280"/>
            <a:ext cx="2664000" cy="1081080"/>
          </a:xfrm>
          <a:prstGeom prst="ellipse">
            <a:avLst/>
          </a:prstGeom>
          <a:solidFill>
            <a:srgbClr val="fba3ee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508720" y="260280"/>
            <a:ext cx="2663640" cy="10810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3564000" y="765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572436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каких невидимых нитях говорится в стихотвор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400720" cy="47084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на зеленый стебе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ится пестрый мотыл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ил нектар со всех цве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опылил – и в путь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тут попался – Боже мой!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втрак птице луг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у нее гнездо в т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уча птенчиков в гн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уж, конечно, их п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ье травушке 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24"/>
          <p:cNvPicPr/>
          <p:nvPr/>
        </p:nvPicPr>
        <p:blipFill>
          <a:blip r:embed="rId1"/>
          <a:stretch/>
        </p:blipFill>
        <p:spPr>
          <a:xfrm>
            <a:off x="6346800" y="260280"/>
            <a:ext cx="1970280" cy="2016360"/>
          </a:xfrm>
          <a:prstGeom prst="rect">
            <a:avLst/>
          </a:prstGeom>
          <a:ln w="38160">
            <a:solidFill>
              <a:srgbClr val="9933ff"/>
            </a:solidFill>
            <a:miter/>
          </a:ln>
        </p:spPr>
      </p:pic>
      <p:pic>
        <p:nvPicPr>
          <p:cNvPr id="193" name="Picture 6" descr="25"/>
          <p:cNvPicPr/>
          <p:nvPr/>
        </p:nvPicPr>
        <p:blipFill>
          <a:blip r:embed="rId2"/>
          <a:stretch/>
        </p:blipFill>
        <p:spPr>
          <a:xfrm>
            <a:off x="6083280" y="2565360"/>
            <a:ext cx="2665440" cy="1908360"/>
          </a:xfrm>
          <a:prstGeom prst="rect">
            <a:avLst/>
          </a:prstGeom>
          <a:ln w="38160">
            <a:solidFill>
              <a:srgbClr val="ffaa01"/>
            </a:solidFill>
            <a:miter/>
          </a:ln>
        </p:spPr>
      </p:pic>
      <p:pic>
        <p:nvPicPr>
          <p:cNvPr id="194" name="Picture 7" descr="27"/>
          <p:cNvPicPr/>
          <p:nvPr/>
        </p:nvPicPr>
        <p:blipFill>
          <a:blip r:embed="rId3"/>
          <a:stretch/>
        </p:blipFill>
        <p:spPr>
          <a:xfrm>
            <a:off x="6084720" y="4724280"/>
            <a:ext cx="2694240" cy="186696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4067280" y="2997360"/>
            <a:ext cx="4681440" cy="3240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со всех сторон откры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резною крышей 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ходи в зеленый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деса увидишь в н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rot="10800000">
            <a:off x="3634920" y="1847160"/>
            <a:ext cx="5473800" cy="1149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9"/>
          <p:cNvPicPr/>
          <p:nvPr/>
        </p:nvPicPr>
        <p:blipFill>
          <a:blip r:embed="rId1"/>
          <a:stretch/>
        </p:blipFill>
        <p:spPr>
          <a:xfrm>
            <a:off x="324000" y="1800360"/>
            <a:ext cx="3190680" cy="4508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26" name="Text Box 10"/>
          <p:cNvSpPr/>
          <p:nvPr/>
        </p:nvSpPr>
        <p:spPr>
          <a:xfrm>
            <a:off x="2291760" y="588960"/>
            <a:ext cx="5173200" cy="642600"/>
          </a:xfrm>
          <a:prstGeom prst="rect">
            <a:avLst/>
          </a:prstGeom>
          <a:solidFill>
            <a:srgbClr val="d9b28b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правляемся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653080" y="5259240"/>
            <a:ext cx="11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6"/>
          <p:cNvPicPr/>
          <p:nvPr/>
        </p:nvPicPr>
        <p:blipFill>
          <a:blip r:embed="rId1"/>
          <a:stretch/>
        </p:blipFill>
        <p:spPr>
          <a:xfrm>
            <a:off x="1547640" y="333360"/>
            <a:ext cx="6048720" cy="4535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178920" y="5229360"/>
            <a:ext cx="88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овите объекты живой природы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69080" y="5157720"/>
            <a:ext cx="79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ения, животные и другие жи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мы – это обитатели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33800" y="5373720"/>
            <a:ext cx="67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животные живут в ле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7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512460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sp>
        <p:nvSpPr>
          <p:cNvPr id="135" name="Text Box 5"/>
          <p:cNvSpPr/>
          <p:nvPr/>
        </p:nvSpPr>
        <p:spPr>
          <a:xfrm>
            <a:off x="880200" y="5445000"/>
            <a:ext cx="77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вязаны между собой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животные лес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966960" y="544500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ую пользу приносят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вот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57800" y="54450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какую пользу приносят 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ения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10540"/>
          <p:cNvPicPr/>
          <p:nvPr/>
        </p:nvPicPr>
        <p:blipFill>
          <a:blip r:embed="rId1"/>
          <a:stretch/>
        </p:blipFill>
        <p:spPr>
          <a:xfrm>
            <a:off x="539640" y="2133720"/>
            <a:ext cx="2649600" cy="28080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786600" y="1268280"/>
            <a:ext cx="1965240" cy="581400"/>
          </a:xfrm>
          <a:prstGeom prst="rect">
            <a:avLst/>
          </a:prstGeom>
          <a:solidFill>
            <a:srgbClr val="cccc00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03080" y="5259240"/>
            <a:ext cx="2154240" cy="581400"/>
          </a:xfrm>
          <a:prstGeom prst="rect">
            <a:avLst/>
          </a:prstGeom>
          <a:solidFill>
            <a:srgbClr val="cccc00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067280" y="785880"/>
            <a:ext cx="4681440" cy="1800360"/>
          </a:xfrm>
          <a:prstGeom prst="rect">
            <a:avLst/>
          </a:prstGeom>
          <a:solidFill>
            <a:srgbClr val="ffcccc"/>
          </a:solidFill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дл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а дл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у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ля жил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771640" y="1557360"/>
            <a:ext cx="1008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2843280" y="5589720"/>
            <a:ext cx="936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067280" y="4437000"/>
            <a:ext cx="4681440" cy="180036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чтожают вре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яют с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ляют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5120" y="404280"/>
            <a:ext cx="4249800" cy="922680"/>
          </a:xfrm>
          <a:prstGeom prst="rect">
            <a:avLst/>
          </a:prstGeom>
          <a:solidFill>
            <a:srgbClr val="59b04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4840" y="2204640"/>
            <a:ext cx="8351640" cy="261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же будет, если  что-нибудь нар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ть в этой семье:  вырубить  деревь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  уничтожить  всех з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танется ли лес жить дальше или умр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2"/>
          <p:cNvPicPr/>
          <p:nvPr/>
        </p:nvPicPr>
        <p:blipFill>
          <a:blip r:embed="rId1"/>
          <a:stretch/>
        </p:blipFill>
        <p:spPr>
          <a:xfrm>
            <a:off x="6443640" y="5016600"/>
            <a:ext cx="1871640" cy="184140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pic>
        <p:nvPicPr>
          <p:cNvPr id="148" name="Picture 6" descr="11"/>
          <p:cNvPicPr/>
          <p:nvPr/>
        </p:nvPicPr>
        <p:blipFill>
          <a:blip r:embed="rId2"/>
          <a:stretch/>
        </p:blipFill>
        <p:spPr>
          <a:xfrm>
            <a:off x="582480" y="3240"/>
            <a:ext cx="1757520" cy="1803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видимые нити – это связи, которые, есть в природе повсю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826920" y="1628640"/>
            <a:ext cx="2664000" cy="1081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292720" y="1628640"/>
            <a:ext cx="2664000" cy="108108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900000" y="299736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364000" y="299736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900000" y="4292640"/>
            <a:ext cx="2664000" cy="108108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900000" y="5587920"/>
            <a:ext cx="2664000" cy="1081080"/>
          </a:xfrm>
          <a:prstGeom prst="ellipse">
            <a:avLst/>
          </a:prstGeom>
          <a:solidFill>
            <a:srgbClr val="fba3ee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5437080" y="429264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3492360" y="213372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564000" y="357336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3564000" y="479736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3564000" y="6093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5508720" y="5589720"/>
            <a:ext cx="2663640" cy="10810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590544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ки в учебнике на стр.55, приведите примеры связей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jhf"/>
          <p:cNvPicPr/>
          <p:nvPr/>
        </p:nvPicPr>
        <p:blipFill>
          <a:blip r:embed="rId3"/>
          <a:stretch/>
        </p:blipFill>
        <p:spPr>
          <a:xfrm>
            <a:off x="1258920" y="3357720"/>
            <a:ext cx="6551640" cy="319248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pic>
        <p:nvPicPr>
          <p:cNvPr id="165" name="Picture 5" descr="15"/>
          <p:cNvPicPr/>
          <p:nvPr/>
        </p:nvPicPr>
        <p:blipFill>
          <a:blip r:embed="rId4"/>
          <a:stretch/>
        </p:blipFill>
        <p:spPr>
          <a:xfrm>
            <a:off x="1258920" y="3500280"/>
            <a:ext cx="6481800" cy="29624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66" name="Text Box 6"/>
          <p:cNvSpPr/>
          <p:nvPr/>
        </p:nvSpPr>
        <p:spPr>
          <a:xfrm>
            <a:off x="231840" y="3659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68360" y="1773360"/>
            <a:ext cx="8229600" cy="12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человек может нарушить эти связ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4824360" cy="936360"/>
          </a:xfrm>
          <a:prstGeom prst="rect">
            <a:avLst/>
          </a:prstGeom>
          <a:solidFill>
            <a:srgbClr val="ccff66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8569080" cy="36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жья коровка – отличная помощница в борь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урожай. Она поедает тлю, опас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один жук за свою жизнь может съ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00 тлей  (подсчитали учёные). Если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отлавливать божьих коровок за их красоту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распространяться тля, опасные насеко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атся урожаи, в садах и парках нач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нуть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8"/>
          <p:cNvPicPr/>
          <p:nvPr/>
        </p:nvPicPr>
        <p:blipFill>
          <a:blip r:embed="rId1"/>
          <a:stretch/>
        </p:blipFill>
        <p:spPr>
          <a:xfrm>
            <a:off x="5494320" y="260280"/>
            <a:ext cx="3398760" cy="2457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7:12:17Z</dcterms:created>
  <dc:creator>мама</dc:creator>
  <dc:description/>
  <dc:language>en-US</dc:language>
  <cp:lastModifiedBy>Директор</cp:lastModifiedBy>
  <dcterms:modified xsi:type="dcterms:W3CDTF">2018-04-10T13:41:22Z</dcterms:modified>
  <cp:revision>12</cp:revision>
  <dc:subject/>
  <dc:title>Невидимые нити.</dc:title>
</cp:coreProperties>
</file>