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5E4-8D09-48F3-806D-60A4E4F1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1CF-180F-4EFF-AF44-E412291B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B36-8DFD-47E0-83EF-D5393C20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B5F-CBE3-45CA-85EA-B4B50489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D86-5989-47F1-8D4D-7052FB9F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4FD-97D5-4B4B-9C73-8B70C46F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E9E-A57D-46E0-8C24-24B3E26A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A72-A1A4-4C33-81CD-E5E5CA3B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4A6-03AB-4311-8D4F-64BCCDFF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E63-87E8-4896-8061-96C00CD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40A-2EA8-4810-BBF6-1EDF31AA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0BE-7657-4293-A71C-3FD46F16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408E-D282-4C68-B932-5D0926A49CDC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image" Target="../media/image10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jpeg"/><Relationship Id="rId9" Type="http://schemas.openxmlformats.org/officeDocument/2006/relationships/image" Target="../media/image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"/>
          <p:cNvSpPr/>
          <p:nvPr/>
        </p:nvSpPr>
        <p:spPr>
          <a:xfrm rot="20533800">
            <a:off x="38160" y="23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Century Schoolbook"/>
              </a:rPr>
              <a:t>ЗВЕЗДНАЯ СТРАНА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1071400">
            <a:off x="324000" y="4941360"/>
            <a:ext cx="1911240" cy="1432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21257400">
            <a:off x="323640" y="333000"/>
            <a:ext cx="2062080" cy="309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rot="21159000">
            <a:off x="7219800" y="2840040"/>
            <a:ext cx="187488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 rot="538200">
            <a:off x="6859080" y="4992840"/>
            <a:ext cx="2283120" cy="176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rot="240000">
            <a:off x="2268000" y="23400"/>
            <a:ext cx="4756320" cy="684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7667640" y="33336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24000" y="4192560"/>
            <a:ext cx="7920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"/>
          <p:cNvSpPr/>
          <p:nvPr/>
        </p:nvSpPr>
        <p:spPr>
          <a:xfrm rot="20533800">
            <a:off x="38160" y="23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Century Schoolbook"/>
              </a:rPr>
              <a:t>ЗВЕЗДНАЯ СТРАНА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1159000">
            <a:off x="23400" y="-27000"/>
            <a:ext cx="2590920" cy="270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538200">
            <a:off x="6454440" y="4624560"/>
            <a:ext cx="2700360" cy="208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21071400">
            <a:off x="174240" y="4387320"/>
            <a:ext cx="3059280" cy="229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rot="240000">
            <a:off x="7019640" y="115560"/>
            <a:ext cx="1958760" cy="290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700360" y="1628640"/>
            <a:ext cx="201600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211640" y="4594320"/>
            <a:ext cx="1008000" cy="80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076720" y="230040"/>
            <a:ext cx="15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250920" y="2997360"/>
            <a:ext cx="1225440" cy="820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300720" y="2924280"/>
            <a:ext cx="1727280" cy="13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5003640" y="530064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378600">
            <a:off x="3795480" y="267840"/>
            <a:ext cx="4751280" cy="661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746800">
            <a:off x="-131400" y="59508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66ff99"/>
                </a:solidFill>
                <a:uFillTx/>
                <a:latin typeface="Century Schoolbook"/>
              </a:rPr>
              <a:t>Пакость Пакостьевич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00"/>
              </a:solidFill>
              <a:uFillTx/>
              <a:latin typeface="Century Schoolboo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378600">
            <a:off x="3568320" y="7920"/>
            <a:ext cx="5165640" cy="719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549360"/>
            <a:ext cx="792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781800">
            <a:off x="1918800" y="3420720"/>
            <a:ext cx="1149480" cy="1201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rot="21094200">
            <a:off x="14040" y="2940120"/>
            <a:ext cx="1690560" cy="13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 rot="709800">
            <a:off x="1979640" y="5734080"/>
            <a:ext cx="644400" cy="858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 rot="21136200">
            <a:off x="324000" y="5805360"/>
            <a:ext cx="1295280" cy="78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 rot="749400">
            <a:off x="887040" y="5008680"/>
            <a:ext cx="1098720" cy="788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 rot="21045600">
            <a:off x="124920" y="277560"/>
            <a:ext cx="1333800" cy="200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 rot="240000">
            <a:off x="1848960" y="898200"/>
            <a:ext cx="140976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900000" y="-27432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931000">
            <a:off x="258480" y="3346200"/>
            <a:ext cx="4376520" cy="2931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 rot="378600">
            <a:off x="4312800" y="9360"/>
            <a:ext cx="4938840" cy="6870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263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entury Schoolbook"/>
              </a:rPr>
              <a:t>Аделаид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332000" y="-53532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66ff33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1036000">
            <a:off x="387360" y="1008000"/>
            <a:ext cx="4416480" cy="3171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rot="183600">
            <a:off x="4200480" y="0"/>
            <a:ext cx="4943520" cy="6880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400536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entury Schoolbook"/>
              </a:rPr>
              <a:t>Иолан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664200"/>
            <a:ext cx="82296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9999"/>
              </a:solidFill>
              <a:latin typeface="Century Schoolboo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rot="547800">
            <a:off x="252000" y="4698720"/>
            <a:ext cx="3103560" cy="1877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393372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entury Schoolbook"/>
              </a:rPr>
              <a:t>Ю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21462600">
            <a:off x="3627000" y="-4680"/>
            <a:ext cx="50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00"/>
              </a:solidFill>
              <a:uFillTx/>
              <a:latin typeface="Century Schoolboo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79600">
            <a:off x="4222800" y="0"/>
            <a:ext cx="4921200" cy="6850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549360"/>
            <a:ext cx="792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 rot="781800">
            <a:off x="2068200" y="1758600"/>
            <a:ext cx="550800" cy="57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 rot="21094200">
            <a:off x="1186920" y="907920"/>
            <a:ext cx="863640" cy="66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 rot="709800">
            <a:off x="2577600" y="5393880"/>
            <a:ext cx="1114560" cy="1484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 rot="21136200">
            <a:off x="320760" y="5202000"/>
            <a:ext cx="2149560" cy="1303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 rot="749400">
            <a:off x="0" y="2421000"/>
            <a:ext cx="2540160" cy="1822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 rot="21045600">
            <a:off x="324000" y="333360"/>
            <a:ext cx="52704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 rot="240000">
            <a:off x="2771640" y="333000"/>
            <a:ext cx="922320" cy="136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 rot="20630400">
            <a:off x="1557000" y="3538080"/>
            <a:ext cx="253836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53532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1108000">
            <a:off x="4716000" y="1052640"/>
            <a:ext cx="3718080" cy="551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468000">
            <a:off x="1834920" y="5373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entury Schoolbook"/>
              </a:rPr>
              <a:t>Люська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1:36:56Z</dcterms:created>
  <dc:creator>Таня</dc:creator>
  <dc:description/>
  <dc:language>en-US</dc:language>
  <cp:lastModifiedBy>Таня</cp:lastModifiedBy>
  <dcterms:modified xsi:type="dcterms:W3CDTF">2009-04-07T22:30:16Z</dcterms:modified>
  <cp:revision>7</cp:revision>
  <dc:subject/>
  <dc:title>Слайд 1</dc:title>
</cp:coreProperties>
</file>