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5F55-3912-4283-B0B0-53DD913C1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в древности люди считали, что наша планета Земля находится в центре Вселенной, а вокруг нее вращаются Луна, Солнце и звезды, но это не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D8B-90FB-4407-A6D3-F74DEF96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806-009F-463E-A99D-906FA3E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90D-ED0C-4CAC-8B55-39171C38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A03-7C45-4022-AF23-BED66D1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ADCE-5A8D-496F-AD72-B4DE006C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B5B3-6E7F-4244-9D80-03000CF0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B07-D62F-4FF8-96BE-1C24333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FC9-33ED-44BE-8151-CFE84A35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C28-CE5F-48AC-B1C7-52C9C0F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031C-CE82-4F39-9980-095080C0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FFB-A6DA-40D5-B13A-713F6CB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634-1B9A-40A0-963D-509F68B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3FE7-3375-4873-AD64-B339B15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371-977A-4A1E-9CA9-6EB2125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F152-FC13-46C6-B3C6-8A93EBC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8FA-96DF-4117-B979-47580746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1C8A-536B-440C-8EF4-4A83846B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762-08ED-4C5A-A9E0-9177D76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C92-B9C0-4C90-BBAC-F8C55BAA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F2C-1F0E-4040-86D6-535FA6A1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50D-9755-4AAE-9BD9-03197C63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E63-2EBD-429E-987D-D99CBA3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337-66BE-4BC3-9F73-CD20DE1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B7F-D5DE-4CC5-8969-246A169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D57-510B-4C11-984B-74FB62CF07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F42-F04B-4EC0-A233-BEC6A56D20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405080" y="0"/>
            <a:ext cx="11160360" cy="7029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df0d"/>
                </a:solidFill>
                <a:latin typeface="Arial"/>
              </a:rPr>
              <a:t>Тема «Космическое путешествие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708000" y="5276880"/>
            <a:ext cx="59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оспитатель: Карапулова А.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МБДОУ «Детский сад №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.Янтиково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84720" y="0"/>
            <a:ext cx="2819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Как называется человек, подготовленный для полета в космос? И как звали первого космонавта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 апреля 1961 года Юрий Гагарин совершил первый космический полёт на корабле «Восток» и 1 раз облетел вокруг Земли. Во время старта космического корабля Юрий Гагарин произнёс слово: «Поехали». Он стал всемирным любимцем и герое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411640" cy="3527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667400" cy="345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516720" y="3141720"/>
            <a:ext cx="2408040" cy="3538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27280" y="360"/>
            <a:ext cx="611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1963 году первая женщина покорила космос. Это была Валентина Терешк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1965 году летчик-космонавт Алексей Леонов первым из землян вышел за пределы космического корабля и совершил первый в истории выход человека в открытый космос в скафанд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26680" y="60930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0d"/>
                </a:solidFill>
                <a:latin typeface="Verdana"/>
              </a:rPr>
              <a:t>А.Николаев космонавт – наш земля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5373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5516640"/>
            <a:ext cx="35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тсутствие воздух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невесо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4560" y="60120"/>
            <a:ext cx="45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 чем заключается трудность пребывания человека в космо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5516640"/>
            <a:ext cx="309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смолети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0720" y="2278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40360" y="185400"/>
            <a:ext cx="484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Здравствуйте, ребя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Я – Космолетик, прилетел с другой план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А вы догадываетесь, с ка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Я прилетел из другой галактики, моя планета называется Кругло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08360" y="292320"/>
            <a:ext cx="543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df0d"/>
                </a:solidFill>
                <a:latin typeface="Verdana"/>
              </a:rPr>
              <a:t>«Черные дыры» -  это звезды небольшого размера, которые обладают огромной силой притяжения. Эта сила так велика, что черная дыра может притягивать к себе и расплющивать своим притяжением космические корабли, кометы и даже целые планеты, которые подойдут слишком близко к ней. Значит, к черной дыре приближаться нельзя. И еще запомните, что у голубых звезд очень сильное, опасное излучение. К ним тоже приближаться нельзя.</a:t>
            </a:r>
            <a:r>
              <a:rPr b="1" lang="ru-RU" sz="1800" spc="-1" strike="noStrike">
                <a:solidFill>
                  <a:srgbClr val="fbdf0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Созвездие гончие п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Созвездие Большая Медведиц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Созвездие Малая Медвед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283800" y="1890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ланета Плу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Плутоня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35280" y="3425760"/>
            <a:ext cx="566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Здравствуйте, мы очень рады вас видеть на нашей планете Плут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Вы, люди, с планеты Зем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А мы жители – игрунки. Любим играть и выращивать необычные цв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Вы любите играт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80000" y="1773360"/>
            <a:ext cx="523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акой в апреле праздник раз в год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О космосе слагаются леген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Герои – космонавты на ви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м на земле спокойно не жив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х почему-то вечно тянет ввы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Им звезды покоряются, сда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На их погонах, золотом заж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81120" cy="4181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9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0d"/>
                </a:solidFill>
                <a:latin typeface="Arial"/>
              </a:rPr>
              <a:t>Планета 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49680" y="404640"/>
            <a:ext cx="502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С удачным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приземлением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f0d"/>
                </a:solidFill>
                <a:latin typeface="Verdana"/>
              </a:rPr>
              <a:t>друзь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14360" y="2708280"/>
            <a:ext cx="3581280" cy="3830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666000"/>
            <a:ext cx="7815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Что такое «Космос»?</a:t>
            </a:r>
            <a:r>
              <a:rPr b="0" lang="en-US" sz="2800" spc="-1" strike="noStrike">
                <a:solidFill>
                  <a:srgbClr val="fbdf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Космос – это Вселенная, то есть весь окружающий нас бесконечный мир: небо, звезды, кометы, созвездия,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Что такое астроном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Астрономия - это наука, которая изучает звезды, планеты, Вселен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df0d"/>
                </a:solidFill>
                <a:uFillTx/>
                <a:latin typeface="Verdana"/>
              </a:rPr>
              <a:t>Как называют ученых, которые занимаются этой нау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df0d"/>
                </a:solidFill>
                <a:latin typeface="Verdana"/>
              </a:rPr>
              <a:t>Астрон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7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21378600">
            <a:off x="144000" y="2347560"/>
            <a:ext cx="78375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bdf0d"/>
                </a:solidFill>
                <a:uFillTx/>
                <a:latin typeface="Verdana"/>
              </a:rPr>
              <a:t>Как называется наша план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Еще в древ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люди счит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что наша планета Зем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находится в центре Вселенн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а вокруг нее вращаются Лу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олнце и звезды, но это не т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1378600">
            <a:off x="1059120" y="5227200"/>
            <a:ext cx="783756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В 16в. Астро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Николай Коперник доказа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что Земля и другие план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вращаются вокруг сол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0d"/>
                </a:solidFill>
                <a:latin typeface="Arial"/>
              </a:rPr>
              <a:t>Солнеч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63640" y="5348520"/>
            <a:ext cx="61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Еще какие планеты знае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Сколько планет вращаются вокруг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0d"/>
                </a:solidFill>
                <a:latin typeface="Arial"/>
              </a:rPr>
              <a:t>Радиотелескоп для астроном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84720" y="2169720"/>
            <a:ext cx="48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Как называется прибор, с помощью которого астрономы изучают звездное неб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181080" y="-27000"/>
            <a:ext cx="9937800" cy="7450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960560" cy="2925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3611520" cy="2098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948360" y="2994120"/>
            <a:ext cx="2082960" cy="2811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15320" y="765000"/>
            <a:ext cx="68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В 20в. Русские уче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.Циолковский и С.Корол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омогли человечеству покорить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Первыми в Космосе побывали не люд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а собаки – Белка и Стрел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17920" y="4941720"/>
            <a:ext cx="2601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смодром Байкону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72360" y="241560"/>
            <a:ext cx="260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df0d"/>
                </a:solidFill>
                <a:latin typeface="Verdana"/>
              </a:rPr>
              <a:t>Как называется место для запуска космических рак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7:33:22Z</dcterms:created>
  <dc:creator>UserXP</dc:creator>
  <dc:description/>
  <dc:language>en-US</dc:language>
  <cp:lastModifiedBy>DNS</cp:lastModifiedBy>
  <dcterms:modified xsi:type="dcterms:W3CDTF">2018-04-10T17:02:21Z</dcterms:modified>
  <cp:revision>22</cp:revision>
  <dc:subject/>
  <dc:title>Тема «Полет в космос»</dc:title>
</cp:coreProperties>
</file>