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0223-63FD-49E9-B6F1-5581503D5A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в древности люди считали, что наша планета Земля находится в центре Вселенной, а вокруг нее вращаются Луна, Солнце и звезды, но это не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635-B4DD-48A8-BF42-BB998AC8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7A9-618E-46C9-8B12-1E79847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606-8094-4BE0-AA2C-5ADA907E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E40-C0BC-49DB-9AA8-C8DE1C17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1BB1-C7F0-4F19-B355-6635152A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5E00-D8FC-46FA-B641-E6632BE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45A4-ECB5-4A87-9185-9DE8E927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5AF2-A008-4A68-AE22-BB29BE55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1BB6-7057-4CB8-BBA5-AE68C92A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42BB-0EAD-4047-A3AC-29A29430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288E-75A4-4440-949A-6FC124A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9CE-7C21-4D72-83E1-959E2CA8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E14D-E0B8-48D8-964D-628D4A6B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5877-DC51-4267-AC06-75F3385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DBF2-4107-4E86-A991-AE592C1B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1135-2049-4269-9777-6A111310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E155-6CF5-4C57-8FFF-87B953FD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D53-B4FA-4D81-8CF3-4939D411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0D5-6D31-4E10-AC2F-5265C6D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D38-CCD9-4966-AEF9-742F451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8BD-23F1-4516-A8A8-23201FEC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744-DA57-4957-841F-2D339DE4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166-C4AE-4A18-BF1C-12C9DDF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A57-79CF-4183-B4CE-A1D0B0D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8D4C-558F-4BD4-84CD-C469B1AFB3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85E8-4D39-440E-87DB-11586E9094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1405080" y="0"/>
            <a:ext cx="11160360" cy="7029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df0d"/>
                </a:solidFill>
                <a:latin typeface="Arial"/>
              </a:rPr>
              <a:t>Тема «Космическое путешествие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708000" y="5276880"/>
            <a:ext cx="59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Воспитатель: Карапулова А.С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МБДОУ «Детский сад №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с.Янтиково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84720" y="0"/>
            <a:ext cx="2819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0d"/>
                </a:solidFill>
                <a:latin typeface="Verdana"/>
              </a:rPr>
              <a:t>Как называется человек, подготовленный для полета в космос? И как звали первого космонавта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 апреля 1961 года Юрий Гагарин совершил первый космический полёт на корабле «Восток» и 1 раз облетел вокруг Земли. Во время старта космического корабля Юрий Гагарин произнёс слово: «Поехали». Он стал всемирным любимцем и герое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411640" cy="3527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4667400" cy="345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516720" y="3141720"/>
            <a:ext cx="2408040" cy="3538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27280" y="360"/>
            <a:ext cx="611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0d"/>
                </a:solidFill>
                <a:latin typeface="Verdana"/>
              </a:rPr>
              <a:t>1963 году первая женщина покорила космос. Это была Валентина Терешк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0d"/>
                </a:solidFill>
                <a:latin typeface="Verdana"/>
              </a:rPr>
              <a:t>1965 году летчик-космонавт Алексей Леонов первым из землян вышел за пределы космического корабля и совершил первый в истории выход человека в открытый космос в скафанд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26680" y="60930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0d"/>
                </a:solidFill>
                <a:latin typeface="Verdana"/>
              </a:rPr>
              <a:t>А.Николаев космонавт – наш земля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300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5373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5516640"/>
            <a:ext cx="354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тсутствие воздух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невесо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4560" y="60120"/>
            <a:ext cx="45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В чем заключается трудность пребывания человека в космо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5516640"/>
            <a:ext cx="309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смолети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00720" y="2278080"/>
            <a:ext cx="4464000" cy="4464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40360" y="185400"/>
            <a:ext cx="484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Здравствуйте, ребят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Я – Космолетик, прилетел с другой плане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А вы догадываетесь, с как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Я прилетел из другой галактики, моя планета называется Кругло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708360" y="292320"/>
            <a:ext cx="543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df0d"/>
                </a:solidFill>
                <a:latin typeface="Verdana"/>
              </a:rPr>
              <a:t>«Черные дыры» -  это звезды небольшого размера, которые обладают огромной силой притяжения. Эта сила так велика, что черная дыра может притягивать к себе и расплющивать своим притяжением космические корабли, кометы и даже целые планеты, которые подойдут слишком близко к ней. Значит, к черной дыре приближаться нельзя. И еще запомните, что у голубых звезд очень сильное, опасное излучение. К ним тоже приближаться нельзя.</a:t>
            </a:r>
            <a:r>
              <a:rPr b="1" lang="ru-RU" sz="1800" spc="-1" strike="noStrike">
                <a:solidFill>
                  <a:srgbClr val="fbdf0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0d"/>
                </a:solidFill>
                <a:latin typeface="Arial"/>
              </a:rPr>
              <a:t>Созвездие гончие п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f0d"/>
                </a:solidFill>
                <a:latin typeface="Arial"/>
              </a:rPr>
              <a:t>Созвездие Большая Медведиц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0d"/>
                </a:solidFill>
                <a:latin typeface="Arial"/>
              </a:rPr>
              <a:t>Созвездие Малая Медвед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283800" y="1890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Планета Плу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f0d"/>
                </a:solidFill>
                <a:latin typeface="Arial"/>
              </a:rPr>
              <a:t>Плутоня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35280" y="3425760"/>
            <a:ext cx="566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Здравствуйте, мы очень рады вас видеть на нашей планете Плут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Вы, люди, с планеты Зем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А мы жители – игрунки. Любим играть и выращивать необычные цве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Вы любите играт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780000" y="1773360"/>
            <a:ext cx="523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Какой в апреле праздник раз в год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О космосе слагаются леген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Герои – космонавты на ви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Им на земле спокойно не жив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Их почему-то вечно тянет ввы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Им звезды покоряются, сда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На их погонах, золотом зажг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381120" cy="4181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912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0d"/>
                </a:solidFill>
                <a:latin typeface="Arial"/>
              </a:rPr>
              <a:t>Планета Зем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49680" y="404640"/>
            <a:ext cx="502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f0d"/>
                </a:solidFill>
                <a:latin typeface="Verdana"/>
              </a:rPr>
              <a:t>С удачным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f0d"/>
                </a:solidFill>
                <a:latin typeface="Verdana"/>
              </a:rPr>
              <a:t>приземлением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f0d"/>
                </a:solidFill>
                <a:latin typeface="Verdana"/>
              </a:rPr>
              <a:t>друзья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14360" y="2708280"/>
            <a:ext cx="3581280" cy="3830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666000"/>
            <a:ext cx="7815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df0d"/>
                </a:solidFill>
                <a:uFillTx/>
                <a:latin typeface="Verdana"/>
              </a:rPr>
              <a:t>Что такое «Космос»?</a:t>
            </a:r>
            <a:r>
              <a:rPr b="0" lang="en-US" sz="2800" spc="-1" strike="noStrike">
                <a:solidFill>
                  <a:srgbClr val="fbdf0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df0d"/>
                </a:solidFill>
                <a:latin typeface="Verdana"/>
              </a:rPr>
              <a:t>Космос – это Вселенная, то есть весь окружающий нас бесконечный мир: небо, звезды, кометы, созвездия,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df0d"/>
                </a:solidFill>
                <a:uFillTx/>
                <a:latin typeface="Verdana"/>
              </a:rPr>
              <a:t>Что такое астроном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df0d"/>
                </a:solidFill>
                <a:latin typeface="Verdana"/>
              </a:rPr>
              <a:t>Астрономия - это наука, которая изучает звезды, планеты, Вселенн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df0d"/>
                </a:solidFill>
                <a:uFillTx/>
                <a:latin typeface="Verdana"/>
              </a:rPr>
              <a:t>Как называют ученых, которые занимаются этой нау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df0d"/>
                </a:solidFill>
                <a:latin typeface="Verdana"/>
              </a:rPr>
              <a:t>Астроно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71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21378600">
            <a:off x="144000" y="2347560"/>
            <a:ext cx="78375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bdf0d"/>
                </a:solidFill>
                <a:uFillTx/>
                <a:latin typeface="Verdana"/>
              </a:rPr>
              <a:t>Как называется наша план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Еще в древ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люди счит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что наша планета Зем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находится в центре Вселенн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а вокруг нее вращаются Лу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Солнце и звезды, но это не т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1378600">
            <a:off x="1059120" y="5227200"/>
            <a:ext cx="783756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В 16в. Астрон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Николай Коперник доказа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что Земля и другие план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вращаются вокруг солн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0d"/>
                </a:solidFill>
                <a:latin typeface="Arial"/>
              </a:rPr>
              <a:t>Солнечн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63640" y="5348520"/>
            <a:ext cx="611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Еще какие планеты знает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Сколько планет вращаются вокруг солн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f0d"/>
                </a:solidFill>
                <a:latin typeface="Arial"/>
              </a:rPr>
              <a:t>Радиотелескоп для астроном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284720" y="2169720"/>
            <a:ext cx="48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Как называется прибор, с помощью которого астрономы изучают звездное неб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181080" y="-27000"/>
            <a:ext cx="9937800" cy="7450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960560" cy="2925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556000" y="4005360"/>
            <a:ext cx="3611520" cy="2098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948360" y="2994120"/>
            <a:ext cx="2082960" cy="2811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15320" y="765000"/>
            <a:ext cx="68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В 20в. Русские уче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К.Циолковский и С.Корол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помогли человечеству покорить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Первыми в Космосе побывали не люд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а собаки – Белка и Стрел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17920" y="4941720"/>
            <a:ext cx="2601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смодром Байкону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72360" y="241560"/>
            <a:ext cx="260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Как называется место для запуска космических рак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7:33:22Z</dcterms:created>
  <dc:creator>UserXP</dc:creator>
  <dc:description/>
  <dc:language>en-US</dc:language>
  <cp:lastModifiedBy>DNS</cp:lastModifiedBy>
  <dcterms:modified xsi:type="dcterms:W3CDTF">2018-04-10T17:02:21Z</dcterms:modified>
  <cp:revision>22</cp:revision>
  <dc:subject/>
  <dc:title>Тема «Полет в космос»</dc:title>
</cp:coreProperties>
</file>