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F94-CA13-4325-A655-948314E3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9E3-8C87-4922-9037-1C0A1224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21B-A37D-4725-84E2-1DB0A314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B69-2B3E-47FA-A6E8-4DDD6978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23D-3846-4454-B5E4-905E500B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664-76A5-4532-A317-EE8ADE1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0657-C6DE-4F6F-A2FC-3FC83960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3E2-828D-48D7-9A26-FE58DC6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026-1049-4305-9742-F0B10FF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7811-D80F-448E-A6BE-32DD38C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39C0-4278-4254-9AC3-997FAAA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C81-62AF-4690-87C0-B7D50417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A16-828E-4BA1-B82C-534EC13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AAB-31E2-41FD-B9A4-1695FE5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99C-9FBD-4419-9C0A-DEBFF27C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8DE8-38E8-4195-9D57-4254C635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C4C1-4118-4822-A136-114448A5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95DA-89CE-437F-9124-CFB98A5E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D76A-4C9D-4123-ADB0-4619298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9979-6244-49C7-AECE-88F51B6B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860E-0966-461B-9EB1-AE14E2B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B6F1-3193-48B6-81CD-770EBBD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F51-BF08-45A6-9ECA-1319F4E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7B38-382B-4B4F-A110-414B624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F55A-E109-4127-B709-DC8F018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A25D-DD33-420C-8D82-A3632FF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DA63-CE58-4213-B0C0-FB44CA1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B61E-E482-4A85-B693-D4477EB1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D606-2EEB-4E9B-B7DA-E1B855E5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4605-8B82-472D-9428-F136F25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F911-E3C2-41F3-B8E2-8ABF8C95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BF2D-DD24-430C-8A68-7C6E3226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28B5-299B-4725-B583-F12AF42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69E-B1BB-4B6B-A90A-CA852E0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ED22-B1C8-4D4E-8426-2207D21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B9C7-8577-4B78-AD96-048336F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C15C-0BDD-4357-948F-E99F6CC5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AC1B-68B2-47CD-B567-1AB6100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568A-C3B0-48F8-99A1-B4978A6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A158-4BAD-4F10-BC45-340E892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CC7B-3365-4CB7-A4EF-C2C8A585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41D1-10EA-45E6-AB4D-19F18051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AD61-3679-477F-8F17-4F37F4B4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4870-6678-4E89-A6EF-05F6211F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52E-6B15-4B12-B5C1-4534D1E8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354CB-4E83-484B-9D6F-1EC5459E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76B6-A1B7-4F8C-861F-D1EDBB7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FB62D-06F6-4538-938D-45B4CD9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62231-5B62-48C3-950D-6C1EADA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39DD-B7D3-4623-9ECC-0656149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D543-1381-472B-BE63-C477E19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97EC-D841-4F4D-B8A2-7A38DED9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C647-84BD-456D-90F8-C1F7F6D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83D4-058B-4766-8F50-C003896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0293-D039-41D1-9612-7CE44554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1F-5EB5-4D46-9004-4B6CDD6C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B2B9-4FF2-42A0-ADF4-8831D8F9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BBF-059E-4C54-A255-E9A4C11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B7E-3895-44CB-9C91-9D27058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A7F-0C69-44E6-8A29-29F4808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830-9AF1-4E4D-A8F6-3C6C5FA1CF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1C55-72F0-42AF-805D-0EFE7C52131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F8F-84BC-409D-AC8A-50466BD74FC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031-BA67-4D86-8C75-A7C43305054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D048-414C-4781-AF77-79EAFBA9D4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457200" y="290520"/>
            <a:ext cx="8229600" cy="5819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2050920" y="609300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.Новоорск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1042920" y="1628640"/>
            <a:ext cx="727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Тематическая неде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детском са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Детский сад №4 п.Новоор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24000" y="0"/>
            <a:ext cx="9216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ТАКОЕ ТЕМАТИЧЕСКАЯ НЕДЕЛЯ?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Это когда педагог выбирает определенную тему, чтобы решить образовательные задачи, и объединяет ее с праздником или событием календаря. Главное, чтобы темы были социально значимы для общества, семьи и государства и вызывать личностный интерес детей, обеспечивающий мотивацию образовательного процесса «здесь и сейчас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 организовать тематическую неделю (день) в детском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ворчество педагога предполагает, что 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астично или полностью меняет 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корректирует содержание работы с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учитывает региональный и культурный компоненты, особенности возрастной группы и дошко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395280" y="765000"/>
            <a:ext cx="8748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Цель проведения тематической нед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стематизация , углубление, обобщение знаний по определенной теме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делать жизнь детей интересной и  связать ее с окружающей действитель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4932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684360" y="1052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Ядром тематической недели (дня) становитс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событие, знаменательная  дат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826920" y="87480"/>
            <a:ext cx="8317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самом начале выбирается тема, рассчитанная на 1недел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все формы образовательной работы продолжают       выбранную 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для родителей предлагаются краткие рекомендации по организации совместной детско-взрослой деятельности в домашних услов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каждая тема заканчивается проведением итогового мероприятия (выставка, праздник, спортивное развлечение, сюжетно-ролевая игра, игра, спектакл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250920" y="0"/>
            <a:ext cx="92170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основе работы воспитателя с детьми в ходе тематического дня лежит режим. Содержание нанизывается на все режимные моменты (утренний прием, гимнастику, прогулку и т. д.) и связывается с непосредственно образовательной деятель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ВКЛЮЧИТЬ В СЦЕНАРИЙ ТЕМАТИЧЕСКОГО ДНЯ (недели)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основе планирования лежат присутствие игрового персонажа, сценарий, предполагающий четкую последовательность событий в логике контекста, который мотивирует детей на деятельность и делает ее наиболее желанной. Игровой персонаж должен быть подобран с учетом интересов и возраста детей. Он помогает сконцентрировать внимание на теме дня, предстоящей деятельности и оценить ее. Наибольший интерес у детей вызывают герои мультфильмов и сказок, в роли которых выступают воспитат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395280" y="631800"/>
            <a:ext cx="874872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аскрывать тему дня следует в эмоционально-образной форме. Важно не только сообщить новые знания, но и организовать «проживание» темы в разных видах детск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познавательно-исследователь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экспериментиров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изобрази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через восприятие художественной литературы,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384120"/>
            <a:ext cx="879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User\Рабочий стол\57b70fb337aed156a315541c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250920" y="12600"/>
            <a:ext cx="889308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Е. А. Алябьева «Тематические дни и недели в детском саду: планирование и конспекты», М.:«ТЦ СФЕРА»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Е. А. Алябьева «Итоговые дни по лексическим темам: планирование и конспекты», М.:«ТЦ СФЕРА»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К. Ю.Белая «Как организовать тематический день: новые идеи для воспитателя». «Справочник старшего воспитателя дошкольного учреждения» №5, 201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А.А.Петухова «Тематические дни в детском саду: комплексно-интегрированные занятия в старшей группе» - Волгоград: Учитель, 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. А.А.Петухова «Комплексно-тематические проекты "Тематический день в детском саду" - Волгоград: Учитель, 2018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8-04-10T11:06:53Z</dcterms:modified>
  <cp:revision>51</cp:revision>
  <dc:subject/>
  <dc:title>Слайд 1</dc:title>
</cp:coreProperties>
</file>