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01D9-C64C-48F8-B5AB-E290EFB4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C72-DC78-4D5C-91EE-91A5098A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CBE5-2BAA-49DF-85C6-5D254391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10F-CEAC-4E6E-84A5-49ABAD7D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F998-A35B-45F3-A9EB-457FF806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391D-766C-4F9D-BE6D-53B1E777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1FA4-782E-40BF-9613-38D3C7C8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6A2C-5CD5-40B6-BB7A-2FDE723D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CFAA-12AF-4468-AE7F-1A887BF0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B1B1-39C1-4999-9B1C-FD33DE32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CD11-DBD9-406A-88AD-96A715A7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796-46F6-429F-9006-1F4612D3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DF4E-CDE8-4A8F-97A2-D0CE8FCC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BD8A-24FD-4C4B-8155-3DD47BFA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0A5D-2DC0-4646-B780-6C8E3526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FC50-FF35-41E3-AC22-6A32DCB8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12C6-B76F-4A29-BC47-F01EFA2A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FC5E1-66E9-4F17-8468-D6F04EF2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EC34E-A7CB-4413-AEDE-B5EA5D43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1DD31-5A57-40AF-872E-178E19FE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33810-6551-4D3C-B51F-93949863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D82DB-ECB9-41A7-A172-2FECFD20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5EF0-C4B0-4215-8C83-1DD798FA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7B3F0-982C-4C04-9BF0-9742C2C0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A0C9E-C3FF-4D3A-8440-7E0640E3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63CE9-8043-4015-8842-82D124EA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9751E-FBD6-4A2C-8CD1-9F9F7DC3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BEA4D-C549-44EC-8096-3D2F8B7C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82E58-5A10-4313-8926-9917B5B8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7C73D-7D86-4B35-B23B-79A3A2FF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42B51-C0CB-44C2-82D5-32929954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9EFF2-6D62-4F3A-B31D-C7737250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5FCFB-2084-4E62-B946-4F4B62EF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D59B-FADE-479B-A545-DE62AE4E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61557-AEA5-45F0-8545-78298AB4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3154D-112A-426C-AB93-80FB7D61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C56DE-499E-4FC0-A4EA-31130A09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20A9C-BD2C-48A3-9C1B-B3AA0AF5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ED309-BC5B-46D9-849D-996640B6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E9B06-EB86-4D9E-B4B6-D174B825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46554-3780-40CD-97C4-83F1DD0E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67DF5-E7DC-4C4B-82E7-BEC2E23B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A70D9-8CD5-4E9E-BAD2-788537DD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20C7C-C041-4B21-880F-86932C5C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B21-2D29-4E6B-820F-9093D520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A0F4E-C47E-4BD3-B9D6-9F48B86B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48A54-7ABB-4940-80A4-F3672B12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9DC13-5DF8-4501-82E9-8954F8F0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670B2-76B5-4A28-B90C-D7CCF2F3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EF216-79E9-4107-B66E-6964C446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B9475-B493-45EF-B787-05FDEE71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82086-A339-4B30-872D-79329E5E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41480-222D-41B4-9435-18BB5116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A7AA6-8C52-47C2-ACA7-38CDFC87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BAF53-D229-4FE6-8140-00B8B285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EBC5-8281-4AA4-9B96-ED140A82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F4AD4-E779-4B55-BCFC-1A030F10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ADC-7642-4DBE-AFC9-195629AD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C9E-7687-47FC-90B1-8E20B3AA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D61C-B1F1-4B47-901E-E48784CF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A4C7-1C47-4061-8C20-DEFCE970CDD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B17A-C472-4263-BCF6-3CFF638B403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A8E4-8CDC-474E-BF34-3B5810B4125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0C32-90B0-40CC-A467-E44FA67D0E5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134C-5E57-4A07-A2B0-191838EBB4F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C:\Documents and Settings\User\Рабочий стол\57b70fb337aed156a315541c.jpg"/>
          <p:cNvPicPr/>
          <p:nvPr/>
        </p:nvPicPr>
        <p:blipFill>
          <a:blip r:embed="rId1"/>
          <a:stretch/>
        </p:blipFill>
        <p:spPr>
          <a:xfrm>
            <a:off x="457200" y="290520"/>
            <a:ext cx="8229600" cy="58197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5"/>
          <p:cNvSpPr/>
          <p:nvPr/>
        </p:nvSpPr>
        <p:spPr>
          <a:xfrm>
            <a:off x="2050920" y="6093000"/>
            <a:ext cx="53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.Новоорск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8"/>
          <p:cNvSpPr/>
          <p:nvPr/>
        </p:nvSpPr>
        <p:spPr>
          <a:xfrm>
            <a:off x="1042920" y="1628640"/>
            <a:ext cx="727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«Тематическая недел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 детском сад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9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«Детский сад №4 п.Новоорс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C:\Documents and Settings\User\Рабочий стол\57b70fb337aed156a315541c.jpg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324000" y="0"/>
            <a:ext cx="92167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ТО ТАКОЕ ТЕМАТИЧЕСКАЯ НЕДЕЛЯ?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Это когда педагог выбирает определенную тему, чтобы решить образовательные задачи, и объединяет ее с праздником или событием календаря. Главное, чтобы темы были социально значимы для общества, семьи и государства и вызывать личностный интерес детей, обеспечивающий мотивацию образовательного процесса «здесь и сейчас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ак организовать тематическую неделю (день) в детском сад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Творчество педагога предполагает, что о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астично или полностью меняет те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 корректирует содержание работы с деть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 учитывает региональный и культурный компоненты, особенности возрастной группы и дошкольного учре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:\Documents and Settings\User\Рабочий стол\57b70fb337aed156a315541c.jpg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395280" y="765000"/>
            <a:ext cx="874872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Цель проведения тематической нед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истематизация , углубление, обобщение знаний по определенной теме</a:t>
            </a:r>
            <a:r>
              <a:rPr b="0" i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делать жизнь детей интересной и  связать ее с окружающей действительн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User\Рабочий стол\57b70fb337aed156a315541c.jpg"/>
          <p:cNvPicPr/>
          <p:nvPr/>
        </p:nvPicPr>
        <p:blipFill>
          <a:blip r:embed="rId1"/>
          <a:stretch/>
        </p:blipFill>
        <p:spPr>
          <a:xfrm>
            <a:off x="49320" y="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684360" y="10526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Ядром тематической недели (дня) становится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 событие, знаменательная  дата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C:\Documents and Settings\User\Рабочий стол\57b70fb337aed156a315541c.jpg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4"/>
          <p:cNvSpPr/>
          <p:nvPr/>
        </p:nvSpPr>
        <p:spPr>
          <a:xfrm>
            <a:off x="826920" y="87480"/>
            <a:ext cx="831708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 самом начале выбирается тема, рассчитанная на 1неделю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все формы образовательной работы продолжают       выбранную те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для родителей предлагаются краткие рекомендации по организации совместной детско-взрослой деятельности в домашних услов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каждая тема заканчивается проведением итогового мероприятия (выставка, праздник, спортивное развлечение, сюжетно-ролевая игра, игра, спектакль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User\Рабочий стол\57b70fb337aed156a315541c.jpg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250920" y="0"/>
            <a:ext cx="921708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 основе работы воспитателя с детьми в ходе тематического дня лежит режим. Содержание нанизывается на все режимные моменты (утренний прием, гимнастику, прогулку и т. д.) и связывается с непосредственно образовательной деятельность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ТО ВКЛЮЧИТЬ В СЦЕНАРИЙ ТЕМАТИЧЕСКОГО ДНЯ (недели)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 основе планирования лежат присутствие игрового персонажа, сценарий, предполагающий четкую последовательность событий в логике контекста, который мотивирует детей на деятельность и делает ее наиболее желанной. Игровой персонаж должен быть подобран с учетом интересов и возраста детей. Он помогает сконцентрировать внимание на теме дня, предстоящей деятельности и оценить ее. Наибольший интерес у детей вызывают герои мультфильмов и сказок, в роли которых выступают воспитате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C:\Documents and Settings\User\Рабочий стол\57b70fb337aed156a315541c.jpg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395280" y="631800"/>
            <a:ext cx="8748720" cy="62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Раскрывать тему дня следует в эмоционально-образной форме. Важно не только сообщить новые знания, но и организовать «проживание» темы в разных видах детской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 иг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 познавательно-исследовательск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 экспериментирова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 изобразительн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 через восприятие художественной литературы, музы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C:\Documents and Settings\User\Рабочий стол\57b70fb337aed156a315541c.jpg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Прямоугольник 2" descr=""/>
          <p:cNvPicPr/>
          <p:nvPr/>
        </p:nvPicPr>
        <p:blipFill>
          <a:blip r:embed="rId2"/>
          <a:stretch/>
        </p:blipFill>
        <p:spPr>
          <a:xfrm>
            <a:off x="353880" y="384120"/>
            <a:ext cx="8796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Documents and Settings\User\Рабочий стол\57b70fb337aed156a315541c.jpg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4"/>
          <p:cNvSpPr/>
          <p:nvPr/>
        </p:nvSpPr>
        <p:spPr>
          <a:xfrm>
            <a:off x="250920" y="12600"/>
            <a:ext cx="8893080" cy="64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1. Е. А. Алябьева «Тематические дни и недели в детском саду: планирование и конспекты», М.:«ТЦ СФЕРА», 2017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2. Е. А. Алябьева «Итоговые дни по лексическим темам: планирование и конспекты», М.:«ТЦ СФЕРА», 2017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3. К. Ю.Белая «Как организовать тематический день: новые идеи для воспитателя». «Справочник старшего воспитателя дошкольного учреждения» №5, 2017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4. А.А.Петухова «Тематические дни в детском саду: комплексно-интегрированные занятия в старшей группе» - Волгоград: Учитель, 2010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5. А.А.Петухова «Комплексно-тематические проекты "Тематический день в детском саду" - Волгоград: Учитель, 2018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8-04-10T11:06:53Z</dcterms:modified>
  <cp:revision>51</cp:revision>
  <dc:subject/>
  <dc:title>Слайд 1</dc:title>
</cp:coreProperties>
</file>