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261-E1C6-478B-A38F-EB926D8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F47-29FB-4299-8C20-01A81DE2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445-9FE3-4EE9-BF98-D33C9EF0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B4B-DA09-40A1-A35E-81E9561B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635-71FB-4A04-8177-6394A862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73A-BAE9-4021-998C-DAEC3F8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B85-5BFD-4F60-B450-1251C50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7A8-AD0E-4B99-8530-B908F3EA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CEA-FB5E-4B6A-8C21-B9F9AD75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D7D-EC31-4A5A-B625-8C1175B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4B3-DA1B-4FD3-9CF2-DEB15F8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A4F-3E42-4A4F-AE21-1D8A4DE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47B-89D0-462B-9D7C-337BFD1D8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Пользователь\Рабочий стол\Новая папка (4)\tooday-co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475920"/>
            <a:ext cx="3095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:     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«ВАШ РЕБЁНОК        СТАЛ УЧЕНИКОМ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ТЕМ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886880" cy="557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ащиеся школы обязаны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добросовестно учиться, быть вежливым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облюдать дисциплину труда – основу порядка в школе, вовремя приходить в школу (за 10–20 минут до начала 1-го урока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трого придерживаться имеющегося расписания уроков, не допускать опоздания на уроки без уважительной причины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беречь имущество школы, соблюдать чистоту и порядок в стенах школы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иметь школьную и спортивную форму установленного образца, сменную обувь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ледить за внешним видом, быть опрятны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в случае пропуска учебного дня представлять справку, удостоверяющую наличие уважительной причины пропуска.</a:t>
            </a:r>
            <a:br>
              <a:rPr sz="2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0040" y="57132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Условия успешности обучения в школе: здоровье, кругозор, психологическая готовность, адекватная самооценка, познавательный мотив, желание учитьс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Предпосылки сформированности учебной деятельности: ориентация на систему правил в работе, умение слушать, выполнять инструкцию взрослого, умение работать по образц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Положительную мотивацию вашему ребёнку создадут: ваше спокойное и радостное отношение к школе, отсутствие завышенных требований к успехам ребёнка, оптимистичные рассказы о школе, отсутствие страха ребёнка перед возможной ошибкой, развитый познавательный интерес к окружающему мир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окончанию начальной школы ребёнок должен хотеть и уметь учитьс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регите своих детей, заботьтесь о них, учите их жить в этом сложном мире! Желаем Вам всего доброго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Пользователь\Рабочий стол\Новая папка (4)\53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«Лучший способ сделать детей хорошими — это сделать их счастливыми»</a:t>
            </a:r>
            <a:br>
              <a:rPr sz="6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кар Уайль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Помощь детям должна идти в трех направлениях</a:t>
            </a: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133720"/>
            <a:ext cx="6840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организация режима дня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контроль за выполнением домашних заданий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приучение детей к самостоятельности</a:t>
            </a: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640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alibri"/>
              </a:rPr>
              <a:t>Организация режима дня позволяет ребенк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3771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легче справиться с учебной нагрузкой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защищает нервную систему от переутомления, т.е. укрепляет здоровь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ро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Ребенку необходимо умыться, одеться, убрать самостоятельно свою постель. Эти умения должны быть сформированы до того, как ребенок пойдет в школу. Необходимо обойтись без излишней спешки и нервозности, одергивания и покрикивания на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рога в школу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учше использоват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ть до школы для неторопливой прогулки перед уроками, поэтому из дома следует выходить заранее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анятия в школе. Дорога домой из школы. 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Нужно сделать обязательным требование: после школы – сразу домой.</a:t>
            </a:r>
            <a:br>
              <a:rPr sz="54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02936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д. Свободное время.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, его использовать на сон, выполнение посильной работы по дому, которая должна контролироваться взросл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стоит прислушаться к советам враче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 менее 3х часов должно отводиться на прогулку и подвижные игр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30-40 мин. на посильную работу по дом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1 час на самообслуживани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ставшееся время - на кружки, секции и другие учреждения дополнительного занятия.</a:t>
            </a:r>
            <a:br>
              <a:rPr sz="4900"/>
            </a:b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-3571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28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чером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ует отвести время на общение с ребенком, продолжительному просмотру детских познавательных передач по телевизору или работе на компьютере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1:14:31Z</dcterms:created>
  <dc:creator>Пользователь</dc:creator>
  <dc:description/>
  <dc:language>en-US</dc:language>
  <cp:lastModifiedBy>пк</cp:lastModifiedBy>
  <dcterms:modified xsi:type="dcterms:W3CDTF">2016-03-13T07:40:03Z</dcterms:modified>
  <cp:revision>14</cp:revision>
  <dc:subject/>
  <dc:title>Презентация PowerPoint</dc:title>
</cp:coreProperties>
</file>