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F84F-2279-4F07-804E-8FEEE1647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5E6B-4B45-44B4-AA5D-7BBCF4519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7AC6-E16C-4742-B5AA-2D7552F35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44F0-62B2-428C-94D6-400BA8112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701A-B13F-48A8-81AB-469249A52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C91D-2E47-4D06-A4D2-21628D7A3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1FE9-5435-4957-AECE-878D0D00D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940E-D73A-4648-8EF6-799CC9FE0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A6AD-DC0F-473F-A813-4CECFC548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C644-782A-4426-9A15-CE2C0CB76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267B-9B1E-451B-888A-80C93D75F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D618-8020-4BDA-9882-539375BF7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86F3E-EB98-4752-BE86-1D6DE180C47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C:\Documents and Settings\Пользователь\Рабочий стол\Новая папка (4)\tooday-con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101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716000" y="475920"/>
            <a:ext cx="309564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:        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«ВАШ РЕБЁНОК        СТАЛ УЧЕНИКОМ»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722160" y="4762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1000"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70c0"/>
                </a:solidFill>
                <a:latin typeface="Calibri"/>
              </a:rPr>
              <a:t>ТЕМА: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C:\Documents and Settings\Пользователь\Рабочий стол\Новая папка (4)\1188641109_hf_s1.gif"/>
          <p:cNvPicPr/>
          <p:nvPr/>
        </p:nvPicPr>
        <p:blipFill>
          <a:blip r:embed="rId1"/>
          <a:stretch/>
        </p:blipFill>
        <p:spPr>
          <a:xfrm>
            <a:off x="0" y="-223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3880"/>
            <a:ext cx="7886880" cy="557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Учащиеся школы обязаны: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 добросовестно учиться, быть вежливыми;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 соблюдать дисциплину труда – основу порядка в школе, вовремя приходить в школу (за 10–20 минут до начала 1-го урока);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 строго придерживаться имеющегося расписания уроков, не допускать опоздания на уроки без уважительной причины;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 беречь имущество школы, соблюдать чистоту и порядок в стенах школы;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 иметь школьную и спортивную форму установленного образца, сменную обувь;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 следить за внешним видом, быть опрятным;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 в случае пропуска учебного дня представлять справку, удостоверяющую наличие уважительной причины пропуска.</a:t>
            </a:r>
            <a:br>
              <a:rPr sz="22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C:\Documents and Settings\Пользователь\Рабочий стол\Новая папка (4)\1188641109_hf_s1.gif"/>
          <p:cNvPicPr/>
          <p:nvPr/>
        </p:nvPicPr>
        <p:blipFill>
          <a:blip r:embed="rId1"/>
          <a:stretch/>
        </p:blipFill>
        <p:spPr>
          <a:xfrm>
            <a:off x="0" y="-223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130120"/>
            <a:ext cx="63342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500040" y="571320"/>
            <a:ext cx="78580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Памятка для родителей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1) Условия успешности обучения в школе: здоровье, кругозор, психологическая готовность, адекватная самооценка, познавательный мотив, желание учиться.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2) Предпосылки сформированности учебной деятельности: ориентация на систему правил в работе, умение слушать, выполнять инструкцию взрослого, умение работать по образцу.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3) Положительную мотивацию вашему ребёнку создадут: ваше спокойное и радостное отношение к школе, отсутствие завышенных требований к успехам ребёнка, оптимистичные рассказы о школе, отсутствие страха ребёнка перед возможной ошибкой, развитый познавательный интерес к окружающему миру.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К окончанию начальной школы ребёнок должен хотеть и уметь учиться.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Берегите своих детей, заботьтесь о них, учите их жить в этом сложном мире! Желаем Вам всего доброго!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C:\Documents and Settings\Пользователь\Рабочий стол\Новая папка (4)\5303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8000" y="2130120"/>
            <a:ext cx="88567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2060"/>
                </a:solidFill>
                <a:latin typeface="Monotype Corsiva"/>
              </a:rPr>
              <a:t>«Лучший способ сделать детей хорошими — это сделать их счастливыми»</a:t>
            </a:r>
            <a:br>
              <a:rPr sz="6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скар Уайльд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C:\Documents and Settings\Пользователь\Рабочий стол\Новая папка (4)\1188641109_hf_s1.gif"/>
          <p:cNvPicPr/>
          <p:nvPr/>
        </p:nvPicPr>
        <p:blipFill>
          <a:blip r:embed="rId1"/>
          <a:stretch/>
        </p:blipFill>
        <p:spPr>
          <a:xfrm>
            <a:off x="0" y="-223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07920"/>
            <a:ext cx="7772400" cy="8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95959"/>
                </a:solidFill>
                <a:latin typeface="Calibri"/>
              </a:rPr>
              <a:t>Помощь детям должна идти в трех направлениях</a:t>
            </a:r>
            <a:r>
              <a:rPr b="0" lang="ru-RU" sz="4000" spc="-1" strike="noStrike">
                <a:solidFill>
                  <a:srgbClr val="595959"/>
                </a:solidFill>
                <a:latin typeface="Calibri"/>
              </a:rPr>
              <a:t>: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23640" y="2133720"/>
            <a:ext cx="684036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 algn="ctr">
              <a:lnSpc>
                <a:spcPct val="80000"/>
              </a:lnSpc>
              <a:spcBef>
                <a:spcPts val="100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95959"/>
                </a:solidFill>
                <a:latin typeface="Calibri"/>
              </a:rPr>
              <a:t>организация режима дня;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45720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95959"/>
                </a:solidFill>
                <a:latin typeface="Calibri"/>
              </a:rPr>
              <a:t>•</a:t>
            </a:r>
            <a:r>
              <a:rPr b="1" lang="ru-RU" sz="4000" spc="-1" strike="noStrike">
                <a:solidFill>
                  <a:srgbClr val="595959"/>
                </a:solidFill>
                <a:latin typeface="Calibri"/>
              </a:rPr>
              <a:t>контроль за выполнением домашних заданий;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45720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95959"/>
                </a:solidFill>
                <a:latin typeface="Calibri"/>
              </a:rPr>
              <a:t>• </a:t>
            </a:r>
            <a:r>
              <a:rPr b="1" lang="ru-RU" sz="4000" spc="-1" strike="noStrike">
                <a:solidFill>
                  <a:srgbClr val="595959"/>
                </a:solidFill>
                <a:latin typeface="Calibri"/>
              </a:rPr>
              <a:t>приучение детей к самостоятельности</a:t>
            </a:r>
            <a:r>
              <a:rPr b="0" lang="ru-RU" sz="2200" spc="-1" strike="noStrike">
                <a:solidFill>
                  <a:srgbClr val="595959"/>
                </a:solidFill>
                <a:latin typeface="Calibri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C:\Documents and Settings\Пользователь\Рабочий стол\Новая папка (4)\1188641109_hf_s1.gif"/>
          <p:cNvPicPr/>
          <p:nvPr/>
        </p:nvPicPr>
        <p:blipFill>
          <a:blip r:embed="rId1"/>
          <a:stretch/>
        </p:blipFill>
        <p:spPr>
          <a:xfrm>
            <a:off x="0" y="-223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980640"/>
            <a:ext cx="64072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f7f7f"/>
                </a:solidFill>
                <a:latin typeface="Calibri"/>
              </a:rPr>
              <a:t>Организация режима дня позволяет ребенку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95280" y="1628280"/>
            <a:ext cx="7377120" cy="40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• </a:t>
            </a:r>
            <a:r>
              <a:rPr b="1" lang="ru-RU" sz="4400" spc="-1" strike="noStrike">
                <a:solidFill>
                  <a:srgbClr val="7f7f7f"/>
                </a:solidFill>
                <a:latin typeface="Calibri"/>
              </a:rPr>
              <a:t>легче справиться с учебной нагрузкой;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f7f7f"/>
                </a:solidFill>
                <a:latin typeface="Calibri"/>
              </a:rPr>
              <a:t>• </a:t>
            </a:r>
            <a:r>
              <a:rPr b="1" lang="ru-RU" sz="4400" spc="-1" strike="noStrike">
                <a:solidFill>
                  <a:srgbClr val="7f7f7f"/>
                </a:solidFill>
                <a:latin typeface="Calibri"/>
              </a:rPr>
              <a:t>защищает нервную систему от переутомления, т.е. укрепляет здоровье</a:t>
            </a:r>
            <a:r>
              <a:rPr b="1" lang="ru-RU" sz="4400" spc="-1" strike="noStrike">
                <a:solidFill>
                  <a:srgbClr val="00b05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C:\Documents and Settings\Пользователь\Рабочий стол\Новая папка (4)\1188641109_hf_s1.gif"/>
          <p:cNvPicPr/>
          <p:nvPr/>
        </p:nvPicPr>
        <p:blipFill>
          <a:blip r:embed="rId1"/>
          <a:stretch/>
        </p:blipFill>
        <p:spPr>
          <a:xfrm>
            <a:off x="0" y="-223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000" y="2130120"/>
            <a:ext cx="65516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ff"/>
                </a:solidFill>
                <a:latin typeface="Calibri"/>
              </a:rPr>
              <a:t>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Утро.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 Ребенку необходимо умыться, одеться, убрать самостоятельно свою постель. Эти умения должны быть сформированы до того, как ребенок пойдет в школу. Необходимо обойтись без излишней спешки и нервозности, одергивания и покрикивания на дете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C:\Documents and Settings\Пользователь\Рабочий стол\Новая папка (4)\1188641109_hf_s1.gif"/>
          <p:cNvPicPr/>
          <p:nvPr/>
        </p:nvPicPr>
        <p:blipFill>
          <a:blip r:embed="rId1"/>
          <a:stretch/>
        </p:blipFill>
        <p:spPr>
          <a:xfrm>
            <a:off x="0" y="-223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62625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Дорога в школу. 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Лучше использовать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уть до школы для неторопливой прогулки перед уроками, поэтому из дома следует выходить заранее</a:t>
            </a:r>
            <a:br>
              <a:rPr sz="54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C:\Documents and Settings\Пользователь\Рабочий стол\Новая папка (4)\1188641109_hf_s1.gif"/>
          <p:cNvPicPr/>
          <p:nvPr/>
        </p:nvPicPr>
        <p:blipFill>
          <a:blip r:embed="rId1"/>
          <a:stretch/>
        </p:blipFill>
        <p:spPr>
          <a:xfrm>
            <a:off x="0" y="-223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61898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900" spc="-1" strike="noStrike">
                <a:solidFill>
                  <a:srgbClr val="000000"/>
                </a:solidFill>
                <a:latin typeface="Calibri"/>
              </a:rPr>
              <a:t>Занятия в школе. Дорога домой из школы. </a:t>
            </a:r>
            <a:r>
              <a:rPr b="0" lang="ru-RU" sz="4900" spc="-1" strike="noStrike">
                <a:solidFill>
                  <a:srgbClr val="000000"/>
                </a:solidFill>
                <a:latin typeface="Calibri"/>
              </a:rPr>
              <a:t>Нужно сделать обязательным требование: после школы – сразу домой.</a:t>
            </a:r>
            <a:br>
              <a:rPr sz="5400"/>
            </a:b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C:\Documents and Settings\Пользователь\Рабочий стол\Новая папка (4)\1188641109_hf_s1.gif"/>
          <p:cNvPicPr/>
          <p:nvPr/>
        </p:nvPicPr>
        <p:blipFill>
          <a:blip r:embed="rId1"/>
          <a:stretch/>
        </p:blipFill>
        <p:spPr>
          <a:xfrm>
            <a:off x="0" y="-223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029360" cy="315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бед. Свободное время. 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озможно, его использовать на сон, выполнение посильной работы по дому, которая должна контролироваться взрослыми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десь стоит прислушаться к советам врачей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не менее 3х часов должно отводиться на прогулку и подвижные игры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30-40 мин. на посильную работу по дому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1 час на самообслуживание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оставшееся время - на кружки, секции и другие учреждения дополнительного занятия.</a:t>
            </a:r>
            <a:br>
              <a:rPr sz="4900"/>
            </a:br>
            <a:br>
              <a:rPr sz="5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C:\Documents and Settings\Пользователь\Рабочий стол\Новая папка (4)\1188641109_hf_s1.gif"/>
          <p:cNvPicPr/>
          <p:nvPr/>
        </p:nvPicPr>
        <p:blipFill>
          <a:blip r:embed="rId1"/>
          <a:stretch/>
        </p:blipFill>
        <p:spPr>
          <a:xfrm>
            <a:off x="-35712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6262560" cy="281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Вечером. 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ледует отвести время на общение с ребенком, продолжительному просмотру детских познавательных передач по телевизору или работе на компьютере</a:t>
            </a:r>
            <a:br>
              <a:rPr sz="48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7T11:14:31Z</dcterms:created>
  <dc:creator>Пользователь</dc:creator>
  <dc:description/>
  <dc:language>en-US</dc:language>
  <cp:lastModifiedBy>пк</cp:lastModifiedBy>
  <dcterms:modified xsi:type="dcterms:W3CDTF">2016-03-13T07:40:03Z</dcterms:modified>
  <cp:revision>14</cp:revision>
  <dc:subject/>
  <dc:title>Презентация PowerPoint</dc:title>
</cp:coreProperties>
</file>