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9B0-BC69-454F-B687-BD231AAF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61F-A614-49F0-8EAD-FC984DC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7C0-6EE5-42C4-ADB5-F565C644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4A1-0607-44AF-B318-B49549E2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190-AD41-41CD-8AF9-BE431CB6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F78-955F-4079-9D85-591E8218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EAA-CBE8-4CAC-8EBF-1DB22A6E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41A-FC5F-414F-80C9-2296F129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A66-4FB0-463E-8599-8349BE75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69B-FE14-4648-BFD3-1813AEE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2E9-8A1E-4D25-9020-C154E575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CA1-FBC0-4EAF-AFA1-B3383230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C79A-68CB-4DB7-ADFB-18B4593989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Подготовка к ВПР.</a:t>
            </a:r>
            <a:br>
              <a:rPr sz="4800"/>
            </a:b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6 кла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4292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всеева Ирина Серафим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Липовского филиа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БОУ «Пичае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332000" y="1413000"/>
            <a:ext cx="59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тав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лькулято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с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"тетрадная клетка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547640" y="4005360"/>
            <a:ext cx="70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сточник шаблона: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читель начальных классов  МАОУ лицей №21  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ычислит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7120" y="121392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31 – 12) · (32 – 62)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,84 - 0,7 · 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исло увеличили на треть, и получилось 228. Найдите исходное числ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000760" y="17859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- 5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035680" y="24922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500800" y="42148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На рисунке изображены ведро и стиральная машина. Высота стиральной машины составляет 1,1 м. </a:t>
            </a:r>
            <a:br>
              <a:rPr sz="3200"/>
            </a:b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Определите примерную высоту ведра в метрах (с точностью до десятых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572000" y="3376440"/>
            <a:ext cx="3452760" cy="282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476360" y="34052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от 0,5м до 0,8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39640" y="57636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На диаграмме представлены данные по погоде в Санкт-Петербурге в июле. По вертикальной оси указано количество дней. Сколько июльских дней в Санкт-Петербурге не было осадков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3708360" y="3132000"/>
            <a:ext cx="4608720" cy="3490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53964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8дн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4240" y="1356840"/>
            <a:ext cx="7972560" cy="10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| х + 1 | - |- 3|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х = 1,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035680" y="24922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- 0,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714240" y="307188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| - 4 | + |1 – 3х|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х = 2,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072040" y="43578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10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ыберите верные утверждения и запишите в ответе их ном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витрине канцелярского магазина лежит 23 простых карандаша, 17 шариковых ручек, 20 лине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Простых карандашей и ручек вместе в 2 раза больше, чем лине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Класс, состоящий из 15 ребят смог приобрести набор из каждого предложенного в магазине тов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В магазине продается не больше 19 лине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Большую часть от предложенного ассортимен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газине составляют шариковые руч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019840" y="5661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Запишите решение и от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ны на яблоки сначала выросли на 60%, а затем понизились на 20%. Сколько изначально стоили яблоки, если после понижения цен, они стали стоить 128 руб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003640" y="544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100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69228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а одном заводе работают три друга: слесарь, токарь и сварщик. Их фамилии: Борисов, Иванов и Семёнов. У слесаря нет ни братьев, ни сестёр, он самый младший из друзей. Семёнов старше токаря и женат на сестре Борисова. Назовите фамилии слесаря, токаря и сварщи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032280" y="4941720"/>
            <a:ext cx="54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твет: Иванов — слесар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Борисов — токар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емёнов — сварщик.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гральный кубик прокатили по столу. На рисунке изображён след кубика. Отметьте на рисунке место, в котором грань с четырьмя точками соприкасалась со сто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492360" y="2770200"/>
            <a:ext cx="403236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5-конечная звезда 7"/>
          <p:cNvSpPr/>
          <p:nvPr/>
        </p:nvSpPr>
        <p:spPr>
          <a:xfrm>
            <a:off x="5024520" y="5157720"/>
            <a:ext cx="360360" cy="358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 №6</cp:lastModifiedBy>
  <dcterms:modified xsi:type="dcterms:W3CDTF">2018-04-08T06:15:57Z</dcterms:modified>
  <cp:revision>49</cp:revision>
  <dc:subject/>
  <dc:title>Слайд 1</dc:title>
</cp:coreProperties>
</file>