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9D1-CDD7-4604-91EF-8B7DF50A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551-70DD-44FE-9C3F-F386327B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4DE-A21B-4A2F-87E8-777987C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9AC-3093-4C5D-85BC-66C9B18E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984-9C90-4F97-B17F-68A0498B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E97-2B63-4C46-9BA2-6A9B27E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B04-6CBB-4A2F-A087-52846589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F72-16F7-4E30-BF57-95F2EC2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CD8-3FF0-46CB-8CD4-1980949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89F-E789-47F6-8619-9BF4670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A5F-ACA8-4D57-BDE2-7169E4F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774-262C-41B1-8240-E844A38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2ED7-7F59-46F7-A3EE-2F4ABE2993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Подготовка к ВПР.</a:t>
            </a:r>
            <a:br>
              <a:rPr sz="4800"/>
            </a:b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292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всеева Ирина Серафим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Липовского фили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БОУ «Пичае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332000" y="141300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в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лькулят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с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47640" y="40053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сточник шаблона: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  МАОУ лицей №21  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12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31 – 12) · (32 – 62)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,84 - 0,7 · 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ло увеличили на треть, и получилось 228. Найдите исходное чис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000760" y="17859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- 5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035680" y="2492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500800" y="4214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а рисунке изображены ведро и стиральная машина. Высота стиральной машины составляет 1,1 м. 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Определите примерную высоту ведра в метрах (с точностью до десяты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72000" y="3376440"/>
            <a:ext cx="3452760" cy="282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476360" y="34052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от 0,5м до 0,8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576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а диаграмме представлены данные по погоде в Санкт-Петербурге в июле. По вертикальной оси указано количество дней. Сколько июльских дней в Санкт-Петербурге не было осадк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708360" y="3132000"/>
            <a:ext cx="4608720" cy="3490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39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8д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1356840"/>
            <a:ext cx="797256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 х + 1 | - |- 3|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х = 1,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035680" y="2492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- 0,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714240" y="307188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 - 4 | + |1 – 3х|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х = 2,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072040" y="43578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0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ыберите верные утверждения и запишите в ответе их ном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итрине канцелярского магазина лежит 23 простых карандаша, 17 шариковых ручек, 20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Простых карандашей и ручек вместе в 2 раза больше, чем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Класс, состоящий из 15 ребят смог приобрести набор из каждого предложенного в магазине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В магазине продается не больше 19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Большую часть от предложенного ассортимен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газине составляют шариковые руч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019840" y="5661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пишите решение и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ы на яблоки сначала выросли на 60%, а затем понизились на 20%. Сколько изначально стоили яблоки, если после понижения цен, они стали стоить 128 руб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003640" y="54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00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692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 одном заводе работают три друга: слесарь, токарь и сварщик. Их фамилии: Борисов, Иванов и Семёнов. У слесаря нет ни братьев, ни сестёр, он самый младший из друзей. Семёнов старше токаря и женат на сестре Борисова. Назовите фамилии слесаря, токаря и сварщи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032280" y="4941720"/>
            <a:ext cx="54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Иванов — слесар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Борисов — токар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емёнов — сварщик.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гральный кубик прокатили по столу. На рисунке изображён след кубика. Отметьте на рисунке место, в котором грань с четырьмя точками соприкасалась со сто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492360" y="2770200"/>
            <a:ext cx="40323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5-конечная звезда 7"/>
          <p:cNvSpPr/>
          <p:nvPr/>
        </p:nvSpPr>
        <p:spPr>
          <a:xfrm>
            <a:off x="5024520" y="5157720"/>
            <a:ext cx="360360" cy="358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 №6</cp:lastModifiedBy>
  <dcterms:modified xsi:type="dcterms:W3CDTF">2018-04-08T06:15:57Z</dcterms:modified>
  <cp:revision>49</cp:revision>
  <dc:subject/>
  <dc:title>Слайд 1</dc:title>
</cp:coreProperties>
</file>